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867-DAB4-49F3-AD2A-42E51A551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1B2F-FA43-4C2D-A967-D5AA9A5F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C88-4EA3-46BB-9826-90F8C580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8752-2DA0-4EEA-83A6-F707FD7B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E42-2614-4251-92BC-99C737CF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0A5-4168-41DF-A70F-8ED53477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9137-ED05-47BC-82E8-D6B04F08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C78-0F43-4E39-B9A9-8F4B10AE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2623-9388-4A3E-B42D-55F2B6AC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9DB9-7EB0-4325-A578-87D64A56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38C-B29F-469E-8F34-02EC8BE4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25B-4794-4BCF-AC9A-618EE2AB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GB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508C94-1D81-45F2-A373-9FEA52D39607}" type="slidenum">
              <a:rPr b="0" lang="en-GB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214280" y="1785960"/>
            <a:ext cx="535752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GB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143080" y="1214280"/>
            <a:ext cx="478584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ar-SY" sz="9600" spc="-1" strike="noStrike">
                <a:solidFill>
                  <a:srgbClr val="7030a0"/>
                </a:solidFill>
                <a:latin typeface="Calibri"/>
              </a:rPr>
              <a:t>الحسد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0" y="5786280"/>
            <a:ext cx="9143640" cy="15519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بلانش هي صديقة فيوليت وفيوليت صديقة بلانش, لكثرة ما تحبان بعضهما بعض فلا تستطيع الواحدة الأستغناء عن الأخر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0" y="5857920"/>
            <a:ext cx="9143640" cy="15519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فيوليت هي ايضا صديقة روز لكن عندما تأتي روز كي تلعب مع فيوليت تكون بلانش تعيسة كأن روز تأخذ منها فيولي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0" y="5929200"/>
            <a:ext cx="9143640" cy="13694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عندما فيوليت وروز تريدان أن تلتقيا تشعر بلانش بأنها مهملة انها تخاف بأن روز تساوي أكثر منها تريد بلانش ان تكون كل شيء لفيولي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0" y="5286240"/>
            <a:ext cx="9143640" cy="20394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بلانش حسودة رغم عنها فهي تريد أن لا تحتاج فيوليت لروز وبأن روز وفيوليت لن تكونا أبدا معا لكن هذا غير ممكن لأن فيوليت تحب كذلك رو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0" y="5286240"/>
            <a:ext cx="9143640" cy="20394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اذا فيوليت لن تعود ترى روز ستتعذب . اذن لن تعد ترى بلانش سوف تتعذب ايضا , فيوليت تحب بلانش وروز, روز وبلانش تريد ان تظل صديقة الأثنت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0" y="5786280"/>
            <a:ext cx="9143640" cy="15519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3200" spc="-1" strike="noStrike">
                <a:solidFill>
                  <a:srgbClr val="ffffff"/>
                </a:solidFill>
                <a:latin typeface="Calibri"/>
              </a:rPr>
              <a:t>ربما في يوم ستلعب بلانش مع روز وستكتشف بأننا نلهوا جيدا مع الثلاثة, وهذا لا يمنع اذا أردنا أن نتواجد أثنين ,أثنين فق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0" y="4929120"/>
            <a:ext cx="9143640" cy="26492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 rtl="1">
              <a:lnSpc>
                <a:spcPct val="100000"/>
              </a:lnSpc>
            </a:pPr>
            <a:r>
              <a:rPr b="1" lang="ar-SY" sz="2800" spc="-1" strike="noStrike">
                <a:solidFill>
                  <a:srgbClr val="ffffff"/>
                </a:solidFill>
                <a:latin typeface="Calibri"/>
              </a:rPr>
              <a:t>هذا طبيعي أن نكون أحيانا حسودين .لكن الغيرة لا تسعد. لأنها تحتجز اللذين يحبون بعضهم البعض وتمنعهم من محبة آخرين. فلا أحد يرغب بأن يكون محتجزا . يجب أن نحب كما نريد أن ننحب. قال السيد المسيح:“ افعلوا للغير ما تريدون أن يفعل الغير لكم, افعلوه لهم بنفس الطريقة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  <Words>205</Words>
  <Paragraphs>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3T22:47:44Z</dcterms:created>
  <dc:creator>Computer</dc:creator>
  <dc:description/>
  <dc:language>en-US</dc:language>
  <cp:lastModifiedBy>Computer</cp:lastModifiedBy>
  <dcterms:modified xsi:type="dcterms:W3CDTF">2013-05-04T04:23:37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