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9C4-EACE-474D-B365-F0603AA8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356-D7E0-4453-B1D4-6B900FE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1AE-9680-4D53-A91E-E284517D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438-5F39-4D9E-AE18-7F6E1EE0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C18-A8E8-46C2-9F31-51E3C06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9B8-5F24-470F-8FA0-CF33075F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750-727D-493D-8884-FEF0548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58D-9376-44C3-A237-EE20A8F9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E0A-A42E-4E9F-BBB0-AB716F96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E3E-EBB2-4AE6-AE1C-92EF847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CE0-19A2-412F-9EEB-28E0C85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ABB-3516-4327-B5FF-C6FE6F0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DE8994-74D5-448A-9124-7E04B227B869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14280" y="1785960"/>
            <a:ext cx="53575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GB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43080" y="1214280"/>
            <a:ext cx="47858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ar-SY" sz="9600" spc="-1" strike="noStrike">
                <a:solidFill>
                  <a:srgbClr val="7030a0"/>
                </a:solidFill>
                <a:latin typeface="Calibri"/>
              </a:rPr>
              <a:t>الحس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بلانش هي صديقة فيوليت وفيوليت صديقة بلانش, لكثرة ما تحبان بعضهما بعض فلا تستطيع الواحدة الأستغناء عن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585792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فيوليت هي ايضا صديقة روز لكن عندما تأتي روز كي تلعب مع فيوليت تكون بلانش تعيسة كأن روز تأخذ منها فيولي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فيوليت وروز تريدان أن تلتقيا تشعر بلانش بأنها مهملة انها تخاف بأن روز تساوي أكثر منها تريد بلانش ان تكون كل شيء لفيولي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5286240"/>
            <a:ext cx="9143640" cy="2039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بلانش حسودة رغم عنها فهي تريد أن لا تحتاج فيوليت لروز وبأن روز وفيوليت لن تكونا أبدا معا لكن هذا غير ممكن لأن فيوليت تحب كذلك رو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5286240"/>
            <a:ext cx="9143640" cy="2039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ذا فيوليت لن تعود ترى روز ستتعذب . اذن لن تعد ترى بلانش سوف تتعذب ايضا , فيوليت تحب بلانش وروز, روز وبلانش تريد ان تظل صديقة الأثنت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ربما في يوم ستلعب بلانش مع روز وستكتشف بأننا نلهوا جيدا مع الثلاثة, وهذا لا يمنع اذا أردنا أن نتواجد أثنين ,أثن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4929120"/>
            <a:ext cx="9143640" cy="2649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هذا طبيعي أن نكون أحيانا حسودين .لكن الغيرة لا تسعد. لأنها تحتجز اللذين يحبون بعضهم البعض وتمنعهم من محبة آخرين. فلا أحد يرغب بأن يكون محتجزا . يجب أن نحب كما نريد أن ننحب. قال السيد المسيح:“ افعلوا للغير ما تريدون أن يفعل الغير لكم, افعلوه لهم بنفس الطريقة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205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22:47:44Z</dcterms:created>
  <dc:creator>Computer</dc:creator>
  <dc:description/>
  <dc:language>en-US</dc:language>
  <cp:lastModifiedBy>Computer</cp:lastModifiedBy>
  <dcterms:modified xsi:type="dcterms:W3CDTF">2013-05-04T04:23:37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