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E07-AA89-435F-8A17-3D63ECCD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383-DB51-4D5C-B9E0-2D6E6C1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00C-B196-4414-9F40-3F6AC504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441-9B60-4529-8EB9-12C08066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BB4-ADD6-4E24-9292-BEA53ECB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CCB-A91E-4307-A420-044B30FB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0C0-436A-41B8-8BEE-89ABF763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86F-677E-4B85-A7F3-EA39AD3B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DBB-B41E-4853-94B6-7B8FB850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8F4-CBB0-4E9E-83A2-0A94877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2BF-A17A-4641-AFCA-C6C31C7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6C3-42AF-42BE-803B-4ED82AC7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AFFE2F-6230-47C6-9B25-CC76AE272092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857160" y="2357280"/>
            <a:ext cx="5143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7200" spc="-1" strike="noStrike">
                <a:solidFill>
                  <a:srgbClr val="ffffff"/>
                </a:solidFill>
                <a:latin typeface="Calibri"/>
              </a:rPr>
              <a:t>الأصغاء للصم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5286240"/>
            <a:ext cx="9143640" cy="1918440"/>
          </a:xfrm>
          <a:prstGeom prst="rect">
            <a:avLst/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400" spc="-1" strike="noStrike">
                <a:solidFill>
                  <a:srgbClr val="ffffff"/>
                </a:solidFill>
                <a:latin typeface="Calibri"/>
              </a:rPr>
              <a:t>في كل لحظة أسمع ألآلاف من الأصوات الضجيج من حولي , فأنا أستمع في نفس الوقت الى الأشخاص وهم يتحادثون, رنين الهاتف وضحكات الأطفال... حتى انني في بعض الأحيان أضطر الى الصراخ كي أجعل الناس يسمعونني ! ولكن بالرغم من هذا فأنا أحب هذا الضجيج لأنه مفرح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0" y="5072040"/>
            <a:ext cx="9143640" cy="2649240"/>
          </a:xfrm>
          <a:prstGeom prst="rect">
            <a:avLst/>
          </a:prstGeom>
          <a:gradFill rotWithShape="0">
            <a:gsLst>
              <a:gs pos="0">
                <a:srgbClr val="00af4f"/>
              </a:gs>
              <a:gs pos="100000">
                <a:srgbClr val="00682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وعندما يهدأ الضجيج , أشعر بالهدوء وكأن الفراغ قد عم من حولي... ولكن اذا ما أنصت بشكل جيد , فأنا أبدأ بسماع: ضجة مكتومة أحبها جدا. صوت أمي وهي تدندن أغنيتها المفضلة, طفل يثغو وهو ينتظر وجبته. ان الصمت غالبا ما يكون مملوءا بضجيج خافت للحياة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12.jpg"/>
          <p:cNvPicPr/>
          <p:nvPr/>
        </p:nvPicPr>
        <p:blipFill>
          <a:blip r:embed="rId1"/>
          <a:stretch/>
        </p:blipFill>
        <p:spPr>
          <a:xfrm>
            <a:off x="0" y="-19800"/>
            <a:ext cx="9143640" cy="687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0" y="5072040"/>
            <a:ext cx="9143640" cy="2649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عندما ينخفض ويهدأ كل شيء حتى الأصوات الخافتة, عندما أستمع الى صمت مطبق وأظن بأن كل شيء قد نام ... ولكن هذه فكرة خاطئة , فاذا أنصت جيدا وشنفت اذاني فاني أسمع ضجة خفيفة في داخلي! صوت الهواء الذي أتنشق... قلبي الذي يخفق داخل صدري... هذا النوع من الضجيج يبقى دائما معي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Flowchart: Punched Tape 4"/>
          <p:cNvSpPr/>
          <p:nvPr/>
        </p:nvSpPr>
        <p:spPr>
          <a:xfrm>
            <a:off x="0" y="4857840"/>
            <a:ext cx="9143640" cy="1999800"/>
          </a:xfrm>
          <a:prstGeom prst="flowChartPunchedTape">
            <a:avLst/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الآن وأنا أتمتع بهذا الصمت... أقف أمامك يا رب ... فأنت لا تصنع أي ضجة ... أنت لا تصدر أي صوت... وأنت تأتي الي بصمت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  <Words>189</Words>
  <Paragraphs>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0:12:15Z</dcterms:created>
  <dc:creator>Computer</dc:creator>
  <dc:description/>
  <dc:language>en-US</dc:language>
  <cp:lastModifiedBy>Computer</cp:lastModifiedBy>
  <dcterms:modified xsi:type="dcterms:W3CDTF">2013-05-04T01:13:11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