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62D7-7766-4B1C-AE3C-C9000A1C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A55F-C26D-4FC1-8B14-43BE1B6A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6BE-069C-40DC-8854-DD544F08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3BE-CEC8-4AAD-A92B-CDFE6BFB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D4E-7D57-4D6A-9889-0B134CCE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717-9F83-455F-9852-9AB50F0C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06E-388C-42A5-85A4-CB7DD9B3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43E-4D2F-4739-978F-C55DAFA5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34A-1E60-4012-83C2-745C9234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4E6-F9EF-4EF1-9E20-AC704358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CEF-8B9D-411A-8656-B813542E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9D8-96F7-46B1-B3E3-73D6C374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63E862-321F-45AE-A35C-D22FEC47649E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01.jpg"/>
          <p:cNvPicPr/>
          <p:nvPr/>
        </p:nvPicPr>
        <p:blipFill>
          <a:blip r:embed="rId1"/>
          <a:stretch/>
        </p:blipFill>
        <p:spPr>
          <a:xfrm>
            <a:off x="0" y="21600"/>
            <a:ext cx="9143640" cy="6836040"/>
          </a:xfrm>
          <a:prstGeom prst="rect">
            <a:avLst/>
          </a:prstGeom>
          <a:ln w="0">
            <a:noFill/>
          </a:ln>
        </p:spPr>
      </p:pic>
      <p:sp>
        <p:nvSpPr>
          <p:cNvPr id="42" name="Plaque 4"/>
          <p:cNvSpPr/>
          <p:nvPr/>
        </p:nvSpPr>
        <p:spPr>
          <a:xfrm>
            <a:off x="0" y="0"/>
            <a:ext cx="9143640" cy="1642680"/>
          </a:xfrm>
          <a:prstGeom prst="plaque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ar-SY" sz="8800" spc="-1" strike="noStrike">
                <a:solidFill>
                  <a:srgbClr val="002060"/>
                </a:solidFill>
                <a:latin typeface="Calibri"/>
              </a:rPr>
              <a:t>الأيمان والثقة بالل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0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0" y="0"/>
            <a:ext cx="9143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70c0"/>
                </a:solidFill>
                <a:latin typeface="Calibri"/>
              </a:rPr>
              <a:t>عندما نتقدم للمرة الأولى نحو شيء نجهله فاننا نخاف بعض الشيء هذا ما يؤدي لترددنا , حتى لو كان هذا الشيء سيؤدي لنوع من السعادة لنا . فنتقدم خطوة لنتراجع مثلها لنعاود التقدم , فالتراجع لمرات عدة شيئا فشيئا فاننا نثق بمن معنا ونتجرأ على الذهاب للبعيد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0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0" y="5857920"/>
            <a:ext cx="914364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2060"/>
                </a:solidFill>
                <a:latin typeface="Calibri"/>
              </a:rPr>
              <a:t>أحيانا فان هذه الجرأة لا تستمر وحيث أننا نكون مندفعين بقوة فان هذا يجعلنا نخاف أن نفقد توازننا فلا نعرف بماذا سنتعلق أو ماذا سيحدث لنا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0" y="5715000"/>
            <a:ext cx="914364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2060"/>
                </a:solidFill>
                <a:latin typeface="Calibri"/>
              </a:rPr>
              <a:t>ولكن في تلك اللحظة اذا ما جاء شخص ما لمساندتنا , حتى لو وقف الى جانبنا فقط , فأنه سيعيد الثقة الى أنفسنا , ويكون هذا شيء جيد بالنسبة لنا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0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0" y="5429160"/>
            <a:ext cx="91436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عندما تعود الثقة الينا فان الخوف يذهب , فنتركه يذهب كما لو أننا نرتاح منه . في الحقيقة عندها نكون مرتاحين , بسيطين , لكن بنفس الوقت نشعر بالقوة والخفة لأننا نشعر بأن لا شيء سييء سيحصل معن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06.jpg"/>
          <p:cNvPicPr/>
          <p:nvPr/>
        </p:nvPicPr>
        <p:blipFill>
          <a:blip r:embed="rId1"/>
          <a:stretch/>
        </p:blipFill>
        <p:spPr>
          <a:xfrm>
            <a:off x="0" y="-59400"/>
            <a:ext cx="9143640" cy="6917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0" y="4572000"/>
            <a:ext cx="62863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عندما نؤمن بأن الرب يرافقنا دائما حتى أبعد نقطة في حياتنا ... عندما نؤمن بأننا لسنا لوحدنا دوما . عندما نستمر بالأيمان بالله حتى لو أننا نشعر بالخوف . حتى لو كانت الأمور غير جيدة عندها فاننا نكون نثق بالل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  <Words>189</Words>
  <Paragraphs>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9:21:14Z</dcterms:created>
  <dc:creator>Computer</dc:creator>
  <dc:description/>
  <dc:language>en-US</dc:language>
  <cp:lastModifiedBy>Computer</cp:lastModifiedBy>
  <dcterms:modified xsi:type="dcterms:W3CDTF">2013-05-04T01:45:45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