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46CB89-C498-49EF-8276-E7D29BE4A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BE3C5D-E285-4CA9-A2FF-0ABB48D8901F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DEA-540B-4ED8-B2B3-0BE2B57E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F3D-D3C0-4107-9FCA-C17D8A30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12F-ABD0-4C6B-8F85-E1EA5E0C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258-D1FA-4375-B2B7-A83CEC68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7E8-1812-4A0C-8E19-90F9003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948-BC53-4562-B6C4-C3C7DEE5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5E8-6FDF-44E8-80C7-B8AE13AB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41A-3B63-48D1-BC94-47E7BD33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429-BBDF-4FD2-911A-C7F6FB67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44A-837F-4CFE-9D77-E60E1E1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9CB-B7FA-46B4-97AB-7CBEF62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381-06A5-42E9-B3CF-D568080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ECCF7-441C-4969-A38F-25042357CF9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Quad Arrow Callout 1"/>
          <p:cNvSpPr/>
          <p:nvPr/>
        </p:nvSpPr>
        <p:spPr>
          <a:xfrm>
            <a:off x="1143000" y="500040"/>
            <a:ext cx="6714720" cy="6071760"/>
          </a:xfrm>
          <a:prstGeom prst="quadArrowCallout">
            <a:avLst>
              <a:gd name="adj1" fmla="val 18515"/>
              <a:gd name="adj2" fmla="val 18515"/>
              <a:gd name="adj3" fmla="val 18515"/>
              <a:gd name="adj4" fmla="val 48123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Y" sz="8000" spc="-1" strike="noStrike">
                <a:solidFill>
                  <a:srgbClr val="ffffff"/>
                </a:solidFill>
                <a:latin typeface="Calibri"/>
              </a:rPr>
              <a:t>يوم الأح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09.jpg"/>
          <p:cNvPicPr/>
          <p:nvPr/>
        </p:nvPicPr>
        <p:blipFill>
          <a:blip r:embed="rId1"/>
          <a:stretch/>
        </p:blipFill>
        <p:spPr>
          <a:xfrm>
            <a:off x="0" y="-91440"/>
            <a:ext cx="9143640" cy="6949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0" y="500040"/>
            <a:ext cx="5357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طوبى للمدعويين الى وليمة الرب, انها لحظة المناولة فيا رب تعال الينا وادخل الى قلوبن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” جسد المسيح ... آمين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في ساحة الكنيسة وبعد القداس يجتمع جميع المصلين من أجل تبادل أطراف الحديث فقد أكلنا من نفس الخبز لذلك نحس وكأننا عائلة واحدة عائلة أبناء الله فنذهب جميعا مع سلام المسي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286240" y="5357880"/>
            <a:ext cx="371448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ومعا أيضا فاننا نتناول غذاء لذيذ , فعمل جورج وحنا حلوى لذيذة بينما قام البابا بتحضير حلى أخرى وأضحكنا بحركاته ومقال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678636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6786720" y="0"/>
            <a:ext cx="2356920" cy="1032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002060"/>
                </a:solidFill>
                <a:latin typeface="Calibri"/>
              </a:rPr>
              <a:t>ومن اجل الخروج في نزهة , فان حنا قد دعا البعض من اصدقائه اللذين كانوا وحدهم في المدرسة , من اجل الخروج مع عائلته وقد حمل اصدقاءه الكثير من الورود من اجل العذراء مريم أم يس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3.jpg"/>
          <p:cNvPicPr/>
          <p:nvPr/>
        </p:nvPicPr>
        <p:blipFill>
          <a:blip r:embed="rId1"/>
          <a:stretch/>
        </p:blipFill>
        <p:spPr>
          <a:xfrm>
            <a:off x="0" y="-34920"/>
            <a:ext cx="9143640" cy="5820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c000"/>
                </a:solidFill>
                <a:latin typeface="Calibri"/>
              </a:rPr>
              <a:t>وفي المساء فقد تأخر الوقت فنام الجميع عند حنا وقد امضوا وقتا مسليا على العشاء , لقد كان اليوم كما لو قد ذهبوا في رح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572080" y="85716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Heart 3"/>
          <p:cNvSpPr/>
          <p:nvPr/>
        </p:nvSpPr>
        <p:spPr>
          <a:xfrm>
            <a:off x="857160" y="0"/>
            <a:ext cx="7357680" cy="6857640"/>
          </a:xfrm>
          <a:prstGeom prst="hear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SY" sz="3200" spc="-1" strike="noStrike">
                <a:solidFill>
                  <a:schemeClr val="lt1"/>
                </a:solidFill>
                <a:latin typeface="Calibri"/>
              </a:rPr>
              <a:t>بعد العشاء اجتمع الجميع للصلاة:“ يا رب تعال الى القرب من أولئك الذين بقوا في هذا اليوم وحدهم لكي تدعوا أصدقاء حقيقيين للمجيء اليهم , شكرا يا رب للفرح والسعادة التي وضعتها في قلوبنا , شكرا على هذا اليوم  الذي أوجدته خصيصا لهذه السع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01.jpg"/>
          <p:cNvPicPr/>
          <p:nvPr/>
        </p:nvPicPr>
        <p:blipFill>
          <a:blip r:embed="rId1"/>
          <a:stretch/>
        </p:blipFill>
        <p:spPr>
          <a:xfrm>
            <a:off x="0" y="-2880"/>
            <a:ext cx="9143640" cy="5503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اليوم الأحد يوم الرب ” هذا هو اليوم الذي صنعه الرب , يوم جميل وفرح“. انه اليوم الذي قام به يسوع من بين الأموات لهذا فان أغلبيتنا يتوقف عن العمل فهو العيد بالنسبة لن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هذا الصباح فان جورج , حنا وميرنا قد استيقظوا متأخرين وقد ساعد جورج أخيه حنا على النهوض , فتناولوا الأفطار جميعا فمن الجميل أن تكون مع بعضنا كعائ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واليوم فان الرب يدعونا لكي نذهب اليه, فيلبي أغلبنا الدعوة وقلوبنا فرحة وكأنها في عيد , نحن ذاهبون الى القدا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تجلس العائلة كاملة في المقعد الأول في الكنيسة لكي يتسنى لها أن ترى وتسمع كل ما يجري بشكل جيد بينما تساعد الأم ميرنا على فهم ما يقال بالقداس بشكل أفض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002060"/>
                </a:solidFill>
                <a:latin typeface="Calibri"/>
              </a:rPr>
              <a:t>يا رب أنت تحدثنا ونحن نستمع اليك , البارحة فان الأم قد قامت بقراءة الأنجيل لأولادها لمساعدتهم على فهمه بشكل ج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0" y="357120"/>
            <a:ext cx="6143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c00000"/>
                </a:solidFill>
                <a:latin typeface="Calibri"/>
              </a:rPr>
              <a:t>هذا هو الخبز والخمر , هذا هو عملنا : فرحنا وحزننا , حياتنا كاملة نقدمها لك يا ر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خذوا فكلوا هذا هو جسدي المبذول من أجلكم... خذوا واشربوا هذا هو دمي المراق من أجلكم ... هذا هو تقديس القرابين , فيا يسوع ها انت هنا ونحن نعبدك ونصلي 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286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0" y="6286680"/>
            <a:ext cx="9143640" cy="106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00"/>
                </a:solidFill>
                <a:latin typeface="Calibri"/>
              </a:rPr>
              <a:t>آبانا أنت من يجمعنا فنتبادل المحبة والسلام ” سلام المسي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388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20:24:04Z</dcterms:created>
  <dc:creator>Computer</dc:creator>
  <dc:description/>
  <dc:language>en-US</dc:language>
  <cp:lastModifiedBy>Computer</cp:lastModifiedBy>
  <dcterms:modified xsi:type="dcterms:W3CDTF">2013-05-04T04:39:59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5</vt:r8>
  </property>
</Properties>
</file>