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BABBBB-AA5E-4848-8139-9A828DFCE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6754DB-E1ED-4BC1-81AE-D80A4B69E3D7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D6B-3C6E-4E4B-8959-78FBA3F4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FD4-7889-4EC7-BC7C-89E4CB1B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501-2506-43C5-87C6-4780BC08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12B-8DB1-430C-859B-5F819A98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F56-90BA-475E-9105-197F8B7A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DBD-DB0C-41CD-BAE9-F05D5892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449-5E3E-4719-9FED-8506977B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838-405F-4F68-8A15-D312496F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AB8-AAFB-4F54-A893-64CB2493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337-9FB1-4579-BF8A-3D514591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544-DFBF-4921-8DA5-38F50EA8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2AB-BAEB-4043-A0D2-7304510D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AB82A5-30AA-48B6-A693-9ACD9EAD2033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0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3143160" y="0"/>
            <a:ext cx="600048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9600" spc="-1" strike="noStrike">
                <a:solidFill>
                  <a:srgbClr val="000000"/>
                </a:solidFill>
                <a:latin typeface="Calibri"/>
              </a:rPr>
              <a:t>لست لوحد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500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0" y="5500800"/>
            <a:ext cx="9143640" cy="17960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ar-SY" sz="2800" spc="-1" strike="noStrike">
                <a:solidFill>
                  <a:srgbClr val="002060"/>
                </a:solidFill>
                <a:latin typeface="Calibri"/>
              </a:rPr>
              <a:t>الأم تحب كثيرا ابنها . أن يسوع قد وضع الحب في قلب الأمهات . محبة الأمهات هي محبة يسوع. شكرا يا رب لأنه عندما تحبني أمي أنا أفكر بك ,انك أنت أيضا تحب الأطف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00"/>
                </a:solidFill>
                <a:latin typeface="Calibri"/>
              </a:rPr>
              <a:t>عندما تضم الأنسة يديها وتسكر عينيها وتسكت أنها تفكر بيسوع الذي يتكلم معها يسوع قريب منا دائما , انه يرانا ويحبن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” انظروا عصافير السماء وزنابق الحقل لا تزرع ولا تحصد ولكن الله يطعمها حتى الأغنياء لا يلبسون مثل هذه الزنابق , ان الله يلبسها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0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</a:rPr>
              <a:t>عندما يرجع البابا الى البيت جوزيف يرقص من الفرح. وبعد أن يقبل أباه يركض مسرعا ليجلب لوالده الشحاطة هكذا يستطيع والده أن يرتاح أكث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0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785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0" y="5786280"/>
            <a:ext cx="9143640" cy="10645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ar-SY" sz="3200" spc="-1" strike="noStrike">
                <a:solidFill>
                  <a:srgbClr val="ffffff"/>
                </a:solidFill>
                <a:latin typeface="Calibri"/>
              </a:rPr>
              <a:t>أ</a:t>
            </a: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ما تيريز أخت جوزف الصغيرة فأنها مبسوطة وتساعد أمها في تحضير الطاولة للعش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</a:rPr>
              <a:t>جوزف وتيريز يذهبان كل يوم الى الروضة . وعندما يصلان أمام بيت صديقهما طوني يصيحان له ويذهبان معه الى المدرس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0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785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0" y="5786280"/>
            <a:ext cx="9143640" cy="1551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ولكن لا حاجة اليوم الى دق باب طوني فالشبابيك مغلقة . بالأكيد طوني ذهب مع أمه الى مكان بعيد وليسا في البي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0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286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0" y="6286680"/>
            <a:ext cx="9143640" cy="106452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ان الأنسة في المدرسة تقرأ أسماء الطلاب لتعرف الغائب والحاض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0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785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0" y="5786280"/>
            <a:ext cx="9143640" cy="155196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ان جوزف وتيريز عندما يذهبان الى المدرسة يمران أمام بائعة الحلوى ويسلمان دوما عليها مبتسمين وقائلين :“ صباح الخير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0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785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0" y="5786280"/>
            <a:ext cx="9143640" cy="106452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00"/>
                </a:solidFill>
                <a:latin typeface="Calibri"/>
              </a:rPr>
              <a:t>تيريز من أكبر صديقاتها في الصف ولذا تفرح كثيرا عندما تساعد الصغار وتخدم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0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2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00"/>
                </a:solidFill>
                <a:latin typeface="Calibri"/>
              </a:rPr>
              <a:t>ان قلب جوزف من ذهب وطيب جدا اذا وقع أحد الأطفال أو وسخ ثيابه أو بكى , جوزف يحمله وينظفه ويعزيه . انه يحب الجميع , والكل يحب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  <Words>239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9:57:18Z</dcterms:created>
  <dc:creator>Computer</dc:creator>
  <dc:description/>
  <dc:language>en-US</dc:language>
  <cp:lastModifiedBy>Computer</cp:lastModifiedBy>
  <dcterms:modified xsi:type="dcterms:W3CDTF">2013-05-04T04:26:53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