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6DBA-7C25-4B65-83A2-278491679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C019-DEBC-4D8B-927B-D9559B5A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B1A7-F313-452C-85AA-54140AD1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2A7F-7704-4165-BBC0-283C0D4D6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48FF-42CA-41B0-ADCC-AD687BD7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13BB-EAEC-40DC-9FFC-BBE70A37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0022-AA05-4D31-A648-CF5E2C597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0963-39B0-476A-A10D-E2BB95AF0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CC5F-7E0A-4B71-BC24-DCC918F39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56D9-5BA1-449C-A698-A11B44FF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7D60-A5DB-4D6C-9513-D73A5BA1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110A-8E3E-4FF7-8899-2F08F405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1FCC1-77C6-46D1-8450-84891F657E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5800" y="162000"/>
            <a:ext cx="7848720" cy="64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90720" y="538200"/>
            <a:ext cx="7086600" cy="58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38080" y="476280"/>
            <a:ext cx="7315200" cy="60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538200"/>
            <a:ext cx="693432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066680" y="538200"/>
            <a:ext cx="70106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90720" y="601560"/>
            <a:ext cx="701028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19320" y="663480"/>
            <a:ext cx="670536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601560"/>
            <a:ext cx="685800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371600" y="665280"/>
            <a:ext cx="655308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915840"/>
            <a:ext cx="6705720" cy="55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43000" y="665280"/>
            <a:ext cx="678168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162000"/>
            <a:ext cx="77724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295280" y="663480"/>
            <a:ext cx="662940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23920"/>
            <a:ext cx="7772400" cy="64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351000"/>
            <a:ext cx="7467840" cy="61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066680" y="349200"/>
            <a:ext cx="723924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5800" y="412920"/>
            <a:ext cx="7543800" cy="62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143000" y="601560"/>
            <a:ext cx="685800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66680" y="538200"/>
            <a:ext cx="701064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38080" y="539640"/>
            <a:ext cx="723924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6T07:17:02Z</dcterms:created>
  <dc:creator>Fr.ALBERTO Wissam</dc:creator>
  <dc:description/>
  <dc:language>en-US</dc:language>
  <cp:lastModifiedBy>Fr.ALBERTO Wissam</cp:lastModifiedBy>
  <dcterms:modified xsi:type="dcterms:W3CDTF">2004-08-16T08:29:46Z</dcterms:modified>
  <cp:revision>2</cp:revision>
  <dc:subject/>
  <dc:title>Slide 1</dc:title>
</cp:coreProperties>
</file>