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99DF9F-F748-49BE-92B1-ED5B9CC0E8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C14525-4F50-43E4-93A7-7DC216D539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DC6E34-A866-4662-9BE6-2551F5595D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21F629-1095-44A7-A8CA-9132D2875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C66F4A-C8C5-49BD-9646-A4B606B490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6C1C91-3113-41D8-ADC2-CC2CFCD162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386CFA-8E26-4B89-BF26-2825F8FF45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12589F-3D04-44A4-A5D8-488C7244D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6CC11-976E-4D31-98DF-BAB1022BC7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D2D6C-DEDB-4500-B21A-EE7F2EFDC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4EE618-455C-44E7-A7E9-8562EF674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F68-69E3-40DF-8626-EA56ADC1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F8E-178E-4BA1-A4B6-DE3BA6DB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D22-5225-4F8D-977A-79D7AF18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D2F-1F89-49B3-9B2B-8BA93682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B3EF-00FF-478F-B877-87B7D3C5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2F6B-ADF2-4FC9-B9A0-0F34F7A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87AB-F9C8-48EA-9D96-2C06868B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0F78-D526-404D-856E-FA38E0F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7E1F-C4D8-41E4-8575-437B99AB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F4F-12BB-4B1C-9E1A-AC771729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A73-2F0F-4981-A233-7D5B33D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544-F4E0-45B9-AA78-D158A64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44F2-8B6E-441B-BF0D-41BB88E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BB1-4449-4759-96D9-AAE0C065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54ED-1F1F-4AD5-A4A5-9BB2797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FBB9-3CF7-4574-A6D6-FDCBE6B5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70C5-A006-44D2-912E-F54A7408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B4A-91B8-4330-9A43-E313B11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236-AB41-4E18-9E27-2EF8EBEB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65C-0E51-4112-B169-544A104A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704-92E9-4A01-AF6B-DEEEBD9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C30-5451-44F2-BD15-882765FC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015-4DB4-42BB-85D1-E8D2446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536-F3B5-4634-8040-FA05C49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 txBox="1"/>
            <p:nvPr/>
          </p:nvSpPr>
          <p:spPr>
            <a:xfrm>
              <a:off x="5386680" y="1590480"/>
              <a:ext cx="3744360" cy="52599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8410680" y="6480"/>
              <a:ext cx="16819920" cy="136890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CD96FB-2B8B-4F1B-A08D-574A271A09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 txBox="1"/>
            <p:nvPr/>
          </p:nvSpPr>
          <p:spPr>
            <a:xfrm>
              <a:off x="3270600" y="2696760"/>
              <a:ext cx="5871600" cy="4147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utoShape 3"/>
            <p:cNvSpPr/>
            <p:nvPr/>
          </p:nvSpPr>
          <p:spPr>
            <a:xfrm>
              <a:off x="-7761240" y="1452600"/>
              <a:ext cx="13451040" cy="107838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D25EFE-693E-48E9-B7A9-D9C84C1977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80880" y="11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 Black"/>
                <a:cs typeface="Lucida Sans Unicode"/>
              </a:rPr>
              <a:t>كانت هناك أربعة شموع موقدة و المحيط حولها هادئ حتى أننا يمكن أن نسمع حوار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ذة الشمعة أٌشعلت الثالث من أكتوبر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ناك شخص لديه الرجاء و الحب و الايمان و يريد السلام يرسلها لك الان فأرسلها أنت أيضا لأصدقائ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فعليك أن تتمنى أن لا تنطفئ شمة الرجاء و الحب و الايمان و السلام و الصداقة فى حيات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لا تنطفى الشمعة حين تنير أخرى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الله يبارك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179280" y="0"/>
            <a:ext cx="87361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قالت الاولى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أنا شمعة السلام و برغم نورى فالناس لا تعرف أن تقتنى السلام و تجهلنى موقدة دائما فبدأت شعلتها تخفت تدريجيا حتى أنطفئ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8920" y="69840"/>
            <a:ext cx="8910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قالت الثانية أنا أُدعى الايمان و لكنى غير ضرورى فى حياة أحد فالبشر لا يريدون أن يعرفوا شئ عن الله لذلك لا فائدة من نورى لماذا أظل موقدة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جاء ريح فطفأ شعلتها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214200"/>
            <a:ext cx="914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فى حزن شديد و بصوت منخفض قالت الشمعة الثالثة أنا الحب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ليس لدى القوة لأظل مشتعلة فالبشر لا يتركوننى فهم لا يبحثون سوى عن أن ينظر أحدهم نفسه و ينسوا من هم حولهم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أنطفأت هى الاخر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465120" y="10152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و فجأة جاء طفل و رأى الثلاث شموع مطفأة</a:t>
            </a: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ما يعنى هذا؟ يجي أن تظلوا مشتعلين و تحترقوا حتى النهاية</a:t>
            </a:r>
            <a:r>
              <a:rPr b="1" lang="en-GB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160720" y="360360"/>
            <a:ext cx="414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بدأت الشمعة الرايعة فى الحديث</a:t>
            </a: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لا تخف يا ابنى طالما أنا مشتعلة حتى الان فيمكننا أن نشعل باقى الشمو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380960" y="3200400"/>
            <a:ext cx="527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 u="sng">
                <a:solidFill>
                  <a:srgbClr val="ff0000"/>
                </a:solidFill>
                <a:uFillTx/>
                <a:latin typeface="Arial"/>
              </a:rPr>
              <a:t>وقفة للتأ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نطفئ شعلة السلام و الايمان و المحبة حتى فى هذا الحال لم نفقد كل شئ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ن شئ هام يظل بداخلن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 هذا يجب أن يظل فوق ال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900000" y="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 Black"/>
              </a:rPr>
              <a:t>فأخذ الطفل الشمعة الرابعة و هى شمعة الرجاء و أشعل الثلاثة شموع الاخر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6394320" y="360036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61800" y="1792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لتكن شمعة الامل موقدة دائما بداخلك فهى النور الذى يرشدنا فى الظلام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فطريق السعادة المحدد يجب أن يكون مغطى بالرجا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07480" y="59594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سلا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86080" y="5959440"/>
            <a:ext cx="8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400" spc="-1" strike="noStrike">
                <a:solidFill>
                  <a:srgbClr val="00b8ff"/>
                </a:solidFill>
                <a:latin typeface="Arial"/>
              </a:rPr>
              <a:t>الايم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277960" y="60008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الح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050600" y="5929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008000"/>
                </a:solidFill>
                <a:latin typeface="Arial"/>
              </a:rPr>
              <a:t>الرج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75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75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539640" y="42876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لا تدق السعادة بابنا كل يوم و لكن لكى تحصل عليها يجب أن تبحث عنها دون كلل و يكون لديك الشجاعة أن يكون بداخلك تلك السعاد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04680" y="594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i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419640" y="59594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8ff"/>
                </a:solidFill>
                <a:latin typeface="Arial"/>
              </a:rPr>
              <a:t>f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66080" y="6019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m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943680" y="59706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é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7"/>
          <a:stretch/>
        </p:blipFill>
        <p:spPr>
          <a:xfrm>
            <a:off x="4714920" y="271476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8"/>
          <a:stretch/>
        </p:blipFill>
        <p:spPr>
          <a:xfrm>
            <a:off x="6429240" y="2286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New</cp:lastModifiedBy>
  <dcterms:modified xsi:type="dcterms:W3CDTF">2016-04-12T08:14:17Z</dcterms:modified>
  <cp:revision>26</cp:revision>
  <dc:subject/>
  <dc:title>Esperança... o que seria de nós sem ela?</dc:title>
</cp:coreProperties>
</file>