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Con%20Te%20Partiro-%20Richard%20Clayderman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18DC71-12F2-4165-9A87-6AC23463FB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982F0B-4459-4549-84FF-F3C87675B8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66AAD1-734D-40DD-A218-BC05E22DCE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854F38-14F4-4D09-A194-A15F6B4249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4AD2BF-DC15-49E7-9588-F0FCA42FA3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618A2F-9393-4F7E-96DC-B6D22A3A58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ACCB78-827B-48B5-B009-30D9B4C7BF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94F119-5E66-4705-BDEC-F132B05A33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B3FDB5-E76F-4432-A909-1E3994AEA2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66DA93-0AF7-4E17-B16D-934E4783B3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654BD4-6421-43CC-AC08-8682894788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565-474D-4006-B923-D7FEF51D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4D8-FAAD-4856-9DA1-3084953C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FCF-9389-481A-8D1F-EA56E18D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3BB-FE12-4DDC-A4CE-70F82868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C8D4-7725-4213-860E-A2D2E76C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6614-D814-460B-84C7-3722BC49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2A6F-2112-43A2-AA84-6A4746E6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37B0-95E1-4AE9-B568-447015F5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9865-569E-460D-A987-D2A78D46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EA59-F636-4657-B7A7-6E465CC7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E3CA-6C6F-4BAA-B6DD-B2B19D4A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7C9-C1D5-424C-B2EE-7B2AB90B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7152-E72E-40E3-905E-AA81C46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9F1E-F196-4892-A9A9-353CB1FA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1EFE-C898-4BE6-AA0A-CA8ACAB9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BC5C-0E4B-4891-BE82-DAFF1BB7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988F-6420-4D1B-A70D-F6B1CA7C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537-E93C-498B-8CC8-622E5C09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1E0-E8D1-4EC0-B0A9-EBFC86A3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5E3-5A6F-41BC-AAFE-BA9ED7EB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FF3-58E3-4ACE-B07F-595D00B3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EBE-3416-4BB4-A73F-D98FEB3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55A-B854-4404-BDF3-4132B7E6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655-CEA8-4BB3-A85F-AB0C484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8410680" y="6480"/>
            <a:ext cx="17541720" cy="13689000"/>
            <a:chOff x="-8410680" y="6480"/>
            <a:chExt cx="17541720" cy="13689000"/>
          </a:xfrm>
        </p:grpSpPr>
        <p:sp>
          <p:nvSpPr>
            <p:cNvPr id="1" name=""/>
            <p:cNvSpPr txBox="1"/>
            <p:nvPr/>
          </p:nvSpPr>
          <p:spPr>
            <a:xfrm>
              <a:off x="5386680" y="1590480"/>
              <a:ext cx="3744360" cy="52599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8410680" y="6480"/>
              <a:ext cx="16819920" cy="136890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C71BC1-36B6-43CB-9873-A76FE91E00C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-7761240" y="1452600"/>
            <a:ext cx="16903440" cy="10783800"/>
            <a:chOff x="-7761240" y="1452600"/>
            <a:chExt cx="16903440" cy="10783800"/>
          </a:xfrm>
        </p:grpSpPr>
        <p:sp>
          <p:nvSpPr>
            <p:cNvPr id="45" name=""/>
            <p:cNvSpPr txBox="1"/>
            <p:nvPr/>
          </p:nvSpPr>
          <p:spPr>
            <a:xfrm>
              <a:off x="3270600" y="2696760"/>
              <a:ext cx="5871600" cy="4147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utoShape 3"/>
            <p:cNvSpPr/>
            <p:nvPr/>
          </p:nvSpPr>
          <p:spPr>
            <a:xfrm>
              <a:off x="-7761240" y="1452600"/>
              <a:ext cx="13451040" cy="107838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2C7E00-A0EE-4E34-86AC-EA400436327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audio" Target="../media/Con%20Te%20Partiro-%20Richard%20Clayderman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80880" y="114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 Black"/>
                <a:cs typeface="Lucida Sans Unicode"/>
              </a:rPr>
              <a:t>كانت هناك أربعة شموع موقدة و المحيط حولها هادئ حتى أننا يمكن أن نسمع حوار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62472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1488960" y="1619280"/>
            <a:ext cx="4091040" cy="360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3959280" y="179280"/>
            <a:ext cx="52196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ذة الشمعة أٌشعلت الثالث من أكتوبر 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ناك شخص لديه الرجاء و الحب و الايمان و يريد السلام يرسلها لك الان فأرسلها أنت أيضا لأصدقائ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فعليك أن تتمنى أن لا تنطفئ شمة الرجاء و الحب و الايمان و السلام و الصداقة فى حيات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60360" y="5400720"/>
            <a:ext cx="45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79280" y="3419640"/>
            <a:ext cx="324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لا تنطفى الشمعة حين تنير أخرى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80000" y="5657760"/>
            <a:ext cx="360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الله يبارك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/>
          <p:cNvSpPr/>
          <p:nvPr/>
        </p:nvSpPr>
        <p:spPr>
          <a:xfrm>
            <a:off x="179280" y="1079640"/>
            <a:ext cx="288000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7"/>
          <a:stretch/>
        </p:blipFill>
        <p:spPr>
          <a:xfrm>
            <a:off x="6642000" y="2357280"/>
            <a:ext cx="2340000" cy="12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179280" y="0"/>
            <a:ext cx="87361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قالت الاولى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أنا شمعة السلام و برغم نورى فالناس لا تعرف أن تقتنى السلام و تجهلنى موقدة دائما فبدأت شعلتها تخفت تدريجيا حتى أنطفئ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6"/>
          <a:stretch/>
        </p:blipFill>
        <p:spPr>
          <a:xfrm>
            <a:off x="6659640" y="2340000"/>
            <a:ext cx="2212920" cy="12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7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216072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8920" y="69840"/>
            <a:ext cx="89107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قالت الثانية أنا أُدعى الايمان و لكنى غير ضرورى فى حياة أحد فالبشر لا يريدون أن يعرفوا شئ عن الله لذلك لا فائدة من نورى لماذا أظل موقدة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جاء ريح فطفأ شعلتها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431964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0" y="214200"/>
            <a:ext cx="914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فى حزن شديد و بصوت منخفض قالت الشمعة الثالثة أنا الحب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ليس لدى القوة لأظل مشتعلة فالبشر لا يتركوننى فهم لا يبحثون سوى عن أن ينظر أحدهم نفسه و ينسوا من هم حولهم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أنطفأت هى الاخر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7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465120" y="101520"/>
            <a:ext cx="85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و فجأة جاء طفل و رأى الثلاث شموع مطفأة</a:t>
            </a: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ما يعنى هذا؟ يجي أن تظلوا مشتعلين و تحترقوا حتى النهاية</a:t>
            </a:r>
            <a:r>
              <a:rPr b="1" lang="en-GB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6567480" y="2340000"/>
            <a:ext cx="243216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2160720" y="360360"/>
            <a:ext cx="414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بدأت الشمعة الرايعة فى الحديث</a:t>
            </a: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لا تخف يا ابنى طالما أنا مشتعلة حتى الان فيمكننا أن نشعل باقى الشمو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6659640" y="2340000"/>
            <a:ext cx="2340000" cy="126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380960" y="3200400"/>
            <a:ext cx="527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 u="sng">
                <a:solidFill>
                  <a:srgbClr val="ff0000"/>
                </a:solidFill>
                <a:uFillTx/>
                <a:latin typeface="Arial"/>
              </a:rPr>
              <a:t>وقفة للتأم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نطفئ شعلة السلام و الايمان و المحبة حتى فى هذا الحال لم نفقد كل شئ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ن شئ هام يظل بداخلن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 هذا يجب أن يظل فوق ال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900000" y="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 Black"/>
              </a:rPr>
              <a:t>فأخذ الطفل الشمعة الرابعة و هى شمعة الرجاء و أشعل الثلاثة شموع الاخر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0200" y="2340000"/>
            <a:ext cx="2449440" cy="126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9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9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6394320" y="360036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61800" y="1792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لتكن شمعة الامل موقدة دائما بداخلك فهى النور الذى يرشدنا فى الظلام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فطريق السعادة المحدد يجب أن يكون مغطى بالرجا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07480" y="595944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سلا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86080" y="5959440"/>
            <a:ext cx="8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400" spc="-1" strike="noStrike">
                <a:solidFill>
                  <a:srgbClr val="00b8ff"/>
                </a:solidFill>
                <a:latin typeface="Arial"/>
              </a:rPr>
              <a:t>الايم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277960" y="60008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الح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050600" y="5929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008000"/>
                </a:solidFill>
                <a:latin typeface="Arial"/>
              </a:rPr>
              <a:t>الرج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75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75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539640" y="42876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لا تدق السعادة بابنا كل يوم و لكن لكى تحصل عليها يجب أن تبحث عنها دون كلل و يكون لديك الشجاعة أن يكون بداخلك تلك السعاد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04680" y="594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i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419640" y="59594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b8ff"/>
                </a:solidFill>
                <a:latin typeface="Arial"/>
              </a:rPr>
              <a:t>f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266080" y="6019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m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943680" y="59706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é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7"/>
          <a:stretch/>
        </p:blipFill>
        <p:spPr>
          <a:xfrm>
            <a:off x="4714920" y="271476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8"/>
          <a:stretch/>
        </p:blipFill>
        <p:spPr>
          <a:xfrm>
            <a:off x="6429240" y="2286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R</dc:creator>
  <dc:description>07/10/1999, 11:08:01, João Henrique Carvalho
</dc:description>
  <dc:language>en-US</dc:language>
  <cp:lastModifiedBy>New</cp:lastModifiedBy>
  <dcterms:modified xsi:type="dcterms:W3CDTF">2016-04-12T08:14:17Z</dcterms:modified>
  <cp:revision>26</cp:revision>
  <dc:subject/>
  <dc:title>Esperança... o que seria de nós sem ela?</dc:title>
</cp:coreProperties>
</file>