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6C418F-146F-46B1-83E8-2067C1E3A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C52CA-B91E-4309-A123-6A802D6F22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F8B71A-A3ED-46FD-A1EE-59FAA0A680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027BA5-5F81-440B-8135-F1B6B50292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A5F07-F263-4AD0-BA41-3CBF8CEE4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0A2D1C-E906-45F5-A128-E2AA7B8299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FABFB-C25F-4F98-BC97-6F423BCE9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4206A-71AF-4DAF-8B5A-724D6F27A3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1EFC5B-D13E-4BB2-BB0C-BC17D3019A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94441-0CC8-428E-9E43-68F7213374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7F0991-1713-4070-8B80-46704BA64F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99D-0725-4E2E-B42C-01EFA229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3E0-C676-41BE-BEBD-158FE6E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C19-F432-4EDC-B95D-9E73833F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AA1-FE40-4A77-BE28-281D3DA0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408-1DC9-4DB9-B142-77FC90E9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3A46-6E05-4420-BC54-59E1A2D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30EF-BCDA-48BC-BD3F-400C94A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527-476A-4D1E-9569-7463980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8E0F-F45C-43B2-AA36-D5BC5FFB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CA68-78AB-4EB7-8E55-E472793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0CD-4E06-40D3-BD39-A3C42D4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6CC-5D56-4C58-B242-64012F9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8469-3032-4B93-8C7C-AF8E579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A2B6-54EA-4C36-8841-10210FF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C03-ED3B-455E-85A3-7A3460A9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56FD-76DA-4E61-BC57-90708D18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795-FAEF-4922-97EF-9B73B085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617-DEBC-46A2-8992-5EFE78B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3A6-9C78-4638-AEF2-798BC69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752-1CA3-490A-A61C-D9CE4D2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498-DA61-4DCD-A15F-4674C116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2E2-7327-4841-9F46-EB502C8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E75-A967-4315-B3E3-6E31CF7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A43-B706-412D-AEA4-15C3CC3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 txBox="1"/>
            <p:nvPr/>
          </p:nvSpPr>
          <p:spPr>
            <a:xfrm>
              <a:off x="5386680" y="1590480"/>
              <a:ext cx="3744360" cy="5259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8410680" y="6480"/>
              <a:ext cx="16819920" cy="136890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18C75C-CB4E-42B0-A79B-C2D5EC1857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 txBox="1"/>
            <p:nvPr/>
          </p:nvSpPr>
          <p:spPr>
            <a:xfrm>
              <a:off x="3270600" y="2696760"/>
              <a:ext cx="5871600" cy="4147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utoShape 3"/>
            <p:cNvSpPr/>
            <p:nvPr/>
          </p:nvSpPr>
          <p:spPr>
            <a:xfrm>
              <a:off x="-7761240" y="1452600"/>
              <a:ext cx="13451040" cy="107838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8E8DC4-AC1D-42E8-BAE8-35E1A0E6814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0880" y="11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 Black"/>
                <a:cs typeface="Lucida Sans Unicode"/>
              </a:rPr>
              <a:t>كانت هناك أربعة شموع موقدة و المحيط حولها هادئ حتى أننا يمكن أن نسمع حوار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ذة الشمعة أٌشعلت الثالث من أكتوبر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ناك شخص لديه الرجاء و الحب و الايمان و يريد السلام يرسلها لك الان فأرسلها أنت أيضا لأصدقائ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فعليك أن تتمنى أن لا تنطفئ شمة الرجاء و الحب و الايمان و السلام و الصداقة فى حيات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ا تنطفى الشمعة حين تنير أخرى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الله يبارك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79280" y="0"/>
            <a:ext cx="8736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قالت الاولى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أنا شمعة السلام و برغم نورى فالناس لا تعرف أن تقتنى السلام و تجهلنى موقدة دائما فبدأت شعلتها تخفت تدريجيا حتى أنطفئ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8920" y="69840"/>
            <a:ext cx="8910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قالت الثانية أنا أُدعى الايمان و لكنى غير ضرورى فى حياة أحد فالبشر لا يريدون أن يعرفوا شئ عن الله لذلك لا فائدة من نورى لماذا أظل موقدة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جاء ريح فطفأ شعلتها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214200"/>
            <a:ext cx="91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فى حزن شديد و بصوت منخفض قالت الشمعة الثالثة أنا الحب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ليس لدى القوة لأظل مشتعلة فالبشر لا يتركوننى فهم لا يبحثون سوى عن أن ينظر أحدهم نفسه و ينسوا من هم حولهم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أنطفأت هى الاخر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65120" y="1015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و فجأة جاء طفل و رأى الثلاث شموع مطفأة</a:t>
            </a: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ما يعنى هذا؟ يجي أن تظلوا مشتعلين و تحترقوا حتى النهاية</a:t>
            </a: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160720" y="360360"/>
            <a:ext cx="414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بدأت الشمعة الرايعة فى الحديث</a:t>
            </a: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لا تخف يا ابنى طالما أنا مشتعلة حتى الان فيمكننا أن نشعل باقى الشمو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380960" y="3200400"/>
            <a:ext cx="527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 u="sng">
                <a:solidFill>
                  <a:srgbClr val="ff0000"/>
                </a:solidFill>
                <a:uFillTx/>
                <a:latin typeface="Arial"/>
              </a:rPr>
              <a:t>وقفة للتأ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نطفئ شعلة السلام و الايمان و المحبة حتى فى هذا الحال لم نفقد كل شئ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ن شئ هام يظل بداخل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 هذا يجب أن يظل فوق ال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00000" y="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 Black"/>
              </a:rPr>
              <a:t>فأخذ الطفل الشمعة الرابعة و هى شمعة الرجاء و أشعل الثلاثة شموع الاخر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6394320" y="360036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61800" y="1792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تكن شمعة الامل موقدة دائما بداخلك فهى النور الذى يرشدنا فى الظلام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فطريق السعادة المحدد يجب أن يكون مغطى بالرج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07480" y="5959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سل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86080" y="59594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400" spc="-1" strike="noStrike">
                <a:solidFill>
                  <a:srgbClr val="00b8ff"/>
                </a:solidFill>
                <a:latin typeface="Arial"/>
              </a:rPr>
              <a:t>الايم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77960" y="60008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ح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50600" y="5929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008000"/>
                </a:solidFill>
                <a:latin typeface="Arial"/>
              </a:rPr>
              <a:t>الرج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75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75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9640" y="42876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لا تدق السعادة بابنا كل يوم و لكن لكى تحصل عليها يجب أن تبحث عنها دون كلل و يكون لديك الشجاعة أن يكون بداخلك تلك السعاد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4680" y="594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i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419640" y="59594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66080" y="6019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4368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é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4714920" y="271476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8"/>
          <a:stretch/>
        </p:blipFill>
        <p:spPr>
          <a:xfrm>
            <a:off x="6429240" y="2286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New</cp:lastModifiedBy>
  <dcterms:modified xsi:type="dcterms:W3CDTF">2016-04-12T08:14:17Z</dcterms:modified>
  <cp:revision>26</cp:revision>
  <dc:subject/>
  <dc:title>Esperança... o que seria de nós sem ela?</dc:title>
</cp:coreProperties>
</file>