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292-6471-42BC-B953-088F4C55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B2A-5E55-409C-9022-697297B2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AEE-2A48-43C4-AF5D-A113A60F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D2A-A9E0-42A2-8F64-BFE0E7AD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2FE-95BB-472B-977C-BF3EF1A7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9D2-FC41-45EE-97D1-A697FB11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BC6-430C-490E-8D45-A144F12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A64-2A74-4428-9ACC-C35A6341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331-E50F-4190-B7CA-00EA490A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582-71F3-4194-8853-FC663371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F28-AC6A-4268-8EDA-2EC7CC9F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E74-5B31-4EF2-BF18-F322563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9B33-DBA8-477A-92F3-506E203F14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84400">
            <a:off x="6519240" y="16081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مي الحبيبة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720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25000">
            <a:off x="5039280" y="2205000"/>
            <a:ext cx="42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لا يوجد كلام ممكن أن يعبّ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عن عمق حبي وشكري لك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2400">
            <a:off x="3986640" y="2924280"/>
            <a:ext cx="556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ليتكي كنت قربي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قبّل يديكي الحنونتين اللتان تعبت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تربي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قبّل جبينكِ الذي حمل همي ورس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لي حياتي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356400">
            <a:off x="5386680" y="486864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حبك كثيرا يا أم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276000">
            <a:off x="3793680" y="1560600"/>
            <a:ext cx="5898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وأُقبّل ذلك الحض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ذي دوما ضمن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حزني، في فرحي، في اضطرا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ضياعي ، في نجاحي، في فشلي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في كل أحوال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وأقبّل وجهكي الحنون المبتسم دائما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ذي دوما أراحني  وأزال عني همو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85600">
            <a:off x="5817240" y="414936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أحبك كثيرا يا أمي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52600">
            <a:off x="3647520" y="4508640"/>
            <a:ext cx="560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وأقبّل عيناكِ اللتان سهرتا لراح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عيناكِ اللتان بكيتا كثيرا لأجل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         عيناكِ اللتان رأيت من خلال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                العالم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318600">
            <a:off x="6637320" y="1647360"/>
            <a:ext cx="21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أمي الحبيب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2400">
            <a:off x="4602600" y="2079720"/>
            <a:ext cx="469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أحبك كثيرا َ... وأح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قلبكِ الكبير الذي رأيت فيه ك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الحب وكل الحياة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  لأن يسوع ساكن فيه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1800">
            <a:off x="3900600" y="3715920"/>
            <a:ext cx="52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سأبقى أحبك وأحتاج لحبك وحضن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وحنانك طول ال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1203400">
            <a:off x="1532520" y="2561760"/>
            <a:ext cx="314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كل سنة وإنتِ طيبة     ياأغلى ا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   يا ماما حبيبتي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20:13:42Z</dcterms:created>
  <dc:creator>Admin</dc:creator>
  <dc:description/>
  <dc:language>en-US</dc:language>
  <cp:lastModifiedBy>Wagdy</cp:lastModifiedBy>
  <dcterms:modified xsi:type="dcterms:W3CDTF">2004-03-19T14:54:55Z</dcterms:modified>
  <cp:revision>23</cp:revision>
  <dc:subject/>
  <dc:title>Slide 1</dc:title>
</cp:coreProperties>
</file>