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5231-C9C2-46B2-B523-2931A5B1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1581-2098-4897-8914-4990AB4B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C550-96DD-4BCF-9626-66EE4607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5851-1DBD-4450-89D2-A4121CF8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A590-6178-425C-BCA3-02536C04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388D-1DE2-43DF-8AFA-A64CD079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D7E-FC5E-4B91-921F-95B2110D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F541-2970-4E8C-8106-5655CA9C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8C4-7454-4C04-9F30-C48F44FE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F09D-DB8B-4EA1-9032-499EDFC9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D32F-856B-4096-B42B-72087730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8DEB-E6AC-495C-8F88-9DC232CE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3322-8F2D-4919-B714-0BE7E8CC59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284400">
            <a:off x="6519240" y="160812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أمي الحبيبة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720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25000">
            <a:off x="5039280" y="2205000"/>
            <a:ext cx="423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 لا يوجد كلام ممكن أن يعبّ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عن عمق حبي وشكري لك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82400">
            <a:off x="3986640" y="2924280"/>
            <a:ext cx="556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ليتكي كنت قربي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لأقبّل يديكي الحنونتين اللتان تعبت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في تربيت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لأقبّل جبينكِ الذي حمل همي ورس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لي حياتي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356400">
            <a:off x="5386680" y="486864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أحبك كثيرا يا أم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276000">
            <a:off x="3793680" y="1560600"/>
            <a:ext cx="5898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وأُقبّل ذلك الحض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الذي دوما ضمن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في حزني، في فرحي، في اضطرا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في ضياعي ، في نجاحي، في فشلي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في كل أحوال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 وأقبّل وجهكي الحنون المبتسم دائما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الذي دوما أراحني  وأزال عني هموم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85600">
            <a:off x="5817240" y="414936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 أحبك كثيرا يا أمي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52600">
            <a:off x="3647520" y="4508640"/>
            <a:ext cx="560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وأقبّل عيناكِ اللتان سهرتا لراحت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عيناكِ اللتان بكيتا كثيرا لأجل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          عيناكِ اللتان رأيت من خلاله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                العالم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318600">
            <a:off x="6637320" y="1647360"/>
            <a:ext cx="212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أمي الحبيبة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12400">
            <a:off x="4602600" y="2079720"/>
            <a:ext cx="469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أحبك كثيرا َ... وأح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قلبكِ الكبير الذي رأيت فيه ك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الحب وكل الحياة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لأن يسوع ساكن فيه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11800">
            <a:off x="3900600" y="3715920"/>
            <a:ext cx="52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سأبقى أحبك وأحتاج لحبك وحضن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وحنانك طول الع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21203400">
            <a:off x="1532520" y="2561760"/>
            <a:ext cx="314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Arial"/>
              </a:rPr>
              <a:t>كل سنة وإنتِ طيبة     ياأغلى الن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Arial"/>
              </a:rPr>
              <a:t>   يا ماما حبيبتي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20:13:42Z</dcterms:created>
  <dc:creator>Admin</dc:creator>
  <dc:description/>
  <dc:language>en-US</dc:language>
  <cp:lastModifiedBy>Wagdy</cp:lastModifiedBy>
  <dcterms:modified xsi:type="dcterms:W3CDTF">2004-03-19T14:54:55Z</dcterms:modified>
  <cp:revision>23</cp:revision>
  <dc:subject/>
  <dc:title>Slide 1</dc:title>
</cp:coreProperties>
</file>