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44DC-A6F3-42DF-922B-28F4BC2A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9100-976C-4E70-B386-4A9DC019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BDC-E48E-4F1C-85B9-E19930A9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485-2774-40DB-BB17-2BDA33BB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6060-B887-47C0-891E-FCFD54BF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D01F-2C96-46FA-BAB2-1A5473DA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456F-8069-44B8-9890-598D153D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00A-C9BA-4B78-AC40-CD8655A2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574-F92F-49D4-8EE6-9B5CBF5E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CD3-D6A3-4EEF-8B87-B8F9DBF9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9074-661B-446A-81CA-C5857FA1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E745-6348-40B6-AE7D-26037552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184F-0D75-43DE-B012-EADE7703C0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826920" y="620640"/>
            <a:ext cx="770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يا رب السلام أمطر علينا السلام(</a:t>
            </a: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)، يا رب السلام املأ بلادنا سلا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403280" y="333360"/>
            <a:ext cx="64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سلامي أترك لكم سلامي اعطيكم لا كما يعطيه العالم اعطيكم أن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979640" y="0"/>
            <a:ext cx="4968720" cy="110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ffffff"/>
                </a:solidFill>
                <a:latin typeface="Arial"/>
              </a:rPr>
              <a:t>يا رب استعملني لسلامك فأضع الحبَ حيثُ البغض والمغفرةَ حيثُ الاساءة والاتفاقَ حيثُ الخلاف والحقيقةَ حيثُ الضلال والإيمانَ حيثُ الشك والرجاءَ حيث اليأس والنورَ حيثُ الظلمه والفرحَ حيثُ الكآ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900000" y="836640"/>
            <a:ext cx="76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اؤمن بشريعة الغاب وتسلط الأقوياء وبانتصار الطغيا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68360" y="549360"/>
            <a:ext cx="813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كرامة الانسان بالتضامن بين البشر وبقوة اللاعن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أؤمن بالتفرقة العنصرية، ولا بالقوة القائمة على الغنى والتمييز، ولا بأي طريق يؤدي إلى العبود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0" y="260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المساواة بين الرجل والمرأة، وأؤمن بأن كل ما هو قائم على العنف والظلم هو طريق يؤدي إلى الفوضى والفش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250920" y="47628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أؤمن بأن الحرب والمجاعة لا مفر منهما ولا أؤمن أن السلام أمر مستحي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042920" y="684360"/>
            <a:ext cx="69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الجمال بالشفافية بالحب والسلام في الأر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22:41:26Z</dcterms:created>
  <dc:creator>Rmona</dc:creator>
  <dc:description/>
  <dc:language>en-US</dc:language>
  <cp:lastModifiedBy>Computer</cp:lastModifiedBy>
  <dcterms:modified xsi:type="dcterms:W3CDTF">2013-05-03T05:57:02Z</dcterms:modified>
  <cp:revision>7</cp:revision>
  <dc:subject/>
  <dc:title>الشريحة 1</dc:title>
</cp:coreProperties>
</file>