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B716D-CC26-4B97-A14A-D4EA63B76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B66F1-A2B8-46B5-B427-85B7EB9E2F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33559-9C4B-43AA-A0C5-8C6BF0854D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2CC5C-E430-4D61-8A69-E067E652A4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E9D0C-1B64-48DB-8264-EE70F1747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E716-1314-43AF-B749-EEA250E060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3FF8A-8A6A-4D83-BCA0-07570C8A5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0727B-438B-443B-8E66-FD10D9A5E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47BE-0285-44EB-AF1A-0B0EB6EE1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6DFC4-3C90-4FCB-A3C5-B8CA09D3C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AAFB8-0DA6-491F-8E56-049D240C7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7838-1A09-41FC-9D67-8265F13F0D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A390F3-FDBA-4654-BF34-71E7DE229D39}" type="slidenum">
              <a:rPr b="0" lang="ar-SA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Text Box 5"/>
          <p:cNvSpPr/>
          <p:nvPr/>
        </p:nvSpPr>
        <p:spPr>
          <a:xfrm>
            <a:off x="826920" y="620640"/>
            <a:ext cx="77058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يا رب السلام أمطر علينا السلام(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2</a:t>
            </a: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)، يا رب السلام املأ بلادنا سلام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Text Box 6"/>
          <p:cNvSpPr/>
          <p:nvPr/>
        </p:nvSpPr>
        <p:spPr>
          <a:xfrm>
            <a:off x="1403280" y="333360"/>
            <a:ext cx="640872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سلامي أترك لكم سلامي اعطيكم لا كما يعطيه العالم اعطيكم أنا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Text Box 6"/>
          <p:cNvSpPr/>
          <p:nvPr/>
        </p:nvSpPr>
        <p:spPr>
          <a:xfrm>
            <a:off x="1979640" y="0"/>
            <a:ext cx="4968720" cy="110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ffffff"/>
                </a:solidFill>
                <a:latin typeface="Arial"/>
              </a:rPr>
              <a:t>يا رب استعملني لسلامك فأضع الحبَ حيثُ البغض والمغفرةَ حيثُ الاساءة والاتفاقَ حيثُ الخلاف والحقيقةَ حيثُ الضلال والإيمانَ حيثُ الشك والرجاءَ حيث اليأس والنورَ حيثُ الظلمه والفرحَ حيثُ الكآب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2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2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Text Box 5"/>
          <p:cNvSpPr/>
          <p:nvPr/>
        </p:nvSpPr>
        <p:spPr>
          <a:xfrm>
            <a:off x="900000" y="836640"/>
            <a:ext cx="763272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اؤمن بشريعة الغاب وتسلط الأقوياء وبانتصار الطغيان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5"/>
          <p:cNvSpPr/>
          <p:nvPr/>
        </p:nvSpPr>
        <p:spPr>
          <a:xfrm>
            <a:off x="468360" y="549360"/>
            <a:ext cx="813600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كرامة الانسان بالتضامن بين البشر وبقوة اللاعن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5"/>
          <p:cNvSpPr/>
          <p:nvPr/>
        </p:nvSpPr>
        <p:spPr>
          <a:xfrm>
            <a:off x="0" y="0"/>
            <a:ext cx="91440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التفرقة العنصرية، ولا بالقوة القائمة على الغنى والتمييز، ولا بأي طريق يؤدي إلى العبودي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8" name="Text Box 5"/>
          <p:cNvSpPr/>
          <p:nvPr/>
        </p:nvSpPr>
        <p:spPr>
          <a:xfrm>
            <a:off x="0" y="260280"/>
            <a:ext cx="914400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مساواة بين الرجل والمرأة، وأؤمن بأن كل ما هو قائم على العنف والظلم هو طريق يؤدي إلى الفوضى والفش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1000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Text Box 5"/>
          <p:cNvSpPr/>
          <p:nvPr/>
        </p:nvSpPr>
        <p:spPr>
          <a:xfrm>
            <a:off x="250920" y="476280"/>
            <a:ext cx="864216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لا أؤمن بأن الحرب والمجاعة لا مفر منهما ولا أؤمن أن السلام أمر مستحيل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6" name="Text Box 5"/>
          <p:cNvSpPr/>
          <p:nvPr/>
        </p:nvSpPr>
        <p:spPr>
          <a:xfrm>
            <a:off x="1042920" y="684360"/>
            <a:ext cx="69850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Y" sz="4800" spc="-1" strike="noStrike">
                <a:solidFill>
                  <a:srgbClr val="333399"/>
                </a:solidFill>
                <a:latin typeface="Arial"/>
              </a:rPr>
              <a:t>أؤمن بالجمال بالشفافية بالحب والسلام في الأر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sh dir="r"/>
  </p:transition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26T22:41:26Z</dcterms:created>
  <dc:creator>Rmona</dc:creator>
  <dc:description/>
  <dc:language>en-US</dc:language>
  <cp:lastModifiedBy>Computer</cp:lastModifiedBy>
  <dcterms:modified xsi:type="dcterms:W3CDTF">2013-05-03T05:57:02Z</dcterms:modified>
  <cp:revision>7</cp:revision>
  <dc:subject/>
  <dc:title>الشريحة 1</dc:title>
</cp:coreProperties>
</file>