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BF3B-8E09-4F39-9448-D8C5EA9F0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E4BD-0E63-4932-BCE1-36338C3F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E7AB-5A32-4ED4-8525-553448C9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868C-3814-47C1-AB86-1CADFDFC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0FF2-F252-4E51-AA50-FC690512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CF30-A2A8-4B9C-874D-33A21F0C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5732-4E10-4E03-B97E-5DDAAD5D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C58B-7B83-497F-A1E1-74C63F46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39E2-F867-4F8E-85E7-603F6073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A92C-9BBB-4E0A-8462-4E47F992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03A3-77DA-4C34-9B6F-02A18ACC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3310-4C05-4E13-87E9-F80B21E8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EFF8-B5BF-4DD3-A92F-845EB68474A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826920" y="620640"/>
            <a:ext cx="7705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يا رب السلام أمطر علينا السلام(</a:t>
            </a: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)، يا رب السلام املأ بلادنا سلا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1403280" y="333360"/>
            <a:ext cx="640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سلامي أترك لكم سلامي اعطيكم لا كما يعطيه العالم اعطيكم أن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1979640" y="0"/>
            <a:ext cx="4968720" cy="110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ffffff"/>
                </a:solidFill>
                <a:latin typeface="Arial"/>
              </a:rPr>
              <a:t>يا رب استعملني لسلامك فأضع الحبَ حيثُ البغض والمغفرةَ حيثُ الاساءة والاتفاقَ حيثُ الخلاف والحقيقةَ حيثُ الضلال والإيمانَ حيثُ الشك والرجاءَ حيث اليأس والنورَ حيثُ الظلمه والفرحَ حيثُ الكآب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900000" y="836640"/>
            <a:ext cx="763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لا اؤمن بشريعة الغاب وتسلط الأقوياء وبانتصار الطغيا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468360" y="549360"/>
            <a:ext cx="8136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أؤمن بكرامة الانسان بالتضامن بين البشر وبقوة اللاعن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لا أؤمن بالتفرقة العنصرية، ولا بالقوة القائمة على الغنى والتمييز، ولا بأي طريق يؤدي إلى العبود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0" y="26028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أؤمن بالمساواة بين الرجل والمرأة، وأؤمن بأن كل ما هو قائم على العنف والظلم هو طريق يؤدي إلى الفوضى والفش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250920" y="476280"/>
            <a:ext cx="864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لا أؤمن بأن الحرب والمجاعة لا مفر منهما ولا أؤمن أن السلام أمر مستحي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042920" y="684360"/>
            <a:ext cx="6985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أؤمن بالجمال بالشفافية بالحب والسلام في الأر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6T22:41:26Z</dcterms:created>
  <dc:creator>Rmona</dc:creator>
  <dc:description/>
  <dc:language>en-US</dc:language>
  <cp:lastModifiedBy>Computer</cp:lastModifiedBy>
  <dcterms:modified xsi:type="dcterms:W3CDTF">2013-05-03T05:57:02Z</dcterms:modified>
  <cp:revision>7</cp:revision>
  <dc:subject/>
  <dc:title>الشريحة 1</dc:title>
</cp:coreProperties>
</file>