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8EE1-03DD-451E-91A3-7742B597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3295-AFF3-4459-B55B-EB29D5BB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DFDB-0637-4CA1-B3AE-FFBBB15A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0E02-BF87-4B3F-8389-C1A2624B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0F20-4D64-4A81-9452-F9D16268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F99F-D572-4793-B4BC-33E6BEC4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4796-0B52-4E57-B34E-57B9C8DC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357D-9224-4CC5-BCE2-6BC06682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BB98-60E1-40FB-8257-8A6E1AB9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A31D-58EA-4734-813C-7F55485F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AAE8-BBE8-4554-826D-61E64387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EF26-C3B2-45ED-9B5C-31A1384F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31C4-CBB7-418C-B2C0-106B36DC46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826920" y="620640"/>
            <a:ext cx="7705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يا رب السلام أمطر علينا السلام(</a:t>
            </a: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)، يا رب السلام املأ بلادنا سلا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1403280" y="333360"/>
            <a:ext cx="64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سلامي أترك لكم سلامي اعطيكم لا كما يعطيه العالم اعطيكم أن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979640" y="0"/>
            <a:ext cx="4968720" cy="110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ffffff"/>
                </a:solidFill>
                <a:latin typeface="Arial"/>
              </a:rPr>
              <a:t>يا رب استعملني لسلامك فأضع الحبَ حيثُ البغض والمغفرةَ حيثُ الاساءة والاتفاقَ حيثُ الخلاف والحقيقةَ حيثُ الضلال والإيمانَ حيثُ الشك والرجاءَ حيث اليأس والنورَ حيثُ الظلمه والفرحَ حيثُ الكآب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900000" y="836640"/>
            <a:ext cx="76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لا اؤمن بشريعة الغاب وتسلط الأقوياء وبانتصار الطغيا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68360" y="549360"/>
            <a:ext cx="813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أؤمن بكرامة الانسان بالتضامن بين البشر وبقوة اللاعن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لا أؤمن بالتفرقة العنصرية، ولا بالقوة القائمة على الغنى والتمييز، ولا بأي طريق يؤدي إلى العبود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0" y="2602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أؤمن بالمساواة بين الرجل والمرأة، وأؤمن بأن كل ما هو قائم على العنف والظلم هو طريق يؤدي إلى الفوضى والفش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250920" y="476280"/>
            <a:ext cx="864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لا أؤمن بأن الحرب والمجاعة لا مفر منهما ولا أؤمن أن السلام أمر مستحي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042920" y="684360"/>
            <a:ext cx="6985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أؤمن بالجمال بالشفافية بالحب والسلام في الأر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6T22:41:26Z</dcterms:created>
  <dc:creator>Rmona</dc:creator>
  <dc:description/>
  <dc:language>en-US</dc:language>
  <cp:lastModifiedBy>Computer</cp:lastModifiedBy>
  <dcterms:modified xsi:type="dcterms:W3CDTF">2013-05-03T05:57:02Z</dcterms:modified>
  <cp:revision>7</cp:revision>
  <dc:subject/>
  <dc:title>الشريحة 1</dc:title>
</cp:coreProperties>
</file>