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1988-362A-42CF-823A-57525589F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0D2E-9E80-4E86-8F1D-27A68D9A2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0784-F0D4-4D9B-BF8F-E0E2837B6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A72B-18C0-470D-8450-C6CC6E269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FBA7-1E0D-402D-9E06-B92586A4B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D8ED-16AE-4AF9-8CFF-BF07D3B36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CED0-D5D4-444D-8AEF-30D08F3A3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6502-AA78-4487-B6BB-C729BBF52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E956-9624-4A22-8C46-6BFC4FA1A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4119-95FE-4BF3-9F3F-DCB7C4AD7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9668-9FDA-449D-AEDE-9EB683EA9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C53F-3656-4ED0-AF35-65907E10A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A19A3-2147-4CD8-B57A-1345599376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85800" y="162000"/>
            <a:ext cx="7848720" cy="64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90720" y="538200"/>
            <a:ext cx="7086600" cy="58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838080" y="476280"/>
            <a:ext cx="7315200" cy="60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143000" y="538200"/>
            <a:ext cx="6934320" cy="57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066680" y="538200"/>
            <a:ext cx="7010640" cy="57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90720" y="601560"/>
            <a:ext cx="7010280" cy="578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19320" y="663480"/>
            <a:ext cx="6705360" cy="55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143000" y="601560"/>
            <a:ext cx="6858000" cy="565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371600" y="665280"/>
            <a:ext cx="6553080" cy="54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914400" y="915840"/>
            <a:ext cx="6705720" cy="55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143000" y="665280"/>
            <a:ext cx="6781680" cy="55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62120" y="162000"/>
            <a:ext cx="777240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295280" y="663480"/>
            <a:ext cx="6629400" cy="54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85800" y="223920"/>
            <a:ext cx="7772400" cy="64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351000"/>
            <a:ext cx="7467840" cy="61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066680" y="349200"/>
            <a:ext cx="7239240" cy="59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85800" y="412920"/>
            <a:ext cx="7543800" cy="62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143000" y="601560"/>
            <a:ext cx="6858000" cy="565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066680" y="538200"/>
            <a:ext cx="7010640" cy="57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838080" y="539640"/>
            <a:ext cx="7239240" cy="59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6T07:17:02Z</dcterms:created>
  <dc:creator>Fr.ALBERTO Wissam</dc:creator>
  <dc:description/>
  <dc:language>en-US</dc:language>
  <cp:lastModifiedBy>Fr.ALBERTO Wissam</cp:lastModifiedBy>
  <dcterms:modified xsi:type="dcterms:W3CDTF">2004-08-16T08:29:46Z</dcterms:modified>
  <cp:revision>2</cp:revision>
  <dc:subject/>
  <dc:title>Slide 1</dc:title>
</cp:coreProperties>
</file>