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73DF-6BBD-4701-A857-120736216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133A-7E95-4BF5-9F42-91110AAD7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8D6A-73D1-4875-9DA8-80FD4FA03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24EE-0407-4351-9785-949A56878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9CD4-2CCE-4433-8E8F-E29A798E9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2C08-A064-4E74-A800-B5953E291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5E79-BECE-4FE1-88C3-D67B6C4F9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2BB1-2574-403D-A388-8C089DB16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0566-DA9C-4DF9-B6EB-08AC28734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EDAD-08D5-4832-AFF3-B15E3CEC7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03BF-EC4E-4759-9B04-ABC7CCA48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67DE-2394-46FE-A19B-B99162F9D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44D41-4399-4CF0-8D51-F56CE9AF70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85800" y="162000"/>
            <a:ext cx="7848720" cy="64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90720" y="538200"/>
            <a:ext cx="7086600" cy="58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838080" y="476280"/>
            <a:ext cx="7315200" cy="60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143000" y="538200"/>
            <a:ext cx="6934320" cy="57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066680" y="538200"/>
            <a:ext cx="7010640" cy="57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90720" y="601560"/>
            <a:ext cx="7010280" cy="578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19320" y="663480"/>
            <a:ext cx="6705360" cy="55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143000" y="601560"/>
            <a:ext cx="6858000" cy="565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371600" y="665280"/>
            <a:ext cx="6553080" cy="54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914400" y="915840"/>
            <a:ext cx="6705720" cy="55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143000" y="665280"/>
            <a:ext cx="6781680" cy="55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62120" y="162000"/>
            <a:ext cx="777240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295280" y="663480"/>
            <a:ext cx="6629400" cy="54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85800" y="223920"/>
            <a:ext cx="7772400" cy="64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351000"/>
            <a:ext cx="7467840" cy="61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066680" y="349200"/>
            <a:ext cx="7239240" cy="59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85800" y="412920"/>
            <a:ext cx="7543800" cy="62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143000" y="601560"/>
            <a:ext cx="6858000" cy="565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066680" y="538200"/>
            <a:ext cx="7010640" cy="57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838080" y="539640"/>
            <a:ext cx="7239240" cy="59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6T07:17:02Z</dcterms:created>
  <dc:creator>Fr.ALBERTO Wissam</dc:creator>
  <dc:description/>
  <dc:language>en-US</dc:language>
  <cp:lastModifiedBy>Fr.ALBERTO Wissam</cp:lastModifiedBy>
  <dcterms:modified xsi:type="dcterms:W3CDTF">2004-08-16T08:29:46Z</dcterms:modified>
  <cp:revision>2</cp:revision>
  <dc:subject/>
  <dc:title>Slide 1</dc:title>
</cp:coreProperties>
</file>