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565D-119A-4454-ACC6-0E92BDF72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221A-7293-4B1D-AF60-4AEC5D7E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5C22-2493-4A6C-A054-B3B9E6DF7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EACC-47BF-4DDD-B862-5F6D29956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B5F9-192B-4EF1-B4A6-E9FE8290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396F-C808-457E-8757-E74BEB7A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C255-24FC-4B75-B0EB-0FB15C84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080E-7272-4A33-BD3F-93171470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31D3-33AA-427F-B1E2-AA4B9D00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9152-DA0C-45A6-BDB8-D522BBC8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4DE0-CD52-4E61-BAD3-9E00F41B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6C08-8310-42C1-A57B-63522916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7F14-4778-46A2-91CA-85692797A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800" y="162000"/>
            <a:ext cx="7848720" cy="64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538200"/>
            <a:ext cx="708660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476280"/>
            <a:ext cx="7315200" cy="60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538200"/>
            <a:ext cx="693432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538200"/>
            <a:ext cx="701064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601560"/>
            <a:ext cx="701028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19320" y="663480"/>
            <a:ext cx="670536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601560"/>
            <a:ext cx="685800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71600" y="665280"/>
            <a:ext cx="6553080" cy="54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915840"/>
            <a:ext cx="670572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43000" y="665280"/>
            <a:ext cx="678168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162000"/>
            <a:ext cx="77724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95280" y="663480"/>
            <a:ext cx="662940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23920"/>
            <a:ext cx="777240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351000"/>
            <a:ext cx="7467840" cy="61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349200"/>
            <a:ext cx="723924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412920"/>
            <a:ext cx="7543800" cy="62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43000" y="601560"/>
            <a:ext cx="685800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538200"/>
            <a:ext cx="701064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539640"/>
            <a:ext cx="723924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6T07:17:02Z</dcterms:created>
  <dc:creator>Fr.ALBERTO Wissam</dc:creator>
  <dc:description/>
  <dc:language>en-US</dc:language>
  <cp:lastModifiedBy>Fr.ALBERTO Wissam</cp:lastModifiedBy>
  <dcterms:modified xsi:type="dcterms:W3CDTF">2004-08-16T08:29:46Z</dcterms:modified>
  <cp:revision>2</cp:revision>
  <dc:subject/>
  <dc:title>Slide 1</dc:title>
</cp:coreProperties>
</file>