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3E75-52CB-4A15-8139-813B9DF64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C3F6-A41A-410D-8FDD-118890F7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8478-2588-46F9-ABA8-010925C8E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0613-0F10-4656-A2EA-04D8BBBFB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06B0-4C60-4A71-B0E2-1E786D1C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411F-D335-4E9B-BDA9-D567AB05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2215-0A8B-4EEC-BE89-A0B917DA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5417-2002-438F-B3B2-918EF195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CFD1-1A40-4F2C-92A5-CC916B0E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303A-3490-42D4-9014-6E7EB4C6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973E-78DD-4150-AE1C-C670E9BE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EB73-1F50-4A30-A39F-DAE04C9F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2810-451D-49D6-BF18-52B345D6D04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826920" y="620640"/>
            <a:ext cx="7705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يا رب السلام أمطر علينا السلام(</a:t>
            </a: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)، يا رب السلام املأ بلادنا سلا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1403280" y="333360"/>
            <a:ext cx="640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سلامي أترك لكم سلامي اعطيكم لا كما يعطيه العالم اعطيكم أن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1979640" y="0"/>
            <a:ext cx="4968720" cy="110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ffffff"/>
                </a:solidFill>
                <a:latin typeface="Arial"/>
              </a:rPr>
              <a:t>يا رب استعملني لسلامك فأضع الحبَ حيثُ البغض والمغفرةَ حيثُ الاساءة والاتفاقَ حيثُ الخلاف والحقيقةَ حيثُ الضلال والإيمانَ حيثُ الشك والرجاءَ حيث اليأس والنورَ حيثُ الظلمه والفرحَ حيثُ الكآب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900000" y="836640"/>
            <a:ext cx="763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لا اؤمن بشريعة الغاب وتسلط الأقوياء وبانتصار الطغيا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468360" y="549360"/>
            <a:ext cx="8136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أؤمن بكرامة الانسان بالتضامن بين البشر وبقوة اللاعن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0" y="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لا أؤمن بالتفرقة العنصرية، ولا بالقوة القائمة على الغنى والتمييز، ولا بأي طريق يؤدي إلى العبودي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0" y="26028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أؤمن بالمساواة بين الرجل والمرأة، وأؤمن بأن كل ما هو قائم على العنف والظلم هو طريق يؤدي إلى الفوضى والفش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250920" y="476280"/>
            <a:ext cx="8642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لا أؤمن بأن الحرب والمجاعة لا مفر منهما ولا أؤمن أن السلام أمر مستحي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1042920" y="684360"/>
            <a:ext cx="6985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أؤمن بالجمال بالشفافية بالحب والسلام في الأر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6T22:41:26Z</dcterms:created>
  <dc:creator>Rmona</dc:creator>
  <dc:description/>
  <dc:language>en-US</dc:language>
  <cp:lastModifiedBy>Computer</cp:lastModifiedBy>
  <dcterms:modified xsi:type="dcterms:W3CDTF">2013-05-03T05:57:02Z</dcterms:modified>
  <cp:revision>7</cp:revision>
  <dc:subject/>
  <dc:title>الشريحة 1</dc:title>
</cp:coreProperties>
</file>