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767-0112-43BA-9374-2008A292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DB1-2F88-45A5-A608-62ED68E9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D17-C60D-4033-BC1A-62FB07FC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D09-4B42-40EC-B81D-14D41EAB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3E8-8DF1-4622-8706-68295B5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BA2-5D6D-488B-9631-1191517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92A-7D39-450B-9C45-35F86E5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B5C-E43C-4747-A905-CF3DE55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822-6E14-4C89-BD68-E8DD98A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146-8B2E-4AFB-B72A-E26DD10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D32-9E91-4910-A020-A40781E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0E4-3254-4DCE-8749-19A8C01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522-F04B-4512-91B4-E8A1661783FD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وب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0"/>
            <a:ext cx="487656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غفرت معصيته وسترت خطيئ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تختاره وتقرِّب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طوبى طوبى لمن تختار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0"/>
            <a:ext cx="571500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حين سكتُّ بليت عظ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إلى الهشيم تحوَّل قلب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فأبحتكَ بجميع آث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أنتَ رفعتَ وزر خطيئت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6f7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93640"/>
            <a:ext cx="556236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إن طغى غمر الميا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ما استطاع أن يدرك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أنت ستري من الضيق تقيني وبترنيم النجاة تحيط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76320"/>
            <a:ext cx="5943600" cy="10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عودي يا نفسي إلى راحت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فإن الرب قد أحسن إل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أنه من الموت أنقذ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من الدمع مسح عين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طوبى طوبى لمن غفرت معصيت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9:49Z</dcterms:created>
  <dc:creator>user</dc:creator>
  <dc:description/>
  <dc:language>en-US</dc:language>
  <cp:lastModifiedBy>user</cp:lastModifiedBy>
  <dcterms:modified xsi:type="dcterms:W3CDTF">2006-09-01T13:40:24Z</dcterms:modified>
  <cp:revision>9</cp:revision>
  <dc:subject/>
  <dc:title>Slide 1</dc:title>
</cp:coreProperties>
</file>