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F22-3B45-49F1-8EEB-2171E101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889-45C6-4F3D-8922-8854C4C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60C-7497-4EC2-9647-5667A96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BD3-0E9D-46AD-85B8-26B40CB0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907-BA49-4D38-A3CD-0542470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2AE-3B78-4647-85A2-B39449E9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D7D-4F69-449D-A7D3-3E7E049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C9A-F864-4645-B7A9-1DD0F33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A8E-B6C4-49DB-9748-344CBE0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569-5B14-4653-9183-98CB261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F6F-9EAB-4AB3-98CD-C69969D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0BF-2014-4DFD-84FE-445BCE1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AA22-6761-4321-B271-A1C14EC4F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304920"/>
            <a:ext cx="4724280" cy="71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ضلك طل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لي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لا تكو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نّي ب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رح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جودك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ثل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ليال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28600"/>
            <a:ext cx="4876560" cy="62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مح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نحب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بلا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خلي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يا رب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ت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حب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ن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42:40Z</dcterms:created>
  <dc:creator>Pere</dc:creator>
  <dc:description/>
  <dc:language>en-US</dc:language>
  <cp:lastModifiedBy>lab</cp:lastModifiedBy>
  <dcterms:modified xsi:type="dcterms:W3CDTF">2006-12-10T08:56:11Z</dcterms:modified>
  <cp:revision>6</cp:revision>
  <dc:subject/>
  <dc:title>Slide 1</dc:title>
</cp:coreProperties>
</file>