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AF90-A922-4F2D-B0AA-2F225B484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F3FA-14AD-4E23-8C58-B615B10C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5F96-0E58-4506-B04F-4A172842B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F8D4-C133-4F80-9988-A12B66513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17DE-3C0B-4E20-BF64-3B7A74B3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04B2-31CA-4800-ABFA-3E9F1377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05E9-EE61-45FE-AB75-C4315E0B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1B1B-64A9-4062-ABDB-CDDD6799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C2DD-4D39-495F-BE1A-8770FE08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6092-5DBB-4324-BF25-41551221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E548-BD99-44FC-8E75-67F4543A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5841-50FA-45A1-85E7-B588053B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7E33-B468-486F-A140-74A4A8248F94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 rot="20826600">
            <a:off x="-533520" y="4571640"/>
            <a:ext cx="2514600" cy="2610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315200" y="0"/>
            <a:ext cx="1828800" cy="16984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 rot="20163000">
            <a:off x="7467480" y="5000400"/>
            <a:ext cx="1905120" cy="200952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2590920" y="1219320"/>
            <a:ext cx="3762360" cy="459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ds.yahoo.com/_ylt=A9gnMiHDlFRE5_AAuPmJzbkF;_ylu=X3oDMTBkbHNiZXJuBHBvcwM0NgRzZWMDc3I-/SIG=1jlefgu8o/EXP=1146480195/**http%3A//images.search.yahoo.com/search/images/view%3Fback=http%253A%252F%252Fimages.search.yahoo.com%252Fsearch%252Fimages%253F_adv_prop%253Dimages%2526imgsz%253Dall%2526vf%253Dall%2526va%253Dwheat%2526ei%253DUTF-8%2526fr%253DFP-tab-web-t%2526b%253D41%26w=287%26h=238%26imgurl=townsvillebulletin.news.com.au%252Fcommon%252Fimagedata%252F0%252C3600%252C5112689%252C00.jpg%26rurl=http%253A%252F%252Ftownsvillebulletin.news.com.au%252Fcommon%252Fstory_page%252F0%252C7034%252C18245438%2525255E421%252C00.html%26size=34.7kB%26name=0,3600,5112689,00.jpg%26p=wheat%26type=jpeg%26no=46%26tt=337,975%26ei=UTF-8%26src=p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الانسان مثلك خلقتو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اذا انا ساع</a:t>
            </a:r>
            <a:r>
              <a:rPr b="0" lang="ar-JO" sz="7000" spc="-1" strike="noStrike">
                <a:solidFill>
                  <a:srgbClr val="000000"/>
                </a:solidFill>
                <a:latin typeface="Arial"/>
              </a:rPr>
              <a:t>د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تو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كأني ساعدتك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إزرعني قمحة بحقلتك (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agriculture, autumn, closeup, detail, fall, farming, flora, golden, grain, grains, harvest, macro, nature, orange, plant, stalk, stalks, wheat"/>
          <p:cNvPicPr/>
          <p:nvPr/>
        </p:nvPicPr>
        <p:blipFill>
          <a:blip r:embed="rId1"/>
          <a:stretch/>
        </p:blipFill>
        <p:spPr>
          <a:xfrm>
            <a:off x="0" y="0"/>
            <a:ext cx="2406600" cy="3200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372600" y="4114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woman holding wheat Ruth"/>
          <p:cNvPicPr/>
          <p:nvPr/>
        </p:nvPicPr>
        <p:blipFill>
          <a:blip r:embed="rId1"/>
          <a:stretch/>
        </p:blipFill>
        <p:spPr>
          <a:xfrm>
            <a:off x="2044800" y="0"/>
            <a:ext cx="52704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25239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6172200" y="1828800"/>
            <a:ext cx="27147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إزرعن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257800" y="3809880"/>
            <a:ext cx="27338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قمح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04920" y="3048120"/>
            <a:ext cx="3200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حقلتك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90600" cy="2438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14400" y="914400"/>
            <a:ext cx="822960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الانسان مثلك خلقتو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اذا انا ساع</a:t>
            </a:r>
            <a:r>
              <a:rPr b="0" lang="ar-JO" sz="7000" spc="-1" strike="noStrike">
                <a:solidFill>
                  <a:srgbClr val="000000"/>
                </a:solidFill>
                <a:latin typeface="Arial"/>
              </a:rPr>
              <a:t>د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تو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كأني ساعدتك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إزرعني قمحة بحقلتك (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914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حتى اقدر اتبعك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شو ما عندي بقدملك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ما بخلي يعرف حدى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agriculture, autumn, closeup, detail, fall, farming, flora, golden, grain, grains, harvest, macro, nature, orange, plant, stalk, stalks, wheat"/>
          <p:cNvPicPr/>
          <p:nvPr/>
        </p:nvPicPr>
        <p:blipFill>
          <a:blip r:embed="rId1"/>
          <a:stretch/>
        </p:blipFill>
        <p:spPr>
          <a:xfrm>
            <a:off x="0" y="0"/>
            <a:ext cx="24066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woman holding wheat Ruth"/>
          <p:cNvPicPr/>
          <p:nvPr/>
        </p:nvPicPr>
        <p:blipFill>
          <a:blip r:embed="rId1"/>
          <a:stretch/>
        </p:blipFill>
        <p:spPr>
          <a:xfrm>
            <a:off x="2044800" y="0"/>
            <a:ext cx="52704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25239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6172200" y="1828800"/>
            <a:ext cx="27147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إزرعن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257800" y="3809880"/>
            <a:ext cx="27338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قمح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04920" y="3048120"/>
            <a:ext cx="3200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حقلتك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057400" cy="2206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14400" y="914400"/>
            <a:ext cx="822960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لما يفتح باب المجد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ينزل ملاك ويحصد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يلي من زرع ايديك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أطيب قمحة بحقلتك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Wild Flowers and Wheat"/>
          <p:cNvPicPr/>
          <p:nvPr/>
        </p:nvPicPr>
        <p:blipFill>
          <a:blip r:embed="rId1"/>
          <a:stretch/>
        </p:blipFill>
        <p:spPr>
          <a:xfrm>
            <a:off x="0" y="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676520" y="1417680"/>
            <a:ext cx="822960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الانسان مثلك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 خلقتو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اذا انا ساعتو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كأني ساعدتك </a:t>
            </a:r>
            <a:br>
              <a:rPr sz="7000"/>
            </a:br>
            <a:r>
              <a:rPr b="0" lang="ar-JO" sz="7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إزرعني قمحة</a:t>
            </a:r>
            <a:r>
              <a:rPr b="0" lang="ar-JO" sz="7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بحقلتك (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1905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2120" y="1676520"/>
            <a:ext cx="822960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ليه عم تشح</a:t>
            </a:r>
            <a:r>
              <a:rPr b="0" lang="ar-JO" sz="7000" spc="-1" strike="noStrike">
                <a:solidFill>
                  <a:srgbClr val="000000"/>
                </a:solidFill>
                <a:latin typeface="Arial"/>
              </a:rPr>
              <a:t>د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 خبر ومال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اذا انا اعطي</a:t>
            </a:r>
            <a:r>
              <a:rPr b="0" lang="ar-JO" sz="7000" spc="-1" strike="noStrike">
                <a:solidFill>
                  <a:srgbClr val="000000"/>
                </a:solidFill>
                <a:latin typeface="Arial"/>
              </a:rPr>
              <a:t>ك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كأني اعطيتك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woman holding wheat Ruth"/>
          <p:cNvPicPr/>
          <p:nvPr/>
        </p:nvPicPr>
        <p:blipFill>
          <a:blip r:embed="rId1"/>
          <a:stretch/>
        </p:blipFill>
        <p:spPr>
          <a:xfrm>
            <a:off x="2044800" y="0"/>
            <a:ext cx="52704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2523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6172200" y="1828800"/>
            <a:ext cx="27147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إزرعن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257800" y="3809880"/>
            <a:ext cx="27338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قمح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-304920" y="3048120"/>
            <a:ext cx="3200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حقلتك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سنابل قمح خضراء ممتلئة"/>
          <p:cNvPicPr/>
          <p:nvPr/>
        </p:nvPicPr>
        <p:blipFill>
          <a:blip r:embed="rId1"/>
          <a:stretch/>
        </p:blipFill>
        <p:spPr>
          <a:xfrm>
            <a:off x="0" y="0"/>
            <a:ext cx="2514600" cy="2743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95280" y="1219320"/>
            <a:ext cx="822960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قاعد في حبس مهجور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خفيفلوا من صليبو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الصليب </a:t>
            </a:r>
            <a:r>
              <a:rPr b="0" lang="ar-JO" sz="7000" spc="-1" strike="noStrike">
                <a:solidFill>
                  <a:srgbClr val="000000"/>
                </a:solidFill>
                <a:latin typeface="Arial"/>
              </a:rPr>
              <a:t> إللي 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عا كتافك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woman holding wheat Ruth"/>
          <p:cNvPicPr/>
          <p:nvPr/>
        </p:nvPicPr>
        <p:blipFill>
          <a:blip r:embed="rId1"/>
          <a:stretch/>
        </p:blipFill>
        <p:spPr>
          <a:xfrm>
            <a:off x="2044800" y="0"/>
            <a:ext cx="52704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2523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6172200" y="1828800"/>
            <a:ext cx="27147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إزرعن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257800" y="3809880"/>
            <a:ext cx="27338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قمح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-304920" y="3048120"/>
            <a:ext cx="3200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حقلتك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الانسان مثلك خلقتو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اذا انا ساع</a:t>
            </a:r>
            <a:r>
              <a:rPr b="0" lang="ar-JO" sz="7000" spc="-1" strike="noStrike">
                <a:solidFill>
                  <a:srgbClr val="000000"/>
                </a:solidFill>
                <a:latin typeface="Arial"/>
              </a:rPr>
              <a:t>د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تو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كأني ساعدتك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إزرعني قمحة بحقلتك (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agriculture, autumn, closeup, detail, fall, farming, flora, golden, grain, grains, harvest, macro, nature, orange, plant, stalk, stalks, wheat"/>
          <p:cNvPicPr/>
          <p:nvPr/>
        </p:nvPicPr>
        <p:blipFill>
          <a:blip r:embed="rId1"/>
          <a:stretch/>
        </p:blipFill>
        <p:spPr>
          <a:xfrm>
            <a:off x="0" y="0"/>
            <a:ext cx="24066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38560" cy="2666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523880" y="914400"/>
            <a:ext cx="822960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بالبرد ويوقف عاالباب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ادملوا احسن تياب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تيابي صاروا قلال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woman holding wheat Ruth"/>
          <p:cNvPicPr/>
          <p:nvPr/>
        </p:nvPicPr>
        <p:blipFill>
          <a:blip r:embed="rId1"/>
          <a:stretch/>
        </p:blipFill>
        <p:spPr>
          <a:xfrm>
            <a:off x="2044800" y="0"/>
            <a:ext cx="52704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25239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6172200" y="1828800"/>
            <a:ext cx="27147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إزرعن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257800" y="3809880"/>
            <a:ext cx="27338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قمح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-304920" y="3048120"/>
            <a:ext cx="3200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حقلتك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8120" cy="2747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143000" y="1219320"/>
            <a:ext cx="822960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مريض القلب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 ومجروح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زيارتي بتقويلو الروح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كاني روحت لعندك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11:32:51Z</dcterms:created>
  <dc:creator>user</dc:creator>
  <dc:description/>
  <dc:language>en-US</dc:language>
  <cp:lastModifiedBy>Kalisse</cp:lastModifiedBy>
  <dcterms:modified xsi:type="dcterms:W3CDTF">2006-11-11T01:32:45Z</dcterms:modified>
  <cp:revision>19</cp:revision>
  <dc:subject/>
  <dc:title>Slide 1</dc:title>
</cp:coreProperties>
</file>