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74DC-F21F-4F5B-B343-45531B26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0FD6-3BE7-4F48-9189-3DC08387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64A7-4E91-44B3-9BDD-4F2E8315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57CD-2DB8-469D-98C9-559441FE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AC27-0C18-416D-8A24-5E6DEB61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7352-F49A-49B4-ADAB-0390A15B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452C-2B45-4AED-8F37-8014A19C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6021-0C8F-4DB8-8CF1-8904114D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7CE6-E0A2-44E7-964B-581D1521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8DC9-01F3-4759-9D85-97132D16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A83E-63E3-445E-903A-10D048AD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3B02-A1A6-4175-95FD-1E35F410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96E1-9592-487F-A15B-E213F2507E02}" type="slidenum">
              <a:rPr b="0" lang="ar-J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300720" y="333360"/>
            <a:ext cx="2554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ccccff"/>
                </a:solidFill>
                <a:latin typeface="Times New Roman"/>
                <a:cs typeface="Andalus"/>
              </a:rPr>
              <a:t>يا أم الله... أم الحيا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51280" y="2998800"/>
            <a:ext cx="51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ccccff"/>
                </a:solidFill>
                <a:latin typeface="Times New Roman"/>
                <a:cs typeface="Andalus"/>
              </a:rPr>
              <a:t>كوني لنا خير صل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612720" y="4437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54320" y="142920"/>
            <a:ext cx="811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6600" spc="-1" strike="noStrike">
                <a:solidFill>
                  <a:srgbClr val="ffff99"/>
                </a:solidFill>
                <a:latin typeface="Arial"/>
                <a:cs typeface="Andalus"/>
              </a:rPr>
              <a:t>إنَّ ابنكِ... فوق الصلي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9520" y="5570640"/>
            <a:ext cx="640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6600" spc="-1" strike="noStrike">
                <a:solidFill>
                  <a:srgbClr val="ffff99"/>
                </a:solidFill>
                <a:latin typeface="Arial"/>
                <a:cs typeface="Andalus"/>
              </a:rPr>
              <a:t>سلَّمكِ سرَّاً عجي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265920" y="142920"/>
            <a:ext cx="5942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6600" spc="-1" strike="noStrike">
                <a:solidFill>
                  <a:srgbClr val="ffff99"/>
                </a:solidFill>
                <a:latin typeface="Arial"/>
                <a:cs typeface="Andalus"/>
              </a:rPr>
              <a:t>صيَّركِ أمَّ الحبي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22760" y="5499000"/>
            <a:ext cx="799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6600" spc="-1" strike="noStrike">
                <a:solidFill>
                  <a:srgbClr val="ffff99"/>
                </a:solidFill>
                <a:latin typeface="Arial"/>
                <a:cs typeface="Andalus"/>
              </a:rPr>
              <a:t>يا أم الله... يا أم الحيا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5774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-36360" y="260280"/>
            <a:ext cx="255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ffffff"/>
                </a:solidFill>
                <a:latin typeface="Times New Roman"/>
                <a:cs typeface="Andalus"/>
              </a:rPr>
              <a:t>يا أم الله... أم الحي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32000" y="5302080"/>
            <a:ext cx="518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ffffff"/>
                </a:solidFill>
                <a:latin typeface="Times New Roman"/>
                <a:cs typeface="Andalus"/>
              </a:rPr>
              <a:t>كوني لنا خير صل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5774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-181080" y="44280"/>
            <a:ext cx="2554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ffffff"/>
                </a:solidFill>
                <a:latin typeface="Times New Roman"/>
                <a:cs typeface="Andalus"/>
              </a:rPr>
              <a:t>يا أم الله... يا أم الحي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59280" y="260280"/>
            <a:ext cx="51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ffffff"/>
                </a:solidFill>
                <a:latin typeface="Times New Roman"/>
                <a:cs typeface="Andalus"/>
              </a:rPr>
              <a:t>عند الإله... نلقَ رضا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5774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16000" y="5445000"/>
            <a:ext cx="64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ff"/>
                </a:solidFill>
                <a:latin typeface="Times New Roman"/>
                <a:cs typeface="Andalus"/>
              </a:rPr>
              <a:t>يا أم الله... يا أم الحياة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427640" y="2205000"/>
            <a:ext cx="47163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ccccff"/>
                </a:solidFill>
                <a:latin typeface="Times New Roman"/>
                <a:cs typeface="Andalus"/>
              </a:rPr>
              <a:t>يا أم الله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ccccff"/>
                </a:solidFill>
                <a:latin typeface="Times New Roman"/>
                <a:ea typeface="Andalus"/>
              </a:rPr>
              <a:t>           يا أم الحيا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51640" y="260280"/>
            <a:ext cx="2914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ccccff"/>
                </a:solidFill>
                <a:latin typeface="Times New Roman"/>
                <a:cs typeface="Andalus"/>
              </a:rPr>
              <a:t>عند الإله... نلقَ رضا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300720" y="333360"/>
            <a:ext cx="2554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ccccff"/>
                </a:solidFill>
                <a:latin typeface="Times New Roman"/>
                <a:cs typeface="Andalus"/>
              </a:rPr>
              <a:t>يا أم الله... أم الحيا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2998800"/>
            <a:ext cx="51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ccccff"/>
                </a:solidFill>
                <a:latin typeface="Times New Roman"/>
                <a:cs typeface="Andalus"/>
              </a:rPr>
              <a:t>كوني لنا خير صل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427640" y="2205000"/>
            <a:ext cx="47163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ccccff"/>
                </a:solidFill>
                <a:latin typeface="Times New Roman"/>
                <a:cs typeface="Andalus"/>
              </a:rPr>
              <a:t>يا أم الله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ccccff"/>
                </a:solidFill>
                <a:latin typeface="Times New Roman"/>
                <a:ea typeface="Andalus"/>
              </a:rPr>
              <a:t>           يا أم الحيا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51640" y="260280"/>
            <a:ext cx="2914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ccccff"/>
                </a:solidFill>
                <a:latin typeface="Times New Roman"/>
                <a:cs typeface="Andalus"/>
              </a:rPr>
              <a:t>عند الإله... نلقَ رضا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554880" y="333360"/>
            <a:ext cx="255420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00"/>
                </a:solidFill>
                <a:latin typeface="Times New Roman"/>
                <a:cs typeface="Andalus"/>
              </a:rPr>
              <a:t>أنشري النور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00"/>
                </a:solidFill>
                <a:latin typeface="Times New Roman"/>
                <a:cs typeface="Andalus"/>
              </a:rPr>
              <a:t>يا أم النو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333360"/>
            <a:ext cx="255456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00"/>
                </a:solidFill>
                <a:latin typeface="Times New Roman"/>
                <a:cs typeface="Andalus"/>
              </a:rPr>
              <a:t>في دربنا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00"/>
                </a:solidFill>
                <a:latin typeface="Times New Roman"/>
                <a:cs typeface="Andalus"/>
              </a:rPr>
              <a:t>في قلبنا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554880" y="333360"/>
            <a:ext cx="255420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00"/>
                </a:solidFill>
                <a:latin typeface="Times New Roman"/>
                <a:cs typeface="Andalus"/>
              </a:rPr>
              <a:t>كي نلقَ النو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00"/>
                </a:solidFill>
                <a:latin typeface="Times New Roman"/>
                <a:cs typeface="Andalus"/>
              </a:rPr>
              <a:t>في ربنا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333360"/>
            <a:ext cx="255456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00"/>
                </a:solidFill>
                <a:latin typeface="Times New Roman"/>
                <a:cs typeface="Andalus"/>
              </a:rPr>
              <a:t>يا أم الل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00"/>
                </a:solidFill>
                <a:latin typeface="Times New Roman"/>
                <a:cs typeface="Andalus"/>
              </a:rPr>
              <a:t>يا أم الحي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58244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12000" y="755640"/>
            <a:ext cx="2842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66"/>
                </a:solidFill>
                <a:latin typeface="Times New Roman"/>
                <a:cs typeface="Andalus"/>
              </a:rPr>
              <a:t>يا أم الله... أم الحي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24360" y="3668760"/>
            <a:ext cx="331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66"/>
                </a:solidFill>
                <a:latin typeface="Times New Roman"/>
                <a:cs typeface="Andalus"/>
              </a:rPr>
              <a:t>كوني لنا خير صل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58244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12000" y="755640"/>
            <a:ext cx="284292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66"/>
                </a:solidFill>
                <a:latin typeface="Times New Roman"/>
                <a:cs typeface="Andalus"/>
              </a:rPr>
              <a:t>عند الإله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66"/>
                </a:solidFill>
                <a:latin typeface="Times New Roman"/>
                <a:cs typeface="Andalus"/>
              </a:rPr>
              <a:t>نلقَ رضا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24360" y="3668760"/>
            <a:ext cx="331164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66"/>
                </a:solidFill>
                <a:latin typeface="Times New Roman"/>
                <a:cs typeface="Andalus"/>
              </a:rPr>
              <a:t>يا أم الل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66"/>
                </a:solidFill>
                <a:latin typeface="Times New Roman"/>
                <a:cs typeface="Andalus"/>
              </a:rPr>
              <a:t>يا أم الحي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8T05:39:47Z</dcterms:created>
  <dc:creator>Sr Lina</dc:creator>
  <dc:description/>
  <dc:language>en-US</dc:language>
  <cp:lastModifiedBy>user</cp:lastModifiedBy>
  <dcterms:modified xsi:type="dcterms:W3CDTF">2005-05-11T11:20:11Z</dcterms:modified>
  <cp:revision>98</cp:revision>
  <dc:subject/>
  <dc:title>PowerPoint Presentation</dc:title>
</cp:coreProperties>
</file>