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BD3-DFBF-4FC6-9FD2-69B2F0EA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4D1-F386-4D9A-8C31-3BCDDD82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B61-0B9F-4EA5-A9D6-A0FF4F21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DC1-3D5B-48C0-83B9-3FC8D2D2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BD8-2AF9-4936-BF93-DE518A47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DBD-E100-4F78-9651-A4A57B79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C01-8EE7-4120-84D1-466B09F9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BCB-03B6-457B-A340-2B570D58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3CB-E648-45E4-8710-08BAFCDF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7C7-E93E-4932-9D78-DD652AC2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361-ABD1-4D14-8631-141CDCE3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855-61F7-4AF3-BD8E-3D79FB82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E7FE-E5E3-4547-B8F7-183DA1E947FC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907920"/>
            <a:ext cx="3505320" cy="79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في ظلّ حمايت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نلتجئ يا مري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لا تردّي طلبتنا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76720" y="755640"/>
            <a:ext cx="379260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فخر البرايا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خير الور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بحر العطايا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في الدنيا جر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3960720" cy="68580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03280" y="915840"/>
            <a:ext cx="6337440" cy="5106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0480" y="44280"/>
            <a:ext cx="72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663300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5943600"/>
            <a:ext cx="72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663300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75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14800" y="465120"/>
            <a:ext cx="4800600" cy="87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باب السما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أم الفد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عين الرجا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نور الهد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164360" y="1530360"/>
            <a:ext cx="1835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836640"/>
            <a:ext cx="1727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769080" cy="46087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08000" y="1500120"/>
            <a:ext cx="8959680" cy="4289400"/>
            <a:chOff x="108000" y="1500120"/>
            <a:chExt cx="8959680" cy="428940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08000" y="1500120"/>
              <a:ext cx="167652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108000" y="4365720"/>
              <a:ext cx="1676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7391520" y="1500120"/>
              <a:ext cx="167616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7391520" y="4365720"/>
              <a:ext cx="1676160" cy="14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611280" y="115920"/>
            <a:ext cx="830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ارحمي عبيداً... باتوا مخلصي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8960" y="5715000"/>
            <a:ext cx="830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بغون المزيد... منكِ كلَّ حي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99ff"/>
            </a:gs>
            <a:gs pos="100000">
              <a:srgbClr val="c0c0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64360" y="1530360"/>
            <a:ext cx="1835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836640"/>
            <a:ext cx="1727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7-30T05:56:38Z</dcterms:modified>
  <cp:revision>91</cp:revision>
  <dc:subject/>
  <dc:title>PowerPoint Presentation</dc:title>
</cp:coreProperties>
</file>