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A79-59A3-47A2-804A-E9C6BF02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1E3-C687-4CC5-B9B8-3B4B31B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26B-0B8D-4DC0-BDC0-7A4CE952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D08-5CF0-4BB9-B137-ADEC6BD4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48ED-86D1-4A6F-87E4-9FB379F8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9EE-086D-4AC1-859F-190CBC03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184B-0E77-4641-9C64-9F76ECC5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128-DF68-465A-BF6B-9613B04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876-9998-48DF-A39E-16A7E739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C12-5EDE-41C0-9103-DB007F48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5437-E586-48A3-9C27-848F03E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D09-DA1E-4F6D-A833-DCE42F4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C937-0F9A-48FD-B033-C3F9CFF4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30D0-67DA-46CC-9326-49A3843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BD22-1818-4CDC-BF0F-2EF8D58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2CE9-CAF7-4D0B-BCE8-0AB245BA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EC51-410B-4E09-9A8B-0D491237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538-E862-4429-AA75-3306B5A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1E5-2C0B-4DB2-A276-9649366C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282-23CA-4C2D-B904-8B020C40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AD4-6FE2-47F6-8582-154EB1C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5CB-07C4-4C33-BAC6-4231947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7F5-2FFB-4058-8E11-8521FEA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C7A-E870-4D19-93B1-22ABE14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1C58-C370-4B7D-A420-49C958E1AFCA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5990-7CE8-49B7-B14C-D227F6337A55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97308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2080"/>
            <a:ext cx="8496000" cy="6335640"/>
          </a:xfrm>
          <a:custGeom>
            <a:avLst/>
            <a:gdLst>
              <a:gd name="textAreaLeft" fmla="*/ 1996560 w 8496000"/>
              <a:gd name="textAreaRight" fmla="*/ 6493320 w 8496000"/>
              <a:gd name="textAreaTop" fmla="*/ 744840 h 6335640"/>
              <a:gd name="textAreaBottom" fmla="*/ 3974040 h 633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119240"/>
            <a:ext cx="66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000000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12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1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0560" y="84312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لوين مكفّي وحدك بهالدرب                                 ضايع عم تسأل عن درب الحب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" y="371628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تعا تنمشي سوا صوب الرب                               بحب وثقة ملوى القل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r>
              <a:rPr b="1" lang="ar-SA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                  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تسلّم حالك ليسوع                                سلّمو قلبك بلا رجوع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ع حالك بين ايديه                                قلبو أحنّ من قلب البي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يهم كم باب دقّيت                                       ولا كم حلم تمنيت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انت بقلبو حلم قديم                                          يدلّك ع دروب الحياة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2:43Z</dcterms:created>
  <dc:creator>Kalisse</dc:creator>
  <dc:description/>
  <dc:language>en-US</dc:language>
  <cp:lastModifiedBy>user</cp:lastModifiedBy>
  <dcterms:modified xsi:type="dcterms:W3CDTF">2006-05-05T05:42:44Z</dcterms:modified>
  <cp:revision>52</cp:revision>
  <dc:subject/>
  <dc:title>Slide 1</dc:title>
</cp:coreProperties>
</file>