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BFA-91F9-492E-AA23-18212856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5B1-95B1-49B5-8ECB-55DBDB7D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C3C-AE07-4D6F-9A8D-5D8B9E99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110-FA63-4F60-9C84-0D21ADFE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54F-F6E4-4AD6-88BA-43FAB84D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441-ED31-49A2-922E-22E368D7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789-21D6-44BF-A854-38CF2BF6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F57-BD67-43C3-8737-0B7CA2E7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4D7-ADC0-4150-A368-70FE37CE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BCA-41FB-40A7-A3BA-E236E252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1BA-7928-4CF2-8E35-1366E6C7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1EB-7F45-4071-9E8E-45D12769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D694-14D4-46A1-9AAF-3536141EE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355760"/>
            <a:ext cx="464832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يا رعاة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خبّرون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هل جرى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أمر غري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خبرون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بشرون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ا هذا السّر العجي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1219320"/>
            <a:ext cx="487692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مجد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أعا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وعل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أر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سلام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1355760"/>
            <a:ext cx="5334120" cy="71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بيتَ لحم مَن أَتا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َن غدا فيكِ مُقي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َن ب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زالَ شَقا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هو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المولى العظي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1219320"/>
            <a:ext cx="487692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مجد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أعا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وعل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أر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سلام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355760"/>
            <a:ext cx="502920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أعلِمو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كلّ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العِبادِ، بَشّرو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في العالمي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قد أتان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اليوم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فادي،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فابشِرو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ي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ؤمني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19320"/>
            <a:ext cx="487692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مجد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أعا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وعل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أر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سلام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09:19:47Z</dcterms:created>
  <dc:creator>Pere</dc:creator>
  <dc:description/>
  <dc:language>en-US</dc:language>
  <cp:lastModifiedBy>Esmat</cp:lastModifiedBy>
  <dcterms:modified xsi:type="dcterms:W3CDTF">2006-12-06T08:35:16Z</dcterms:modified>
  <cp:revision>3</cp:revision>
  <dc:subject/>
  <dc:title>Slide 1</dc:title>
</cp:coreProperties>
</file>