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AA82-4032-409C-B45F-DD16DB16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101-8E89-47AF-82CA-755DA379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46F-F98C-4C61-A4EA-3B7CB5E6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853-6DF0-46E2-818C-F473ED77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2A4-2A51-44E8-9EE4-7FB45763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2381-A586-43DF-8AD2-23971CDB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213-D294-4F7E-8FB5-1EF4DB03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E7B-68F2-4717-92ED-BA1BC0F7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73B-D85C-4D29-910A-D56B292D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507-5F0C-4657-B96C-14F540C5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F3E-A1E5-4616-B93B-04921B68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777-974B-41E4-8FF0-6CCEAB3F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65BE-C7CD-4F2E-9787-483CBA20568B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" y="533520"/>
            <a:ext cx="8610480" cy="236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بصوتِ الحمدِ أذبحُ لك، وأعودُ أنظر هيكلك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لأنكَ استجبتَ لي... كلُّ ما فيَّ يشكر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" y="533520"/>
            <a:ext cx="8610480" cy="236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بصوتِ الحمدِ أذبحُ لك، وأعودُ أنظر هيكلك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لأنكَ استجبتَ لي... كلُّ ما فيَّ يشكر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200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3600" y="746280"/>
            <a:ext cx="2895480" cy="80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500" spc="-1" strike="noStrike">
                <a:solidFill>
                  <a:srgbClr val="ffffff"/>
                </a:solidFill>
                <a:latin typeface="Arial"/>
              </a:rPr>
              <a:t>جازت من فوقي تيارات وأغرقتني الضيقات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990720" y="76320"/>
            <a:ext cx="10134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228600"/>
            <a:ext cx="937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ial"/>
              </a:rPr>
              <a:t>والعشب التفَّ برأسي والماء عبر إلى نفس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29200" y="457200"/>
            <a:ext cx="3581280" cy="70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500" spc="-1" strike="noStrike">
                <a:solidFill>
                  <a:srgbClr val="ffffff"/>
                </a:solidFill>
                <a:latin typeface="Arial"/>
              </a:rPr>
              <a:t>صلى يونان من جوف الحوت، أصدرتَ أمراً ألا يموت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22860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cc00"/>
                </a:solidFill>
                <a:latin typeface="Arial"/>
              </a:rPr>
              <a:t>من جوف الهاوية صرخ، وبالمراحم سمعت الصو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2:07:40Z</dcterms:created>
  <dc:creator>user</dc:creator>
  <dc:description/>
  <dc:language>en-US</dc:language>
  <cp:lastModifiedBy>user</cp:lastModifiedBy>
  <dcterms:modified xsi:type="dcterms:W3CDTF">2006-09-01T13:39:13Z</dcterms:modified>
  <cp:revision>15</cp:revision>
  <dc:subject/>
  <dc:title>Slide 1</dc:title>
</cp:coreProperties>
</file>