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429-1DF3-448B-8257-39637B06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7B2-AA24-431D-AC23-DA99EBB5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A88-9D7A-4DC3-B1DE-0CDBC0C8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D6E3-5924-4AC6-9C12-8F4335CC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94B-8B5B-4ECB-9B70-00CB2AD0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C80-A408-420A-B827-1ADB2386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131-0952-4B3B-9A2D-25303EFD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C53-3A4B-4C2A-B701-07FAA6CF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005-C40C-4CE7-9FB8-E7C166A4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823-5023-44B9-A723-DB91C38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F2F-8AF9-4EB1-ACB0-9132811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9FE-A6BD-46F3-BAF5-808558F5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1774-D762-4DDA-BE27-6A619476A0FC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-228600"/>
            <a:ext cx="815328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فن المح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أحلى طري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للوحدة بين الجم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هي نقاط مهمّة كث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تنحب ودايماً من جدي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ar-JO" sz="4000" spc="-1" strike="noStrike">
                <a:solidFill>
                  <a:srgbClr val="000000"/>
                </a:solidFill>
                <a:latin typeface="Tahoma"/>
                <a:cs typeface="Tahoma"/>
              </a:rPr>
              <a:t>هاي هاي هاي ه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53352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320" y="-228600"/>
            <a:ext cx="5715000" cy="12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خلينا نشوف يسو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كلّ النا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نحب الكل مهما ك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حبة لازم من عِنّا تبد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الوحدة دايماً هدف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هاي هاي هاي ها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-228600"/>
            <a:ext cx="5181480" cy="132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حتى الأعداء لازم نح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كل واحد مثل نفسنا نح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حبة بتحمل فرح جد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سعادة إلنا وللجميع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هاي هاي هاي ها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3:36:34Z</dcterms:created>
  <dc:creator>user</dc:creator>
  <dc:description/>
  <dc:language>en-US</dc:language>
  <cp:lastModifiedBy>user</cp:lastModifiedBy>
  <dcterms:modified xsi:type="dcterms:W3CDTF">2006-05-05T05:41:18Z</dcterms:modified>
  <cp:revision>9</cp:revision>
  <dc:subject/>
  <dc:title>Slide 1</dc:title>
</cp:coreProperties>
</file>