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960-758A-434F-BAC4-CCCE5FF4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093-1573-4C13-9B62-B49CC8B4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569-A153-4C60-82F8-F8634AF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6C2-CA62-4424-AD2F-A915E0D0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C7B-2C28-40C1-A00E-05230EA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33B-C174-486C-8A59-8007EE3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ADA-16B1-447E-BA51-38A5A99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96E-5A9B-4840-BDF0-022B62F2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DBC-467E-46DC-B032-40BA3EC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E04-ED6E-4896-8477-0E066CA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F37-4F9E-4981-8923-3B10ADD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7B9-D2CD-4D81-896A-A8030FA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CD18-C1D6-4F8E-96FE-6E0252A4E759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24280" y="609480"/>
            <a:ext cx="42674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 ل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ن كان الآب يمنحني الغفر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لا أعلن توب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و يشاءُ خلاصَ الإنس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أعمل بمشيئ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62160" y="3657600"/>
            <a:ext cx="66196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ارَ أمامي ليعطيني الرجاء، لماذا أتبع شريع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اتَ وقامَ ليعطيني الحياة، لمَِ أموتُ في خطيئ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4495680"/>
            <a:ext cx="8001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إن كان الآب ينبوع الأمان، لماذا لا أسرع وأستق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لِمَ لا أرجع إليه الآن، فالوقتُ ضائعٌ في غرب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90720" y="4267080"/>
            <a:ext cx="6943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ضمَّ أوجاعي بين ساعديه، لِمَ أضيعُ سعاد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رسلني لأنشرَ السلام، لِمَ لا أبدءُ بخطو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5400" y="4838760"/>
            <a:ext cx="715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إن كان يحملُ عني الأعباء، لماذا أنحني بأثقال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أعدَّ لي جسراً نحو السماء، لا لن أموتَ في خطيئ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01:16Z</dcterms:created>
  <dc:creator>user</dc:creator>
  <dc:description/>
  <dc:language>en-US</dc:language>
  <cp:lastModifiedBy>user</cp:lastModifiedBy>
  <dcterms:modified xsi:type="dcterms:W3CDTF">2006-09-01T16:35:09Z</dcterms:modified>
  <cp:revision>11</cp:revision>
  <dc:subject/>
  <dc:title>Slide 1</dc:title>
</cp:coreProperties>
</file>