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EB9-B131-4AFB-9146-55350979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B22-ECE1-4299-BA5D-E7F52AA9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5CD-6933-4934-8674-54BB0515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01A-750A-4F8C-88EC-71D63FA2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1D9-D93B-49A7-B405-9C8ED197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B8B-2155-4E78-9AF7-0DEB0DB5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2C5-EFA6-45F8-AA04-33C2473D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599-EC24-462B-96AD-BE4B07B8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347-E379-4DE6-81D8-B6EFC26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C8D-9892-4AD9-A267-AD2A7E7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8D3-0580-4A81-8B69-25C8ED8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AB2-893D-43A8-883C-5C4E04C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FFCE-08B2-4E83-B8BD-28D7248A6B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752480"/>
            <a:ext cx="67341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مثل الإبن الشاطر رح إرجع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عندك يا هالناطر عا دروب المحبة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قدملك قلبي مثل الإبن الشاطر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عندك بخلص دربي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0" y="144792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غفر ربي بُعدي وانسى لي زل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حدك ربي قادر تِسرِقني من ذ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أعطني حبك دفيني بحنانك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سقيني نورك تَتشعشع حي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12:37Z</dcterms:created>
  <dc:creator>bhadad</dc:creator>
  <dc:description/>
  <dc:language>en-US</dc:language>
  <cp:lastModifiedBy>bhadad</cp:lastModifiedBy>
  <dcterms:modified xsi:type="dcterms:W3CDTF">2003-12-02T21:22:45Z</dcterms:modified>
  <cp:revision>6</cp:revision>
  <dc:subject/>
  <dc:title>Slide 1</dc:title>
</cp:coreProperties>
</file>