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72F-CCD7-4378-A1DF-CBD36D7A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30A-B661-453E-A7CD-74C9C0B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D79-4A89-46DC-BE7F-9A7F3769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7A5-1698-42D8-882F-01249E1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55D-471B-4FDC-AA82-382CC45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331-EA5A-4806-8423-3DF92187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813-2797-4B57-8C81-6726EF25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B6A-191C-463A-8FD6-BD30F7D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626-F5F2-4251-8701-4E02B41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CD-EA84-4150-8FD6-FC7F082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D20-C636-48AA-9A61-B3DA3A8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1D6-1A69-4B3B-B660-3BD851F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0A5-06D7-4326-BAE4-1198B74A441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-152280"/>
            <a:ext cx="3935520" cy="11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 يسوع بيدع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Christ_Coptic-Album.Com" descr="رب المجد يسوع المسيح"/>
          <p:cNvPicPr/>
          <p:nvPr/>
        </p:nvPicPr>
        <p:blipFill>
          <a:blip r:embed="rId3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307800"/>
            <a:ext cx="424044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حاضر عــم يحك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دي فــرصــة حــلـوي كت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ــلّـــي حــبــو يـكبر في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نـــت بـقـلـبـو تـصـير كـبــ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00600" y="307800"/>
            <a:ext cx="416412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إلـك أحـلــى رفيق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تـمـشــي مــعــو بــ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ـوي الـهـدف والطري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وى بـيـعـطـيــك 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-152280"/>
            <a:ext cx="408780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1:48:05Z</dcterms:created>
  <dc:creator>user</dc:creator>
  <dc:description/>
  <dc:language>en-US</dc:language>
  <cp:lastModifiedBy>user</cp:lastModifiedBy>
  <dcterms:modified xsi:type="dcterms:W3CDTF">2006-05-05T05:42:29Z</dcterms:modified>
  <cp:revision>18</cp:revision>
  <dc:subject/>
  <dc:title>Slide 1</dc:title>
</cp:coreProperties>
</file>