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094-24B7-42E7-ADA7-9859F715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434-C7B7-4230-9701-6737288E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FF4-7959-4E24-8E8A-E9FF4AC2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2FC-9162-4204-97EB-45192DDA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9E3-44A4-4D42-B041-D7E5233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AB7-1414-4CAF-9D67-C8BD74F8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591-1AF1-413A-B609-017D240E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B2D-2C3E-4E5B-AB21-22E9D210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398-E3FB-47C0-8354-9EDB531F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C9D-3C35-4313-9C87-8246858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084-384C-45CC-AE56-DB2CD734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759-AC43-4448-B914-4192F46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91FA-1994-49CD-AD03-83E5D68A6049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-685800"/>
            <a:ext cx="89154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 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1523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720" y="-76320"/>
            <a:ext cx="815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به يا بني  بالمس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ايمانك اوعا تز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مشي عا الدرب الصح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ل ع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0720" y="9684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ارك يا بني بجماعة 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راع الكلمة بشجاع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خدوم الإخوة بوداع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0720" y="-1219320"/>
            <a:ext cx="815364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ارك يا بني بالأسرار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إيمانك لا تحت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قرا إنجيلك بإستمر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1:47:49Z</dcterms:created>
  <dc:creator>user</dc:creator>
  <dc:description/>
  <dc:language>en-US</dc:language>
  <cp:lastModifiedBy>user</cp:lastModifiedBy>
  <dcterms:modified xsi:type="dcterms:W3CDTF">2006-05-12T05:39:00Z</dcterms:modified>
  <cp:revision>9</cp:revision>
  <dc:subject/>
  <dc:title>Slide 1</dc:title>
</cp:coreProperties>
</file>