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599-9035-4467-BB22-B5E2C6B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31F-1544-4200-AC33-D456CC3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6F7-4C00-45E0-9CCD-E400DE2B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CBB-6C20-4F7C-9300-82AA5891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63D-E8DC-410A-999A-BB6918D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AF6-8119-413F-966D-A566691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A85-A6E9-4768-85EA-6674B504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635-2A6E-4F1F-996F-6153459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A41-1FE7-4268-AD00-2E1A30F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2D0-3009-48DA-B661-D00F6D8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D9F-E0A4-4363-BA16-171C38A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31F-E811-45DB-A0FA-5EB49B6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109-E313-445E-A212-917EA425D57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59480" y="4097880"/>
            <a:ext cx="11264760" cy="1922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كر بللي جايي ... كمِّل لل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تلاقي البداية ... بالسما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89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06080" y="821520"/>
            <a:ext cx="60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لي شو ناط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ما تقلي بك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إيمانك قاد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ديس إنت تص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2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435960" y="380520"/>
            <a:ext cx="9915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درب السما مقشو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محبة كلو مزر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ضل مرافق يس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للسما يا خ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6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402800"/>
            <a:ext cx="106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درب القداسة مليانة مح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لو شفتا قاسية ما تفكر صع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30:56Z</dcterms:created>
  <dc:creator>user</dc:creator>
  <dc:description/>
  <dc:language>en-US</dc:language>
  <cp:lastModifiedBy>user</cp:lastModifiedBy>
  <dcterms:modified xsi:type="dcterms:W3CDTF">2006-09-01T13:41:35Z</dcterms:modified>
  <cp:revision>14</cp:revision>
  <dc:subject/>
  <dc:title>Slide 1</dc:title>
</cp:coreProperties>
</file>