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56F-FF44-4122-BD32-316CD3D8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CA3-4C98-454E-B763-104EA5BE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1EC-4DA1-457A-9C73-2D486F78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FC2-C17C-49C4-A2A8-0F5ABF12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C93-3A11-4741-A997-1EF09E1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E4A-6375-4BF1-B963-B32A3834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4C3-78E8-4451-8839-6A495AE4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428-3244-4EBF-9DF8-08D23F55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755-F2E0-4A2A-9F7D-9A212C25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32B-6C02-4461-BCE0-B5609553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CBA-CFF0-4C30-A33E-6AB587F3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6BF-4825-4AB3-B406-C9E129A9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788B-BB55-42C3-99C3-E41A00BCAA52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59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71800" y="83808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كعظيم رحمتكَ وكمثلِ رأفتك..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952880" y="533520"/>
            <a:ext cx="35816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محُ مآثمي يا الله..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692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04920" y="5486400"/>
            <a:ext cx="83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غسلني كثيراً من إثمي ومن خطيئتي طهر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876920" y="368280"/>
            <a:ext cx="406224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لأني أنا عا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بأثام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867280" y="457200"/>
            <a:ext cx="31766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كَ وحدكَ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خطئتُ..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الشرَّ قدامك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صنعتُ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يا الله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920" y="4343400"/>
            <a:ext cx="4495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رحمني يا الل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28600" y="4381560"/>
            <a:ext cx="838188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ا تطرحني من أمامِ وجهك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روحكَ القدوس لا تنزعه م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248520" y="1066680"/>
            <a:ext cx="28191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نجني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من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دماء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27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657600" y="762120"/>
            <a:ext cx="518148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لك يليق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مجدُ يا الل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رحمني يا الل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50:21Z</dcterms:created>
  <dc:creator>user</dc:creator>
  <dc:description/>
  <dc:language>en-US</dc:language>
  <cp:lastModifiedBy>user</cp:lastModifiedBy>
  <dcterms:modified xsi:type="dcterms:W3CDTF">2006-09-01T13:37:14Z</dcterms:modified>
  <cp:revision>9</cp:revision>
  <dc:subject/>
  <dc:title>Slide 1</dc:title>
</cp:coreProperties>
</file>