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A294-F346-4783-AEF4-A83E6A957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9AD9-F13D-4367-B436-9846AF42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71B1-7F5B-41C3-8944-630C072A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8C04-A501-4D3A-90CD-35867A31A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64C2-6823-43D2-AF79-DFF432C1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FDA4-3427-4EC6-82BB-6669AE0A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F849-C0C5-4630-AEE8-532046BC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A565-45C8-46AA-9797-9B5D096E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E839-6436-4295-A2E4-0480964F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991C-DD28-4FF8-96B4-5C4965BB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1B18-9AEB-4A59-9339-98AB6D6D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9566-AEB9-4B37-81B4-8CEFC129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B0E3-B789-4437-B16A-5800A5DE3A75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4191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377120" y="304920"/>
            <a:ext cx="1766880" cy="1904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228600"/>
            <a:ext cx="1908000" cy="2057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76720" y="-307800"/>
            <a:ext cx="4724280" cy="87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ل يستطيع الرب ب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  يصنـــع العجـــائ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إن طلبت تكريس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ل يستجيب الطلـ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عم نعم ... نعم يقول رب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قدسوا للعمل ... غداً سأعمل بك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ي وسطكم ... في وسطكم عجائب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-53352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41911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377120" y="304920"/>
            <a:ext cx="1766880" cy="1904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228600"/>
            <a:ext cx="1908000" cy="2057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76720" y="-307800"/>
            <a:ext cx="4724280" cy="87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هل يستطيع الرب أ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يقـدس ذا  الجسـ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مع  ضعفـه وإثمـ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بـه يحـل للمـد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عم نعم ... نعم يقول رب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قدسوا للعمل ... غداً سأعمل بك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ي وسطكم ... في وسطكم عجائب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41911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377120" y="304920"/>
            <a:ext cx="1766880" cy="1904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228600"/>
            <a:ext cx="1908000" cy="2057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76720" y="60480"/>
            <a:ext cx="4724280" cy="77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هل يستطيع الرب أ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يشـغل مـواهبـ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مقـدسـاً  عـواطف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لمجـد  من أحبنـ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عم نعم ... نعم يقول رب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قدسوا للعمل ... غداً سأعمل بك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ي وسطكم ... في وسطكم عجائب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22:55:05Z</dcterms:created>
  <dc:creator>user</dc:creator>
  <dc:description/>
  <dc:language>en-US</dc:language>
  <cp:lastModifiedBy>user</cp:lastModifiedBy>
  <dcterms:modified xsi:type="dcterms:W3CDTF">2006-05-05T05:44:03Z</dcterms:modified>
  <cp:revision>13</cp:revision>
  <dc:subject/>
  <dc:title>Slide 1</dc:title>
</cp:coreProperties>
</file>