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071-3CE8-4154-AE98-DB8DF921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E18-0D9E-49E1-99C1-857B64B3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E37-1B49-4A58-985A-6DCD139B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FC3-2935-4B4A-97BD-ABC9E02E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8DF-F1AC-4637-A850-C51C76A8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562-2064-4D53-A2F0-5FA91A03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17D-D52B-409D-885F-A19CD423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653-C327-4C0A-868D-BE4D5D19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6A6-2DED-46F4-BAB4-904E5ECD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F67-2EA3-48CA-8AB5-FCE182E8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81F-CBC8-402D-BFC9-04AAC0E4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773-9E87-419F-9199-2A574DEA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C995-37DC-447F-BCE8-10734DA72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4114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إليك يا رب العُلى، إسمع صلاتي</a:t>
            </a: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واستجب دُعاي</a:t>
            </a:r>
            <a:r>
              <a:rPr b="1" lang="ar-JO" sz="66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1" lang="ar-SA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47920"/>
              <a:ext cx="91440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934320" y="5181480"/>
            <a:ext cx="1904760" cy="1370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40384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68580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4572000"/>
            <a:ext cx="1905120" cy="1370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286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0920" y="2743200"/>
            <a:ext cx="2133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فجئت اليك قائلاً يا رب الحي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429000" y="45720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في وقت ضيقي بحثت عن النجا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87692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سمع صلاتي واستجب 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دعاي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3160" y="0"/>
            <a:ext cx="33908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4572000"/>
            <a:ext cx="1905120" cy="1370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286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50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آتـي اليك في هيكل قدسـك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2922480" cy="4191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21145200">
            <a:off x="3173400" y="481500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سمع صلاتي</a:t>
            </a:r>
            <a:r>
              <a:rPr b="1" lang="ar-JO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واستجب دعاي</a:t>
            </a:r>
            <a:r>
              <a:rPr b="1" lang="ar-JO" sz="4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523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وأجثو خاشعـاً أمـام عرش مجـدك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7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362320" y="5943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استج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ـ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 دُع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ـــ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ي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5486400"/>
            <a:ext cx="274320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77120" y="0"/>
            <a:ext cx="2666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ahoma"/>
              </a:rPr>
              <a:t>إني لرافعٌ، عينايَ إلى السماء، ويداي ممدودتان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0520" y="4876920"/>
            <a:ext cx="76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00"/>
                </a:solidFill>
                <a:latin typeface="Tahoma"/>
              </a:rPr>
              <a:t>إليك يا رب العُلى، إسمع صلاتي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58669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9900"/>
                </a:solidFill>
                <a:latin typeface="Arial"/>
              </a:rPr>
              <a:t>اسمع صلاتي واستجب دعاي</a:t>
            </a:r>
            <a:r>
              <a:rPr b="0" lang="ar-JO" sz="5400" spc="-1" strike="noStrike">
                <a:solidFill>
                  <a:srgbClr val="ff9900"/>
                </a:solidFill>
                <a:latin typeface="Arial"/>
              </a:rPr>
              <a:t>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800" y="0"/>
            <a:ext cx="93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ahoma"/>
              </a:rPr>
              <a:t>ربـي يسوعـي يا رب صخرتـي </a:t>
            </a:r>
            <a:r>
              <a:rPr b="1" lang="en-US" sz="4800" spc="-1" strike="noStrike">
                <a:solidFill>
                  <a:srgbClr val="ff9900"/>
                </a:solidFill>
                <a:latin typeface="Tahoma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00" y="3200400"/>
            <a:ext cx="1011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ahoma"/>
              </a:rPr>
              <a:t>عزّي و ترسـي عليك اتكل قلبـي </a:t>
            </a:r>
            <a:r>
              <a:rPr b="1" lang="en-US" sz="4800" spc="-1" strike="noStrike">
                <a:solidFill>
                  <a:srgbClr val="ff9900"/>
                </a:solidFill>
                <a:latin typeface="Tahoma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1447920"/>
              <a:ext cx="91440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781680" y="5072040"/>
            <a:ext cx="2057400" cy="1479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cc00"/>
                </a:solidFill>
                <a:latin typeface="Arial"/>
              </a:rPr>
              <a:t>إليك يا رب العُلى، إسمع صلاتي</a:t>
            </a:r>
            <a:r>
              <a:rPr b="1" lang="ar-SA" sz="4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cc00"/>
                </a:solidFill>
                <a:latin typeface="Arial"/>
              </a:rPr>
              <a:t>واستجب دُعاي</a:t>
            </a:r>
            <a:r>
              <a:rPr b="1" lang="ar-JO" sz="4400" spc="-1" strike="noStrike">
                <a:solidFill>
                  <a:srgbClr val="99cc00"/>
                </a:solidFill>
                <a:latin typeface="Arial"/>
              </a:rPr>
              <a:t>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966680" y="0"/>
            <a:ext cx="1274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cc00"/>
                </a:solidFill>
                <a:latin typeface="Tahoma"/>
              </a:rPr>
              <a:t>إني لرافعٌ، عينايَ إلى السماء، ويداي ممدودتان</a:t>
            </a:r>
            <a:r>
              <a:rPr b="1" lang="ar-SA" sz="4400" spc="-1" strike="noStrike">
                <a:solidFill>
                  <a:srgbClr val="99cc00"/>
                </a:solidFill>
                <a:latin typeface="Tahoma"/>
              </a:rPr>
              <a:t>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9:58:48Z</dcterms:created>
  <dc:creator>AMMCSKS</dc:creator>
  <dc:description/>
  <dc:language>en-US</dc:language>
  <cp:lastModifiedBy>user</cp:lastModifiedBy>
  <dcterms:modified xsi:type="dcterms:W3CDTF">2006-04-10T21:04:42Z</dcterms:modified>
  <cp:revision>33</cp:revision>
  <dc:subject/>
  <dc:title>Slide 1</dc:title>
</cp:coreProperties>
</file>