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5BF-F922-4CA1-A7CD-03FB5993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186-257E-4522-9821-BDC4E5D5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86F-C8F4-4390-A5DE-36A35C5E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4A5-CE26-4DC8-B2AB-E112BBEF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C87-69C0-4F08-9F07-12E0520D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974-CD7B-4CD7-A7F8-00011531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02E-41A0-46FF-8742-5F37CC2E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EB3-14CF-4D24-8C9F-89B3AFA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F6E-CFBA-445C-8A28-496DD66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804-23EE-412F-AF2E-F175D68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500-9246-42EC-A2C1-E40287A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BB4-04C2-494A-8FBD-E72AE68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6FF8-D737-4C07-8D1C-F6CEC9C1CF18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طوب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0"/>
            <a:ext cx="487656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غفرت معصيته وسترت خطيئ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تختاره وتقرِّب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طوبى طوبى لمن تختار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0"/>
            <a:ext cx="571500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حين سكتُّ بليت عظ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إلى الهشيم تحوَّل قلب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فأبحتكَ بجميع آث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أنتَ رفعتَ وزر خطيئت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6f7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544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593640"/>
            <a:ext cx="5562360" cy="84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إن طغى غمر الميا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ما استطاع أن يدرك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أنت ستري من الضيق تقيني وبترنيم النجاة تحيط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76320"/>
            <a:ext cx="5943600" cy="10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عودي يا نفسي إلى راحت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فإن الرب قد أحسن إل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أنه من الموت أنقذ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من الدمع مسح عين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8229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طوبى طوبى لمن غفرت معصيت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9:49Z</dcterms:created>
  <dc:creator>user</dc:creator>
  <dc:description/>
  <dc:language>en-US</dc:language>
  <cp:lastModifiedBy>user</cp:lastModifiedBy>
  <dcterms:modified xsi:type="dcterms:W3CDTF">2006-09-01T13:40:24Z</dcterms:modified>
  <cp:revision>9</cp:revision>
  <dc:subject/>
  <dc:title>Slide 1</dc:title>
</cp:coreProperties>
</file>