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75E1-839C-4AF0-89D9-DB800392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11A6-72E2-48FE-A26F-506F5A0D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981D-F88D-4E23-BD4A-181286B7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E7AA-B8B5-4E89-B410-0C3C98222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CC95-1D5E-49D2-9114-C7A1ECFB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525B-3740-4001-8178-AB6445AA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AF9D-D4F9-42E2-A0B6-84EC8017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D820-94BE-4F08-93D2-2DD9721D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6CCA-D3AF-4FBE-A1A0-2B4462F3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3C75-CCAD-49E8-8CA7-12235618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F7D1-A5A6-4CEF-8970-162324FD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5678-4715-4F6D-B36F-46F7B75C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443A-7D70-407C-A059-AF8758B27345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434360" y="4343400"/>
            <a:ext cx="1709640" cy="25146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1522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برفع اسمك وبصليلك </a:t>
            </a: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ربي بخشوع</a:t>
            </a:r>
            <a:br>
              <a:rPr sz="5000"/>
            </a:b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ولما بتحكيني بصغيلك، </a:t>
            </a: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ألبي إلك مرفو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533520" y="3048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6400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مهما وجود الشر بيبقى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 وجودك راح يحمينا</a:t>
            </a:r>
            <a:br>
              <a:rPr sz="5000"/>
            </a:b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مهما الموت علينا بيقسى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 روحك راح تحيين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انت الحق وانت النور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ضوي نورك فينا</a:t>
            </a:r>
            <a:br>
              <a:rPr sz="5000"/>
            </a:b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حتى اللي بالعتمة مغمور يعرف معنى النور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برفع اسمك وبصليلك </a:t>
            </a: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ربي بخشوع</a:t>
            </a:r>
            <a:br>
              <a:rPr sz="5000"/>
            </a:b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ولما بتحكيني بصغيلك،</a:t>
            </a: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 ألبي إلك مرفو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شربنا كلنا من هالكاس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دمك يا فادينا</a:t>
            </a:r>
            <a:br>
              <a:rPr sz="5000"/>
            </a:b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وصلينالك بالقداس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تقدسنا وتهدينا</a:t>
            </a:r>
            <a:r>
              <a:rPr b="0" lang="ar-SA" sz="5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بكرى لما نلاقي الناس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يشوفو وجك فينا</a:t>
            </a:r>
            <a:br>
              <a:rPr sz="5000"/>
            </a:b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ويفهموا انو الأساس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يبقى صوتك مسمو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برفع اسمك وبصليلك </a:t>
            </a: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ربي بخشوع</a:t>
            </a:r>
            <a:br>
              <a:rPr sz="5000"/>
            </a:b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ولما بتحكيني بصغيلك،</a:t>
            </a: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 ألبي إلك مرفو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08:29:49Z</dcterms:created>
  <dc:creator>user</dc:creator>
  <dc:description/>
  <dc:language>en-US</dc:language>
  <cp:lastModifiedBy>user</cp:lastModifiedBy>
  <dcterms:modified xsi:type="dcterms:W3CDTF">2006-05-05T05:41:40Z</dcterms:modified>
  <cp:revision>14</cp:revision>
  <dc:subject/>
  <dc:title>Slide 1</dc:title>
</cp:coreProperties>
</file>