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C19-E680-4723-93F2-78CAFE69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B42-E4CC-4240-9ECD-30C16472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04E-32BB-4F2C-94B6-B8DB0EC3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E00-6C5F-4006-A3F6-72A34283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4FB-8C42-4629-AECD-A2BDAEE6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A86-2929-4B33-8B98-E6310F89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021-5AF5-4941-8165-35083EC1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0B2-707E-4F72-87DC-381048FD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777-D1C4-4EC7-8223-6D716AAB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D18-75FC-4FF6-881E-0EF2C3E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A16-554C-4EAE-9C08-CEF5C1A8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F7D-3766-4416-9300-697389BE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547A-941E-4B72-A94A-6480EFBE50F3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82872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4140360" cy="6966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67360" y="42228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لا تخاف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أن توافو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67360" y="376236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لحِماه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طالب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03640" y="152280"/>
            <a:ext cx="41403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قد تل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ea typeface="Times New Roman (Arabic)"/>
              </a:rPr>
              <a:t> وتع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3922560"/>
            <a:ext cx="414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ما لنورها غر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611280"/>
            <a:ext cx="414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وهي قالت حين ن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3922560"/>
            <a:ext cx="414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فلتطوبني الشع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041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4000" y="476280"/>
            <a:ext cx="3429000" cy="448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قد دعاها واصطفا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335772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ce0000"/>
                </a:solidFill>
                <a:latin typeface="Times New Roman"/>
                <a:cs typeface="Times New Roman (Arabic)"/>
              </a:rPr>
              <a:t>ربُّ كل العالم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33520" y="1341360"/>
            <a:ext cx="444816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219320" cy="11001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76320"/>
            <a:ext cx="9144000" cy="6675480"/>
            <a:chOff x="0" y="76320"/>
            <a:chExt cx="9144000" cy="667548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137160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85800" y="3048120"/>
              <a:ext cx="160020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152280" y="4824360"/>
              <a:ext cx="2133720" cy="19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76320" y="76320"/>
              <a:ext cx="9144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7772400" y="685800"/>
              <a:ext cx="121932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8"/>
            <a:stretch/>
          </p:blipFill>
          <p:spPr>
            <a:xfrm>
              <a:off x="6858000" y="1828800"/>
              <a:ext cx="137160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9"/>
            <a:stretch/>
          </p:blipFill>
          <p:spPr>
            <a:xfrm>
              <a:off x="7543800" y="2971800"/>
              <a:ext cx="160020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0"/>
            <a:stretch/>
          </p:blipFill>
          <p:spPr>
            <a:xfrm>
              <a:off x="6934320" y="4778280"/>
              <a:ext cx="2133360" cy="192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934320" y="0"/>
            <a:ext cx="914400" cy="825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67360" y="115920"/>
            <a:ext cx="4868640" cy="228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ووقاها مذ براه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36360" y="836640"/>
            <a:ext cx="5113080" cy="228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ل محذور يش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4140360" cy="696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67360" y="422280"/>
            <a:ext cx="486864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هي رجاكم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في شقاك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67360" y="335772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فاسمع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يا مذنب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5-11T09:32:24Z</dcterms:modified>
  <cp:revision>95</cp:revision>
  <dc:subject/>
  <dc:title>PowerPoint Presentation</dc:title>
</cp:coreProperties>
</file>