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ED7-38A0-485B-A37A-C1C806DA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F0D-683A-4EF7-AD3C-81D4F38A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407-745D-4D02-9F44-9056DC39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A71-C974-4F0F-9654-1A638E46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00C-93D1-47FF-AE4A-73F6293E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294-18F0-4978-88D3-405EC3B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640-A5D6-49B7-940C-522795DD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940-80EB-4D00-AD49-BE0F2B9E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48E-9D8B-4E04-8F12-51BACD67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C0C-122A-48E8-B98F-B5E4DDC0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4E9-85F5-4E6E-AB84-D7BAE07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53F-2B87-46BD-A0D6-D1AE4568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9FA9-ACC3-42BC-9395-5268D47A4851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2210040" cy="16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2895840" cy="2322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2266920" cy="16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6094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05:56Z</dcterms:created>
  <dc:creator>user</dc:creator>
  <dc:description/>
  <dc:language>en-US</dc:language>
  <cp:lastModifiedBy>user</cp:lastModifiedBy>
  <dcterms:modified xsi:type="dcterms:W3CDTF">2006-05-05T05:41:26Z</dcterms:modified>
  <cp:revision>7</cp:revision>
  <dc:subject/>
  <dc:title>Slide 1</dc:title>
</cp:coreProperties>
</file>