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F05-F7A1-433E-A310-D2B58FC1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25A-70D5-46B8-A19B-306500F0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BE5-7505-4653-848D-2F7B41CD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750-B204-453F-A886-C9B2AB0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A9E-CE0A-4CB5-AD7B-9B332E3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71B-0D6D-4D39-BCF5-F4CB5E81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FD1-A4C6-4C58-8059-F7B54DB2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1AE-F4AC-4660-97E0-8B0558E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6D2-AF5D-4800-BCEF-768D711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711-5E1A-403C-A60A-85B4FCC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903-B341-4AB5-A1CB-BE02036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67E-04ED-482E-89AD-439EFE0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3D0-1BD6-401E-BE98-85B3F98B9DAB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4083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125360"/>
            <a:ext cx="324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8000" y="3867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125360"/>
            <a:ext cx="331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108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49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731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528624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3440" y="4516560"/>
            <a:ext cx="74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8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70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12-09T06:43:34Z</dcterms:modified>
  <cp:revision>144</cp:revision>
  <dc:subject/>
  <dc:title>PowerPoint Presentation</dc:title>
</cp:coreProperties>
</file>