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E26D-AC01-4597-BFD4-929E6F7B8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0A91-7161-4C59-B244-DE263A497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42A4-3797-405A-BB92-52A7BF5E2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D5BE-9A64-41C1-9D5A-D9C063B06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ABEC-0245-4557-8E01-D83EF4C78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F4D0-0BE7-416D-A738-4A64CDD69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64DB-6DB7-43C8-A955-B7A2937FB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81C5-DCE9-4592-B9B4-CED5ADAD5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E544-BE42-475F-B060-27F595010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85E2-ECC9-43D8-8DFB-428B63F77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920A-71BF-408E-ABA4-8008B4383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B777-664C-4B0B-88A9-2FF270796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860C6-FC4E-48F5-9001-29AB8E419A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257800" y="363600"/>
            <a:ext cx="3886200" cy="62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ahoma"/>
                <a:cs typeface="Tahoma"/>
              </a:rPr>
              <a:t>ليلة الميلا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ahoma"/>
                <a:cs typeface="Tahoma"/>
              </a:rPr>
              <a:t>يُمَّحى البغ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ahoma"/>
                <a:cs typeface="Tahoma"/>
              </a:rPr>
              <a:t>ليلة الميلا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ahoma"/>
                <a:cs typeface="Tahoma"/>
              </a:rPr>
              <a:t>تُزهِر الأر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ahoma"/>
                <a:cs typeface="Tahoma"/>
              </a:rPr>
              <a:t>ليلة الميلا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ahoma"/>
                <a:cs typeface="Tahoma"/>
              </a:rPr>
              <a:t>تُدفن الحر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ahoma"/>
                <a:cs typeface="Tahoma"/>
              </a:rPr>
              <a:t>ليلة الميلا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ahoma"/>
                <a:cs typeface="Tahoma"/>
              </a:rPr>
              <a:t>ينبت الحب</a:t>
            </a:r>
            <a:r>
              <a:rPr b="1" lang="ar-SA" sz="40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5257800" y="298440"/>
            <a:ext cx="3886200" cy="63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  <a:cs typeface="Tahoma"/>
              </a:rPr>
              <a:t>عندما نسقي عطشا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  <a:cs typeface="Tahoma"/>
              </a:rPr>
              <a:t>كأس ما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  <a:cs typeface="Tahoma"/>
              </a:rPr>
              <a:t>نكون في الميلا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  <a:cs typeface="Tahoma"/>
              </a:rPr>
              <a:t>عندما نكسي عريا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  <a:cs typeface="Tahoma"/>
              </a:rPr>
              <a:t>ثوب ح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  <a:cs typeface="Tahoma"/>
              </a:rPr>
              <a:t>نكون في الميلا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  <a:cs typeface="Tahoma"/>
              </a:rPr>
              <a:t>عندما نكفكف الدمو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  <a:cs typeface="Tahoma"/>
              </a:rPr>
              <a:t>في العيو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  <a:cs typeface="Tahoma"/>
              </a:rPr>
              <a:t>نكون في الميلا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  <a:cs typeface="Tahoma"/>
              </a:rPr>
              <a:t>عندما نفر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  <a:cs typeface="Tahoma"/>
              </a:rPr>
              <a:t>القلوب بالرجاء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  <a:cs typeface="Tahoma"/>
              </a:rPr>
              <a:t>نكون في الميلاد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410080" y="363600"/>
            <a:ext cx="3657600" cy="62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ahoma"/>
                <a:cs typeface="Tahoma"/>
              </a:rPr>
              <a:t>ليلة الميلا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ahoma"/>
                <a:cs typeface="Tahoma"/>
              </a:rPr>
              <a:t>يُمَّحى البغ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ahoma"/>
                <a:cs typeface="Tahoma"/>
              </a:rPr>
              <a:t>ليلة الميلا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ahoma"/>
                <a:cs typeface="Tahoma"/>
              </a:rPr>
              <a:t>تُزهِر الأر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ahoma"/>
                <a:cs typeface="Tahoma"/>
              </a:rPr>
              <a:t>ليلة الميلا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ahoma"/>
                <a:cs typeface="Tahoma"/>
              </a:rPr>
              <a:t>تُدفن الحر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ahoma"/>
                <a:cs typeface="Tahoma"/>
              </a:rPr>
              <a:t>ليلة الميلا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ahoma"/>
                <a:cs typeface="Tahoma"/>
              </a:rPr>
              <a:t>ينبت الحب</a:t>
            </a:r>
            <a:r>
              <a:rPr b="1" lang="ar-SA" sz="40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334120" y="304920"/>
            <a:ext cx="3809880" cy="63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  <a:cs typeface="Tahoma"/>
              </a:rPr>
              <a:t>عندما أقبّل رفيق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  <a:cs typeface="Tahoma"/>
              </a:rPr>
              <a:t>دون غ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  <a:cs typeface="Tahoma"/>
              </a:rPr>
              <a:t>أكون في الميلا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  <a:cs typeface="Tahoma"/>
              </a:rPr>
              <a:t>عندما تمو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  <a:cs typeface="Tahoma"/>
              </a:rPr>
              <a:t>روح الإنتقام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  <a:cs typeface="Tahoma"/>
              </a:rPr>
              <a:t>فيّ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  <a:cs typeface="Tahoma"/>
              </a:rPr>
              <a:t>أكون في الميلا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  <a:cs typeface="Tahoma"/>
              </a:rPr>
              <a:t>عندما يُرَمّ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  <a:cs typeface="Tahoma"/>
              </a:rPr>
              <a:t>في قلبي الجف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  <a:cs typeface="Tahoma"/>
              </a:rPr>
              <a:t>أكون في الميلا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  <a:cs typeface="Tahoma"/>
              </a:rPr>
              <a:t>عندما تذوب نفس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  <a:cs typeface="Tahoma"/>
              </a:rPr>
              <a:t>في كيان الل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  <a:cs typeface="Tahoma"/>
              </a:rPr>
              <a:t>أكون في الميلاد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410080" y="363600"/>
            <a:ext cx="3657600" cy="62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ahoma"/>
                <a:cs typeface="Tahoma"/>
              </a:rPr>
              <a:t>ليلة الميلا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ahoma"/>
                <a:cs typeface="Tahoma"/>
              </a:rPr>
              <a:t>يُمَّحى البغ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ahoma"/>
                <a:cs typeface="Tahoma"/>
              </a:rPr>
              <a:t>ليلة الميلا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ahoma"/>
                <a:cs typeface="Tahoma"/>
              </a:rPr>
              <a:t>تُزهِر الأر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ahoma"/>
                <a:cs typeface="Tahoma"/>
              </a:rPr>
              <a:t>ليلة الميلا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ahoma"/>
                <a:cs typeface="Tahoma"/>
              </a:rPr>
              <a:t>تُدفن الحر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ahoma"/>
                <a:cs typeface="Tahoma"/>
              </a:rPr>
              <a:t>ليلة الميلا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ahoma"/>
                <a:cs typeface="Tahoma"/>
              </a:rPr>
              <a:t>ينبت الحب</a:t>
            </a:r>
            <a:r>
              <a:rPr b="1" lang="ar-SA" sz="40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2T23:23:56Z</dcterms:created>
  <dc:creator>xp</dc:creator>
  <dc:description/>
  <dc:language>en-US</dc:language>
  <cp:lastModifiedBy>xp</cp:lastModifiedBy>
  <dcterms:modified xsi:type="dcterms:W3CDTF">2004-12-13T15:12:24Z</dcterms:modified>
  <cp:revision>16</cp:revision>
  <dc:subject/>
  <dc:title>Slide 1</dc:title>
</cp:coreProperties>
</file>