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2F5F-5A7B-46DD-BCBD-6EF79A4B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B84-680A-452F-90E3-22A04229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04E0-23BA-4EF1-ACBF-ECF2A770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33D-7D3B-45DD-A741-B5EA7AAA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2026-222C-49DD-9E61-30BF44A9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C0E6-48D3-4C8E-9C72-11CEA50B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65B-6CA7-40B3-A86A-E0A3FF52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075-06D4-49BF-BC91-85CFB567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462-83B9-4D43-9063-FCB3E630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6BE-9265-4F57-8EBE-29EA6D7C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6EE-E87D-4FCF-9516-AF29E12D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870-B027-4FC3-9429-E03DAE09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A7EF-0CC2-4FF8-B6D0-73F77A087104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49658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4572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طوب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0"/>
            <a:ext cx="487656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طوبى لمن غفرت معصيته وسترت خطيئت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طوبى لمن تختاره وتقرِّبه وفي ديارك تسكن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طوبى طوبى طوبى لمن تختاره وفي ديارك تسكن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73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29000" y="0"/>
            <a:ext cx="5715000" cy="9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حين سكتُّ بليت عظامي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إلى الهشيم تحوَّل قلب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فأبحتكَ بجميع آثامي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أنتَ رفعتَ وزر خطيئت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طوبى طوبى لمن غفرت معصيت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6f7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533520" y="0"/>
            <a:ext cx="544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33920" y="593640"/>
            <a:ext cx="5562360" cy="84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حتى إن طغى غمر المياه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لما استطاع أن يدرك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أنت ستري من الضيق تقيني وبترنيم النجاة تحيط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طوبى طوبى لمن غفرت معصيت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50720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29000" y="76320"/>
            <a:ext cx="5943600" cy="10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عودي يا نفسي إلى راحت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 فإن الرب قد أحسن إليكِ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لأنه من الموت أنقذ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 من الدمع مسح عينيكِ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715000"/>
            <a:ext cx="8229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طوبى طوبى لمن غفرت معصيت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1:59:49Z</dcterms:created>
  <dc:creator>user</dc:creator>
  <dc:description/>
  <dc:language>en-US</dc:language>
  <cp:lastModifiedBy>user</cp:lastModifiedBy>
  <dcterms:modified xsi:type="dcterms:W3CDTF">2006-09-01T13:40:24Z</dcterms:modified>
  <cp:revision>9</cp:revision>
  <dc:subject/>
  <dc:title>Slide 1</dc:title>
</cp:coreProperties>
</file>