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912-0547-4673-8920-66212CB1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601-98D4-431B-903B-F2FB2F8A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3A75-9629-494B-BD0D-00CCDB47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201-F482-4949-90E6-CB15D741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042-5478-4C3D-8A79-BAC52DE0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E00-4BB8-4278-A2C9-D81F6771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F3F8-AC5B-4B7E-82A7-62C41A8E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E1D-0137-4BC1-8D12-5A032AC8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572-589D-4088-B2C8-75800FBF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C02-1301-4FC7-B1EF-1CD86658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444-2C95-4660-8C4D-86B871CE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0E1-A777-49D5-B20C-40F5BA2A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94BD-1A34-400B-989F-0E35D9EAA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65040"/>
            <a:ext cx="42674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قلب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هيّ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غ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ر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عملّ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زي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شمس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نوّر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وملين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حر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304920"/>
            <a:ext cx="4724280" cy="710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ضلك طلّ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علي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ولا تكو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عنّي بعي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فرح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وجودك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في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ثل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ليالي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العي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365040"/>
            <a:ext cx="42674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قلب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هيّ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غ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ر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عملّ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زي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شمس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نوّر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وملين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حر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320" y="228600"/>
            <a:ext cx="4876560" cy="62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قياس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المح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نحب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بلا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قيا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خلي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يا ربي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تل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حبّ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النا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365040"/>
            <a:ext cx="42674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قلب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هيّ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غ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ر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عملّ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زي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شمس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نوّر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وملين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حر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19:42:40Z</dcterms:created>
  <dc:creator>Pere</dc:creator>
  <dc:description/>
  <dc:language>en-US</dc:language>
  <cp:lastModifiedBy>lab</cp:lastModifiedBy>
  <dcterms:modified xsi:type="dcterms:W3CDTF">2006-12-10T08:56:11Z</dcterms:modified>
  <cp:revision>6</cp:revision>
  <dc:subject/>
  <dc:title>Slide 1</dc:title>
</cp:coreProperties>
</file>