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A0C-8A96-4CDF-A1AB-D20CFD35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10BB-0C77-4D43-A8D9-2AEC4F78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491-7C13-4B67-982A-72496AA4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3FB-2E80-43F5-9023-6C34A6AB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0743-4470-4141-8F57-95B1B282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5992-4017-48BB-A134-4E96EEC6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806C-75D0-400B-B695-277E7B2A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A4D7-61C7-4045-B16C-A9AB3BC3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A5AC-912E-4DF5-82C7-EA74C4A2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0C4F-BAED-4D8B-8B7B-D9564204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CC10-A6DE-4E09-9C86-EEF9B71E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EE5-5106-447C-8B11-428BCB76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9912-C25F-40C0-8C5A-8D931809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DDF3-586F-4F24-996F-F8AB226F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318E-6E28-47AC-80F6-E60814F3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7E89-F5FC-4AE1-BCB2-1D1A008A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66EC-44FE-4EA7-A936-BE2CA49C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D9E-E027-41BC-A4BF-48B5443D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0E26-0250-4B20-9FB7-3617BEE7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E44-4CB6-4AB7-980F-1C178F8C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90D-4161-4EFB-9254-F2F3789F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127C-E0FB-4935-A0DF-128108A8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0C00-AB91-4D2D-9A37-57E1C9CF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9DF2-0581-4290-91DC-F3A77DE6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14AE-61F2-4912-8BFC-0FE5E1FCA428}" type="slidenum">
              <a:rPr b="0" lang="ar-JO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C0D9-2172-4CDE-B201-B5841434C623}" type="slidenum">
              <a:rPr b="0" lang="ar-JO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973080" y="321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262080"/>
            <a:ext cx="8496000" cy="6335640"/>
          </a:xfrm>
          <a:custGeom>
            <a:avLst/>
            <a:gdLst>
              <a:gd name="textAreaLeft" fmla="*/ 1996560 w 8496000"/>
              <a:gd name="textAreaRight" fmla="*/ 6493320 w 8496000"/>
              <a:gd name="textAreaTop" fmla="*/ 744840 h 6335640"/>
              <a:gd name="textAreaBottom" fmla="*/ 3974040 h 6335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87280" y="1119240"/>
            <a:ext cx="662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0" spc="-1" strike="noStrike">
                <a:solidFill>
                  <a:srgbClr val="000000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12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1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90560" y="843120"/>
            <a:ext cx="73454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لوين مكفّي وحدك بهالدرب                                 ضايع عم تسأل عن درب الحب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0" y="3716280"/>
            <a:ext cx="734544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تعا تنمشي سوا صوب الرب                               بحب وثقة ملوى القل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r>
              <a:rPr b="1" lang="ar-SA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                  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1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90560" y="84312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تخاف تسلّم حالك ليسوع                                سلّمو قلبك بلا رجوع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4920" y="371628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تخاف ع حالك بين ايديه                                قلبو أحنّ من قلب البي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2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987640" y="476280"/>
            <a:ext cx="5832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طريق زغير وحب كبير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989000"/>
            <a:ext cx="53276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هيدا هوّي درب الر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3500280"/>
            <a:ext cx="4753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دّو أعمال كتير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504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بدّو منّك قلب يحب</a:t>
            </a:r>
            <a:r>
              <a:rPr b="1" lang="ar-JO" sz="7000" spc="-1" strike="noStrike">
                <a:solidFill>
                  <a:srgbClr val="eaeaea"/>
                </a:solidFill>
                <a:latin typeface="Arial"/>
                <a:ea typeface="DecoType Naskh"/>
              </a:rPr>
              <a:t> 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90560" y="84312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ما بيهم كم باب دقّيت                                       ولا كم حلم تمنيت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0" y="3716280"/>
            <a:ext cx="734544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eaeaea"/>
                </a:solidFill>
                <a:latin typeface="Arial"/>
                <a:cs typeface="DecoType Naskh"/>
              </a:rPr>
              <a:t>انت بقلبو حلم قديم                                          يدلّك ع دروب الحياة</a:t>
            </a:r>
            <a:endParaRPr b="0" lang="en-US" sz="7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6200" y="117360"/>
            <a:ext cx="1513080" cy="1656000"/>
          </a:xfrm>
          <a:prstGeom prst="star5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Verdana"/>
              </a:rPr>
              <a:t>3</a:t>
            </a:r>
            <a:endParaRPr b="0" lang="en-US" sz="6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22:12:43Z</dcterms:created>
  <dc:creator>Kalisse</dc:creator>
  <dc:description/>
  <dc:language>en-US</dc:language>
  <cp:lastModifiedBy>user</cp:lastModifiedBy>
  <dcterms:modified xsi:type="dcterms:W3CDTF">2006-05-05T05:42:44Z</dcterms:modified>
  <cp:revision>52</cp:revision>
  <dc:subject/>
  <dc:title>Slide 1</dc:title>
</cp:coreProperties>
</file>