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771-AAC7-4FB7-854B-486DE9D2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158-991A-4137-BB6A-CA8718A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430-B3A9-47A1-976E-78BA6D6D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F89-B10C-476F-9301-1D461D58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BCD-BBDC-45B9-A9C6-077E370C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447-DD9E-4B5F-A13F-7076D1B3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DFC-695C-4899-B82F-B1C4DE6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D1E-60C4-4852-B22B-6CC7CD8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C1B-D5EF-483B-A21F-5DCB702E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BAF-3DA7-4EF3-8B16-9B240B7C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408-192D-4A4C-B555-FE4EBAB8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426-A147-4A0A-ADCD-F45A7E0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83BC-D836-4961-8508-068166DEA644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-152280"/>
            <a:ext cx="3935520" cy="11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 يسوع بيدعي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Christ_Coptic-Album.Com" descr="رب المجد يسوع المسيح"/>
          <p:cNvPicPr/>
          <p:nvPr/>
        </p:nvPicPr>
        <p:blipFill>
          <a:blip r:embed="rId3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24280" y="307800"/>
            <a:ext cx="424044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حاضر عــم يحك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يدي فــرصــة حــلـوي كت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خــلّـــي حــبــو يـكبر في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نـــت بـقـلـبـو تـصـير كـبــ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00600" y="307800"/>
            <a:ext cx="416412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إلـك أحـلــى رفيق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تـمـشــي مــعــو بــ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ـوي الـهـدف والطري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وى بـيـعـطـيــك 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-152280"/>
            <a:ext cx="4087800" cy="10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1:48:05Z</dcterms:created>
  <dc:creator>user</dc:creator>
  <dc:description/>
  <dc:language>en-US</dc:language>
  <cp:lastModifiedBy>user</cp:lastModifiedBy>
  <dcterms:modified xsi:type="dcterms:W3CDTF">2006-05-05T05:42:29Z</dcterms:modified>
  <cp:revision>18</cp:revision>
  <dc:subject/>
  <dc:title>Slide 1</dc:title>
</cp:coreProperties>
</file>