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82C-3439-4FF4-AFBB-F79D6775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A6E-1D25-4BD6-9BCB-AAA096C0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BA0-5883-45FA-822C-0FA22BFA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0BC-6A4D-4CCC-90B5-09119E8B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DBC0-9657-406D-8463-06D79EB5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0FC-CE1F-46B8-9C0F-A14FF07D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96E-7BE2-4405-83EB-67FE9260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BEF-3821-493D-A337-DF48E3FB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A01-6B70-4DE3-A97B-1693CD9C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F6B-D36B-4FFF-9AF7-7669BACD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D83-53AB-4187-BE1F-1CA5DD06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E908-4DD5-4AFE-9E5A-69DBA7D3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DC5D-20ED-4409-8819-861B3938A101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29200" y="-152280"/>
            <a:ext cx="3935520" cy="11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 يسوع بيدعي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ـمـا يـســوع بـيـدعـيــك         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لبي نـداءو على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لى لــقــاء بـــلاقـيـــك                 تيصير فرحك ع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ت كمان فيـك تكون قدي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9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Christ_Coptic-Album.Com" descr="رب المجد يسوع المسيح"/>
          <p:cNvPicPr/>
          <p:nvPr/>
        </p:nvPicPr>
        <p:blipFill>
          <a:blip r:embed="rId3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724280" y="307800"/>
            <a:ext cx="4240440" cy="10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سوع حاضر عــم يحك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يدي فــرصــة حــلـوي كت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خــلّـــي حــبــو يـكبر فيك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وانـــت بـقـلـبـو تـصـير كـبــ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إنت كمان فيـك تكون قد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Christ_Coptic-Album.Com" descr="رب المجد يسوع المسيح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800600" y="307800"/>
            <a:ext cx="4164120" cy="10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سوع إلـك أحـلــى رفيق  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تـمـشــي مــعــو بــالــحـيا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ـــوي الـهـدف والطري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ــوى بـيـعـطـيــك الــحـيا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إنت كمان فيـك تكون قدي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Christ_Coptic-Album.Com" descr="رب المجد يسوع المسيح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876920" y="-152280"/>
            <a:ext cx="4087800" cy="10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ـمـا يـســوع بـيـدعـيــك         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لبي نـداءو على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لى لــقــاء بـــلاقـيـــك                 تيصير فرحك ع ط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ـا تخاف كل قـلـبـك تـعـطيه        الـسـمـا هـديـه عم يعطي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ــل لحظة بيندهـلـك بـقــول      </a:t>
            </a:r>
            <a:r>
              <a:rPr b="1" lang="ar-JO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ت كمان فيـك تكون قدي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hrist_Coptic-Album.Com" descr="رب المجد يسوع المسيح"/>
          <p:cNvPicPr/>
          <p:nvPr/>
        </p:nvPicPr>
        <p:blipFill>
          <a:blip r:embed="rId2"/>
          <a:stretch/>
        </p:blipFill>
        <p:spPr>
          <a:xfrm>
            <a:off x="0" y="0"/>
            <a:ext cx="4819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1:48:05Z</dcterms:created>
  <dc:creator>user</dc:creator>
  <dc:description/>
  <dc:language>en-US</dc:language>
  <cp:lastModifiedBy>user</cp:lastModifiedBy>
  <dcterms:modified xsi:type="dcterms:W3CDTF">2006-05-05T05:42:29Z</dcterms:modified>
  <cp:revision>18</cp:revision>
  <dc:subject/>
  <dc:title>Slide 1</dc:title>
</cp:coreProperties>
</file>