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E0CB-DC84-497B-AD94-ADDD2E348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481B-792A-498C-8C3D-471A5E19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0B33-BC48-4C83-9392-083D4F573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E76B-0258-4411-82FE-1FEA137B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2E60-E712-4329-8F9A-6F458F92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E334-4FBD-4108-B8B1-CDB37DEF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C09C-F14F-4F0A-AFA6-BA2CB0E9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E558-F6EC-4FB4-9B73-294509D0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BFE6-A9CD-4497-B330-EECB7D21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1077-9974-4BE4-BEA5-23D31818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AD0D-85FC-484D-8D6B-AEC8DE76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68C8-C267-4A86-AA88-6E600768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E4EC-B642-412F-BD44-A181F6BE1429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3821040" cy="4495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518640" y="4997160"/>
            <a:ext cx="61884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Arial"/>
              </a:rPr>
              <a:t>اسمع صراخي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99072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سمع صراخي يا سيدي، وإلى صلاتي أمل أذني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3084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34120" y="533520"/>
            <a:ext cx="2819160" cy="9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إرحمني وامسك بيدي..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أنا في حاجة شديدة إليك</a:t>
            </a:r>
            <a:r>
              <a:rPr b="1" lang="ar-JO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8600" y="533520"/>
            <a:ext cx="8610480" cy="2361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Arial"/>
              </a:rPr>
              <a:t>بصوتِ الحمدِ أذبحُ لك، وأعودُ أنظر هيكلكَ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Arial"/>
              </a:rPr>
              <a:t>لأنكَ استجبتَ لي... كلُّ ما فيَّ يشكر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28600" y="533520"/>
            <a:ext cx="8610480" cy="2361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Arial"/>
              </a:rPr>
              <a:t>بصوتِ الحمدِ أذبحُ لك، وأعودُ أنظر هيكلكَ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Arial"/>
              </a:rPr>
              <a:t>لأنكَ استجبتَ لي... كلُّ ما فيَّ يشكر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3821040" cy="4495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518640" y="4997160"/>
            <a:ext cx="61884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Arial"/>
              </a:rPr>
              <a:t>اسمع صراخي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99072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سمع صراخي يا سيدي، وإلى صلاتي أمل أذني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3084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334120" y="533520"/>
            <a:ext cx="2819160" cy="9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إرحمني وامسك بيدي..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أنا في حاجة شديدة إليك</a:t>
            </a:r>
            <a:r>
              <a:rPr b="1" lang="ar-JO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308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4120" y="533520"/>
            <a:ext cx="2819160" cy="9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إرحمني وامسك بيدي..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أنا في حاجة شديدة إليك</a:t>
            </a:r>
            <a:r>
              <a:rPr b="1" lang="ar-JO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200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943600" y="746280"/>
            <a:ext cx="2895480" cy="80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500" spc="-1" strike="noStrike">
                <a:solidFill>
                  <a:srgbClr val="ffffff"/>
                </a:solidFill>
                <a:latin typeface="Arial"/>
              </a:rPr>
              <a:t>جازت من فوقي تيارات وأغرقتني الضيقات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990720" y="76320"/>
            <a:ext cx="101347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2280" y="228600"/>
            <a:ext cx="9372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Arial"/>
              </a:rPr>
              <a:t>والعشب التفَّ برأسي والماء عبر إلى نفس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3821040" cy="4495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518640" y="4997160"/>
            <a:ext cx="61884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Arial"/>
              </a:rPr>
              <a:t>اسمع صراخي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99072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سمع صراخي يا سيدي، وإلى صلاتي أمل أذني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308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34120" y="533520"/>
            <a:ext cx="2819160" cy="9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إرحمني وامسك بيدي..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أنا في حاجة شديدة إليك</a:t>
            </a:r>
            <a:r>
              <a:rPr b="1" lang="ar-JO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029200" y="457200"/>
            <a:ext cx="3581280" cy="70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500" spc="-1" strike="noStrike">
                <a:solidFill>
                  <a:srgbClr val="ffffff"/>
                </a:solidFill>
                <a:latin typeface="Arial"/>
              </a:rPr>
              <a:t>صلى يونان من جوف الحوت، أصدرتَ أمراً ألا يموت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762012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380988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3520" y="22860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cc00"/>
                </a:solidFill>
                <a:latin typeface="Arial"/>
              </a:rPr>
              <a:t>من جوف الهاوية صرخ، وبالمراحم سمعت الصو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3821040" cy="4495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518640" y="4997160"/>
            <a:ext cx="61884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Arial"/>
              </a:rPr>
              <a:t>اسمع صراخي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99072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سمع صراخي يا سيدي، وإلى صلاتي أمل أذني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12:07:40Z</dcterms:created>
  <dc:creator>user</dc:creator>
  <dc:description/>
  <dc:language>en-US</dc:language>
  <cp:lastModifiedBy>user</cp:lastModifiedBy>
  <dcterms:modified xsi:type="dcterms:W3CDTF">2006-09-01T13:39:13Z</dcterms:modified>
  <cp:revision>15</cp:revision>
  <dc:subject/>
  <dc:title>Slide 1</dc:title>
</cp:coreProperties>
</file>