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DC2-3174-4FF3-9946-C74850AF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40C-A46F-438E-97C3-8074FF4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4A8-DC3F-4840-A7DC-D6726649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86B-0DAB-43DF-8A3B-A459DD7D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7E6-B2F7-4313-8493-7803103A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2EC-EAD8-4A3E-881D-5452653D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AEB-0DD1-466F-884D-C793AA2B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890-8E66-4C57-B6E5-74076ED5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F03-9455-4E01-AE02-DA01D69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572-830C-42D1-A4AB-A96D4E4C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EAD-49D9-46A1-A013-882869C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A35-714D-4C38-B462-6D8F69E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93C-1AFE-480D-961E-BDC8D84D8DF9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-228600"/>
            <a:ext cx="815328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فن المح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أحلى طري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للوحدة بين الجم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هي نقاط مهمّة كث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تنحب ودايماً من جد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ar-JO" sz="4000" spc="-1" strike="noStrike">
                <a:solidFill>
                  <a:srgbClr val="000000"/>
                </a:solidFill>
                <a:latin typeface="Tahoma"/>
                <a:cs typeface="Tahoma"/>
              </a:rPr>
              <a:t>هاي هاي هاي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-228600"/>
            <a:ext cx="5715000" cy="12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ينا نشوف يسو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كلّ النا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نحب الكل مهما ك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لازم من عِنّا تبد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لوحدة دايماً هدف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228600"/>
            <a:ext cx="5181480" cy="13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حتى الأعداء لازم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ل واحد مثل نفسنا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بتحمل فرح ج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سعادة إلنا وللجمي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3:36:34Z</dcterms:created>
  <dc:creator>user</dc:creator>
  <dc:description/>
  <dc:language>en-US</dc:language>
  <cp:lastModifiedBy>user</cp:lastModifiedBy>
  <dcterms:modified xsi:type="dcterms:W3CDTF">2006-05-05T05:41:18Z</dcterms:modified>
  <cp:revision>9</cp:revision>
  <dc:subject/>
  <dc:title>Slide 1</dc:title>
</cp:coreProperties>
</file>