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43F-A9FA-4B93-9211-010714A9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8B6-0511-41B0-8E93-05EA786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3D5-5A57-4785-B07A-25C34E8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2A9-FFFD-42C5-8BB2-C47BDCBA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BB2-0271-4556-9E82-D8D13C40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CEE-08B9-436D-AE55-A2236491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B62-30FA-4081-BB33-14586488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D90-C87B-4965-9141-CB24131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810-B385-419E-A5EA-975913C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D33-8892-40CB-B68B-77D3357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E76-CD8A-4DE5-8DC6-965787C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7C3-21E6-4653-8EED-91ED081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B9E-4469-4100-8CB3-F7FE7894C0DA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4360" y="43434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وجود الشر بيبق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وجودك راح يحم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الموت علينا بيقس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روحك راح تحيي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انت الحق وانت النور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ضوي نور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اللي بالعتمة مغمور يعرف معنى النو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شربنا كلنا من هالك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دمك يا فاد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صلينالك بالقد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تقدسنا وتهدينا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بكرى لما نلاقي الن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شوفو وج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يفهموا انو الأس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بقى صوتك مسم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8:29:49Z</dcterms:created>
  <dc:creator>user</dc:creator>
  <dc:description/>
  <dc:language>en-US</dc:language>
  <cp:lastModifiedBy>user</cp:lastModifiedBy>
  <dcterms:modified xsi:type="dcterms:W3CDTF">2006-05-05T05:41:40Z</dcterms:modified>
  <cp:revision>14</cp:revision>
  <dc:subject/>
  <dc:title>Slide 1</dc:title>
</cp:coreProperties>
</file>