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578B-2879-4509-AD9D-93654B5CD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B93C-2F18-49A7-B8AE-835F0B0C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AEF7-A910-49F4-ACC3-124CA3B77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E7EA-36FA-4199-807F-6D3EEBEBB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3AAE-B196-4D01-A098-5469EE5A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B6D9-B22D-408C-B063-87A0F028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A6F4-79C7-44B2-B2CF-49DC4141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925D-C134-4FA2-B61F-BFBB536D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73E3-31D0-4677-9429-3C10265C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5EA0-B740-416F-B468-8B7F26C7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07A1-45AA-4814-9FBF-880DB0B7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ECCF-32A8-4B4A-B189-099D317D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26CC-3B84-44CB-9A03-F35E1CBE1A7B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434360" y="4343400"/>
            <a:ext cx="1709640" cy="25146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1522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برفع اسمك وبصليلك </a:t>
            </a:r>
            <a:br>
              <a:rPr sz="5000"/>
            </a:b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ربي بخشوع</a:t>
            </a:r>
            <a:br>
              <a:rPr sz="5000"/>
            </a:br>
            <a:br>
              <a:rPr sz="5000"/>
            </a:b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ولما بتحكيني بصغيلك، </a:t>
            </a:r>
            <a:br>
              <a:rPr sz="5000"/>
            </a:b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ألبي إلك مرفوع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533520" y="3048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6400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مهما وجود الشر بيبقى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 وجودك راح يحمينا</a:t>
            </a:r>
            <a:br>
              <a:rPr sz="5000"/>
            </a:b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مهما الموت علينا بيقسى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 روحك راح تحيين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انت الحق وانت النور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ضوي نورك فينا</a:t>
            </a:r>
            <a:br>
              <a:rPr sz="5000"/>
            </a:b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حتى اللي بالعتمة مغمور يعرف معنى النور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برفع اسمك وبصليلك </a:t>
            </a:r>
            <a:br>
              <a:rPr sz="5000"/>
            </a:b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ربي بخشوع</a:t>
            </a:r>
            <a:br>
              <a:rPr sz="5000"/>
            </a:br>
            <a:br>
              <a:rPr sz="5000"/>
            </a:b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ولما بتحكيني بصغيلك،</a:t>
            </a:r>
            <a:br>
              <a:rPr sz="5000"/>
            </a:b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 ألبي إلك مرفوع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شربنا كلنا من هالكاس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دمك يا فادينا</a:t>
            </a:r>
            <a:br>
              <a:rPr sz="5000"/>
            </a:b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وصلينالك بالقداس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تقدسنا وتهدينا</a:t>
            </a:r>
            <a:r>
              <a:rPr b="0" lang="ar-SA" sz="5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بكرى لما نلاقي الناس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يشوفو وجك فينا</a:t>
            </a:r>
            <a:br>
              <a:rPr sz="5000"/>
            </a:b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ويفهموا انو الأساس </a:t>
            </a:r>
            <a:br>
              <a:rPr sz="5000"/>
            </a:br>
            <a:r>
              <a:rPr b="1" lang="ar-SA" sz="5000" spc="-1" strike="noStrike">
                <a:solidFill>
                  <a:srgbClr val="000000"/>
                </a:solidFill>
                <a:latin typeface="Arial"/>
              </a:rPr>
              <a:t>يبقى صوتك مسموع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برفع اسمك وبصليلك </a:t>
            </a:r>
            <a:br>
              <a:rPr sz="5000"/>
            </a:b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ربي بخشوع</a:t>
            </a:r>
            <a:br>
              <a:rPr sz="5000"/>
            </a:br>
            <a:br>
              <a:rPr sz="5000"/>
            </a:b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ولما بتحكيني بصغيلك،</a:t>
            </a:r>
            <a:br>
              <a:rPr sz="5000"/>
            </a:br>
            <a:r>
              <a:rPr b="1" lang="ar-JO" sz="5000" spc="-1" strike="noStrike">
                <a:solidFill>
                  <a:srgbClr val="000000"/>
                </a:solidFill>
                <a:latin typeface="Arial"/>
              </a:rPr>
              <a:t> ألبي إلك مرفوع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08:29:49Z</dcterms:created>
  <dc:creator>user</dc:creator>
  <dc:description/>
  <dc:language>en-US</dc:language>
  <cp:lastModifiedBy>user</cp:lastModifiedBy>
  <dcterms:modified xsi:type="dcterms:W3CDTF">2006-05-05T05:41:40Z</dcterms:modified>
  <cp:revision>14</cp:revision>
  <dc:subject/>
  <dc:title>Slide 1</dc:title>
</cp:coreProperties>
</file>