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515-BFD8-4BC1-A9D7-54BB6418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385-2AF2-420A-ACA1-CA235360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E14-283D-42A4-93A1-2962AB60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285-96C0-4DD9-846C-88887E49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423-CD9B-4060-8645-6119E841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9A2-6719-4C91-81B8-8CF5E38B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3FB-D2AD-49D7-B9B2-5A7545F1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9099-28EC-41D0-AC62-86A6B455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5E2-68E2-4573-BC2C-B2BFA4E6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B43-7D79-4730-98B4-A1DFDF24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7F4-D28F-441A-8D0A-C07B2B28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1D2-0C25-47FC-9A65-E48C0B05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3E4C-4EA9-4C38-9D97-003BA6066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57800" y="363600"/>
            <a:ext cx="388620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ُمَّحى البغ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زهِر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دفن الح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نبت الحب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257800" y="298440"/>
            <a:ext cx="3886200" cy="63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سقي عطش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كأس م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كسي عري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ثوب ح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كفكف الدم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 الع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فر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القلوب بالرجاء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10080" y="363600"/>
            <a:ext cx="365760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ُمَّحى البغ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زهِر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دفن الح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نبت الحب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4120" y="304920"/>
            <a:ext cx="3809880" cy="63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أقبّل رفي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دون غ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تمو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روح الإنتقام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ّ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يُرَمّ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 قلبي الجف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تذوب نفس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 كيان ال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410080" y="363600"/>
            <a:ext cx="365760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ُمَّحى البغ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زهِر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دفن الح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نبت الحب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23:23:56Z</dcterms:created>
  <dc:creator>xp</dc:creator>
  <dc:description/>
  <dc:language>en-US</dc:language>
  <cp:lastModifiedBy>xp</cp:lastModifiedBy>
  <dcterms:modified xsi:type="dcterms:W3CDTF">2004-12-13T15:12:24Z</dcterms:modified>
  <cp:revision>16</cp:revision>
  <dc:subject/>
  <dc:title>Slide 1</dc:title>
</cp:coreProperties>
</file>