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A68-546A-4A3B-8160-319AC2D9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F361-572F-4881-B601-4E8690CF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040-48CA-4402-83BD-3536EDF2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5E6-93B3-48C1-AEE2-194825C6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4C9-E82B-4CCB-8F22-9B129043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5703-40EA-405C-89AA-7C0D1527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D76-C06B-488C-A80E-444FE76B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7D9-05FC-472B-AA07-AB6C332B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477-8ED8-4D51-91C4-2027B963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38F-767B-41BB-A46E-176B8DC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AE8-EF7A-4188-A347-EBF3089D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764-D917-4F53-9EAB-825FB009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ECD3-7BF6-4EB7-B3ED-6C718CC183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752480"/>
            <a:ext cx="673416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مثل الإبن الشاطر رح إرجع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عندك يا هالناطر عا دروب المحبة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قدملك قلبي مثل الإبن الشاطر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عندك بخلص دربي يا رب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0" y="1447920"/>
            <a:ext cx="6324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غفر ربي بُعدي وانسى لي زل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حدك ربي قادر تِسرِقني من ذ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أعطني حبك دفيني بحنانك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إسقيني نورك تَتشعشع حياتي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362320" y="1219320"/>
            <a:ext cx="64483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( 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لا ما بدي الولايم</a:t>
            </a: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،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ولا لبس الخواتم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بدي قلبك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يا ربي يا حبيبي ) 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11480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( 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2</a:t>
            </a:r>
            <a:r>
              <a:rPr b="1" lang="ar-LB" sz="4000" spc="-1" strike="noStrike">
                <a:solidFill>
                  <a:srgbClr val="993300"/>
                </a:solidFill>
                <a:latin typeface="Arial"/>
                <a:ea typeface="Simplified Arabic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11:12:37Z</dcterms:created>
  <dc:creator>bhadad</dc:creator>
  <dc:description/>
  <dc:language>en-US</dc:language>
  <cp:lastModifiedBy>bhadad</cp:lastModifiedBy>
  <dcterms:modified xsi:type="dcterms:W3CDTF">2003-12-02T21:22:45Z</dcterms:modified>
  <cp:revision>6</cp:revision>
  <dc:subject/>
  <dc:title>Slide 1</dc:title>
</cp:coreProperties>
</file>