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6E2-C10F-43C0-94CE-7121319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7AB-0498-4B8E-A3FF-F6352A8A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67F7-B016-448D-A3AA-ED57EF9D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BE9-DE2B-4E7F-9A2D-FC89B360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C18-2C8F-473B-BA3D-0AA177C56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587-9122-4B52-A0AE-85B18FF0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B2F-3A26-4D57-9025-07AC853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00B-C894-434E-8799-E69CC53E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BC9-8350-4021-8901-D1DF5D3D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B7A-420E-4F50-80B7-D594CA9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46C-35FC-4900-A52A-F52B58C2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321-3E3F-4902-8B9F-74091A3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B6D5-84E6-41BF-AE86-0FE0CB2EFF39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20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520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724280" y="609480"/>
            <a:ext cx="426744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 لا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إن كان الآب يمنحني الغفر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لا أعلن توب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هو يشاءُ خلاصَ الإنسان،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ماذا أعمل بمشيئتي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262160" y="3657600"/>
            <a:ext cx="66196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سارَ أمامي ليعطيني الرجاء، لماذا أتبع شريع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اتَ وقامَ ليعطيني الحياة، لمَِ أموتُ في خطيئ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4495680"/>
            <a:ext cx="8001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إن كان الآب ينبوع الأمان، لماذا لا أسرع وأستق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لِمَ لا أرجع إليه الآن، فالوقتُ ضائعٌ في غرب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990720" y="4267080"/>
            <a:ext cx="6943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ضمَّ أوجاعي بين ساعديه، لِمَ أضيعُ سعاد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رسلني لأنشرَ السلام، لِمَ لا أبدءُ بخطو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995400" y="4838760"/>
            <a:ext cx="715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إن كان يحملُ عني الأعباء، لماذا أنحني بأثقال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أعدَّ لي جسراً نحو السماء، لا لن أموتَ في خطيئتي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01:16Z</dcterms:created>
  <dc:creator>user</dc:creator>
  <dc:description/>
  <dc:language>en-US</dc:language>
  <cp:lastModifiedBy>user</cp:lastModifiedBy>
  <dcterms:modified xsi:type="dcterms:W3CDTF">2006-09-01T16:35:09Z</dcterms:modified>
  <cp:revision>11</cp:revision>
  <dc:subject/>
  <dc:title>Slide 1</dc:title>
</cp:coreProperties>
</file>