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C382-6B77-4884-89CE-581AB3FE2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0AA8-A595-42C1-B7E3-DE824FC72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E790-0034-45BD-8026-CDE335BBC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2698-0D8D-42F8-B116-CC549CEC7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9B96-813E-4AB3-9CDF-56B9987A3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08E7-897B-457C-9195-D1FFD4880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AF5E-7BF2-4238-BE97-ED39C7D8D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001F-C500-479D-ADBA-AA8C20B4C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1633-C4CF-4F4C-8A82-CAB04CB44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AA7B-CF7C-4469-8FDB-0C455FE1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387F-4983-419A-8431-94699688A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D0B4-7318-4DD2-AC44-60B76027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C1F20-30C5-4430-B8EF-FE7065936BB8}" type="slidenum">
              <a:rPr b="0" lang="ar-J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7204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0"/>
            <a:ext cx="5205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4352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724280" y="609480"/>
            <a:ext cx="4267440" cy="518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لم لا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إن كان الآب يمنحني الغفران، 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لماذا لا أعلن توبتي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هو يشاءُ خلاصَ الإنسان، 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لماذا أعمل بمشيئتي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01200" cy="68547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1262160" y="3657600"/>
            <a:ext cx="661968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سارَ أمامي ليعطيني الرجاء، لماذا أتبع شريعت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ماتَ وقامَ ليعطيني الحياة، لمَِ أموتُ في خطيئت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457200" y="4495680"/>
            <a:ext cx="800100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993300"/>
                </a:solidFill>
                <a:latin typeface="Arial Black"/>
              </a:rPr>
              <a:t>إن كان الآب ينبوع الأمان، لماذا لا أسرع وأستقي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99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993300"/>
                </a:solidFill>
                <a:latin typeface="Arial Black"/>
              </a:rPr>
              <a:t>لِمَ لا أرجع إليه الآن، فالوقتُ ضائعٌ في غربتي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993300"/>
              </a:solidFill>
              <a:latin typeface="Arial Black"/>
              <a:ea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990720" y="4267080"/>
            <a:ext cx="694368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ضمَّ أوجاعي بين ساعديه، لِمَ أضيعُ سعادت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أرسلني لأنشرَ السلام، لِمَ لا أبدءُ بخطوت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995400" y="4838760"/>
            <a:ext cx="715320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إن كان يحملُ عني الأعباء، لماذا أنحني بأثقالي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أعدَّ لي جسراً نحو السماء، لا لن أموتَ في خطيئتي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7T11:01:16Z</dcterms:created>
  <dc:creator>user</dc:creator>
  <dc:description/>
  <dc:language>en-US</dc:language>
  <cp:lastModifiedBy>user</cp:lastModifiedBy>
  <dcterms:modified xsi:type="dcterms:W3CDTF">2006-09-01T16:35:09Z</dcterms:modified>
  <cp:revision>11</cp:revision>
  <dc:subject/>
  <dc:title>Slide 1</dc:title>
</cp:coreProperties>
</file>