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7F3-D39C-4105-AB75-17552C14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A2E-0615-43AB-8C6C-C41A2AE5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812-7959-4FFF-A32B-30D763B5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AA7-A843-4F0D-8ABB-D621E968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0B0-BCCE-419E-A350-E4172B0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153-39C9-4631-8ED1-D5D3DB38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612-ABFB-4E86-ACA7-EAC74AAC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0D0-A549-4D30-B789-17C0763F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381-641B-4662-8289-A62679E1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B21-50B4-41D9-98C2-6932C025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30A-C78E-412B-9D9D-73E4DE9C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7A9-95C1-4312-958B-B3ECDD82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68ED-283A-48A2-93B8-E4B405537741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 rot="20826600">
            <a:off x="-533520" y="4571640"/>
            <a:ext cx="2514600" cy="2610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698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 rot="20163000">
            <a:off x="7467480" y="5000400"/>
            <a:ext cx="1905120" cy="200952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2590920" y="1219320"/>
            <a:ext cx="3762360" cy="459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9gnMiHDlFRE5_AAuPmJzbkF;_ylu=X3oDMTBkbHNiZXJuBHBvcwM0NgRzZWMDc3I-/SIG=1jlefgu8o/EXP=1146480195/**http%3A//images.search.yahoo.com/search/images/view%3Fback=http%253A%252F%252Fimages.search.yahoo.com%252Fsearch%252Fimages%253F_adv_prop%253Dimages%2526imgsz%253Dall%2526vf%253Dall%2526va%253Dwheat%2526ei%253DUTF-8%2526fr%253DFP-tab-web-t%2526b%253D41%26w=287%26h=238%26imgurl=townsvillebulletin.news.com.au%252Fcommon%252Fimagedata%252F0%252C3600%252C5112689%252C00.jpg%26rurl=http%253A%252F%252Ftownsvillebulletin.news.com.au%252Fcommon%252Fstory_page%252F0%252C7034%252C18245438%2525255E421%252C00.html%26size=34.7kB%26name=0,3600,5112689,00.jpg%26p=wheat%26type=jpeg%26no=46%26tt=337,975%26ei=UTF-8%26src=p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372600" y="4114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90600" cy="24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حتى اقدر اتبع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شو ما عندي بقدمل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ا بخلي يعرف حدى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057400" cy="2206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لما يفتح باب المجد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ينزل ملاك ويحصد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يلي من زرع ايدي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أطيب قمحة بحقلتك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Wild Flowers and Wheat"/>
          <p:cNvPicPr/>
          <p:nvPr/>
        </p:nvPicPr>
        <p:blipFill>
          <a:blip r:embed="rId1"/>
          <a:stretch/>
        </p:blipFill>
        <p:spPr>
          <a:xfrm>
            <a:off x="0" y="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6520" y="141768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2120" y="16765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ليه عم تشح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خبر ومال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ذا انا اعطي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ك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اعطيت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سنابل قمح خضراء ممتلئة"/>
          <p:cNvPicPr/>
          <p:nvPr/>
        </p:nvPicPr>
        <p:blipFill>
          <a:blip r:embed="rId1"/>
          <a:stretch/>
        </p:blipFill>
        <p:spPr>
          <a:xfrm>
            <a:off x="0" y="0"/>
            <a:ext cx="2514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9528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قاعد في حبس مهجور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خفيفلوا من صليب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لصليب 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 إللي 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عا كتاف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لانسان مثلك خلقتو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اذا انا ساع</a:t>
            </a:r>
            <a:r>
              <a:rPr b="0" lang="ar-JO" sz="7000" spc="-1" strike="noStrike">
                <a:solidFill>
                  <a:srgbClr val="000000"/>
                </a:solidFill>
                <a:latin typeface="Arial"/>
              </a:rPr>
              <a:t>د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تو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أني ساعدتك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إزرعني قمحة بحقلتك (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agriculture, autumn, closeup, detail, fall, farming, flora, golden, grain, grains, harvest, macro, nature, orange, plant, stalk, stalks, wheat"/>
          <p:cNvPicPr/>
          <p:nvPr/>
        </p:nvPicPr>
        <p:blipFill>
          <a:blip r:embed="rId1"/>
          <a:stretch/>
        </p:blipFill>
        <p:spPr>
          <a:xfrm>
            <a:off x="0" y="0"/>
            <a:ext cx="2406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38560" cy="2666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523880" y="91440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بالبرد ويوقف عاالباب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ادملوا احسن تيا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تيابي صاروا قلال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woman holding wheat Ruth"/>
          <p:cNvPicPr/>
          <p:nvPr/>
        </p:nvPicPr>
        <p:blipFill>
          <a:blip r:embed="rId1"/>
          <a:stretch/>
        </p:blipFill>
        <p:spPr>
          <a:xfrm>
            <a:off x="2044800" y="0"/>
            <a:ext cx="52704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2523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172200" y="1828800"/>
            <a:ext cx="2714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زرعن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257800" y="3809880"/>
            <a:ext cx="27338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قمح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04920" y="304812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بحقلتك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747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3000" y="1219320"/>
            <a:ext cx="822960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مريض القلب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 ومجروح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زيارتي بتقويلو الروح </a:t>
            </a:r>
            <a:br>
              <a:rPr sz="7000"/>
            </a:br>
            <a:r>
              <a:rPr b="0" lang="ar-SA" sz="7000" spc="-1" strike="noStrike">
                <a:solidFill>
                  <a:srgbClr val="000000"/>
                </a:solidFill>
                <a:latin typeface="Arial"/>
              </a:rPr>
              <a:t>وكاني روحت لعندك 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32:51Z</dcterms:created>
  <dc:creator>user</dc:creator>
  <dc:description/>
  <dc:language>en-US</dc:language>
  <cp:lastModifiedBy>Kalisse</cp:lastModifiedBy>
  <dcterms:modified xsi:type="dcterms:W3CDTF">2006-11-11T01:32:45Z</dcterms:modified>
  <cp:revision>19</cp:revision>
  <dc:subject/>
  <dc:title>Slide 1</dc:title>
</cp:coreProperties>
</file>