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13D-03DA-406F-AC64-177CD654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E98-F1E5-4659-B800-D94CB306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8B4-DC8B-448F-BBB3-6E8A4F5C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8F7-99D5-4FAA-B332-AE908B15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915-9864-444E-A5DE-2CC52C9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0C0-4AE7-438F-9809-2A117D0C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688C-EB86-45D6-A66F-A3EE859B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D33C-4E4D-44BA-A140-13942D69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908-A2A7-4666-AE77-95D4D3E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7CB-DD63-453C-AE32-E807791B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0E5-B782-479A-989D-D616BA2A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69F-1C2B-4499-9B11-4822EE4F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7C48-39FB-4C13-9A4C-22FE27FDF6D4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907920"/>
            <a:ext cx="3505320" cy="79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076720" y="755640"/>
            <a:ext cx="3792600" cy="88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فخر البر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خير الو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يا بحر العطايا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99"/>
                </a:solidFill>
                <a:latin typeface="Times New Roman"/>
              </a:rPr>
              <a:t>في الدنيا جر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3960720" cy="68580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>
    <p:split dir="out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6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915840"/>
            <a:ext cx="6337440" cy="5106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0480" y="4428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5943600"/>
            <a:ext cx="728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663300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663300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14800" y="465120"/>
            <a:ext cx="4800600" cy="87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باب السم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أم الفدا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عين الرجا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ا نور الهدى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1268280"/>
            <a:ext cx="6769080" cy="460872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08000" y="1500120"/>
            <a:ext cx="8959680" cy="4289400"/>
            <a:chOff x="108000" y="1500120"/>
            <a:chExt cx="8959680" cy="428940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8000" y="1500120"/>
              <a:ext cx="167652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08000" y="4365720"/>
              <a:ext cx="1676520" cy="14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7391520" y="1500120"/>
              <a:ext cx="1676160" cy="142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6"/>
            <a:stretch/>
          </p:blipFill>
          <p:spPr>
            <a:xfrm>
              <a:off x="7391520" y="4365720"/>
              <a:ext cx="1676160" cy="14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611280" y="11592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ارحمي عبيداً... باتوا مخلص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8960" y="5715000"/>
            <a:ext cx="830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6600" spc="-1" strike="noStrike">
                <a:solidFill>
                  <a:srgbClr val="000066"/>
                </a:solidFill>
                <a:latin typeface="Times New Roman"/>
              </a:rPr>
              <a:t>يبغون المزيد... منكِ كلَّ حي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50000">
              <a:srgbClr val="ff99ff"/>
            </a:gs>
            <a:gs pos="100000">
              <a:srgbClr val="c0c0c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4968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164360" y="1530360"/>
            <a:ext cx="1835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في ظلّ حمايتك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نلتجئ يا مري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836640"/>
            <a:ext cx="172728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لا تردّي طلبتنا </a:t>
            </a:r>
            <a:r>
              <a:rPr b="1" lang="ar-JO" sz="5400" spc="-1" strike="noStrike">
                <a:solidFill>
                  <a:srgbClr val="000066"/>
                </a:solidFill>
                <a:latin typeface="Times New Roman"/>
              </a:rPr>
              <a:t>... </a:t>
            </a:r>
            <a:r>
              <a:rPr b="1" lang="ar-SA" sz="5400" spc="-1" strike="noStrike">
                <a:solidFill>
                  <a:srgbClr val="000066"/>
                </a:solidFill>
                <a:latin typeface="Times New Roman"/>
              </a:rPr>
              <a:t>عندما ندعو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07-30T05:56:38Z</dcterms:modified>
  <cp:revision>91</cp:revision>
  <dc:subject/>
  <dc:title>PowerPoint Presentation</dc:title>
</cp:coreProperties>
</file>