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3A1-521A-448A-9F4D-E7C382AE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5E2-863C-4333-8DA1-BB9E2343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B66-DE2B-477C-BE13-37B9B4C1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954-D9B2-4D17-82D1-B06D3B98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29F-27EA-490C-8895-388C86C0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662-04B2-42CC-907D-4AA4C961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AEA-261B-4508-8230-39D528C7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2A9-6EF3-49C7-8173-2C185E6B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90BF-7CEC-4770-81E1-F92BEEDC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6D1-3E37-4819-AF37-C8EF7A49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222-91B7-4D7E-8A3E-82164876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63F-27A4-46CE-A6A2-B4E26205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AF1A-578A-47B2-BBAE-18828DBDAE0A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1272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54320" y="142920"/>
            <a:ext cx="81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إنَّ ابنكِ... فوق الصل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9520" y="5570640"/>
            <a:ext cx="640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سلَّمكِ سرَّاً عج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265920" y="142920"/>
            <a:ext cx="594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صيَّركِ أمَّ الحبي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22760" y="5499000"/>
            <a:ext cx="799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6600" spc="-1" strike="noStrike">
                <a:solidFill>
                  <a:srgbClr val="ffff99"/>
                </a:solidFill>
                <a:latin typeface="Arial"/>
                <a:cs typeface="Andalus"/>
              </a:rPr>
              <a:t>يا أم الله... يا أم الحيا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36360" y="260280"/>
            <a:ext cx="255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5302080"/>
            <a:ext cx="51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181080" y="44280"/>
            <a:ext cx="2554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9280" y="26028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ffff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16000" y="544500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ff"/>
                </a:solidFill>
                <a:latin typeface="Times New Roman"/>
                <a:cs typeface="Andalus"/>
              </a:rPr>
              <a:t>يا أم الله... يا أم الحياة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00720" y="333360"/>
            <a:ext cx="255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99880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ccccff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2205000"/>
            <a:ext cx="47163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يا أم الله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ea typeface="Andalus"/>
              </a:rPr>
              <a:t>           يا أم الحيا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260280"/>
            <a:ext cx="29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5400" spc="-1" strike="noStrike">
                <a:solidFill>
                  <a:srgbClr val="ccccff"/>
                </a:solidFill>
                <a:latin typeface="Times New Roman"/>
                <a:cs typeface="Andalus"/>
              </a:rPr>
              <a:t>عند الإله... نلقَ رضا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أنشري النور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د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قل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554880" y="333360"/>
            <a:ext cx="255420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كي نلقَ النو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في ربنا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33360"/>
            <a:ext cx="2554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00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755640"/>
            <a:ext cx="284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...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36687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كوني لنا خير صل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12000" y="755640"/>
            <a:ext cx="28429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عند الإله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نلقَ رضا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3668760"/>
            <a:ext cx="331164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ل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000" spc="-1" strike="noStrike">
                <a:solidFill>
                  <a:srgbClr val="000066"/>
                </a:solidFill>
                <a:latin typeface="Times New Roman"/>
                <a:cs typeface="Andalus"/>
              </a:rPr>
              <a:t>يا أم الحيا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11:20:11Z</dcterms:modified>
  <cp:revision>98</cp:revision>
  <dc:subject/>
  <dc:title>PowerPoint Presentation</dc:title>
</cp:coreProperties>
</file>