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DA1-F0B0-4168-9959-7B1D42FE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716-241B-4DF3-9D1F-1C5EAA05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F45-EB8A-4FF5-A85E-D739C924B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7D3-CAEA-4AC4-90D0-13641B35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4BF-12FE-44EA-AE5E-DDB50749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4C1-F60C-4E36-83EE-11F3B29A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BF9-179B-44EA-9577-1FB5BFAA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0D2A-C9E7-4780-843C-B3010B49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F80-47AB-4809-A4F8-17F51681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712-F245-439D-B974-4D205D6E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0E9-65E1-423D-8A7C-9C757C2E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879B-91C7-456E-952A-675A899A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B770-6E0A-46C3-A9CF-D0919AB56AA5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377120" y="304920"/>
            <a:ext cx="1766880" cy="1904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76720" y="-307800"/>
            <a:ext cx="4724280" cy="87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طيع الرب ب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  يصنـــع العجـــائ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وإن طلبت تكريس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ل يستجيب الطلـ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... نعم يقول رب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قدسوا للعمل ... غداً سأعمل ب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كم ... في وسطكم عجائ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53352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377120" y="304920"/>
            <a:ext cx="1766880" cy="1904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-307800"/>
            <a:ext cx="4724280" cy="87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ل يستطيع الرب أ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قـدس ذا  الجسـ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ع  ضعفـه وإثمـ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بـه يحـل للمـد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... نعم يقول رب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قدسوا للعمل ... غداً سأعمل ب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كم ... في وسطكم عجائ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377120" y="304920"/>
            <a:ext cx="1766880" cy="1904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76720" y="60480"/>
            <a:ext cx="4724280" cy="77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هل يستطيع الرب أ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يشـغل مـواهب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قـدسـاً  عـواط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لمجـد  من أحبنـ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نعم نعم ... نعم يقول ربن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قدسوا للعمل ... غداً سأعمل بك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في وسطكم ... في وسطكم عجائب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2:55:05Z</dcterms:created>
  <dc:creator>user</dc:creator>
  <dc:description/>
  <dc:language>en-US</dc:language>
  <cp:lastModifiedBy>user</cp:lastModifiedBy>
  <dcterms:modified xsi:type="dcterms:W3CDTF">2006-05-05T05:44:03Z</dcterms:modified>
  <cp:revision>13</cp:revision>
  <dc:subject/>
  <dc:title>Slide 1</dc:title>
</cp:coreProperties>
</file>