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746-829B-4353-9324-6BDFA07D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6DA-6004-4B17-BB58-F80AA13B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8FB-1167-463D-BD53-03C4A6F4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CD3-2774-49A2-B4DA-96035496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4458-42A4-4624-9838-5A591F90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81BE-D6EC-4C5E-8B66-A8889713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C4D7-FF6D-45CB-B466-B2C15669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A8F3-CFE7-4FA5-894C-0AF56A2E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9D78-7971-44E1-A542-11456430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F359-7500-4DC7-AD61-F08AB78A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C316-F9A5-4289-8F5C-C137597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1C9-FBA3-4A5A-90BC-5CF5579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3631-FDEC-41EF-BB69-9D8773C9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4F3B-7A0C-4943-A411-5F758FF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BD27-6B9B-4D88-80C3-F4004ECE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72FC-A4BA-4F7B-A513-C99E57E7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2D1E-9940-4372-8E22-1A45CF2B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EAB-3516-4024-9137-98E2406D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D0E-4B85-4FFE-958A-7744BAE3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C68-EDC0-4838-8077-867F5C4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732-9AA8-4338-93B7-C35E6938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1F2-4CEC-483C-9D4F-3C2D698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9E1-B0B2-47A1-ABEA-F99F89D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3B1-ECAE-42D6-8092-F590208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7A91-23F5-41E4-A3AB-31FE918D37C7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B0B3-E160-467E-808E-39EE4FA7DE8A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97308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262080"/>
            <a:ext cx="8496000" cy="6335640"/>
          </a:xfrm>
          <a:custGeom>
            <a:avLst/>
            <a:gdLst>
              <a:gd name="textAreaLeft" fmla="*/ 1996560 w 8496000"/>
              <a:gd name="textAreaRight" fmla="*/ 6493320 w 8496000"/>
              <a:gd name="textAreaTop" fmla="*/ 744840 h 6335640"/>
              <a:gd name="textAreaBottom" fmla="*/ 3974040 h 633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119240"/>
            <a:ext cx="662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0" spc="-1" strike="noStrike">
                <a:solidFill>
                  <a:srgbClr val="000000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12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1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0560" y="84312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لوين مكفّي وحدك بهالدرب                                 ضايع عم تسأل عن درب الحب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0" y="371628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تعا تنمشي سوا صوب الرب                               بحب وثقة ملوى القل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r>
              <a:rPr b="1" lang="ar-SA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                  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تسلّم حالك ليسوع                                سلّمو قلبك بلا رجوع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ع حالك بين ايديه                                قلبو أحنّ من قلب البي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يهم كم باب دقّيت                                       ولا كم حلم تمنيت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انت بقلبو حلم قديم                                          يدلّك ع دروب الحياة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2:12:43Z</dcterms:created>
  <dc:creator>Kalisse</dc:creator>
  <dc:description/>
  <dc:language>en-US</dc:language>
  <cp:lastModifiedBy>user</cp:lastModifiedBy>
  <dcterms:modified xsi:type="dcterms:W3CDTF">2006-05-05T05:42:44Z</dcterms:modified>
  <cp:revision>52</cp:revision>
  <dc:subject/>
  <dc:title>Slide 1</dc:title>
</cp:coreProperties>
</file>