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DAA-97C6-4007-90AB-FA2F1F53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AE1-53BD-4175-81FC-9DF06FA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B43-3569-45ED-9D80-85066702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EEA-F433-4628-B396-D25E00BF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850-DF51-4119-A65C-08A21E11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B2B-FBC1-4B66-9C28-400C1312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4B9-8AF9-464B-9C68-6E9DC72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A4C-79ED-4D91-9161-E849ED2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C7F-A213-49F2-ABFB-73E310CF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3F4-F733-4F39-99EE-2AF9033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383-8004-4D3C-A58D-63E053E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FBC-D7A0-4279-941D-5261FDB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E74-2421-4F12-BA2E-F1F1091D54BC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4083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125360"/>
            <a:ext cx="324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8000" y="3867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125360"/>
            <a:ext cx="331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108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49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731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528624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3440" y="4516560"/>
            <a:ext cx="74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8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70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12-09T06:43:34Z</dcterms:modified>
  <cp:revision>144</cp:revision>
  <dc:subject/>
  <dc:title>PowerPoint Presentation</dc:title>
</cp:coreProperties>
</file>