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420-53A1-4521-A5AF-23F755E5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1A0-2D39-415E-8C9D-07034658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01B-6201-4FDC-B7B3-ECE1635E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30E-D3A1-47D8-BE72-F633FAD1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055D-8267-4E5E-A7E2-2E767976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783-7694-4969-B728-BAA94F14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8AB-26FD-460C-A1E7-5977F278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EF9-9C6E-4643-8A2E-00AEFD9E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FF1-AEFA-43A5-8594-39898F6F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582-288B-4281-A1E6-A92CCE9B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719-0EB6-4EEE-B708-08A0203D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D3A-7AC9-424B-AA37-985E28A4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4E8E-3C30-4B66-A27A-85F497347104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2210040" cy="1631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352680" y="762120"/>
            <a:ext cx="2895840" cy="2322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5410080" y="0"/>
            <a:ext cx="2266920" cy="16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49876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ا أبانا لستُ أدري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أبانا لستُ أدري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يف كان العمر يجر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ون أن أدركَ أنّك، أنت أب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60948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05740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نّي الآن ابنك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ترعاني بحبّك، فلن أخاف أبداً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ك تمسك يمين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281952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سبحــــك، وأهتف لـك للأبـــــد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ــا لــك، للأبـــد(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49876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ا أبانا لستُ أدري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أبانا لستُ أدري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يف كان العمر يجر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ون أن أدركَ أنّك، أنت أب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05740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نّي الآن ابنك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ترعاني بحبّك، فلن أخاف أبداً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ك تمسك يمين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281952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سبحــــك، وأهتف لـك للأبـــــد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ــا لــك، للأبـــد(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05:56Z</dcterms:created>
  <dc:creator>user</dc:creator>
  <dc:description/>
  <dc:language>en-US</dc:language>
  <cp:lastModifiedBy>user</cp:lastModifiedBy>
  <dcterms:modified xsi:type="dcterms:W3CDTF">2006-05-05T05:41:26Z</dcterms:modified>
  <cp:revision>7</cp:revision>
  <dc:subject/>
  <dc:title>Slide 1</dc:title>
</cp:coreProperties>
</file>