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2F3-91A6-4DF7-9BFC-968BE9D9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C7F-FA3A-4F54-9C97-4BBCC389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1AC-C714-40FB-9E7B-AAE27A72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BDA-EB46-4CD4-9C27-2ECE6377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19A-49D4-404B-BBA2-8AE37579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AE8-FAA8-40DA-AA82-625E32FA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909-4E28-4096-98BF-77C287CE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1AF-F9AC-4E50-A234-6767AAC9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6DA-BC07-4F5D-B68F-93E2FAA6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5E5-F8C5-4201-9A9C-AE456CEC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0B5B-063C-45E4-89EE-72E487A3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0FA-A3B4-403C-8428-F3C90A2F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5E82-0BA8-4AF6-9F3E-B93F4FB4A06E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828720" y="422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67360" y="42228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لا تخاف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ن توافو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67360" y="376236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لحِم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طال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03640" y="152280"/>
            <a:ext cx="414036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قد تل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ea typeface="Times New Roman (Arabic)"/>
              </a:rPr>
              <a:t> وتع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922560"/>
            <a:ext cx="414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ما لنورها غر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61128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وهي قالت حين نالت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03640" y="3922560"/>
            <a:ext cx="414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663300"/>
                </a:solidFill>
                <a:latin typeface="Times New Roman (Arabic)"/>
                <a:cs typeface="Times New Roman (Arabic)"/>
              </a:rPr>
              <a:t>فلتطوبني الشعو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041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974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64000" y="476280"/>
            <a:ext cx="3429000" cy="4483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قد دعاها واصطفا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335772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ce0000"/>
                </a:solidFill>
                <a:latin typeface="Times New Roman"/>
                <a:cs typeface="Times New Roman (Arabic)"/>
              </a:rPr>
              <a:t>ربُّ كل العال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33520" y="1341360"/>
            <a:ext cx="4448160" cy="5516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762120"/>
            <a:ext cx="1219320" cy="1100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76320"/>
            <a:ext cx="9144000" cy="6675480"/>
            <a:chOff x="0" y="76320"/>
            <a:chExt cx="9144000" cy="667548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1371600" cy="12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85800" y="304812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152280" y="4824360"/>
              <a:ext cx="2133720" cy="192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6"/>
            <a:stretch/>
          </p:blipFill>
          <p:spPr>
            <a:xfrm>
              <a:off x="76320" y="7632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7"/>
            <a:stretch/>
          </p:blipFill>
          <p:spPr>
            <a:xfrm>
              <a:off x="7772400" y="68580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6858000" y="1828800"/>
              <a:ext cx="1371600" cy="12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7543800" y="2971800"/>
              <a:ext cx="1600200" cy="14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0"/>
            <a:stretch/>
          </p:blipFill>
          <p:spPr>
            <a:xfrm>
              <a:off x="6934320" y="4778280"/>
              <a:ext cx="2133360" cy="192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6934320" y="0"/>
            <a:ext cx="914400" cy="825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167360" y="115920"/>
            <a:ext cx="486864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ووقاها مذ براه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36360" y="836640"/>
            <a:ext cx="5113080" cy="228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ل محذور يش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410080" y="566640"/>
            <a:ext cx="3429000" cy="33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مجد مريم يتعظ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213000"/>
            <a:ext cx="3429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مشارق والغر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97440" y="0"/>
            <a:ext cx="51829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2280" y="260280"/>
            <a:ext cx="342900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كرِّ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عظموها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1000" y="3700440"/>
            <a:ext cx="3429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ملِّكوها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في القلو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-54000"/>
            <a:ext cx="4140360" cy="696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67360" y="422280"/>
            <a:ext cx="4868640" cy="3957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هي رجاكم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في شقاك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67360" y="3357720"/>
            <a:ext cx="4868640" cy="286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فاسمعوا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200" spc="-1" strike="noStrike">
                <a:solidFill>
                  <a:srgbClr val="663300"/>
                </a:solidFill>
                <a:latin typeface="Times New Roman"/>
                <a:cs typeface="Times New Roman (Arabic)"/>
              </a:rPr>
              <a:t>يا مذنب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5-11T09:32:24Z</dcterms:modified>
  <cp:revision>95</cp:revision>
  <dc:subject/>
  <dc:title>PowerPoint Presentation</dc:title>
</cp:coreProperties>
</file>