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ACC-54B6-47DE-8550-2FB8EC28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375-6297-4B66-8DD0-EDC653AF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2158-C455-448A-9356-F800D49D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33D-B5C7-4747-9EC6-6D4092F76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B42-40A8-4625-A2EA-6140CD67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0F4-7B24-487B-8F4D-5AAB6286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CAF-96B5-4514-9268-1C0C09E7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770-B191-4949-8618-33EDCEF6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C93-CFB5-4B72-BF2B-1702CD0C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F96-3BD7-4BC0-8080-13D98EDB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556D-690B-4900-B171-5A51AE12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955-9D22-4E4D-97B8-93A5034B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FD85-CD45-4A17-BE4D-CF335876FB01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-685800"/>
            <a:ext cx="891540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 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914400" y="1523880"/>
            <a:ext cx="38088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0720" y="-76320"/>
            <a:ext cx="8153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شبه يا بني  بالمس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عن ايمانك اوعا تز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مشي عا الدرب الصحيح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ل ع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0720" y="96840"/>
            <a:ext cx="81536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شارك يا بني بجماعة  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زراع الكلمة بشجاعة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خدوم الإخوة بوداعة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ar-JO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0720" y="-1219320"/>
            <a:ext cx="8153640" cy="77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ارك يا بني بالأسرار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بإيمانك لا تحت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قرا إنجيلك بإستمرا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توصل عالسما (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-685800"/>
            <a:ext cx="891540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حلوى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و بحب السما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يف بدي اوصلا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تلاقى بالله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عيش بحماه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1:47:49Z</dcterms:created>
  <dc:creator>user</dc:creator>
  <dc:description/>
  <dc:language>en-US</dc:language>
  <cp:lastModifiedBy>user</cp:lastModifiedBy>
  <dcterms:modified xsi:type="dcterms:W3CDTF">2006-05-12T05:39:00Z</dcterms:modified>
  <cp:revision>9</cp:revision>
  <dc:subject/>
  <dc:title>Slide 1</dc:title>
</cp:coreProperties>
</file>