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D9C-554D-4ABD-B406-191EC00A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4B8-CD59-4819-A34B-23A5FB83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0E69-BF69-41CA-8887-8175A9C4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BAC0-4277-4B72-833A-D9ED7C85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851-F38F-4C15-8814-8A44C18D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3B3-BC6B-4385-B429-5D34098E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775-5B68-4A84-ABEC-C31E88D9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235-AC62-4DD8-9942-B37E4FDA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A04-9EAF-43E8-A995-B8127544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310-2C70-4F8B-9A66-D2EF29D1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1C3-46C8-424D-AF6E-490BEF5F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194-EA7A-44D5-A06D-6A138F96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FC68-6DB1-4822-9ACF-03460B7A9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320" y="304920"/>
            <a:ext cx="4724280" cy="71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ضلك طلّ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علي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ولا تكو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عنّي بعي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فرح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وجودك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في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ثل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ليالي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عي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320" y="228600"/>
            <a:ext cx="4876560" cy="62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قياس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مح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نحب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بلا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قيا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خلي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يا ربي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متل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حبّ</a:t>
            </a:r>
            <a:r>
              <a:rPr b="1" lang="en-US" sz="5000" spc="-1" strike="noStrike">
                <a:solidFill>
                  <a:srgbClr val="ffff66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66"/>
                </a:solidFill>
                <a:latin typeface="Tahoma"/>
                <a:cs typeface="Tahoma"/>
              </a:rPr>
              <a:t>النا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65040"/>
            <a:ext cx="4267440" cy="694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قلب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هيّ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مغ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ربّ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عملّ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</a:rPr>
              <a:t>زي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شمس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نوّر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ومليني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حرار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19:42:40Z</dcterms:created>
  <dc:creator>Pere</dc:creator>
  <dc:description/>
  <dc:language>en-US</dc:language>
  <cp:lastModifiedBy>lab</cp:lastModifiedBy>
  <dcterms:modified xsi:type="dcterms:W3CDTF">2006-12-10T08:56:11Z</dcterms:modified>
  <cp:revision>6</cp:revision>
  <dc:subject/>
  <dc:title>Slide 1</dc:title>
</cp:coreProperties>
</file>