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B70-8B9D-4010-95F7-D53ABEDB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B0A-45A5-4ABA-A06E-D4356760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B00-AEEC-46AB-84F9-AE1E53D9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F0A-8F05-49AE-82AB-3186BFE3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FD1-00B6-4756-94BB-CE41F468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DCD-4F8F-4928-B39C-9F0E6C8E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4CA-7A76-4436-9A59-3EBC0EF3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7AB-8F11-4B45-BB95-F3A000EE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57E-FF21-4EFD-94D3-F87B2FC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8CB-BCE3-49CA-9EE8-1219902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BA4-59BE-47DF-9FD6-42ABE3D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171-BBC0-4277-8FD0-E91EDD4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5C3A-E92C-4BCC-8B94-D3714EEB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إليك يا رب العُلى، إسمع صلاتي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واستجب دُعاي</a:t>
            </a:r>
            <a:r>
              <a:rPr b="1" lang="ar-JO" sz="6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934320" y="5181480"/>
            <a:ext cx="1904760" cy="1370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0384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6858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0920" y="2743200"/>
            <a:ext cx="213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فجئت اليك قائلاً يا رب الحي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29000" y="4572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وقت ضيقي بحثت عن النجا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87692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سمع صلاتي واستجب 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3160" y="0"/>
            <a:ext cx="3390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آتـي اليك في هيكل قدسـك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92248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21145200">
            <a:off x="3173400" y="481500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سمع صلات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واستجب دعا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وأجثو خاشعـاً أمـام عرش مجـد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362320" y="5943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ستج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 دُع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ـ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ي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548640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77120" y="0"/>
            <a:ext cx="2666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</a:rPr>
              <a:t>إني لرافعٌ، عينايَ إلى السماء، ويداي ممدودتان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0520" y="4876920"/>
            <a:ext cx="76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ahoma"/>
              </a:rPr>
              <a:t>إليك يا رب العُلى، إسمع صلاتي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58669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00"/>
                </a:solidFill>
                <a:latin typeface="Arial"/>
              </a:rPr>
              <a:t>اسمع صلاتي واستجب دعاي</a:t>
            </a:r>
            <a:r>
              <a:rPr b="0" lang="ar-JO" sz="5400" spc="-1" strike="noStrike">
                <a:solidFill>
                  <a:srgbClr val="ff9900"/>
                </a:solidFill>
                <a:latin typeface="Arial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800" y="0"/>
            <a:ext cx="93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ربـي يسوعـي يا رب صخرت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" y="3200400"/>
            <a:ext cx="1011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عزّي و ترسـي عليك اتكل قلب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781680" y="5072040"/>
            <a:ext cx="2057400" cy="147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cc00"/>
                </a:solidFill>
                <a:latin typeface="Arial"/>
              </a:rPr>
              <a:t>إليك يا رب العُلى، إسمع صلاتي</a:t>
            </a:r>
            <a:r>
              <a:rPr b="1" lang="ar-SA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cc00"/>
                </a:solidFill>
                <a:latin typeface="Arial"/>
              </a:rPr>
              <a:t>واستجب دُعاي</a:t>
            </a:r>
            <a:r>
              <a:rPr b="1" lang="ar-JO" sz="4400" spc="-1" strike="noStrike">
                <a:solidFill>
                  <a:srgbClr val="99cc00"/>
                </a:solidFill>
                <a:latin typeface="Arial"/>
              </a:rPr>
              <a:t>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966680" y="0"/>
            <a:ext cx="1274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إني لرافعٌ، عينايَ إلى السماء، ويداي ممدودتان</a:t>
            </a: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9:58:48Z</dcterms:created>
  <dc:creator>AMMCSKS</dc:creator>
  <dc:description/>
  <dc:language>en-US</dc:language>
  <cp:lastModifiedBy>user</cp:lastModifiedBy>
  <dcterms:modified xsi:type="dcterms:W3CDTF">2006-04-10T21:04:42Z</dcterms:modified>
  <cp:revision>33</cp:revision>
  <dc:subject/>
  <dc:title>Slide 1</dc:title>
</cp:coreProperties>
</file>