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C60-8F6D-4AA6-B041-C988E806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C13-D598-4865-B23C-66936344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986-2991-4765-9F70-C895AD27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870-B9E7-4959-82F4-1537ECB0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2B9-75F5-46EA-A545-CAE25874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783-C6D8-4359-84C9-F3DDE35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53D-5A33-4327-AFD2-5E30F0EF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4C3-3343-46EE-9B10-17129539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1FB-F5AA-4EDE-B94F-5814D69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E0F-8DE2-4573-9A6F-424A518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D1D-6522-4A4E-A0E5-4A91138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679-DE83-44E7-8BF7-448BC415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ECB-0F4E-4129-B74B-827FAC061BA2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828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67360" y="42228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لا تخاف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ن توافو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67360" y="376236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لحِم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طال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152280"/>
            <a:ext cx="4140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قد تل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ea typeface="Times New Roman (Arabic)"/>
              </a:rPr>
              <a:t> وتع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3922560"/>
            <a:ext cx="414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ما لنورها غر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61128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وهي قالت حين ن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92256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فلتطوبني الشع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041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476280"/>
            <a:ext cx="3429000" cy="448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قد دعاها واصطف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35772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ce0000"/>
                </a:solidFill>
                <a:latin typeface="Times New Roman"/>
                <a:cs typeface="Times New Roman (Arabic)"/>
              </a:rPr>
              <a:t>ربُّ كل العال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33520" y="1341360"/>
            <a:ext cx="444816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2193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76320"/>
            <a:ext cx="9144000" cy="6675480"/>
            <a:chOff x="0" y="76320"/>
            <a:chExt cx="9144000" cy="66754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137160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85800" y="304812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152280" y="4824360"/>
              <a:ext cx="2133720" cy="19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76320" y="7632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772400" y="685800"/>
              <a:ext cx="12193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6858000" y="1828800"/>
              <a:ext cx="13716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7543800" y="297180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0"/>
            <a:stretch/>
          </p:blipFill>
          <p:spPr>
            <a:xfrm>
              <a:off x="6934320" y="4778280"/>
              <a:ext cx="2133360" cy="192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934320" y="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67360" y="115920"/>
            <a:ext cx="486864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ووقاها مذ بر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6360" y="836640"/>
            <a:ext cx="511308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ل محذور يش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67360" y="422280"/>
            <a:ext cx="486864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هي رجاك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في شقاك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67360" y="335772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فاسمع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يا مذن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09:32:24Z</dcterms:modified>
  <cp:revision>95</cp:revision>
  <dc:subject/>
  <dc:title>PowerPoint Presentation</dc:title>
</cp:coreProperties>
</file>