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567D-2A10-4343-A958-20D19430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A88-89B2-48A6-96D7-9B35A80F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F6D-7EC4-4802-A6C4-EC9B978A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3A8-BCAE-4828-970D-1F2E2B64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B713-875E-431A-9D05-5ECC6738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EF0-7E95-4C9A-A3F9-E5F674A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D6A-84FD-42C0-93CB-33227DBE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5B57-81DA-40D2-A608-59669C29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67E-C525-47E0-BCE2-8ADC815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7CF-79C9-4592-800A-2B43059B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A65-88CD-408D-AE58-AD6F4FB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490-65E0-44C1-928D-80D311E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98AB-4387-473D-9BF8-F4C89CFF6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355760"/>
            <a:ext cx="464832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 رعاة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ّ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هل جرى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مر غر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خبرو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شرو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ا هذا السّر العجي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1355760"/>
            <a:ext cx="533412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بيتَ لحم مَن أَت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غدا فيكِ مُق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َن ب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زالَ شَقاكِ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ن هو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مولى العظي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55760"/>
            <a:ext cx="5029200" cy="53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أعلِمو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كلّ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عِبادِ، بَشّ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ي العالم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قد أتان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اليوم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دي،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فابشِرو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يا</a:t>
            </a:r>
            <a:r>
              <a:rPr b="1" lang="en-US" sz="5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5000" spc="-1" strike="noStrike">
                <a:solidFill>
                  <a:srgbClr val="ffffff"/>
                </a:solidFill>
                <a:latin typeface="Tahoma"/>
                <a:cs typeface="Tahoma"/>
              </a:rPr>
              <a:t>مؤمنين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1219320"/>
            <a:ext cx="487692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مجد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لل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ahoma"/>
                <a:cs typeface="Tahoma"/>
              </a:rPr>
              <a:t>الأعال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وعلى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أرض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ffffff"/>
                </a:solidFill>
                <a:latin typeface="Tahoma"/>
                <a:cs typeface="Tahoma"/>
              </a:rPr>
              <a:t>السلام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09:19:47Z</dcterms:created>
  <dc:creator>Pere</dc:creator>
  <dc:description/>
  <dc:language>en-US</dc:language>
  <cp:lastModifiedBy>Esmat</cp:lastModifiedBy>
  <dcterms:modified xsi:type="dcterms:W3CDTF">2006-12-06T08:35:16Z</dcterms:modified>
  <cp:revision>3</cp:revision>
  <dc:subject/>
  <dc:title>Slide 1</dc:title>
</cp:coreProperties>
</file>