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48C-DDFC-41A5-B477-A75A56BD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F060-4527-4641-B9BD-257183D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D05-B29F-4B63-BBEB-AF4F6A7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86B-E804-48EB-A216-FA15AAD4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FAB-4FE2-4667-BC5D-BCD19F9A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665F-C0CE-43AD-85F9-F7A17B5C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FD7-CC14-422A-BA28-B9B0EBE8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0E8-13C4-4CE5-8208-F4F3ED4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86D-A8D2-4D4D-A4F5-911B93B5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1762-98D1-48EB-A845-8DB2244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CD7A-7B37-4002-B8A1-DD972DD5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CDD2-9ECA-4A7E-AFD1-DE3C728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3301-2305-4B8F-A782-89068386DB9F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59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971800" y="83808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كعظيم رحمتكَ وكمثلِ رأفتك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26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952880" y="533520"/>
            <a:ext cx="35816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محُ مآثمي يا الله..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ارحمني يا الله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15600" cy="692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304920" y="5486400"/>
            <a:ext cx="83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غسلني كثيراً من إثمي ومن خطيئتي طهر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876920" y="368280"/>
            <a:ext cx="406224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لأني أنا عا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بأثام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9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867280" y="457200"/>
            <a:ext cx="317664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كَ وحدكَ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خطئتُ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الشرَّ قدامك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صنعتُ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يا الله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47920" y="4343400"/>
            <a:ext cx="44956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28600" y="4381560"/>
            <a:ext cx="838188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لا تطرحني من أمامِ وجهكَ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روحكَ القدوس لا تنزعه من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6248520" y="1066680"/>
            <a:ext cx="28191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نجني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من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دماء 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274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657600" y="762120"/>
            <a:ext cx="5181480" cy="55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ولك يليق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لمجدُ يا الله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ارحمني يا الل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advTm="2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50:21Z</dcterms:created>
  <dc:creator>user</dc:creator>
  <dc:description/>
  <dc:language>en-US</dc:language>
  <cp:lastModifiedBy>user</cp:lastModifiedBy>
  <dcterms:modified xsi:type="dcterms:W3CDTF">2006-09-01T13:37:14Z</dcterms:modified>
  <cp:revision>9</cp:revision>
  <dc:subject/>
  <dc:title>Slide 1</dc:title>
</cp:coreProperties>
</file>