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84C-3194-4847-9A48-6EFB2917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05F-81F4-4666-8D85-33821828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371-7918-4D37-A007-71A6DA54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ED1-5564-4EE1-A81D-AD013880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789-2910-45A4-8D29-0C007B85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0DF-1A5A-4FFF-9DF7-53F0391B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D9C-386F-47E9-935D-5A6CB03A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14D-6D92-4413-85DE-7DA59674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7DF-8944-4C1F-B67F-D871E284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36A-F418-4472-B505-B2283C11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FF9-2DAE-4DB8-BDD4-534BE795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420-9495-4A48-87BC-68FA5A8D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0715-9965-4E30-AFE4-61DDA48CD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355760"/>
            <a:ext cx="464832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يا رعاة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خبّرو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هل جرى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أمر غري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خبرون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بشرو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ا هذا السّر العجي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1355760"/>
            <a:ext cx="533412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بيتَ لحم مَن أَتا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َن غدا فيكِ مُقي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َن ب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زالَ شَقا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هو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مولى العظي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355760"/>
            <a:ext cx="502920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أعلِمو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كلّ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عِبادِ، بَشّرو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ي العالمي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قد أتان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يوم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ادي،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ابشِرو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ي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ؤمني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09:19:47Z</dcterms:created>
  <dc:creator>Pere</dc:creator>
  <dc:description/>
  <dc:language>en-US</dc:language>
  <cp:lastModifiedBy>Esmat</cp:lastModifiedBy>
  <dcterms:modified xsi:type="dcterms:W3CDTF">2006-12-06T08:35:16Z</dcterms:modified>
  <cp:revision>3</cp:revision>
  <dc:subject/>
  <dc:title>Slide 1</dc:title>
</cp:coreProperties>
</file>