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B252-6A39-4DA8-86AE-FB1AF7EA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EBB-D35A-4F31-A6D3-54FD3E75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FC7B-F422-4533-981B-00376B1C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BF2B-B1C8-4E97-879E-0D640F6A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8C5F-A698-473D-89F4-FBC36A56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E24A-B542-4CF9-8742-4E3FD4B9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3E43-1D57-455A-B64C-5D71A9FA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02CB-6101-47C8-AF3F-C414DBDD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8DB7-8797-4BA6-B63E-B9EFABA9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C7D5-6A7C-4E0D-8F61-6817A718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9FCC-68AB-4BC0-9936-4F19DFF2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4175-061B-43F8-BFFB-5906F475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6575-087F-4F61-B6DE-7A8240114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5105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4114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Arial"/>
              </a:rPr>
              <a:t>إليك يا رب العُلى، إسمع صلاتي</a:t>
            </a:r>
            <a:r>
              <a:rPr b="1" lang="ar-SA" sz="6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Arial"/>
              </a:rPr>
              <a:t>واستجب دُعاي</a:t>
            </a:r>
            <a:r>
              <a:rPr b="1" lang="ar-JO" sz="6600" spc="-1" strike="noStrike">
                <a:solidFill>
                  <a:srgbClr val="333399"/>
                </a:solidFill>
                <a:latin typeface="Arial"/>
              </a:rPr>
              <a:t>...</a:t>
            </a:r>
            <a:r>
              <a:rPr b="1" lang="ar-SA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1447920"/>
              <a:ext cx="91440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6934320" y="5181480"/>
            <a:ext cx="1904760" cy="1370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403848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إني لرافعٌ، عينايَ إلى السماء، ويداي ممدودتان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إليك يا رب العُلى، إسمع صلاتي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واستجب دُعاي</a:t>
            </a:r>
            <a:r>
              <a:rPr b="1" lang="ar-JO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-685800" y="4648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7086600" y="4572000"/>
            <a:ext cx="1905120" cy="1370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502920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إليك يا رب العُلى، إسمع صلاتي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واستجب دُعاي</a:t>
            </a:r>
            <a:r>
              <a:rPr b="1" lang="ar-JO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2860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إني لرافعٌ، عينايَ إلى السماء، ويداي ممدود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80920" y="2743200"/>
            <a:ext cx="2133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فجئت اليك قائلاً يا رب الحيا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429000" y="45720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في وقت ضيقي بحثت عن النجاة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4876920"/>
            <a:ext cx="236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سمع صلاتي واستجب </a:t>
            </a:r>
            <a:r>
              <a:rPr b="1" lang="ar-JO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دعاي</a:t>
            </a:r>
            <a:r>
              <a:rPr b="1" lang="ar-JO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53160" y="0"/>
            <a:ext cx="339084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7086600" y="4572000"/>
            <a:ext cx="1905120" cy="13701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0" y="502920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إليك يا رب العُلى، إسمع صلاتي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واستجب دُعاي</a:t>
            </a:r>
            <a:r>
              <a:rPr b="1" lang="ar-JO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22860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إني لرافعٌ، عينايَ إلى السماء، ويداي ممدود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50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آتـي اليك في هيكل قدسـك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2922480" cy="4191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3657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rot="21145200">
            <a:off x="3173400" y="481500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ahoma"/>
              </a:rPr>
              <a:t>اسمع صلاتي</a:t>
            </a:r>
            <a:r>
              <a:rPr b="1" lang="ar-JO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Tahoma"/>
              </a:rPr>
              <a:t>واستجب دعاي</a:t>
            </a:r>
            <a:r>
              <a:rPr b="1" lang="ar-JO" sz="4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523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وأجثو خاشعـاً أمـام عرش مجـدك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87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362320" y="5943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واستج</a:t>
            </a:r>
            <a:r>
              <a:rPr b="1" lang="ar-JO" sz="4800" spc="-1" strike="noStrike">
                <a:solidFill>
                  <a:srgbClr val="000000"/>
                </a:solidFill>
                <a:latin typeface="Arial"/>
              </a:rPr>
              <a:t>ـ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ب دُع</a:t>
            </a:r>
            <a:r>
              <a:rPr b="1" lang="ar-JO" sz="4800" spc="-1" strike="noStrike">
                <a:solidFill>
                  <a:srgbClr val="000000"/>
                </a:solidFill>
                <a:latin typeface="Arial"/>
              </a:rPr>
              <a:t>ـــ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اي</a:t>
            </a:r>
            <a:r>
              <a:rPr b="1" lang="ar-JO" sz="4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5486400"/>
            <a:ext cx="2743200" cy="1371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477120" y="0"/>
            <a:ext cx="2666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ahoma"/>
              </a:rPr>
              <a:t>إني لرافعٌ، عينايَ إلى السماء، ويداي ممدودتان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0520" y="4876920"/>
            <a:ext cx="768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9900"/>
                </a:solidFill>
                <a:latin typeface="Tahoma"/>
              </a:rPr>
              <a:t>إليك يا رب العُلى، إسمع صلاتي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523880" y="586692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9900"/>
                </a:solidFill>
                <a:latin typeface="Arial"/>
              </a:rPr>
              <a:t>اسمع صلاتي واستجب دعاي</a:t>
            </a:r>
            <a:r>
              <a:rPr b="0" lang="ar-JO" sz="5400" spc="-1" strike="noStrike">
                <a:solidFill>
                  <a:srgbClr val="ff9900"/>
                </a:solidFill>
                <a:latin typeface="Arial"/>
              </a:rPr>
              <a:t> 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6800" y="0"/>
            <a:ext cx="93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00"/>
                </a:solidFill>
                <a:latin typeface="Tahoma"/>
              </a:rPr>
              <a:t>ربـي يسوعـي يا رب صخرتـي </a:t>
            </a:r>
            <a:r>
              <a:rPr b="1" lang="en-US" sz="4800" spc="-1" strike="noStrike">
                <a:solidFill>
                  <a:srgbClr val="ff9900"/>
                </a:solidFill>
                <a:latin typeface="Tahoma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00" y="3200400"/>
            <a:ext cx="1011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00"/>
                </a:solidFill>
                <a:latin typeface="Tahoma"/>
              </a:rPr>
              <a:t>عزّي و ترسـي عليك اتكل قلبـي </a:t>
            </a:r>
            <a:r>
              <a:rPr b="1" lang="en-US" sz="4800" spc="-1" strike="noStrike">
                <a:solidFill>
                  <a:srgbClr val="ff9900"/>
                </a:solidFill>
                <a:latin typeface="Tahoma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1447920"/>
              <a:ext cx="91440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6781680" y="5072040"/>
            <a:ext cx="2057400" cy="1479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-360" y="4571640"/>
            <a:ext cx="6553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99cc00"/>
                </a:solidFill>
                <a:latin typeface="Arial"/>
              </a:rPr>
              <a:t>إليك يا رب العُلى، إسمع صلاتي</a:t>
            </a:r>
            <a:r>
              <a:rPr b="1" lang="ar-SA" sz="4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99cc00"/>
                </a:solidFill>
                <a:latin typeface="Arial"/>
              </a:rPr>
              <a:t>واستجب دُعاي</a:t>
            </a:r>
            <a:r>
              <a:rPr b="1" lang="ar-JO" sz="4400" spc="-1" strike="noStrike">
                <a:solidFill>
                  <a:srgbClr val="99cc00"/>
                </a:solidFill>
                <a:latin typeface="Arial"/>
              </a:rPr>
              <a:t> 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966680" y="0"/>
            <a:ext cx="1274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99cc00"/>
                </a:solidFill>
                <a:latin typeface="Tahoma"/>
              </a:rPr>
              <a:t>إني لرافعٌ، عينايَ إلى السماء، ويداي ممدودتان</a:t>
            </a:r>
            <a:r>
              <a:rPr b="1" lang="ar-SA" sz="4400" spc="-1" strike="noStrike">
                <a:solidFill>
                  <a:srgbClr val="99cc00"/>
                </a:solidFill>
                <a:latin typeface="Tahoma"/>
              </a:rPr>
              <a:t>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9:58:48Z</dcterms:created>
  <dc:creator>AMMCSKS</dc:creator>
  <dc:description/>
  <dc:language>en-US</dc:language>
  <cp:lastModifiedBy>user</cp:lastModifiedBy>
  <dcterms:modified xsi:type="dcterms:W3CDTF">2006-04-10T21:04:42Z</dcterms:modified>
  <cp:revision>33</cp:revision>
  <dc:subject/>
  <dc:title>Slide 1</dc:title>
</cp:coreProperties>
</file>