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EDD-F0F1-4A92-873C-28681F6E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18D-F465-46A4-B2D8-4C97835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8169-7908-4BB8-B9E4-D8AC4E2EC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60C-C793-45BC-8625-43C1B379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61E-F4BC-48B2-BFC9-1597A31D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4BE-8ED7-4F0F-A69B-356F6F5E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910-60F8-4C62-AA84-D98E5E51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2AE9-892F-4FDF-A69A-3146B086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DE0-6594-4BC6-824D-22BEC106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B7C-767F-4D07-B18B-4D7C316A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C9C-3A2D-43F8-854F-741B2D53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1877-B8F8-44CE-B4DA-D721057E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44DC-FA4C-499F-8100-A35D86E3AFB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" y="533520"/>
            <a:ext cx="8610480" cy="2361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بصوتِ الحمدِ أذبحُ لك، وأعودُ أنظر هيكلك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Arial"/>
              </a:rPr>
              <a:t>لأنكَ استجبتَ لي... كلُّ ما فيَّ يشكر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00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3600" y="746280"/>
            <a:ext cx="2895480" cy="80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جازت من فوقي تيارات وأغرقتني الضيقا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990720" y="76320"/>
            <a:ext cx="101347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28600"/>
            <a:ext cx="93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Arial"/>
              </a:rPr>
              <a:t>والعشب التفَّ برأسي والماء عبر إلى نفس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08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4120" y="533520"/>
            <a:ext cx="2819160" cy="9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إرحمني وامسك بيدي..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Arial"/>
              </a:rPr>
              <a:t>أنا في حاجة شديدة إليك</a:t>
            </a:r>
            <a:r>
              <a:rPr b="1" lang="ar-J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29200" y="457200"/>
            <a:ext cx="3581280" cy="70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500" spc="-1" strike="noStrike">
                <a:solidFill>
                  <a:srgbClr val="ffffff"/>
                </a:solidFill>
                <a:latin typeface="Arial"/>
              </a:rPr>
              <a:t>صلى يونان من جوف الحوت، أصدرتَ أمراً ألا يموت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22860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cc00"/>
                </a:solidFill>
                <a:latin typeface="Arial"/>
              </a:rPr>
              <a:t>من جوف الهاوية صرخ، وبالمراحم سمعت الصو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821040" cy="4495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18640" y="4997160"/>
            <a:ext cx="61884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ffff"/>
                </a:solidFill>
                <a:latin typeface="Arial"/>
              </a:rPr>
              <a:t>اسمع صراخي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990720" y="152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سمع صراخي يا سيدي، وإلى صلاتي أمل أذني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12:07:40Z</dcterms:created>
  <dc:creator>user</dc:creator>
  <dc:description/>
  <dc:language>en-US</dc:language>
  <cp:lastModifiedBy>user</cp:lastModifiedBy>
  <dcterms:modified xsi:type="dcterms:W3CDTF">2006-09-01T13:39:13Z</dcterms:modified>
  <cp:revision>15</cp:revision>
  <dc:subject/>
  <dc:title>Slide 1</dc:title>
</cp:coreProperties>
</file>