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19C-F1AD-4444-A2E6-CDFD203C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6E1-4050-415F-97BE-7973E2B3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84C-F503-454C-A6C8-7558DE4E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BD6-5D5E-4C07-B372-571992EE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443-EC26-46DA-8684-50CE2A5A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483-D144-4C13-A970-024A334E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3FA-544C-4546-9D80-0C92CC2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7A-AB49-4CF1-A8FA-1CDE5507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E8A-EF63-4CB8-8AC0-EC0FD62A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B60-01A2-4C03-958A-F3D894C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DD5-500C-4A80-8656-DA9B7F9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4BB-0C4E-439F-9466-0959292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0DF-2B78-414D-8F86-E41C85AE74E7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-685800"/>
            <a:ext cx="89154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 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1523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720" y="-76320"/>
            <a:ext cx="815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به يا بني  بالمس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ايمانك اوعا تز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مشي عا الدرب الصح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ل ع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0720" y="9684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ارك يا بني بجماعة 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راع الكلمة بشجاع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خدوم الإخوة بوداع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720" y="-1219320"/>
            <a:ext cx="815364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ارك يا بني بالأسرار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إيمانك لا تحت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قرا إنجيلك بإستمر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1:47:49Z</dcterms:created>
  <dc:creator>user</dc:creator>
  <dc:description/>
  <dc:language>en-US</dc:language>
  <cp:lastModifiedBy>user</cp:lastModifiedBy>
  <dcterms:modified xsi:type="dcterms:W3CDTF">2006-05-12T05:39:00Z</dcterms:modified>
  <cp:revision>9</cp:revision>
  <dc:subject/>
  <dc:title>Slide 1</dc:title>
</cp:coreProperties>
</file>