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A0D3-1536-4C0B-8672-98D7EDD0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7C58-A495-4B02-B0DF-2D10617C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6B8-9EE8-4CF0-B4BD-DBDA9B75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9E3-3145-48DB-9F42-EA33CD59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B1A-47D3-4670-A042-6459763C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873-ABA6-4CD0-A968-0AD760AC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B36-E17D-44D6-A840-CEC3B3F6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898-ACD0-4770-B8DA-978F6E8D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972-D4C2-4704-BD2A-85D84703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E4AF-A79D-4462-BD78-E66B8F32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C45-2068-410A-832B-783BCC18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28E-FF51-4689-836B-6B373083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5FFC-AB6B-4A6D-8001-0F8B0A124803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49658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4572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طوب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0"/>
            <a:ext cx="487656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طوبى لمن غفرت معصيته وسترت خطيئت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طوبى لمن تختاره وتقرِّبه وفي ديارك تسكن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طوبى طوبى طوبى لمن تختاره وفي ديارك تسكن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429000" y="0"/>
            <a:ext cx="5715000" cy="9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حين سكتُّ بليت عظام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إلى الهشيم تحوَّل قلب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فأبحتكَ بجميع آثام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..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أنتَ رفعتَ وزر خطيئت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طوبى طوبى لمن غفرت معصيت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6f7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533520" y="0"/>
            <a:ext cx="544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33920" y="593640"/>
            <a:ext cx="5562360" cy="84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حتى إن طغى غمر الميا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لما استطاع أن يدرك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أنت ستري من الضيق تقيني وبترنيم النجاة تحيطن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طوبى طوبى لمن غفرت معصيت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429000" y="76320"/>
            <a:ext cx="5943600" cy="103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عودي يا نفسي إلى راحت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فإن الرب قد أحسن إلي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لأنه من الموت أنقذ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من الدمع مسح عيني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5715000"/>
            <a:ext cx="8229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طوبى طوبى لمن غفرت معصيت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59:49Z</dcterms:created>
  <dc:creator>user</dc:creator>
  <dc:description/>
  <dc:language>en-US</dc:language>
  <cp:lastModifiedBy>user</cp:lastModifiedBy>
  <dcterms:modified xsi:type="dcterms:W3CDTF">2006-09-01T13:40:24Z</dcterms:modified>
  <cp:revision>9</cp:revision>
  <dc:subject/>
  <dc:title>Slide 1</dc:title>
</cp:coreProperties>
</file>