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BA9-25CB-4D34-AFFE-1DF6AE7F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89F-8344-4B2C-97FA-B33134B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6CA-AB8A-4681-ABA2-BBEC451F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FE0D-C9F9-4BA6-B00F-90FFD194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05E-130F-4E63-95C6-FB70013A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0830-6C10-40CC-A83C-CEB7171B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7B7-6749-4FD3-A298-CBD71499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5FC-7887-4FB2-9FF7-3C8933E0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F0E-3C5D-4296-A003-E4FD469C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D19-AC40-45DD-ABFE-4B8F82A7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1CE-0098-4EA3-9379-2E35B8D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2CB-A7BC-41EA-937E-F1E1B0A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A5BE-7529-4E96-B211-788D88B5380C}" type="slidenum">
              <a:rPr b="0" lang="ar-J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981080" y="0"/>
            <a:ext cx="2210040" cy="16318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2895840" cy="2322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5410080" y="0"/>
            <a:ext cx="2266920" cy="16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609480" y="1219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249876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ا أبانا لستُ أدري </a:t>
            </a:r>
            <a:r>
              <a:rPr b="0" lang="ar-JO" sz="5000" spc="-1" strike="noStrike">
                <a:solidFill>
                  <a:srgbClr val="ffffff"/>
                </a:solidFill>
                <a:latin typeface="Webdings"/>
                <a:ea typeface="Webdings"/>
              </a:rPr>
              <a:t>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يا أبانا لستُ أدري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كيف كان العمر يجري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ون أن أدركَ أنّك، أنت أب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05740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كنّي الآن ابنك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ت ترعاني بحبّك، فلن أخاف أبداً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أنك تمسك يميني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2819520"/>
            <a:ext cx="8153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أسبحــــك، وأهتف لـك للأبـــــد،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ــا لــك، للأبـــد(</a:t>
            </a:r>
            <a:r>
              <a:rPr b="0" lang="ar-SA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ar-JO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05:56Z</dcterms:created>
  <dc:creator>user</dc:creator>
  <dc:description/>
  <dc:language>en-US</dc:language>
  <cp:lastModifiedBy>user</cp:lastModifiedBy>
  <dcterms:modified xsi:type="dcterms:W3CDTF">2006-05-05T05:41:26Z</dcterms:modified>
  <cp:revision>7</cp:revision>
  <dc:subject/>
  <dc:title>Slide 1</dc:title>
</cp:coreProperties>
</file>