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C25-ED2D-48D3-AD46-0FBBD5AC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518-A066-4580-9BE5-0FC90F3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9F9-E97E-4632-936A-6B03F439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09A-9EB3-4374-BF83-CECF88E2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A46-C020-450E-BBD1-E5A2ADAF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D5B-D298-4AE9-B03B-8FA6709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D89-68B9-4491-9968-27DFB27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793-CBB5-4E86-9BED-2EBF79F1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2E8-5A52-49C7-90E6-DDB8093F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474-223E-4D73-89B6-41AFD63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347-6A0A-4255-A87B-8BCEB94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E9C-5766-4434-8AEA-CECA8050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B60F-7667-4774-9BBF-8D49175C57E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8380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كعظيم رحمتكَ وكمثلِ رأفتك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52880" y="533520"/>
            <a:ext cx="3581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محُ مآثمي يا الله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92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920" y="5486400"/>
            <a:ext cx="83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غسلني كثيراً من إثمي ومن خطيئتي طهر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876920" y="368280"/>
            <a:ext cx="406224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لأني أنا عا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بأثا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867280" y="457200"/>
            <a:ext cx="3176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كَ وحدكَ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خطئتُ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الشرَّ قدامك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نعتُ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ا الله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4343400"/>
            <a:ext cx="4495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8600" y="4381560"/>
            <a:ext cx="838188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 تطرحني من أمامِ وجهك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روحكَ القدوس لا تنزعه م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248520" y="1066680"/>
            <a:ext cx="2819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نجني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من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دماء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657600" y="762120"/>
            <a:ext cx="518148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لك يليق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مجدُ يا الل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0:21Z</dcterms:created>
  <dc:creator>user</dc:creator>
  <dc:description/>
  <dc:language>en-US</dc:language>
  <cp:lastModifiedBy>user</cp:lastModifiedBy>
  <dcterms:modified xsi:type="dcterms:W3CDTF">2006-09-01T13:37:14Z</dcterms:modified>
  <cp:revision>9</cp:revision>
  <dc:subject/>
  <dc:title>Slide 1</dc:title>
</cp:coreProperties>
</file>