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E3F-E66D-42C5-8610-AC206ECD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BAC-D7A5-4718-8EC5-A05EF4E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E25-8E71-49CE-99C8-ED28B9BA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970-EF59-4CD7-8421-30A5C3C1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239-25B1-4896-9ED9-21DB8613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1D3-8107-41C3-9E3E-D0F2410B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9EEC-2F54-419B-AAEC-B8F86498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1C8-170B-4F13-BB25-B4F3E241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181-620C-4804-86A9-BB9323F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3CA-3E6A-4D71-B849-EA20DD24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3FF-F108-48D7-A806-E66EDEA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7D0-87C0-40B4-9184-6032886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523E-B604-45AA-8ECF-5A750F08D964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-228600"/>
            <a:ext cx="815328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فن المحب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أحلى طري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للوحدة بين الجم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هي نقاط مهمّة كثي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cs typeface="Tahoma"/>
              </a:rPr>
              <a:t>تنحب ودايماً من جدي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r>
              <a:rPr b="1" lang="ar-JO" sz="4000" spc="-1" strike="noStrike">
                <a:solidFill>
                  <a:srgbClr val="000000"/>
                </a:solidFill>
                <a:latin typeface="Tahoma"/>
                <a:cs typeface="Tahoma"/>
              </a:rPr>
              <a:t>هاي هاي هاي ها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-533520" y="114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62320" y="-228600"/>
            <a:ext cx="5715000" cy="12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ينا نشوف يسو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كلّ النا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نحب الكل مهما ك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لازم من عِنّا تبد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لوحدة دايماً هدف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-228600"/>
            <a:ext cx="5181480" cy="132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حتى الأعداء لازم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كل واحد مثل نفسنا نح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محبة بتحمل فرح جد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سعادة إلنا وللجميع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هاي هاي هاي ها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35800" y="0"/>
            <a:ext cx="1708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6360" y="57240"/>
            <a:ext cx="1785960" cy="215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3747960"/>
            <a:ext cx="2711520" cy="3110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3:36:34Z</dcterms:created>
  <dc:creator>user</dc:creator>
  <dc:description/>
  <dc:language>en-US</dc:language>
  <cp:lastModifiedBy>user</cp:lastModifiedBy>
  <dcterms:modified xsi:type="dcterms:W3CDTF">2006-05-05T05:41:18Z</dcterms:modified>
  <cp:revision>9</cp:revision>
  <dc:subject/>
  <dc:title>Slide 1</dc:title>
</cp:coreProperties>
</file>