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B29-BF72-429C-B147-FDF88B9E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E9A-F1FC-42BE-9761-3AD4AAC9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5D0-F3F6-4919-9AFD-FBA3EEAA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DCB-7A1B-4118-9FB0-ADD44373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78A-D118-43A5-9A0A-C4678C85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960-EDDD-45BA-A31A-85C3DE8A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0F7-7AA0-43D3-8EF8-6DE20125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E23-6E7D-4050-9313-3B7B81BE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57E-527C-4576-B14B-7C8D7558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7EA-C4C7-455C-815E-81D9A555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70D-FBFD-427C-827B-E86EAD34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7B2-167F-4A6A-AD3A-B9566E2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8732-C8B6-45AA-B3DA-0E16C7C7DD1F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 rot="20826600">
            <a:off x="-533520" y="4571640"/>
            <a:ext cx="2514600" cy="2610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698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 rot="20163000">
            <a:off x="7467480" y="5000400"/>
            <a:ext cx="1905120" cy="2009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590920" y="1219320"/>
            <a:ext cx="3762360" cy="459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9gnMiHDlFRE5_AAuPmJzbkF;_ylu=X3oDMTBkbHNiZXJuBHBvcwM0NgRzZWMDc3I-/SIG=1jlefgu8o/EXP=1146480195/**http%3A//images.search.yahoo.com/search/images/view%3Fback=http%253A%252F%252Fimages.search.yahoo.com%252Fsearch%252Fimages%253F_adv_prop%253Dimages%2526imgsz%253Dall%2526vf%253Dall%2526va%253Dwheat%2526ei%253DUTF-8%2526fr%253DFP-tab-web-t%2526b%253D41%26w=287%26h=238%26imgurl=townsvillebulletin.news.com.au%252Fcommon%252Fimagedata%252F0%252C3600%252C5112689%252C00.jpg%26rurl=http%253A%252F%252Ftownsvillebulletin.news.com.au%252Fcommon%252Fstory_page%252F0%252C7034%252C18245438%2525255E421%252C00.html%26size=34.7kB%26name=0,3600,5112689,00.jpg%26p=wheat%26type=jpeg%26no=46%26tt=337,975%26ei=UTF-8%26src=p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37260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24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حتى اقدر اتبع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شو ما عندي بقدمل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ما بخلي يعرف حدى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57400" cy="2206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لما يفتح باب المجد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ينزل ملاك ويحصد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يلي من زرع ايدي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أطيب قمحة بحقلتك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Wild Flowers and Wheat"/>
          <p:cNvPicPr/>
          <p:nvPr/>
        </p:nvPicPr>
        <p:blipFill>
          <a:blip r:embed="rId1"/>
          <a:stretch/>
        </p:blipFill>
        <p:spPr>
          <a:xfrm>
            <a:off x="0" y="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6520" y="141768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ليه عم تشح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خبر ومال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ذا انا اعطي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ك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اعطيت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سنابل قمح خضراء ممتلئة"/>
          <p:cNvPicPr/>
          <p:nvPr/>
        </p:nvPicPr>
        <p:blipFill>
          <a:blip r:embed="rId1"/>
          <a:stretch/>
        </p:blipFill>
        <p:spPr>
          <a:xfrm>
            <a:off x="0" y="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قاعد في حبس مهجور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خفيفلوا من صليب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لصليب 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إللي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عا كتاف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3856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388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بالبرد ويوقف عاالباب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دملوا احسن تياب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تيابي صاروا قلال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747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30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مريض القلب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ومجروح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زيارتي بتقويلو الروح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اني روحت لعند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1:32:51Z</dcterms:created>
  <dc:creator>user</dc:creator>
  <dc:description/>
  <dc:language>en-US</dc:language>
  <cp:lastModifiedBy>Kalisse</cp:lastModifiedBy>
  <dcterms:modified xsi:type="dcterms:W3CDTF">2006-11-11T01:32:45Z</dcterms:modified>
  <cp:revision>19</cp:revision>
  <dc:subject/>
  <dc:title>Slide 1</dc:title>
</cp:coreProperties>
</file>