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ADD-B6DE-4381-A1DB-C792ABF5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A50-483C-483B-982B-22D4E671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5AD9-1125-4B26-9E6B-0F8FAF03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CCA-82C8-413C-906F-FFCD231F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E61-4F30-479C-88BF-CA0B128C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625-DA4E-407D-8215-3723F242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0D32-29B3-43CF-A953-A73F75F7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80E-A3DB-4FFF-BBEF-F1C10A1F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EA1-4D9C-4A03-A852-6569427C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ED1-68C7-4B2A-9CA1-74B8F8BC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1A1-CA8A-493C-8514-6B3F2318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EE9-7E46-46D3-8D41-022B8F00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15FB-72F8-43C4-AC43-32C86652B57E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77120" y="304920"/>
            <a:ext cx="1766880" cy="1904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76720" y="-307800"/>
            <a:ext cx="4724280" cy="87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ب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  يصنـــع العجـــائ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إن طلبت تكري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جيب الطلـ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... نعم يقول رب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قدسوا للعمل ... غداً سأعمل بك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وسطكم ... في وسطكم عجائب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-53352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377120" y="304920"/>
            <a:ext cx="1766880" cy="1904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-307800"/>
            <a:ext cx="4724280" cy="87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هل يستطيع الرب أ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قـدس ذا  الجسـ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ع  ضعفـه وإثمـ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ـه يحـل للمـد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... نعم يقول رب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قدسوا للعمل ... غداً سأعمل بك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وسطكم ... في وسطكم عجائب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77120" y="304920"/>
            <a:ext cx="1766880" cy="1904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76720" y="60480"/>
            <a:ext cx="4724280" cy="77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هل يستطيع الرب أ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شـغل مـواهب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قـدسـاً  عـواطف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لمجـد  من أحبن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... نعم يقول رب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قدسوا للعمل ... غداً سأعمل بك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وسطكم ... في وسطكم عجائب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2:55:05Z</dcterms:created>
  <dc:creator>user</dc:creator>
  <dc:description/>
  <dc:language>en-US</dc:language>
  <cp:lastModifiedBy>user</cp:lastModifiedBy>
  <dcterms:modified xsi:type="dcterms:W3CDTF">2006-05-05T05:44:03Z</dcterms:modified>
  <cp:revision>13</cp:revision>
  <dc:subject/>
  <dc:title>Slide 1</dc:title>
</cp:coreProperties>
</file>