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4F6-826E-4498-953E-2447974F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3D1-CBA5-497A-93E8-7B408F09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53D1-CC07-4A2C-96BA-FE6230E7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B7D-EAF1-4293-AEDB-6B1DFDE2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543-0374-4A57-B8AF-3BFB095D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2A6-941A-41B0-B86F-5BD0B71A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A07-6433-476B-AC57-E9671684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01A-EB01-4A72-9714-380DCDC5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79F-64F6-4174-9731-10AC4407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177-5F7A-43D7-B145-B32C67B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DA0-287F-4060-AE9B-D1FB6F91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2EC-3396-4934-A2F9-0FA3542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E138-ADF2-4766-B92E-B1EC46039E6C}" type="slidenum">
              <a:rPr b="0" lang="ar-J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-108000" y="4083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1125360"/>
            <a:ext cx="324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0"/>
            <a:ext cx="36338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108000" y="3867120"/>
            <a:ext cx="3024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7000" spc="-1" strike="noStrike">
                <a:solidFill>
                  <a:srgbClr val="0000cc"/>
                </a:solidFill>
                <a:latin typeface="Times New Roman"/>
                <a:cs typeface="Akhbar MT"/>
              </a:rPr>
              <a:t>والمسبحة بإيديها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35640" y="33336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عدر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طل 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علين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608360" y="0"/>
            <a:ext cx="39261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55640" y="620640"/>
            <a:ext cx="280836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تقول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تنصلي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600" spc="-1" strike="noStrike">
                <a:solidFill>
                  <a:srgbClr val="0000cc"/>
                </a:solidFill>
                <a:latin typeface="Times New Roman"/>
                <a:ea typeface="Akhbar MT"/>
              </a:rPr>
              <a:t> معا</a:t>
            </a:r>
            <a:endParaRPr b="0" lang="en-US" sz="8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03880" y="0"/>
            <a:ext cx="4740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4360" y="1125360"/>
            <a:ext cx="33112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9600" spc="-1" strike="noStrike">
                <a:solidFill>
                  <a:srgbClr val="0000cc"/>
                </a:solidFill>
                <a:latin typeface="Times New Roman"/>
                <a:cs typeface="Akhbar MT"/>
              </a:rPr>
              <a:t>السما كلا بتسمعنا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108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1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1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1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123840"/>
            <a:ext cx="74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5357880"/>
            <a:ext cx="70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rabic Transparen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450864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4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49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5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840720" cy="4599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00000" y="17316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5286240"/>
            <a:ext cx="676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رشت عالأرض اله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0482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3440" y="4516560"/>
            <a:ext cx="7451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800" spc="-1" strike="noStrike">
                <a:solidFill>
                  <a:srgbClr val="0000cc"/>
                </a:solidFill>
                <a:latin typeface="Times New Roman"/>
                <a:cs typeface="Akhbar MT"/>
              </a:rPr>
              <a:t>زرعت بقلوبنا الرجا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479520" y="73080"/>
            <a:ext cx="7692480" cy="6711840"/>
            <a:chOff x="479520" y="73080"/>
            <a:chExt cx="7692480" cy="6711840"/>
          </a:xfrm>
        </p:grpSpPr>
        <p:grpSp>
          <p:nvGrpSpPr>
            <p:cNvPr id="70" name=""/>
            <p:cNvGrpSpPr/>
            <p:nvPr/>
          </p:nvGrpSpPr>
          <p:grpSpPr>
            <a:xfrm>
              <a:off x="1595160" y="1143000"/>
              <a:ext cx="1247400" cy="4194000"/>
              <a:chOff x="1595160" y="1143000"/>
              <a:chExt cx="1247400" cy="4194000"/>
            </a:xfrm>
          </p:grpSpPr>
          <p:pic>
            <p:nvPicPr>
              <p:cNvPr id="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95160" y="38862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595160" y="114300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3" name=""/>
            <p:cNvGrpSpPr/>
            <p:nvPr/>
          </p:nvGrpSpPr>
          <p:grpSpPr>
            <a:xfrm>
              <a:off x="479520" y="73080"/>
              <a:ext cx="1323360" cy="6711840"/>
              <a:chOff x="479520" y="73080"/>
              <a:chExt cx="1323360" cy="6711840"/>
            </a:xfrm>
          </p:grpSpPr>
          <p:pic>
            <p:nvPicPr>
              <p:cNvPr id="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9520" y="7308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5480" y="2666880"/>
                <a:ext cx="1247400" cy="145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79520" y="5334120"/>
                <a:ext cx="1247400" cy="145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3666960" y="333360"/>
              <a:ext cx="4505040" cy="61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7"/>
            <a:stretch/>
          </p:blipFill>
          <p:spPr>
            <a:xfrm>
              <a:off x="4716360" y="907920"/>
              <a:ext cx="1891800" cy="35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 txBox="1"/>
            <p:nvPr/>
          </p:nvSpPr>
          <p:spPr>
            <a:xfrm>
              <a:off x="5867280" y="4149720"/>
              <a:ext cx="1433160" cy="771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رد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842920" y="443700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مسبح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171680" y="5681520"/>
              <a:ext cx="1726920" cy="843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Akhbar MT"/>
                </a:rPr>
                <a:t>وصلاة</a:t>
              </a:r>
              <a:endParaRPr b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khbar MT"/>
                <a:ea typeface="Akhbar MT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88360" cy="5129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35280" y="123840"/>
            <a:ext cx="453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5424480"/>
            <a:ext cx="7414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8000" spc="-1" strike="noStrike">
                <a:solidFill>
                  <a:srgbClr val="0000cc"/>
                </a:solidFill>
                <a:latin typeface="Times New Roman"/>
                <a:cs typeface="Akhbar MT"/>
              </a:rPr>
              <a:t>بسمة حلوة من السم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xit" presetID="9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05:39:47Z</dcterms:created>
  <dc:creator>Sr Lina</dc:creator>
  <dc:description/>
  <dc:language>en-US</dc:language>
  <cp:lastModifiedBy>user</cp:lastModifiedBy>
  <dcterms:modified xsi:type="dcterms:W3CDTF">2005-12-09T06:43:34Z</dcterms:modified>
  <cp:revision>144</cp:revision>
  <dc:subject/>
  <dc:title>PowerPoint Presentation</dc:title>
</cp:coreProperties>
</file>