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28B-0ED2-4EFE-997C-60BEF6D0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D7E2-A206-4DB6-8FDD-A71CA87D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026-53AF-4069-A0AE-19A36C8E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D68-9476-445A-8EFC-66EDFCF3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7BD-B8D1-45DD-8A28-38404ACC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6D2-E807-483C-8E89-13F0166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82D-9C88-4589-92EB-E146DF65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69F-535E-4F82-8AE3-DA05CE5B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24B-EA41-4007-A75F-7BCA3F27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A64C-5143-439F-97F7-B8973A2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C7C7-AB97-44DA-8C93-6787051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DEE-7FB0-4708-880C-12BC1CC3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5E2E-67F0-48E6-8CE0-B1A1BFFA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57800" y="363600"/>
            <a:ext cx="38862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257800" y="298440"/>
            <a:ext cx="388620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سقي عطش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كأس م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سي عري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ثوب ح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كفكف الدمو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العي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نفر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القلوب بالرجاء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ن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4120" y="304920"/>
            <a:ext cx="380988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أقبّل رفيق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دون غ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مو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روح الإنتقام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ّ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يُرَمّ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قلبي الجف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عندما تذوب نفس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في كيان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ahoma"/>
              </a:rPr>
              <a:t>أكون في الميلاد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410080" y="363600"/>
            <a:ext cx="3657600" cy="62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ُمَّحى البغ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زهِر الأر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تُدفن الحر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ليلة الميل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ahoma"/>
                <a:cs typeface="Tahoma"/>
              </a:rPr>
              <a:t>ينبت الحب</a:t>
            </a:r>
            <a:r>
              <a:rPr b="1" lang="ar-SA" sz="4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2T23:23:56Z</dcterms:created>
  <dc:creator>xp</dc:creator>
  <dc:description/>
  <dc:language>en-US</dc:language>
  <cp:lastModifiedBy>xp</cp:lastModifiedBy>
  <dcterms:modified xsi:type="dcterms:W3CDTF">2004-12-13T15:12:24Z</dcterms:modified>
  <cp:revision>16</cp:revision>
  <dc:subject/>
  <dc:title>Slide 1</dc:title>
</cp:coreProperties>
</file>