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3CD-2C8D-4610-B473-FA51CD7B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D520-F77D-4134-80A1-5DB69AE2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F89E-5B0E-4055-A4CF-231EC91E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70F-FF1B-40D4-8FC7-AEDDDDC6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7F2-547D-4D1C-BD51-57A4665A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B939-3062-436E-BD8C-90E37A6C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3560-1913-4AE1-8352-573F1804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1652-4BC2-47DC-A8A2-01A74AF8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5DBF-0EEA-45F3-91CF-9B714FC4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324A-FE76-472C-BE1D-96A69D3A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33B1-998E-4E7D-BA78-589F42B4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952-F1B2-4FB7-BE49-D05B19BD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A87B-787A-4F7C-8B30-708E2FE13540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42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773000" y="2416680"/>
            <a:ext cx="123271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قديس فيك تكون شو ناطر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حياتك من دون إيمانك شو ه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3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059480" y="4097880"/>
            <a:ext cx="11264760" cy="19227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فكر بللي جايي ... كمِّل للنهاي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بتلاقي البداية ... بالسما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42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1773000" y="2416680"/>
            <a:ext cx="123271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قديس فيك تكون شو ناطر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حياتك من دون إيمانك شو ه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1848240" y="4854960"/>
            <a:ext cx="127947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آمن برب الكون صلي وأطلب العو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درب السما من هون بتبلش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848240" y="4854960"/>
            <a:ext cx="127947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آمن برب الكون صلي وأطلب العو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درب السما من هون بتبلش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42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1773000" y="2416680"/>
            <a:ext cx="123271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قديس فيك تكون شو ناطر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حياتك من دون إيمانك شو ه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1848240" y="4854960"/>
            <a:ext cx="127947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آمن برب الكون صلي وأطلب العو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درب السما من هون بتبلش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689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006080" y="821520"/>
            <a:ext cx="6083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قلي شو ناطر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ما تقلي بكي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بإيمانك قادر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قديس إنت تصي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829800" cy="732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435960" y="380520"/>
            <a:ext cx="99158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00"/>
                </a:solidFill>
                <a:latin typeface="Arial"/>
              </a:rPr>
              <a:t>درب السما مقشوع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0" lang="ar-SA" sz="5000" spc="-1" strike="noStrike">
                <a:solidFill>
                  <a:srgbClr val="ffff00"/>
                </a:solidFill>
                <a:latin typeface="Arial"/>
              </a:rPr>
              <a:t>محبة كلو مزر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00"/>
                </a:solidFill>
                <a:latin typeface="Arial"/>
              </a:rPr>
              <a:t>ضل مرافق يس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0" lang="ar-SA" sz="5000" spc="-1" strike="noStrike">
                <a:solidFill>
                  <a:srgbClr val="ffff00"/>
                </a:solidFill>
                <a:latin typeface="Arial"/>
              </a:rPr>
              <a:t>للسما يا خي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42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1773000" y="2416680"/>
            <a:ext cx="123271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قديس فيك تكون شو ناطر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حياتك من دون إيمانك شو ه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1848240" y="4854960"/>
            <a:ext cx="127947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آمن برب الكون صلي وأطلب العو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درب السما من هون بتبلش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829800" cy="736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0920" y="4402800"/>
            <a:ext cx="106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درب القداسة مليانة محب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لو شفتا قاسية ما تفكر صعب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1:30:56Z</dcterms:created>
  <dc:creator>user</dc:creator>
  <dc:description/>
  <dc:language>en-US</dc:language>
  <cp:lastModifiedBy>user</cp:lastModifiedBy>
  <dcterms:modified xsi:type="dcterms:W3CDTF">2006-09-01T13:41:35Z</dcterms:modified>
  <cp:revision>14</cp:revision>
  <dc:subject/>
  <dc:title>Slide 1</dc:title>
</cp:coreProperties>
</file>