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AB3F-71BD-4657-BD92-8B7DED30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A66-A0C7-4C12-85B7-3567318C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72D-3C08-4E6B-B096-6F775731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ED7C-549F-4E28-8321-A1B034B2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F80F-DCF1-47D7-98D4-FB91B91C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886F-4C38-465C-A137-2E462A01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AFD-56E7-4973-9CA9-56A0CD34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CAAF-C99B-4DFB-AECD-3A0DCDA5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CD4D-23FD-4349-B165-54BB234A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0B2-21A7-4F7F-B49F-BAE7D380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90F-1F6C-47B3-BA25-EA2712AA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EFD-2B46-443B-AA37-DEDC4CF3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4317-CDE1-42C9-9920-0FA8D334318D}" type="slidenum">
              <a:rPr b="0" lang="ar-J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403880" y="0"/>
            <a:ext cx="474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907920"/>
            <a:ext cx="3505320" cy="79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في ظلّ حمايت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نلتجئ يا مري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لا تردّي طلبتنا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عندما ندعو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76720" y="755640"/>
            <a:ext cx="3792600" cy="88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99"/>
                </a:solidFill>
                <a:latin typeface="Times New Roman"/>
              </a:rPr>
              <a:t>يا فخر البرايا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99"/>
                </a:solidFill>
                <a:latin typeface="Times New Roman"/>
              </a:rPr>
              <a:t>يا خير الور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99"/>
                </a:solidFill>
                <a:latin typeface="Times New Roman"/>
              </a:rPr>
              <a:t>يا بحر العطايا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99"/>
                </a:solidFill>
                <a:latin typeface="Times New Roman"/>
              </a:rPr>
              <a:t>في الدنيا جر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3960720" cy="685800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</p:spTree>
  </p:cSld>
  <p:transition spd="slow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03280" y="915840"/>
            <a:ext cx="6337440" cy="5106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0480" y="44280"/>
            <a:ext cx="728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في ظلّ حمايتك</a:t>
            </a:r>
            <a:r>
              <a:rPr b="1" lang="ar-JO" sz="5400" spc="-1" strike="noStrike">
                <a:solidFill>
                  <a:srgbClr val="663300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نلتجئ يا مري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5943600"/>
            <a:ext cx="728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لا تردّي طلبتنا </a:t>
            </a:r>
            <a:r>
              <a:rPr b="1" lang="ar-JO" sz="5400" spc="-1" strike="noStrike">
                <a:solidFill>
                  <a:srgbClr val="663300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عندما ندعو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75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14800" y="465120"/>
            <a:ext cx="4800600" cy="87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ا باب السما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ا أم الفد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ا عين الرجا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ا نور الهد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08000" y="0"/>
            <a:ext cx="5256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164360" y="1530360"/>
            <a:ext cx="1835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في ظلّ حمايتك</a:t>
            </a:r>
            <a:r>
              <a:rPr b="1" lang="ar-JO" sz="5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نلتجئ يا مري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836640"/>
            <a:ext cx="17272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لا تردّي طلبتنا </a:t>
            </a:r>
            <a:r>
              <a:rPr b="1" lang="ar-JO" sz="5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عندما ندعو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769080" cy="460872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108000" y="1500120"/>
            <a:ext cx="8959680" cy="4289400"/>
            <a:chOff x="108000" y="1500120"/>
            <a:chExt cx="8959680" cy="428940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108000" y="1500120"/>
              <a:ext cx="1676520" cy="14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108000" y="4365720"/>
              <a:ext cx="1676520" cy="14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5"/>
            <a:stretch/>
          </p:blipFill>
          <p:spPr>
            <a:xfrm>
              <a:off x="7391520" y="1500120"/>
              <a:ext cx="1676160" cy="14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6"/>
            <a:stretch/>
          </p:blipFill>
          <p:spPr>
            <a:xfrm>
              <a:off x="7391520" y="4365720"/>
              <a:ext cx="1676160" cy="142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611280" y="115920"/>
            <a:ext cx="8304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ارحمي عبيداً... باتوا مخلصي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8960" y="5715000"/>
            <a:ext cx="8304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بغون المزيد... منكِ كلَّ حي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99ff"/>
            </a:gs>
            <a:gs pos="100000">
              <a:srgbClr val="c0c0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49687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164360" y="1530360"/>
            <a:ext cx="1835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في ظلّ حمايتك</a:t>
            </a:r>
            <a:r>
              <a:rPr b="1" lang="ar-JO" sz="5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نلتجئ يا مري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836640"/>
            <a:ext cx="17272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لا تردّي طلبتنا </a:t>
            </a:r>
            <a:r>
              <a:rPr b="1" lang="ar-JO" sz="5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عندما ندعو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05:39:47Z</dcterms:created>
  <dc:creator>Sr Lina</dc:creator>
  <dc:description/>
  <dc:language>en-US</dc:language>
  <cp:lastModifiedBy>user</cp:lastModifiedBy>
  <dcterms:modified xsi:type="dcterms:W3CDTF">2005-07-30T05:56:38Z</dcterms:modified>
  <cp:revision>91</cp:revision>
  <dc:subject/>
  <dc:title>PowerPoint Presentation</dc:title>
</cp:coreProperties>
</file>