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812-4CBE-4165-B9D7-52B4772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D20-79A0-4CE3-94DB-02F2665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265-E27E-462C-8CD0-14477881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E2E-1F9E-46FE-8F69-1C2A080D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351-BB49-49CC-B91F-7DBDA87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64B-E7B0-40A9-B566-18528D5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641-5B2F-40AF-BCFB-872AA44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7EF-3947-42BF-B097-11B09E85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E41-929E-4718-9B0E-784C99A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3F5-7272-4A43-B468-2DA2635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AD9-8B4D-4482-AD73-76C0A13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A20-78C1-4F48-BCF7-D36B984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C2F1-8300-459D-8C63-572B81464D0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وب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0"/>
            <a:ext cx="487656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غفرت معصيته وسترت خطيئ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تختاره وتقرِّب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طوبى طوبى لمن تختار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0"/>
            <a:ext cx="571500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حين سكتُّ بليت عظ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إلى الهشيم تحوَّل قلب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فأبحتكَ بجميع آث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أنتَ رفعتَ وزر خطيئت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6f7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93640"/>
            <a:ext cx="556236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إن طغى غمر الميا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ما استطاع أن يدرك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أنت ستري من الضيق تقيني وبترنيم النجاة تحيط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76320"/>
            <a:ext cx="5943600" cy="10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عودي يا نفسي إلى راحت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فإن الرب قد أحسن إل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أنه من الموت أنقذ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من الدمع مسح عين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طوبى طوبى لمن غفرت معصيت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9:49Z</dcterms:created>
  <dc:creator>user</dc:creator>
  <dc:description/>
  <dc:language>en-US</dc:language>
  <cp:lastModifiedBy>user</cp:lastModifiedBy>
  <dcterms:modified xsi:type="dcterms:W3CDTF">2006-09-01T13:40:24Z</dcterms:modified>
  <cp:revision>9</cp:revision>
  <dc:subject/>
  <dc:title>Slide 1</dc:title>
</cp:coreProperties>
</file>