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02A-5126-426F-BD5D-A60A97EA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3E8-C519-47F8-A306-04A0558A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F13-3EC9-4C6C-B260-D7870F47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D25-075F-442B-B6DB-B9166CA0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D84-5146-4111-9308-A06E847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8E1-EE8D-499F-8250-E522920D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CCA-3E86-425C-AB7C-D65686C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EC9-D2CA-4B05-92ED-B1710A7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E1F-C0EC-4079-A3F4-BF2BE4C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1BC-0E9B-42BB-A9F0-959ED560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3F56-2197-49A6-ABEE-E98CA22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7B5-A446-448A-BD72-C5F8BC14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BAC-BA7C-434A-ABC6-2B7ED27EE15B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059480" y="4097880"/>
            <a:ext cx="11264760" cy="19227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فكر بللي جايي ... كمِّل للنها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تلاقي البداية ... بالسما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689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06080" y="821520"/>
            <a:ext cx="6083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لي شو ناط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ما تقلي بك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بإيمانك قادر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قديس إنت تص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2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435960" y="380520"/>
            <a:ext cx="99158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درب السما مقشوع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محبة كلو مزر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ضل مرافق يسو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00"/>
                </a:solidFill>
                <a:latin typeface="Arial"/>
              </a:rPr>
              <a:t>                                    </a:t>
            </a:r>
            <a:r>
              <a:rPr b="0" lang="ar-SA" sz="5000" spc="-1" strike="noStrike">
                <a:solidFill>
                  <a:srgbClr val="ffff00"/>
                </a:solidFill>
                <a:latin typeface="Arial"/>
              </a:rPr>
              <a:t>للسما يا خي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42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773000" y="2416680"/>
            <a:ext cx="123271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قديس فيك تكون شو ناطر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حياتك من دون إيمانك شو ه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1848240" y="4854960"/>
            <a:ext cx="12794760" cy="19227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آمن برب الكون صلي وأطلب العو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درب السما من هون بتبلش يا خي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829800" cy="7364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0920" y="4402800"/>
            <a:ext cx="106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درب القداسة مليانة مح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لو شفتا قاسية ما تفكر صعب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1:30:56Z</dcterms:created>
  <dc:creator>user</dc:creator>
  <dc:description/>
  <dc:language>en-US</dc:language>
  <cp:lastModifiedBy>user</cp:lastModifiedBy>
  <dcterms:modified xsi:type="dcterms:W3CDTF">2006-09-01T13:41:35Z</dcterms:modified>
  <cp:revision>14</cp:revision>
  <dc:subject/>
  <dc:title>Slide 1</dc:title>
</cp:coreProperties>
</file>