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6B0-2554-485A-95DC-B0451D2E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D87-B142-45FB-8C08-CDE9DE9B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9C1-C848-4C38-BEB7-C933DEC6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E7F-AC0E-4666-A9E5-77495C54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67B-7C18-4910-8387-66CB43AE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89C-FEA0-464A-B47C-25FFA0AA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D72-7018-4768-8546-7D1A212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926-E896-4FDE-B158-B8CB8E55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5E8-49FD-4380-A574-1AFFC544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A18-6A70-4D77-BB99-759A85F7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287-C4C1-41B9-8B05-F739CF7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BCD-6B91-407B-859D-793E5C3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B03-3F02-4B93-8FCE-2E2C126B34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752480"/>
            <a:ext cx="67341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مثل الإبن الشاطر رح إرجع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عندك يا هالناطر عا دروب المحبة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قدملك قلبي مثل الإبن الشاطر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عندك بخلص دربي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0" y="144792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غفر ربي بُعدي وانسى لي زل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حدك ربي قادر تِسرِقني من ذ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أعطني حبك دفيني بحنانك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سقيني نورك تَتشعشع حي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1:12:37Z</dcterms:created>
  <dc:creator>bhadad</dc:creator>
  <dc:description/>
  <dc:language>en-US</dc:language>
  <cp:lastModifiedBy>bhadad</cp:lastModifiedBy>
  <dcterms:modified xsi:type="dcterms:W3CDTF">2003-12-02T21:22:45Z</dcterms:modified>
  <cp:revision>6</cp:revision>
  <dc:subject/>
  <dc:title>Slide 1</dc:title>
</cp:coreProperties>
</file>