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songbird_barbra_streisand%5B1%5D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D140-BED5-4B3C-9BC3-284153DD0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4D4D-AAAD-4DB6-BDB5-4ECE4071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3B03-4A52-45DD-A4DB-6C2A72AB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FD64-DA56-46BB-9203-D7B8FABDF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5E36-C57B-4B76-95A4-959EA3B7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7D04-A5C1-4850-A36C-9D2B98C2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C50C-818C-42BB-A55C-BE66D661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23BC-28C9-4F36-9804-E08BEC5C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B8C1-F370-4480-9CFA-F85670C8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C2EA-C793-4C12-892E-009CF3D9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45DE-1A7D-4EA6-9F37-CC02B2CC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D83F-0102-481A-9758-7AA5BAF9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789F-E9B9-4A8C-B097-6001F573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F01A-8946-43FE-8ECA-8AA93F91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32B8-C004-42A7-B877-5C500125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A157-190D-419B-8D73-EDF173F3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58DE-C7D6-4B08-AE5B-19CA92C87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3F572-8519-430B-A42D-EDB7FCA17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D058B-B6DC-41B9-A2D5-287D40AC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F48FA-DEEB-469A-AC68-935A4383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19F1A-0441-4457-BA25-159CD6F9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CD502-0650-4DDB-8C43-8E212877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6E99-D392-4A89-ABBC-A229A791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5312B-3A06-4CDB-B30E-6EF0048B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D3CB6-8C6F-4AFA-8854-68AD0B25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11C69-CB9B-49DA-B4B8-9FF183C8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63E69-9238-4D5C-9C75-3B86CDED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B7485-C954-4A6A-8D49-3F910C83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E1531-63B9-4303-8C99-1FBF1E4A9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9C1A1-9B4A-478D-A5AD-CDF359617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C816-E815-4F93-8A4D-CEA6F27C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3E69-5135-40AF-AEBB-5CAC3766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C03E-1E0A-4CF3-9E8E-AA848F99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2F34-FD30-47DA-A4A9-1B998D0A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B4FB-89F1-4E64-AE95-7C6E13AD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7CE8-A2A9-485D-821C-77026749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51E2-FE05-4DD8-8870-1CE419A29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24C2-B37F-47F6-A9C4-C72C49B14C1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5CDB-7BA0-439E-89E5-2B732CB3F2C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ngbird_barbra_streisand%5B1%5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50000">
              <a:srgbClr val="ffffff"/>
            </a:gs>
            <a:gs pos="100000">
              <a:srgbClr val="99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694640" cy="688500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2990520" y="614520"/>
            <a:ext cx="5455440" cy="6426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empus Sans ITC"/>
              </a:rPr>
              <a:t>Leçon de PERSÉVER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-266400" y="6237360"/>
            <a:ext cx="56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empus Sans ITC"/>
              </a:rPr>
              <a:t>Musique: Songbird – Barbra Streis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  <p:sndAc>
      <p:stSnd>
        <p:snd r:embed="rId2" name="songbird_barbra_streisand%5B1%5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fffff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136000" cy="48020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539640" y="333360"/>
            <a:ext cx="8163000" cy="11912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empus Sans ITC"/>
              </a:rPr>
              <a:t>Es-tu fatigué de recommencer, du gaspillage de la lutte quotidienne, de la confiance trahie, des buts non atteints quand tu étais sur le point d’y arriv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6000"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50000">
              <a:srgbClr val="ffffff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8244000" cy="4869000"/>
          </a:xfrm>
          <a:prstGeom prst="rect">
            <a:avLst/>
          </a:prstGeom>
          <a:ln w="9360">
            <a:solidFill>
              <a:srgbClr val="666699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-669960" y="50760"/>
            <a:ext cx="10687320" cy="19227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empus Sans ITC"/>
              </a:rPr>
              <a:t>La vie te frappe ainsi parfois, mais ne te rends jamais, dis une prièr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empus Sans ITC"/>
              </a:rPr>
              <a:t>mets ton espoir en avant et fo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empus Sans ITC"/>
              </a:rPr>
              <a:t>N</a:t>
            </a:r>
            <a:r>
              <a:rPr b="1" lang="es-ES" sz="2400" spc="-1" strike="noStrike">
                <a:solidFill>
                  <a:srgbClr val="003366"/>
                </a:solidFill>
                <a:latin typeface="Tempus Sans ITC"/>
              </a:rPr>
              <a:t>e te preoccupe pas si dans la bataille tu reçois une blessure,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Tempus Sans ITC"/>
              </a:rPr>
              <a:t>Il faut s’y attendre. Réunis les morceaux de ton espéranc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Tempus Sans ITC"/>
              </a:rPr>
              <a:t>reconstruis-la et fonce de nouv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5000">
    <p:fade thruBlk="true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ffffff"/>
            </a:gs>
            <a:gs pos="100000">
              <a:srgbClr val="6666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-312480" y="5022720"/>
            <a:ext cx="98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633"/>
                </a:solidFill>
                <a:latin typeface="Tempus Sans ITC"/>
              </a:rPr>
              <a:t>Peu importe ce qui se passe… ne faiblis pas, va de l’avant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633"/>
                </a:solidFill>
                <a:latin typeface="Tempus Sans ITC"/>
              </a:rPr>
              <a:t>La vie est un défi constant, mais cela vaut la peine de l’accep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6633"/>
                </a:solidFill>
                <a:latin typeface="Tempus Sans ITC"/>
              </a:rPr>
              <a:t>Et surtout… n’arrête jamais de chanter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7000"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92880" y="2637000"/>
            <a:ext cx="7310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cc0000"/>
                </a:solidFill>
                <a:latin typeface="Arial Black"/>
              </a:rPr>
              <a:t>Ne le guarde pas pour toi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cc0000"/>
                </a:solidFill>
                <a:latin typeface="Arial Black"/>
              </a:rPr>
              <a:t>Fais-le suivre à ton groupe d’ami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9640" y="1197000"/>
            <a:ext cx="813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e te souhaite un jour merveilleux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5000">
    <p:fade thruBlk="true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50000">
              <a:srgbClr val="ffffff"/>
            </a:gs>
            <a:gs pos="100000">
              <a:srgbClr val="99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918560" cy="46274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826920" y="5484960"/>
            <a:ext cx="777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Tempus Sans ITC"/>
              </a:rPr>
              <a:t>As-tu déjà observé l’attitude des oiseaux face à l’adversité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fff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3040" y="228600"/>
            <a:ext cx="8788680" cy="5324400"/>
          </a:xfrm>
          <a:prstGeom prst="rect">
            <a:avLst/>
          </a:prstGeom>
          <a:ln w="9360">
            <a:solidFill>
              <a:srgbClr val="ff99cc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-285120" y="5810400"/>
            <a:ext cx="965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66"/>
                </a:solidFill>
                <a:latin typeface="Tempus Sans ITC"/>
              </a:rPr>
              <a:t>Pendant des jours et des jours ils font leur nid, recueillant 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66"/>
                </a:solidFill>
                <a:latin typeface="Tempus Sans ITC"/>
              </a:rPr>
              <a:t>matériaux parfois ramenés de très loi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50000">
              <a:srgbClr val="ffffff"/>
            </a:gs>
            <a:gs pos="100000">
              <a:srgbClr val="9966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4800" y="1773360"/>
            <a:ext cx="7932600" cy="4932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-442440" y="109440"/>
            <a:ext cx="10217880" cy="15570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00"/>
                </a:solidFill>
                <a:latin typeface="Tempus Sans ITC"/>
              </a:rPr>
              <a:t>... Et lorsqu’ils ont terminé et qu’ils sont prêts à déposer les oeuf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00"/>
                </a:solidFill>
                <a:latin typeface="Tempus Sans ITC"/>
              </a:rPr>
              <a:t>les intempéries ou l’oeuvre de l’être humain ou d’u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00"/>
                </a:solidFill>
                <a:latin typeface="Tempus Sans ITC"/>
              </a:rPr>
              <a:t>quelconque 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00"/>
                </a:solidFill>
                <a:latin typeface="Tempus Sans ITC"/>
              </a:rPr>
              <a:t>le détruit  et envoie au sol ce qu’ils ont réalisé avec tant d’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fade thruBlk="true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ffff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536920" y="147600"/>
            <a:ext cx="6378480" cy="6561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395280" y="1557360"/>
            <a:ext cx="1979640" cy="228852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empus Sans ITC"/>
              </a:rPr>
              <a:t>Que fait l’oisea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empus Sans ITC"/>
              </a:rPr>
              <a:t>Il se paralyse et abandonne la tâc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76360" y="152280"/>
            <a:ext cx="7989840" cy="488016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-677160" y="5505480"/>
            <a:ext cx="1048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Tempus Sans ITC"/>
              </a:rPr>
              <a:t>En aucune façon. Il recommence encore et encore jusqu’à ce que 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80"/>
                </a:solidFill>
                <a:latin typeface="Tempus Sans ITC"/>
              </a:rPr>
              <a:t> </a:t>
            </a:r>
            <a:r>
              <a:rPr b="1" lang="es-ES_tradnl" sz="2400" spc="-1" strike="noStrike">
                <a:solidFill>
                  <a:srgbClr val="800080"/>
                </a:solidFill>
                <a:latin typeface="Tempus Sans ITC"/>
              </a:rPr>
              <a:t>premiers oeufs apparaissent dans le n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00"/>
            </a:gs>
            <a:gs pos="50000">
              <a:srgbClr val="ffffff"/>
            </a:gs>
            <a:gs pos="100000">
              <a:srgbClr val="808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76360" y="1627200"/>
            <a:ext cx="7989840" cy="49258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-531720" y="222120"/>
            <a:ext cx="102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00"/>
                </a:solidFill>
                <a:latin typeface="Tempus Sans ITC"/>
              </a:rPr>
              <a:t>Parfois –très souvent – avant que naissent les oisill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00"/>
                </a:solidFill>
                <a:latin typeface="Tempus Sans ITC"/>
              </a:rPr>
              <a:t>un animal, un  enfant, une tempête détruit une fois de plus le ni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00"/>
                </a:solidFill>
                <a:latin typeface="Tempus Sans ITC"/>
              </a:rPr>
              <a:t>mais cette fois avec son précieux contenu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50000">
              <a:srgbClr val="ffffff"/>
            </a:gs>
            <a:gs pos="100000">
              <a:srgbClr val="c0c0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932960" cy="50641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-479880" y="5460840"/>
            <a:ext cx="102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empus Sans ITC"/>
              </a:rPr>
              <a:t>Cela fait mal de recommencer depuis zéro… même ains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empus Sans ITC"/>
              </a:rPr>
              <a:t>l’oiseau ne se tait jamais, ni ne recul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empus Sans ITC"/>
              </a:rPr>
              <a:t>il continue de chanter et de construire, construisant et chantan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50000">
              <a:srgbClr val="ffffff"/>
            </a:gs>
            <a:gs pos="100000">
              <a:srgbClr val="6666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95280" y="152280"/>
            <a:ext cx="8424720" cy="5005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95280" y="5208480"/>
            <a:ext cx="8424720" cy="22885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4c00"/>
                </a:solidFill>
                <a:latin typeface="Tempus Sans ITC"/>
              </a:rPr>
              <a:t>As-tu parfois eu le sentiment que ta vi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4c00"/>
                </a:solidFill>
                <a:latin typeface="Tempus Sans ITC"/>
              </a:rPr>
              <a:t>ton travail, ta famille ne sont pas ce que tu avais rêvé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4c00"/>
                </a:solidFill>
                <a:latin typeface="Tempus Sans ITC"/>
              </a:rPr>
              <a:t>As-tu parfois envie de dire “assez”, l’effort ne vaut pas la pein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4c00"/>
                </a:solidFill>
                <a:latin typeface="Tempus Sans ITC"/>
              </a:rPr>
              <a:t>C’est trop pour moi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7000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9:27:38Z</dcterms:created>
  <dc:creator>nor@</dc:creator>
  <dc:description/>
  <dc:language>en-US</dc:language>
  <cp:lastModifiedBy>Christiane Huvelle</cp:lastModifiedBy>
  <dcterms:modified xsi:type="dcterms:W3CDTF">2007-03-21T20:51:25Z</dcterms:modified>
  <cp:revision>52</cp:revision>
  <dc:subject/>
  <dc:title>perseverancia</dc:title>
</cp:coreProperties>
</file>