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EF3-A677-4053-B6B2-7289C51A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6C0-1613-4D97-87AB-7EED239B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098-AE45-4CAC-BA1C-EDE8FC7D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CB5-1B5F-4D6A-8972-6A16687A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4D33-6E34-414A-A0BB-DEE34BF6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F230-D335-45D3-9939-DA51B49A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F14-2032-4F73-8B3A-DF8D2C88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F2D-692C-435F-8713-7B28B68C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962-DDAE-4BA4-85AD-1C917276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728-8E01-4F08-AE51-7056E0DD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288C-6843-4F22-B391-07EAD36D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BD9F-D699-40DD-9AD7-7D98405B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3417-99BE-4DCD-9F74-DAE1091A28A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620640"/>
            <a:ext cx="748836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Rounded MT Bold"/>
              </a:rPr>
              <a:t>الجسر 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750000"/>
            <a:ext cx="108000" cy="10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9640" y="1341360"/>
            <a:ext cx="792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fff3f"/>
                </a:solidFill>
                <a:latin typeface="Times New Roman"/>
                <a:cs typeface="Arabic Transparent"/>
              </a:rPr>
              <a:t>بعد انتهاء السفر ، عاد سعيد</a:t>
            </a:r>
            <a:r>
              <a:rPr b="1" lang="ar-SA" sz="4800" spc="-1" strike="noStrike">
                <a:solidFill>
                  <a:srgbClr val="9fff3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9fff3f"/>
                </a:solidFill>
                <a:latin typeface="Times New Roman"/>
                <a:ea typeface="Arabic Transparent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fff3f"/>
                </a:solidFill>
                <a:latin typeface="Times New Roman"/>
                <a:cs typeface="Arabic Transparent"/>
              </a:rPr>
              <a:t>كان الرجل قد انتهى من عمله</a:t>
            </a:r>
            <a:r>
              <a:rPr b="1" lang="ar-SA" sz="4800" spc="-1" strike="noStrike">
                <a:solidFill>
                  <a:srgbClr val="9fff3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9fff3f"/>
                </a:solidFill>
                <a:latin typeface="Times New Roman"/>
                <a:ea typeface="Arabic Transparent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3860640"/>
            <a:ext cx="7272360" cy="16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abic Transparent"/>
              </a:rPr>
              <a:t>ولكن يا للمفاجأة !! !!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abic Transparent"/>
              <a:ea typeface="Arabic Transparent"/>
            </a:endParaRPr>
          </a:p>
        </p:txBody>
      </p:sp>
    </p:spTree>
  </p:cSld>
  <p:transition spd="slow">
    <p:newsflash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7650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ff00"/>
                </a:solidFill>
                <a:latin typeface="Times New Roman"/>
                <a:cs typeface="Arabic Transparent"/>
              </a:rPr>
              <a:t>سعيد متأثر ومستغرب جداَ بما يرى</a:t>
            </a:r>
            <a:r>
              <a:rPr b="1" lang="ar-SA" sz="4800" spc="-1" strike="noStrike">
                <a:solidFill>
                  <a:srgbClr val="00ff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00ff00"/>
                </a:solidFill>
                <a:latin typeface="Times New Roman"/>
                <a:ea typeface="Arabic Transparent"/>
              </a:rPr>
              <a:t>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ff00"/>
                </a:solidFill>
                <a:latin typeface="Times New Roman"/>
                <a:cs typeface="Arabic Transparent"/>
              </a:rPr>
              <a:t>بدل الحائط الذي اراده بارتفاع مترين</a:t>
            </a:r>
            <a:r>
              <a:rPr b="1" lang="ar-SA" sz="4800" spc="-1" strike="noStrike">
                <a:solidFill>
                  <a:srgbClr val="00ff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00ff00"/>
                </a:solidFill>
                <a:latin typeface="Times New Roman"/>
                <a:ea typeface="Arabic Transparent"/>
              </a:rPr>
              <a:t>...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3716280"/>
            <a:ext cx="691200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2852640"/>
            <a:ext cx="8280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60064"/>
                </a:solidFill>
                <a:latin typeface="Times New Roman"/>
                <a:cs typeface="Arabic Transparent"/>
              </a:rPr>
              <a:t>يكتشف في نفس المكا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4000" y="4797360"/>
            <a:ext cx="8135640" cy="172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97325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abic Transparent"/>
              </a:rPr>
              <a:t>جسر جميل جداً !!!</a:t>
            </a:r>
            <a:endParaRPr b="1" lang="en-US" sz="54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abic Transparent"/>
              <a:ea typeface="Arabic Transparent"/>
            </a:endParaRPr>
          </a:p>
        </p:txBody>
      </p:sp>
    </p:spTree>
  </p:cSld>
  <p:transition spd="slow">
    <p:randomBar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76360" y="404640"/>
            <a:ext cx="619272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6f41d"/>
                </a:solidFill>
                <a:latin typeface="Times New Roman"/>
                <a:cs typeface="PT Bold Heading"/>
              </a:rPr>
              <a:t>في </a:t>
            </a:r>
            <a:r>
              <a:rPr b="0" lang="ar-SA" sz="4000" spc="-1" strike="noStrike">
                <a:solidFill>
                  <a:srgbClr val="06f41d"/>
                </a:solidFill>
                <a:latin typeface="Times New Roman"/>
                <a:cs typeface="PT Bold Heading"/>
              </a:rPr>
              <a:t>نفس</a:t>
            </a:r>
            <a:r>
              <a:rPr b="1" lang="ar-SA" sz="4000" spc="-1" strike="noStrike">
                <a:solidFill>
                  <a:srgbClr val="06f41d"/>
                </a:solidFill>
                <a:latin typeface="Times New Roman"/>
                <a:ea typeface="PT Bold Heading"/>
              </a:rPr>
              <a:t> اللحظة</a:t>
            </a:r>
            <a:r>
              <a:rPr b="1" lang="ar-SA" sz="4000" spc="-1" strike="noStrike">
                <a:solidFill>
                  <a:srgbClr val="06f41d"/>
                </a:solidFill>
                <a:latin typeface="Times New Roman"/>
                <a:ea typeface="PT Bold Heading"/>
              </a:rPr>
              <a:t> 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6f41d"/>
                </a:solidFill>
                <a:latin typeface="Times New Roman"/>
                <a:ea typeface="Arabic Transparent"/>
              </a:rPr>
              <a:t> </a:t>
            </a:r>
            <a:r>
              <a:rPr b="0" lang="ar-SA" sz="4000" spc="-1" strike="noStrike">
                <a:solidFill>
                  <a:srgbClr val="06f41d"/>
                </a:solidFill>
                <a:latin typeface="Times New Roman"/>
                <a:cs typeface="PT Bold Heading"/>
              </a:rPr>
              <a:t>الأخ الأصغر يخرج من بيته راكضاً نحو سعيد</a:t>
            </a:r>
            <a:r>
              <a:rPr b="0" lang="ar-SA" sz="4000" spc="-1" strike="noStrike">
                <a:solidFill>
                  <a:srgbClr val="06f41d"/>
                </a:solidFill>
                <a:latin typeface="Times New Roman"/>
                <a:ea typeface="PT Bold Heading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6f41d"/>
                </a:solidFill>
                <a:latin typeface="Times New Roman"/>
                <a:cs typeface="PT Bold Heading"/>
              </a:rPr>
              <a:t>وهو يصرخ متعجب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5445000"/>
            <a:ext cx="65530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abic Transparent"/>
              </a:rPr>
              <a:t>أنا فعلاً فخور بك ....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55640" y="2565360"/>
            <a:ext cx="734544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7353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abic Transparent"/>
              </a:rPr>
              <a:t>أنت فعلاً عظيم !!!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73535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7353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abic Transparent"/>
              </a:rPr>
              <a:t>تبني جسراً بيننا !!!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73535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7353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abic Transparent"/>
              </a:rPr>
              <a:t>بعد كل ما فعلته معك؟؟؟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73535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blinds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895120"/>
            <a:ext cx="87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"/>
          <p:cNvSpPr/>
          <p:nvPr/>
        </p:nvSpPr>
        <p:spPr>
          <a:xfrm>
            <a:off x="69840" y="2060640"/>
            <a:ext cx="9074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505"/>
                </a:solidFill>
                <a:latin typeface="Times New Roman"/>
                <a:cs typeface="Times New Roman"/>
              </a:rPr>
              <a:t>بينما كان الأخوان يحتفلان</a:t>
            </a:r>
            <a:r>
              <a:rPr b="1" lang="ar-SA" sz="6000" spc="-1" strike="noStrike">
                <a:solidFill>
                  <a:srgbClr val="ff0505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505"/>
                </a:solidFill>
                <a:latin typeface="Times New Roman"/>
                <a:cs typeface="Times New Roman"/>
              </a:rPr>
              <a:t>بمصالحتهم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505"/>
                </a:solidFill>
                <a:latin typeface="Times New Roman"/>
                <a:cs typeface="Times New Roman"/>
              </a:rPr>
              <a:t>جمع الرجل كل عدته ليرح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26920" y="1197000"/>
            <a:ext cx="6912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abic Transparent"/>
              </a:rPr>
              <a:t>لا ترحل صرخ الأخوان معا ً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abic Transparent"/>
              <a:ea typeface="Arabic Transparen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4360" y="3284640"/>
            <a:ext cx="6984720" cy="26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abic Transparent"/>
              </a:rPr>
              <a:t>أجابهم الرجل :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abic Transparent"/>
              </a:rPr>
              <a:t>أرغب كثيرا في البقاء معكم .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abic Transparent"/>
              </a:rPr>
              <a:t>ولكن عندي جسوراً أخرى ....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abic Transparent"/>
              </a:rPr>
              <a:t>عليَّ بناؤها!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comb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11280" y="1628640"/>
            <a:ext cx="78994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43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كونوا دائما بنائّي جسور  </a:t>
            </a:r>
            <a:endParaRPr b="1" lang="en-US" sz="4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 </a:t>
            </a:r>
            <a:r>
              <a:rPr b="0" lang="hi-IN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ين البشر</a:t>
            </a:r>
            <a:r>
              <a:rPr b="1" lang="en-US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1" lang="en-US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.</a:t>
            </a:r>
            <a:endParaRPr b="1" lang="en-US" sz="4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وعندها تصلوا الى المصالحة الحقيقية ...</a:t>
            </a:r>
            <a:endParaRPr b="1" lang="en-US" sz="4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dissolv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 rot="21027000">
            <a:off x="0" y="2491920"/>
            <a:ext cx="76392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315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>
                    <a:alpha val="91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لا تبنوا ابداً حائطاً يفصل .....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>
                  <a:alpha val="91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diamond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39640" y="1125360"/>
            <a:ext cx="6408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abic Transparent"/>
              </a:rPr>
              <a:t>كونوا دائماً رجال ونساء 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00000" y="3789360"/>
            <a:ext cx="6336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abic Transparent"/>
              </a:rPr>
              <a:t>يجمعون بين الناس ...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abic Transparent"/>
              </a:rPr>
              <a:t>          </a:t>
            </a: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abic Transparent"/>
              </a:rPr>
              <a:t>ويصالحون</a:t>
            </a:r>
            <a:r>
              <a:rPr b="1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wheel spokes="8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338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471920" y="2108160"/>
            <a:ext cx="1800" cy="6480"/>
          </a:xfrm>
          <a:custGeom>
            <a:avLst/>
            <a:gdLst/>
            <a:ahLst/>
            <a:rect l="l" t="t" r="r" b="b"/>
            <a:pathLst>
              <a:path w="1" h="21">
                <a:moveTo>
                  <a:pt x="12422" y="5854"/>
                </a:moveTo>
                <a:cubicBezTo>
                  <a:pt x="12422" y="5861"/>
                  <a:pt x="12422" y="5867"/>
                  <a:pt x="12422" y="587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86160" y="400536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332000" y="3068640"/>
            <a:ext cx="6553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مكافأة لأجل كل الجسور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9640" y="907920"/>
            <a:ext cx="8066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ليبارككم الله ويعضدكم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randomBar dir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6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8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71920" y="2108160"/>
            <a:ext cx="1800" cy="6480"/>
          </a:xfrm>
          <a:custGeom>
            <a:avLst/>
            <a:gdLst/>
            <a:ahLst/>
            <a:rect l="l" t="t" r="r" b="b"/>
            <a:pathLst>
              <a:path w="1" h="21">
                <a:moveTo>
                  <a:pt x="12422" y="5854"/>
                </a:moveTo>
                <a:cubicBezTo>
                  <a:pt x="12422" y="5861"/>
                  <a:pt x="12422" y="5867"/>
                  <a:pt x="12422" y="587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81480" y="37288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63640" y="1484280"/>
            <a:ext cx="5688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التي بنيتموها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332000" y="3357720"/>
            <a:ext cx="66229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وسوف تبنوها بين الإخوة !!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5280" y="5300640"/>
            <a:ext cx="29401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ع كل محبتي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2276280"/>
            <a:ext cx="8388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800" spc="-1" strike="noStrike">
                <a:solidFill>
                  <a:srgbClr val="ff6600"/>
                </a:solidFill>
                <a:latin typeface="Times New Roman"/>
                <a:cs typeface="Arabic Transparent"/>
              </a:rPr>
              <a:t>قصة اخوين اثنين  يحبون بعضهما كثيراً </a:t>
            </a:r>
            <a:br>
              <a:rPr sz="4800"/>
            </a:br>
            <a:r>
              <a:rPr b="1" lang="ar-SA" sz="4800" spc="-1" strike="noStrike">
                <a:solidFill>
                  <a:srgbClr val="ff6600"/>
                </a:solidFill>
                <a:latin typeface="Times New Roman"/>
                <a:cs typeface="Arabic Transparent"/>
              </a:rPr>
              <a:t>ويعيشون بانسجام كامل في مزرعتهم،</a:t>
            </a:r>
            <a:br>
              <a:rPr sz="4800"/>
            </a:br>
            <a:r>
              <a:rPr b="1" lang="ar-SA" sz="48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 الى يوم</a:t>
            </a:r>
            <a:r>
              <a:rPr b="1" lang="ar-SA" sz="48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......</a:t>
            </a:r>
            <a:endParaRPr b="1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" name=""/>
          <p:cNvSpPr/>
          <p:nvPr/>
        </p:nvSpPr>
        <p:spPr>
          <a:xfrm>
            <a:off x="1542960" y="5308560"/>
            <a:ext cx="7920" cy="6480"/>
          </a:xfrm>
          <a:custGeom>
            <a:avLst/>
            <a:gdLst/>
            <a:ahLst/>
            <a:rect l="l" t="t" r="r" b="b"/>
            <a:pathLst>
              <a:path w="21" h="21">
                <a:moveTo>
                  <a:pt x="4286" y="14764"/>
                </a:moveTo>
                <a:lnTo>
                  <a:pt x="4286" y="14764"/>
                </a:lnTo>
              </a:path>
              <a:path w="21" h="21">
                <a:moveTo>
                  <a:pt x="4306" y="14744"/>
                </a:moveTo>
                <a:lnTo>
                  <a:pt x="4306" y="14744"/>
                </a:ln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97080" y="1268280"/>
            <a:ext cx="9793080" cy="404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6600"/>
                </a:solidFill>
                <a:latin typeface="Arial Black"/>
                <a:cs typeface="Arabic Transparent"/>
              </a:rPr>
              <a:t>حصل بينهم خلاف . </a:t>
            </a:r>
            <a:br>
              <a:rPr sz="4800"/>
            </a:br>
            <a:r>
              <a:rPr b="1" lang="ar-SA" sz="4800" spc="-1" strike="noStrike">
                <a:solidFill>
                  <a:srgbClr val="ff6600"/>
                </a:solidFill>
                <a:latin typeface="Arial Black"/>
                <a:ea typeface="Arabic Transparent"/>
              </a:rPr>
              <a:t> كان الأخوان يعيشون من عملهم في الحقل.</a:t>
            </a:r>
            <a:br>
              <a:rPr sz="4800"/>
            </a:br>
            <a:r>
              <a:rPr b="1" lang="ar-SA" sz="4800" spc="-1" strike="noStrike">
                <a:solidFill>
                  <a:srgbClr val="ff6600"/>
                </a:solidFill>
                <a:latin typeface="Arial Black"/>
                <a:cs typeface="Arabic Transparent"/>
              </a:rPr>
              <a:t>يزرعون معاً ويحصدون معاً .</a:t>
            </a:r>
            <a:br>
              <a:rPr sz="4800"/>
            </a:br>
            <a:r>
              <a:rPr b="1" lang="ar-SA" sz="4800" spc="-1" strike="noStrike">
                <a:solidFill>
                  <a:srgbClr val="ff6600"/>
                </a:solidFill>
                <a:latin typeface="Arial Black"/>
                <a:ea typeface="Arabic Transparent"/>
              </a:rPr>
              <a:t> كان كل شيء مشترك بينهم</a:t>
            </a:r>
            <a:r>
              <a:rPr b="1" lang="ar-SA" sz="4800" spc="-1" strike="noStrike">
                <a:solidFill>
                  <a:srgbClr val="ff6600"/>
                </a:solidFill>
                <a:latin typeface="Arial Black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6600"/>
                </a:solidFill>
                <a:latin typeface="Arial Black"/>
                <a:ea typeface="Arabic Transparent"/>
              </a:rPr>
              <a:t>.</a:t>
            </a:r>
            <a:r>
              <a:rPr b="1" lang="ar-SA" sz="4800" spc="-1" strike="noStrike">
                <a:solidFill>
                  <a:srgbClr val="ffffff"/>
                </a:solidFill>
                <a:latin typeface="Arial Black"/>
                <a:ea typeface="Arabic Transparent"/>
              </a:rPr>
              <a:t> 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comb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3500280"/>
            <a:ext cx="712944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 Black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Arial Black"/>
                <a:cs typeface="Arabic Transparent"/>
              </a:rPr>
              <a:t>الى يوم حصل شجار عنيف</a:t>
            </a:r>
            <a:r>
              <a:rPr b="1" lang="ar-SA" sz="4800" spc="-1" strike="noStrike">
                <a:solidFill>
                  <a:srgbClr val="000000"/>
                </a:solidFill>
                <a:latin typeface="Arial Black"/>
                <a:ea typeface="Arabic Transparent"/>
              </a:rPr>
              <a:t>..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Arabic Transparent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97000"/>
            <a:ext cx="864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4593a"/>
                </a:solidFill>
                <a:latin typeface="Times New Roman"/>
                <a:ea typeface="Arabic Transparent"/>
              </a:rPr>
              <a:t>   </a:t>
            </a:r>
            <a:r>
              <a:rPr b="1" lang="ar-SA" sz="4800" spc="-1" strike="noStrike">
                <a:solidFill>
                  <a:srgbClr val="f4593a"/>
                </a:solidFill>
                <a:latin typeface="Times New Roman"/>
                <a:cs typeface="Arabic Transparent"/>
              </a:rPr>
              <a:t>كل شيء بدأ بسوء تفاهم بسيط</a:t>
            </a:r>
            <a:r>
              <a:rPr b="1" lang="ar-SA" sz="4800" spc="-1" strike="noStrike">
                <a:solidFill>
                  <a:srgbClr val="f4593a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4593a"/>
                </a:solidFill>
                <a:latin typeface="Times New Roman"/>
                <a:ea typeface="Arabic Transparent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4593a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4593a"/>
                </a:solidFill>
                <a:latin typeface="Times New Roman"/>
                <a:cs typeface="Arabic Transparent"/>
              </a:rPr>
              <a:t>ولكن شيئا فشيئاً ... </a:t>
            </a:r>
            <a:br>
              <a:rPr sz="4800"/>
            </a:br>
            <a:r>
              <a:rPr b="1" lang="ar-SA" sz="4800" spc="-1" strike="noStrike">
                <a:solidFill>
                  <a:srgbClr val="f4593a"/>
                </a:solidFill>
                <a:latin typeface="Times New Roman"/>
                <a:cs typeface="Arabic Transparent"/>
              </a:rPr>
              <a:t>أخذت الهوة بينهم تتسع</a:t>
            </a:r>
            <a:r>
              <a:rPr b="1" lang="ar-SA" sz="4800" spc="-1" strike="noStrike">
                <a:solidFill>
                  <a:srgbClr val="993300"/>
                </a:solidFill>
                <a:latin typeface="Times New Roman"/>
                <a:ea typeface="Arabic Transparen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468360" y="436572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Bernard MT Condensed"/>
                <a:cs typeface="Arabic Transparent"/>
              </a:rPr>
              <a:t>ومن ثم صمت مؤلم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دام عدة أسابيع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...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276280"/>
            <a:ext cx="84600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4593a"/>
                </a:solidFill>
                <a:latin typeface="Georgia"/>
                <a:cs typeface="Arabic Transparent"/>
              </a:rPr>
              <a:t>في أحد الأيام دق شخص على باب سعيد</a:t>
            </a:r>
            <a:r>
              <a:rPr b="1" lang="ar-SA" sz="4800" spc="-1" strike="noStrike">
                <a:solidFill>
                  <a:srgbClr val="ff9900"/>
                </a:solidFill>
                <a:latin typeface="Georgia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4593a"/>
                </a:solidFill>
                <a:latin typeface="Georgia"/>
                <a:cs typeface="Arabic Transparent"/>
              </a:rPr>
              <a:t>الأخ الأكبر.</a:t>
            </a:r>
            <a:br>
              <a:rPr sz="3600"/>
            </a:br>
            <a:br>
              <a:rPr sz="1000"/>
            </a:br>
            <a:r>
              <a:rPr b="1" lang="ar-SA" sz="4000" spc="-1" strike="noStrike">
                <a:solidFill>
                  <a:srgbClr val="f4593a"/>
                </a:solidFill>
                <a:latin typeface="Georgia"/>
                <a:cs typeface="Arabic Transparent"/>
              </a:rPr>
              <a:t>كان رجل معروف عنه انه يجيد عمل كل شيء ..</a:t>
            </a:r>
            <a:br>
              <a:rPr sz="4000"/>
            </a:br>
            <a:r>
              <a:rPr b="1" lang="ar-SA" sz="4000" spc="-1" strike="noStrike">
                <a:solidFill>
                  <a:srgbClr val="f4593a"/>
                </a:solidFill>
                <a:latin typeface="Georgia"/>
                <a:cs typeface="Arabic Transparent"/>
              </a:rPr>
              <a:t>جاء يبحث عن عمل</a:t>
            </a:r>
            <a:r>
              <a:rPr b="1" lang="ar-SA" sz="4000" spc="-1" strike="noStrike">
                <a:solidFill>
                  <a:srgbClr val="f4593a"/>
                </a:solidFill>
                <a:latin typeface="Georgia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4593a"/>
                </a:solidFill>
                <a:latin typeface="Georgia"/>
                <a:ea typeface="Arabic Transparent"/>
              </a:rPr>
              <a:t>.</a:t>
            </a:r>
            <a:br>
              <a:rPr sz="3600"/>
            </a:br>
            <a:br>
              <a:rPr sz="1000"/>
            </a:b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4076640"/>
            <a:ext cx="7993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73535"/>
                    </a:gs>
                    <a:gs pos="100000">
                      <a:srgbClr val="ffff2f"/>
                    </a:gs>
                  </a:gsLst>
                  <a:lin ang="5400000"/>
                </a:gradFill>
                <a:latin typeface="Arabic Transparent"/>
              </a:rPr>
              <a:t>سأل سعيد :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73535"/>
                  </a:gs>
                  <a:gs pos="100000">
                    <a:srgbClr val="ffff2f"/>
                  </a:gs>
                </a:gsLst>
                <a:lin ang="5400000"/>
              </a:gradFill>
              <a:latin typeface="Arabic Transparent"/>
              <a:ea typeface="Arabic Transpare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73535"/>
                    </a:gs>
                    <a:gs pos="100000">
                      <a:srgbClr val="ffff2f"/>
                    </a:gs>
                  </a:gsLst>
                  <a:lin ang="5400000"/>
                </a:gradFill>
                <a:latin typeface="Arabic Transparent"/>
              </a:rPr>
              <a:t>“</a:t>
            </a:r>
            <a:r>
              <a:rPr b="0" lang="hi-IN" sz="4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73535"/>
                    </a:gs>
                    <a:gs pos="100000">
                      <a:srgbClr val="ffff2f"/>
                    </a:gs>
                  </a:gsLst>
                  <a:lin ang="5400000"/>
                </a:gradFill>
                <a:latin typeface="Arabic Transparent"/>
              </a:rPr>
              <a:t>هل عندك شيء بحاجة لتصليح ..؟</a:t>
            </a: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73535"/>
                    </a:gs>
                    <a:gs pos="100000">
                      <a:srgbClr val="ffff2f"/>
                    </a:gs>
                  </a:gsLst>
                  <a:lin ang="5400000"/>
                </a:gradFill>
                <a:latin typeface="Arabic Transparent"/>
              </a:rPr>
              <a:t>“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73535"/>
                  </a:gs>
                  <a:gs pos="100000">
                    <a:srgbClr val="ffff2f"/>
                  </a:gs>
                </a:gsLst>
                <a:lin ang="5400000"/>
              </a:gradFill>
              <a:latin typeface="Arabic Transparent"/>
              <a:ea typeface="Arabic Transparent"/>
            </a:endParaRPr>
          </a:p>
        </p:txBody>
      </p:sp>
    </p:spTree>
  </p:cSld>
  <p:transition spd="slow">
    <p:cover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4220640"/>
            <a:ext cx="72007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5229360"/>
            <a:ext cx="88869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>
                    <a:alpha val="75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abic Transparent"/>
              </a:rPr>
              <a:t>أريد ان اظهر له أن بإستطاعتي أن أنتقم منه    </a:t>
            </a:r>
            <a:endParaRPr b="1" lang="en-US" sz="44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>
                  <a:alpha val="75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260280"/>
            <a:ext cx="7920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Rounded MT Bold"/>
              </a:rPr>
              <a:t>أجابه سعيد :نعم عندي عمل لك..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Rounded MT Bold"/>
              <a:ea typeface="Arial Rounded MT Bold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Rounded MT Bold"/>
              </a:rPr>
              <a:t>أترى ألجهة الثانية لهذا الجدول ؟ 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Rounded MT Bold"/>
              <a:ea typeface="Arial Rounded MT Bold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Rounded MT Bold"/>
              </a:rPr>
              <a:t>هناك يسكن أخي الصغير .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2852640"/>
            <a:ext cx="707400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>
                        <a:alpha val="84313"/>
                      </a:srgbClr>
                    </a:gs>
                    <a:gs pos="100000">
                      <a:srgbClr val="ffff2f"/>
                    </a:gs>
                  </a:gsLst>
                  <a:lin ang="5400000"/>
                </a:gradFill>
                <a:latin typeface="Arabic Transparent"/>
              </a:rPr>
              <a:t>منذ عدة اسابيع ،اهانني بطريقة جارحة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>
                      <a:alpha val="84313"/>
                    </a:srgbClr>
                  </a:gs>
                  <a:gs pos="100000">
                    <a:srgbClr val="ffff2f"/>
                  </a:gs>
                </a:gsLst>
                <a:lin ang="5400000"/>
              </a:gradFill>
              <a:latin typeface="Arabic Transparent"/>
              <a:ea typeface="Arabic Transparen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87280" y="3860640"/>
            <a:ext cx="6264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abic Transparent"/>
              </a:rPr>
              <a:t>بعدها إنقطعت العلاقة بيننا 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abic Transparent"/>
              <a:ea typeface="Arabic Transparent"/>
            </a:endParaRPr>
          </a:p>
        </p:txBody>
      </p:sp>
    </p:spTree>
  </p:cSld>
  <p:transition spd="slow">
    <p:wheel spokes="8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2205000"/>
            <a:ext cx="7848360" cy="28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252360" y="13413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6600"/>
                </a:solidFill>
                <a:latin typeface="Times New Roman"/>
                <a:cs typeface="Arabic Transparent"/>
              </a:rPr>
              <a:t>اترى هذه الحجارة بجانب بيتي ؟</a:t>
            </a:r>
            <a:r>
              <a:rPr b="1" lang="ar-SA" sz="5400" spc="-1" strike="noStrike">
                <a:solidFill>
                  <a:srgbClr val="993300"/>
                </a:solidFill>
                <a:latin typeface="Times New Roman"/>
                <a:ea typeface="Arabic Transparen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6600"/>
                </a:solidFill>
                <a:latin typeface="Times New Roman"/>
                <a:cs typeface="Arabic Transparent"/>
              </a:rPr>
              <a:t>أريد ان تبني لي</a:t>
            </a:r>
            <a:r>
              <a:rPr b="0" lang="ar-SA" sz="54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 </a:t>
            </a:r>
            <a:r>
              <a:rPr b="1" i="1" lang="ar-SA" sz="5400" spc="-1" strike="noStrike" u="sng">
                <a:solidFill>
                  <a:srgbClr val="ff6600"/>
                </a:solidFill>
                <a:uFillTx/>
                <a:latin typeface="Franklin Gothic Heavy"/>
                <a:cs typeface="Arabic Transparent"/>
              </a:rPr>
              <a:t>حائط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6600"/>
                </a:solidFill>
                <a:latin typeface="Franklin Gothic Heavy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6600"/>
                </a:solidFill>
                <a:latin typeface="Times New Roman"/>
                <a:cs typeface="Arabic Transparent"/>
              </a:rPr>
              <a:t>بارتفاع مترين</a:t>
            </a:r>
            <a:r>
              <a:rPr b="1" lang="ar-SA" sz="54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4508640"/>
            <a:ext cx="669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abic Transparent"/>
              </a:rPr>
              <a:t>لأني لا أريد رؤيته أبداً ...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blinds dir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3640" y="1981080"/>
            <a:ext cx="806436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2421000"/>
            <a:ext cx="70563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6600"/>
                </a:solidFill>
                <a:latin typeface="Times New Roman"/>
                <a:cs typeface="Arabic Transparent"/>
              </a:rPr>
              <a:t>اجابه الرجل</a:t>
            </a:r>
            <a:r>
              <a:rPr b="1" lang="ar-SA" sz="54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4437000"/>
            <a:ext cx="802800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3053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abic Transparent"/>
              </a:rPr>
              <a:t>أعتقد اني افهم الوضع...” 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abic Transparent"/>
              <a:ea typeface="Arabic Transparent"/>
            </a:endParaRPr>
          </a:p>
        </p:txBody>
      </p:sp>
    </p:spTree>
  </p:cSld>
  <p:transition spd="slow">
    <p:randomBar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981000"/>
            <a:ext cx="7850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ساعد صاحب البيت زائره ، طالب العمل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في جمع كل ما يحتاج من عدة لبناء الحائ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708280"/>
            <a:ext cx="567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ثم تركه وحده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سافر في رحلة لمدة اسبو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2T16:53:44Z</dcterms:created>
  <dc:creator/>
  <dc:description/>
  <dc:language>en-US</dc:language>
  <cp:lastModifiedBy>cendi</cp:lastModifiedBy>
  <dcterms:modified xsi:type="dcterms:W3CDTF">2006-09-06T13:46:53Z</dcterms:modified>
  <cp:revision>441</cp:revision>
  <dc:subject/>
  <dc:title>DISFRUTA DE LA MÚSICA Y LÉELO</dc:title>
</cp:coreProperties>
</file>