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songbird_barbra_streisand%5B1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946-0B4A-4770-B390-7CA256A8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0D1-2DFF-4941-9608-AEBE881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7D9-4670-4C7A-9BE5-7EAD04F9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61D-70D0-412F-B26E-0948285B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491A-A6AD-42ED-B199-E78CA218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0637-E0F8-4E36-8D45-B4020E1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DAA-C152-4114-A506-3E5DE028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4BB-BB7D-4890-8403-4F2C172E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2267-905A-491D-B4AA-D5CBAA1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9BEE-C077-48C0-BA35-3812F35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C57-A001-4DB3-A3DD-2572048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517-C1A8-4175-B642-43AB2D56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79E2-05C9-4089-9A57-F7E200E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92F-4075-48F9-BE91-21ECE388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958-2B7D-4CC5-8AD4-3E0A27BC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A9D-D40A-4D42-99DE-E6DA70E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79B-7B71-411C-8C33-BE245DDC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B120-0106-4D9C-AE92-2DC938CF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D8F1-61F2-487E-A892-1C5E0CC7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3CE3-2FE7-4691-9CD3-A33C65D8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D0F4-E947-4598-B77A-4B0882D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9B77-F366-45CB-AF95-983583F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5E0-0F67-453C-AF07-303276D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47B5-DBF4-425D-84F9-BBD64AE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C2ED-E6DD-48C8-B0AC-E7E1E2A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08E7-E836-4C40-929C-1E9FD45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7AB4-87B6-4EB6-9E10-AB8F2AB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44B6-83CB-453A-85AC-3A468928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0BCF-61D8-4334-B33C-74DBD75B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DE14-9DE9-48FB-A59E-9B95FB6C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411-73E2-4860-AD0E-455709DB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39F-9768-4E81-8041-7BD88B6B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DF2-2843-4724-9D17-6E75702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8DE-466B-419A-B8FF-C84E511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8D0-F511-40BB-BE0C-0FE4BA8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B1C-2F85-4071-9273-2E91C68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E97-32D9-4A71-94EA-623CC8C3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008-6735-4741-BD83-682C5D316C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D76C-841D-4038-8C5D-74EBD33DBA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gbird_barbra_streisand%5B1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4640" cy="6885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990520" y="614520"/>
            <a:ext cx="545544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empus Sans ITC"/>
              </a:rPr>
              <a:t>Leçon de PERSÉV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66400" y="623736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empus Sans ITC"/>
              </a:rPr>
              <a:t>Musique: Songbird – Barbra Strei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songbird_barbra_streisand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fffff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02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39640" y="333360"/>
            <a:ext cx="81630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Es-tu fatigué de recommencer, du gaspillage de la lutte quotidienne, de la confiance trahie, des buts non atteints quand tu étais sur le point d’y ar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44000" cy="48690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669960" y="50760"/>
            <a:ext cx="10687320" cy="1922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La vie te frappe ainsi parfois, mais ne te rends jamais, dis une priè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mets ton espoir en avant et f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N</a:t>
            </a: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e te preoccupe pas si dans la bataille tu reçois une blessure,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Il faut s’y attendre. Réunis les morceaux de ton espér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reconstruis-la et fonce de nou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312480" y="5022720"/>
            <a:ext cx="98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Peu importe ce qui se passe… ne faiblis pas, va de l’ava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La vie est un défi constant, mais cela vaut la peine de l’acce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Et surtout… n’arrête jamais de chant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880" y="2637000"/>
            <a:ext cx="731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Ne le guarde pas pour toi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Fais-le suivre à ton groupe d’am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197000"/>
            <a:ext cx="813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 te souhaite un jour merveilleu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18560" cy="462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4849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empus Sans ITC"/>
              </a:rPr>
              <a:t>As-tu déjà observé l’attitude des oiseaux face à l’adversit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3040" y="228600"/>
            <a:ext cx="8788680" cy="53244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-285120" y="5810400"/>
            <a:ext cx="96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Pendant des jours et des jours ils font leur nid, recueillant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matériaux parfois ramenés de très lo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4800" y="1773360"/>
            <a:ext cx="7932600" cy="49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-442440" y="109440"/>
            <a:ext cx="10217880" cy="1557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... Et lorsqu’ils ont terminé et qu’ils sont prêts à déposer les oeuf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s intempéries ou l’oeuvre de l’être humain ou d’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quelconqu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 détruit  et envoie au sol ce qu’ils ont réalisé avec tant d’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36920" y="147600"/>
            <a:ext cx="6378480" cy="656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5280" y="1557360"/>
            <a:ext cx="1979640" cy="22885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Que fait l’oisea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Il se paralyse et abandonne la tâ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6360" y="152280"/>
            <a:ext cx="7989840" cy="48801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-677160" y="550548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En aucune façon. Il recommence encore et encore jusqu’à ce qu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 </a:t>
            </a: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premiers oeufs apparaissent dans le n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fffff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6360" y="1627200"/>
            <a:ext cx="7989840" cy="492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-531720" y="222120"/>
            <a:ext cx="102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Parfois –très souvent – avant que naissent les oisill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un animal, un  enfant, une tempête détruit une fois de plus le n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mais cette fois avec son précieux conten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32960" cy="50641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-479880" y="5460840"/>
            <a:ext cx="102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Cela fait mal de recommencer depuis zéro… même ain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l’oiseau ne se tait jamais, ni ne recu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il continue de chanter et de construire, construisant et chanta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8424720" cy="500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5208480"/>
            <a:ext cx="8424720" cy="2288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u le sentiment que ta v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ton travail, ta famille ne sont pas ce que tu avais rêv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nvie de dire “assez”, l’effort ne vaut pas la pe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C’est trop pour mo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9:27:38Z</dcterms:created>
  <dc:creator>nor@</dc:creator>
  <dc:description/>
  <dc:language>en-US</dc:language>
  <cp:lastModifiedBy>Christiane Huvelle</cp:lastModifiedBy>
  <dcterms:modified xsi:type="dcterms:W3CDTF">2007-03-21T20:51:25Z</dcterms:modified>
  <cp:revision>52</cp:revision>
  <dc:subject/>
  <dc:title>perseverancia</dc:title>
</cp:coreProperties>
</file>