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CDB-6674-46C1-B7C4-CDEBBD54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211-3D88-45B3-BA01-8B500EE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405A-C6D5-487B-8020-71243594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825-416E-47A7-9FA5-379EC47A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39B-0C20-46A0-A8BA-604E621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FA-8378-4CAD-A202-AC1C841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8BA-96FD-41BF-9724-CC5F685C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353-6A0B-4789-AE91-2066B9D2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DC4-4E12-4A4E-8DBF-A29AD8A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CF7-DF27-48FE-BEEB-2A9FEB8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A64-0FD9-4B68-90B2-6AE72F11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C01-5561-468A-9256-46F41CF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9F2-E110-40F3-B505-BC724F0714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20640"/>
            <a:ext cx="7488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الجسر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134136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بعد انتهاء السفر ، عاد سعيد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كان الرجل قد انتهى من عمله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860640"/>
            <a:ext cx="727236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ولكن يا للمفاجأة !! !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65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سعيد متأثر ومستغرب جداَ بما يرى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بدل الحائط الذي اراده بارتفاع مترين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...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716280"/>
            <a:ext cx="6912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8526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60064"/>
                </a:solidFill>
                <a:latin typeface="Times New Roman"/>
                <a:cs typeface="Arabic Transparent"/>
              </a:rPr>
              <a:t>يكتشف في نفس المكا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4797360"/>
            <a:ext cx="8135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7325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جسر جميل جداً !!!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404640"/>
            <a:ext cx="6192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في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نفس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اللحظة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Arabic Transparent"/>
              </a:rPr>
              <a:t>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الأخ الأصغر يخرج من بيته راكضاً نحو سعيد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وهو يصرخ متعج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5445000"/>
            <a:ext cx="655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أنا فعلاً فخور بك ...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565360"/>
            <a:ext cx="73454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أنت فعلاً عظيم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تبني جسراً بيننا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بعد كل ما فعلته معك؟؟؟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7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69840" y="2060640"/>
            <a:ext cx="907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ينما كان الأخوان يحتفلان</a:t>
            </a:r>
            <a:r>
              <a:rPr b="1" lang="ar-SA" sz="6000" spc="-1" strike="noStrike">
                <a:solidFill>
                  <a:srgbClr val="ff0505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مصالحتهم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جمع الرجل كل عدته ليرح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19700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abic Transparent"/>
              </a:rPr>
              <a:t>لا ترحل صرخ الأخوان معا ً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abic Transparent"/>
              <a:ea typeface="Arabic Transpare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3284640"/>
            <a:ext cx="69847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جابهم الرجل :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رغب كثيرا في البقاء معكم 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ولكن عندي جسوراً أخرى ...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عليَّ بناؤها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11280" y="1628640"/>
            <a:ext cx="78994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كونوا دائما بنائّي جسور  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 </a:t>
            </a: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ين البشر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عندها تصلوا الى المصالحة الحقيقية ..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21027000">
            <a:off x="0" y="2491920"/>
            <a:ext cx="76392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1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ا تبنوا ابداً حائطاً يفصل ..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1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amond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125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كونوا دائماً رجال ونساء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3789360"/>
            <a:ext cx="633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يجمعون بين الناس 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         </a:t>
            </a: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ويصالحون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3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6160" y="400536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3068640"/>
            <a:ext cx="65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كافأة لأجل كل الجسور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907920"/>
            <a:ext cx="8066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يبارككم الله ويعضدكم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3728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640" y="1484280"/>
            <a:ext cx="56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تي بنيتموها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32000" y="3357720"/>
            <a:ext cx="662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سوف تبنوها بين الإخوة !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5300640"/>
            <a:ext cx="2940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كل محبتي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8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قصة اخوين اثنين  يحبون بعضهما كثيراً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ويعيشون بانسجام كامل في مزرعتهم،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الى يوم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......</a:t>
            </a: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542960" y="5308560"/>
            <a:ext cx="7920" cy="6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4286" y="14764"/>
                </a:moveTo>
                <a:lnTo>
                  <a:pt x="4286" y="14764"/>
                </a:lnTo>
              </a:path>
              <a:path w="21" h="21">
                <a:moveTo>
                  <a:pt x="4306" y="14744"/>
                </a:moveTo>
                <a:lnTo>
                  <a:pt x="4306" y="14744"/>
                </a:ln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7080" y="1268280"/>
            <a:ext cx="979308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حصل بينهم خلاف .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الأخوان يعيشون من عملهم في الحقل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يزرعون معاً ويحصدون معاً 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كل شيء مشترك بينهم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712944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cs typeface="Arabic Transparent"/>
              </a:rPr>
              <a:t>الى يوم حصل شجار عنيف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ea typeface="Arabic Transparent"/>
              </a:rPr>
              <a:t>.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97000"/>
            <a:ext cx="864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كل شيء بدأ بسوء تفاهم بسيط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ولكن شيئا فشيئاً ... </a:t>
            </a:r>
            <a:br>
              <a:rPr sz="4800"/>
            </a:b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أخذت الهوة بينهم تتسع</a:t>
            </a:r>
            <a:r>
              <a:rPr b="1" lang="ar-SA" sz="48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68360" y="4365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ومن ثم صمت مؤ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دام عدة أسا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460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في أحد الأيام دق شخص على باب سعيد</a:t>
            </a:r>
            <a:r>
              <a:rPr b="1" lang="ar-SA" sz="4800" spc="-1" strike="noStrike">
                <a:solidFill>
                  <a:srgbClr val="ff9900"/>
                </a:solidFill>
                <a:latin typeface="Georgia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الأخ الأكبر.</a:t>
            </a:r>
            <a:br>
              <a:rPr sz="3600"/>
            </a:br>
            <a:br>
              <a:rPr sz="1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كان رجل معروف عنه انه يجيد عمل كل شيء ..</a:t>
            </a:r>
            <a:br>
              <a:rPr sz="4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جاء يبحث عن عمل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.</a:t>
            </a:r>
            <a:br>
              <a:rPr sz="3600"/>
            </a:br>
            <a:br>
              <a:rPr sz="1000"/>
            </a:b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4076640"/>
            <a:ext cx="799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سأل سعيد :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هل عندك شيء بحاجة لتصليح ..؟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220640"/>
            <a:ext cx="7200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5229360"/>
            <a:ext cx="8886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</a:rPr>
              <a:t>أريد ان اظهر له أن بإستطاعتي أن أنتقم منه    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جابه سعيد :نعم عندي عمل لك.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ترى ألجهة الثانية لهذا الجدول ؟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هناك يسكن أخي الصغير 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2852640"/>
            <a:ext cx="707400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84313"/>
                      </a:srgbClr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منذ عدة اسابيع ،اهانني بطريقة جارحة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84313"/>
                    </a:srgbClr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386064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abic Transparent"/>
              </a:rPr>
              <a:t>بعدها إنقطعت العلاقة بيننا 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205000"/>
            <a:ext cx="784836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52360" y="134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ترى هذه الحجارة بجانب بيتي ؟</a:t>
            </a:r>
            <a:r>
              <a:rPr b="1" lang="ar-SA" sz="54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أريد ان تبني لي</a:t>
            </a:r>
            <a:r>
              <a:rPr b="0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5400" spc="-1" strike="noStrike" u="sng">
                <a:solidFill>
                  <a:srgbClr val="ff6600"/>
                </a:solidFill>
                <a:uFillTx/>
                <a:latin typeface="Franklin Gothic Heavy"/>
                <a:cs typeface="Arabic Transparent"/>
              </a:rPr>
              <a:t>حائط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6600"/>
                </a:solidFill>
                <a:latin typeface="Franklin Gothic Heavy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بارتفاع مترين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4508640"/>
            <a:ext cx="66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لأني لا أريد رؤيته أبداً ..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981080"/>
            <a:ext cx="806436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421000"/>
            <a:ext cx="7056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جابه الرجل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4437000"/>
            <a:ext cx="8028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053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أعتقد اني افهم الوضع...”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981000"/>
            <a:ext cx="785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اعد صاحب البيت زائره ، طالب العمل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ي جمع كل ما يحتاج من عدة لبناء الحائ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70828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ثم تركه وحده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سافر في رحلة لمدة اسب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/>
  <dc:description/>
  <dc:language>en-US</dc:language>
  <cp:lastModifiedBy>cendi</cp:lastModifiedBy>
  <dcterms:modified xsi:type="dcterms:W3CDTF">2006-09-06T13:46:53Z</dcterms:modified>
  <cp:revision>441</cp:revision>
  <dc:subject/>
  <dc:title>DISFRUTA DE LA MÚSICA Y LÉELO</dc:title>
</cp:coreProperties>
</file>