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songbird_barbra_streisand%5B1%5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5B41-F619-4AC7-9075-DB80C44F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3E3A-8B1B-4A49-9AE2-5251ACB7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18E6-AD1B-4D81-9851-52202657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99D9-1C8A-427A-B5B9-3421C4ED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5459-E234-4BE6-8A63-2B055C08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0773-0242-46BE-9667-62B5CFEE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1FAF-20D4-463E-9D68-0F579F82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A75F-99F1-4C78-96AA-2A909998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67F3-F933-49CE-A3E4-B91345FA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34C7-1C59-4250-BA0F-9C741811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49BD-8C9A-406A-8327-C39C9471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F70E-0820-45C0-961C-4219A5DE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7DFE-9F2F-4BE9-88C7-4DADCC11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CEBF-8F56-4487-BA91-0A48365A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9CF0-967C-477F-A173-32D40002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70AB-73AF-4FFF-8848-5E61A63A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8C9A-DDFA-43D5-B31D-6F573B47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D488B-3E0C-467D-B257-2AED2418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0ACDF-9572-4E75-B86C-AE50A742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1EBF6-95C4-4055-A5D9-DFEEFE90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038E7-8275-4690-AA91-41D24489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7C7CD-5588-41CC-A5AA-8B1874AF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3A7-6B15-40C0-8B64-8CC369BF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3B86D-6906-47AE-871A-D6037E0D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84BAB-66CC-4327-BCCD-1A1706E9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45FBA-C0CC-48CC-8F5D-3DC06109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42C85-009A-4AC5-9D25-AB7823C3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AAB4D-C33B-49CA-A7E4-A940636D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1EB24-DA86-4670-BAFE-DDE3C7CA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DE56A-E171-4AD0-829A-AC4A1696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E1A2-A75C-43D6-96E1-7E8A997B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9D7-2CFA-4233-A801-6C0ACF64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9B7-0668-4F3C-BC28-37C1DC2A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B192-0837-488F-9896-CEAB9DE4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26E0-3C05-4AAC-A09D-BAB0EEB0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136-2699-4DDE-97A0-DDD16CE3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7DCB-E3BF-454F-A99D-11E0315E1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3C1D-3688-4210-9054-0564A7B9773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FB85-456C-4ACA-A07A-2D7F330DDEA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ngbird_barbra_streisand%5B1%5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ffffff"/>
            </a:gs>
            <a:gs pos="100000">
              <a:srgbClr val="99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694640" cy="68850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2990520" y="614520"/>
            <a:ext cx="5455440" cy="6426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empus Sans ITC"/>
              </a:rPr>
              <a:t>Leçon de PERSÉVE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266400" y="6237360"/>
            <a:ext cx="56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empus Sans ITC"/>
              </a:rPr>
              <a:t>Musique: Songbird – Barbra Streis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  <p:sndAc>
      <p:stSnd>
        <p:snd r:embed="rId2" name="songbird_barbra_streisand%5B1%5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fffff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136000" cy="48020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539640" y="333360"/>
            <a:ext cx="8163000" cy="11912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empus Sans ITC"/>
              </a:rPr>
              <a:t>Es-tu fatigué de recommencer, du gaspillage de la lutte quotidienne, de la confiance trahie, des buts non atteints quand tu étais sur le point d’y arri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ffffff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244000" cy="4869000"/>
          </a:xfrm>
          <a:prstGeom prst="rect">
            <a:avLst/>
          </a:prstGeom>
          <a:ln w="9360">
            <a:solidFill>
              <a:srgbClr val="666699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-669960" y="50760"/>
            <a:ext cx="10687320" cy="19227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empus Sans ITC"/>
              </a:rPr>
              <a:t>La vie te frappe ainsi parfois, mais ne te rends jamais, dis une priè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empus Sans ITC"/>
              </a:rPr>
              <a:t>mets ton espoir en avant et fo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empus Sans ITC"/>
              </a:rPr>
              <a:t>N</a:t>
            </a:r>
            <a:r>
              <a:rPr b="1" lang="es-ES" sz="2400" spc="-1" strike="noStrike">
                <a:solidFill>
                  <a:srgbClr val="003366"/>
                </a:solidFill>
                <a:latin typeface="Tempus Sans ITC"/>
              </a:rPr>
              <a:t>e te preoccupe pas si dans la bataille tu reçois une blessure,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empus Sans ITC"/>
              </a:rPr>
              <a:t>Il faut s’y attendre. Réunis les morceaux de ton espéranc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empus Sans ITC"/>
              </a:rPr>
              <a:t>reconstruis-la et fonce de nouv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ffffff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-312480" y="5022720"/>
            <a:ext cx="98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633"/>
                </a:solidFill>
                <a:latin typeface="Tempus Sans ITC"/>
              </a:rPr>
              <a:t>Peu importe ce qui se passe… ne faiblis pas, va de l’avant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633"/>
                </a:solidFill>
                <a:latin typeface="Tempus Sans ITC"/>
              </a:rPr>
              <a:t>La vie est un défi constant, mais cela vaut la peine de l’accep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633"/>
                </a:solidFill>
                <a:latin typeface="Tempus Sans ITC"/>
              </a:rPr>
              <a:t>Et surtout… n’arrête jamais de chante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2880" y="2637000"/>
            <a:ext cx="7310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cc0000"/>
                </a:solidFill>
                <a:latin typeface="Arial Black"/>
              </a:rPr>
              <a:t>Ne le guarde pas pour toi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cc0000"/>
                </a:solidFill>
                <a:latin typeface="Arial Black"/>
              </a:rPr>
              <a:t>Fais-le suivre à ton groupe d’ami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9640" y="1197000"/>
            <a:ext cx="813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e te souhaite un jour merveilleux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5000">
    <p:fade thruBlk="true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ffffff"/>
            </a:gs>
            <a:gs pos="100000">
              <a:srgbClr val="99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18560" cy="46274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826920" y="548496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empus Sans ITC"/>
              </a:rPr>
              <a:t>As-tu déjà observé l’attitude des oiseaux face à l’adversité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3040" y="228600"/>
            <a:ext cx="8788680" cy="5324400"/>
          </a:xfrm>
          <a:prstGeom prst="rect">
            <a:avLst/>
          </a:prstGeom>
          <a:ln w="9360">
            <a:solidFill>
              <a:srgbClr val="ff99cc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-285120" y="5810400"/>
            <a:ext cx="965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66"/>
                </a:solidFill>
                <a:latin typeface="Tempus Sans ITC"/>
              </a:rPr>
              <a:t>Pendant des jours et des jours ils font leur nid, recueillant 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66"/>
                </a:solidFill>
                <a:latin typeface="Tempus Sans ITC"/>
              </a:rPr>
              <a:t>matériaux parfois ramenés de très loi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4800" y="1773360"/>
            <a:ext cx="7932600" cy="4932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-442440" y="109440"/>
            <a:ext cx="10217880" cy="15570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00"/>
                </a:solidFill>
                <a:latin typeface="Tempus Sans ITC"/>
              </a:rPr>
              <a:t>... Et lorsqu’ils ont terminé et qu’ils sont prêts à déposer les oeuf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00"/>
                </a:solidFill>
                <a:latin typeface="Tempus Sans ITC"/>
              </a:rPr>
              <a:t>les intempéries ou l’oeuvre de l’être humain ou d’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00"/>
                </a:solidFill>
                <a:latin typeface="Tempus Sans ITC"/>
              </a:rPr>
              <a:t>quelconque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00"/>
                </a:solidFill>
                <a:latin typeface="Tempus Sans ITC"/>
              </a:rPr>
              <a:t>le détruit  et envoie au sol ce qu’ils ont réalisé avec tant d’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ffff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36920" y="147600"/>
            <a:ext cx="6378480" cy="6561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395280" y="1557360"/>
            <a:ext cx="1979640" cy="228852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empus Sans ITC"/>
              </a:rPr>
              <a:t>Que fait l’oisea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empus Sans ITC"/>
              </a:rPr>
              <a:t>Il se paralyse et abandonne la tâc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76360" y="152280"/>
            <a:ext cx="7989840" cy="488016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-677160" y="5505480"/>
            <a:ext cx="1048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empus Sans ITC"/>
              </a:rPr>
              <a:t>En aucune façon. Il recommence encore et encore jusqu’à ce que 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empus Sans ITC"/>
              </a:rPr>
              <a:t> </a:t>
            </a:r>
            <a:r>
              <a:rPr b="1" lang="es-ES_tradnl" sz="2400" spc="-1" strike="noStrike">
                <a:solidFill>
                  <a:srgbClr val="800080"/>
                </a:solidFill>
                <a:latin typeface="Tempus Sans ITC"/>
              </a:rPr>
              <a:t>premiers oeufs apparaissent dans le n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00"/>
            </a:gs>
            <a:gs pos="50000">
              <a:srgbClr val="ffffff"/>
            </a:gs>
            <a:gs pos="100000">
              <a:srgbClr val="808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76360" y="1627200"/>
            <a:ext cx="7989840" cy="49258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-531720" y="222120"/>
            <a:ext cx="102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Tempus Sans ITC"/>
              </a:rPr>
              <a:t>Parfois –très souvent – avant que naissent les oisill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Tempus Sans ITC"/>
              </a:rPr>
              <a:t>un animal, un  enfant, une tempête détruit une fois de plus le ni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Tempus Sans ITC"/>
              </a:rPr>
              <a:t>mais cette fois avec son précieux contenu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932960" cy="50641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-479880" y="5460840"/>
            <a:ext cx="102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empus Sans ITC"/>
              </a:rPr>
              <a:t>Cela fait mal de recommencer depuis zéro… même ains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empus Sans ITC"/>
              </a:rPr>
              <a:t>l’oiseau ne se tait jamais, ni ne recu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empus Sans ITC"/>
              </a:rPr>
              <a:t>il continue de chanter et de construire, construisant et chantan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ffffff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5280" y="152280"/>
            <a:ext cx="8424720" cy="5005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5280" y="5208480"/>
            <a:ext cx="8424720" cy="22885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c00"/>
                </a:solidFill>
                <a:latin typeface="Tempus Sans ITC"/>
              </a:rPr>
              <a:t>As-tu parfois eu le sentiment que ta vi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c00"/>
                </a:solidFill>
                <a:latin typeface="Tempus Sans ITC"/>
              </a:rPr>
              <a:t>ton travail, ta famille ne sont pas ce que tu avais rêvé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c00"/>
                </a:solidFill>
                <a:latin typeface="Tempus Sans ITC"/>
              </a:rPr>
              <a:t>As-tu parfois envie de dire “assez”, l’effort ne vaut pas la pei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c00"/>
                </a:solidFill>
                <a:latin typeface="Tempus Sans ITC"/>
              </a:rPr>
              <a:t>C’est trop pour moi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9:27:38Z</dcterms:created>
  <dc:creator>nor@</dc:creator>
  <dc:description/>
  <dc:language>en-US</dc:language>
  <cp:lastModifiedBy>Christiane Huvelle</cp:lastModifiedBy>
  <dcterms:modified xsi:type="dcterms:W3CDTF">2007-03-21T20:51:25Z</dcterms:modified>
  <cp:revision>52</cp:revision>
  <dc:subject/>
  <dc:title>perseverancia</dc:title>
</cp:coreProperties>
</file>