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songbird_barbra_streisand%5B1%5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967-5C41-4144-99C8-EF71D0C1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0D4-0B79-483B-9FB0-2C209838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83B-17D6-48AA-B14B-5F8748E9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CAC-1BC9-4B4D-AF6E-11A1A1CD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4B59-BEE3-4AE0-9DB9-2EEE0BFC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EE18-F2EF-4ADE-9295-FC2619B7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FB9C-BA60-464D-AA22-2B91A575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53CC-CB60-4E2F-8391-C4D3954B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C880-F887-49E5-A2DE-2D05F8C5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CBCE-2D1B-48AC-B22C-34441808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EF4F-89EE-4BBA-A4FC-681165EE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D6F-8B01-4EC7-8573-9F167D1F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4667-6FD7-445E-96F4-5DB8E72F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3897-781A-47B2-8BCE-781A0AA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51B1-1223-48F6-8FDF-12BF1C41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0ED8-1570-400D-801F-2A2F495C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FCB5-2C23-4263-B585-3F3907D1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27C3F-ECB2-43A1-8826-ED409075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1E3D1-B00C-46AB-9EAF-76309229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31A3E-9726-4337-B831-D21ED4A7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45382-A0C3-439A-A666-91AE6748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39D0B-B579-492E-9DE9-889C6872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F16-0757-407B-8FD3-2583CB52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9E179-0024-4996-BDD2-2565B3BE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81CF3-8321-4EE8-BCA8-00DCBAAD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0DCE-8619-4416-A79D-E3C7C69E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EDC5D-3B2A-4372-9368-4E2F6308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B60E-B6D9-4FC3-9BF1-FF506C54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2C89-DE86-45EF-91CC-DC89D7D1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5612C-646C-4C51-89D6-DD0B30D9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E79-7D46-4790-B967-6946EA47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BE8-5D61-4BD3-8EB6-E314A8BA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8E8-2DBB-43FC-B32E-68A98CD1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B34-F10E-428A-A736-CE4CEE9F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160-BCE6-472E-919A-C9A5BC11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F73-E138-45F9-BE6A-4FB9A9B6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FDC1-25B4-4E72-8D4C-8FB20597C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4E91-5FBC-4FED-B277-45879DD2FF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6332-CCB9-4A84-BB7F-D1BED91FE2A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gbird_barbra_streisand%5B1%5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ffffff"/>
            </a:gs>
            <a:gs pos="100000">
              <a:srgbClr val="99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94640" cy="68850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990520" y="614520"/>
            <a:ext cx="5455440" cy="6426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empus Sans ITC"/>
              </a:rPr>
              <a:t>Leçon de PERSÉVE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266400" y="6237360"/>
            <a:ext cx="56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empus Sans ITC"/>
              </a:rPr>
              <a:t>Musique: Songbird – Barbra Streis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  <p:sndAc>
      <p:stSnd>
        <p:snd r:embed="rId2" name="songbird_barbra_streisand%5B1%5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fffff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8020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539640" y="333360"/>
            <a:ext cx="8163000" cy="1191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empus Sans ITC"/>
              </a:rPr>
              <a:t>Es-tu fatigué de recommencer, du gaspillage de la lutte quotidienne, de la confiance trahie, des buts non atteints quand tu étais sur le point d’y arri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ffffff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244000" cy="486900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-669960" y="50760"/>
            <a:ext cx="10687320" cy="19227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empus Sans ITC"/>
              </a:rPr>
              <a:t>La vie te frappe ainsi parfois, mais ne te rends jamais, dis une priè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empus Sans ITC"/>
              </a:rPr>
              <a:t>mets ton espoir en avant et fo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empus Sans ITC"/>
              </a:rPr>
              <a:t>N</a:t>
            </a:r>
            <a:r>
              <a:rPr b="1" lang="es-ES" sz="2400" spc="-1" strike="noStrike">
                <a:solidFill>
                  <a:srgbClr val="003366"/>
                </a:solidFill>
                <a:latin typeface="Tempus Sans ITC"/>
              </a:rPr>
              <a:t>e te preoccupe pas si dans la bataille tu reçois une blessure,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empus Sans ITC"/>
              </a:rPr>
              <a:t>Il faut s’y attendre. Réunis les morceaux de ton espéra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empus Sans ITC"/>
              </a:rPr>
              <a:t>reconstruis-la et fonce de nouv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ffffff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312480" y="5022720"/>
            <a:ext cx="98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33"/>
                </a:solidFill>
                <a:latin typeface="Tempus Sans ITC"/>
              </a:rPr>
              <a:t>Peu importe ce qui se passe… ne faiblis pas, va de l’avant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33"/>
                </a:solidFill>
                <a:latin typeface="Tempus Sans ITC"/>
              </a:rPr>
              <a:t>La vie est un défi constant, mais cela vaut la peine de l’acce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33"/>
                </a:solidFill>
                <a:latin typeface="Tempus Sans ITC"/>
              </a:rPr>
              <a:t>Et surtout… n’arrête jamais de chante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2880" y="2637000"/>
            <a:ext cx="7310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cc0000"/>
                </a:solidFill>
                <a:latin typeface="Arial Black"/>
              </a:rPr>
              <a:t>Ne le guarde pas pour toi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cc0000"/>
                </a:solidFill>
                <a:latin typeface="Arial Black"/>
              </a:rPr>
              <a:t>Fais-le suivre à ton groupe d’am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1197000"/>
            <a:ext cx="813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 te souhaite un jour merveilleux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ffffff"/>
            </a:gs>
            <a:gs pos="100000">
              <a:srgbClr val="99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18560" cy="46274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826920" y="548496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empus Sans ITC"/>
              </a:rPr>
              <a:t>As-tu déjà observé l’attitude des oiseaux face à l’adversit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3040" y="228600"/>
            <a:ext cx="8788680" cy="532440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-285120" y="5810400"/>
            <a:ext cx="965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66"/>
                </a:solidFill>
                <a:latin typeface="Tempus Sans ITC"/>
              </a:rPr>
              <a:t>Pendant des jours et des jours ils font leur nid, recueillant 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66"/>
                </a:solidFill>
                <a:latin typeface="Tempus Sans ITC"/>
              </a:rPr>
              <a:t>matériaux parfois ramenés de très loi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4800" y="1773360"/>
            <a:ext cx="7932600" cy="493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-442440" y="109440"/>
            <a:ext cx="10217880" cy="1557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empus Sans ITC"/>
              </a:rPr>
              <a:t>... Et lorsqu’ils ont terminé et qu’ils sont prêts à déposer les oeuf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empus Sans ITC"/>
              </a:rPr>
              <a:t>les intempéries ou l’oeuvre de l’être humain ou d’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empus Sans ITC"/>
              </a:rPr>
              <a:t>quelconqu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empus Sans ITC"/>
              </a:rPr>
              <a:t>le détruit  et envoie au sol ce qu’ils ont réalisé avec tant d’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ffff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36920" y="147600"/>
            <a:ext cx="6378480" cy="6561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395280" y="1557360"/>
            <a:ext cx="1979640" cy="228852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empus Sans ITC"/>
              </a:rPr>
              <a:t>Que fait l’oisea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empus Sans ITC"/>
              </a:rPr>
              <a:t>Il se paralyse et abandonne la tâc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6360" y="152280"/>
            <a:ext cx="7989840" cy="488016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-677160" y="5505480"/>
            <a:ext cx="104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empus Sans ITC"/>
              </a:rPr>
              <a:t>En aucune façon. Il recommence encore et encore jusqu’à ce que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empus Sans ITC"/>
              </a:rPr>
              <a:t> </a:t>
            </a:r>
            <a:r>
              <a:rPr b="1" lang="es-ES_tradnl" sz="2400" spc="-1" strike="noStrike">
                <a:solidFill>
                  <a:srgbClr val="800080"/>
                </a:solidFill>
                <a:latin typeface="Tempus Sans ITC"/>
              </a:rPr>
              <a:t>premiers oeufs apparaissent dans le n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50000">
              <a:srgbClr val="ffffff"/>
            </a:gs>
            <a:gs pos="100000">
              <a:srgbClr val="8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6360" y="1627200"/>
            <a:ext cx="7989840" cy="49258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-531720" y="222120"/>
            <a:ext cx="102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Tempus Sans ITC"/>
              </a:rPr>
              <a:t>Parfois –très souvent – avant que naissent les oisill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Tempus Sans ITC"/>
              </a:rPr>
              <a:t>un animal, un  enfant, une tempête détruit une fois de plus le ni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Tempus Sans ITC"/>
              </a:rPr>
              <a:t>mais cette fois avec son précieux contenu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932960" cy="50641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-479880" y="5460840"/>
            <a:ext cx="102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empus Sans ITC"/>
              </a:rPr>
              <a:t>Cela fait mal de recommencer depuis zéro… même ains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empus Sans ITC"/>
              </a:rPr>
              <a:t>l’oiseau ne se tait jamais, ni ne recu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empus Sans ITC"/>
              </a:rPr>
              <a:t>il continue de chanter et de construire, construisant et chanta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ffffff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152280"/>
            <a:ext cx="8424720" cy="5005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5208480"/>
            <a:ext cx="8424720" cy="2288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empus Sans ITC"/>
              </a:rPr>
              <a:t>As-tu parfois eu le sentiment que ta v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empus Sans ITC"/>
              </a:rPr>
              <a:t>ton travail, ta famille ne sont pas ce que tu avais rêvé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empus Sans ITC"/>
              </a:rPr>
              <a:t>As-tu parfois envie de dire “assez”, l’effort ne vaut pas la pei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empus Sans ITC"/>
              </a:rPr>
              <a:t>C’est trop pour moi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9:27:38Z</dcterms:created>
  <dc:creator>nor@</dc:creator>
  <dc:description/>
  <dc:language>en-US</dc:language>
  <cp:lastModifiedBy>Christiane Huvelle</cp:lastModifiedBy>
  <dcterms:modified xsi:type="dcterms:W3CDTF">2007-03-21T20:51:25Z</dcterms:modified>
  <cp:revision>52</cp:revision>
  <dc:subject/>
  <dc:title>perseverancia</dc:title>
</cp:coreProperties>
</file>