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9366-724E-4704-B6EE-9C201483E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61EA-D578-4455-866C-12E72A52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53D0-2890-4E1A-81A4-988FA4FBD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537E-C65F-4D47-A295-3B10A2D66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1804-DD55-4EAA-8310-7B94CE59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FB9A-5B76-4529-9979-DC9E7090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BA24-70F6-4627-BF42-56BA7BD7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6365-3282-4BF9-A163-D7B899A1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37DE-DB94-4055-B6B3-10C756BF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3B95-F7F7-4644-AEB4-7F8A4EEB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803E-6B9E-4209-9283-65A5AF22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858F-2D5C-473E-9327-8E805BB8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FA0F-ECC9-4118-AC06-B0E0C94EA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007980dqEPmGhUzS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315200" y="380880"/>
            <a:ext cx="1600200" cy="97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طيبتك تسمو الحيا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طيبتك تسمو الحيا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شفتاي تُنشدُ تسبيح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28600"/>
            <a:ext cx="1523880" cy="85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ويداي تُرفع إلي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شفتايَ تُنشِدُ تسبيح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ويداي ترفع إلي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06:43:17Z</dcterms:created>
  <dc:creator>SUZANNE.MD</dc:creator>
  <dc:description/>
  <dc:language>en-US</dc:language>
  <cp:lastModifiedBy>SUZANNE.MD</cp:lastModifiedBy>
  <dcterms:modified xsi:type="dcterms:W3CDTF">2002-12-12T07:32:54Z</dcterms:modified>
  <cp:revision>1</cp:revision>
  <dc:subject/>
  <dc:title>PowerPoint Presentation</dc:title>
</cp:coreProperties>
</file>