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3B3-2FB8-40C7-8CA2-28D6F14D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695-AC59-4F53-A5BE-33FEE22F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380-06E9-46F4-8BCF-A18957F0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E34-6252-4C24-9A63-0ACC1FEA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36B-8A0E-477B-820F-51C3436B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0D3-A63E-4958-A81D-3745C26B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36C-ABA3-4AAE-B104-B190092C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7A1-57B5-42FC-BCA6-270E07EC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62C-22F5-438D-A6F5-84DB73C3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79E-C10E-4022-AFC8-BD4490B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827-92B4-4318-A35C-9E9F519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20B-3B73-40AC-879C-DC8674A8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D68F-31C8-4F9B-B88C-2915A999C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0"/>
            <a:ext cx="27432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تبعني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ذ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ى الأمـ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بلا ارتـخ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لا تـلتـفـِت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لى الو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0"/>
            <a:ext cx="27432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لـق العـز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لـقَ السّـُرور والهنـ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ـلَّ الطـر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لَكَ دوما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َفيـ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0"/>
            <a:ext cx="274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ـُن أمـينـا للممات   تنــل إكليـلَ الحيـاة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16T14:52:37Z</dcterms:modified>
  <cp:revision>8</cp:revision>
  <dc:subject/>
  <dc:title>PowerPoint Presentation</dc:title>
</cp:coreProperties>
</file>