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7CF-76EC-44C4-A83C-A9E58E6A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93D-5C6E-4BC7-922A-1BF3CD39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F9F-34F2-45E9-9E30-A16236A4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1ED-FAFD-474D-ACBA-060E7446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CBB-B4C9-463B-93FA-E4F9E67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70E-435D-4692-9EFC-3A98348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A2A-4591-45CD-992D-10838F4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BF2-FB37-4A78-AB90-111B7FBC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72E-C7F4-4BFB-BA65-5344A53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D9C-641D-4424-9434-1D6E311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F70-1EB8-42FE-BD72-2892EF0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343-9E98-4E68-804B-6F6AE7B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D57C-78D8-42D7-890A-667B8E0F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9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هجت الطريقَ أسائلُ عنـكَ بِحَيرةِ ضعفي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أوهام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سمعتُ الخليقةَ تُنشدُ لحناً لقلبي فتُنعِشُ إيمان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حَلَـتِ لـي الاقامـةُ داخلَ بيتـــكَ يــا أللّــه يا أللّــه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جاني أنينُ اليتيــمِ يضيعُ بصخبِ الحياةِ ولا من يُج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رأيتُ عيونَ الشريدِ           تتيهُ وشمسُ المحبـةِ عنه تغ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أشـــرِقْ علــيَّ بأنـــوارِ وجهــِـكَ يا أللّـه يا أللّ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10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غِبتَ عني شَردتُ     بذاتي غرقتُ بحزني دهاني الضجـــ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وإنْ كنتَ فيَّ حييتُ فـرحتُ نشــرتُ الطيـوبَ فَرشـتُ الزهــ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طيــبُ الحيــاةُ تَطيــبُ بقربِــكَ يا أللّـــه يا ألل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52:26Z</dcterms:created>
  <dc:creator>SUZANNE.MD</dc:creator>
  <dc:description/>
  <dc:language>en-US</dc:language>
  <cp:lastModifiedBy>HANI SAFI</cp:lastModifiedBy>
  <dcterms:modified xsi:type="dcterms:W3CDTF">2003-03-14T12:20:41Z</dcterms:modified>
  <cp:revision>3</cp:revision>
  <dc:subject/>
  <dc:title>PowerPoint Presentation</dc:title>
</cp:coreProperties>
</file>