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71DF-34A4-41A4-9C99-6BAA7CFA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E27-C3CD-42E9-A72B-B0973176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3A3-476D-4CB4-90D3-C186E78A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CD3-35E9-4285-8DF5-2EF62F9F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627-E1C0-4FAD-819C-14A85383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8B2-F305-462E-A5CC-33651E53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9323-3D68-4F88-B8FA-04DAD878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7BA-3FD3-4611-B1CA-F6E83523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7CE4-2F12-48BA-8887-EBDED666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7B66-6C97-4216-812F-3090F7A5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D42-1286-4E14-A226-A70A8618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052B-CCD5-4470-A14D-97716F8A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3209-AF17-4F9E-8886-F21756F12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7980dqEPmGhUzS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315200" y="380880"/>
            <a:ext cx="1600200" cy="9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طيبتك تسمو الحيا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طيبتك تسمو الحيا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شفتاي تُنشدُ تسبيح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1523880" cy="85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يداي تُرفع إل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شفتايَ تُنشِدُ تسبيح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يداي ترفع إلي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6:43:17Z</dcterms:created>
  <dc:creator>SUZANNE.MD</dc:creator>
  <dc:description/>
  <dc:language>en-US</dc:language>
  <cp:lastModifiedBy>SUZANNE.MD</cp:lastModifiedBy>
  <dcterms:modified xsi:type="dcterms:W3CDTF">2002-12-12T07:32:54Z</dcterms:modified>
  <cp:revision>1</cp:revision>
  <dc:subject/>
  <dc:title>PowerPoint Presentation</dc:title>
</cp:coreProperties>
</file>