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8DA8-8DC2-4CC7-A2E5-C33E650D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D62D-6445-4D62-A10D-22E085EF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1E17-A1FB-4983-9FA3-7B6112DC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1273-0B06-4E78-8259-D3921CDE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5394-A467-4B06-A89A-ADE6E028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B5CB-5C40-46AE-AE71-610E7C23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524D-5F96-4851-84DC-1F16725B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73C7-CA5F-4CA8-BFB0-F3E59385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E56B-3B17-43DB-97B8-EF0B0705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12E5-C0FB-46FD-91C6-ABE18569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97FB-D6F7-46E5-924C-35F9F33A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84B3-6B85-4186-8879-148EEC99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9079-DC48-4D35-9C8D-812F6D4B0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927813TLaFSsNbjp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400800" y="0"/>
            <a:ext cx="27432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تبعني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ذ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حيا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ى الأمـا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أتْـبَعُـكَ، أتْـبَعُـكَ   ربي يسوع، أتْـبَعُـ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إتبعني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بلا ارتـخ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لا تـلتـفـِت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إلى الور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3927813TLaFSsNbjp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400800" y="0"/>
            <a:ext cx="27432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إتبعن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تلـق العـز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تلـقَ السّـُرور والهنـ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تْـبَعُـكَ، أتْـبَعُـكَ   ربي يسوع، أتْـبَعُـ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إتبع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كـلَّ الطـر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لَكَ دوما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َفيـ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3927813TLaFSsNbjp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00800" y="0"/>
            <a:ext cx="2743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كـُن أمـينـا للممات   تنــل إكليـلَ الحيـاةْ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تْـبَعُـكَ، أتْـبَعُـكَ   ربي يسوع، أتْـبَعُـ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3-01-16T14:52:37Z</dcterms:modified>
  <cp:revision>8</cp:revision>
  <dc:subject/>
  <dc:title>PowerPoint Presentation</dc:title>
</cp:coreProperties>
</file>