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977-85BD-43AE-95CC-EB979E59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65A-7101-42D1-AA10-3C8AD073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A43-C114-425C-ABDB-D7E2ACAB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197-607D-4E81-8D59-F7E2AD7C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4E7-900E-4F78-B05B-ADEF7AD1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793-6C7B-48D9-855A-21CA438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9F3-6E83-44E1-8668-1C22CAE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21E-C0D1-4EB7-8131-E52A32B7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B65-8C7B-4D33-89E6-69684629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7D4-ABBD-471D-B9E9-5F6B1434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2E1-607E-4B98-9F1B-5651ADD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583-2227-4370-91E8-E5156F6E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5964-98E7-49A9-AA7A-2B898A61C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9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هجت الطريقَ أسائلُ عنـكَ بِحَيرةِ ضعفي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أوهام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سمعتُ الخليقةَ تُنشدُ لحناً لقلبي فتُنعِشُ إيمان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حَلَـتِ لـي الاقامـةُ داخلَ بيتـــكَ يــا أللّــه يا أللّــه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46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شجاني أنينُ اليتيــمِ يضيعُ بصخبِ الحياةِ ولا من يُج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رأيتُ عيونَ الشريدِ           تتيهُ وشمسُ المحبـةِ عنه تغ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أشـــرِقْ علــيَّ بأنـــوارِ وجهــِـكَ يا أللّـه يا أللّ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10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غِبتَ عني شَردتُ     بذاتي غرقتُ بحزني دهاني الضجـــ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وإنْ كنتَ فيَّ حييتُ فـرحتُ نشــرتُ الطيـوبَ فَرشـتُ الزهــ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طيــبُ الحيــاةُ تَطيــبُ بقربِــكَ يا أللّـــه يا ألل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52:26Z</dcterms:created>
  <dc:creator>SUZANNE.MD</dc:creator>
  <dc:description/>
  <dc:language>en-US</dc:language>
  <cp:lastModifiedBy>HANI SAFI</cp:lastModifiedBy>
  <dcterms:modified xsi:type="dcterms:W3CDTF">2003-03-14T12:20:41Z</dcterms:modified>
  <cp:revision>3</cp:revision>
  <dc:subject/>
  <dc:title>PowerPoint Presentation</dc:title>
</cp:coreProperties>
</file>