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EC7-06E7-4D07-8E76-FFB38516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B6E-8B14-4C82-BBCD-88346969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8F1-3939-4E07-8E54-8B268021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A2D-5279-47D1-9ECC-EDC66053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495-98F7-40DB-8D41-2E81F718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D63-0326-4360-B6A9-A255B014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9A9-92AF-444F-9652-26A489D7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BDC-D78F-4BE3-A97E-82C66CFE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170-328B-4D37-ACD2-A19569E6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80A-4439-4DAB-8761-D80BF6F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C4F-F697-47EE-80E4-8E11FB51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47E-D25D-4B38-96E3-13ACEA3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37D7-3DC0-43DC-A8F4-F82C71738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42226VAsJUZVajX_ph" descr=""/>
          <p:cNvPicPr/>
          <p:nvPr/>
        </p:nvPicPr>
        <p:blipFill>
          <a:blip r:embed="rId2"/>
          <a:stretch/>
        </p:blipFill>
        <p:spPr>
          <a:xfrm>
            <a:off x="-487440" y="0"/>
            <a:ext cx="5411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مطِر علي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َ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ملأ قلوبَ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مل الله الحامل خطايا العالم إرحمنا إرحمناإرحم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2:20Z</dcterms:created>
  <dc:creator>SUZANNE.MD</dc:creator>
  <dc:description/>
  <dc:language>en-US</dc:language>
  <cp:lastModifiedBy>USER</cp:lastModifiedBy>
  <dcterms:modified xsi:type="dcterms:W3CDTF">2002-12-23T20:07:15Z</dcterms:modified>
  <cp:revision>2</cp:revision>
  <dc:subject/>
  <dc:title>PowerPoint Presentation</dc:title>
</cp:coreProperties>
</file>