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B43-6AF1-4A26-8C81-649F8D3B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1F6-AFEC-4D13-855A-3AC0E2BD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DD9-5179-428A-A340-32BAFE00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77B7-AC11-4362-B522-E202476D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D9A8-1CAC-4F1A-98BC-129B5B70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2F08-4FFF-4155-8A5B-6C632E37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BB22-67C7-4CC5-92A5-DAD82174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0421-CD14-4706-86AE-E3C853A3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5912-515F-4EB7-A87C-03951569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7BB9-578F-46ED-902A-E83CA502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5AE1-095E-41E2-A830-232FFAD5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A28-4135-4C80-B852-1A8E5828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1BE2-CEC8-46D2-A75E-3A5D89F1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64C2-E1CA-4CAA-8183-286C4455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4AA4-028D-416A-BFB0-49A80630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7480-3F26-4380-BDBD-37C0B077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3442-D13E-4508-8276-CF6AEC5B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E097-9B6B-4814-91AD-76C19806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2A1-3BEB-458B-A6A0-20D18A9C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4EA-B090-4555-A808-5DD587EC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E55A-D8BE-4A38-8BCD-CD16FB1D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402-4CAD-44B2-AD01-C5F4E263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C7D-8A7F-43BD-BEE3-055AEB63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F8DB-5D50-4633-8E86-31C1C17E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740E-94FD-413C-8D49-CE00BD5FF86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F7D2-03C8-4FDE-9624-74995C9DA09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03280" y="0"/>
            <a:ext cx="614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ا أحبَّ مساكِنَكَ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َ الجنود تشتاقُ وتذوبُ نفسي إلى ديارِ الرب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76360" y="0"/>
            <a:ext cx="5859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يرنمُ قلبي وجسمي للإلهِ الحيّ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92360" y="0"/>
            <a:ext cx="5859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العصفورُ وجَدَ لهُ مأوى واليمامةُ عُشاً تَضَعُ فيه أفراخَها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24000" y="0"/>
            <a:ext cx="535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َن لي بمذابحِكَ يا ربَّ الجنودِ مَلِكي وإله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95640" y="0"/>
            <a:ext cx="4995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سكّان بيتِكَ فإنه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لا يبرحونَ يسبّحونَكَ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9:47:28Z</dcterms:created>
  <dc:creator>Charbel Azar</dc:creator>
  <dc:description/>
  <dc:language>en-US</dc:language>
  <cp:lastModifiedBy>ف</cp:lastModifiedBy>
  <dcterms:modified xsi:type="dcterms:W3CDTF">2006-11-07T19:33:19Z</dcterms:modified>
  <cp:revision>8</cp:revision>
  <dc:subject/>
  <dc:title>Slide 1</dc:title>
</cp:coreProperties>
</file>