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B7FE-56FB-4BC3-9C71-A130C326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8883-29A9-45EB-8360-D35E8361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FA09-144F-4B00-87D9-D09BC623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525-FBD6-4688-A09C-0FF31CF7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1B26-9659-4F7A-AF25-7730F7B4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9332-1816-49E3-BE4A-709999FC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004A-433B-4B32-8B50-16C5A2BF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E1C1-24F5-49A3-9772-620AB94D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D839-A065-48AE-9E70-C57B40E4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BB6B-CB07-4B5B-BFEF-43C2AE11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5733-4360-4B08-9F0B-3DE87CA7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CD67-AF14-4103-9720-879DAE97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D7A7-F18A-435A-AE38-7A555C270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205340CxXcORIlCn_ph" descr=""/>
          <p:cNvPicPr/>
          <p:nvPr/>
        </p:nvPicPr>
        <p:blipFill>
          <a:blip r:embed="rId2"/>
          <a:stretch/>
        </p:blipFill>
        <p:spPr>
          <a:xfrm>
            <a:off x="0" y="0"/>
            <a:ext cx="5483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1200" y="0"/>
            <a:ext cx="49903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ن شئت حيات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بين يد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ن شئت أشواق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هي إل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ني لست أطل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شيئا من لد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غير حبك الأم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والسعي إل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ذي هي طلبت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هذي منيت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استجب لي يا إله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6205340CxXcORIlCn_ph" descr=""/>
          <p:cNvPicPr/>
          <p:nvPr/>
        </p:nvPicPr>
        <p:blipFill>
          <a:blip r:embed="rId2"/>
          <a:stretch/>
        </p:blipFill>
        <p:spPr>
          <a:xfrm>
            <a:off x="0" y="0"/>
            <a:ext cx="54831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736880" y="0"/>
            <a:ext cx="442656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شفيني وقت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خبز السم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لما اعتر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جوع أو ظم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اجعل في فؤاد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حب الإنتم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التأني في سبي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حفظ ود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إذا أخطأ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بني الندما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العزاء يا إله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6205340CxXcORIlCn_ph" descr=""/>
          <p:cNvPicPr/>
          <p:nvPr/>
        </p:nvPicPr>
        <p:blipFill>
          <a:blip r:embed="rId2"/>
          <a:stretch/>
        </p:blipFill>
        <p:spPr>
          <a:xfrm>
            <a:off x="0" y="0"/>
            <a:ext cx="54831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59520" y="0"/>
            <a:ext cx="44892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ذا ما ضعف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أنت قوت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ذا ما حزن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أنت سلوت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نك القدي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شدد همتي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بناء الملكوت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ا بين الأن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وسط الصعا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أذكر عهد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انتشلني يا إله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2-10-30T16:30:28Z</dcterms:modified>
  <cp:revision>3</cp:revision>
  <dc:subject/>
  <dc:title>PowerPoint Presentation</dc:title>
</cp:coreProperties>
</file>