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6E97-CBF1-4BE2-A495-95C46155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470-105F-492E-8BF3-C36A493A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66D9-2961-4E66-A5DD-1457ECD2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AED5-FAE5-471A-940F-B831BE4B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EFF-2ECE-40D2-BF28-647D4805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CF9-477B-4FF8-A089-6B59C78E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7624-E9E3-40B1-966F-0549C2B2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D66-D4CE-408B-A4CF-CFF6E2D1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1D7-4947-495F-8B18-A21B6328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EED-BF3B-4B03-ADA2-75D584ED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C9C-3A9E-4576-ADC7-CF5531F8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81C-21A0-415B-A768-95328753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E5E1-0D9A-40A5-A911-07C324905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4572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ت ملكنا-أن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لكنا-أنت ملكنا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ت ملك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سُد علينا الآن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املأ المكان  (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2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ِسَكين عجيب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من روحك الحنّان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آن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818b" descr=""/>
          <p:cNvPicPr/>
          <p:nvPr/>
        </p:nvPicPr>
        <p:blipFill>
          <a:blip r:embed="rId1"/>
          <a:stretch/>
        </p:blipFill>
        <p:spPr>
          <a:xfrm>
            <a:off x="0" y="-25560"/>
            <a:ext cx="58672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7464500DVbzFrqSsR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62720" y="0"/>
            <a:ext cx="3200400" cy="74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قوة روحك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إلمس قل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احتياجاتنا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يضا ترنيمنا  -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آ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ملكنا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ملكنا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ملكنا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ت ملك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2-11-25T15:38:09Z</dcterms:modified>
  <cp:revision>4</cp:revision>
  <dc:subject/>
  <dc:title>PowerPoint Presentation</dc:title>
</cp:coreProperties>
</file>