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498-7064-41BE-85B0-44E89242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B99-BB33-4736-B563-A48F963D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F31-DBDE-4046-8C18-1FBB26F4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F65-52E0-447E-9D89-6EEBC6BB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7B4-E0FA-4089-8468-5A232832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5E1-460C-4E4C-9101-9465AB38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24F-990A-4721-9DDC-4D3A099E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E23-02FA-4984-AF6F-F793CDFB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962-363D-4413-91A7-ADE52280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4B8-10E1-4A8D-86D3-E80A3B23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5A8-64C3-48AE-9B55-35ACECD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ADB-D03E-499F-8EBB-133D58A5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C5F2-5EA8-4936-9E91-EA8AA30B7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0219416ekJGdecUPx_ph" descr=""/>
          <p:cNvPicPr/>
          <p:nvPr/>
        </p:nvPicPr>
        <p:blipFill>
          <a:blip r:embed="rId1"/>
          <a:stretch/>
        </p:blipFill>
        <p:spPr>
          <a:xfrm>
            <a:off x="0" y="0"/>
            <a:ext cx="11049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34800"/>
            <a:ext cx="16765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قى ل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باً وأ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رؤياك نفسي تحلُم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رى وجهك ي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نت الذي دوما ترا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42280" y="228600"/>
            <a:ext cx="1701720" cy="10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ربي دو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ثقاً أمري أُسلِّم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تقبلني مبتس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أنك همّي تعلم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6:35:22Z</dcterms:created>
  <dc:creator>SUZANNE.MD</dc:creator>
  <dc:description/>
  <dc:language>en-US</dc:language>
  <cp:lastModifiedBy>USER</cp:lastModifiedBy>
  <dcterms:modified xsi:type="dcterms:W3CDTF">2003-01-16T15:33:11Z</dcterms:modified>
  <cp:revision>6</cp:revision>
  <dc:subject/>
  <dc:title>PowerPoint Presentation</dc:title>
</cp:coreProperties>
</file>