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ED4-5B4D-411D-BC4A-707C7C8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2F5-0921-48C3-8ECC-78AAE93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77C-9DCE-41B4-AB23-CA9AA2B7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5DE-AC40-4063-9D57-19F6E8B4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487-F8DD-436A-A44F-30C07C6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060-5248-48AC-8135-FCB99CE8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5FB-740A-406F-AE1D-7C76F8D9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AEB-4C8C-4FFF-9143-6199A09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E35-09E1-4187-A2E0-BFCF3EB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901-5009-4408-95FD-E216885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972-E630-4448-8354-84692A6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E6D-0869-40F9-9AC6-EA1A5C0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05D4-A970-4625-BAAA-9A45351F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09880" cy="11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سنابل وزهور تبقـى مليانـ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بيادر وحقـول تبقـى حليان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طاحن بتدور بطعمي المعم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خبز ونار ونور أطيب قربا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572000" cy="89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عناقيـد النـور بكــروم الدنــ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مواسـم ودهــور فيـك بتغـتـن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معصـرة الـدار يا سـر الأس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خمـــر ونـــور نار كاســة قربانــة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70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343400" cy="10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نعمـة للكــل  يا جسم ودما عالأرض بتضــل عربـون الس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بي يسوع  صوبك دربي طل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عم بعطــش وبجــوع أعطـينــي القربان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02:19Z</dcterms:created>
  <dc:creator>SUZANNE.MD</dc:creator>
  <dc:description/>
  <dc:language>en-US</dc:language>
  <cp:lastModifiedBy>HANI SAFI</cp:lastModifiedBy>
  <dcterms:modified xsi:type="dcterms:W3CDTF">2003-04-17T11:12:57Z</dcterms:modified>
  <cp:revision>2</cp:revision>
  <dc:subject/>
  <dc:title>PowerPoint Presentation</dc:title>
</cp:coreProperties>
</file>