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174-94BD-4722-9543-5D3D37BE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A4A7-1BCF-410E-9EC5-F13F691E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2465-DDEA-4BF1-878E-B3BF2A8F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CBFB-9565-44F4-89A0-497F743E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81B-B02F-47AB-B8AA-088D492A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DAF5-8B54-4A06-A6FB-C2C15AF7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7682-9B0E-4A67-9545-3227D4BD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735-DFFA-48D8-B698-2C3C07F9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07A1-BE0E-42E6-A281-7C98FE01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171A-FA51-4289-AF56-0FD70DE1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E97-54CC-440C-9B7E-500C837F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7C6-0F11-4048-BA4E-51E1A51F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96DE-6D3F-445D-8419-8F6C57E0B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316" descr=""/>
          <p:cNvPicPr/>
          <p:nvPr/>
        </p:nvPicPr>
        <p:blipFill>
          <a:blip r:embed="rId1"/>
          <a:stretch/>
        </p:blipFill>
        <p:spPr>
          <a:xfrm>
            <a:off x="-609480" y="-380880"/>
            <a:ext cx="6781680" cy="845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6172200" y="-380880"/>
            <a:ext cx="2971800" cy="10701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بانا نرفعُ إسمَكَ الكريم أبانا نحمَدُ حُبَّكَ العظ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أنتَ ربُّنا ونشيدُ حمْدِنا نهتِفُ ل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رنيمُ الطي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َحكي حُبَّ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رفعُ الصُّخ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وتَ سُبح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كراً لكَ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مداً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968075CjKGRKnhq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7280" y="0"/>
            <a:ext cx="327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نسبحُ اسمَك ليلاً ونه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أنتَ إلهنا قدّوسٌ وب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نحمدُ اسمَ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ونُعَلّي شخصَك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Simplified Arabic"/>
                <a:cs typeface="Times New Roman (Arabic)"/>
              </a:rPr>
              <a:t>نسجُدُ ل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K316" descr=""/>
          <p:cNvPicPr/>
          <p:nvPr/>
        </p:nvPicPr>
        <p:blipFill>
          <a:blip r:embed="rId1"/>
          <a:stretch/>
        </p:blipFill>
        <p:spPr>
          <a:xfrm>
            <a:off x="-609480" y="-380880"/>
            <a:ext cx="6781680" cy="845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6172200" y="-380880"/>
            <a:ext cx="2971800" cy="10701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بانا نرفعُ إسمَكَ الكريم أبانا نحمَدُ حُبَّكَ العظ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أنتَ ربُّنا ونشيدُ حمْدِنا نهتِفُ ل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رنيمُ الطي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َحكي حُبَّ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رفعُ الصُّخو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وتَ سُبحِ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كراً لكَ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مداً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للوي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0:49:09Z</dcterms:created>
  <dc:creator>USER</dc:creator>
  <dc:description/>
  <dc:language>en-US</dc:language>
  <cp:lastModifiedBy>USER</cp:lastModifiedBy>
  <dcterms:modified xsi:type="dcterms:W3CDTF">2003-01-18T09:18:53Z</dcterms:modified>
  <cp:revision>3</cp:revision>
  <dc:subject/>
  <dc:title>PowerPoint Presentation</dc:title>
</cp:coreProperties>
</file>