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980-C9C4-4AF9-8E8D-535C3571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729-E98E-47BD-8C04-F3B0F70C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7AE-FF63-4741-966E-F14EB271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F4B-4B4F-4270-9A98-D3489B79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3C2-A63B-41B1-BC4D-4FF3454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939-B117-4AB9-B771-45979E4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FE2-6F94-42CD-8431-D005D251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B1E-C944-4795-A555-89440C09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1E1-776B-4944-862D-5A75B9E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E05-FF66-466E-92D4-9F9DD04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53D-622A-43F8-AB5A-2857960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572-79E9-41DD-95E8-2ADB723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564B-6B7D-4760-8318-8EA8BB23C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809880" cy="11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سنابل وزهور تبقـى مليانـ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بيادر وحقـول تبقـى حليان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طاحن بتدور بطعمي المعم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خبز ونار ونور أطيب قربا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4572000" cy="89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عناقيـد النـور بكــروم الدنــ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مواسـم ودهــور فيـك بتغـتـن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معصـرة الـدار يا سـر الأس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خمـــر ونـــور نار كاســة قربانــة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70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343400" cy="10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نعمـة للكــل  يا جسم ودما عالأرض بتضــل عربـون الس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بي يسوع  صوبك دربي طل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عم بعطــش وبجــوع أعطـينــي القربان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02:19Z</dcterms:created>
  <dc:creator>SUZANNE.MD</dc:creator>
  <dc:description/>
  <dc:language>en-US</dc:language>
  <cp:lastModifiedBy>HANI SAFI</cp:lastModifiedBy>
  <dcterms:modified xsi:type="dcterms:W3CDTF">2003-04-17T11:12:57Z</dcterms:modified>
  <cp:revision>2</cp:revision>
  <dc:subject/>
  <dc:title>PowerPoint Presentation</dc:title>
</cp:coreProperties>
</file>