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3D6-B919-4820-9C74-203CE232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22A-B311-4FD3-86A8-22FD4C83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8AB-B5BA-4D05-A947-2F190B27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9F6-D6F3-466A-8CBA-FC111C98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9D2-D113-415F-86EE-33CC9D21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EAF-6943-4802-BD38-0A9F96A1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9DC-09BF-40AC-B69A-21CF710E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2CC-3105-4C76-ACF0-FA87D773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B72-ABA5-4CD2-B35C-7CBD70AC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9E3-5B2B-4713-8253-AF8F448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491-EA58-4FD5-B8A7-7F1A463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C59-A860-4521-8550-4E60952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F53B-4611-4BAF-8A6B-7D8101C3A6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0160" y="4508280"/>
            <a:ext cx="561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Ruqah2 Normal"/>
              </a:rPr>
              <a:t>ما أبهى نورك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636640"/>
            <a:ext cx="5292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تشرق عليّ نوراً تضيء دربي إليك وبفرح لقائي آتيكَ رب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52:04Z</dcterms:created>
  <dc:creator>Charbel Azar</dc:creator>
  <dc:description/>
  <dc:language>en-US</dc:language>
  <cp:lastModifiedBy>-</cp:lastModifiedBy>
  <dcterms:modified xsi:type="dcterms:W3CDTF">2003-01-30T06:48:53Z</dcterms:modified>
  <cp:revision>9</cp:revision>
  <dc:subject/>
  <dc:title>أنتَ المسيح ابن الله الحيّ</dc:title>
</cp:coreProperties>
</file>