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F26-2BCD-4F5C-A11D-9CC1582F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F9C-394F-4340-B6A0-8FCD242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FA7-EAFA-4680-844D-A3F91EE6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6A1-1911-4C13-9E71-5D3E921C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89F-7C6B-4995-89A2-E0FCE7E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BF6-9A0E-4F63-B221-B540DC5A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901-0CF3-40F2-918B-68AA13DA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EB9-A09D-4879-8CAD-FD2BFFC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AC2-A286-4AC7-A62C-1CDDCD6F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DC5-451F-4479-A857-110C0AD7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F3A-3D0A-4C47-B746-A3AE03C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83E-E905-4717-AFB4-D033226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0A3-3C02-4A4C-96AD-7CD2EDBA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7537749JoSuN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أيها الملكُ السماوي المعزي روحُ الحق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الحاضرُ في كل مكان والماليءُ الكل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كنزُ الصالحاتِ ورازقُ الحياة هلم واسكن فينا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طهرنا من كلِّ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دنسٍ وخلص أيها الصالحُ نفوسَ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53:26Z</dcterms:created>
  <dc:creator>SUZANNE.MD</dc:creator>
  <dc:description/>
  <dc:language>en-US</dc:language>
  <cp:lastModifiedBy>USER</cp:lastModifiedBy>
  <dcterms:modified xsi:type="dcterms:W3CDTF">2003-02-07T13:06:47Z</dcterms:modified>
  <cp:revision>3</cp:revision>
  <dc:subject/>
  <dc:title>PowerPoint Presentation</dc:title>
</cp:coreProperties>
</file>