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9B0-23EA-445E-AF8B-D913775F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26F-8DEA-4080-9287-52D55289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BB8-5997-4A39-ADDC-9452AEEA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7B3-5D5B-4960-BD1A-59054692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C2A-AD4B-4500-BFAC-AD2F3A56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BA2-C258-4CCB-8F70-E5458389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DF0-2101-4D09-AC9F-95C95803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7E5-595F-40F0-8548-2B0D7B9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9E3-19BC-470C-B409-D7BCACF7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FC5-92C8-4AB9-A51E-B3969407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2E8-8CDE-426F-9758-3555780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AD3-A8A0-4B63-A170-9C76E517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561-264F-4339-B774-A82AB5ECF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6255000" cy="777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8600"/>
            <a:ext cx="23619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دل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ثل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جبال، وأحكام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مرٌ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ظيمٌ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-1523880"/>
            <a:ext cx="7421400" cy="921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هم ما أثمن محبتك، إن بني البشر بظل جناحيك يعتصمون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90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رتوون من فيض بيتك لأن عندك ينبوع الحياة وبنورك نعاين النور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6:27:58Z</dcterms:created>
  <dc:creator>SUZANNE.MD</dc:creator>
  <dc:description/>
  <dc:language>en-US</dc:language>
  <cp:lastModifiedBy>HANI SAFI</cp:lastModifiedBy>
  <dcterms:modified xsi:type="dcterms:W3CDTF">2003-04-17T11:02:19Z</dcterms:modified>
  <cp:revision>2</cp:revision>
  <dc:subject/>
  <dc:title>PowerPoint Presentation</dc:title>
</cp:coreProperties>
</file>