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FB2-0B27-4A38-BC42-CDE0ADEC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498-24DE-4819-9BB8-D0699F7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505-7D76-4B7D-8DB8-7B5DC73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5ED-C85D-48A2-94F5-05A11FE9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7DE-8F31-4309-B9ED-E70F746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4F1-2234-42B5-8071-450D2A04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252-C0B2-4D3B-BE03-F1BBD3C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508-A0FB-4AEF-AE56-AD22BCE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C0F-FFAA-4648-A3D8-1FA3050E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1A8-8739-433A-A600-6F61447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58F-A6BE-44CA-A55B-A035369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C27-D1A2-4A80-9C9C-9640F978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0D89-6A6D-426F-924A-25EE3C948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48640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76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يسـوع يـا يسـوع      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احلى واطيب قربانة؟  يسـوع يـا يسـوع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    نعمــة ما الهـا تانــي!    اول مرة بحياتي               عـم بتناول هالنعمــ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برفع قلبي ودياتي ربـ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دوقني الط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عطينـي القربانة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227560"/>
            <a:ext cx="1752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3581280" cy="74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ما نطرتو   هاليوم من زمـان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مـري ندرتـو لسر القربـــ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ـارب حبيتــك وبالقلب خبيت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ع طـول لبيتك عهد الامانـة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419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0"/>
            <a:ext cx="34290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ــن قنديلك  قلبي ضويتــو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ـن انجيلــك حبـي رويتــ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رب سلمنـــي الانجيل علمنـ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 طول كلمني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قـــوي ايمانـــــ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762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411480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مـــي وابـي    ع الدني طليــت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اخـي و اختــي مـن قلبـي صليـ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ـارب خلينـا وبالحب ملينــ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وع الدرب دلينا صــوب القربانـة</a:t>
            </a:r>
            <a:r>
              <a:rPr b="1" lang="ar-SA" sz="4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!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7:57:38Z</dcterms:created>
  <dc:creator>SUZANNE.MD</dc:creator>
  <dc:description/>
  <dc:language>en-US</dc:language>
  <cp:lastModifiedBy>HANI SAFI</cp:lastModifiedBy>
  <dcterms:modified xsi:type="dcterms:W3CDTF">2003-04-30T13:47:47Z</dcterms:modified>
  <cp:revision>2</cp:revision>
  <dc:subject/>
  <dc:title>PowerPoint Presentation</dc:title>
</cp:coreProperties>
</file>