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B8C-FE92-4FB2-8C4D-0010970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1F0-1D3C-441E-AF55-43B9793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80E-C1D7-4073-ADDD-9560F203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291-A172-42D0-A017-00525F8D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608-5C1F-4B4F-940A-FE0C822C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742-2074-40DB-8F88-982C5DB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742-7EA3-408F-AE38-F60A280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533-B8B6-4EAF-8787-325236E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EE4-FEA3-4324-AE94-85B5A7A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05C-B24A-4241-B53E-BC12706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E37-FCFA-4C02-9FB9-64B6F98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D5B-0D06-4BF6-ADD7-9B2CB56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AD9A-0411-484D-AAC7-972CA416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655017uXcjBcRsbi_ph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77120" y="4114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الراعي الصالحَ يبذُلُ نفسَهُ في سبيل الخرا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457200"/>
            <a:ext cx="1600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َ يبذُلُ نفسَهُ في سبيل الخرا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5215564EUYNjVXDay_ph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57200"/>
            <a:ext cx="198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راعي الصالح تسمعُ صوتَهُ جميع رعيت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811b" descr=""/>
          <p:cNvPicPr/>
          <p:nvPr/>
        </p:nvPicPr>
        <p:blipFill>
          <a:blip r:embed="rId1"/>
          <a:stretch/>
        </p:blipFill>
        <p:spPr>
          <a:xfrm>
            <a:off x="0" y="0"/>
            <a:ext cx="7169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3049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ن الآب يحبك لأنك تبذُلُ نفسك في سبيلِ خِرافِكَ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17830kOgQQotmAz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220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نا الراعي الصالح وخرافي تعرفني كما يعرفني الآب أب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1:53Z</dcterms:created>
  <dc:creator>USER</dc:creator>
  <dc:description/>
  <dc:language>en-US</dc:language>
  <cp:lastModifiedBy>USER</cp:lastModifiedBy>
  <dcterms:modified xsi:type="dcterms:W3CDTF">2002-11-28T20:53:21Z</dcterms:modified>
  <cp:revision>1</cp:revision>
  <dc:subject/>
  <dc:title>PowerPoint Presentation</dc:title>
</cp:coreProperties>
</file>