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E2A3-74E3-4202-9147-C33DD1D65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9CA2-0932-45F3-87BA-764E78CD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4ABA-A25D-4C64-9756-C20EB81B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E30E-1DB7-4E6F-B61A-6CC00B30F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A1A5-7ECF-46BF-A56C-C4994670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75EF-C3B9-4E94-AF8F-907FD5AB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7908-580D-4D0B-99A1-32BDFCEF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CC4D-C2AB-4A05-8D77-CD56B1A3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2E71-7607-41F5-B0C9-0A4E32B5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B4B2-6AE5-4511-B5D1-145CC718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E00D-AE74-4809-889A-B898FFDD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2E92-AE1A-4319-BC14-08629806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3486-EBA3-4C2E-96C1-955AE1BE1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aptainjesus" descr="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286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4876920" cy="9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يسوع قال لي أنا حارسك مالك خايف من إيه؟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حِملَك وأخدته عنَّك مالك تعبان من إيه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خوفك دا عدم إيمان تعبك ده مالوهش مكان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سلَّمت الدفَّة لمين يحدفها شمال ويمين؟ ليه تايه يا مسكين؟  أنا لك ملجأ ومُع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ليه تعيش في الدنيا شريد وانت ليك كلِّ المواعيد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دنا عندي ليك بركات بس إنت قولي ه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أديك من غير حساب خيرات من عند الآب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35524112qsHxQg_th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0" y="3049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0"/>
            <a:ext cx="4572000" cy="42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في نهاية ألمي وتعبي قلتلهم  أنا عطش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وفي عطشي وظمأي رويتك وبروحي بقيت ملي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Times New Roman"/>
              </a:rPr>
              <a:t>تصرخ دايماً وحزين وكأنه مالكش مُعين</a:t>
            </a:r>
            <a:r>
              <a:rPr b="0" lang="ar-SA" sz="24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429000"/>
            <a:ext cx="8915400" cy="47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سلّمت الدفَّة لمين يحدفها شمال ويمين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ليه تايه يا مسكين؟  أنا لك ملجأ ومُع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ليه تعيش في عطش وف جوع  ليه عينيك مليانه دم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دنا عندي ليك بركات بس إنت قولي ه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Times New Roman"/>
              </a:rPr>
              <a:t>أديك من غير حساب خيرات من عند الآب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54916690EgLuIu_ph" descr="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5334120" cy="82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نكَّست عشانك راسي إكليلي كان أشوا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وفي موتي وجدت حياتك بعد مازالت خطايا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ليه أنا شايفك زعلان كان أملي تكون فرحا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سلّمت الدفَّة لمين يحدفها شمال ويمين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ليه تايه يا مسكين؟  أنا لك ملجأ ومُع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ليه تعيش عبد ومملوك وانت أبوك ملك الملو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دنا عندي ليك بركات بس إنت قولي هات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أديك من غير حساب خيرات من عند الآب</a:t>
            </a:r>
            <a:r>
              <a:rPr b="0" lang="ar-SA" sz="3200" spc="-1" strike="noStrike">
                <a:solidFill>
                  <a:srgbClr val="ffcc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7T10:28:10Z</dcterms:created>
  <dc:creator>SUZANNE.MD</dc:creator>
  <dc:description/>
  <dc:language>en-US</dc:language>
  <cp:lastModifiedBy>USER</cp:lastModifiedBy>
  <dcterms:modified xsi:type="dcterms:W3CDTF">2003-02-17T14:37:45Z</dcterms:modified>
  <cp:revision>2</cp:revision>
  <dc:subject/>
  <dc:title>PowerPoint Presentation</dc:title>
</cp:coreProperties>
</file>