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01D2-2C14-4C24-8520-56D74ACF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2F01-8C2D-482D-9294-77DBE64A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86EA-25BA-448F-8B50-6B8870C51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86DF-FB7B-49CF-B144-C79F7B298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C134-9CFE-4C79-B9F9-9FB81709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B009-34EB-4986-AD4D-C24C23D3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E95A-CE9A-45FE-8076-42D1015B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8A8C-52F8-427F-8AC1-AB33B131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3A83-ABC7-4767-8362-F684BA74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78B8-0EB5-4386-8AC9-DB6AB15A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BECD-31DA-43C8-988B-6B62660F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33A9-2CF8-467F-80A9-DC3A8977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A0FA-8214-4185-AF3F-DE4A9CC5E8D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Arial"/>
                <a:cs typeface="????Boutros Rokaa"/>
              </a:rPr>
              <a:t>يا مَسِيحاً جِئتَ نُورا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مَسِيحاً جِئتَ نُور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َيْ تُنِيرَ العَالَمِي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ِئتَ حُبّاً جِئتَ صَفْح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َئتَ سَلْوَى الْبَائِسِين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ِئتَ تُلْقي الظُّلمَ عَنّا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عَنْ شُعوبٍ كادِحي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َيْ يَسودَ الحبُ فينا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إن ثبُتْنا مُخْلِصين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مَسِيحاً جِئتَ نُور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َيْ تُنِيرَ العَالَمِي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ِئتَ حُبّاً جِئتَ صَفْح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َئتَ سَلْوَى الْبَائِسِين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نتَ يا ربَّ السَّماءِ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شِئْتَنا لِلْمَجْدِ شَعْباً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َاتَّشَحْنَا بالبَهاء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َوْمَ جَئتَ الأرضَ رَبّاً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مَسِيحاً جِئتَ نُور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َيْ تُنِيرَ العَالَمِي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ِئتَ حُبّاً جِئتَ صَفْح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َئتَ سَلْوَى الْبَائِسِين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َاقْتَبلنا بالرَّجاءِ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َسْمُكَ الصّافِي مَحَبّة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انْعَرَفْنا بالضِّياءِ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اسمِكَ الشعبُ الأمين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مَسِيحاً جِئتَ نُور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َيْ تُنِيرَ العَالَمِي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ِئتَ حُبّاً جِئتَ صَفْح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َئتَ سَلْوَى الْبَائِسِين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8T15:04:27Z</dcterms:created>
  <dc:creator>Charbel Azar</dc:creator>
  <dc:description/>
  <dc:language>en-US</dc:language>
  <cp:lastModifiedBy>-</cp:lastModifiedBy>
  <dcterms:modified xsi:type="dcterms:W3CDTF">2002-12-29T07:40:30Z</dcterms:modified>
  <cp:revision>3</cp:revision>
  <dc:subject/>
  <dc:title>يا مَسِيحاً جِئتَ نُوراً كَيْ تُنِيرَ العَالَمِين جِئتَ حُبّاً جِئتَ صَفْحاً جَئتَ سَلْوَى الْبَائِسِين.</dc:title>
</cp:coreProperties>
</file>