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0D6-C419-48A2-8130-9F9FFC30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744-B112-4F98-B10B-E87FD000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99B-04E6-4F48-ADD8-7436B918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8F6-35A2-41C8-A7C9-480A64D9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1ED-C85B-4015-8E76-A91CDBD7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A3E-9BF4-49E6-8BFE-01B112D1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164-B051-4270-9081-642BD63D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733-A86A-4066-B391-17B8787F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1B4-1324-4155-86FD-9B102627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E8F-4C75-4DB3-9F64-B6E4A513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4BA-8D93-46E6-8E8D-A93EDE9A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CC0-0BE1-4652-81EB-54951C7D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6D79-B2A1-4929-A678-941218CEE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451070cXNiyMwIs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6019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عبك يا رب يسبّح اسمك كلّ القوات تسجد لك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لائكة تعظّمك يسو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ت الطري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216836NubwvsYlWk_ph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وحّدنا دوماً بروحك لنعمل مشيئتك</a:t>
            </a:r>
            <a:br>
              <a:rPr sz="4000"/>
            </a:b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من الأعماق نصرخ لك يسوع نحبك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7:02:23Z</dcterms:created>
  <dc:creator>SUZANNE.MD</dc:creator>
  <dc:description/>
  <dc:language>en-US</dc:language>
  <cp:lastModifiedBy>USER</cp:lastModifiedBy>
  <dcterms:modified xsi:type="dcterms:W3CDTF">2003-02-03T12:24:12Z</dcterms:modified>
  <cp:revision>2</cp:revision>
  <dc:subject/>
  <dc:title>PowerPoint Presentation</dc:title>
</cp:coreProperties>
</file>