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D3F-42C9-4556-8F9B-6868192F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F7F-8D6D-4CBC-BC29-A0E5DB99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08E-4CC6-430D-BB99-2991FFF6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9BA-3E68-45DC-AEF4-CE86E668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436-E884-448B-BE5B-B0D02EA7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012-B9D3-4BD7-8CAC-3CAEB15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77D-74BF-486D-9DCA-DF62E350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074-838C-450F-8720-73CC431B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4B8-DBAF-47DC-B1B6-F2360B7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E6D-332A-42AD-ACF5-07DEE1E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5D8-1702-41B8-9E17-2C74F43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23B-4988-4E26-9EDA-71BEF0E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0CE-A15A-49E5-B307-C58B89AB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655017uXcjBcRsbi_ph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4114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الراعي الصالحَ يبذُلُ نفسَهُ في سبيل الخرا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457200"/>
            <a:ext cx="1600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َ يبذُلُ نفسَهُ في سبيل الخرا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5215564EUYNjVXDay_ph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57200"/>
            <a:ext cx="198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 تسمعُ صوتَهُ جميع رعيت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811b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3049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آب يحبك لأنك تبذُلُ نفسك في سبيلِ خِرافِكَ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1:53Z</dcterms:created>
  <dc:creator>USER</dc:creator>
  <dc:description/>
  <dc:language>en-US</dc:language>
  <cp:lastModifiedBy>USER</cp:lastModifiedBy>
  <dcterms:modified xsi:type="dcterms:W3CDTF">2002-11-28T20:53:21Z</dcterms:modified>
  <cp:revision>1</cp:revision>
  <dc:subject/>
  <dc:title>PowerPoint Presentation</dc:title>
</cp:coreProperties>
</file>