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353-D73D-4AFB-8F0B-43FDA0D5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385-CEB3-4E14-8846-393B4BF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EAB-0477-47ED-A8DE-6E42C89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A9-4F2A-4D1C-871B-4A53FA29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4F6-38E1-46A5-B3C1-F678F12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DFF-2018-4E47-8B06-9CD8FC21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C7A-0B79-4410-9121-8C61D6C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6DF-98F3-4AF7-8169-05184486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F2B-2FDE-4DC6-8948-F8747E8D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E36-AFF7-44E6-8CFF-84177FB8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94D-67C3-4025-8A2D-03B34F7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88B-6A69-493D-AE1C-C2B0CBE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54E8-14EE-4485-8848-8E5FFDB05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457200"/>
            <a:ext cx="434340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 يا قو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ُ مخلصي ومُنقذ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ُ         يا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رب هو ترسي وملجأي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10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عوتُك يا رب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سمع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ِن مثوى الأمواتِ انتشل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بتُك في ضيقي استجبتَ ل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غَمرةِ حبكَ غمرت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44:50Z</dcterms:created>
  <dc:creator>SUZANNE.MD</dc:creator>
  <dc:description/>
  <dc:language>en-US</dc:language>
  <cp:lastModifiedBy>HANI SAFI</cp:lastModifiedBy>
  <dcterms:modified xsi:type="dcterms:W3CDTF">2003-05-22T17:04:57Z</dcterms:modified>
  <cp:revision>2</cp:revision>
  <dc:subject/>
  <dc:title>PowerPoint Presentation</dc:title>
</cp:coreProperties>
</file>