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384-59C2-42F2-AC95-F99B3746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7C9-10B8-45B1-9BA2-0A23FC0E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CF4-6435-4C53-A630-21149992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F13-A0AE-4017-B408-2E74FEA9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916-8F11-48AB-A2ED-D8529364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F78-0135-4988-8B26-84066A62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09C-699D-40C8-A24F-680659A9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5E3-C985-452B-8CCD-B7B3FC43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B43-7C01-4045-84DD-E7503AAF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1D1-CFFF-4FC9-BA04-F7601415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1A6-C853-4715-A311-9B6178E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575-4354-4984-8526-E438AEE8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2F61-CBF9-4842-B12F-4A434BCD1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4200" y="0"/>
            <a:ext cx="514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09880" cy="57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َنتَ كُلُ مُبتَغايَ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تَ يا يسو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حياة لي بدون حُبِكَ يسوع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066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04920"/>
            <a:ext cx="3962520" cy="75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663300"/>
                </a:solidFill>
                <a:latin typeface="Times New Roman"/>
                <a:cs typeface="Arabic Transparent"/>
              </a:rPr>
              <a:t>سأُكَرِسُ وأُقَدِمُ 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663300"/>
                </a:solidFill>
                <a:latin typeface="Times New Roman"/>
                <a:cs typeface="Arabic Transparent"/>
              </a:rPr>
              <a:t>كُلَ قلبي كُلَ فِكري   كُلَ ذهني كُلَ عقلي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ُلَ قوَتي وعزم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َكَ يا يسوع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َكَ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0560" cy="723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487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َبْني قوتاً حتى أستطيع    أن أَهِبَ من أَذان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َغفُرَ لِمَنْ عداني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َترُكُ الحُبَ الأناني 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بُدَكَ يسوع،                أعبُدَكَ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2125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67820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28600"/>
            <a:ext cx="426708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قُلتَ إِسألوا       قلــتَ أُطــلبو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 أنا أطلُب  يا ربي طَهرَّني وافدي قلب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كاملاً أَسلُك في دربي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مَعْكَ يا يسوع، مَعْكَ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181480"/>
            <a:ext cx="125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6:52:05Z</dcterms:created>
  <dc:creator>SUZANNE.MD</dc:creator>
  <dc:description/>
  <dc:language>en-US</dc:language>
  <cp:lastModifiedBy>HANI SAFI</cp:lastModifiedBy>
  <dcterms:modified xsi:type="dcterms:W3CDTF">2003-04-30T13:47:06Z</dcterms:modified>
  <cp:revision>2</cp:revision>
  <dc:subject/>
  <dc:title>PowerPoint Presentation</dc:title>
</cp:coreProperties>
</file>