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E53-8344-4032-88DA-7FE0444D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7A2-F109-45A9-B4C4-C207DDCD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EA7-52A0-4FED-9531-896A754C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EB9-1679-41A4-AA03-A1CAEAAD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79B-6561-435B-A47B-3CB4BF68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09E-9934-46AA-9303-4D49104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8C2-B3CA-4D96-809F-DE79EED7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5E2-81B2-451B-944E-7F8D3E47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24A-4087-4D54-ADA3-306C2A7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913-82C2-463A-81AA-596D343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D5C-A453-4603-B001-992E19D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DBC-73D8-40B5-B54B-65C6643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55B-EC28-446B-AA94-F23DDF89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75240" y="0"/>
            <a:ext cx="546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6576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يا خبزَ الحياة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قـوتَ الأرواح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وعربونَ النعيـ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أنتَ ابنُ البشـر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أنتَ ابنُ الإلهْ والإلهُ  الرحيـمْ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0481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لائكـة قيامْ بالخجل والوجل من بَهاكَ العظيم ونحنُ المساكين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يف نَقبلُك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فمنـا ذا  الأث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في العَشا السري فاضَ بحرُ الجود وكان هو الجواد   وهَبَنـا ذاتَه خُبزاً وخَمراً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هوَ أّشرفُ ز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762120"/>
            <a:ext cx="4191120" cy="73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ُقبـلُ  ح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فيضُ نفسـاً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فضـل إمدا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لسـرٍ عجيـ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رِّ اللّهِ الرهي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يُحقُ أن يُعبـ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367344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سرُّ الأس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رُّ الأبـرار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ُدس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تقدي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ينُ الخيـرات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َبـدا وغاية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كلُّ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فضلٍ نفي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33920" y="-271440"/>
            <a:ext cx="10744200" cy="805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429000" cy="11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ُها التائبون هلُّموا بإحترام واقتبلوا الإِلـ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الذي يُعطى هو الذي يُعطِي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حمةً وحيـاة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4267080" cy="9788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ـي رجائ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نَعيمي نِعمَتـي  لَذَتي المبتغــا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عم  لِنَقبَلـــك بالحبِ والشوق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ربونَ  النجـاة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6800" y="0"/>
            <a:ext cx="54072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8600"/>
            <a:ext cx="3505320" cy="83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نا لستُ أهلاً بل أنا تائــب بل أنا مأم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خبـزَ السمـا كُن لِيَ قوتــاً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ى دهرِ الدهور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7:08:41Z</dcterms:created>
  <dc:creator>SUZANNE.MD</dc:creator>
  <dc:description/>
  <dc:language>en-US</dc:language>
  <cp:lastModifiedBy>HANI SAFI</cp:lastModifiedBy>
  <dcterms:modified xsi:type="dcterms:W3CDTF">2003-04-16T13:48:33Z</dcterms:modified>
  <cp:revision>3</cp:revision>
  <dc:subject/>
  <dc:title>PowerPoint Presentation</dc:title>
</cp:coreProperties>
</file>