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95A75-8355-47D7-B4A9-DFD7EF37D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0BE61-9C22-4A62-AACF-65C69AB6F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C42E7-2D1E-4572-A652-E52BE1346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42159-9C7F-4784-B586-408609567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28409-C946-4270-BBC9-B542D443D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EF491-321D-42ED-956C-8D9DCB4B0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3D72C-2643-4B4E-97A1-C037D40C0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EF36F-E5FB-4F6B-B86F-EACAE2E65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56900-AC2E-47BA-B6F4-F7720F0F3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9B6EF-E955-45A7-9492-B3EE5E3B2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C6427-415B-48F3-AC9E-82F0E4F71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68C0E-9FEE-4574-AF40-8CA929D64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EEBA4-B0A4-48C8-BE1E-809CFBFB2A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26257987lPLwnGivWK_ph" descr=""/>
          <p:cNvPicPr/>
          <p:nvPr/>
        </p:nvPicPr>
        <p:blipFill>
          <a:blip r:embed="rId1"/>
          <a:stretch/>
        </p:blipFill>
        <p:spPr>
          <a:xfrm>
            <a:off x="3657600" y="-571680"/>
            <a:ext cx="6095880" cy="80013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60948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38088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304920"/>
            <a:ext cx="3581280" cy="9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cc"/>
                </a:solidFill>
                <a:latin typeface="Arabic Transparent"/>
              </a:rPr>
              <a:t>أنا قلتُ يا ربُّ ارحمن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cc"/>
                </a:solidFill>
                <a:latin typeface="Arabic Transparent"/>
              </a:rPr>
              <a:t>إشفِ نفسي خطئتُ إلي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cc"/>
                </a:solidFill>
                <a:latin typeface="Arabic Transparent"/>
              </a:rPr>
              <a:t>طوبى لمَن يراعي المسك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cc"/>
                </a:solidFill>
                <a:latin typeface="Arabic Transparent"/>
              </a:rPr>
              <a:t>ينقذهُ الرب في يوم السوء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cc"/>
                </a:solidFill>
                <a:latin typeface="Arabic Transparent"/>
              </a:rPr>
              <a:t>أنا قلتُ يا ربُّ ارحمن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cc"/>
                </a:solidFill>
                <a:latin typeface="Arabic Transparent"/>
              </a:rPr>
              <a:t>إشفِ نفسي خطئتُ إلي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cc"/>
                </a:solidFill>
                <a:latin typeface="Arabic Transparent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th02" descr=""/>
          <p:cNvPicPr/>
          <p:nvPr/>
        </p:nvPicPr>
        <p:blipFill>
          <a:blip r:embed="rId1"/>
          <a:stretch/>
        </p:blipFill>
        <p:spPr>
          <a:xfrm>
            <a:off x="0" y="14400"/>
            <a:ext cx="9144000" cy="68292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-876960" y="228600"/>
            <a:ext cx="641988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abic Transparent"/>
              </a:rPr>
              <a:t>الربُّ يعضُدُهُ على سرير الأل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cc"/>
                </a:solidFill>
                <a:latin typeface="Arabic Transparent"/>
              </a:rPr>
              <a:t>أنا قلتُ يا ربُّ ارحمن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cc"/>
                </a:solidFill>
                <a:latin typeface="Arabic Transparent"/>
              </a:rPr>
              <a:t>إشفِ نفسي خطئتُ إليك</a:t>
            </a: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0T07:50:20Z</dcterms:created>
  <dc:creator>SUZANNE.MD</dc:creator>
  <dc:description/>
  <dc:language>en-US</dc:language>
  <cp:lastModifiedBy>USER</cp:lastModifiedBy>
  <dcterms:modified xsi:type="dcterms:W3CDTF">2003-02-20T14:08:25Z</dcterms:modified>
  <cp:revision>2</cp:revision>
  <dc:subject/>
  <dc:title>PowerPoint Presentation</dc:title>
</cp:coreProperties>
</file>