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C2F-2522-46E0-B071-26F4F075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55F-59BB-43AE-B078-1B01D486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13B-1F44-42D2-94BB-304B3877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6A2-59DB-457C-8BC5-96F4DAFD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400-752A-41E7-B4B1-83646AE7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6EA-928E-41A4-B785-151AB936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922-A904-4CBF-8854-5F7A9011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416-02D8-44FD-B1C8-3713A9A0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9CB-022E-48A1-A2BF-63E8B24A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CF4-67D9-4F4C-9803-7C9FCFF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1EF-1B62-448A-A446-09CF585F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008-AFBF-427E-9B34-92E6EED8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2397-A3B9-4F79-918D-E695A2FE8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411480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سمعـتُ نداءَك يا ربي يُجلجلُ في أعما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صَدىً يتجاوبُ في قلبي معَ النغم الخف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فسِرتُ بهديك في دربي وبي ظمأُ المشت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مَنهلك الصافي العذب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أروَّي بـه أمنياتـي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9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يُروعني صخبُ البحرِ وصوتُ قصيف الرع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آنسُ منك مع الفجر بفيض الرضى  وال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يا مُبدع الكون من يدري سواك بسرِّ  الو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كم فيك يا ربُّ من سرً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	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آياتٍ مُذهـلات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0"/>
            <a:ext cx="2133720" cy="83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إلهي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َ إن أدعو فمالي سواك مجيبُ ندائ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حين أنوءُ بأثقالي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ي برضاك عزائ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228600" y="0"/>
            <a:ext cx="2209680" cy="82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طرحتُ مُناي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 وآمالي لديك وكلَ رج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أنت ملاذي ومآلي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يك وفيـ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نجاتـ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9:49:50Z</dcterms:created>
  <dc:creator>SUZANNE.MD</dc:creator>
  <dc:description/>
  <dc:language>en-US</dc:language>
  <cp:lastModifiedBy>HANI SAFI</cp:lastModifiedBy>
  <dcterms:modified xsi:type="dcterms:W3CDTF">2003-05-18T13:12:15Z</dcterms:modified>
  <cp:revision>2</cp:revision>
  <dc:subject/>
  <dc:title>PowerPoint Presentation</dc:title>
</cp:coreProperties>
</file>