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606-3B6C-43A6-87E7-CB2670C7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53F-8F76-44C7-9F1A-1F5FFDB3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ABE-4315-4667-903B-283D037C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A89-A307-49E6-936A-5CC5DD9C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1FE-A3D3-427A-9FC3-2DB5B272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C56-7595-4CC1-962D-FE0AD684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74A-8849-4694-9520-566750D2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886-E2FE-43E9-B897-AB2723D8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CA9-559A-4CD4-BC08-5BB206C5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E31-83C2-4BF3-AF01-72D0286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5C4-815D-49FE-A39F-7BB72CB0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F91-B9BB-4B73-9EE3-3FE3A581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D04E-8779-4052-90AA-4D243E22B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0219416ekJGdecUPx_ph" descr=""/>
          <p:cNvPicPr/>
          <p:nvPr/>
        </p:nvPicPr>
        <p:blipFill>
          <a:blip r:embed="rId1"/>
          <a:stretch/>
        </p:blipFill>
        <p:spPr>
          <a:xfrm>
            <a:off x="0" y="0"/>
            <a:ext cx="11049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34800"/>
            <a:ext cx="167652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بقى ل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باً وأ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رؤياك نفسي تحلُم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أرى وجهك يو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نت الذي دوما ترا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42280" y="228600"/>
            <a:ext cx="1701720" cy="10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آتي إليك ربي دوما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ثقاً أمري أُسلِّمُ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تقبلني مبتسما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أنك همّي تعلم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6:35:22Z</dcterms:created>
  <dc:creator>SUZANNE.MD</dc:creator>
  <dc:description/>
  <dc:language>en-US</dc:language>
  <cp:lastModifiedBy>USER</cp:lastModifiedBy>
  <dcterms:modified xsi:type="dcterms:W3CDTF">2003-01-16T15:33:11Z</dcterms:modified>
  <cp:revision>6</cp:revision>
  <dc:subject/>
  <dc:title>PowerPoint Presentation</dc:title>
</cp:coreProperties>
</file>