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05D-3434-44CD-98E1-F43A4983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BFC-4FAF-4718-B97E-ABC08C77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E5E-3295-4264-8EBE-6600E030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34D-11C2-42FA-95BF-6EF5F8FD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9E9-163A-4CA0-9A7C-11EB9ED7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A22-E2FE-4669-9F91-7D4C5398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2CC-0BAE-4437-B1B3-FD02195E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6F3-A950-4653-B731-5B8A71B2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95A-FBDF-4592-A61E-BCC74E2A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B95-2AF1-4F4C-BCAE-DB31CE5D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0F6-B7B7-4390-9D3D-5410D63A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402-1656-40BF-A2AC-8E27DF68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6755-ADC4-4A45-881C-D454321184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164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ت الذي يعرفُ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قصى درجات صغر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أنت لا تخافُ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 تنزل عليّ وتنحني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164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ألهب بحبّك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فها قلبي يتوق الي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كم أرجو طيبتكَ</a:t>
            </a:r>
            <a:br>
              <a:rPr sz="6000"/>
            </a:b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أن تهبني الموت من الحب</a:t>
            </a:r>
            <a:br>
              <a:rPr sz="6000"/>
            </a:b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يسوع اسمع صرختي</a:t>
            </a:r>
            <a:br>
              <a:rPr sz="6000"/>
            </a:b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واستمع صراخ حنان قلب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6516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ألهب بحبّك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فها قلبي يتوق الي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1T10:56:21Z</dcterms:created>
  <dc:creator>-</dc:creator>
  <dc:description/>
  <dc:language>en-US</dc:language>
  <cp:lastModifiedBy>ف</cp:lastModifiedBy>
  <dcterms:modified xsi:type="dcterms:W3CDTF">2006-04-13T18:08:57Z</dcterms:modified>
  <cp:revision>4</cp:revision>
  <dc:subject/>
  <dc:title>أنت الذي يعرفُ أقصى درجات صغري وأنت لا تخافُ أن تنزل عليّ وتنحني </dc:title>
</cp:coreProperties>
</file>