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502-4BCC-4B6F-A542-89003D27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177-08A5-4F08-9327-260CA9D9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D12-372A-44DE-93D1-237DFA26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D8E-1526-4157-A2C2-960CFC02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1A4-7774-4A0E-9A70-F5010CD8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47A-94B4-4160-AE5A-AECBCEC0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AB8-A9D5-462F-9E08-FBA32D02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5FD-1BBD-4467-AAB1-F2F88529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F35-2C94-42BD-9A0C-C74A2318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735-C276-4004-B4B8-C486C9CA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1A2-BD01-4374-AEA2-92872E8E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5FA-A104-48EF-8E6C-050D4144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8DF6-9CA1-4A54-8298-B9DEC748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6666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 يا ر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ز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قدر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جلال والبه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مج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الجبر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ك الملك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ك السياد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د ارتفعت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ملكا على                    الجم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1-31T04:27:31Z</dcterms:modified>
  <cp:revision>7</cp:revision>
  <dc:subject/>
  <dc:title>PowerPoint Presentation</dc:title>
</cp:coreProperties>
</file>