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1FD8-40FB-4E8A-A986-E3F0D3C3B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197F-47D2-41E9-9BE4-A9D8F596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D03E-4DC1-40E4-8C69-233FC507C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509C-6ED0-4613-B917-CE4E718F4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51C8-E6F1-447C-BE6E-73CD3A7F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2F6B-FF94-49D6-A8F5-6F79BDA2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0D2F-22E0-481B-8858-59BE0FBD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7AF7-C01A-4C78-A384-30A47D77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632B-9429-402D-9979-6394EA3A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D698-E56C-4166-BDA8-D40706A6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C11B-C88E-4A9D-A42F-0FCE7C64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2870-8B69-4AA3-922A-BA857004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BA27-77D7-4D07-B489-7E385C2EC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0079653" descr=""/>
          <p:cNvPicPr/>
          <p:nvPr/>
        </p:nvPicPr>
        <p:blipFill>
          <a:blip r:embed="rId1"/>
          <a:stretch/>
        </p:blipFill>
        <p:spPr>
          <a:xfrm>
            <a:off x="-93600" y="0"/>
            <a:ext cx="5765760" cy="7162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257800" y="228600"/>
            <a:ext cx="3886200" cy="78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 (Arabic)"/>
              </a:rPr>
              <a:t>وحدت يا رب لا هوتك بناسوت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 (Arabic)"/>
              </a:rPr>
              <a:t>وناسوتنا بلاهوت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 (Arabic)"/>
              </a:rPr>
              <a:t>حياتك بموت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 (Arabic)"/>
              </a:rPr>
              <a:t>وموتنا بحيات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 (Arabic)"/>
              </a:rPr>
              <a:t>أخذت ما لنا ووهبتنا ما ل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 (Arabic)"/>
              </a:rPr>
              <a:t>لتحيينا وتخلص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 (Arabic)"/>
              </a:rPr>
              <a:t>لك المجد إلى الأب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3T04:52:46Z</dcterms:created>
  <dc:creator>USER</dc:creator>
  <dc:description/>
  <dc:language>en-US</dc:language>
  <cp:lastModifiedBy>USER</cp:lastModifiedBy>
  <dcterms:modified xsi:type="dcterms:W3CDTF">2003-02-13T04:52:57Z</dcterms:modified>
  <cp:revision>1</cp:revision>
  <dc:subject/>
  <dc:title>PowerPoint Presentation</dc:title>
</cp:coreProperties>
</file>