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7637-687B-4626-89C5-2100C3239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58DD-601D-4E45-98D1-8A312D5ED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6018-1A7E-4023-A6B1-0324444B8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3713-31A5-44AB-832F-C070645F7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451A-CEEF-4A93-BF2C-99DCFB6A3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0921-91DD-45B2-B8D7-666E61577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0A90-237D-4607-80D4-B06FC91C1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A419-2462-4FD9-938D-9EF5F9FBA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BDF6-D387-47C4-A3A1-1680A9E67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C125-A057-431C-9540-AB4C8AA13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3121-A819-4408-A708-3A841F07B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938F-7694-4B5C-994C-951FBF429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691FD-2377-4946-8531-C2137A9E8F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513539ycDdZUpApJ_ph" descr=""/>
          <p:cNvPicPr/>
          <p:nvPr/>
        </p:nvPicPr>
        <p:blipFill>
          <a:blip r:embed="rId1"/>
          <a:stretch/>
        </p:blipFill>
        <p:spPr>
          <a:xfrm>
            <a:off x="0" y="0"/>
            <a:ext cx="61722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72200" y="0"/>
            <a:ext cx="2666880" cy="88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الربُّ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يرعان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فلا شيءَ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يُعوِزُني</a:t>
            </a:r>
            <a:r>
              <a:rPr b="0" lang="ar-SA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11722214aJLtUnFFfJ_ph" descr=""/>
          <p:cNvPicPr/>
          <p:nvPr/>
        </p:nvPicPr>
        <p:blipFill>
          <a:blip r:embed="rId1"/>
          <a:stretch/>
        </p:blipFill>
        <p:spPr>
          <a:xfrm>
            <a:off x="0" y="0"/>
            <a:ext cx="57484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791320" y="304920"/>
            <a:ext cx="3352680" cy="108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ي مراعٍ خصيبةٍ يُقيلني ومياهَ الراحة يورِدُن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يردُّ نفسي وسبُلَ البرِّ يهدين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1513539ycDdZUpApJ_ph" descr=""/>
          <p:cNvPicPr/>
          <p:nvPr/>
        </p:nvPicPr>
        <p:blipFill>
          <a:blip r:embed="rId1"/>
          <a:stretch/>
        </p:blipFill>
        <p:spPr>
          <a:xfrm>
            <a:off x="0" y="0"/>
            <a:ext cx="61722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095880" y="0"/>
            <a:ext cx="2743200" cy="88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الربُّ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يرعان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فلا شيءَ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يُعوِزُني</a:t>
            </a:r>
            <a:r>
              <a:rPr b="0" lang="ar-SA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1513720KKRTabSSPZ_ph" descr=""/>
          <p:cNvPicPr/>
          <p:nvPr/>
        </p:nvPicPr>
        <p:blipFill>
          <a:blip r:embed="rId1"/>
          <a:stretch/>
        </p:blipFill>
        <p:spPr>
          <a:xfrm>
            <a:off x="0" y="0"/>
            <a:ext cx="5715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791320" y="0"/>
            <a:ext cx="3352680" cy="9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إني ولو سلكتُ في وادي ظال الموت لا أخافُ سوءاً لأنك معي عصاك وعُكّازُك هما يعزياني</a:t>
            </a:r>
            <a:r>
              <a:rPr b="0" lang="ar-SA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1513539ycDdZUpApJ_ph" descr=""/>
          <p:cNvPicPr/>
          <p:nvPr/>
        </p:nvPicPr>
        <p:blipFill>
          <a:blip r:embed="rId1"/>
          <a:stretch/>
        </p:blipFill>
        <p:spPr>
          <a:xfrm>
            <a:off x="0" y="0"/>
            <a:ext cx="61722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172200" y="0"/>
            <a:ext cx="2666880" cy="88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الربُّ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يرعان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فلا شيءَ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يُعوِزُني</a:t>
            </a:r>
            <a:r>
              <a:rPr b="0" lang="ar-SA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9T09:36:20Z</dcterms:created>
  <dc:creator>SUZANNE.MD</dc:creator>
  <dc:description/>
  <dc:language>en-US</dc:language>
  <cp:lastModifiedBy>USER</cp:lastModifiedBy>
  <dcterms:modified xsi:type="dcterms:W3CDTF">2003-01-22T11:14:34Z</dcterms:modified>
  <cp:revision>2</cp:revision>
  <dc:subject/>
  <dc:title>PowerPoint Presentation</dc:title>
</cp:coreProperties>
</file>