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6C58-7E54-4C09-8BD3-C09E2F2A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BCC-1AE7-4994-90CC-2D877BAB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AF5-4D26-4FF8-A026-6681A211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B9F-DF3B-4C69-BE4D-45E5820A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DA03-448F-4F96-A4AB-3C5747EB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A381-D3CB-492A-A07B-DAC14D22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B684-6049-4332-BA2D-90A29E72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6E42-88A6-48CF-9E75-E6783EBB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DFB-F534-4685-9A8A-9F91FEB6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6CAA-C10D-4DFB-AD9E-B69DD80D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DC62-79C4-4303-892A-8810BC25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AFCF-0E96-4266-A1F4-345D4E0F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5C3E-5355-4A55-9828-6C10FF6E7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206007KpoZqsBeQp_ph" descr=""/>
          <p:cNvPicPr/>
          <p:nvPr/>
        </p:nvPicPr>
        <p:blipFill>
          <a:blip r:embed="rId1"/>
          <a:stretch/>
        </p:blipFill>
        <p:spPr>
          <a:xfrm>
            <a:off x="0" y="0"/>
            <a:ext cx="4959360" cy="5410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4290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مام كأسك تنحني الرؤو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                                  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تخفق القلوب تتمتم الشفا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وتحلم العيون بنورك المضي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مام كأسك نهتف بالدع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ندعو باسمك نحاور السماء فاستجب لنا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55:57Z</dcterms:created>
  <dc:creator>USER</dc:creator>
  <dc:description/>
  <dc:language>en-US</dc:language>
  <cp:lastModifiedBy>USER</cp:lastModifiedBy>
  <dcterms:modified xsi:type="dcterms:W3CDTF">2002-10-30T16:56:17Z</dcterms:modified>
  <cp:revision>1</cp:revision>
  <dc:subject/>
  <dc:title>PowerPoint Presentation</dc:title>
</cp:coreProperties>
</file>