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964-EBBC-46BF-A434-71AA5F46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8F2-191A-4486-A946-4D8F732C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237-610D-4E1B-A8ED-63CCCBCC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FCA-B3E0-467C-B020-1E684E36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9A3-85F1-4791-ABF8-28CE769C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6CF-E662-4244-9C60-A19D33F9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8F1-DFF4-497F-A4FB-A41BB51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EF9-EDBF-46A4-ADC7-9F17AEC1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99E-9412-4B40-BFBC-7FF3288A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F6C-19AA-44A4-AC81-30DBA10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2C8-BBF2-4C4A-9163-02F03F0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558-BCAB-42B8-8966-CE364B2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B74-425C-42F5-B671-E528C8186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4572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-أن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لكنا-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ت ملك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ُد علينا الآن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ملأ المكان 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ِسَكين عجيب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روحك الحنّان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آن</a:t>
            </a:r>
            <a:r>
              <a:rPr b="0" lang="ar-SA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818b" descr=""/>
          <p:cNvPicPr/>
          <p:nvPr/>
        </p:nvPicPr>
        <p:blipFill>
          <a:blip r:embed="rId1"/>
          <a:stretch/>
        </p:blipFill>
        <p:spPr>
          <a:xfrm>
            <a:off x="0" y="-25560"/>
            <a:ext cx="58672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7464500DVbzFrqSsR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0"/>
            <a:ext cx="3200400" cy="74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قوة روحك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مس 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حتياجاتنا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ضا ترنيمنا  -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آ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ملكنا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ملك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8:09Z</dcterms:modified>
  <cp:revision>4</cp:revision>
  <dc:subject/>
  <dc:title>PowerPoint Presentation</dc:title>
</cp:coreProperties>
</file>