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FA6-986E-408D-B9B2-FAD18B0D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68F-6C03-4BCA-9227-9ECCD26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626-88C3-464C-8324-12E1EC95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D06-AB38-4B49-BF0D-F83A4A89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6A0-F211-4526-986E-F13E851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F1C-23D1-4267-969E-4A3E6942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AEA-A5D1-4001-8891-D2CDA03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5AA-FED1-48BA-955B-8AD3B5E9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88C-ED46-4B9A-BE94-65056F9D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62D-4951-4304-BB55-FFAF0DA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7EB-2776-4D89-A2EE-917A15A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36E-F529-4ADF-84C5-843F4A7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1EF-8C94-4B42-AAB4-E531420F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إليكَ رفعتُ عينيَّ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????Boutros Roka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يكَ رفعتُ عينيَّ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يا ساكِنَ السماوات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ونَ العبيد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أيدي مواليهم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ني الأَمَة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سيدتها كذلك عيونُ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الربِ إلهـِ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حتى يتحنَّن علي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َ علينا يا ربُ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 علينا فقد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ـما امتلأنا هواناً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ما امتلأت نفوسن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هُزؤِ المترَفينَ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إهانةِ المتكبّرين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1:17:01Z</dcterms:created>
  <dc:creator>Charbel Azar</dc:creator>
  <dc:description/>
  <dc:language>en-US</dc:language>
  <cp:lastModifiedBy>Charbel Azar</cp:lastModifiedBy>
  <dcterms:modified xsi:type="dcterms:W3CDTF">2003-01-31T11:17:01Z</dcterms:modified>
  <cp:revision>1</cp:revision>
  <dc:subject/>
  <dc:title>إليكَ رفعتُ عينيَّ </dc:title>
</cp:coreProperties>
</file>