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F1C-E0E3-49A2-B674-860997E8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106-844D-4AD5-B989-0DE39E1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F9E-7D33-4362-88B9-E4394AF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26-7C14-4968-B46B-6B08423A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38F1-577C-45E9-A2C2-C4B11F85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BAF0-D502-424D-8C5D-326498A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9B2D-B407-4095-B87F-4BFB9C8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4B4-3160-4123-B827-D55880E0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8EC-B553-48A2-A802-13441FC1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B366-69C7-475E-B6C7-33C5D92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9B9-C587-4EB4-8560-1FF9767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37B-FD0E-45D0-B80D-1443D55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84C2-3941-4E96-B01C-2005E8A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8CF-B893-4D34-B378-21888DA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B0B-863C-4137-B9D2-B2A4ACA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F4B-14CE-468E-85D5-B668EDA9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400A-A15C-45D2-86A6-C7D54D87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B28-3115-4A49-9215-78ED50F1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C57-A1E7-4F72-9880-44F8DF1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D58-9BAA-422D-A0B2-463C7290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3FC-6CB6-4373-B65B-5A7FE91D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E0E-1C69-4017-90B5-65B4062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81F-2B22-4ADF-A957-F0AEC07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473-C869-485F-A765-DF3D2611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57B-6007-4A59-8455-660142B1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4AE-755A-4BE2-A33C-AD9AD2DF9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0"/>
            <a:ext cx="350496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صَعِدتَ إلى العُلى وسبيتَ السبيَ وأعطيتَ عطايا أيها الإله        الله معنا وهو إلهُ التخليص وللرب السيدِ مخارجُ الم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   في وَسطِ عذار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0" y="5961600"/>
            <a:ext cx="914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أشيدوا ل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52:37Z</dcterms:created>
  <dc:creator>HANI SAFI</dc:creator>
  <dc:description/>
  <dc:language>en-US</dc:language>
  <cp:lastModifiedBy>HANI SAFI</cp:lastModifiedBy>
  <dcterms:modified xsi:type="dcterms:W3CDTF">2003-05-30T06:58:48Z</dcterms:modified>
  <cp:revision>1</cp:revision>
  <dc:subject/>
  <dc:title>Slide 1</dc:title>
</cp:coreProperties>
</file>