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3871-B18E-41DC-A421-7CB3AAB2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6313-2635-4669-B4AF-958F469B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D549-92D5-4D7E-8D7F-77E31B10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5640-4DA4-4DD9-84F9-00DFF972C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2089-2E58-49E2-A4B3-FC3DAA07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16E0-F2E7-451F-850B-AD685C8B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64E9-69C7-4231-A344-6CAF766D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3DDF-9A1E-4FBF-8F0E-C1033589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5DD6-1191-4B4B-A212-A9ED9F89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92A4-9E41-481F-9ED4-9F1E2D60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D37B-6FB6-4F85-BAB2-2FB9C7A4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9394-DC77-40D0-9753-F2B01C27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F2A2-7F5B-4916-A97B-B975131F7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5283597fvnSvW_ph" descr=""/>
          <p:cNvPicPr/>
          <p:nvPr/>
        </p:nvPicPr>
        <p:blipFill>
          <a:blip r:embed="rId1"/>
          <a:stretch/>
        </p:blipFill>
        <p:spPr>
          <a:xfrm>
            <a:off x="0" y="0"/>
            <a:ext cx="4114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14800" y="30492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81280" y="0"/>
            <a:ext cx="5562720" cy="9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ransparent"/>
              </a:rPr>
              <a:t>يسوع ملكُ الملوك مجداً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ransparent"/>
              </a:rPr>
              <a:t>يسوع ربُّ الأرباب مجداً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ransparent"/>
              </a:rPr>
              <a:t>يسوع ربُّ النجاة   مجداً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ransparent"/>
              </a:rPr>
              <a:t>يسوع نبعُ الحياة   مجداً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ransparent"/>
              </a:rPr>
              <a:t> يسوع نورُ الرجاء مجداً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ransparent"/>
              </a:rPr>
              <a:t> يسوع دربُ السماء مجداً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000000"/>
                </a:solidFill>
                <a:latin typeface="Arabic Transparent"/>
              </a:rPr>
              <a:t> اللازمة: أميرُ السلا م</a:t>
            </a:r>
            <a:r>
              <a:rPr b="1" i="1" lang="ar-SA" sz="4400" spc="-1" strike="noStrike">
                <a:solidFill>
                  <a:srgbClr val="000000"/>
                </a:solidFill>
                <a:latin typeface="Arabic Transparent"/>
              </a:rPr>
              <a:t>	</a:t>
            </a:r>
            <a:r>
              <a:rPr b="1" i="1" lang="ar-SA" sz="4400" spc="-1" strike="noStrike">
                <a:solidFill>
                  <a:srgbClr val="000000"/>
                </a:solidFill>
                <a:latin typeface="Arabic Transparent"/>
              </a:rPr>
              <a:t>	</a:t>
            </a:r>
            <a:r>
              <a:rPr b="1" i="1" lang="ar-SA" sz="4400" spc="-1" strike="noStrike">
                <a:solidFill>
                  <a:srgbClr val="000000"/>
                </a:solidFill>
                <a:latin typeface="Arabic Transparent"/>
              </a:rPr>
              <a:t>       مجداً هللويا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6:57:28Z</dcterms:created>
  <dc:creator>SUZANNE.MD</dc:creator>
  <dc:description/>
  <dc:language>en-US</dc:language>
  <cp:lastModifiedBy>USER</cp:lastModifiedBy>
  <dcterms:modified xsi:type="dcterms:W3CDTF">2002-12-23T20:08:24Z</dcterms:modified>
  <cp:revision>1</cp:revision>
  <dc:subject/>
  <dc:title>PowerPoint Presentation</dc:title>
</cp:coreProperties>
</file>