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883-CC8A-43AF-AE96-4D08C2DB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195B-1AFD-4DA7-AF4E-33E4A2B9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C0F-3B1D-47C5-9B06-6433A751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E42E-7E9A-4BB1-87FB-C8506632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C14-B9C5-4EE1-B590-BDA1546A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1F9-815C-4FFB-8474-472A03AA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EEAE-6310-4199-A796-2E59375A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D005-4AF3-44FA-AB34-1E0BC1B9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B33-A315-44D9-9E52-4A254801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BE8E-CF17-4009-8E5D-6ED05393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D32-AC39-4CC8-B7E6-61F64503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399-E91B-4A51-9AD0-37D9173B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B311-4E13-4EA5-8261-C43D9509B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7" descr=""/>
          <p:cNvPicPr/>
          <p:nvPr/>
        </p:nvPicPr>
        <p:blipFill>
          <a:blip r:embed="rId1"/>
          <a:stretch/>
        </p:blipFill>
        <p:spPr>
          <a:xfrm>
            <a:off x="0" y="0"/>
            <a:ext cx="5235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0"/>
            <a:ext cx="388620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ُحِبُّكَ ربّي يَسوع 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لَيْسَ لي سِواك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أتبَعُكَ ربّي دَوما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تبَعُكَ بِلا رُجُوع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ُسبِّحُ اسمَكَ القُدّو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لَيْسَ لي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ِوا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ُحِبُّكَ يا روحَ الله 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أنت لي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تغمُرُني ربّي دوم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غمُرُني بلا حدو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تمسَحُني بقوَّةٍ فأنت لي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087200" y="4329000"/>
            <a:ext cx="657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ُحِبُّكَ يا أُبّا الآب 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ا منْبَعَ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تغمُرُني بِحُبِّكَ تغمُرُني بِمَجْدِ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َجْثو أمامَ عَرْشِ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نْبَعَ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44:51Z</dcterms:created>
  <dc:creator>USER</dc:creator>
  <dc:description/>
  <dc:language>en-US</dc:language>
  <cp:lastModifiedBy>USER</cp:lastModifiedBy>
  <dcterms:modified xsi:type="dcterms:W3CDTF">2002-12-16T14:44:02Z</dcterms:modified>
  <cp:revision>2</cp:revision>
  <dc:subject/>
  <dc:title>PowerPoint Presentation</dc:title>
</cp:coreProperties>
</file>