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E44E-50AC-4368-8047-C22BBA6E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D29C-38C9-41BF-821C-5DDDB103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9C3F-9902-4D87-A4EC-AD18F585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308C-2836-4DC3-8487-A22EBA8E5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7764-7158-491F-BB0B-17137B6A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C3CC-4BD2-4C26-8E07-0A2F07E4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E108-0363-4329-BF57-AFA2C67D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D64A-3ECC-476C-846A-6658B143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73B9-A81B-4305-91E2-8BC7057D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210C-F222-4152-B6E0-C073684D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BFFB-38A1-47CE-9724-5BD49E65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68F2-866A-4E2D-AA3C-C8B1F212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D0DF-D9F3-4160-9DD2-D046208C6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7537749JoSuNr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71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800600"/>
            <a:ext cx="914400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cccc"/>
                </a:solidFill>
                <a:latin typeface="Arabic Transparent"/>
              </a:rPr>
              <a:t>أيها الملكُ السماوي المعزي روحُ الحق</a:t>
            </a:r>
            <a:r>
              <a:rPr b="1" lang="en-US" sz="3700" spc="-1" strike="noStrike">
                <a:solidFill>
                  <a:srgbClr val="ffcccc"/>
                </a:solidFill>
                <a:latin typeface="Arabic Transparent"/>
              </a:rPr>
              <a:t> </a:t>
            </a:r>
            <a:r>
              <a:rPr b="1" lang="ar-SA" sz="3700" spc="-1" strike="noStrike">
                <a:solidFill>
                  <a:srgbClr val="ffcccc"/>
                </a:solidFill>
                <a:latin typeface="Arabic Transparent"/>
              </a:rPr>
              <a:t>الحاضرُ في كل مكان والماليءُ الكل</a:t>
            </a:r>
            <a:r>
              <a:rPr b="1" lang="en-US" sz="3700" spc="-1" strike="noStrike">
                <a:solidFill>
                  <a:srgbClr val="ffcccc"/>
                </a:solidFill>
                <a:latin typeface="Arabic Transparent"/>
              </a:rPr>
              <a:t> </a:t>
            </a:r>
            <a:r>
              <a:rPr b="1" lang="ar-SA" sz="3700" spc="-1" strike="noStrike">
                <a:solidFill>
                  <a:srgbClr val="ffcccc"/>
                </a:solidFill>
                <a:latin typeface="Arabic Transparent"/>
              </a:rPr>
              <a:t>كنزُ الصالحاتِ ورازقُ الحياة هلم واسكن فينا</a:t>
            </a:r>
            <a:r>
              <a:rPr b="1" lang="en-US" sz="3700" spc="-1" strike="noStrike">
                <a:solidFill>
                  <a:srgbClr val="ffcccc"/>
                </a:solidFill>
                <a:latin typeface="Arabic Transparent"/>
              </a:rPr>
              <a:t> </a:t>
            </a:r>
            <a:r>
              <a:rPr b="1" lang="ar-SA" sz="3700" spc="-1" strike="noStrike">
                <a:solidFill>
                  <a:srgbClr val="ffcccc"/>
                </a:solidFill>
                <a:latin typeface="Arabic Transparent"/>
              </a:rPr>
              <a:t>طهرنا من كلِّ</a:t>
            </a:r>
            <a:r>
              <a:rPr b="1" lang="en-US" sz="3700" spc="-1" strike="noStrike">
                <a:solidFill>
                  <a:srgbClr val="ffcccc"/>
                </a:solidFill>
                <a:latin typeface="Arabic Transparent"/>
              </a:rPr>
              <a:t> </a:t>
            </a:r>
            <a:r>
              <a:rPr b="1" lang="ar-SA" sz="3700" spc="-1" strike="noStrike">
                <a:solidFill>
                  <a:srgbClr val="ffcccc"/>
                </a:solidFill>
                <a:latin typeface="Arabic Transparent"/>
              </a:rPr>
              <a:t>دنسٍ وخلص أيها الصالحُ نفوسَن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05:53:26Z</dcterms:created>
  <dc:creator>SUZANNE.MD</dc:creator>
  <dc:description/>
  <dc:language>en-US</dc:language>
  <cp:lastModifiedBy>USER</cp:lastModifiedBy>
  <dcterms:modified xsi:type="dcterms:W3CDTF">2003-02-07T13:06:47Z</dcterms:modified>
  <cp:revision>3</cp:revision>
  <dc:subject/>
  <dc:title>PowerPoint Presentation</dc:title>
</cp:coreProperties>
</file>