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58A-0684-4A77-997D-8E0A254B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779-EC17-44A3-8D4E-BA280609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917-0DAE-4752-A8C5-42C3BC64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1B3-2E55-4AB4-B292-1E3D609E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CA6-A24B-4DBC-ADB1-150B15B5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6DB-1FEE-4F6E-834C-8D8777FE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807-6F6F-4F76-9E72-4CBD6CC9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74E-D2EA-40DD-94FA-50CEC2F5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51A-53B7-466D-B660-793805BD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097-4E0E-4C5A-AFB2-77E6BEA9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047-9A84-4B80-952E-C52F8823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E6B-AF47-4B23-90A8-30F84031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807B-6D59-4C1E-A752-EAB8C38C4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6255000" cy="7772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228600"/>
            <a:ext cx="23619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دلك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ثل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جبال، وأحكامك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مرٌ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ظيمٌ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-1523880"/>
            <a:ext cx="7421400" cy="921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2120"/>
            <a:ext cx="3429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لهم ما أثمن محبتك، إن بني البشر بظل جناحيك يعتصمون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908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3429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رتوون من فيض بيتك لأن عندك ينبوع الحياة وبنورك نعاين النور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6:27:58Z</dcterms:created>
  <dc:creator>SUZANNE.MD</dc:creator>
  <dc:description/>
  <dc:language>en-US</dc:language>
  <cp:lastModifiedBy>HANI SAFI</cp:lastModifiedBy>
  <dcterms:modified xsi:type="dcterms:W3CDTF">2003-04-17T11:02:19Z</dcterms:modified>
  <cp:revision>2</cp:revision>
  <dc:subject/>
  <dc:title>PowerPoint Presentation</dc:title>
</cp:coreProperties>
</file>