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3F5-8D98-4C02-AB08-E4FB6FD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8BC-F127-4D73-8636-EB2D98BA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BAB-FFCD-45FA-99E4-652582E2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DD9-7D9D-4C86-929A-01CA2290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54A-65AE-4CF5-8EF3-179F687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12F-9B23-4953-A64F-94CFB1BC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038-B56E-4C0A-92D6-1066BEF5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D7A-1E32-48E4-90FF-B6A134C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BB9-CE03-470F-A425-859CCCF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B6C-9352-4F73-9FC2-4F7D00F1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152-E262-4A7A-A75B-21F9042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EDE-A642-497C-B2EB-A8E430E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A5E9-080E-4094-9E0C-4A067942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128811tjyYwEGwHP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762120"/>
            <a:ext cx="31240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 منصلّي بحرار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ركنا ي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طينا نعمة وطه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ما نخط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نجوع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1523880"/>
            <a:ext cx="35812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لّع هالأرض بن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طهّرنا من أهل ال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ناولنا من أسر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حتى المحبّة تكبر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4TT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1523880"/>
            <a:ext cx="3886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بّل منا هالبخور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بارك ك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شترك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لا المحبّة والن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نا بقينا مخطيين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2-05T12:52:14Z</dcterms:modified>
  <cp:revision>4</cp:revision>
  <dc:subject/>
  <dc:title>PowerPoint Presentation</dc:title>
</cp:coreProperties>
</file>