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35A4-EFF4-43F7-8B79-58AB6E37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DE56-55BE-444F-9EC8-6EFB3032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ABF3-CE03-472F-BC3B-C98730F1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4EC8-F9B0-4390-9205-1F676AD8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E47A-1FD2-4248-9F82-D9CEC23B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3615-ECD2-40A4-9301-44DF7DD5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3337-CD92-495F-AEC6-E307C790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AB23-6026-4652-829E-02D08AA9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CB57-10C3-4C23-BF23-C71F5C09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E3BF-6471-4CA4-8130-D95B3C36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FF2B-37D1-4B99-AE3A-295FD943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E16B-E20F-41FD-B597-922C8F0F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145E-6F74-458B-8C8B-CBE134748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24280" y="0"/>
            <a:ext cx="4419720" cy="76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سوعي، يا إله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نبوعي اللامتناه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حيات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وجود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فلك صلاتي وعهود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ولك أُقدم ذات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26329886SKrDwSrIIf_ph" descr=""/>
          <p:cNvPicPr/>
          <p:nvPr/>
        </p:nvPicPr>
        <p:blipFill>
          <a:blip r:embed="rId1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653256EdbXgQadtT_ph" descr=""/>
          <p:cNvPicPr/>
          <p:nvPr/>
        </p:nvPicPr>
        <p:blipFill>
          <a:blip r:embed="rId1"/>
          <a:stretch/>
        </p:blipFill>
        <p:spPr>
          <a:xfrm>
            <a:off x="-3657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8120" y="0"/>
            <a:ext cx="6095880" cy="62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هٌ من إله يسوعُ المج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إنه ابنُ الله ابنُهُ الوح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نزلَ من السم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صارَ انسانا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ُلِد من العذر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زارَ دُنيانا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ا يسوعُ إلهي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ك أُقدمُ ذاتي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724280" y="0"/>
            <a:ext cx="4419720" cy="76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سوعي، يا إله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نبوعي اللامتناه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حيات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وجود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فلك صلاتي وعهود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ولك أُقدم ذات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26329886SKrDwSrIIf_ph" descr=""/>
          <p:cNvPicPr/>
          <p:nvPr/>
        </p:nvPicPr>
        <p:blipFill>
          <a:blip r:embed="rId1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3220153ufSbGEcTWm_ph" descr=""/>
          <p:cNvPicPr/>
          <p:nvPr/>
        </p:nvPicPr>
        <p:blipFill>
          <a:blip r:embed="rId1"/>
          <a:stretch/>
        </p:blipFill>
        <p:spPr>
          <a:xfrm>
            <a:off x="2438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304920" y="-98280"/>
            <a:ext cx="2667240" cy="9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ورٌ من ن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ربنُا يس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شمسُ الدهو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هيُّ الطل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زلَ إلى القب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زارَ موتا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زَّقَ الديج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قامَ أحيا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2960" y="6216480"/>
            <a:ext cx="83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ا يسوعُ إله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ك أُقدمُ ذ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724280" y="0"/>
            <a:ext cx="4419720" cy="76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سوعي، يا إله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نبوعي اللامتناه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حيات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وجود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فلك صلاتي وعهود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ولك أُقدم ذات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26329886SKrDwSrIIf_ph" descr=""/>
          <p:cNvPicPr/>
          <p:nvPr/>
        </p:nvPicPr>
        <p:blipFill>
          <a:blip r:embed="rId1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7112962IYqlIRsJHe_ph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715000" y="0"/>
            <a:ext cx="3429000" cy="89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ساوٍ للآ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جوهَرُ يسوع وقلبُهُ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قد ذاب بحبنِا وُل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سوعُ في القربان قوتُنا الأشه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 نُهى الأزما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جدُنا الأبه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ا يسوعُ إله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ك أُقدمُ ذ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724280" y="0"/>
            <a:ext cx="4419720" cy="76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سوعي، يا إله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نبوعي اللامتناه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حيات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وجود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فلك صلاتي وعهود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ولك أُقدم ذات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26329886SKrDwSrIIf_ph" descr=""/>
          <p:cNvPicPr/>
          <p:nvPr/>
        </p:nvPicPr>
        <p:blipFill>
          <a:blip r:embed="rId1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0:41:19Z</dcterms:created>
  <dc:creator>USER</dc:creator>
  <dc:description/>
  <dc:language>en-US</dc:language>
  <cp:lastModifiedBy>USER</cp:lastModifiedBy>
  <dcterms:modified xsi:type="dcterms:W3CDTF">2003-01-20T00:39:13Z</dcterms:modified>
  <cp:revision>4</cp:revision>
  <dc:subject/>
  <dc:title>PowerPoint Presentation</dc:title>
</cp:coreProperties>
</file>