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304-1956-44B3-9080-48F48C69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4DB-CA9D-4166-8008-4B9A2852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68B-53D0-4190-BBB6-6FCC4033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4E4-EF52-44AF-81CC-C849C47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B06-ACF0-463E-9EDC-AB2504A3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6C0-2AF6-486A-A257-8D3B3F2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7B1-9F0B-4F1C-959E-EC0924D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7C5-DD46-4971-8ED4-9C907331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4D9-076C-4F60-BC6E-AA2E9D8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200-95C6-46F5-879E-0DCCBD8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4DC-462E-4FF1-8BBE-2F92EDF4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EB1-E011-4D48-9316-7242902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C4B0-221E-4666-A2C7-AD0EA8AB8B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راك اله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راك بنور الصّباح الحنون بلون الأزاهير فوق الغصو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سمع صوتك في كلّ صوب و اصغي اليك بقلب سك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84464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أمتّع عيني بكلّ الرّب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أبصر فيها جمال يسو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محبّة فادي تغمر نفسي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تبعث فيّ التّقى و الخش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1300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68600" y="0"/>
            <a:ext cx="6575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عرفتك دوما تشع ضياء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و فوق الصّليب رجاء الفد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سكنت فؤادي و نوّرت فك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ahoma"/>
                <a:cs typeface="Akhbar MT"/>
              </a:rPr>
              <a:t>فزال عذابي و زال الشّقا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700280"/>
            <a:ext cx="6012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هي أراك الهي أراك بما صنعته يداك 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أنشد فيك الهد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يا الهي و يمل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قلبي سن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28640"/>
            <a:ext cx="630072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الهي أراك الهي أرا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 بما صنعته يداك الهي أراك الهي أراك (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Personal</cp:lastModifiedBy>
  <dcterms:modified xsi:type="dcterms:W3CDTF">2008-04-24T05:16:04Z</dcterms:modified>
  <cp:revision>7</cp:revision>
  <dc:subject/>
  <dc:title>Slide 1</dc:title>
</cp:coreProperties>
</file>