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01A-EFC4-4052-8337-321FDFEC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83C-D217-4851-88CA-00ADB6B5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C0D-3377-4CCC-BF96-809A4C15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CC4-54DA-4FF0-95FB-7342B9EB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9A2-026A-4C13-BA9B-28284440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057-7805-4A1D-B5E0-80BB2CA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50-0AA5-4F3F-8660-4D0BE49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B38-A690-44AC-8AF9-7ACFF32E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71F-4F64-47BD-915C-D1876404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FF8-EF64-4A01-A579-7BF624E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5AF-583A-4397-BAAD-452A911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59F-529C-4537-AFAE-AC82B74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1A9F-37E2-41E6-AC57-5FE2E8566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1200" y="0"/>
            <a:ext cx="49903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حيا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بين ي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شئت أشوا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ه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لست أط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يئا من لد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ير حبك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السعي إ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ي هي طلب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ي من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ستجب ل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36880" y="0"/>
            <a:ext cx="44265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شفيني وق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خبز الس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لما اعتر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وع أو ظم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جعل في ف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ب الإنتم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تأني في سب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فظ و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ذا أخطأ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بني الندما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عزاء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205340CxXcORIlCn_ph" descr=""/>
          <p:cNvPicPr/>
          <p:nvPr/>
        </p:nvPicPr>
        <p:blipFill>
          <a:blip r:embed="rId2"/>
          <a:stretch/>
        </p:blipFill>
        <p:spPr>
          <a:xfrm>
            <a:off x="0" y="0"/>
            <a:ext cx="5483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9520" y="0"/>
            <a:ext cx="4489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ضعف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ق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ذا ما حز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نت سلو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ك القد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شدد همتي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بناء الملكو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 بين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 الصعا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ذكر عه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نتشلني يا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0:28Z</dcterms:modified>
  <cp:revision>3</cp:revision>
  <dc:subject/>
  <dc:title>PowerPoint Presentation</dc:title>
</cp:coreProperties>
</file>