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C90-E914-4655-94E0-1E889EB1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653-2345-40DB-B710-FA62B97E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DD1-7587-409E-A90B-5EA59FCA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118-ABC3-436A-8156-84856BA3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8A6-01B6-4CD6-BB86-04EA7955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E6E-7126-41A7-B7DE-239F29CB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A8F-BCCF-47C9-8908-AD6C491F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2CBE-6116-43C2-827D-CC5854F8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907-3303-4B55-A428-2C714FFE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FBC-9816-401E-9CED-86AA4CBB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48F-3D83-4F69-9F72-61840A91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EC6-5BFE-4B09-875A-C4B627EF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0C34-6F76-4072-A885-82891E906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4114800" cy="82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سمعـتُ نداءَك يا ربي يُجلجلُ في أعما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صَدىً يتجاوبُ في قلبي معَ النغم الخفا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فسِرتُ بهديك في دربي وبي ظمأُ المشتا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لمَنهلك الصافي العذب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أروَّي بـه أمنياتـي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9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يُروعني صخبُ البحرِ وصوتُ قصيف الرع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فآنسُ منك مع الفجر بفيض الرضى  وال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ea typeface="Simplified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فيا مُبدع الكون من يدري سواك بسرِّ  الو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فكم فيك يا ربُّ من سرً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ea typeface="Simplified Arabic"/>
              </a:rPr>
              <a:t>	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آياتٍ مُذهـلات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81680" y="0"/>
            <a:ext cx="2133720" cy="83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إلهي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َ إن أدعو فمالي سواك مجيبُ ندائ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حين أنوءُ بأثقالي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ي برضاك عزائ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228600" y="0"/>
            <a:ext cx="2209680" cy="82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طرحتُ مُناي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ea typeface="Simplified Arabic"/>
              </a:rPr>
              <a:t> وآمالي لديك وكلَ رجائ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أنت ملاذي ومآلي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ليك وفيـ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نجاتـ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09:49:50Z</dcterms:created>
  <dc:creator>SUZANNE.MD</dc:creator>
  <dc:description/>
  <dc:language>en-US</dc:language>
  <cp:lastModifiedBy>HANI SAFI</cp:lastModifiedBy>
  <dcterms:modified xsi:type="dcterms:W3CDTF">2003-05-18T13:12:15Z</dcterms:modified>
  <cp:revision>2</cp:revision>
  <dc:subject/>
  <dc:title>PowerPoint Presentation</dc:title>
</cp:coreProperties>
</file>