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8860-D2CA-4DA2-A395-642F3B05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942D-1901-4537-9586-2CB98C47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58C6-ACC1-4671-8D1E-82E38B3E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F0B6-12DF-403F-9F73-93E2412E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4D98-0FB6-44C9-9B5E-E5B56DE2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83BF-C3B5-479F-8980-1741F8B2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E1FD-4AC6-4294-AF2C-C2D9F235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4500-EA5F-4257-8DC5-5ACFAB75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BE37-5D50-421E-9AB7-D8BBAA26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1BC0-FEE4-419C-85B0-C670CA8D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D4B1-BDCD-4C13-9C5F-ADBB3C10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72F2-8802-4500-9F88-2F5EC9FC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4FD5-B623-4505-AAD8-97A93F3F9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287869xQRiyRyaRq_ph" descr="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191120" cy="9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احلى السجود أمام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نشد بالعود لجلال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اللي دفعت فيَّ أغ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أثم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لما قبلتك ربي، صار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ي السلط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إنت بترعى حياتي بكل حن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 يملك قلبي أمامك غير السجو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8759475AFNWUZafbD_ph" descr=""/>
          <p:cNvPicPr/>
          <p:nvPr/>
        </p:nvPicPr>
        <p:blipFill>
          <a:blip r:embed="rId1"/>
          <a:stretch/>
        </p:blipFill>
        <p:spPr>
          <a:xfrm>
            <a:off x="0" y="-100080"/>
            <a:ext cx="4876920" cy="6958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81480" y="457200"/>
            <a:ext cx="3962520" cy="70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وصوتي ليك حيعلا بهتاف أناش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ولأنك عايش فيّ، أيامي ع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وبتغني حياتي جنبك بالمواع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ff"/>
                </a:solidFill>
                <a:latin typeface="Times New Roman"/>
                <a:cs typeface="Times New Roman"/>
              </a:rPr>
              <a:t>ما يملك قلبي أمامك غير السجو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6574917mhMQwO_ph" descr=""/>
          <p:cNvPicPr/>
          <p:nvPr/>
        </p:nvPicPr>
        <p:blipFill>
          <a:blip r:embed="rId1"/>
          <a:stretch/>
        </p:blipFill>
        <p:spPr>
          <a:xfrm>
            <a:off x="394956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04920"/>
            <a:ext cx="3581280" cy="82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نا عزي بيك وفخري، وما ليّ سوا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سراج لرجلي كلامك وماشي ورا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على أيامي يا ربي ما يسود إلا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 يملك قلبي أمامك غير السجو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06:39:56Z</dcterms:created>
  <dc:creator>SUZANNE.MD</dc:creator>
  <dc:description/>
  <dc:language>en-US</dc:language>
  <cp:lastModifiedBy>USER</cp:lastModifiedBy>
  <dcterms:modified xsi:type="dcterms:W3CDTF">2002-12-31T13:42:02Z</dcterms:modified>
  <cp:revision>2</cp:revision>
  <dc:subject/>
  <dc:title>PowerPoint Presentation</dc:title>
</cp:coreProperties>
</file>