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02A1-D0C9-4F5A-A01A-2CE8E904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9DE3-5773-4A36-923E-C11FA62A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35B4-12B4-418B-9446-18F7DF3F9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B499-8DE4-4A44-8BEC-154A8A800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CDE3-78A4-46B9-A878-A1D0303CD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F03D-415F-4567-8B3A-47884455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FDDC-6AEA-4ED6-9348-AE51F56A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0AB4-5A70-4F5B-B394-F10CF0B1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F439-5848-433E-BEDD-B6B76AFC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1675-34A5-46C9-ADD8-1B0B6F30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236F-A36B-4DCD-9584-93B68409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892C-B137-44F4-B6DF-1BBF6F1E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28D5-F325-4AF3-A96E-7E8E8295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080F-3253-4C17-B321-B58CFBFA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ADF0-8E45-46AA-8496-9939A0C6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1BF9-77CE-44E8-89E0-D36E7F5A9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F9F9-2A81-43BF-9C43-8C88DE5A5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B1CE-B90F-4849-BDD1-F78ACE44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2848-3E49-45BE-B8F1-A62C9236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1ECC-18E7-4E46-9645-ED4EC080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0FC5-99DF-4601-AF4E-414476ED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C25F-9724-4C47-8631-F6EF9923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72D1-DA77-4D07-A375-3E4A714D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B734-C4F5-4F64-BC25-744B75DB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6935-A643-43C0-A1D7-89604203E28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67A4-B8AA-4985-9E9A-7AAECF88B8F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03280" y="0"/>
            <a:ext cx="61484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ما أحبَّ مساكِنَكَ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ا ربَّ الجنود تشتاقُ وتذوبُ نفسي إلى ديارِ الرب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476360" y="0"/>
            <a:ext cx="5859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يرنمُ قلبي وجسمي للإلهِ الحيّ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692360" y="0"/>
            <a:ext cx="5859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العصفورُ وجَدَ لهُ مأوى واليمامةُ عُشاً تَضَعُ فيه أفراخَها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124000" y="0"/>
            <a:ext cx="5351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مَن لي بمذابحِكَ يا ربَّ الجنودِ مَلِكي وإلهي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195640" y="0"/>
            <a:ext cx="4995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سكّان بيتِكَ فإنه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لا يبرحونَ يسبّحونَكَ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2T19:47:28Z</dcterms:created>
  <dc:creator>Charbel Azar</dc:creator>
  <dc:description/>
  <dc:language>en-US</dc:language>
  <cp:lastModifiedBy>ف</cp:lastModifiedBy>
  <dcterms:modified xsi:type="dcterms:W3CDTF">2006-11-07T19:33:19Z</dcterms:modified>
  <cp:revision>8</cp:revision>
  <dc:subject/>
  <dc:title>Slide 1</dc:title>
</cp:coreProperties>
</file>