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451-3E40-4B36-814A-06DDEA6C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9CF-4243-46F0-BC18-E8A12AB2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79C-8547-4442-BEE8-DAEBF303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54A-7F4C-4CB9-97EE-705C4EE5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CCA-6A5C-4F23-875A-F980955A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F4E-CA88-41B2-B40D-E4B70173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3B3-A2F6-4E17-BB18-C72E8E9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021-0A17-4A96-B502-2757D298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28F-214A-4939-A6D4-FC0B6CCD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1BD-BC6F-4649-88B9-6E164D8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111-2099-466C-93E6-BA11FC23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38E-8C4C-4B92-99FE-0FB732C7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89EA-0BA7-474E-BBD6-13F01DAEE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75240" y="0"/>
            <a:ext cx="546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657600" cy="10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يا خبزَ الحياة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قـوتَ الأرواح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عربونَ النعيـ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أنتَ ابنُ البشـر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أنتَ ابنُ الإلهْ والإلهُ  الرحيـمْ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0481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لائكـة قيامْ بالخجل والوجل من بَهاكَ العظيم ونحنُ المساكين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يف نَقبلُك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فمنـا ذا  الأث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2767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في العَشا السري فاضَ بحرُ الجود وكان هو الجواد   وهَبَنـا ذاتَه خُبزاً وخَمراً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هوَ أّشرفُ ز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4191120" cy="73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ُقبـلُ  ح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فيضُ نف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أفضـل إمدا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لسـرٍ عجيـ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رِّ اللّهِ الرهي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يُحقُ أن يُعبـ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09480"/>
            <a:ext cx="367344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رُّ الأس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رُّ الأب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قُدس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تقدي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ينُ الخيـرات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َبـدا وغاية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لّ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فضلٍ نفي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-271440"/>
            <a:ext cx="10744200" cy="805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429000" cy="11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ُها التائبون هلُّموا بإحترام واقتبلوا الإِل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و الذي يُعطى هو الذي يُعطِي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حمةً وحيـاة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4267080" cy="9788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لهـي رجائ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نَعيمي نِعمَتـي  لَذَتي المبتغــا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عم  لِنَقبَلـــك بالحبِ والشوق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عربونَ  النجـاة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6800" y="0"/>
            <a:ext cx="5407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28600"/>
            <a:ext cx="3505320" cy="83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ا لستُ أهلاً بل أنا تائــب بل أنا مأم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خبـزَ السمـا كُن لِيَ قوتــاً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ى دهرِ الدهور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7:08:41Z</dcterms:created>
  <dc:creator>SUZANNE.MD</dc:creator>
  <dc:description/>
  <dc:language>en-US</dc:language>
  <cp:lastModifiedBy>HANI SAFI</cp:lastModifiedBy>
  <dcterms:modified xsi:type="dcterms:W3CDTF">2003-04-16T13:48:33Z</dcterms:modified>
  <cp:revision>3</cp:revision>
  <dc:subject/>
  <dc:title>PowerPoint Presentation</dc:title>
</cp:coreProperties>
</file>