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D3A-2CEC-43A8-A2F4-1DCF88F3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F8E-9275-4E24-95E2-9817F51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F3F-C0CB-4D8C-A19B-7A1A4A35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A13-45AF-479C-9F0B-D1B2DA44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E7A-CBB5-4933-8C06-F6410A0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01C-9000-4B61-9778-ACECAEC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EB4-1D62-4BA4-A6ED-29AD60B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E24-E80E-41BF-AFCF-B8D0AAE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C68-3A66-44CE-B270-4398666B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E12-F17D-41CB-838B-7290EAD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850-3236-4DA9-B000-7572EF58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9FE-40F3-45D8-A828-EAA1940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083-F6E2-4104-8362-1C7D8ADC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80880"/>
            <a:ext cx="731520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ي العشاء السري رسمتُ القرب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 الدم والخمر خلصتُ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90720"/>
            <a:ext cx="304812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ثقبوا يديَّ أسقوني الآل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ن وهجِ عيني وزّعتُ السلام</a:t>
            </a:r>
            <a:r>
              <a:rPr b="0" lang="en-US" sz="5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1148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اً سالَ جنبي كالحملِ المذبو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عذاب الصلبِ قد اسلمتُ الرو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52:11Z</dcterms:created>
  <dc:creator>SUZANNE.MD</dc:creator>
  <dc:description/>
  <dc:language>en-US</dc:language>
  <cp:lastModifiedBy>HANI SAFI</cp:lastModifiedBy>
  <dcterms:modified xsi:type="dcterms:W3CDTF">2003-04-16T13:44:52Z</dcterms:modified>
  <cp:revision>2</cp:revision>
  <dc:subject/>
  <dc:title>PowerPoint Presentation</dc:title>
</cp:coreProperties>
</file>