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DBC-7049-42F0-928D-69AAD4FA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3AC-F777-447A-A4C1-1CE1E0DC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6F1-6952-425B-9890-D66A8326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C85-8B11-42F6-8D44-9FB4E2F7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C1B-2575-4213-BA8D-F2AAA30C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F1A-B2A9-4E5C-9847-1FAB74C8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C43-FFB6-4E83-9271-50D302FE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81F-B43E-451D-BA70-C38D27BA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634-8211-4699-AC59-74F25576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FD3-AF17-48FD-8F2F-E5443F8B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FA7-AC1F-43FF-BB3A-B3CBA5C2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C8D-A35C-49EF-883A-47B10226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83F7-1425-42A7-9A82-FDA29C0C5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42226VAsJUZVajX_ph" descr=""/>
          <p:cNvPicPr/>
          <p:nvPr/>
        </p:nvPicPr>
        <p:blipFill>
          <a:blip r:embed="rId2"/>
          <a:stretch/>
        </p:blipFill>
        <p:spPr>
          <a:xfrm>
            <a:off x="-487440" y="0"/>
            <a:ext cx="5411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0"/>
            <a:ext cx="4114800" cy="86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 السلا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مطِر علينا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َ السلا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ملأ قلوبَنا السل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حمل الله الحامل خطايا العالم إرحمنا إرحمناإرحم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ربّ السلامِ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52:20Z</dcterms:created>
  <dc:creator>SUZANNE.MD</dc:creator>
  <dc:description/>
  <dc:language>en-US</dc:language>
  <cp:lastModifiedBy>USER</cp:lastModifiedBy>
  <dcterms:modified xsi:type="dcterms:W3CDTF">2002-12-23T20:07:15Z</dcterms:modified>
  <cp:revision>2</cp:revision>
  <dc:subject/>
  <dc:title>PowerPoint Presentation</dc:title>
</cp:coreProperties>
</file>