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gif" ContentType="image/gif"/>
  <Override PartName="/ppt/media/image5.gif" ContentType="image/gif"/>
  <Override PartName="/ppt/media/image6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6410-5BA6-4719-A0E5-3EBC21F9B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28DF-7E28-451F-BFE8-BE2C3838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8EE8-3DB9-4D4F-9207-2DF4DE01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2553-DD33-424F-9742-82C3EC44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E67F-A6BB-4B4C-90F5-5DDBE856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3955-40E4-4069-9DDF-6DE56EA6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A52B-3EF9-4CF2-B05A-E566D8B9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D78D-AD8E-4729-B00C-9037E076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CF2B-FC36-464B-A747-43AC14E6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5196-90CD-4EC4-8D8B-2D320105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FA6C-2CFF-430E-96F2-A70CEA09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9C83-3438-4719-8737-2C68FB00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FE73-8ADB-4330-8463-EB8A1886E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94200" y="0"/>
            <a:ext cx="5149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809880" cy="57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َنتَ كُلُ مُبتَغايَ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نتَ يا يسو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ا حياة لي بدون حُبِكَ يسوع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(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4419720"/>
            <a:ext cx="1066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304920"/>
            <a:ext cx="3962520" cy="75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663300"/>
                </a:solidFill>
                <a:latin typeface="Times New Roman"/>
                <a:cs typeface="Arabic Transparent"/>
              </a:rPr>
              <a:t>سأُكَرِسُ وأُقَدِمُ </a:t>
            </a:r>
            <a:r>
              <a:rPr b="1" lang="en-US" sz="4800" spc="-1" strike="noStrike">
                <a:solidFill>
                  <a:srgbClr val="663300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663300"/>
                </a:solidFill>
                <a:latin typeface="Times New Roman"/>
                <a:cs typeface="Arabic Transparent"/>
              </a:rPr>
              <a:t>كُلَ قلبي كُلَ فِكري   كُلَ ذهني كُلَ عقلي</a:t>
            </a:r>
            <a:r>
              <a:rPr b="1" lang="en-US" sz="4800" spc="-1" strike="noStrike">
                <a:solidFill>
                  <a:srgbClr val="6633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ُلَ قوَتي وعزمي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لَكَ يا يسوع،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لَكَ يا يسوع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3733920"/>
            <a:ext cx="2362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0560" cy="7238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228600"/>
            <a:ext cx="48769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هَبْني قوتاً حتى أستطيع    أن أَهِبَ من أَذاني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أَغفُرَ لِمَنْ عداني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َترُكُ الحُبَ الأناني  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عبُدَكَ يسوع،                أعبُدَكَ يسوع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4191120"/>
            <a:ext cx="2125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267080" y="0"/>
            <a:ext cx="678204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228600"/>
            <a:ext cx="4267080" cy="87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قُلتَ إِسألوا       قلــتَ أُطــلبو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ها أنا أطلُب  يا ربي طَهرَّني وافدي قلب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كاملاً أَسلُك في دربي </a:t>
            </a: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مَعْكَ يا يسوع، مَعْكَ يا يسوع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5181480"/>
            <a:ext cx="1257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6:52:05Z</dcterms:created>
  <dc:creator>SUZANNE.MD</dc:creator>
  <dc:description/>
  <dc:language>en-US</dc:language>
  <cp:lastModifiedBy>HANI SAFI</cp:lastModifiedBy>
  <dcterms:modified xsi:type="dcterms:W3CDTF">2003-04-30T13:47:06Z</dcterms:modified>
  <cp:revision>2</cp:revision>
  <dc:subject/>
  <dc:title>PowerPoint Presentation</dc:title>
</cp:coreProperties>
</file>