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8FD-0BCB-4F85-9325-B187E80A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29D-7997-4180-BD6B-1AFF909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158-F9B0-4C7C-8DA6-8DB347B1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6CA-7241-4C55-BE7B-EF4C712F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496-CA84-4EB4-8C43-8944A09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845-2F23-4B5D-B261-24017823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FC4-6D5B-4057-BD8C-815B6B4B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E8F-596D-4F12-8B7E-D1D58D7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C7F-9A32-40C9-ACCA-E5382E1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134-3AE3-41CB-8AE6-8317DF0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942-37EA-4DB7-8B4D-C89446E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D37-43E3-47EF-85FA-B4A8B0D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C7B4-2637-422E-9347-FC259FA2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09880" cy="11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سنابل وزهور تبقـى مليانـ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بيادر وحقـول تبقـى حليان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طاحن بتدور بطعمي المعم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خبز ونار ونور أطيب قربان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3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992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4572000" cy="89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عناقيـد النـور بكــروم الدنــي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مواسـم ودهــور فيـك بتغـتـن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ـا معصـرة الـدار يا سـر الأسر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خمـــر ونـــور نار كاســة قربانــة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70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4343400" cy="10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نعمـة للكــل  يا جسم ودما عالأرض بتضــل عربـون الس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بي يسوع  صوبك دربي طل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عم بعطــش وبجــوع أعطـينــي القربان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105520" cy="75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بز و خمر ومي ايماني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بن الله الحي قربان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حبة عم بيد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م بيروي القلـو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سره المحبوب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en-US" sz="5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</a:t>
            </a:r>
            <a:r>
              <a:rPr b="1" lang="ar-SA" sz="5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بــو روان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851360"/>
            <a:ext cx="2438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6:02:19Z</dcterms:created>
  <dc:creator>SUZANNE.MD</dc:creator>
  <dc:description/>
  <dc:language>en-US</dc:language>
  <cp:lastModifiedBy>HANI SAFI</cp:lastModifiedBy>
  <dcterms:modified xsi:type="dcterms:W3CDTF">2003-04-17T11:12:57Z</dcterms:modified>
  <cp:revision>2</cp:revision>
  <dc:subject/>
  <dc:title>PowerPoint Presentation</dc:title>
</cp:coreProperties>
</file>