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4DC-F938-450D-A42A-255EF886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005-16D4-42BE-BDE0-6725A1DE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347-6A7B-45C4-BC45-74EEC3A3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D93-1433-4D91-8ACD-A007F09A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3DC-F397-466E-937B-684E3EDE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08B-D0C7-4128-A588-E6861636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E33-E4A3-46E7-83C5-3A58B61C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15A-E307-48C7-A15D-7A220459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85C-71B0-461F-8B6B-63808788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641-0054-44B7-BAF8-87CA760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FC7-5CBD-4643-8D8C-DE8DBBC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352-9315-4E47-B33C-2E9A5792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CD6C-6D06-4F9F-936A-9EBEF29A21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5796000" y="1125360"/>
            <a:ext cx="295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عطيني أول قرب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روحي لعطفك جوع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هيدا عيدي وأنا اليوم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بلشت بعمري التاني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1T17:59:43Z</dcterms:modified>
  <cp:revision>17</cp:revision>
  <dc:subject/>
  <dc:title>PowerPoint Presentation</dc:title>
</cp:coreProperties>
</file>