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6D8-9428-400D-8CA1-AD1E4A94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424-8F5B-4E62-A714-8B3F744E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39A-5F6A-4008-84F8-03F8D567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19E-C979-479C-A3AB-41E85272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2C3-A22B-4963-98CE-67B485A2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06A-7EB7-42D9-9DFB-5285B7D7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362-2EFB-43C5-A5EE-8E9DE980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5E8-3647-4F82-AFCA-95F04DF5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B75-36B6-486A-9181-94F37864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CA3-47DF-4050-BFA4-D87076D5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D6B-30D1-4885-A310-57C9F4FE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28A-B079-47DF-AA6E-BC08C8CC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172E-E103-4330-A945-E5FAB148E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3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347760"/>
            <a:ext cx="4572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ا آبَ الحقِّ الرحمان خُذ منَّا هذا القربان، قُربانَ ابنِكَ الفادي بَحرِ الحبِّ والغفران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ا بكرَ الآبِ المحجوب يسوعُ الفادي المحبوب، حيٌّ أنتَ يا ابن الله حيٌّ أنتَ يا مَصلوب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له الآب القادر والربِّ الابنِ الغافر والروحِ الحيّ الطاهِر غنُّوا المجدَ كلَّ آ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34:21Z</dcterms:created>
  <dc:creator>HANI SAFI</dc:creator>
  <dc:description/>
  <dc:language>en-US</dc:language>
  <cp:lastModifiedBy>HANI SAFI</cp:lastModifiedBy>
  <dcterms:modified xsi:type="dcterms:W3CDTF">2003-04-25T04:34:21Z</dcterms:modified>
  <cp:revision>1</cp:revision>
  <dc:subject/>
  <dc:title>Slide 1</dc:title>
</cp:coreProperties>
</file>