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4E9-A9E4-4F4F-9897-91E508B2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CF6-4654-43C9-B4B9-DEE17FE2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DE7-C224-4681-9ED2-8159536F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09C-F3A3-430A-B408-9455BA71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756-D315-40E5-B45A-4B8CD35E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CF6-4C9B-45A2-8747-FEBDC4F8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F71-F02C-4DEB-9AD6-882FB63F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6F0-C446-4194-A79D-65CDE16D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506-03BD-4389-A578-E25BE79A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47B-1325-4C81-BB7D-4443F495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30B-3D30-47B1-92B8-7A64DE39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666-5DC3-4C16-98A6-8DF341C8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BF68-F0CE-47F1-93B0-72BDD19F2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%20healer%20teacher%20comforter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72200" y="304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82520"/>
            <a:ext cx="28954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 عظيمٌ عظيمٌ عظيمٌ يا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 في محبت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 في أمانت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ي تحري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</a:rPr>
              <a:t>عظيم أيضا في شفائ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0:12:55Z</dcterms:created>
  <dc:creator>SUZANNE.MD</dc:creator>
  <dc:description/>
  <dc:language>en-US</dc:language>
  <cp:lastModifiedBy>USER</cp:lastModifiedBy>
  <dcterms:modified xsi:type="dcterms:W3CDTF">2003-02-17T14:28:32Z</dcterms:modified>
  <cp:revision>2</cp:revision>
  <dc:subject/>
  <dc:title>PowerPoint Presentation</dc:title>
</cp:coreProperties>
</file>