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EC8-D014-426A-B235-686076EC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FB4-5257-4C4F-9E28-1EFE68F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9DC-D804-4230-8A25-3D1AA2F8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A85-7A73-43F4-800F-C48827A4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D48-0A68-4EA3-923B-27FF8451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21A-CDF3-4055-98F9-C677891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E5A-42B8-4F0D-8ABD-1840013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397-EB8E-4377-82F2-5861E18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15A-36E5-4105-8BAF-2CB1EAB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ED6-F297-4DF5-8390-6D77A8E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D06-D38C-46F8-891C-1F3C0AF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682-089D-4CE2-8582-3709CFB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058-429F-4FB7-812F-126E5A5DB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0"/>
            <a:ext cx="388620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كنت أبي وأنا ما زلتُ في فكركَ - أنتَ أبي حين أوجدتني</a:t>
            </a:r>
            <a:r>
              <a:rPr b="1" lang="en-US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حيـن ولدتني لحياتـكَ  وســتبقى أبي إلى الأبــ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 أريدُك وحدَك علمني         كيف أحيا وأعيشُ معَ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زدني معرفةً بك إني         أحبُك وأنا دومــاً ل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abic Transparent"/>
                <a:cs typeface="Times New Roman (Arabic)"/>
              </a:rPr>
              <a:t>أُحبُّكَ وأنا دو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513590NCRDtitzaP_ph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0"/>
            <a:ext cx="72388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لَمُ َُضعفي وجراحي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عرف قلبي وأفك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رغبُ أن أحياك بكلِّ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ياني بروحي وإحسا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امح عدمَ إخلاصي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َ أبي حين أوجدت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9370043fipmPeKXZd_ph" descr=""/>
          <p:cNvPicPr/>
          <p:nvPr/>
        </p:nvPicPr>
        <p:blipFill>
          <a:blip r:embed="rId2"/>
          <a:stretch/>
        </p:blipFill>
        <p:spPr>
          <a:xfrm>
            <a:off x="403848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43400" cy="10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مُكَ ينضحُني فأطهُر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تشفيني نفساً وجسد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ا في قلب العالمِ مُتعَب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ب أن أُصبحَ كُلّي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ُ والحمدُ لكَ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 أنتَ أبي حين أوجدتني 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يـن ولدتني لحياتـكَ  وســتبقى أبي إلى الأبــدِ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870792SCABvVcdSc_ph" descr=""/>
          <p:cNvPicPr/>
          <p:nvPr/>
        </p:nvPicPr>
        <p:blipFill>
          <a:blip r:embed="rId1"/>
          <a:stretch/>
        </p:blipFill>
        <p:spPr>
          <a:xfrm>
            <a:off x="-10476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0"/>
            <a:ext cx="4419720" cy="11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بيبيَ خُذ قلبيَ منّي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ُذ روحي وجسدي وتعال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وحَ الحبِّ هلمّ الآ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نوّرني حرّرنــي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ي يسوعَ تعال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نت أبي وأنا ما زلتُ في فكركَ -أنتَ أبي حين أوجدتني-حيـن ولدتني لحياتـكَ  وســتبقى أبي إلى الأبــد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9:45Z</dcterms:modified>
  <cp:revision>5</cp:revision>
  <dc:subject/>
  <dc:title>PowerPoint Presentation</dc:title>
</cp:coreProperties>
</file>