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F3B-FA82-4DCE-8A0B-4A455201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955-3A6C-4E6E-A5EE-ECF44700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C00-0E83-4B9F-A338-30B5A2FE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663-D82D-4B3A-B470-A6297431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3A7-8F72-4405-9109-6838750E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317-6027-45EF-8C11-A0AA0070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615-FF5D-45D0-BC3E-6581B220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4DE-15FD-4725-B6E8-494F83DF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126-A7BE-4F1A-ACD9-2B2DE9AA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AD9-D594-44CB-8496-7092A9AB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176-42E3-4AB6-A6A3-E39ED6EB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790-E6DD-4AF9-86B7-82E06DF1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F88F-BC26-4207-A745-F40E59D20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ble2" descr=""/>
          <p:cNvPicPr/>
          <p:nvPr/>
        </p:nvPicPr>
        <p:blipFill>
          <a:blip r:embed="rId1"/>
          <a:stretch/>
        </p:blipFill>
        <p:spPr>
          <a:xfrm>
            <a:off x="914400" y="17640"/>
            <a:ext cx="7315200" cy="6821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8975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كلمتك مصباح لخطا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ونور لسبيل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من كان من الله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سمع كلام الل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إذا ثبتم بكلامي صرتم حقا تلاميذ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 السماء و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تزولان وكلامي لا يزول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31:35Z</dcterms:modified>
  <cp:revision>4</cp:revision>
  <dc:subject/>
  <dc:title>PowerPoint Presentation</dc:title>
</cp:coreProperties>
</file>