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FFF-A2A5-4F47-8889-F234F173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902-AECA-4E96-9478-3587DA1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E2A-FC6C-4231-AA19-64AD87BC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1CA-C049-4463-82EF-71906A04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2C2-560A-4348-BE89-A366B42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5AD-C89E-4E91-8B3A-96D5236E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4AF-79E1-4175-B9BB-BBE13F7F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7A6-C0A2-40FB-99FF-42FB0B8A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3C7-8CE0-4393-BB2B-2DF3B39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F60-5170-460D-B3AA-A4F1B00F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C7D-922D-445D-BBB4-E98631A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EE1-0D71-4F41-B5F5-7B3CAAFF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094-BAB7-4EC7-8099-E587F04E00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140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لكَ التسبيحُ والشكرا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جنادُ العلاء تشدو بالثناء قوّات السماء تذيع الشان ها هو عندنا باختفاء فلنسجد له بإي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هذا العيد تفيضُ النِعَم بسرٍّ به كانت الأسرار بهذا العيد تفيضُ النِعَم على جنسنا يا بني آد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ن كان فقيراً أو كان حقيراً أو كان أسيراً ليأتِ الآن يجد رباً كريماً قد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سرّ الوداد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هبوه القلوب يا مؤمنين فإن القلوبُ به تستريح هبوه القلوب يا مؤمنين فهو اشترانا بدمه الثم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نشكر سخاه ولنطلب رضاه نترك ما شناه لئلاّ يُهان وبعد الممات ننال سماه مقرّ النِعَم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2:23:25Z</dcterms:created>
  <dc:creator>Charbel Azar</dc:creator>
  <dc:description/>
  <dc:language>en-US</dc:language>
  <cp:lastModifiedBy>-</cp:lastModifiedBy>
  <dcterms:modified xsi:type="dcterms:W3CDTF">2003-01-26T16:49:21Z</dcterms:modified>
  <cp:revision>6</cp:revision>
  <dc:subject/>
  <dc:title>لكَ التسبيحُ والشكران لك المجدُ يا سرّ القربان، لكَ التسبيحُ والشكران بكلِّ زمانٍ وكلّ مكان. </dc:title>
</cp:coreProperties>
</file>