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FA7-A349-4551-923B-58E7F2FF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B0B-669F-4860-BA15-D993D39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3F7-5A9D-45DC-B30F-06C1147A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6DD-543C-4EF3-9505-5DFABBCB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EA3-5B26-48E1-970C-280CC02A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563-4138-4E30-B1F5-77B57D7F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A1D-C31F-46E3-B40B-96202431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23C-9093-453A-85D8-1640253A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8A1-9247-4C89-A397-CB2A1E2C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3C1-C878-43F9-A8AA-B13E7FD4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00B-83E6-4B6D-A2A0-06061F0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9DB-FABC-44E4-A6FC-46682683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26C8-99A3-4F36-9BD6-54C76D8E1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14480" y="120600"/>
            <a:ext cx="5175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رهبـة ورع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 خشـوع وامتنان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تجـرأت وقـرر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 أخاطب الإل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إذ ذاك تقـدم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ي خـزيٌ وأمــان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بنـوره تجلّى 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ل ما لي من آثـ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ألته ترى هل م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وفي عني القصاص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صليبي ذ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هو السبيل للخلا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ND_468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53880" y="120600"/>
            <a:ext cx="505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سـألته وما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إنـه رمـز الآلام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كيف أيها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كيف منح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قال لي على الصل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مت من أجل خَطاك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دمي قد سال من جن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يه أتممت فد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عنـد ذاك تحيـر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فكيـف مات عني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 حيرتي سأل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يارب إيضاحا زد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2374517gTWaHW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0"/>
            <a:ext cx="1843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ي رهبةٍ ورعبةٍ في خشوعٍ وامت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تجرأت وقرّرتُ أن أخاطب الإ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وإذ ذاكَ تقدمتُ كلي خِزيٌ وأم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بنورِه تجلّى لي كلُّ ما لي من آث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سألتُهُ تُرى هل مَن يوفي عني القص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فقال لي: صليبي ذا هو السبيل للخلا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0"/>
            <a:ext cx="2133360" cy="9201960"/>
          </a:xfrm>
          <a:prstGeom prst="rect">
            <a:avLst/>
          </a:prstGeom>
          <a:solidFill>
            <a:srgbClr val="0000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سمعته يقول لي إني قد أحببت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تحملت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قاسيتُ كل ذا من أجل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إني الآن أدعوك كيما نحوي تُ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كي ترتاح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إذ تأتي لما حبي تقبل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عند ذاك بكى قلبي ونادى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ذا الإل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لك عمري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كل كلي لك ما دمت في الحياة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3-02-07T13:17:50Z</dcterms:modified>
  <cp:revision>8</cp:revision>
  <dc:subject/>
  <dc:title>PowerPoint Presentation</dc:title>
</cp:coreProperties>
</file>