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0D2-4B1D-4122-884A-71F58AD7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EEA-E8D5-40A2-950F-C859E4C6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23D-304A-42DE-9841-B01F694A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29E-D44C-401A-8CC5-FFD95846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8F9-16FD-459E-8508-3DD4D337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629-116A-4455-8529-ADA26039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B1E-DD7A-49F8-A6F3-5C651FC7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69F-A50C-4C18-820A-B2227746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93D-8E3C-4E22-B573-406BBB56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EFA-672F-402E-A928-A2CA44AD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3B3-7710-4EB9-A020-0813BA13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DC7-A76A-418B-9EA4-FD8EEF5A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57AA-1013-4DBC-A531-8B307D77F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72200" y="0"/>
            <a:ext cx="266688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722214aJLtUnFFfJ_ph" descr=""/>
          <p:cNvPicPr/>
          <p:nvPr/>
        </p:nvPicPr>
        <p:blipFill>
          <a:blip r:embed="rId1"/>
          <a:stretch/>
        </p:blipFill>
        <p:spPr>
          <a:xfrm>
            <a:off x="0" y="0"/>
            <a:ext cx="574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304920"/>
            <a:ext cx="3352680" cy="10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مراعٍ خصيبةٍ يُقيلني ومياهَ الراحة يورِدُ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ردُّ نفسي وسبُلَ البرِّ يهدي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5880" y="0"/>
            <a:ext cx="274320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13720KKRTabSSPZ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0"/>
            <a:ext cx="33526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ني ولو سلكتُ في وادي ظال الموت لا أخافُ سوءاً لأنك معي عصاك وعُكّازُك هما يعزياني</a:t>
            </a:r>
            <a:r>
              <a:rPr b="0" lang="ar-SA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72200" y="0"/>
            <a:ext cx="266688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9:36:20Z</dcterms:created>
  <dc:creator>SUZANNE.MD</dc:creator>
  <dc:description/>
  <dc:language>en-US</dc:language>
  <cp:lastModifiedBy>USER</cp:lastModifiedBy>
  <dcterms:modified xsi:type="dcterms:W3CDTF">2003-01-22T11:14:34Z</dcterms:modified>
  <cp:revision>2</cp:revision>
  <dc:subject/>
  <dc:title>PowerPoint Presentation</dc:title>
</cp:coreProperties>
</file>