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E61-2854-428A-B1BB-579B9B6E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EAA-8A92-4093-B68A-4ADD727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6D9-A9E1-4506-B960-0226A3B8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468-CC0B-4E67-A380-F6088FC7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D24-FA18-493F-9DA2-2B8DF757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2A4-22C0-4712-AD06-04535000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16F-85A9-42F7-B43D-5B85E1B2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0A1-A53C-4115-9BEE-0B526819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3F4-6A40-435D-AF2A-CA548E45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98D-B3C0-440D-9AAA-3CBDD70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5AF-F3D6-45D7-B374-A9246EF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2B5-A697-4E13-998E-49B9625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DD8B-D513-4CCA-A1C8-6B971B58FE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5796000" y="1125360"/>
            <a:ext cx="295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عطيني أول قرب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روحي لعطفك جوع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هيدا عيدي وأنا اليوم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بلشت بعمري التاني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1T17:59:43Z</dcterms:modified>
  <cp:revision>17</cp:revision>
  <dc:subject/>
  <dc:title>PowerPoint Presentation</dc:title>
</cp:coreProperties>
</file>