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BE3-624C-4C5A-978B-0ADEC2BF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E29-4F5A-4F3A-AAF6-03DB61E8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B06-2235-4AE9-8908-C9A9F29F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D37-D3D0-4978-849A-19CBE77A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BC3-A3C7-4E76-A231-2830DF5D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532-6E87-42CE-9883-ADD98CB7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948-B2DC-4957-BFA0-44DF572D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BBB-1D8A-4EE2-91C9-17F451E4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94F2-7D22-4AB0-8C53-0ABD2CED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D27-0D99-4407-AF04-DFE88C9F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0EA-9D08-4CEC-B77B-B6BC41D2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686-AA8E-4AED-A084-9CAA7666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8287-8F41-4717-A7D5-1A50C533A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974880" y="5638680"/>
            <a:ext cx="123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ا آتي بطيبي فوقَ شعرِكَ، هبني الآنَ أعرفُ حقَّ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در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ِوَضاً عن شوكي في إكليلِك، واتْكِئَنَّ رأسي على صدر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660680" y="5638680"/>
            <a:ext cx="128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 كَسرتَ قلبَك من أجلي أنا،ها قارورةَ الطيبِ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كسرُها ه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َ قدَميكَ وأدهِنهم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حيث راحتي.. لا ولا 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33200" y="5715000"/>
            <a:ext cx="1137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يكن في قلبي شريكٌ ل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ك كلُّ حبي، لكَ وحد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ينكسِر قلبي ليشبَع قلبُكَ وكلُّ شهوتي في مجد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634760" y="5715000"/>
            <a:ext cx="130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عني أُتلِف نفسي عند قدميكْ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أُحظى دواماً بملءِ ن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ظر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أسعى ضعيفا وأستند علي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حتى كلُّ المجدِ يرجِعَن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5055779qkbiYEjTVl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2497680" y="5699160"/>
            <a:ext cx="140079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عني أُكرم اسمكْ وأَرفَعْهُ الآن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ِئَلا تمضي الفرصة وينت</a:t>
            </a:r>
            <a:r>
              <a:rPr b="1" lang="ar-SA" sz="35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ي الز</a:t>
            </a: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ن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مريم وحدَها قد فازت بالنيشان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طيبُ المريماتِ فاتَهُ الأوان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8:52:49Z</dcterms:modified>
  <cp:revision>2</cp:revision>
  <dc:subject/>
  <dc:title>PowerPoint Presentation</dc:title>
</cp:coreProperties>
</file>