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CE8-08F7-46E4-846B-0EFFD6C5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429-CADE-43EC-90A3-48DCD932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578-2BB4-4147-95E2-C9A50109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F68-864F-4D32-8646-5A510011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D00-076B-4649-825E-2DD27D4F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8A4-4A48-463D-BEB3-16FB6AC1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7D3-0418-4159-877E-4D633474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8EE-A3CE-465E-9B4A-1DCB64E8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80C-0C96-4271-85C0-F19C4FEF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B82-E985-4A09-9E7D-B9BB2D08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307-9B44-4CF7-B449-9A9A9EF2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C14-E78F-430C-AB04-95CCA26F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4E6C-1B0D-4F2F-9AFA-F60DE57A2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3480" y="0"/>
            <a:ext cx="506268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29200" y="0"/>
            <a:ext cx="4114800" cy="86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موضعك المقدس  شاهدتك حتى أعاين بهاء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أطيب من الحياة رحمتك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ياك تسبح شفتا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اشتاق، اشتاق جسدي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ظمئت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أرض قاحلة يابسة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لا ماء في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0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19720" y="0"/>
            <a:ext cx="4724280" cy="86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ني أحمدك مدى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وباسمك أرفع 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إني أرنم لك مبتهج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أهلل في ظل جناح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اشتاق، اشتاق جس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ظمئت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أرض قاحلة يابس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لا ماء في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99160" y="228600"/>
            <a:ext cx="9923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أذكرك على فراشي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لأنك كنت عوناً ل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ترفعني يمينك تسند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تتعلق نفسي في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HANI SAFI</cp:lastModifiedBy>
  <dcterms:modified xsi:type="dcterms:W3CDTF">2003-04-11T06:49:53Z</dcterms:modified>
  <cp:revision>3</cp:revision>
  <dc:subject/>
  <dc:title>PowerPoint Presentation</dc:title>
</cp:coreProperties>
</file>