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29C-D594-4B87-A91D-5A494D92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075-6099-4737-B2DF-E14812C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1EE-BBA1-43C4-AC10-431B8E3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1DB-6A7D-4082-9E55-F31195B8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C1-C427-48B8-AED4-5FF6F2F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3FB-0C35-4915-BC8E-3317619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97B-66A4-4A96-9D43-C7CC14A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955-CE4D-4D23-8FAB-A54F1FF5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C28-6434-4D99-A508-54CF86CF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6F4-36C1-4035-82CB-B93CD88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907-8D15-43CC-9133-0E5C15CC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CB7-2881-4A98-BA1A-60A1F98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84F-D3AD-48E4-A337-32DAB1C332B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راك اله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راك بنور الصّباح الحنون بلون الأزاهير فوق الغصو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سمع صوتك في كلّ صوب و اصغي اليك بقلب سك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84464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متّع عيني بكلّ الرّب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بصر فيها جمال يس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محبّة فادي تغمر نفس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تبعث فيّ التّقى و الخش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300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عرفتك دوما تشع ضيا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و فوق الصّليب رجاء الفد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سكنت فؤادي و نوّرت فك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زال عذابي و زال الشّق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70028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 (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Personal</cp:lastModifiedBy>
  <dcterms:modified xsi:type="dcterms:W3CDTF">2008-04-24T05:16:04Z</dcterms:modified>
  <cp:revision>7</cp:revision>
  <dc:subject/>
  <dc:title>Slide 1</dc:title>
</cp:coreProperties>
</file>