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575-52A8-41AF-BD06-A3C63D9B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DB3-9FC2-400C-AD85-D22D94C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E38-52D3-490B-89D3-9D60C797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E52-DAAB-4057-AD44-D10C79B1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47C-8E22-41EC-B307-E02864E0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970-744B-4840-A005-F320634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281-378D-462E-8A43-14421FA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113-D6D6-4220-AB00-296256AC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69C-C0F3-435B-9154-6F784BB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04A-8062-478C-AC04-FCF8795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7D1-C5FD-437D-9A82-10D42BB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ADD-69AA-4547-A466-589BF2A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610-C035-49FB-85DE-EEE5DBF82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79157naqLxMiIal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697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85800"/>
            <a:ext cx="335268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ــا أبانــا الحق إبنُكَ المَذبوحْ قربانَ فِـ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قبَـــلْ مَـن ذاق ليبرِّرَنــا أهــوالَ  الرَد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92187KzkgEjNdws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ِقبَـلْ منـا هـذا القربـانْ واصفَح عَنـ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نـسَ خطايــا ضِـدَ جَلالـَـك صدرَت م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684030QzQKrpGfyW_ph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743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ظرْ يا ربْ لِخطيئتِنا وذبيحتِ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ذبيحتُنـا أعلى جـداً مـن خطيئتِنــــ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358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Simplified Arabic"/>
              </a:rPr>
              <a:t>دمُـهُ المُهــرَقْ فوقَ الجلجلــة  ليخلصَنـا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َضـرَعُ عنّـا فاسمَـعْ لأجلِـهِ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صوتَ صلاتِنــا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4031060nWgdwk_ph" descr=""/>
          <p:cNvPicPr/>
          <p:nvPr/>
        </p:nvPicPr>
        <p:blipFill>
          <a:blip r:embed="rId1"/>
          <a:stretch/>
        </p:blipFill>
        <p:spPr>
          <a:xfrm>
            <a:off x="384012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t11" descr=""/>
          <p:cNvPicPr/>
          <p:nvPr/>
        </p:nvPicPr>
        <p:blipFill>
          <a:blip r:embed="rId1"/>
          <a:stretch/>
        </p:blipFill>
        <p:spPr>
          <a:xfrm>
            <a:off x="38862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27672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Simplified Arabic"/>
              </a:rPr>
              <a:t>ألمُ المساميـرْ جُـرحُ الحربـة قاسـى حبيبَك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Times New Roman"/>
              </a:rPr>
              <a:t>في آلامِـــهِ مـا يُحيينـــا ويُرضــي قلبَـ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33:13Z</dcterms:created>
  <dc:creator>SUZANNE.MD</dc:creator>
  <dc:description/>
  <dc:language>en-US</dc:language>
  <cp:lastModifiedBy>SUZANNE.MD</cp:lastModifiedBy>
  <dcterms:modified xsi:type="dcterms:W3CDTF">2003-03-10T06:59:55Z</dcterms:modified>
  <cp:revision>1</cp:revision>
  <dc:subject/>
  <dc:title>PowerPoint Presentation</dc:title>
</cp:coreProperties>
</file>