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E6F-1925-425F-9A4F-82C423E9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209-1EFD-4CCD-8E59-00079C76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BEE-2243-444E-8232-AC34456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3C9-56AC-479E-BADB-DF8AA729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4DC-FC5C-48F3-9E5C-648082F7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5D3-986F-46DE-A716-DDB182E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666-1D19-4FA4-97F0-AEB960F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38E-85DF-41C2-957B-DD908446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120-9D54-421B-997C-6BEE267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560-5275-47D7-8AE3-E520E372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B20-1371-4D0E-8D9C-1E353E0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65C-4B6B-4D33-91BC-9A96454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975D-6A0D-498E-8988-CC8691312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6007KpoZqsBeQp_ph" descr=""/>
          <p:cNvPicPr/>
          <p:nvPr/>
        </p:nvPicPr>
        <p:blipFill>
          <a:blip r:embed="rId1"/>
          <a:stretch/>
        </p:blipFill>
        <p:spPr>
          <a:xfrm>
            <a:off x="0" y="0"/>
            <a:ext cx="49593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تنحني الرؤو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                          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خفق القلوب تتمتم الشف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وتحلم العيون بنورك الم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نهتف بالدع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ندعو باسمك نحاور السماء فاستجب لن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55:57Z</dcterms:created>
  <dc:creator>USER</dc:creator>
  <dc:description/>
  <dc:language>en-US</dc:language>
  <cp:lastModifiedBy>USER</cp:lastModifiedBy>
  <dcterms:modified xsi:type="dcterms:W3CDTF">2002-10-30T16:56:17Z</dcterms:modified>
  <cp:revision>1</cp:revision>
  <dc:subject/>
  <dc:title>PowerPoint Presentation</dc:title>
</cp:coreProperties>
</file>