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646-75CE-4FE7-80BA-E9320B51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DA5-B463-425B-BC76-B6C92ACB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B20-EFD2-4337-8F31-2BB7352B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C85-159A-4230-8F21-D2FA53F9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9AF1-8D65-4861-BFE4-5DE56B7B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7F82-50C9-46CE-BDA0-578F904A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DE3-E56F-4554-8253-F8DFAAEB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07F7-D24B-4874-B5E2-87C2CED0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AEA2-3598-4DD6-BF57-C7FBE36A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904E-AD6B-4A88-AA98-5F520D9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997A-C346-4D3D-8498-0F3A121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226-043E-40AC-98AE-97C668C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82CD-566D-4575-8862-6CC5DDC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D10B-4101-49DA-B595-D96B15A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81EC-1C75-41D0-B631-8DF76E52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5647-037D-4166-849C-64325B24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CCB5-DBD0-411D-BEBE-28B95F32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04F-3447-49A7-9FE3-BA0CB7A2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AF1-DD3C-487D-953B-F8492EF7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97F-583E-4B11-83F0-29C4A3E2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548-56C6-4967-9DB9-930A3075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F31-B664-47DA-B933-341CE9F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617-6372-4088-B427-242135EF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158-E77E-491A-978D-89926059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A94-916A-43B7-AAD6-A2920858FC4B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7AB6-4FC8-4195-AA80-1A279A628FD5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لا مثل لك يا إلهي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رَعْتُ بَابَكَ بفَرَحٍ فَتَح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َلَبْتُ السَّعَادَة بوَفْرَةٍ مَنَح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َّمْتُ لَكَ ذَاتِي بحُنُوٍّ قَبل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عْرِفْنِي أَحَدٌ مِثلَمَا عَرَف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مُرْنِي أَحَدٌ مِثلَمَا غَمَرْتَ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ْ يَغْفِرْ لِي أَحَدٌ مِثلَمَا غَفَرْتَ ل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بُعْدِي عَنْكَ غَرِقْتُ في خَطِيئ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سْرَعْتَ إِلَيَّ تَبعْتَ خُطُو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َيْتَنِي حُبَّكَ أَنْعَشْتَ حَيَا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ظَمَ انْحِنَاءَكَ عَلَيّ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مَقَ نُزُولَكَ إِلَى أَعْمَاق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عْذَبَ صَوْتَكَ يَشْفِي جِرَاح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اَ مِثلَ لَكَ يَا إِلَه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8T17:06:00Z</dcterms:modified>
  <cp:revision>25</cp:revision>
  <dc:subject/>
  <dc:title>Slide 1</dc:title>
</cp:coreProperties>
</file>