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739-10EA-4DC8-A466-0964646D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238-3DF1-443C-B2B6-A47FB686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752-401D-4E3A-A351-A8AE1FE2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EED-929C-4AA9-9FBF-AB751959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FCB-B627-471C-B4D2-88B29074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2F2-4521-476B-B45D-D94BB2F0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3D7-DE99-4765-90C5-05E5E798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4E7-C2C4-474C-9A6F-7CF1B0CE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362-8693-4180-86F5-A9DCA1CD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F0E-DDCC-4DA6-98E4-E3DBC89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B04-C01D-40EB-B5B8-7C8C6C9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11D-5A71-4B80-8A5E-29A97FDF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3BDF-A7FE-425F-9BCB-D88079270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91120" cy="9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نهجت الطريقَ أسائلُ عنـكَ بِحَيرةِ ضعفي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أوهامي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سمعتُ الخليقةَ تُنشدُ لحناً لقلبي فتُنعِشُ إيماني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حَلَـتِ لـي الاقامـةُ داخلَ بيتـــكَ يــا أللّــه يا أللّــه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46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9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شجاني أنينُ اليتيــمِ يضيعُ بصخبِ الحياةِ ولا من يُجيب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رأيتُ عيونَ الشريدِ           تتيهُ وشمسُ المحبـةِ عنه تغيب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أشـــرِقْ علــيَّ بأنـــوارِ وجهــِـكَ يا أللّـه يا أللّ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6101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4572000" cy="9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ذا غِبتَ عني شَردتُ     بذاتي غرقتُ بحزني دهاني الضجـــ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وإنْ كنتَ فيَّ حييتُ فـرحتُ نشــرتُ الطيـوبَ فَرشـتُ الزهــ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طيــبُ الحيــاةُ تَطيــبُ بقربِــكَ يا أللّـــه يا ألل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9:52:26Z</dcterms:created>
  <dc:creator>SUZANNE.MD</dc:creator>
  <dc:description/>
  <dc:language>en-US</dc:language>
  <cp:lastModifiedBy>HANI SAFI</cp:lastModifiedBy>
  <dcterms:modified xsi:type="dcterms:W3CDTF">2003-03-14T12:20:41Z</dcterms:modified>
  <cp:revision>3</cp:revision>
  <dc:subject/>
  <dc:title>PowerPoint Presentation</dc:title>
</cp:coreProperties>
</file>