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54E-AE1D-4296-80B1-382A46F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1D2-8528-4F72-A738-41FFEBB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5F8-061E-4DBD-91DD-03BE3DC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68C-52D2-40C3-91CB-D5C53E47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94D-D537-4141-9ED5-B21C3E9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4DF-066A-4D61-8374-95BFDB9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2AB-60E2-446E-9B8B-06B411E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A95-0588-48E8-9A27-6BAC94B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3F2-91E4-4CAC-A9C8-E94C345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150-68C5-41FE-A812-FB18BC3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D98-8ACB-4D04-BCC2-236E52E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AC9-3A25-4D81-99DE-FE682E9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A21-E1F1-470B-817E-630B62D0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4572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-أن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لكنا-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ُد علينا الآ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ملأ المكان 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ِسَكين عجيب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روحك الحنّان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آن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18b" descr=""/>
          <p:cNvPicPr/>
          <p:nvPr/>
        </p:nvPicPr>
        <p:blipFill>
          <a:blip r:embed="rId1"/>
          <a:stretch/>
        </p:blipFill>
        <p:spPr>
          <a:xfrm>
            <a:off x="0" y="-25560"/>
            <a:ext cx="5867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7464500DVbzFrqSsR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0"/>
            <a:ext cx="3200400" cy="74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قوة روحك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مس 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حتياجاتنا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ضا ترنيمنا  -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آ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ملك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8:09Z</dcterms:modified>
  <cp:revision>4</cp:revision>
  <dc:subject/>
  <dc:title>PowerPoint Presentation</dc:title>
</cp:coreProperties>
</file>