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156C-79D1-457C-8FE0-3C2D3410E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9FC4-7E24-43CF-B9CA-75997207A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DE3F-88A9-4529-9184-7FE43DB02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EE72-56F2-488D-90A7-E68835EB3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3D9B6-9F73-4F78-89B2-8B38C623A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2F731-96A7-4EFB-B8FF-B69274C37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CF1AD-082F-420E-A1DB-974EB858E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BC359-139A-4B05-9E88-5060A4361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DD7F9-79AD-4316-8C67-0D261D88D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A141B-17AF-40F3-A51D-61ADE1EE5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0781F-0571-4DA5-9F85-78FB765DF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BA15-9BE8-40C3-A0E0-1B12E9C51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C06C2-183D-49DA-935D-0DDBE3221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224D2-A1E9-427D-AFF9-55A1FA971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C43F9-EDFF-47A3-B5B1-A2678CA2D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17EC9-9C77-426E-9C28-8AFA00493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AF2A6-D7C4-485C-A304-5CF7A0231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A2C7-5F50-410D-B37A-E1E469015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2DCC-32F5-48CE-A1DF-394C01C15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6269-5EA7-494A-A2E0-BD0C68AD9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95BA-1B54-4437-A5FA-83119F272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F221-D1F0-4853-90BC-D66BECC3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BC5B-0F58-4F45-8FA2-4B3E14997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BB41-D7E3-40F5-91A8-C2158576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54510-AB8D-4C6F-A67D-BBF9DBB20594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B1B41-32C6-467F-AA30-9E9127C3705D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4876920"/>
            <a:ext cx="45720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Tahoma"/>
                <a:cs typeface="????Boutros Rokaa"/>
              </a:rPr>
              <a:t>الر بُ راعيَ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214200"/>
            <a:ext cx="8763120" cy="667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ـي مراعٍ خصيبةٍ يقيلني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مياهَ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راحةِ يوردني.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5410080" cy="462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جودة والرحمة تتبعانني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-1911240" y="762120"/>
            <a:ext cx="9210600" cy="146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جميع أيام حياتي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5486400" cy="721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سكناي</a:t>
            </a:r>
            <a:r>
              <a:rPr b="1" lang="ar-LB" sz="8500" spc="-1" strike="noStrike">
                <a:solidFill>
                  <a:srgbClr val="ffffff"/>
                </a:solidFill>
                <a:latin typeface="Times New Roman"/>
                <a:ea typeface="Akhbar MT"/>
              </a:rPr>
              <a:t> </a:t>
            </a: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ـي بيت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ربّ طول الأيام. 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1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095880" cy="112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لربّ راعيَّ</a:t>
            </a: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000000"/>
                </a:solidFill>
                <a:latin typeface="Times New Roman"/>
                <a:cs typeface="Akhbar MT"/>
              </a:rPr>
              <a:t>فلا</a:t>
            </a: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ُعوزني شيءٌ</a:t>
            </a:r>
            <a:r>
              <a:rPr b="1" lang="ar-LB" sz="98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214200"/>
            <a:ext cx="8763120" cy="667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ـي مراعٍ خصيبةٍ يقيلني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مياهَ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راحةِ يوردني.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09588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لربّ راعيَّ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فل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ُعوزني شيءٌ</a:t>
            </a:r>
            <a:r>
              <a:rPr b="1" lang="ar-LB" sz="80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214200"/>
            <a:ext cx="8763120" cy="5943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ـي مراعٍ خصيبةٍ يقيلن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مياهَ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راحةِ يوردني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114800" y="-92160"/>
            <a:ext cx="5029200" cy="10332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ردّ نفسي ويهدين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لى سبل البرّ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ن أجل اسمه.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09588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لربّ راعيَّ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فل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ُعوزني شيءٌ</a:t>
            </a:r>
            <a:r>
              <a:rPr b="1" lang="ar-LB" sz="80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214200"/>
            <a:ext cx="8763120" cy="5943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ـي مراعٍ خصيبةٍ يقيلن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مياهَ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راحةِ يوردني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388620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ني ولو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سلكت في وادي ظلال الـموت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8686800" cy="740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ا أخافُ سوءاً لأنّك معي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عصاكَ وعكّازك هما يعزّيانني.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09588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لربّ راعيَّ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فل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ُعوزني شيءٌ</a:t>
            </a:r>
            <a:r>
              <a:rPr b="1" lang="ar-LB" sz="80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21:10:44Z</dcterms:created>
  <dc:creator>Charbel Azar</dc:creator>
  <dc:description/>
  <dc:language>en-US</dc:language>
  <cp:lastModifiedBy>ف</cp:lastModifiedBy>
  <dcterms:modified xsi:type="dcterms:W3CDTF">2006-05-16T10:05:14Z</dcterms:modified>
  <cp:revision>8</cp:revision>
  <dc:subject/>
  <dc:title>PowerPoint Presentation</dc:title>
</cp:coreProperties>
</file>