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887-1E51-4DB3-A7D7-E5A12311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BEC-CFDD-4D61-A7AC-04148926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B5E-DA60-479A-87ED-A3730DBE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073-0CE7-4235-A29D-DEE5A510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4A0-F409-4E18-8B9D-D0E79AD5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CC8-71A9-45E7-8927-0A8B686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23F-56A1-45A0-930F-FD343806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2A2-167F-47FC-B2E9-3E48979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DA0-8A67-4FA1-B3CF-D9AEF766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3DF-859E-42FA-8887-AA59F41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336-4FCA-4EC7-AC33-66996DC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154-F06A-49C2-988D-ACA8FBD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68D8-D396-4DA9-AA43-1432922918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197000"/>
            <a:ext cx="5257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 ب نوري وخلاصي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 نوري وخلاص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خاف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ُ حصنُ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فزع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تقدّم عليَّ الأشرار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لوا لحمي مُضايقيَّ وأعدائي فإنّهم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عثـُرون ويسقُطون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اصطفَّ عليَّ عسكر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ا يخافُ قلب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قامَ عليَّ قتال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في ذلك ثقت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حدةً سألتُ الربّ وإيّاها ألتمس. أن أُقيمَ ببيتِ الربِ جميعَ أيام حياتي، لكي أُعاينَ نعيمَ الربِ وأتأمّل في هيكَلِهِ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1000"/>
            <a:ext cx="9144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ه يخبّأني في مِظَلَّتِهِ يومَ الشرِ ويستُرني بسِترِ خِبائِه وعلى صخرةٍ يرفَعُني. فحينئذٍ يعلو رأسي فوقَ أعدائي من حولي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1000"/>
            <a:ext cx="9144000" cy="1146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ذبحُ في خبائِه ذبائِحَ هُتافٍ. أُرَنِّمُ وأُشيدُ للربِ. إِستَمِع ياربّي، إنّي بصوتي أدعو فارحَمني، واستجب لي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0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َ نَطَقَ قلب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َ التمَسَ وجه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َهَك يا ربِّ ألتمس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َحجُب وجهَك عنّي ولا تنبذ بغضَبٍ عبدكَ. ناصراً كنتَ لي، فلا تَخذلُني ولا تترُكني، يا إلهَ خلاص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1:59Z</dcterms:created>
  <dc:creator>Charbel Azar</dc:creator>
  <dc:description/>
  <dc:language>en-US</dc:language>
  <cp:lastModifiedBy>-</cp:lastModifiedBy>
  <dcterms:modified xsi:type="dcterms:W3CDTF">2003-01-03T12:51:55Z</dcterms:modified>
  <cp:revision>6</cp:revision>
  <dc:subject/>
  <dc:title>PowerPoint Presentation</dc:title>
</cp:coreProperties>
</file>