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075-BC5C-4B03-927F-D55B47F2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B51-49E6-46C8-B435-75777AE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87-DFB2-4C6B-A1B3-6FFC37B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E4E-968C-4F32-97CC-1E7163B0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02B-444D-40AA-9263-2C04AFA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1DB-B1D7-4721-B677-0991BBFC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67A-3B24-4C92-B3B4-8A08071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18D-7416-429E-92FC-0918306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62A-F438-456F-94A0-A073C08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4FB-CA5F-4326-8361-622CD2F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9BC-AAF3-4261-8D71-8B668CD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C16-4D05-4E32-B511-B4B70384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4EB7-8AD3-40D9-80A6-302FE540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11680" y="119160"/>
            <a:ext cx="508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ابتعد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نتظرت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هما خطئ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ـقبلن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ـا ابـن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ـب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30840" y="119160"/>
            <a:ext cx="508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ك رب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بع السم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يشف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الجر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يدي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يرت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87040" y="361800"/>
            <a:ext cx="5153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ز حيات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ـدت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عمق ذات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ـمـ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بعـتَ فـ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مـال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أنت أب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3-01-21T11:13:52Z</dcterms:modified>
  <cp:revision>6</cp:revision>
  <dc:subject/>
  <dc:title>PowerPoint Presentation</dc:title>
</cp:coreProperties>
</file>