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DD9-E7F9-4C4F-9CFD-1E2A4206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F04-5EDF-49BD-87D4-4BE7A469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6A6-2137-4BB4-8720-62F3ED81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080-656B-45FC-BB68-ADA1E024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BF6-B2AD-4FCC-944A-813EA23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A80-FB6A-4FD1-A680-68F1463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41E-796C-4799-B5B9-498B74A8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E56-FDD7-479A-A5BC-6DFABE44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3A0-EE16-41FE-9E21-4A2297B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121-EDDA-4268-974F-54E3196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9E4-0148-4C7B-A598-D93DA84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EC0-33A3-4E00-87C6-AEFD05C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F7AE-1ED3-42C7-A470-DD0B4301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0"/>
            <a:ext cx="2743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تبعن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ى الأمـ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لا ارتـخ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ا تـلتـفـِت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الو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0"/>
            <a:ext cx="27432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 العـز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َ السّـُرور والهنـ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لَّ الطـ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لَكَ دوما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َفي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ُن أمـينـا للممات   تنــل إكليـلَ الحيـاة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16T14:52:37Z</dcterms:modified>
  <cp:revision>8</cp:revision>
  <dc:subject/>
  <dc:title>PowerPoint Presentation</dc:title>
</cp:coreProperties>
</file>