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10.gif" ContentType="image/gif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6A8-E831-4376-A9C7-0FAFCFFA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D3C8-35C0-4892-8801-F4B8219A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9945-C081-474B-9133-A593F1BE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DB0B-BB0F-4706-9860-71CB21EA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366B-FDE9-47BE-B6CB-76FCBCA7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5CA7-AC22-408F-AC88-F4E5AC63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48F6-7908-4661-A7A6-7DABDB86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F7C-DC9A-4CD2-B50D-6BFC43BE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D048-B3B6-4B86-B59B-F64AD264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BB59-87E0-4A65-836C-453096CE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E154-E952-43FF-97E0-E84A94C6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EFC-EBDA-4F06-9CA0-7F55E559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2AA1-397F-4966-B2A7-C76FF8C01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882880" y="0"/>
            <a:ext cx="626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09480"/>
            <a:ext cx="243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ألله محبّة، ألله نورٌ، ألله حياتُ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28600"/>
            <a:ext cx="3657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يهـا الأحبـّه، أيها الأحبه ، أسلكوا في المحبّـــ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82880" y="0"/>
            <a:ext cx="6261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09480"/>
            <a:ext cx="243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ألله محبّة، ألله نورٌ، ألله حياتُ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47800" y="0"/>
            <a:ext cx="64962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2666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يحـبَّ بعضُنا بعضاً،    فـإنَّ ألله محبّـــــ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124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882880" y="0"/>
            <a:ext cx="6261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09480"/>
            <a:ext cx="243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ألله محبّة، ألله نورٌ، ألله حياتُ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8229600" cy="7467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1600200" cy="9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ذاً أحبَّ بعضُنا بعضاً أقام ألله فينا وتمّتْ محبتُه فينـا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228600"/>
            <a:ext cx="18288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كـــــذا يُقيـــــمُ ألله فينــا ونقيــمُ في ألل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4068720"/>
            <a:ext cx="17604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882880" y="0"/>
            <a:ext cx="6261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09480"/>
            <a:ext cx="243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ألله محبّة، ألله نورٌ، ألله حياتُ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08:12:13Z</dcterms:created>
  <dc:creator>SUZANNE.MD</dc:creator>
  <dc:description/>
  <dc:language>en-US</dc:language>
  <cp:lastModifiedBy>HANI SAFI</cp:lastModifiedBy>
  <dcterms:modified xsi:type="dcterms:W3CDTF">2003-05-22T04:51:52Z</dcterms:modified>
  <cp:revision>2</cp:revision>
  <dc:subject/>
  <dc:title>PowerPoint Presentation</dc:title>
</cp:coreProperties>
</file>