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E1F-4C8A-420C-B03C-28151547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567-B9F8-48D0-ACF0-8843F7F9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E18E-1EE1-4F7F-8DF6-8B75FBAA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AC7-D392-4270-8BD2-2985A615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3A6-6428-4FA9-94A6-064CFE9E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2E3-A696-44A7-87F6-F73E951F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0A9-E75F-4AB2-8096-A530D676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17A-1E4A-4379-BD15-1E04A029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4F7-C3DB-46A8-AA17-C17FF553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C86-1F0D-4E58-9107-4F01A5F8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A22-3C80-49FF-95F9-B11789C6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365-BCB2-4176-9F22-662215AB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3B19-DFF5-4238-ABD9-CE0378EDE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ffany_UCCMontclair_Agony_in_the_Garden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11680" y="119160"/>
            <a:ext cx="508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دعوكَ أبّ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يهـا الآ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فع يديّ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مداً لاسم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رّ وجود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حـب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وم ابتعدتُ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نتظرتـ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هما خطئتُ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ـقبلنـ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ـا ابـنك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حـبـ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ffany_UCCMontclair_Agony_in_the_Garden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30840" y="119160"/>
            <a:ext cx="5080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دعوكَ أبّ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يهـا الآ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فع يديّ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مداً لاسم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رّ وجود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حـب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ك رب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بع السم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ك يشف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 الجر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 يديك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ي يرت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ffany_UCCMontclair_Agony_in_the_Garden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87040" y="361800"/>
            <a:ext cx="5153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دعوكَ أبّ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يهـا الآ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فع يديّ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مداً لاسم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رّ وجود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حـب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نز حيات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جـدت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عمق ذات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ـمـ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طبعـتَ فـيّ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مـالـ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ك أنت أب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USER</cp:lastModifiedBy>
  <dcterms:modified xsi:type="dcterms:W3CDTF">2003-01-21T11:13:52Z</dcterms:modified>
  <cp:revision>6</cp:revision>
  <dc:subject/>
  <dc:title>PowerPoint Presentation</dc:title>
</cp:coreProperties>
</file>