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5C1-BF6B-478A-A180-523488ED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698-DC45-4B76-B4ED-8A495F41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300-334E-4905-9D0F-446B6B9B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08D-920E-4017-93B2-EF74F0A3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A6E-19A1-413A-BA39-471574A3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C47-B2A1-4B34-912F-C089F146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16C-97C8-4AA3-9CBF-04B71C6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346-238B-4E55-BD53-5E53998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D69-037B-45ED-982A-86AFF8F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BC0-0E03-4F9A-9B4B-A11F8D82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FE7-DC03-4241-915D-201F9CA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B2A-545D-4618-ABF1-1728BAC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99E5-534E-4DBB-B980-2DD9B360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6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يهـا الأحبـّه، أيها الأحبه ، أسلكوا في المحبّــ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47800" y="0"/>
            <a:ext cx="6496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يحـبَّ بعضُنا بعضاً،    فـإنَّ ألله محبّــــ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124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7467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16002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ذاً أحبَّ بعضُنا بعضاً أقام ألله فينا وتمّتْ محبتُه فينـا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1828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ـــــذا يُقيـــــمُ ألله فينــا ونقيــمُ في ألل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17604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28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9480"/>
            <a:ext cx="243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ألله محبّة، ألله نورٌ، ألله حياتُ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12:13Z</dcterms:created>
  <dc:creator>SUZANNE.MD</dc:creator>
  <dc:description/>
  <dc:language>en-US</dc:language>
  <cp:lastModifiedBy>HANI SAFI</cp:lastModifiedBy>
  <dcterms:modified xsi:type="dcterms:W3CDTF">2003-05-22T04:51:52Z</dcterms:modified>
  <cp:revision>2</cp:revision>
  <dc:subject/>
  <dc:title>PowerPoint Presentation</dc:title>
</cp:coreProperties>
</file>