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1B3-0EF1-4AF6-8C0F-76CF1DA1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EE3-A725-45F0-AAC0-BE71B572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DB1-376A-4F8B-815D-BDAAEEF4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302-FF8F-424B-AE8A-5963F4DB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5F4-CB87-4AC7-9D73-EB3F34A9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1B4-85DA-4803-9C65-31609185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339-16A2-475A-B325-54C2F7DC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006-4505-44B1-BDD2-B014AB0C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7D0-3C86-4FD4-A2D9-6E1DD574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7AE-A312-48BE-A051-1AAA392C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C87-421A-4768-835D-8D94DD0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BBD-4B8D-48C4-9BD8-FCC7A80B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656D-1181-44EC-A4D2-4235A10A8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669960"/>
            <a:ext cx="350532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ربِّّي أنتَ طري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في معاثرِ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ربي أنتَ رفي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عندَ ساعةِ المم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رَجَو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639720"/>
            <a:ext cx="350532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نارٌ لقل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أيضاً نس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 هديٌ لدرْ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فجْرِي الوسيم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 رَجَو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38680" y="0"/>
            <a:ext cx="350532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َعْضُدِ الموجَعينَ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ساعدِ البائِس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شْبعِ الجائع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رْجعِ الخاطئين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 رَجَو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28:57Z</dcterms:modified>
  <cp:revision>2</cp:revision>
  <dc:subject/>
  <dc:title>PowerPoint Presentation</dc:title>
</cp:coreProperties>
</file>