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CFB-66FA-456C-855A-112E969D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201-A08A-4504-BE50-535558F2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6FC-38D9-41D5-9FE9-8C13FDA5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58E-C454-41FB-9672-118C663C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909-0802-49EA-BA3D-611CB95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CFD-D82A-4656-9DAF-1CCD996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DD5-3D41-48C4-85A5-F316E4F3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472-3F93-4EC3-9BBE-2A77B5EF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1B8-C854-4E74-8F8C-48DC1D71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792-D68B-46F3-8A8B-065977D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4A2-034F-46D0-80FD-B55391C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B02-71D1-4846-92DB-E07F785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27D2-CABD-452F-B4EF-0F0E9F588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7537749JoSuNr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71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أيها الملكُ السماوي المعزي روحُ الحق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الحاضرُ في كل مكان والماليءُ الكل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كنزُ الصالحاتِ ورازقُ الحياة هلم واسكن فينا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طهرنا من كلِّ</a:t>
            </a:r>
            <a:r>
              <a:rPr b="1" lang="en-US" sz="3700" spc="-1" strike="noStrike">
                <a:solidFill>
                  <a:srgbClr val="ffcccc"/>
                </a:solidFill>
                <a:latin typeface="Arabic Transparent"/>
              </a:rPr>
              <a:t> </a:t>
            </a:r>
            <a:r>
              <a:rPr b="1" lang="ar-SA" sz="3700" spc="-1" strike="noStrike">
                <a:solidFill>
                  <a:srgbClr val="ffcccc"/>
                </a:solidFill>
                <a:latin typeface="Arabic Transparent"/>
              </a:rPr>
              <a:t>دنسٍ وخلص أيها الصالحُ نفوسَ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53:26Z</dcterms:created>
  <dc:creator>SUZANNE.MD</dc:creator>
  <dc:description/>
  <dc:language>en-US</dc:language>
  <cp:lastModifiedBy>USER</cp:lastModifiedBy>
  <dcterms:modified xsi:type="dcterms:W3CDTF">2003-02-07T13:06:47Z</dcterms:modified>
  <cp:revision>3</cp:revision>
  <dc:subject/>
  <dc:title>PowerPoint Presentation</dc:title>
</cp:coreProperties>
</file>