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27D-515D-4DDF-B764-D4F8D013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647-01DD-459D-B546-CF37746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97D-3272-498D-9369-F9345901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F3A-1892-4C0E-B446-21A8C757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A45-5FAE-4FC3-AFDF-FBCE6A33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407A-3904-48AA-9EC8-B268BB8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AC98-5DC3-4A4F-B2D6-29D743AE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DCA-B9A4-4A73-962C-1047DBB0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E3BE-815A-4A7A-B690-EA66A6E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5320-34A3-4525-925E-AA97CE4B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CA7A-9A37-4A04-8B52-DE1FB86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918-C50B-41CE-A2DF-4FC449E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4F46-ACF2-4EE7-B6A0-6AF76C6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9E7-5F39-4F4F-93D4-09D0ED5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1A41-AFD9-4F55-8870-B5FC3E3A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426-7B68-4E03-AF94-947B740E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8A96-612B-44B9-86FB-EF7D1110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C8C-A393-4C28-B5EE-5E40EC6E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E39-F915-4D73-93C6-942D1D12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F24-EC05-4D83-8A99-384F667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345-C230-41B2-9626-75FEBAE7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860-68EF-4DB2-B5E7-6FB214D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605-3D5F-4A62-B6DB-EDF27231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C09-EFE4-40D7-BB13-EEFC75F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8B57-682B-4FDF-BF3C-1A0BA4DFBD2A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F7F3-A555-435F-82A7-6DE5E851E88C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لا مثل لك يا إلهي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رَعْتُ بَابَكَ بفَرَحٍ فَتَح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َلَبْتُ السَّعَادَة بوَفْرَةٍ مَنَح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َّمْتُ لَكَ ذَاتِي بحُنُوٍّ قَبل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عْرِفْنِي أَحَدٌ مِثلَمَا عَرَف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مُرْنِي أَحَدٌ مِثلَمَا غَمَر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فِرْ لِي أَحَدٌ مِثلَمَا غَفَر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بُعْدِي عَنْكَ غَرِقْتُ في خَطِيئ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سْرَعْتَ إِلَيَّ تَبعْتَ خُطُو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َيْتَنِي حُبَّكَ أَنْعَشْتَ حَي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8T17:06:00Z</dcterms:modified>
  <cp:revision>25</cp:revision>
  <dc:subject/>
  <dc:title>Slide 1</dc:title>
</cp:coreProperties>
</file>