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661-E820-4366-88AB-BA8E8CC6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906-D310-463B-A91B-444D4CA8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5F9-BD38-4A25-93E3-025370BA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415-A597-4225-B0B3-DCF7BC29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2D7-0AE9-4773-AE53-17119424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074-5757-47FC-8DF4-916935A3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DEA-1C9F-425D-A6FD-F2D2EF3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247-27B0-412F-A13C-1FA9B85F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851-C510-40D0-8256-331E7B87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E0F-8313-40A4-83D2-B589B2E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ECC-42E4-4355-B31A-B982AE9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85D-248F-46D2-90BB-00C3711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C633-A6DD-4564-B22F-AFBDC5D76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89280" y="47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395000" y="0"/>
            <a:ext cx="823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imes New Roman"/>
                <a:cs typeface="Arabic Transparent"/>
              </a:rPr>
              <a:t>يسوع أنت إله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08120" y="0"/>
            <a:ext cx="56001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سجدُ أمامَك إله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ترفُ بك مل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ا هي حياتي في يدي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فعل بها ما ت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سوع أنتَ من أريد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8006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 واملك على قلبي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توقُ إليكَ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ُرنِّم لك شفتاي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أُحبك للأب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1120" y="458640"/>
            <a:ext cx="47638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نحني لاسمِكَ كل ركب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ويعترف كل ل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ك يسوع خلاص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أردده في كل ح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2:49Z</dcterms:created>
  <dc:creator>USER</dc:creator>
  <dc:description/>
  <dc:language>en-US</dc:language>
  <cp:lastModifiedBy>USER</cp:lastModifiedBy>
  <dcterms:modified xsi:type="dcterms:W3CDTF">2003-02-03T14:36:41Z</dcterms:modified>
  <cp:revision>3</cp:revision>
  <dc:subject/>
  <dc:title>PowerPoint Presentation</dc:title>
</cp:coreProperties>
</file>