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20D-1849-4D12-A751-D9851EB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C37-2714-4488-865C-60B30C81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F41-34B1-43C9-A1FC-C1F268F3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111-95C4-4945-98CF-BF8771AA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8A3-EEAD-416A-A177-C81E8F01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83A-6813-43BD-94FC-0218E30A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8EE-FF2E-41ED-86EE-5D509896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073-B3F7-465A-AAB1-9E7BC530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B55-1FC1-467D-A2AB-26422249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D8C-704B-48D3-8C58-4C2041D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69C-5249-48BB-B811-778C5C3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7EA-C8A9-40E1-85C0-C6425A3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2C9B-F0AD-4415-83EE-B1238F4BF2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645000"/>
            <a:ext cx="5410080" cy="32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ت الشفيع الأكرم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0"/>
            <a:ext cx="576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ُزْتِ مَقَاماً في السما فوقَ الخَلائِقِ قَدْ سَما وَبَلَغْتِ في التقديسِ ما عَنْهُ الخَلائِقُ تُحْجِ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287280"/>
            <a:ext cx="64818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ِبْرِيلُ وافى الناصِرَة ببشارَةٍ لَكِ ب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لَ افْرَحِي يا ط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َلَكِ الهَنَاءُ الأَعْظَمُ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76720" y="0"/>
            <a:ext cx="5832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بُّ المَلائِكِ والبَشَر يُهْدِيكِ مَجْداً مُفْتَخ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َّ المَسيحُ المُنْتَظ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جِسْمِكِ يَتَجَسَّ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6:32Z</dcterms:created>
  <dc:creator>Charbel Azar</dc:creator>
  <dc:description/>
  <dc:language>en-US</dc:language>
  <cp:lastModifiedBy>ف</cp:lastModifiedBy>
  <dcterms:modified xsi:type="dcterms:W3CDTF">2007-05-01T20:13:01Z</dcterms:modified>
  <cp:revision>23</cp:revision>
  <dc:subject/>
  <dc:title>PowerPoint Presentation</dc:title>
</cp:coreProperties>
</file>