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199-EF36-478E-9A53-85E4FF9E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B69-30BA-4E3C-A64C-6B6E4BF3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B97-DEBC-4592-9BC1-15DF8359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4B1-E357-4BE9-B2AD-4D20DB51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104-514A-4EBE-8D69-EB506D2B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4C8-1A29-46F1-ABC3-A681F381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E70-494E-4E5F-9273-DC8BB20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653-ADAE-4869-89B0-1AED48A8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F0B-0FAE-40FD-A626-154674C4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D30-DD90-452E-93B0-31AEB58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DF6-DBBD-4B71-93D8-19FDD28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2A7-507F-400B-8FD4-C0F0F2E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1827-E595-4DDD-A5AA-C77E220C8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7980dqEPmGhUz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380880"/>
            <a:ext cx="160020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شفتاي تُنشدُ تسبيح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5238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داي تُرفع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شفتايَ تُنشِدُ تسبي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يداي ترفع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3:17Z</dcterms:created>
  <dc:creator>SUZANNE.MD</dc:creator>
  <dc:description/>
  <dc:language>en-US</dc:language>
  <cp:lastModifiedBy>SUZANNE.MD</cp:lastModifiedBy>
  <dcterms:modified xsi:type="dcterms:W3CDTF">2002-12-12T07:32:54Z</dcterms:modified>
  <cp:revision>1</cp:revision>
  <dc:subject/>
  <dc:title>PowerPoint Presentation</dc:title>
</cp:coreProperties>
</file>