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95E-ED2E-4665-B78E-EA5ED3AB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790-D6EC-4FDB-A78D-A0D3E929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65D-2268-44B1-A13D-64DDFFA7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0BE-1A81-4D6E-BF5B-F0C882B9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525-170A-40D9-B20C-1C2878F3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247-1B8E-4B87-B145-8710937E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DF1-7EA2-43CE-86E8-34CD4964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B1A-322F-4D8F-AD72-B20BA6D6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0E5-B11E-4268-9146-12BD9EA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085-6B82-4DCA-BDD7-07AFAD2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51E-B87E-474B-98C2-DF431B6A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5C1-3DBC-46BD-AA37-E726445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19FF-BC09-4DB0-8C2D-E78B264ED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14480" y="120600"/>
            <a:ext cx="5175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رهبـة ورع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 خشـوع وامتنان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جـرأت وقـرر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 أخاطب الإ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إذ ذاك تقـدم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ي خـزيٌ وأمــان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نـوره تجلّى 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ل ما لي من آثـ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ألته ترى هل م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وفي عني القصاص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صليبي ذ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هو السبيل للخلا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53880" y="120600"/>
            <a:ext cx="505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ـألته وما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إنـه رمـز الآلام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كيف أيها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يف منح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على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مت من أجل خَطاك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دمي قد سال من جن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ه أتممت فد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عنـد ذاك تحيـر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كيـف مات عني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حيرتي سأل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ارب إيضاحا زد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2374517gTWaHW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0"/>
            <a:ext cx="18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ي رهبةٍ ورعبةٍ في خشوعٍ وامت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جرأت وقرّرتُ أن أخاطب الإ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إذ ذاكَ تقدمتُ كلي خِزيٌ وأم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نورِه تجلّى لي كلُّ ما لي من آث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سألتُهُ تُرى هل مَن يوفي عني القص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قال لي: صليبي ذا هو السبيل للخل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0"/>
            <a:ext cx="2133360" cy="9201960"/>
          </a:xfrm>
          <a:prstGeom prst="rect">
            <a:avLst/>
          </a:prstGeom>
          <a:solidFill>
            <a:srgbClr val="00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ته يقول لي إني قد أحببت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حملت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قاسيتُ كل ذا من أجل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إني الآن أدعوك كيما نحوي تُ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كي ترتاح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إذ تأتي لما حبي ت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ند ذاك بكى قلبي ونادى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ذا الإل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ك عمري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كل كلي لك ما دمت في الحياة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3-02-07T13:17:50Z</dcterms:modified>
  <cp:revision>8</cp:revision>
  <dc:subject/>
  <dc:title>PowerPoint Presentation</dc:title>
</cp:coreProperties>
</file>