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6E3-3EAA-4C3E-8822-9E01EC79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C4F-6673-4B77-9F53-A8978729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12C-BC0E-4C24-882F-1878D32F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097-629D-4EF1-B28E-E1F22E8F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5DB-3A08-4C73-91C2-14087A8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283-E7B4-4429-88B2-A9DE6526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C0C-31A7-43D0-8965-ADE8733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2B2-46FC-4234-B32B-22E60FA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CE6-D394-4A04-BB67-31E4D07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7D6-6EA1-4FEE-A81B-7729F4B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F4C-4199-448C-94D3-F0F0B5E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711-EF73-45DE-8AFE-61E19B53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F141-BBA2-4F33-B595-27577A0BD3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رفعة الكأس:</a:t>
            </a:r>
            <a:br>
              <a:rPr sz="8800"/>
            </a:br>
            <a:br>
              <a:rPr sz="8000"/>
            </a:br>
            <a:r>
              <a:rPr b="0" lang="ar-SA" sz="6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آب الحق الرحم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64000" y="504720"/>
            <a:ext cx="550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59280" y="719280"/>
            <a:ext cx="5940360" cy="51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بكرَ الآبِ المحجوبْ يسوعُ الفادي المحبوب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ابنَ ال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حيٌّ أنتَ يا مصلوب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620640"/>
            <a:ext cx="57229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16280"/>
            <a:ext cx="5580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للهِ الآبِ القادِرْ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Akhbar MT"/>
              </a:rPr>
              <a:t>والربِ الإبنِ الغافرْ والروحِ الحيِّ الطاهرْ غَنّوا المجدَ كلَّ آن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9640" y="1989000"/>
            <a:ext cx="572436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يا آبَ الحقّ الرحمان خُذْ منّا هذا القربانْ قربانَ ابنِكَ الفادي بحرِ الحبِ والغفرانْ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7-07-13T15:27:11Z</dcterms:modified>
  <cp:revision>12</cp:revision>
  <dc:subject/>
  <dc:title>PowerPoint Presentation</dc:title>
</cp:coreProperties>
</file>