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29C-9B91-4363-B102-0765797B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07E-0F65-41F2-B091-F7311D3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34B-471E-4990-9515-BC5D4DD4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545-8DF9-4A4F-80E9-2018A188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3BE-61E4-41F8-A816-1E6DC90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F74-CDFA-4DC9-9899-B439955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8D9-AAF6-4129-B701-87D9842F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37A-90AE-49C7-9EFA-3CB45EE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13B-D498-428C-B128-EE32E6E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514-E49A-48C1-B531-8BB9A4D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22D-2625-4914-BE8E-6BE594F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479-334C-4C4D-8898-3A805B1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2BB3-895D-43AF-B112-D46B66AE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6576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يا خبزَ الحياة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قـوتَ الأرواح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عربونَ النعيـ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أنتَ ابنُ البشـر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أنتَ ابنُ الإلهْ والإلهُ  الرحيـمْ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0481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لائكـة قيامْ بالخجل والوجل من بَهاكَ العظيم ونحنُ المساكين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يف نَقبلُك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فمنـا ذا  الأث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في العَشا السري فاضَ بحرُ الجود وكان هو الجواد   وهَبَنـا ذاتَه خُبزاً وخَمراً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هوَ أّشرفُ ز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4191120" cy="73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ُقبـلُ  ح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فيضُ نف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فضـل إمدا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لسـرٍ عجيـ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رِّ اللّهِ الرهي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يُحقُ أن يُعبـ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367344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رُّ الأس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رُّ الأب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ُدس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قدي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ينُ الخيـرات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َبـدا وغاية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لّ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ضلٍ نفي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-2714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429000" cy="11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ُها التائبون هلُّموا بإحترام واقتبلوا الإِل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الذي يُعطى هو الذي يُعطِي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حمةً وحيـا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4267080" cy="9788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ـي رجائ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نَعيمي نِعمَتـي  لَذَتي المبتغــا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عم  لِنَقبَلـــك بالحبِ والشوق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ربونَ  النجـاة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3505320" cy="83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ا لستُ أهلاً بل أنا تائــب بل أنا مأم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خبـزَ السمـا كُن لِيَ قوتــاً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ى دهرِ الدهور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7:08:41Z</dcterms:created>
  <dc:creator>SUZANNE.MD</dc:creator>
  <dc:description/>
  <dc:language>en-US</dc:language>
  <cp:lastModifiedBy>HANI SAFI</cp:lastModifiedBy>
  <dcterms:modified xsi:type="dcterms:W3CDTF">2003-04-16T13:48:33Z</dcterms:modified>
  <cp:revision>3</cp:revision>
  <dc:subject/>
  <dc:title>PowerPoint Presentation</dc:title>
</cp:coreProperties>
</file>