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27D-55D8-4D87-B7D0-87ED6875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9FC-6069-4DE8-A926-83C3AD8F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B9B-788D-489D-AC4B-00E8E511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36E-C2D9-44E4-9C73-01DAD1EF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43A-7833-4A30-8107-D5ED0D25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DCB-D506-4C73-B105-2E0F27E9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293-2673-4D6B-83A8-7AD7D28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4B7-C296-4581-8D3C-6B9658EC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3D2-4C8C-461E-81DA-ED79AC55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C9F-99F5-4C99-8B16-85AF5A5A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2C5-DA74-4629-AB17-ACC8B8F0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11E-70C9-4111-ACAA-2739CD4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E4B8-F8AE-4B19-8A56-EFE336AE4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216818KHAPFKsPan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5880" y="0"/>
            <a:ext cx="30481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الربُّ هوالله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هو صنعنا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نحن شعبُهُ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غنمُ مرعاه (×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لنَعبُدِ الربّ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بالفرحِ والحم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َهْتِفَنْ ل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رفَعِ الأيدي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9839597SVHMFGJHYQ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304920"/>
            <a:ext cx="3200400" cy="78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نّوا ورنّموا بأعجب الألحان بالأيدي صفقوا لسيد الأكوان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9839130pPYJDRksSW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7095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685800"/>
            <a:ext cx="335268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قدّمُ المجدَ لساكن السماء ونرفعُ الحمدَ لمن في وسطِنا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0554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24280"/>
            <a:ext cx="91440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سمِ الهِنا سنرفع الرايات ولخلاصِه ِ ستعلو الترنيمات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 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41:27Z</dcterms:modified>
  <cp:revision>7</cp:revision>
  <dc:subject/>
  <dc:title>PowerPoint Presentation</dc:title>
</cp:coreProperties>
</file>