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80A-57E9-4D2E-A59F-5BAEC982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344-9C78-4550-A8F8-CBC5C86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1B2-9E8C-4E44-B47B-85EF94E4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BE8-3106-4CEA-9C70-74224558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777-C120-4001-B39E-8A11B68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7CD-7B27-4ABC-8559-C9D7430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F8B-A798-4956-9B05-CA1BF67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623-8EF5-4A06-AA8E-30B8C918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7A8-FC44-4A7C-97CB-BFC55ED8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091-74CB-4F8D-B9FA-802D069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257-8155-4FDF-823A-21055E5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793-0DA6-416F-8E18-B4EC1356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51D-9E6B-4937-B75C-B1108E79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مع قطيعــه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أب مع بني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د الرب دومـ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يرشد في الطري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في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قات الشبـ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ي أوقات الج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ـل من يديه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د الرب المسيح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20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72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يقود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اً ومسـ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اليـوم الجد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ـراع يقودنــا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ـاً ومس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الـرب الإ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295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83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343400" cy="90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ينمــا نأتي إليه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ذلات الب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روحه القدوس يشفي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يمحو كـل أ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إلى المياه الراحة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ـو يري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 نخاف ظل الموت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أنه معن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42:28Z</dcterms:created>
  <dc:creator>SUZANNE.MD</dc:creator>
  <dc:description/>
  <dc:language>en-US</dc:language>
  <cp:lastModifiedBy>HANI SAFI</cp:lastModifiedBy>
  <dcterms:modified xsi:type="dcterms:W3CDTF">2003-04-30T13:46:23Z</dcterms:modified>
  <cp:revision>1</cp:revision>
  <dc:subject/>
  <dc:title>PowerPoint Presentation</dc:title>
</cp:coreProperties>
</file>