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779-1E44-47D8-BC3D-9FAB0211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A3A-5CC8-4C49-9CD3-81A938EB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D41-FB66-48C7-BAB6-72F2EC96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053-5958-4B01-BD7E-49B8DA41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C87-2E35-41EC-A40D-8B137858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3D0-B79F-463B-BBDF-412E07AA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4C5-EE36-4322-9931-52C5FA9D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E83-05DD-4540-AE11-6BAA43AB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0E3-0CBA-42B8-8327-253D5DC9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04F-3611-4A83-BE9D-CDEBF4A3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E45-4B7B-47E1-B37D-BEAAF7E9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166-61A5-42B8-A088-BA1C6E13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853A-E4F1-45DD-8C58-7E2E663A5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3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3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3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3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03:45Z</dcterms:created>
  <dc:creator>USER</dc:creator>
  <dc:description/>
  <dc:language>en-US</dc:language>
  <cp:lastModifiedBy>USER</cp:lastModifiedBy>
  <dcterms:modified xsi:type="dcterms:W3CDTF">2002-11-01T03:05:55Z</dcterms:modified>
  <cp:revision>1</cp:revision>
  <dc:subject/>
  <dc:title>PowerPoint Presentation</dc:title>
</cp:coreProperties>
</file>