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EB3-AE6C-431E-8E37-E5F46A14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B21-61AD-43E0-90A6-FDB15D59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F86D-CD14-4AFD-BF1F-E175EEAE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7E9-F79B-4103-B688-C04C823B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579-7C1D-43F7-B71A-82D36A8F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BC7-89F9-4F38-AA10-696818F4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974-20DE-490B-8F2A-41D05932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F3C-0CBA-4317-98D6-65F3B226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E79-0DEE-42F9-8EE9-2F3DE834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5A0-3198-4FE0-BBFA-B0F61565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EA6-40DE-4D87-8F14-06D45B14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932-2A3B-4BEC-9E8C-A2713DB8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28F6-6DF4-4CF3-8FBE-F5941FE550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رفعة الكأس:</a:t>
            </a:r>
            <a:br>
              <a:rPr sz="8800"/>
            </a:br>
            <a:br>
              <a:rPr sz="8000"/>
            </a:br>
            <a:r>
              <a:rPr b="0" lang="ar-SA" sz="6000" spc="-1" strike="noStrike">
                <a:solidFill>
                  <a:srgbClr val="000000"/>
                </a:solidFill>
                <a:latin typeface="Tahoma"/>
                <a:cs typeface="Ruqah2 Normal"/>
              </a:rPr>
              <a:t>يا آب الحق الرحما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64000" y="504720"/>
            <a:ext cx="550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59280" y="719280"/>
            <a:ext cx="594036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بكرَ الآبِ المحجوبْ يسوعُ الفادي المحبوب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ٌّ أنتَ يا ابنَ الله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ٌّ أنتَ يا مصلوب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48000" y="620640"/>
            <a:ext cx="57229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16280"/>
            <a:ext cx="5580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Akhbar MT"/>
              </a:rPr>
              <a:t>للهِ الآبِ القادِرْ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Akhbar MT"/>
              </a:rPr>
              <a:t>والربِ الإبنِ الغافرْ والروحِ الحيِّ الطاهرْ غَنّوا المجدَ كلَّ آن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19640" y="1989000"/>
            <a:ext cx="572436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7-07-13T15:27:11Z</dcterms:modified>
  <cp:revision>12</cp:revision>
  <dc:subject/>
  <dc:title>PowerPoint Presentation</dc:title>
</cp:coreProperties>
</file>