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373-7860-4D3D-A3BD-B4BEA32A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4FA-3DEE-462E-B727-4A3791D8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874-BA4C-467E-BCC4-6F64F5AC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FBC-37C2-48E0-BF9D-940F4470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B5A-341B-451C-A82B-F77BB6CA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7C1-B87C-451E-923F-4BF485F6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32A-BC44-4E41-89C5-3BB3167C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DE3-8657-4F3F-A8B0-DA35A724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DEB-59FE-45C2-B814-A21D0AB9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FEE-A076-4AFB-AE8C-E89F400E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04E-84C3-4F56-881B-43A5344E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75C-8A21-48DB-885B-6FA05191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8965-FBDB-440A-AA2C-7FD7750B0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67440" y="0"/>
            <a:ext cx="586368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يا أبانا لستُ أد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كيف كان عمري يج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دون أن أدركَ أنّ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لكنّي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آن إبنُ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نت ترعاني بحبِّ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لن أخافَ أبدا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أنّك تُمسِك يمي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ـأسـبِّحُكَ وأهتفُ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لأبد أنا لك، للأب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ـأسـبِّحُكَ وأهتفُ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لأبد أنا لك، للأب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9:05:30Z</dcterms:modified>
  <cp:revision>8</cp:revision>
  <dc:subject/>
  <dc:title>PowerPoint Presentation</dc:title>
</cp:coreProperties>
</file>