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0FF7-86E2-4AD8-BD5E-41D9BC0D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CE4E-9803-48AA-8BAC-9EA82C95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5601-2788-4077-AA8D-0A762891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65A0-501A-4303-9ACC-EE95A41D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EF2C-F0DE-4438-A87A-7608B272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5CFF-5C2C-4325-9155-4002F30D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F646-2576-4105-88D1-2CCA2BF9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1975-8A6E-4A2D-A05D-46BAEB06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CBB8-DD4A-425B-891A-0D726B09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EBE7-EE04-4325-A8F5-10A0192B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423E-9CCA-4258-A93F-A4624FDA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D371-149D-46F8-A923-0D59A81F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2230-2065-4F15-8126-6F6516C6E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5055779qkbiYEjTVl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974880" y="5638680"/>
            <a:ext cx="123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ا آتي بطيبي فوقَ شعرِكَ، هبني الآنَ أعرفُ حقَّ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درِ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ِوَضاً عن شوكي في إكليلِك، واتْكِئَنَّ رأسي على صدرِ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5055779qkbiYEjTVl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660680" y="5638680"/>
            <a:ext cx="1289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ذ كَسرتَ قلبَك من أجلي أنا،ها قارورةَ الطيبِ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كسرُها ه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َ قدَميكَ وأدهِنهم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حيث راحتي.. لا ولا ع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5055779qkbiYEjTVl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33200" y="5715000"/>
            <a:ext cx="1137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ا يكن في قلبي شريكٌ ل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ك كلُّ حبي، لكَ وحد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لينكسِر قلبي ليشبَع قلبُكَ وكلُّ شهوتي في مجدِ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5055779qkbiYEjTVl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634760" y="5715000"/>
            <a:ext cx="130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دعني أُتلِف نفسي عند قدميكْ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أُحظى دواماً بملءِ نا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ظر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أسعى ضعيفا وأستند علي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حتى كلُّ المجدِ يرجِعَن إل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5055779qkbiYEjTVl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2497680" y="5699160"/>
            <a:ext cx="140079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دعني أُكرم اسمكْ وأَرفَعْهُ الآن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5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ِئَلا تمضي الفرصة وينت</a:t>
            </a:r>
            <a:r>
              <a:rPr b="1" lang="ar-SA" sz="35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ي الز</a:t>
            </a:r>
            <a:r>
              <a:rPr b="1" lang="ar-SA" sz="35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ن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مريم وحدَها قد فازت بالنيشان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5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طيبُ المريماتِ فاتَهُ الأوان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2-10-30T18:52:49Z</dcterms:modified>
  <cp:revision>2</cp:revision>
  <dc:subject/>
  <dc:title>PowerPoint Presentation</dc:title>
</cp:coreProperties>
</file>