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032-40D5-40A0-81CE-4ADB6183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7F9-6E67-46F3-9FB7-2C844BF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639-6A7A-437F-A3C7-85775F55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D6B-1446-4E01-955C-53401C95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BB2-A12E-4160-8501-0082C8F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10F-DD03-48CD-BE9F-CC829B79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053-F637-4BF8-A606-CC9AE1A6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089-2A41-4F99-B3BA-5EA06148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15A-03D1-4AFA-8DC4-29ED650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F4B-85F9-455A-931B-0C87C5D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F98-87A7-4D9C-BFEB-B5B8D0D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A01-6CDE-42EE-BDB0-46599CF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0C6B-BE2A-4ADF-B40D-CFD3FBD4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48640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76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يسـوع يـا يسـوع      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احلى واطيب قربانة؟  يسـوع يـا يسـوع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    نعمــة ما الهـا تانــي!    اول مرة بحياتي               عـم بتناول هالنعمــ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برفع قلبي ودياتي ربـ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دوقني الط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عطينـي القربانة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227560"/>
            <a:ext cx="1752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3581280" cy="74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ا نطرتو   هاليوم من زمـان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مـري ندرتـو لسر القربـــ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ـارب حبيتــك وبالقلب خبيت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 طـول لبيتك عهد الامانـة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419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34290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ــن قنديلك  قلبي ضويتــو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ـن انجيلــك حبـي رويتــ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رب سلمنـــي الانجيل علمنـ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 طول كلمن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ـــوي ايمانــــ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762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411480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مـــي وابـي    ع الدني طليــ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خـي و اختــي مـن قلبـي صليـ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ـارب خلينـا وبالحب ملينــ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وع الدرب دلينا صــوب القربانـة</a:t>
            </a:r>
            <a:r>
              <a:rPr b="1" lang="ar-SA" sz="4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57:38Z</dcterms:created>
  <dc:creator>SUZANNE.MD</dc:creator>
  <dc:description/>
  <dc:language>en-US</dc:language>
  <cp:lastModifiedBy>HANI SAFI</cp:lastModifiedBy>
  <dcterms:modified xsi:type="dcterms:W3CDTF">2003-04-30T13:47:47Z</dcterms:modified>
  <cp:revision>2</cp:revision>
  <dc:subject/>
  <dc:title>PowerPoint Presentation</dc:title>
</cp:coreProperties>
</file>