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8D3E-4B63-4DE3-8803-D5319DF1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4466-F75B-42D9-B7AA-CF231552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16AE-546A-4669-917B-BE343DBD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26AC-1EC9-4C04-B803-1E414519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951B-BA72-4773-9476-84E4A701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2EE2-67F4-4F76-BFCC-355DE5BA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8511-8F39-48EB-BA08-405BA7FE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EFD5-1A31-4EAE-8E1F-B924C18F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FEFC-6B15-4152-AACD-3C472417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0323-FBC1-40EA-94FE-4CA16C0B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861B-7D1D-41BA-A4DE-E1979B27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B14C-DBDE-40F4-93C3-94BDAE44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9667-6A41-4A6C-8A16-642F148EB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572000" cy="9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عرفتَ بـأن قـد تعثَّـر دربـ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فجئتَ إليَّ تقودُ خُطــاي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تعــرفُ أني بحبَـــكَ رب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أهيمُ كصبِّ وفيكَ هــوا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ليسَ لدربــي ســواكَ رفيـقٌ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يا أللّــه يا أللـّــــ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76197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4191120" cy="9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</a:t>
            </a: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نهجت الطريقَ أسائلُ عنـكَ بِحَيرةِ ضعفي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وأوهامي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  <a:ea typeface="Simplified Arabic"/>
              </a:rPr>
              <a:t>  </a:t>
            </a: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سمعتُ الخليقةَ تُنشدُ لحناً لقلبي فتُنعِشُ إيماني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حَلَـتِ لـي الاقامـةُ داخلَ بيتـــكَ يــا أللّــه يا أللّــه</a:t>
            </a:r>
            <a:r>
              <a:rPr b="1" lang="ar-SA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.</a:t>
            </a:r>
            <a:r>
              <a:rPr b="0" lang="ar-SA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4572000" cy="9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عرفتَ بـأن قـد تعثَّـر دربـ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فجئتَ إليَّ تقودُ خُطــاي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تعــرفُ أني بحبَـــكَ رب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أهيمُ كصبِّ وفيكَ هــوا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ليسَ لدربــي ســواكَ رفيـقٌ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يا أللّــه يا أللـّــــ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46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4572000" cy="9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شجاني أنينُ اليتيــمِ يضيعُ بصخبِ الحياةِ ولا من يُجيب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رأيتُ عيونَ الشريدِ           تتيهُ وشمسُ المحبـةِ عنه تغيب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أشـــرِقْ علــيَّ بأنـــوارِ وجهــِـكَ يا أللّـه يا أللّـــ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4572000" cy="9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عرفتَ بـأن قـد تعثَّـر دربـ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فجئتَ إليَّ تقودُ خُطــاي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تعــرفُ أني بحبَـــكَ رب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أهيمُ كصبِّ وفيكَ هــوا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ليسَ لدربــي ســواكَ رفيـقٌ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يا أللّــه يا أللـّــــ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6101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4572000" cy="9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ذا غِبتَ عني شَردتُ     بذاتي غرقتُ بحزني دهاني الضجـــر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وإنْ كنتَ فيَّ حييتُ فـرحتُ نشــرتُ الطيـوبَ فَرشـتُ الزهــ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َطيــبُ الحيــاةُ تَطيــبُ بقربِــكَ يا أللّـــه يا أللّــــ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4572000" cy="9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عرفتَ بـأن قـد تعثَّـر دربـ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فجئتَ إليَّ تقودُ خُطــاي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تعــرفُ أني بحبَـــكَ ربـي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أهيمُ كصبِّ وفيكَ هــوا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وليسَ لدربــي ســواكَ رفيـقٌ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يا أللّــه يا أللـّــــ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09:52:26Z</dcterms:created>
  <dc:creator>SUZANNE.MD</dc:creator>
  <dc:description/>
  <dc:language>en-US</dc:language>
  <cp:lastModifiedBy>HANI SAFI</cp:lastModifiedBy>
  <dcterms:modified xsi:type="dcterms:W3CDTF">2003-03-14T12:20:41Z</dcterms:modified>
  <cp:revision>3</cp:revision>
  <dc:subject/>
  <dc:title>PowerPoint Presentation</dc:title>
</cp:coreProperties>
</file>