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863-AE17-4ADC-9BF2-E44084EB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CF7-9A3A-4A9E-A5B8-855C62E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427-3B76-4D00-AE65-43A8F4FE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C4-EB51-4EA9-9EBE-D8B3F593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75B-3B3D-49D2-8A05-BEA0628F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5F9-05F0-4C45-8356-746B1866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374-299C-4FCF-A948-D02FD0A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885-F329-4C12-9A9F-FE8F51E8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09A-76B3-44F0-B55C-6085483B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3BC-C889-490C-9AF5-F12560D8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3B0-F10A-4ECD-AE90-70A71EA2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41E-C3EE-4309-9A23-B4FF148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18B-E5BB-44B1-A70E-8D8B4DA42474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808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في ستر  دما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حَ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ْ فَدَانِي إِذْ قَضَى فَوْقَ الصَّلِيب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ْ وَجَدْتُ فِيكَ غُفْرَانَ ذُنُو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غَطَاءُ الْحُبِّ يَخْفِي لِي عُيُو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يَس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حَنَانِكَ تُكَفْكِفُ دُم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نْتَ تَحْمِينِي مِنَ الشَّرِّ الْمُرِيع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ثمَّ تَهْدِينِي إِلَى الْمَجْدِ الرَّفِيع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رَجَائ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فَعُ الرَّأْسَ بفَخْرٍ فِي السَّمَا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كْمُنُ فَرَحِي هُنَاكَ فِي الْعَلاَ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مَعَ الأَبْرَارِ أَشْدُو باِلثـَّنَاء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2T15:50:18Z</dcterms:modified>
  <cp:revision>23</cp:revision>
  <dc:subject/>
  <dc:title>Slide 1</dc:title>
</cp:coreProperties>
</file>