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9691-A7C7-46C3-AFBD-58DFE41B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C8C8-03B7-4661-978D-1D0AD7C3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C9BD-4CA0-465F-8B11-CEACBA69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E92E-03FB-4EF1-90FB-90FA92F1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1AEE-D42E-4F35-ADE0-846EE0DC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7C12-C950-4626-B3C6-23901633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E427-0837-445F-9DD5-1D9713F8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F89-802A-4794-B292-5D19B180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6E18-DE55-4E02-80FC-C71F3D80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D8F-CF67-4031-ADF7-9FEB59CF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9822-C07C-45E1-A334-77CEECF1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E96-E18D-4374-89D8-284290B5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97DD-CBF9-4109-B8E8-4780E9C8A4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4723920"/>
            <a:ext cx="521964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Arial"/>
                <a:cs typeface="????Boutros Rokaa"/>
              </a:rPr>
              <a:t>يا من تعمّدت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19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ن تعمّدت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ماء الأرد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مّدنا بالرو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قدس والنا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56000" y="0"/>
            <a:ext cx="4788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إذا تصلّب قلبي، تعال إليّ بعصف من الأناشيد .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0"/>
            <a:ext cx="471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وإذا أعمت الشهوة عقلي بالوهم والغبا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تعال إليّ</a:t>
            </a:r>
            <a:br>
              <a:rPr sz="8800"/>
            </a:b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أيّها الساهر، بالبرق والرعود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19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ن تعمّدت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ماء الأرد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مّدنا بالرو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قدس والنا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005360"/>
            <a:ext cx="9144000" cy="28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Arial"/>
                <a:cs typeface="Akhbar MT"/>
              </a:rPr>
              <a:t>عطاياكَ لا متناهية</a:t>
            </a:r>
            <a:br>
              <a:rPr sz="8000"/>
            </a:br>
            <a:r>
              <a:rPr b="1" lang="ar-SA" sz="8000" spc="-1" strike="noStrike">
                <a:solidFill>
                  <a:srgbClr val="ffcc00"/>
                </a:solidFill>
                <a:latin typeface="Arial"/>
                <a:cs typeface="Akhbar MT"/>
              </a:rPr>
              <a:t>ويدايَ صغيرتان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22100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Arial"/>
                <a:cs typeface="Akhbar MT"/>
              </a:rPr>
              <a:t>أسكبْ، فسوفَ تفنى الأجيال،</a:t>
            </a:r>
            <a:br>
              <a:rPr sz="8000"/>
            </a:br>
            <a:r>
              <a:rPr b="1" lang="ar-SA" sz="8000" spc="-1" strike="noStrike">
                <a:solidFill>
                  <a:srgbClr val="ffcc00"/>
                </a:solidFill>
                <a:latin typeface="Arial"/>
                <a:cs typeface="Akhbar MT"/>
              </a:rPr>
              <a:t>ويبقى في يديَّ فرا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19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من تعمّدت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ماء الأرد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مّدنا بالرو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قدس والنا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20:20:54Z</dcterms:created>
  <dc:creator>Charbel Azar</dc:creator>
  <dc:description/>
  <dc:language>en-US</dc:language>
  <cp:lastModifiedBy>-</cp:lastModifiedBy>
  <dcterms:modified xsi:type="dcterms:W3CDTF">2003-01-06T16:33:39Z</dcterms:modified>
  <cp:revision>3</cp:revision>
  <dc:subject/>
  <dc:title>يا من تعمّدت في ماء الأردن عمّدنا بالروح القدس والنار</dc:title>
</cp:coreProperties>
</file>