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1F9A-FE5D-41CB-B06B-67AE40FA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699-FC88-4F86-B81F-E7BDCC4A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5B1-A857-46AF-8E1F-481F502F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787-1051-4E82-A3C4-11702D0A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593-6116-4239-BD7C-BA4CB442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191-51A5-4F66-86EA-B9A001AB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799-BB17-413A-A81D-97E580C3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99B-9E8D-4E3D-B46E-F39CE66A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2AE-4387-42A9-8132-26DEE5B3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E55-E474-4B99-829A-7676D5EB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7EE-976B-4754-BD6A-6B59F26C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3CA-38F6-46CA-93D4-7F497823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17B0-2961-4454-A2A3-A6F20EF95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00800" y="0"/>
            <a:ext cx="27432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تبعني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ذ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ى الأمـ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بلا ارتـخ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لا تـلتـفـِت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لى الو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00800" y="0"/>
            <a:ext cx="27432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لـق العـز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لـقَ السّـُرور والهنـ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ـلَّ الطـر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لَكَ دوما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َفيـ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00800" y="0"/>
            <a:ext cx="2743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ـُن أمـينـا للممات   تنــل إكليـلَ الحيـاةْ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16T14:52:37Z</dcterms:modified>
  <cp:revision>8</cp:revision>
  <dc:subject/>
  <dc:title>PowerPoint Presentation</dc:title>
</cp:coreProperties>
</file>