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FC17-1533-4A68-BC68-0534D8865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59B3-C872-420B-90B7-DB97D1ED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0266-0E4E-42F8-9F77-CFD547394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6D95-5AC4-4914-A7D4-A7BE934BF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C028-F1D0-4135-8AA5-02E16179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C857-657A-49CA-972C-B69713A9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1D5D-92FF-4BC1-B44E-DBA033EC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DADC-69E2-491F-838E-5F456FB3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2CFD-F0B8-42F8-ADE0-1AEF6540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2FFE-A6DD-4863-A8EA-5B95F350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8304-DB04-4A39-A0A5-ACEFA644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F685-9686-4F84-A34C-AF843D6F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9569-988F-43B5-9DAA-23E209146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52560" y="2238480"/>
            <a:ext cx="363888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05200" y="2138400"/>
            <a:ext cx="333360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07:47:00Z</dcterms:created>
  <dc:creator>SUZANNE.MD</dc:creator>
  <dc:description/>
  <dc:language>en-US</dc:language>
  <cp:lastModifiedBy>HANI SAFI</cp:lastModifiedBy>
  <dcterms:modified xsi:type="dcterms:W3CDTF">2003-04-16T13:11:01Z</dcterms:modified>
  <cp:revision>2</cp:revision>
  <dc:subject/>
  <dc:title>PowerPoint Presentation</dc:title>
</cp:coreProperties>
</file>