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A774-28F0-4129-94F2-35758F4A4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AFB3-6549-4F78-9450-7B51C3F3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6504-0CA8-4DB3-A317-271C379C7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7A51-728A-41B8-B813-AC1C6AC33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CE5F-055B-4F08-B793-EEBE5FDD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7873-23B5-40AE-86A7-E32F8E9F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E438-B4B6-4BF7-A9DC-CCFA4523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12A4-2FFF-43FA-94BA-ECE5D773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EC68-5F03-4C24-9541-12EB8148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8946-DCD9-4789-BE2D-F0871BF3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87D9-B29C-4635-B951-7CA82180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998C-C56B-40AB-9204-B8164E4E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DD94-5344-4E5D-812E-979D82B42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20040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4114800" cy="110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بِسرّ قيامة  المسيح ربِنا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	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نستمدّ الغفرا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ونهتف مبارك مَن بصلبه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أعـتـقـنا من الطغيا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اله قدوس قدوس  قدوس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متعظم رحمـا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00360" y="0"/>
            <a:ext cx="55436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3352680" cy="9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معظم تذكار   أمّه مريم        سيّدة  الأكوا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ومكرّم ذكر جميع القديسين وشعبه بني  الإيما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هللويـ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09:33:28Z</dcterms:created>
  <dc:creator>SUZANNE.MD</dc:creator>
  <dc:description/>
  <dc:language>en-US</dc:language>
  <cp:lastModifiedBy>HANI SAFI</cp:lastModifiedBy>
  <dcterms:modified xsi:type="dcterms:W3CDTF">2003-04-16T13:53:06Z</dcterms:modified>
  <cp:revision>1</cp:revision>
  <dc:subject/>
  <dc:title>PowerPoint Presentation</dc:title>
</cp:coreProperties>
</file>