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EEA7-4B7C-492C-9E2D-A4F34DF1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7E20-6A4B-4B4F-90A0-C06D5BF0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D18C-CF0E-423E-B299-53B3D4A8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338A-50B3-4F01-8B9B-C1AE9294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DB5D-D0B7-488C-8E4B-40EF9E9D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9790-0ECE-454D-8713-9D73B6F8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40D5-B927-49FE-A466-4FCCDE05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6BDA-8178-4CE6-A01B-601DC600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D081-CC50-4EC8-A228-9D2A4141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C95A-A7CA-49FF-86AD-A26348D8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8299-8764-4BF7-BEE6-4BEAAFD0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3F8F-B3F8-4B95-886D-4D66EF04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E935-4B88-496D-855F-6468F667C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4924715GRMuZrvGAj_ph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304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0"/>
            <a:ext cx="3886200" cy="10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abic Transparent"/>
                <a:cs typeface="Times New Roman (Arabic)"/>
              </a:rPr>
              <a:t>كنت أبي وأنا ما زلتُ في فكركَ - أنتَ أبي حين أوجدتني</a:t>
            </a:r>
            <a:r>
              <a:rPr b="1" lang="en-US" sz="3800" spc="-1" strike="noStrike">
                <a:solidFill>
                  <a:srgbClr val="ffffff"/>
                </a:solidFill>
                <a:latin typeface="Arabic Transparent"/>
                <a:ea typeface="Times New Roman (Arabic)"/>
              </a:rPr>
              <a:t> </a:t>
            </a:r>
            <a:r>
              <a:rPr b="1" lang="ar-SA" sz="3800" spc="-1" strike="noStrike">
                <a:solidFill>
                  <a:srgbClr val="ffffff"/>
                </a:solidFill>
                <a:latin typeface="Arabic Transparent"/>
                <a:cs typeface="Times New Roman (Arabic)"/>
              </a:rPr>
              <a:t>حيـن ولدتني لحياتـكَ  وســتبقى أبي إلى الأبــدِ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abic Transparent"/>
                <a:ea typeface="Times New Roman (Arabic)"/>
              </a:rPr>
              <a:t> أريدُك وحدَك علمني         كيف أحيا وأعيشُ معَ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abic Transparent"/>
                <a:cs typeface="Times New Roman (Arabic)"/>
              </a:rPr>
              <a:t>زدني معرفةً بك إني         أحبُك وأنا دومــاً ل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abic Transparent"/>
                <a:cs typeface="Times New Roman (Arabic)"/>
              </a:rPr>
              <a:t>أُحبُّكَ وأنا دوما ل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513590NCRDtitzaP_ph" descr=""/>
          <p:cNvPicPr/>
          <p:nvPr/>
        </p:nvPicPr>
        <p:blipFill>
          <a:blip r:embed="rId1"/>
          <a:stretch/>
        </p:blipFill>
        <p:spPr>
          <a:xfrm>
            <a:off x="0" y="0"/>
            <a:ext cx="49640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05120" y="0"/>
            <a:ext cx="723888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تعلَمُ َُضعفي وجراحي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تعرف قلبي وأفكار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رغبُ أن أحياك بكلِّ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ياني بروحي وإحسا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سامح عدمَ إخلاصي</a:t>
            </a:r>
            <a:r>
              <a:rPr b="0" lang="ar-S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نت أبي وأنا ما زلتُ في فكركَ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نتَ أبي حين أوجدت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يـن ولدتني لحياتـكَ  وســتبقى أبي إلى الأبــدِ</a:t>
            </a:r>
            <a:r>
              <a:rPr b="0" lang="ar-S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29370043fipmPeKXZd_ph" descr=""/>
          <p:cNvPicPr/>
          <p:nvPr/>
        </p:nvPicPr>
        <p:blipFill>
          <a:blip r:embed="rId2"/>
          <a:stretch/>
        </p:blipFill>
        <p:spPr>
          <a:xfrm>
            <a:off x="4038480" y="0"/>
            <a:ext cx="8001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4343400" cy="10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دمُكَ ينضحُني فأطهُر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تشفيني نفساً وجسد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نا في قلب العالمِ مُتعَب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هب أن أُصبحَ كُلّي ل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المجدُ والحمدُ لكَ</a:t>
            </a:r>
            <a:r>
              <a:rPr b="0" lang="ar-S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نت أبي وأنا ما زلتُ في فكركَ - أنتَ أبي حين أوجدتني 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يـن ولدتني لحياتـكَ  وســتبقى أبي إلى الأبــدِ</a:t>
            </a:r>
            <a:r>
              <a:rPr b="0" lang="ar-S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870792SCABvVcdSc_ph" descr=""/>
          <p:cNvPicPr/>
          <p:nvPr/>
        </p:nvPicPr>
        <p:blipFill>
          <a:blip r:embed="rId1"/>
          <a:stretch/>
        </p:blipFill>
        <p:spPr>
          <a:xfrm>
            <a:off x="-104760" y="0"/>
            <a:ext cx="4753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24280" y="0"/>
            <a:ext cx="4419720" cy="11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حبيبيَ خُذ قلبيَ منّي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ُذ روحي وجسدي وتعال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روحَ الحبِّ هلمّ الآن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نوّرني حرّرنــي تعا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ربّي يسوعَ تعال</a:t>
            </a:r>
            <a:r>
              <a:rPr b="0" lang="ar-S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نت أبي وأنا ما زلتُ في فكركَ -أنتَ أبي حين أوجدتني-حيـن ولدتني لحياتـكَ  وســتبقى أبي إلى الأبــد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34:51Z</dcterms:created>
  <dc:creator>USER</dc:creator>
  <dc:description/>
  <dc:language>en-US</dc:language>
  <cp:lastModifiedBy>USER</cp:lastModifiedBy>
  <dcterms:modified xsi:type="dcterms:W3CDTF">2002-11-25T15:39:45Z</dcterms:modified>
  <cp:revision>5</cp:revision>
  <dc:subject/>
  <dc:title>PowerPoint Presentation</dc:title>
</cp:coreProperties>
</file>