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C77-236D-4E7C-A83A-AB642AB7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E66-4EA5-42E8-982B-2969FC40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D38-367E-40B8-9F4B-56570231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7AB-0149-4A4C-B8E8-C78DC335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8220-EC6A-4326-ABA6-2C7F601A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782-D916-4683-9669-E87D3CDD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91A-60BF-4682-988A-222EEA69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6959-E474-4E27-B4BB-E3A1E229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AEA-BD06-4D78-853E-3ABAD55C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A19-D232-4BE3-B7AE-9A4EA735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01B-41C5-45E3-BF6B-DA8A902B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FF7-0EF6-4681-A792-E7B22741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4185-B901-47E3-84C0-6DB31998F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ble2" descr=""/>
          <p:cNvPicPr/>
          <p:nvPr/>
        </p:nvPicPr>
        <p:blipFill>
          <a:blip r:embed="rId1"/>
          <a:stretch/>
        </p:blipFill>
        <p:spPr>
          <a:xfrm>
            <a:off x="914400" y="17640"/>
            <a:ext cx="7315200" cy="6821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8975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كلمتك مصباح لخطا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ونور لسبيل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من كان من الله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سمع كلام الل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إذا ثبتم بكلامي صرتم حقا تلاميذ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 السماء و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تزولان وكلامي لا يزول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31:35Z</dcterms:modified>
  <cp:revision>4</cp:revision>
  <dc:subject/>
  <dc:title>PowerPoint Presentation</dc:title>
</cp:coreProperties>
</file>