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24F-2452-4354-9335-0A2AF468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979-7F9A-4607-9E7A-932D2168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429-F308-48EF-AEBF-0D46FB1C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14E-29EC-453F-BAB1-0AD7D879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D30-9D28-4E56-9B26-7664F860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153-909B-4F88-BDD6-6946C955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37F-708D-4164-B16B-5B87707D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0A0-CB52-4167-A45E-C0B42316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5AB-C9B5-4B3A-A43C-F987C29F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08A-E0D4-458C-B14F-0FBBA92C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A0C-AE1B-467D-938A-CDD834E0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126-6056-47AB-9EEA-4290860F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AB42-C25C-4BAC-8A48-AF715E24A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3480" y="0"/>
            <a:ext cx="506268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29200" y="0"/>
            <a:ext cx="4114800" cy="86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موضعك المقدس  شاهدتك حتى أعاين بهاء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أطيب من الحياة رحمتك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ياك تسبح شفتا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اشتاق، اشتاق جسدي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ظمئت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أرض قاحلة يابسة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لا ماء في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0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19720" y="0"/>
            <a:ext cx="4724280" cy="86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ني أحمدك مدى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وباسمك أرفع 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إني أرنم لك مبتهج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أهلل في ظل جناح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اشتاق، اشتاق جس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ظمئت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أرض قاحلة يابس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لا ماء في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99160" y="228600"/>
            <a:ext cx="9923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أذكرك على فراشي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لأنك كنت عوناً ل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ترفعني يمينك تسند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تتعلق نفسي في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HANI SAFI</cp:lastModifiedBy>
  <dcterms:modified xsi:type="dcterms:W3CDTF">2003-04-11T06:49:53Z</dcterms:modified>
  <cp:revision>3</cp:revision>
  <dc:subject/>
  <dc:title>PowerPoint Presentation</dc:title>
</cp:coreProperties>
</file>