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79A-4DBA-4F1E-AA4B-2C83400F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CE9-5713-488A-B07C-6031F687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AFB-EAC9-495A-8819-30B7C8C3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1EC-EF90-4661-A617-53224CA7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A9B-328C-4D59-872C-2DB807BB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977-6813-4D73-BD24-4CB34C2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608-8ECD-4605-AA17-243F0FDB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E32-A6A6-409A-B76E-63ED032B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EA0-C54F-43CD-B39F-852AC11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FCB-182D-4BA4-84E0-677BBFA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C23-FB00-41BB-8F44-870CFE1C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952-D962-4E50-8B3E-86B135B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F7B0-B58D-47C7-8086-B085F48D7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968075CjKGRKnhq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بحُ اسمَك ليلاً و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أنتَ إلهنا قدّوسٌ و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حمدُ اسمَ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ونُعَلّي شخصَ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جُدُ 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49:09Z</dcterms:created>
  <dc:creator>USER</dc:creator>
  <dc:description/>
  <dc:language>en-US</dc:language>
  <cp:lastModifiedBy>USER</cp:lastModifiedBy>
  <dcterms:modified xsi:type="dcterms:W3CDTF">2003-01-18T09:18:53Z</dcterms:modified>
  <cp:revision>3</cp:revision>
  <dc:subject/>
  <dc:title>PowerPoint Presentation</dc:title>
</cp:coreProperties>
</file>