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29D7-9276-479B-8074-B70ABF765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537D-F800-4248-9441-B7076C5AE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09FF-C68D-4672-B5A9-CF4BBD7F7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96EB-D518-4F48-BA8E-BAE0F48F7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3DA2-EBB2-4F92-956B-C196A9A2D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00EB-23AF-4C4D-93B3-3C1D18389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D69E-CE81-4AB3-B960-B709795A6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AB2F-1CB6-4289-88A8-559B4AA88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47B0-DC2C-40AB-B403-5D88E2D05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36D5-0CFD-4C1B-B8FF-8E7561CCF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3037-3422-416E-97EE-C8267D009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FDB6-B22D-41D4-9099-C12E186C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62D47-DD8B-423A-B5F3-82AF1B08A3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007980dqEPmGhUzS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315200" y="380880"/>
            <a:ext cx="1600200" cy="97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طيبتك تسمو الحيا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طيبتك تسمو الحيا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شفتاي تُنشدُ تسبيحك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228600"/>
            <a:ext cx="1523880" cy="85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ويداي تُرفع إلي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شفتايَ تُنشِدُ تسبيح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ويداي ترفع إليك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2T06:43:17Z</dcterms:created>
  <dc:creator>SUZANNE.MD</dc:creator>
  <dc:description/>
  <dc:language>en-US</dc:language>
  <cp:lastModifiedBy>SUZANNE.MD</cp:lastModifiedBy>
  <dcterms:modified xsi:type="dcterms:W3CDTF">2002-12-12T07:32:54Z</dcterms:modified>
  <cp:revision>1</cp:revision>
  <dc:subject/>
  <dc:title>PowerPoint Presentation</dc:title>
</cp:coreProperties>
</file>