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924-BEE7-4B17-9DF9-949BF01A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91F-E818-4925-8D33-E9FDCE0E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881-6F45-4426-BF8C-67998A0A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59B-770F-45CE-9609-EDABACF2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381-BF8E-48AF-931D-ABA45182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2DC-1267-4FBE-A06E-DD8ABF40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C88-63ED-4C75-9EC7-02008A47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37F-6ADD-40C2-9F91-7A95658D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6D7-2776-43E6-9E07-8C4232CE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AE5-D3DB-45EF-A92D-DBBEB2F3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3F2-8D00-4284-8193-B6807573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A78-3DB2-4975-ACE4-20C5CAF7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5411-4B75-46FF-ABDB-763067297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340044ekIzaANufR_ph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495680" cy="78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 شئتَ حياتي فبينَ يد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 شئتَ أشواقي فهيَ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إني لستُ أطلبُ شيئا من لد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غيرَ حبِّك الأمينِ والسعيِ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ذه هي طَلبتي، هذي منيت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استجبني يا 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pmass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4572000" cy="88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شفني وقُتني بخبزِ السماء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ما اعتراني جوعٌ أو ظمأ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جعل في فؤادي حبَّ الانتماء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تأني في سبيل حفظ ود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ذا أخطأتُ هبني الندما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عزاءَ يا إله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215561trgpRaNsdy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572000"/>
            <a:ext cx="883908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ذا ما ضعفتُ أنتَ قوتي إذا ما حزنتُ أنتَ سلو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نك القديرُ شدِّد همَّتي لبناءِ الملكوت ما بينَ الأن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وَسطِ الصعابِ أُذكر عَهْدَكَ </a:t>
            </a:r>
            <a:r>
              <a:rPr b="1" lang="ar-SA" sz="3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انتشلني يا 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6:47:03Z</dcterms:created>
  <dc:creator>SUZANNE.MD</dc:creator>
  <dc:description/>
  <dc:language>en-US</dc:language>
  <cp:lastModifiedBy>USER</cp:lastModifiedBy>
  <dcterms:modified xsi:type="dcterms:W3CDTF">2002-12-12T16:00:54Z</dcterms:modified>
  <cp:revision>1</cp:revision>
  <dc:subject/>
  <dc:title>PowerPoint Presentation</dc:title>
</cp:coreProperties>
</file>