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2D1-2589-4A50-AA37-A7486A69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26F-9DBA-466D-953B-FCA28D87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A21-ED7A-4F7E-B8C4-38F4116F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7A9-A2CD-46A2-8587-4F74693A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97E-591F-454D-A695-22A9138C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440-668D-435B-AEF1-633B9645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F3C-399C-4C4D-A093-F1658901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E35-EBC6-40C6-AA07-B1FE437C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AE1-EB9E-4ECA-B9CC-E510F219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EBD-FB84-4DCD-9551-984B6DEB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5DA-7B86-4384-A3C4-19836014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642-9901-41D3-94C0-905D7D3B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85D1-2749-4746-8416-5A8DA15C7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080" y="3240"/>
            <a:ext cx="4834080" cy="9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لحمدُ والشكرا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مجدُ والسلطان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القُدرة لإلهنا لا لا  لا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لهُ الحكمة والقُوَّة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والعزُّ والاجلالْ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إلى أبدِ الآبدين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         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حمدُ والشكر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مجدُ والسلطان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والقدرة لإلهن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                   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مُستَحِقٌ أن يَنَال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كُلَّ حُبٍّ وإكرامْ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الجالِسْ عَلى عَرْشِ السَماو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ت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935640" y="3240"/>
            <a:ext cx="55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طوبى للذي يحفظْ وصايَا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عتصِمُ في ظِلِّ جَنَاحي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    يُثمِرُ بالبِرِّ والقَدَاسة</a:t>
            </a: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ويَفْرحْ في ملكوتِكَ  لا  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3720"/>
            <a:ext cx="421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طوبى للذيِنَ يتَّقون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َبْرَحونَ يسبِّحونكَ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لا يجوعونَ لا يعطشون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ِنْ نبعِ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حياةِ يرتوون  لالا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923400" y="4816440"/>
            <a:ext cx="57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ى للَّذي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تَواْ مِنَ الضيق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ُلوِّحو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َ أغصانَ النخيلِ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ِدَمِ الحَمَلِ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َسَلُوا حُلَلَهُ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يَحُلُّ فوقهُم  لا  لا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ل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13:43Z</dcterms:modified>
  <cp:revision>5</cp:revision>
  <dc:subject/>
  <dc:title>PowerPoint Presentation</dc:title>
</cp:coreProperties>
</file>