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CE7-8737-4AD2-80F3-DB3C5E88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C7A-2585-452D-AFAD-E4688343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C02-C265-4B51-93A5-9424C7E3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46E-7CE2-4036-91C6-5715ED8C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266-D115-4082-AA76-48FC0663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58D-089E-452C-ACDB-A5064139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BD3-8243-4E25-A6B2-7611FA02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757-C93C-4072-9A5B-243B4B25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9FA-7D1A-4DF4-9CDE-51F619C9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3063-4000-47AE-9B04-76ACD72B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0E6-7850-4B4C-BD92-7F8DFCA7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2C9-D2CD-4621-8CAB-D9BBD1DC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C45C-107C-4FB3-B547-CB59E6404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1655017uXcjBcRsbi_ph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77120" y="4114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 الراعي الصالحَ يبذُلُ نفسَهُ في سبيل الخرا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457200"/>
            <a:ext cx="1600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راعي الصالحَ يبذُلُ نفسَهُ في سبيل الخراف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5215564EUYNjVXDay_ph" descr=""/>
          <p:cNvPicPr/>
          <p:nvPr/>
        </p:nvPicPr>
        <p:blipFill>
          <a:blip r:embed="rId1"/>
          <a:stretch/>
        </p:blipFill>
        <p:spPr>
          <a:xfrm>
            <a:off x="0" y="0"/>
            <a:ext cx="64864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0" y="457200"/>
            <a:ext cx="1981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راعي الصالح تسمعُ صوتَهُ جميع رعيت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811b" descr=""/>
          <p:cNvPicPr/>
          <p:nvPr/>
        </p:nvPicPr>
        <p:blipFill>
          <a:blip r:embed="rId1"/>
          <a:stretch/>
        </p:blipFill>
        <p:spPr>
          <a:xfrm>
            <a:off x="0" y="0"/>
            <a:ext cx="71690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15200" y="304920"/>
            <a:ext cx="1523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آب يحبك لأنك تبذُلُ نفسك في سبيلِ خِرافِكَ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0:51:53Z</dcterms:created>
  <dc:creator>USER</dc:creator>
  <dc:description/>
  <dc:language>en-US</dc:language>
  <cp:lastModifiedBy>USER</cp:lastModifiedBy>
  <dcterms:modified xsi:type="dcterms:W3CDTF">2002-11-28T20:53:21Z</dcterms:modified>
  <cp:revision>1</cp:revision>
  <dc:subject/>
  <dc:title>PowerPoint Presentation</dc:title>
</cp:coreProperties>
</file>