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1DA-224A-42E0-8B3B-047F6AD1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8F5-2A35-4718-A890-2DA97BE1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9B8-7B7A-483D-A9B1-6FCCBE14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1C9-4A7B-4AE3-9135-58962BFD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FB4-29A6-467C-9EDD-CA2E66C6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08A-4AC5-4447-8A0B-43EBD8BE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923-1853-476D-A574-8CEB9090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65D-46FC-4FAD-8387-2F84C71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8E6-9CA5-4798-9A0F-50744840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B2A-3639-487A-ABD2-0997072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1BA-AD44-44F9-A333-DB3D120D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8B8-A7FA-456A-BBCD-0EE78F9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E95-8E22-41E8-97E4-6AD054B5D7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5796000" y="1125360"/>
            <a:ext cx="295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عطيني أول قرب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روحي لعطفك جوع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هيدا عيدي وأنا اليوم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بلشت بعمري التاني</a:t>
            </a:r>
            <a:r>
              <a:rPr b="1" i="1" lang="ar-SA" sz="3600" spc="-1" strike="noStrike">
                <a:solidFill>
                  <a:srgbClr val="b2b2b2"/>
                </a:solidFill>
                <a:latin typeface="Vladimir Scrip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1T17:59:43Z</dcterms:modified>
  <cp:revision>17</cp:revision>
  <dc:subject/>
  <dc:title>PowerPoint Presentation</dc:title>
</cp:coreProperties>
</file>