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A10-E89F-467E-8C65-4AC8A8A0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F14-7A68-4B4C-BDD0-697902B8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7C5-F1CD-4C96-9E69-E225BC74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20E-FFDF-47F3-BDA4-9A0A3A12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780-0706-41F0-B1A3-45CCE73B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FA3-DE0E-479B-B4F3-926FA9A5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A04-392E-49BC-AC28-DAD02F3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7D8-1A56-4380-A942-98A89C9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659-0514-4F56-A952-1C8B02A8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3BB-C69C-4E12-B1C4-81C5310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F3D-5FEA-42E2-A88A-2E2B32C2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C62-EBE0-4FB7-AA4B-3996CF2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15B4-E3A3-4419-8F68-C5C15B659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779157naqLxMiIal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697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85800"/>
            <a:ext cx="3352680" cy="75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ــا أبانــا الحق إبنُكَ المَذبوحْ قربانَ فِـ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قبَـــلْ مَـن ذاق ليبرِّرَنــا أهــوالَ  الرَد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92187KzkgEjNdws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ِقبَـلْ منـا هـذا القربـانْ واصفَح عَنـ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نـسَ خطايــا ضِـدَ جَلالـَـك صدرَت م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684030QzQKrpGfyW_ph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7432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ظرْ يا ربْ لِخطيئتِنا وذبيحتِ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ذبيحتُنـا أعلى جـداً مـن خطيئتِنــــ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3581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Simplified Arabic"/>
              </a:rPr>
              <a:t>دمُـهُ المُهــرَقْ فوقَ الجلجلــة  ليخلصَنـا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َضـرَعُ عنّـا فاسمَـعْ لأجلِـهِ</a:t>
            </a:r>
            <a:r>
              <a:rPr b="1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صوتَ صلاتِنــا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4031060nWgdwk_ph" descr=""/>
          <p:cNvPicPr/>
          <p:nvPr/>
        </p:nvPicPr>
        <p:blipFill>
          <a:blip r:embed="rId1"/>
          <a:stretch/>
        </p:blipFill>
        <p:spPr>
          <a:xfrm>
            <a:off x="384012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t11" descr=""/>
          <p:cNvPicPr/>
          <p:nvPr/>
        </p:nvPicPr>
        <p:blipFill>
          <a:blip r:embed="rId1"/>
          <a:stretch/>
        </p:blipFill>
        <p:spPr>
          <a:xfrm>
            <a:off x="388620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04920"/>
            <a:ext cx="327672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Simplified Arabic"/>
              </a:rPr>
              <a:t>ألمُ المساميـرْ جُـرحُ الحربـة قاسـى حبيبَك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cc"/>
                </a:solidFill>
                <a:latin typeface="Times New Roman"/>
                <a:cs typeface="Times New Roman"/>
              </a:rPr>
              <a:t>في آلامِـــهِ مـا يُحيينـــا ويُرضــي قلبَـ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33:13Z</dcterms:created>
  <dc:creator>SUZANNE.MD</dc:creator>
  <dc:description/>
  <dc:language>en-US</dc:language>
  <cp:lastModifiedBy>SUZANNE.MD</cp:lastModifiedBy>
  <dcterms:modified xsi:type="dcterms:W3CDTF">2003-03-10T06:59:55Z</dcterms:modified>
  <cp:revision>1</cp:revision>
  <dc:subject/>
  <dc:title>PowerPoint Presentation</dc:title>
</cp:coreProperties>
</file>