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60B-D78D-4828-9A83-EE2D0D8A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ABA-5039-4A74-A751-F934588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DC3-2BC1-431E-A373-DC92A9C9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D29-1E57-4C27-AAD7-A39B97BC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BC3-F6C8-4139-B9C4-152E364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4BF-A3F8-4F74-B552-AF4B0C0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2F3-9920-49B6-8B40-FE17119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CA8-353F-4847-AB7E-ECD8F1A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346-65FB-49BE-BEDD-18F800CA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F15-8F75-4FD4-A8F0-5BCF373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291-E7E1-4952-893A-F478AD9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EC0-3492-4146-9613-1CEAEFC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716-5B9A-4232-AC00-0BCD8B202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23920"/>
            <a:ext cx="5219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ن تعمّد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إذا تصلّب قلبي، تعال إليّ بعصف من الأناشيد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وإذا أعمت الشهوة عقلي بالوهم والغبا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تعال إليّ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يّها الساهر، بالبرق والرعود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عطاياكَ لا متناهية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دايَ صغيرتان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أسكبْ، فسوفَ تفنى الأجيال،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بقى في يديَّ فرا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20:20:54Z</dcterms:created>
  <dc:creator>Charbel Azar</dc:creator>
  <dc:description/>
  <dc:language>en-US</dc:language>
  <cp:lastModifiedBy>-</cp:lastModifiedBy>
  <dcterms:modified xsi:type="dcterms:W3CDTF">2003-01-06T16:33:39Z</dcterms:modified>
  <cp:revision>3</cp:revision>
  <dc:subject/>
  <dc:title>يا من تعمّدت في ماء الأردن عمّدنا بالروح القدس والنار</dc:title>
</cp:coreProperties>
</file>