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0352-73EB-4D4B-B99A-D13AC1C5D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C119-A9D9-48A4-B22C-8B61DA5D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0D2B-4E24-4BA8-B884-BA5ED22F6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8B8C-2775-43C2-AFD1-039A3609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F23D-97B7-4B84-B71B-3E9BC326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0392-FE1F-4990-A896-C0DE0D7A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7315-64A7-46E9-A17A-7E8DC238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AF28-BE80-4254-B4A1-0B56370F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33BB-056B-4AF4-AE03-4306B995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4741-5CED-49CB-B0C2-2372004D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AD23-1C29-4F16-819F-49174D97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C6F0-5DB8-4803-AF91-A45A2592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2D71-AC4B-47F4-90D9-6E600F227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P023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AP0235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AP0236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AP0237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1T03:03:45Z</dcterms:created>
  <dc:creator>USER</dc:creator>
  <dc:description/>
  <dc:language>en-US</dc:language>
  <cp:lastModifiedBy>USER</cp:lastModifiedBy>
  <dcterms:modified xsi:type="dcterms:W3CDTF">2002-11-01T03:05:55Z</dcterms:modified>
  <cp:revision>1</cp:revision>
  <dc:subject/>
  <dc:title>PowerPoint Presentation</dc:title>
</cp:coreProperties>
</file>