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729-E3B4-429F-A8BC-01ED883B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853-DD50-44BC-8B24-D242CC9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ACE-7647-482D-934F-921978E6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C76-7D5B-461C-A433-8FA80475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B4B-FEBE-45AB-8B7E-FC86CBC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6CB-3457-4105-92EF-FAE0EBC8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B94-66EE-46EF-AB4C-F543BEE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231-23DB-44F5-A16C-66AD5CC4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02D-CF55-4628-8DCC-477113AF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BFB-442C-4665-AE1A-63D461B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6B0-6064-47A2-8FF0-62BCB13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AFF-A202-470F-86FD-9F5540B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A9C-5BEE-4D0E-B2C7-CECB7346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380880"/>
            <a:ext cx="731520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ي العشاء السري رسمتُ القرب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 الدم والخمر خلصتُ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5886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90720"/>
            <a:ext cx="304812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ثقبوا يديَّ أسقوني الآل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ن وهجِ عيني وزّعتُ السلام</a:t>
            </a:r>
            <a:r>
              <a:rPr b="0" lang="en-US" sz="5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11480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اً سالَ جنبي كالحملِ المذبو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عذاب الصلبِ قد اسلمتُ الرو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52:11Z</dcterms:created>
  <dc:creator>SUZANNE.MD</dc:creator>
  <dc:description/>
  <dc:language>en-US</dc:language>
  <cp:lastModifiedBy>HANI SAFI</cp:lastModifiedBy>
  <dcterms:modified xsi:type="dcterms:W3CDTF">2003-04-16T13:44:52Z</dcterms:modified>
  <cp:revision>2</cp:revision>
  <dc:subject/>
  <dc:title>PowerPoint Presentation</dc:title>
</cp:coreProperties>
</file>