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EEC-41CB-41DF-BAB2-DB8007F4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E51-A73B-4BBE-B321-952784A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9E9-7DFA-4963-B090-D834EBE6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F9A-4ADE-4B39-AEF5-9EB69E5A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5FC-8270-4756-A0F0-22EA8FDA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3D0-BF80-48FA-A13F-721C19B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69B9-7787-43E4-BC1D-B7A7B5A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6F37-6491-4789-9365-10F05DC4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85C5-522F-456E-A063-4173407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5CA1-D14D-4466-982A-0DFD62A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97F5-9DFA-4A09-ABD1-25FAA60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F41-F463-4572-A465-FE0DF06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DA43-316D-4B49-BC9F-BA48EAC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41C-9F78-4EA3-95FE-414A9C5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C83B-09C6-4507-95E8-66C094D0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6BE3-CDFB-47FB-ABB2-C458A719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9F34-EDD6-4C4B-BD7F-E1DE2AA1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95A-309E-467B-85F2-B4048FEF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690-3752-4DA8-991A-6DAE503E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11F-4103-4638-8DF2-0988CEFD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E03-53D7-466C-84DD-60356F14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202-DB6C-42D5-9558-39C7AD3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CDB-8107-4B95-9F73-5404484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9D8-12F0-4A74-A837-F712EE17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F61-306C-43D3-B474-5941864605D5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CA96-A87B-4B14-AA92-7729EBB9F174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لا مثل لك يا إلهي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رَعْتُ بَابَكَ بفَرَحٍ فَتَح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َلَبْتُ السَّعَادَة بوَفْرَةٍ مَنَح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َّمْتُ لَكَ ذَاتِي بحُنُوٍّ قَبل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عْرِفْنِي أَحَدٌ مِثلَمَا عَرَف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مُرْنِي أَحَدٌ مِثلَمَا غَمَر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فِرْ لِي أَحَدٌ مِثلَمَا غَفَر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بُعْدِي عَنْكَ غَرِقْتُ في خَطِيئ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سْرَعْتَ إِلَيَّ تَبعْتَ خُطُو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َيْتَنِي حُبَّكَ أَنْعَشْتَ حَي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8T17:06:00Z</dcterms:modified>
  <cp:revision>25</cp:revision>
  <dc:subject/>
  <dc:title>Slide 1</dc:title>
</cp:coreProperties>
</file>