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815-9B12-4071-9C50-389DACCD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C8A-7A66-4815-A624-FEC27456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1EE-B97A-4D4C-B460-7CE8B0DB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E87-3C7F-4C79-9A05-894454C1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589-5D7C-412D-8CC6-2117EA49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43A-68F2-4B9B-93DD-1BC55293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2A6-A7BD-4003-B177-0140C44A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5D3-B3F5-4477-8A68-331B7A73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DE0-02CD-4241-8359-3EA8D2E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985-90A4-4E28-BD58-D385AAE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65F-2512-4CAB-B747-45E75FD5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9EF-345E-4A76-9EF9-6893B58F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2CC1-7A9C-4F5A-828A-C0925BACC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40044ekIzaANufR_ph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49568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حياتي فبينَ ي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أشواقي فهيَ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ي لستُ أطلبُ شيئا من ل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غيرَ حبِّك الأمينِ والسعيِ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ه هي طَلبتي، هذي مني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استجب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pmass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4572000" cy="88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شفني وقُتني بخبزِ الس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ا اعتراني جوعٌ أو ظمأ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جعل في فؤادي حبَّ الانت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تأني في سبيل حفظ ود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ذا أخطأتُ هبني الندم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عزاءَ يا إل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215561trgpRaNsdy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572000"/>
            <a:ext cx="883908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ا ما ضعفتُ أنتَ قوتي إذا ما حزنتُ أنتَ سل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ك القديرُ شدِّد همَّتي لبناءِ الملكوت ما بينَ الأن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َسطِ الصعابِ أُذكر عَهْدَكَ 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انتشل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7:03Z</dcterms:created>
  <dc:creator>SUZANNE.MD</dc:creator>
  <dc:description/>
  <dc:language>en-US</dc:language>
  <cp:lastModifiedBy>USER</cp:lastModifiedBy>
  <dcterms:modified xsi:type="dcterms:W3CDTF">2002-12-12T16:00:54Z</dcterms:modified>
  <cp:revision>1</cp:revision>
  <dc:subject/>
  <dc:title>PowerPoint Presentation</dc:title>
</cp:coreProperties>
</file>