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7.jpeg" ContentType="image/jpeg"/>
  <Override PartName="/ppt/media/image3.jpeg" ContentType="image/jpeg"/>
  <Override PartName="/ppt/media/image4.gif" ContentType="image/gif"/>
  <Override PartName="/ppt/media/image5.gif" ContentType="image/gif"/>
  <Override PartName="/ppt/media/image6.gif" ContentType="image/gif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5560-88D5-4030-A932-8A7C2070D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054C-C9BE-418F-A507-4654F377C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CB02-49C1-438E-A345-190B0A8AF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5FC2-FBF4-48E4-AC0F-2B1475388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B7BC-8214-45BA-BAAF-1670D8B05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D536-8E91-4FB0-BC42-C64C6B5DF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12A9-D743-4DCE-87C1-A6542C709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766D-0560-47A9-A8F7-0CAD7A8CE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CF47-CF54-43C8-A472-7B8423213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B1F0-9329-41E6-819A-723477B4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768B-6230-4796-BED2-D3B8B5EE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39A4-7419-40B1-B7AE-04AD9D3F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EB6E3-FA59-4F0F-8205-7247F40AB4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94200" y="0"/>
            <a:ext cx="51498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3809880" cy="57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َنتَ كُلُ مُبتَغايَ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نتَ يا يسو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ا حياة لي بدون حُبِكَ يسوع</a:t>
            </a:r>
            <a:r>
              <a:rPr b="1" lang="ar-SA" sz="5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1" lang="ar-SA" sz="5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(</a:t>
            </a:r>
            <a:r>
              <a:rPr b="1" lang="ar-SA" sz="5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2</a:t>
            </a:r>
            <a:r>
              <a:rPr b="1" lang="ar-SA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4419720"/>
            <a:ext cx="10666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800600" y="0"/>
            <a:ext cx="43434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09480" y="304920"/>
            <a:ext cx="3962520" cy="75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663300"/>
                </a:solidFill>
                <a:latin typeface="Times New Roman"/>
                <a:cs typeface="Arabic Transparent"/>
              </a:rPr>
              <a:t>سأُكَرِسُ وأُقَدِمُ </a:t>
            </a:r>
            <a:r>
              <a:rPr b="1" lang="en-US" sz="4800" spc="-1" strike="noStrike">
                <a:solidFill>
                  <a:srgbClr val="663300"/>
                </a:solidFill>
                <a:latin typeface="Times New Roman"/>
                <a:ea typeface="Arabic Transparent"/>
              </a:rPr>
              <a:t>  </a:t>
            </a:r>
            <a:r>
              <a:rPr b="1" lang="ar-SA" sz="4800" spc="-1" strike="noStrike">
                <a:solidFill>
                  <a:srgbClr val="663300"/>
                </a:solidFill>
                <a:latin typeface="Times New Roman"/>
                <a:cs typeface="Arabic Transparent"/>
              </a:rPr>
              <a:t>كُلَ قلبي كُلَ فِكري   كُلَ ذهني كُلَ عقلي</a:t>
            </a:r>
            <a:r>
              <a:rPr b="1" lang="en-US" sz="4800" spc="-1" strike="noStrike">
                <a:solidFill>
                  <a:srgbClr val="663300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كُلَ قوَتي وعزمي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لَكَ يا يسوع،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لَكَ يا يسوع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3733920"/>
            <a:ext cx="23623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0560" cy="7238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228600"/>
            <a:ext cx="487692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هَبْني قوتاً حتى أستطيع    أن أَهِبَ من أَذاني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أَغفُرَ لِمَنْ عداني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َترُكُ الحُبَ الأناني  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عبُدَكَ يسوع،                أعبُدَكَ يسوع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4191120"/>
            <a:ext cx="21258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267080" y="0"/>
            <a:ext cx="678204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228600"/>
            <a:ext cx="4267080" cy="87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قُلتَ إِسألوا       قلــتَ أُطــلبو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ها أنا أطلُب  يا ربي طَهرَّني وافدي قلب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كاملاً أَسلُك في دربي </a:t>
            </a:r>
            <a:r>
              <a:rPr b="1" lang="ar-SA" sz="4800" spc="-1" strike="noStrike">
                <a:solidFill>
                  <a:srgbClr val="ffcccc"/>
                </a:solidFill>
                <a:latin typeface="Times New Roman"/>
                <a:cs typeface="Times New Roman"/>
              </a:rPr>
              <a:t>مَعْكَ يا يسوع، مَعْكَ يا يسوع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5181480"/>
            <a:ext cx="1257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6:52:05Z</dcterms:created>
  <dc:creator>SUZANNE.MD</dc:creator>
  <dc:description/>
  <dc:language>en-US</dc:language>
  <cp:lastModifiedBy>HANI SAFI</cp:lastModifiedBy>
  <dcterms:modified xsi:type="dcterms:W3CDTF">2003-04-30T13:47:06Z</dcterms:modified>
  <cp:revision>2</cp:revision>
  <dc:subject/>
  <dc:title>PowerPoint Presentation</dc:title>
</cp:coreProperties>
</file>