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CAE-DF62-416D-B1D2-2D9A37D5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0E8-D10A-40FD-B3D1-EA20E96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EF6-F5BE-4464-9347-45612EDA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8C5-2EEE-4A8C-8D32-88E7967E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7AE-A76A-4954-A4B9-CC67AF8F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527-A414-4A4A-A7E1-B0225617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FF7-E7B2-4DD7-9E26-04BEC136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C85-36AD-42DD-9176-B1DED85D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06C-376F-49CE-BB38-D5D2BB2B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A32-B376-4B56-841D-85B22B7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AB0-B9ED-44FE-A6F0-73975FC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A02-CD25-4524-B3DD-32EF5DF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249-5AC0-43A5-9A78-2A5DDA01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5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361800"/>
            <a:ext cx="773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ربّنا يا نوراً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ئناكَ وقلبُنا بالحبِّ مغم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اقبل منا حبَّنا واملأ قلبَنا بال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ما لنا حبٌ سو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نِّور عقلَنا حتى ن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القربانِ أعطنا يا ربُّ أن نلقَ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مُّنا يا مريمُ البكرُ ندع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ُنا يرنمُ نحنُ بن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كِ تنتقدمُ باركينا نرج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4:29Z</dcterms:modified>
  <cp:revision>3</cp:revision>
  <dc:subject/>
  <dc:title>PowerPoint Presentation</dc:title>
</cp:coreProperties>
</file>