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ED21-2141-44B8-955C-D3A43F55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401E-75AE-48AC-8E81-559ACC7F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343B-1CB8-4856-A181-1B27BD027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ECFE-B612-41CB-8026-57BF89D1C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8E27-2A1E-4E7D-83BE-B634FA06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3E10-C1FE-41F9-8574-E1FA76F2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B1E0-2F6E-4CBC-9BA9-10CC8053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8164-E4FA-470B-A7C7-E2B9E0C0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58EC-3701-476B-BB4B-50C3F18A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E54C-503C-4F1E-97C1-E365CBC3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7C7D-AB3D-45DC-B76A-FC24DC58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7F9B-A59F-4EC2-9A8B-0274C862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2DCA-0656-4D9A-B040-E70258D1F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3480" y="0"/>
            <a:ext cx="5062680" cy="7086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029200" y="0"/>
            <a:ext cx="4114800" cy="86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في موضعك المقدس  شاهدتك حتى أعاين بهاء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 أطيب من الحياة رحمتك</a:t>
            </a:r>
            <a:r>
              <a:rPr b="1" lang="ar-SA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إياك تسبح شفتا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إليك اشتاق، اشتاق جسدي</a:t>
            </a:r>
            <a:r>
              <a:rPr b="1" lang="ar-SA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إليك ظمئت نفس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في أرض قاحلة يابسة</a:t>
            </a:r>
            <a:r>
              <a:rPr b="1" lang="ar-SA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لا ماء فيها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909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419720" y="0"/>
            <a:ext cx="4724280" cy="86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إني أحمدك مدى حي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وباسمك أرفع يد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 إني أرنم لك مبتهج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أهلل في ظل جناحي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إليك اشتاق، اشتاق جسد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إليك ظمئت نفس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في أرض قاحلة يابس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لا ماء فيها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299160" y="228600"/>
            <a:ext cx="9923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أذكرك على فراشي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لأنك كنت عوناً ل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ترفعني يمينك تسند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تتعلق نفسي في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6:07:29Z</dcterms:created>
  <dc:creator>USER</dc:creator>
  <dc:description/>
  <dc:language>en-US</dc:language>
  <cp:lastModifiedBy>HANI SAFI</cp:lastModifiedBy>
  <dcterms:modified xsi:type="dcterms:W3CDTF">2003-04-11T06:49:53Z</dcterms:modified>
  <cp:revision>3</cp:revision>
  <dc:subject/>
  <dc:title>PowerPoint Presentation</dc:title>
</cp:coreProperties>
</file>