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5D38B-F85C-41BF-86C9-27489EC20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A3DE5-90F6-4BDF-85B9-C2D1F3C18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A2554-054C-4F7F-A3C2-5AF8AAA97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FB4D9-376D-4EE3-AA26-88BF01605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91C5F-EC33-42C6-8D51-7A95D4CF9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59D3A-3085-4EE7-868D-A739DBCC1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145FA-64A7-4282-BC46-792D43D37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4D719-1A19-4AE6-A75B-33F1B29E9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46F3E-6012-4D0A-8C31-989FC3BF0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3CC2B-ADCC-41FC-9217-347F95734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1D103-67AF-4B7E-AEC5-194F0D54E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04F69-73B6-4C3D-9285-B8A5B4968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5E4E3-6935-437C-AB05-CA60B1CD26FB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050920" y="1197000"/>
            <a:ext cx="5257800" cy="4800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900" spc="-1" strike="noStrike">
                <a:solidFill>
                  <a:srgbClr val="ffffff"/>
                </a:solidFill>
                <a:latin typeface="Tahoma"/>
                <a:cs typeface="????Boutros Rokaa"/>
              </a:rPr>
              <a:t>الر ب نوري وخلاصي</a:t>
            </a:r>
            <a:endParaRPr b="0" lang="en-US" sz="1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9144000" cy="996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الرب نوري وخلاصي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فممّن أخاف.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الربُّ حصنُ حياتي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فممّن أفزع؟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11615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إذا تقدّم عليَّ الأشرارُ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ليأكلوا لحمي مُضايقيَّ وأعدائي فإنّهم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يعثـُرون ويسقُطون.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996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إذا اصطفَّ عليَّ عسكرٌ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فلا يخافُ قلبي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وإن قامَ عليَّ قتالٌ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ففي ذلك ثقتي. 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13261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واحدةً سألتُ الربّ وإيّاها ألتمس. أن أُقيمَ ببيتِ الربِ جميعَ أيام حياتي، لكي أُعاينَ نعيمَ الربِ وأتأمّل في هيكَلِهِ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81000"/>
            <a:ext cx="9144000" cy="14712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imes New Roman"/>
                <a:cs typeface="Akhbar MT"/>
              </a:rPr>
              <a:t>لأنّه يخبّأني في مِظَلَّتِهِ يومَ الشرِ ويستُرني بسِترِ خِبائِه وعلى صخرةٍ يرفَعُني. فحينئذٍ يعلو رأسي فوقَ أعدائي من حولي.</a:t>
            </a: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81000"/>
            <a:ext cx="9144000" cy="1146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imes New Roman"/>
                <a:cs typeface="Akhbar MT"/>
              </a:rPr>
              <a:t>وأذبحُ في خبائِه ذبائِحَ هُتافٍ. أُرَنِّمُ وأُشيدُ للربِ. إِستَمِع ياربّي، إنّي بصوتي أدعو فارحَمني، واستجب لي. </a:t>
            </a: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11066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بكَ نَطَقَ قلبي،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إيّاكَ التمَسَ وجهي،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وجَهَك يا ربِّ ألتمس. 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200"/>
            </a:gs>
            <a:gs pos="100000">
              <a:srgbClr val="00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9144000" cy="11615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لا تَحجُب وجهَك عنّي ولا تنبذ بغضَبٍ عبدكَ. ناصراً كنتَ لي، فلا تَخذلُني ولا تترُكني، يا إلهَ خلاصي. 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8T21:11:59Z</dcterms:created>
  <dc:creator>Charbel Azar</dc:creator>
  <dc:description/>
  <dc:language>en-US</dc:language>
  <cp:lastModifiedBy>-</cp:lastModifiedBy>
  <dcterms:modified xsi:type="dcterms:W3CDTF">2003-01-03T12:51:55Z</dcterms:modified>
  <cp:revision>6</cp:revision>
  <dc:subject/>
  <dc:title>PowerPoint Presentation</dc:title>
</cp:coreProperties>
</file>