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D57-FD91-4B38-A2F4-2B7B436F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80E-5AD7-4E0B-A1EE-430E313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5B8-58BF-4373-9141-934AA5D0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C87-52A5-40BB-B9B5-B76324FF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8EB-5C5D-4D63-B99D-7E4605B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1A6-387D-4F94-A9FF-27C68E45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F87-E0B9-48E4-81D1-36E6AAAE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006-BEDF-4321-9B11-65B5030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9D9-378F-4BA4-90FA-CEF54F4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6C6-034D-41B3-9E6C-7FC3117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8B8-BB4D-43A1-8BEF-854CCA1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8B2-BE27-4470-9DDA-F6010A9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867B-B662-43E8-904A-CB990005D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40044ekIzaANufR_ph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49568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حياتي فبينَ ي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أشواقي فهيَ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ي لستُ أطلبُ شيئا من ل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غيرَ حبِّك الأمينِ والسعيِ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ه هي طَلبتي، هذي مني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استجب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pmass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4572000" cy="88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شفني وقُتني بخبزِ الس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ا اعتراني جوعٌ أو ظم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جعل في فؤادي حبَّ الانت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تأني في سبيل حفظ ود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ذا أخطأتُ هبني الندم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عزاءَ يا إل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215561trgpRaNsdy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72000"/>
            <a:ext cx="88390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ا ما ضعفتُ أنتَ قوتي إذا ما حزنتُ أنتَ سل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ك القديرُ شدِّد همَّتي لبناءِ الملكوت ما بينَ الأن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َسطِ الصعابِ أُذكر عَهْدَكَ 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انتشل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7:03Z</dcterms:created>
  <dc:creator>SUZANNE.MD</dc:creator>
  <dc:description/>
  <dc:language>en-US</dc:language>
  <cp:lastModifiedBy>USER</cp:lastModifiedBy>
  <dcterms:modified xsi:type="dcterms:W3CDTF">2002-12-12T16:00:54Z</dcterms:modified>
  <cp:revision>1</cp:revision>
  <dc:subject/>
  <dc:title>PowerPoint Presentation</dc:title>
</cp:coreProperties>
</file>