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146-A09B-4FA9-A12A-29465940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CB0-F9C8-4388-A1BA-F602BEB5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AD7-1A57-43C4-A189-EFE31A05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B8F-6541-419C-95E1-98FD49AB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F51-D910-4836-A1FE-15E745E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454-FF2C-4367-BE58-CDC76962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749-B004-4925-9C00-5E5F89D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7AB-CE98-4BEE-81A2-EF2183F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575-33E8-465D-8E91-0F82BEB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237-0DB3-4918-AF10-BD1DB8E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880-F802-449B-9C94-46FC94E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E56-AE72-4C16-82DD-C10819E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E4F-D3D2-467D-9FB4-0E3A02B9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28720" y="5302080"/>
            <a:ext cx="122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عوتني إليك أت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ديتني الطريق مشي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سوى وجهِك ما رأ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وجهَ الضي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5680" y="5302080"/>
            <a:ext cx="113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ني منك إلي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أُلقي بعبئي ع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ا أنا جاثٍ لدي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ملأني صف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5:15Z</dcterms:modified>
  <cp:revision>2</cp:revision>
  <dc:subject/>
  <dc:title>PowerPoint Presentation</dc:title>
</cp:coreProperties>
</file>