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A34-8414-4974-97BE-B5611A60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FD7-17B0-4885-BEA4-D768617B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686-0548-44EF-841B-A6951599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0DF-B518-444B-85E4-6035A3C9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035-5D07-4C4C-8991-AAD9BB53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886-B9B4-4A2B-BDE3-C6820A0B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22E-05EC-487D-B278-13DF34B9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AF9-7D59-4BDC-B6DF-ADA9669E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E4C-E370-41D5-9824-6A451F99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ED3-2113-4542-A5C2-AF8FB11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E53-979A-4A99-9666-09A04AC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B6D-7882-4D8F-90D7-3A443C50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3D6-D375-459E-8573-BDB00B01B3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6920" y="5013000"/>
            <a:ext cx="46782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Ruqah2 Normal"/>
              </a:rPr>
              <a:t>أصلي حب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3428640"/>
            <a:ext cx="3924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ل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خوف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شتي وابتعادي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0"/>
            <a:ext cx="356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دع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د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غمرني واملأ فؤاد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0" y="2707920"/>
            <a:ext cx="5796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ع إليك في لوع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سمةٍ من شفت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بُ منكَ أهربُ إليكَ فشدَّني بجناحيك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2000" y="2707920"/>
            <a:ext cx="594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ُنشِدُ الدفءَ معك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دغدغ بلمسِك أجفا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رتاح إليك فضم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ئلا أفلت من يديك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1:15:47Z</dcterms:created>
  <dc:creator>Charbel Azar</dc:creator>
  <dc:description/>
  <dc:language>en-US</dc:language>
  <cp:lastModifiedBy>-</cp:lastModifiedBy>
  <dcterms:modified xsi:type="dcterms:W3CDTF">2003-01-20T15:53:38Z</dcterms:modified>
  <cp:revision>11</cp:revision>
  <dc:subject/>
  <dc:title>أصلي حبك يا ربي</dc:title>
</cp:coreProperties>
</file>