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8057-A9BE-4403-8242-BE4A06CC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E92C-6B38-45B8-AC02-465A19FC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6F5B-2832-4FB4-BCF4-998C48B3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F080-1516-4C0A-85ED-514161CD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6A94-60BB-4375-8A9D-7B884ED1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A958-C2B7-457F-B241-9510E767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B857-A07A-49BB-8E18-CBA57D9D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324B-9947-4174-B017-0FD9DD6D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D79D-B0C9-4436-9B80-A20DB306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128D-F1FA-4F86-93F9-B9ED0109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E661-297F-4FB3-B9D3-621D0818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1FD6-3D56-4BE3-AE74-3F2CFA7D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7E49-8104-4358-9966-F2892FCB135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59280" y="0"/>
            <a:ext cx="42498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ِ الشَّفِيع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أَكرَم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ِندَ ابْنِك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َرْيَم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33920" y="3645000"/>
            <a:ext cx="5410080" cy="321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ff"/>
                </a:solidFill>
                <a:latin typeface="Tahoma"/>
                <a:cs typeface="????Boutros Rokaa"/>
              </a:rPr>
              <a:t>أنت الشفيع الأكرم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59280" y="0"/>
            <a:ext cx="5760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ُزْتِ مَقَاماً في السما فوقَ الخَلائِقِ قَدْ سَما وَبَلَغْتِ في التقديسِ ما عَنْهُ الخَلائِقُ تُحْجِم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59280" y="0"/>
            <a:ext cx="42498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ِ الشَّفِيع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أَكرَم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ِندَ ابْنِك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َرْيَم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27280" y="287280"/>
            <a:ext cx="6481800" cy="623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500" spc="-1" strike="noStrike">
                <a:solidFill>
                  <a:srgbClr val="000000"/>
                </a:solidFill>
                <a:latin typeface="Times New Roman"/>
                <a:cs typeface="Akhbar MT"/>
              </a:rPr>
              <a:t>جِبْرِيلُ وافى الناصِرَة ببشارَةٍ لَكِ بَاهِرَة</a:t>
            </a:r>
            <a:br>
              <a:rPr sz="7500"/>
            </a:br>
            <a:r>
              <a:rPr b="1" lang="ar-SA" sz="7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قالَ افْرَحِي يا طَاهِرَة</a:t>
            </a:r>
            <a:br>
              <a:rPr sz="7500"/>
            </a:br>
            <a:r>
              <a:rPr b="1" lang="ar-SA" sz="7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َلَكِ الهَنَاءُ الأَعْظَمُ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859280" y="0"/>
            <a:ext cx="42498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ِ الشَّفِيع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أَكرَم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ِندَ ابْنِك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َرْيَم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76720" y="0"/>
            <a:ext cx="5832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ربُّ المَلائِكِ والبَشَر يُهْدِيكِ مَجْداً مُفْتَخَر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نَّ المَسيحُ المُنْتَظَر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ِنْ جِسْمِكِ يَتَجَسَّم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859280" y="0"/>
            <a:ext cx="42498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ِ الشَّفِيع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أَكرَم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ِندَ ابْنِك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َرْيَم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6:26:32Z</dcterms:created>
  <dc:creator>Charbel Azar</dc:creator>
  <dc:description/>
  <dc:language>en-US</dc:language>
  <cp:lastModifiedBy>ف</cp:lastModifiedBy>
  <dcterms:modified xsi:type="dcterms:W3CDTF">2007-05-01T20:13:01Z</dcterms:modified>
  <cp:revision>23</cp:revision>
  <dc:subject/>
  <dc:title>PowerPoint Presentation</dc:title>
</cp:coreProperties>
</file>