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B4ED-E417-4AB2-A527-9913B3EF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2E4E-5023-4192-8960-ED9C29A2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46E-0EC3-49E7-B81E-6E08523C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A08-877E-45D7-B99C-091673BA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EC44-BADC-40E4-AD72-448459FD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763D-169D-4413-90BB-04CD9809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54DF-A46B-47B1-B4A2-B2AADB73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1653-3607-4348-A7B2-32FA3104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12B7-A79E-4E54-9D0C-89806947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F35E-313E-439B-B6B0-9D908D1E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BD3F-6710-4777-9B54-85741CA8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E7B3-0B27-4238-8527-1FF1982E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A79D-468C-4ECF-836D-D9D03FEC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7A53-DDC8-4CAE-8A77-C0759D1A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A1F3-6C10-4CB5-A557-657A856A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B091-EF3B-4CB3-A2E8-E5E5F0E3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41B6-5DC1-4879-A314-3224A3EE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F9C-1593-49B3-8D72-C87B64BE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A3EE-0CCF-47CB-939F-90017FBD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E5A-45B2-4C37-8F96-63DEDF27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470-0F09-48E3-BD00-EF2716EB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1D52-0128-4C37-8C10-EE8BCEB0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03B-BA6B-464F-A0B3-78B99990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999-3233-4C28-9F1C-9FCE84E3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D2AF-8BF7-4275-8D22-72A357529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A2E2-FB5F-4F70-89CD-E82B19A005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86360" y="0"/>
            <a:ext cx="50576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0"/>
            <a:ext cx="3504960" cy="11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صَعِدتَ إلى العُلى وسبيتَ السبيَ وأعطيتَ عطايا أيها الإله        الله معنا وهو إلهُ التخليص وللرب السيدِ مخارجُ المو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733920" y="-119160"/>
            <a:ext cx="5410080" cy="7096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920" y="380880"/>
            <a:ext cx="2971800" cy="11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قدّمَ المُغنونَ وخلفهم ناقروا الأوتار    في وَسطِ عذار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نقُرن الدفو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V="1" rot="10800000">
            <a:off x="0" y="5961600"/>
            <a:ext cx="91454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ا ممالكَ الأرضِ رنموا لله أشيدوا ل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06:52:37Z</dcterms:created>
  <dc:creator>HANI SAFI</dc:creator>
  <dc:description/>
  <dc:language>en-US</dc:language>
  <cp:lastModifiedBy>HANI SAFI</cp:lastModifiedBy>
  <dcterms:modified xsi:type="dcterms:W3CDTF">2003-05-30T06:58:48Z</dcterms:modified>
  <cp:revision>1</cp:revision>
  <dc:subject/>
  <dc:title>Slide 1</dc:title>
</cp:coreProperties>
</file>