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BF0-D7B2-43F3-A4A7-0B266E24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445E-86F8-4EF7-B5BD-D93D41D1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503-2FC2-4EBC-AB8F-6FCDC04E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7D7-7EE2-4962-AA30-C18E991D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BF76-0412-432E-9C1B-9B0F5846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8804-1C03-4D61-A176-2297DA80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8DC9-3B91-42E0-BDF8-C070C4F4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DA9A-680E-47B9-A175-F7204297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48A4-F18C-483A-989B-9FCDBF30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BB32-1A90-4F4B-A511-E38ED16B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1AB-3F58-4DE6-93A6-B8DC98E2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A23F-A380-4031-A4EC-867A6CF9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DE19-65B5-4D3C-BF0F-C820FC18A3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30160" y="4508280"/>
            <a:ext cx="5613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Ruqah2 Normal"/>
              </a:rPr>
              <a:t>ما أبهى نورك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03280" y="2707920"/>
            <a:ext cx="59403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ما أبهى نوركَ أيها المسيح ابن الله نور الحق والحياة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بك نهت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51280" y="2636640"/>
            <a:ext cx="5292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تشرق عليّ نوراً تضيء دربي إليك وبفرح لقائي آتيكَ ربّ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03280" y="2707920"/>
            <a:ext cx="59403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ما أبهى نوركَ أيها المسيح ابن الله نور الحق والحياة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بك نهت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9:52:04Z</dcterms:created>
  <dc:creator>Charbel Azar</dc:creator>
  <dc:description/>
  <dc:language>en-US</dc:language>
  <cp:lastModifiedBy>-</cp:lastModifiedBy>
  <dcterms:modified xsi:type="dcterms:W3CDTF">2003-01-30T06:48:53Z</dcterms:modified>
  <cp:revision>9</cp:revision>
  <dc:subject/>
  <dc:title>أنتَ المسيح ابن الله الحيّ</dc:title>
</cp:coreProperties>
</file>