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5506-BDD1-4108-B835-69EFBDC1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DD68-6849-434C-A80C-7CF32EC4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480D-B1AF-4F70-BCED-C1A55DDB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CECC-9FCE-4922-A0FA-39065D3C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0B2D-AEFC-4909-A8DA-5800B518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8331-1381-4678-917D-696ED376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022D-02B0-4DEA-9840-763C559A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4EAA-1E40-4903-8C5B-614D1321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9BA1-8F94-4C83-8B83-42C5FA4D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90A9-25BD-4E56-A827-729229F3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6766-57D0-4DD0-900F-21317572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3364-E906-4797-B010-C24634E6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FD33-B41C-4DE6-939D-7CD84DCA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EBEB-9171-4151-AD98-9062405F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BB5B-D473-47BF-B8E0-AF676D23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DB79-83CD-4E11-8EB9-FDC20962D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6905-0301-4400-9417-37B12921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709E-3577-4E00-A854-9B3E7522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445-8A44-4198-B65B-88F4C46D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7D86-64A4-438A-8B73-1965F9E1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6F34-499A-43B8-ABC2-58CC9FB6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728A-1DC1-402D-AC0C-BB3FB843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57B7-41B9-46ED-A5B2-A4BD0B9C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DC7F-6A22-47BC-8D32-2869D672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B044-B3C1-40B6-8456-AF40CE3E1CF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880A-EA9B-4D2B-9EC6-0EDC0C7FBF7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876920"/>
            <a:ext cx="4572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Tahoma"/>
                <a:cs typeface="????Boutros Rokaa"/>
              </a:rPr>
              <a:t>الر بُ راعي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14200"/>
            <a:ext cx="876312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ـي مراعٍ خصيبةٍ يقيل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ياهَ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احةِ يوردني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5410080" cy="462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جودة والرحمة تتبعان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1911240" y="762120"/>
            <a:ext cx="9210600" cy="146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جميع أيام حيات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5486400" cy="721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سكناي</a:t>
            </a:r>
            <a:r>
              <a:rPr b="1" lang="ar-LB" sz="85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ـي بيت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بّ طول الأيام. 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095880" cy="112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ربّ راعيَّ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لا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ُعوزني شيءٌ</a:t>
            </a:r>
            <a:r>
              <a:rPr b="1" lang="ar-LB" sz="9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14200"/>
            <a:ext cx="876312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ـي مراعٍ خصيبةٍ يقيل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ياهَ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احةِ يوردني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0958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ربّ راعيّ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ل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ُعوزني شيءٌ</a:t>
            </a:r>
            <a:r>
              <a:rPr b="1" lang="ar-LB" sz="8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214200"/>
            <a:ext cx="876312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ـي مراعٍ خصيبةٍ يقيل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ياه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احةِ يوردني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114800" y="-92160"/>
            <a:ext cx="5029200" cy="1033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ردّ نفسي ويهدي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سبل البر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أجل اسمه.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0958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ربّ راعيّ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ل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ُعوزني شيءٌ</a:t>
            </a:r>
            <a:r>
              <a:rPr b="1" lang="ar-LB" sz="8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14200"/>
            <a:ext cx="876312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ـي مراعٍ خصيبةٍ يقيل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ياه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احةِ يوردني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8862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ني ولو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لكت في وادي ظلال الـموت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8686800" cy="740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ا أخافُ سوءاً لأنّك معي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صاكَ وعكّازك هما يعزّيانني.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0958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ربّ راعيّ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ل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ُعوزني شيءٌ</a:t>
            </a:r>
            <a:r>
              <a:rPr b="1" lang="ar-LB" sz="8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1:10:44Z</dcterms:created>
  <dc:creator>Charbel Azar</dc:creator>
  <dc:description/>
  <dc:language>en-US</dc:language>
  <cp:lastModifiedBy>ف</cp:lastModifiedBy>
  <dcterms:modified xsi:type="dcterms:W3CDTF">2006-05-16T10:05:14Z</dcterms:modified>
  <cp:revision>8</cp:revision>
  <dc:subject/>
  <dc:title>PowerPoint Presentation</dc:title>
</cp:coreProperties>
</file>