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FF7-C211-4B4E-B36E-18BDF8F4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F6A-4540-4CD5-A92F-19379E83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4F3-6979-4EB9-8018-30F15D2F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CC02-736F-4B69-80E9-0C90829A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026-3794-474E-A37D-A11ED64F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61D-592B-4AD3-9DB3-0C860D64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F9E-C9A1-42B4-839E-E452EFBB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A9C-B773-44AA-AAD5-55A98DA0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710-52B2-4CAC-AF61-FF0B92C6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1EE-05BD-41EC-9EED-98537D0E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536-3F62-46C4-B76C-E054090C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21EB-6EA7-453F-AF3A-AC3ECA5C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B97F-195C-43AB-B3D3-478AAC602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114800" cy="11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بِسرّ قيامة  المسيح ربِنا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نستمدّ الغفر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نهتف مبارك مَن بصلبه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عـتـقـنا من الطغي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ه قدوس قدوس  قدوس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تعظم رحمـ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00360" y="0"/>
            <a:ext cx="55436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352680" cy="9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معظم تذكار   أمّه مريم        سيّدة  الأكو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مكرّم ذكر جميع القديسين وشعبه بني  الإيم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هللوي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9:33:28Z</dcterms:created>
  <dc:creator>SUZANNE.MD</dc:creator>
  <dc:description/>
  <dc:language>en-US</dc:language>
  <cp:lastModifiedBy>HANI SAFI</cp:lastModifiedBy>
  <dcterms:modified xsi:type="dcterms:W3CDTF">2003-04-16T13:53:06Z</dcterms:modified>
  <cp:revision>1</cp:revision>
  <dc:subject/>
  <dc:title>PowerPoint Presentation</dc:title>
</cp:coreProperties>
</file>