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C4A9-5E67-49A9-9144-C1946974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9A1-E233-4B92-967B-114084BF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055F-84AA-47AB-B1EE-DC8530D0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1F9-CC90-482D-A41D-4EBDEA38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6B9-A22C-4A6C-88DD-7557C016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CAF-BBFE-428B-9931-328274E8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B93-AEF5-4B4D-9664-8A00D621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BCD-B41C-4473-9A6B-54D0174C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F87-2B35-4C74-ABB9-9316BAF0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882-B3D1-4F8B-AB08-EB6B2EA0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561-2516-4D24-BD02-7D18E624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662-60AC-4166-99DA-0ADABD6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5227-7DD6-471B-A9A3-A4D1825E0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22720" y="0"/>
            <a:ext cx="5089680" cy="7543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0"/>
            <a:ext cx="281952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Arial"/>
              </a:rPr>
              <a:t>فيكَ احتَميتُ يا ألله أنتَ إلهي إني آتٍ إليك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Arial"/>
              </a:rPr>
              <a:t>فيكَ اعتصَمْتُ يا أللهُ  فأنتَ سيدي ولا خيرَ لي سِواك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81560" y="0"/>
            <a:ext cx="5662440" cy="79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52280"/>
            <a:ext cx="3276720" cy="11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</a:rPr>
              <a:t>فيكَ اللهم كلُ رجائي فيكَ اللهمَ كلُ سعادتي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58128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أنتَ أمامي كلَّ حينٍ وعن يميني فلا أتزعزع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يبتهجُ قلبي بحُضورِكَ تُعلِّمُني سبيلَ الحي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81560" y="0"/>
            <a:ext cx="5662440" cy="792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52280"/>
            <a:ext cx="3276720" cy="11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</a:rPr>
              <a:t>فيكَ اللهم كلُ رجائي فيكَ اللهمَ كلُ سعادتي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3:49:58Z</dcterms:created>
  <dc:creator>HANI SAFI</dc:creator>
  <dc:description/>
  <dc:language>en-US</dc:language>
  <cp:lastModifiedBy>HANI SAFI</cp:lastModifiedBy>
  <dcterms:modified xsi:type="dcterms:W3CDTF">2003-05-30T14:00:15Z</dcterms:modified>
  <cp:revision>1</cp:revision>
  <dc:subject/>
  <dc:title>Slide 1</dc:title>
</cp:coreProperties>
</file>