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82A4-1C2D-4B93-B6FA-7E7460522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6C79-4677-49C6-ACF6-EAB14168B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D3A2-C832-4A95-AA05-57376F490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C9AE-8751-4E39-8E87-5EA0FF2B2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7759-1CF9-4031-96E9-194555A25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D3C8-8619-4D61-B9E1-40F3B5C37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9C22-7304-4B97-A682-A53A5DE2A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F510-5610-46BB-8408-4B105A71A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F692-899E-4212-BF63-15AB2E93D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D625-50C6-4CAE-B232-791973AB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5239-3349-421C-9D52-54D79284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34EB-ADA7-44A1-A68C-F2D2CDA4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D85BB-A49D-4F29-897D-DD9DF399A5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1324031lPAzhHwvAo_ph" descr=""/>
          <p:cNvPicPr/>
          <p:nvPr/>
        </p:nvPicPr>
        <p:blipFill>
          <a:blip r:embed="rId2"/>
          <a:stretch/>
        </p:blipFill>
        <p:spPr>
          <a:xfrm>
            <a:off x="1676520" y="-114480"/>
            <a:ext cx="11277360" cy="6972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4572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33520"/>
            <a:ext cx="16002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Arabic Transparent"/>
              </a:rPr>
              <a:t>أعدوا طريق الرب واجعلوا سبله قويم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28759574HqrouBNtBi_ph" descr=""/>
          <p:cNvPicPr/>
          <p:nvPr/>
        </p:nvPicPr>
        <p:blipFill>
          <a:blip r:embed="rId2"/>
          <a:stretch/>
        </p:blipFill>
        <p:spPr>
          <a:xfrm>
            <a:off x="0" y="0"/>
            <a:ext cx="655308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553080" y="0"/>
            <a:ext cx="2362320" cy="79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إسهروا توبوا صلوا وترقبو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إفتحوا الأبواب إرفعوا الأعتا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هِّلوا الدروب زينوا القلوب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31324031lPAzhHwvAo_ph" descr=""/>
          <p:cNvPicPr/>
          <p:nvPr/>
        </p:nvPicPr>
        <p:blipFill>
          <a:blip r:embed="rId2"/>
          <a:stretch/>
        </p:blipFill>
        <p:spPr>
          <a:xfrm>
            <a:off x="1676520" y="-114480"/>
            <a:ext cx="11277360" cy="69724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28600" y="4572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533520"/>
            <a:ext cx="15238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Arabic Transparent"/>
              </a:rPr>
              <a:t>أعدوا طريق الرب واجعلوا سبله قويم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21705873ayScpooCjj_ph" descr=""/>
          <p:cNvPicPr/>
          <p:nvPr/>
        </p:nvPicPr>
        <p:blipFill>
          <a:blip r:embed="rId1"/>
          <a:stretch/>
        </p:blipFill>
        <p:spPr>
          <a:xfrm>
            <a:off x="-3048120" y="0"/>
            <a:ext cx="8001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876920" y="228600"/>
            <a:ext cx="2286000" cy="80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هو الآتي الآتي لا تنتظروا سِوا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حَذارِ يمرُّ دون أن تعرفو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كلُّ آتٍ دونَه مسيح دجال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31324031lPAzhHwvAo_ph" descr=""/>
          <p:cNvPicPr/>
          <p:nvPr/>
        </p:nvPicPr>
        <p:blipFill>
          <a:blip r:embed="rId2"/>
          <a:stretch/>
        </p:blipFill>
        <p:spPr>
          <a:xfrm>
            <a:off x="1676520" y="-114480"/>
            <a:ext cx="11277360" cy="6972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28600" y="4572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533520"/>
            <a:ext cx="15238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Arabic Transparent"/>
              </a:rPr>
              <a:t>أعدوا طريق الرب واجعلوا سبله قويم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9T07:58:37Z</dcterms:created>
  <dc:creator>SUZANNE.MD</dc:creator>
  <dc:description/>
  <dc:language>en-US</dc:language>
  <cp:lastModifiedBy>USER</cp:lastModifiedBy>
  <dcterms:modified xsi:type="dcterms:W3CDTF">2002-12-16T14:43:32Z</dcterms:modified>
  <cp:revision>4</cp:revision>
  <dc:subject/>
  <dc:title>PowerPoint Presentation</dc:title>
</cp:coreProperties>
</file>