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600-BD05-41EA-805C-E824EFDB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E96-A53A-4FCB-8F1B-7C233ADC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9CD-A4D9-4F2B-AD10-BCF2C087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4E1-9C28-451B-ACDA-B53A9F9D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677-BFF5-48A7-9BE4-298A8676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E1D-8123-4F61-8A0E-C8FD96C3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BC0-D17C-4969-9020-BB673173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154-2A52-4116-8E9E-D0CD9C8D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897-8203-4705-B36F-09237922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FC6-70DA-48DA-8275-5ADF7261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714-FB0E-4820-8546-36DE4C5E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622-0979-476E-B926-8E96EC11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8A83-9295-423E-A397-D158C1583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91120" y="457200"/>
            <a:ext cx="4343400" cy="78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ك يا رب يا قو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لربُ مخلصي ومُنقذ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ك يا ربُ         يا صخر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رب هو ترسي وملجأي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790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657600" cy="10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دعوتُك يا رب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سمعتن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ِن مثوى الأمواتِ انتشلتن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بتُك في ضيقي استجبتَ ل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غَمرةِ حبكَ غمرت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44:50Z</dcterms:created>
  <dc:creator>SUZANNE.MD</dc:creator>
  <dc:description/>
  <dc:language>en-US</dc:language>
  <cp:lastModifiedBy>HANI SAFI</cp:lastModifiedBy>
  <dcterms:modified xsi:type="dcterms:W3CDTF">2003-05-22T17:04:57Z</dcterms:modified>
  <cp:revision>2</cp:revision>
  <dc:subject/>
  <dc:title>PowerPoint Presentation</dc:title>
</cp:coreProperties>
</file>