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EFB-33EE-489A-9E05-BDFB5E35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FFC-3D03-43FA-9185-B64525D0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B41-34C9-4077-9D95-908D6616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D7D-DFB7-423D-B193-6AE77DC7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130-2A84-43E9-9AC8-FEBF7D6D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4E0-A3DD-4590-94EA-C4FDF163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20D2-82D3-4286-99A5-F10BA74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2C4C-F288-47CC-A699-76C9F0BE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F45A-CC02-4EC7-9737-EB31649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344C-CEEE-44FB-A9A0-DA2C33B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E55C-51F6-4058-B7A1-13B2E57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A57-0C54-4C65-A4A0-132D50A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7832-72F9-402F-9056-73E13BC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488B-D7A5-495C-9639-0C63723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5AF-E7CC-4BE0-9A09-C2A9D3A9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6AE1-D1FE-4369-B9DC-AF55A479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B94-A49E-402E-86EC-5A0333B5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1B6-1752-4E3B-B8F4-9203911A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715-A4A9-4BCB-99F4-57DF7BF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702-3DCC-440B-AFD7-F30EB7C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84B-1C55-4FF0-925F-02A95C7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1FA-BBEF-4DA8-941C-935DBA7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1DC-5503-446B-84EE-9277F265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A9E-D11B-49BA-8CE9-1591A02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A0E-D280-4047-8F85-1574B8F6FC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89AC-BCD5-4D59-967B-E07FB808391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87692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ر بُ راعي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5410080" cy="462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ودة والرحمة تتبعان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911240" y="762120"/>
            <a:ext cx="92106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ميع أيام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5486400" cy="721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سكناي</a:t>
            </a:r>
            <a:r>
              <a:rPr b="1" lang="ar-LB" sz="85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بي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 طول الأيام.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095880" cy="11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9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4200"/>
            <a:ext cx="876312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14800" y="-92160"/>
            <a:ext cx="5029200" cy="1033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دّ نفسي ويهد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سبل البر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جل اسمه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14200"/>
            <a:ext cx="87631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ـي مراعٍ خصيبةٍ يقيل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ياه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احةِ يوردن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862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ي ول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لكت في وادي ظلال الـموت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6868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أخافُ سوءاً لأنّك معي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صاكَ وعكّازك هما يعزّيانني.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095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ربّ راعيّ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ل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ُعوزني شيءٌ</a:t>
            </a:r>
            <a:r>
              <a:rPr b="1" lang="ar-LB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44Z</dcterms:created>
  <dc:creator>Charbel Azar</dc:creator>
  <dc:description/>
  <dc:language>en-US</dc:language>
  <cp:lastModifiedBy>ف</cp:lastModifiedBy>
  <dcterms:modified xsi:type="dcterms:W3CDTF">2006-05-16T10:05:14Z</dcterms:modified>
  <cp:revision>8</cp:revision>
  <dc:subject/>
  <dc:title>PowerPoint Presentation</dc:title>
</cp:coreProperties>
</file>