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5A2-26AE-4DDA-9392-9805AE39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C4A-6FE4-4442-BFA9-902C0975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BAD-F819-456B-ABC9-36EBC964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E7C-A15D-433C-B282-BCA54DD4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9E8-E74B-41F6-8992-07986203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DC6-6B76-432A-BD42-2CF669D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DED-9972-44C4-9253-671B5394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B7F-62DF-487F-8F32-66AC5D57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A63-EF85-47C3-9C0D-280B3BFF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44A-3BDE-4F56-AE1E-F3C20CE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12B-2697-41B5-AB2D-3DD4B4B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7C4-70B4-4DF5-800F-04EFAA4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0FF9-94BE-46F2-A3F3-5F323E598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14480" y="120600"/>
            <a:ext cx="5175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رهبـة ورع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 خشـوع وامتنان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جـرأت وقـرر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 أخاطب الإ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إذ ذاك تقـدم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ي خـزيٌ وأمــان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نـوره تجلّى 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ل ما لي من آثـ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ألته ترى هل م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وفي عني القصاص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صليبي ذ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هو السبيل للخلا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53880" y="120600"/>
            <a:ext cx="505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ـألته وما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إنـه رمـز الآلام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كيف أيها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يف منح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على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مت من أجل خَطاك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دمي قد سال من جن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ه أتممت فد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عنـد ذاك تحيـر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كيـف مات عني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حيرتي سأل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ارب إيضاحا زد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2374517gTWaHW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0"/>
            <a:ext cx="18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ي رهبةٍ ورعبةٍ في خشوعٍ وامت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جرأت وقرّرتُ أن أخاطب الإ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إذ ذاكَ تقدمتُ كلي خِزيٌ وأم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نورِه تجلّى لي كلُّ ما لي من آث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سألتُهُ تُرى هل مَن يوفي عني القص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قال لي: صليبي ذا هو السبيل للخل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0"/>
            <a:ext cx="2133360" cy="9201960"/>
          </a:xfrm>
          <a:prstGeom prst="rect">
            <a:avLst/>
          </a:prstGeom>
          <a:solidFill>
            <a:srgbClr val="00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ته يقول لي إني قد أحببت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حملت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قاسيتُ كل ذا من أجل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إني الآن أدعوك كيما نحوي تُ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كي ترتاح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إذ تأتي لما حبي ت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ند ذاك بكى قلبي ونادى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ذا الإل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ك عمري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كل كلي لك ما دمت في الحياة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3-02-07T13:17:50Z</dcterms:modified>
  <cp:revision>8</cp:revision>
  <dc:subject/>
  <dc:title>PowerPoint Presentation</dc:title>
</cp:coreProperties>
</file>