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F45-1974-48A5-9FF2-79B3C3A9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C84-214C-459A-8EFD-AE5E8D11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CA7-F0D7-4F90-AEB4-4501F7C1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AAD-0B9C-448B-842F-A66402D8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F37-2D70-4F25-BA2D-572F2ED1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71B-E24D-4581-ADD6-10D41DB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1EC-96A2-42E2-A7BA-49D2C05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B8F-16CC-42CA-A025-88D3D1B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8BB-9736-4D9A-B155-059DBA9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5C7-E376-4BB4-9FDC-C56B6F9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103-7D28-4969-8BF0-D720478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4B8-0B4C-4EF6-8C9A-2E9DA3E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E5F0-01A4-46BC-93EB-62EFF6EA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215561trgpRaNsdy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مالي سواك ياسيدي       حياتي رض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        أنت مُتّكَلي .... تُطَمئِنُ نفسي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6457ZyMZbofv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     نفس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تُفرِّح قلبي  ...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َرتَ لي درب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138657fOyBjnytPv_ph" descr=""/>
          <p:cNvPicPr/>
          <p:nvPr/>
        </p:nvPicPr>
        <p:blipFill>
          <a:blip r:embed="rId1"/>
          <a:stretch/>
        </p:blipFill>
        <p:spPr>
          <a:xfrm>
            <a:off x="-19810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0"/>
            <a:ext cx="1676160" cy="9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Arabic Transparent"/>
              </a:rPr>
              <a:t>حينما ألقاك يا سيدي       عذبٌ ما أح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ea typeface="Arabic Transparent"/>
              </a:rPr>
              <a:t>        تُبَدِّدُ همّي  ..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Times New Roman"/>
              </a:rPr>
              <a:t>تُفَرِّجُ ع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905120"/>
            <a:ext cx="32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سط الأشواك يا سيدي عينيَّ تراك يا سيدي      تُضَمِّدُ جُرحي ...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ُجدِّدُ فَرَ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25780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نفسي في حماك يا سيدي    عيني لعُلاك يا س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     قوَّتي حبَّك ...  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صخرتي وعد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29:42Z</dcterms:created>
  <dc:creator>SUZANNE.MD</dc:creator>
  <dc:description/>
  <dc:language>en-US</dc:language>
  <cp:lastModifiedBy>USER</cp:lastModifiedBy>
  <dcterms:modified xsi:type="dcterms:W3CDTF">2002-12-12T16:02:34Z</dcterms:modified>
  <cp:revision>2</cp:revision>
  <dc:subject/>
  <dc:title>PowerPoint Presentation</dc:title>
</cp:coreProperties>
</file>