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DE0D5-938C-4F68-8583-AF284AC55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C3BA5-1F82-4B10-9E0B-24D98561B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BB320-FA28-47BA-AD03-F10C79652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EBE3C-2A3D-496A-8833-DB1C62ED3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3A972-B512-4E0F-AE86-04B7D81FE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995B9-04AA-43F0-AC9F-32E03605B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BD6F1-3438-4DAF-8B58-2A8780B4B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0EAAD-144B-43AD-945E-C0698A182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F6541-86F8-4601-8D6B-F0D041466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E76A6-8752-4E11-A8D0-2C89DFD08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21A2A-9C40-4486-994C-D16488631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D11B3-AAC3-45AF-A507-CF551A499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A71B5-69A5-4FF0-997B-6B26754CCD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K316" descr=""/>
          <p:cNvPicPr/>
          <p:nvPr/>
        </p:nvPicPr>
        <p:blipFill>
          <a:blip r:embed="rId1"/>
          <a:stretch/>
        </p:blipFill>
        <p:spPr>
          <a:xfrm>
            <a:off x="-609480" y="-380880"/>
            <a:ext cx="6781680" cy="8458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6172200" y="-380880"/>
            <a:ext cx="2971800" cy="1070100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أبانا نرفعُ إسمَكَ الكريم أبانا نحمَدُ حُبَّكَ العظيم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 أنتَ ربُّنا ونشيدُ حمْدِنا نهتِفُ لكَ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ترنيمُ الطيور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يَحكي حُبَّكَ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نرفعُ الصُّخور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صوتَ سُبحِكَ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شكراً لكَ،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حمداً لك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هللوي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1968075CjKGRKnhqB_ph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5867280" y="0"/>
            <a:ext cx="32767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99"/>
                </a:solidFill>
                <a:latin typeface="Simplified Arabic"/>
                <a:cs typeface="Times New Roman (Arabic)"/>
              </a:rPr>
              <a:t>نسبحُ اسمَك ليلاً ونها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99"/>
                </a:solidFill>
                <a:latin typeface="Simplified Arabic"/>
                <a:cs typeface="Times New Roman (Arabic)"/>
              </a:rPr>
              <a:t>أنتَ إلهنا قدّوسٌ وبا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99"/>
                </a:solidFill>
                <a:latin typeface="Simplified Arabic"/>
                <a:cs typeface="Times New Roman (Arabic)"/>
              </a:rPr>
              <a:t>نحمدُ اسمَك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99"/>
                </a:solidFill>
                <a:latin typeface="Simplified Arabic"/>
                <a:cs typeface="Times New Roman (Arabic)"/>
              </a:rPr>
              <a:t>ونُعَلّي شخصَك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99"/>
                </a:solidFill>
                <a:latin typeface="Simplified Arabic"/>
                <a:cs typeface="Times New Roman (Arabic)"/>
              </a:rPr>
              <a:t>نسجُدُ ل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K316" descr=""/>
          <p:cNvPicPr/>
          <p:nvPr/>
        </p:nvPicPr>
        <p:blipFill>
          <a:blip r:embed="rId1"/>
          <a:stretch/>
        </p:blipFill>
        <p:spPr>
          <a:xfrm>
            <a:off x="-609480" y="-380880"/>
            <a:ext cx="6781680" cy="8458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6" name=""/>
          <p:cNvSpPr/>
          <p:nvPr/>
        </p:nvSpPr>
        <p:spPr>
          <a:xfrm>
            <a:off x="6172200" y="-380880"/>
            <a:ext cx="2971800" cy="1070100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أبانا نرفعُ إسمَكَ الكريم أبانا نحمَدُ حُبَّكَ العظيم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 أنتَ ربُّنا ونشيدُ حمْدِنا نهتِفُ لكَ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ترنيمُ الطيور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يَحكي حُبَّكَ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نرفعُ الصُّخور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صوتَ سُبحِكَ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شكراً لكَ،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حمداً لك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هللوي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8T10:49:09Z</dcterms:created>
  <dc:creator>USER</dc:creator>
  <dc:description/>
  <dc:language>en-US</dc:language>
  <cp:lastModifiedBy>USER</cp:lastModifiedBy>
  <dcterms:modified xsi:type="dcterms:W3CDTF">2003-01-18T09:18:53Z</dcterms:modified>
  <cp:revision>3</cp:revision>
  <dc:subject/>
  <dc:title>PowerPoint Presentation</dc:title>
</cp:coreProperties>
</file>