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60B-1783-423F-9EFF-427ABD97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E59-06E1-49D4-8BB2-5E371D79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3F5-3B07-49E7-808A-D81D7952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9BA-CFE0-4D88-889B-C956251E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A47-4ED2-46A6-90C8-6EE64F36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F5B-6BFC-4F8F-935A-98A49EFB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EB0-EF94-4926-8BD6-93E364AD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D48-BB29-453F-95CD-3FB98536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345-56D9-4892-B2B5-E173AB62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80B-82BE-4CDB-93CA-21FFB632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F48-2348-4268-90EB-B6BDDBFB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DCB-690F-41E5-B7D8-3F4296D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1981-7EF8-4CE4-B9DF-6A0B0498F4A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رفعة الكأس:</a:t>
            </a:r>
            <a:br>
              <a:rPr sz="8800"/>
            </a:br>
            <a:br>
              <a:rPr sz="8000"/>
            </a:br>
            <a:r>
              <a:rPr b="0" lang="ar-SA" sz="6000" spc="-1" strike="noStrike">
                <a:solidFill>
                  <a:srgbClr val="000000"/>
                </a:solidFill>
                <a:latin typeface="Tahoma"/>
                <a:cs typeface="Ruqah2 Normal"/>
              </a:rPr>
              <a:t>يا آب الحق الرحما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64000" y="504720"/>
            <a:ext cx="550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59280" y="719280"/>
            <a:ext cx="594036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بكرَ الآبِ المحجوبْ يسوعُ الفادي المحبوب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ٌّ أنتَ يا ابنَ الله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ٌّ أنتَ يا مصلوب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48000" y="620640"/>
            <a:ext cx="57229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16280"/>
            <a:ext cx="5580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Akhbar MT"/>
              </a:rPr>
              <a:t>للهِ الآبِ القادِرْ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Akhbar MT"/>
              </a:rPr>
              <a:t>والربِ الإبنِ الغافرْ والروحِ الحيِّ الطاهرْ غَنّوا المجدَ كلَّ آن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19640" y="1989000"/>
            <a:ext cx="572436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7-07-13T15:27:11Z</dcterms:modified>
  <cp:revision>12</cp:revision>
  <dc:subject/>
  <dc:title>PowerPoint Presentation</dc:title>
</cp:coreProperties>
</file>