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EE1C-90F2-452A-942B-28ADF906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011-2DC1-4D67-90CC-FB906625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FBB8-7248-4FE7-9E80-9F69EA9B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9A9-118A-4F8E-AFBF-487A8BA1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33BA-255E-4A53-8BE7-CD76F549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676-EEF9-4768-9897-EA6CF7C9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28B-E530-4D25-B0BE-4429A23F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5850-1AA5-473A-9F76-6B09AFF4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204-3BEC-491D-8665-ECE91274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74D-1E03-46CF-869C-11BB2CDF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2D3-DCBD-4F24-8AD5-41498123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6D39-3E8B-43C1-9835-40EEA53F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DB9E-BBAA-4CE4-A24D-E2725B37C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1324031lPAzhHwvAo_ph" descr=""/>
          <p:cNvPicPr/>
          <p:nvPr/>
        </p:nvPicPr>
        <p:blipFill>
          <a:blip r:embed="rId2"/>
          <a:stretch/>
        </p:blipFill>
        <p:spPr>
          <a:xfrm>
            <a:off x="1676520" y="-114480"/>
            <a:ext cx="11277360" cy="697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457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3520"/>
            <a:ext cx="1600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أعدوا طريق الرب واجعلوا سبله قويم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8759574HqrouBNtBi_ph" descr=""/>
          <p:cNvPicPr/>
          <p:nvPr/>
        </p:nvPicPr>
        <p:blipFill>
          <a:blip r:embed="rId2"/>
          <a:stretch/>
        </p:blipFill>
        <p:spPr>
          <a:xfrm>
            <a:off x="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53080" y="0"/>
            <a:ext cx="2362320" cy="79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سهروا توبوا صلوا وترقبو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فتحوا الأبواب إرفعوا الأعتا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هِّلوا الدروب زينوا القلو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1324031lPAzhHwvAo_ph" descr=""/>
          <p:cNvPicPr/>
          <p:nvPr/>
        </p:nvPicPr>
        <p:blipFill>
          <a:blip r:embed="rId2"/>
          <a:stretch/>
        </p:blipFill>
        <p:spPr>
          <a:xfrm>
            <a:off x="1676520" y="-114480"/>
            <a:ext cx="11277360" cy="6972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457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33520"/>
            <a:ext cx="152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أعدوا طريق الرب واجعلوا سبله قويم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1705873ayScpooCjj_ph" descr=""/>
          <p:cNvPicPr/>
          <p:nvPr/>
        </p:nvPicPr>
        <p:blipFill>
          <a:blip r:embed="rId1"/>
          <a:stretch/>
        </p:blipFill>
        <p:spPr>
          <a:xfrm>
            <a:off x="-304812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76920" y="228600"/>
            <a:ext cx="2286000" cy="80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و الآتي الآتي لا تنتظروا سِوا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َذارِ يمرُّ دون أن تعرفو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كلُّ آتٍ دونَه مسيح دجا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1324031lPAzhHwvAo_ph" descr=""/>
          <p:cNvPicPr/>
          <p:nvPr/>
        </p:nvPicPr>
        <p:blipFill>
          <a:blip r:embed="rId2"/>
          <a:stretch/>
        </p:blipFill>
        <p:spPr>
          <a:xfrm>
            <a:off x="1676520" y="-114480"/>
            <a:ext cx="11277360" cy="6972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457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3520"/>
            <a:ext cx="152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أعدوا طريق الرب واجعلوا سبله قويم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7:58:37Z</dcterms:created>
  <dc:creator>SUZANNE.MD</dc:creator>
  <dc:description/>
  <dc:language>en-US</dc:language>
  <cp:lastModifiedBy>USER</cp:lastModifiedBy>
  <dcterms:modified xsi:type="dcterms:W3CDTF">2002-12-16T14:43:32Z</dcterms:modified>
  <cp:revision>4</cp:revision>
  <dc:subject/>
  <dc:title>PowerPoint Presentation</dc:title>
</cp:coreProperties>
</file>