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772-A205-4F5D-B39E-949952FA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6BA-3E5F-4E48-B2E4-4CC95801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9D7-A367-429A-98CD-788FF6BF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656-932E-486D-B0A3-53F4C372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840-837C-4A5F-A752-91832BB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1FD-673D-4E23-8C8D-B6E75A6B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200-3290-4EBC-98BE-EE0B3011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75C-E908-4B77-8A78-C8FBDAA5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B6F-D3A9-422B-A277-B086069E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EB7-B415-4EA3-9A7F-E2183DD4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691-1BEA-45A4-811B-64C82F6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F17-BB23-4B68-8CC8-7348E6B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7FA4-C4CF-48E8-A388-AD6FEDF2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465e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203436tgMgIzIxnz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0"/>
            <a:ext cx="3276720" cy="10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ا في المدينةِ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مشي مكتئبا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قلبي خيب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سابُ تائه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في آهات الضيق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بحثُ عن الط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ت م كنت السبيلُ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لك قلبي يمي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8624513QCBBM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228600"/>
            <a:ext cx="518148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هجتي في عالمٍ غ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سمع مناجا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في قلبي ح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سمتي والآمال تغ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نت من يدوم أرجوك يا حبي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ildelsken" descr=""/>
          <p:cNvPicPr/>
          <p:nvPr/>
        </p:nvPicPr>
        <p:blipFill>
          <a:blip r:embed="rId1"/>
          <a:stretch/>
        </p:blipFill>
        <p:spPr>
          <a:xfrm>
            <a:off x="-1758960" y="0"/>
            <a:ext cx="617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28600"/>
            <a:ext cx="3504960" cy="76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فرحتي والأطفال ج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ضحكتي والعالم في ض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بدد ظلمتي بوجهك المن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أنت النور الحقُّ أرجوك يا قد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731617KWXnreKPiA_th" descr=""/>
          <p:cNvPicPr/>
          <p:nvPr/>
        </p:nvPicPr>
        <p:blipFill>
          <a:blip r:embed="rId1"/>
          <a:stretch/>
        </p:blipFill>
        <p:spPr>
          <a:xfrm>
            <a:off x="-21420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0"/>
            <a:ext cx="33526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رجائي أم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رهبةِ الظل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نت متك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غمرة الآ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وأنت قُدو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حملك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إليك ذاتي اقب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رجوك يا حب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9:07Z</dcterms:modified>
  <cp:revision>4</cp:revision>
  <dc:subject/>
  <dc:title>PowerPoint Presentation</dc:title>
</cp:coreProperties>
</file>