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0B77-9348-49E8-B3E1-F285E319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679-2D57-4F09-89A2-698450B3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C64-E486-4267-AF30-87D1688B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8038-82DB-4B1C-876A-F1435365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2BE-55EF-4947-982F-5E448524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5A1B-89CC-4ADB-91C4-3B9B32A2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E50-E033-4A2E-88E5-B2233D68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1EBF-6C08-4DFF-A73F-9E18E45C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1D93-1043-4A27-9907-D20B1EC7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86F9-5996-43B0-8328-A272AF80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DC0-1E57-4CFC-81F6-B0B7B4F3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F3BA-3102-49B3-BD03-E7A7B6D2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E555-E7A3-4298-9831-936462F34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242226VAsJUZVajX_ph" descr=""/>
          <p:cNvPicPr/>
          <p:nvPr/>
        </p:nvPicPr>
        <p:blipFill>
          <a:blip r:embed="rId2"/>
          <a:stretch/>
        </p:blipFill>
        <p:spPr>
          <a:xfrm>
            <a:off x="-487440" y="0"/>
            <a:ext cx="5411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29200" y="0"/>
            <a:ext cx="4114800" cy="86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بّ السلام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مطِر علينا السل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بَّ السلام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إملأ قلوبَنا السل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حمل الله الحامل خطايا العالم إرحمنا إرحمناإرحم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بّ السلامِ.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8:52:20Z</dcterms:created>
  <dc:creator>SUZANNE.MD</dc:creator>
  <dc:description/>
  <dc:language>en-US</dc:language>
  <cp:lastModifiedBy>USER</cp:lastModifiedBy>
  <dcterms:modified xsi:type="dcterms:W3CDTF">2002-12-23T20:07:15Z</dcterms:modified>
  <cp:revision>2</cp:revision>
  <dc:subject/>
  <dc:title>PowerPoint Presentation</dc:title>
</cp:coreProperties>
</file>