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3C1-9088-4E8F-842D-A351178A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526-3F6F-495D-AFF3-DB52C431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96A-83D7-42E0-AFD1-33133D1B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C61-36DC-4FD4-81A8-E7DE8676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F12-0B9B-45ED-9907-EF618DB6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AC7-211E-4B0E-A65B-4899314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EE5-87CC-4EC8-924A-76D9C3F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AF5-DAC1-4606-BA27-5757383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379-5509-40CF-9DAA-F89A9F9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B70-D998-4DFA-B7F6-1B5985AD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C9C-23E8-4C28-AD0E-97BA28F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FB6-46CC-4C34-B719-60BCD79F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C1E0-910E-451E-8E25-BD153973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healer%20teacher%20comforter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304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82520"/>
            <a:ext cx="28954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عظيمٌ عظيمٌ عظيمٌ يا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محب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أمان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تحري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</a:rPr>
              <a:t>عظيم أيضا في شفائ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12:55Z</dcterms:created>
  <dc:creator>SUZANNE.MD</dc:creator>
  <dc:description/>
  <dc:language>en-US</dc:language>
  <cp:lastModifiedBy>USER</cp:lastModifiedBy>
  <dcterms:modified xsi:type="dcterms:W3CDTF">2003-02-17T14:28:32Z</dcterms:modified>
  <cp:revision>2</cp:revision>
  <dc:subject/>
  <dc:title>PowerPoint Presentation</dc:title>
</cp:coreProperties>
</file>