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10C8-D96E-49A4-B73F-EEDDDC33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04FA-A6B5-4B5C-B7C9-23519E37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5974-CCFD-4ACE-96A9-59E7F395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FC68-7033-4808-95AB-D00C9FD21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BD1D-C4D3-483F-9E6E-5A951611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4173-5C9F-4BB9-B437-281902BB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4A0B-1311-439A-A930-5917E22F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79F5-73CB-4310-9CA8-AE8D7C22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29FA-9B1B-4F4B-9F85-536A8324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8A01-2BCE-4003-BB87-B07538DC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B56D-6A33-4D2A-ABE3-4CB7B656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518D-AF40-4357-8134-A657A5D4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E5CF-BBFA-4E87-BED6-F156249F7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0079653" descr=""/>
          <p:cNvPicPr/>
          <p:nvPr/>
        </p:nvPicPr>
        <p:blipFill>
          <a:blip r:embed="rId1"/>
          <a:stretch/>
        </p:blipFill>
        <p:spPr>
          <a:xfrm>
            <a:off x="-93600" y="0"/>
            <a:ext cx="5765760" cy="7162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257800" y="228600"/>
            <a:ext cx="3886200" cy="78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 (Arabic)"/>
              </a:rPr>
              <a:t>وحدت يا رب لا هوتك بناسوت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 (Arabic)"/>
              </a:rPr>
              <a:t>وناسوتنا بلاهوت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 (Arabic)"/>
              </a:rPr>
              <a:t>حياتك بموت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 (Arabic)"/>
              </a:rPr>
              <a:t>وموتنا بحيات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 (Arabic)"/>
              </a:rPr>
              <a:t>أخذت ما لنا ووهبتنا ما 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 (Arabic)"/>
              </a:rPr>
              <a:t>لتحيينا وتخلص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Times New Roman"/>
                <a:cs typeface="Times New Roman (Arabic)"/>
              </a:rPr>
              <a:t>لك المجد إلى الأب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3T04:52:46Z</dcterms:created>
  <dc:creator>USER</dc:creator>
  <dc:description/>
  <dc:language>en-US</dc:language>
  <cp:lastModifiedBy>USER</cp:lastModifiedBy>
  <dcterms:modified xsi:type="dcterms:W3CDTF">2003-02-13T04:52:57Z</dcterms:modified>
  <cp:revision>1</cp:revision>
  <dc:subject/>
  <dc:title>PowerPoint Presentation</dc:title>
</cp:coreProperties>
</file>