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97D-4B5D-4A52-823F-AD130B67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ABE-7A3E-412C-BBC2-9CEF6C7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8F4-A063-4820-B8FF-3ACAC207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667-492A-4F6B-8A05-1C54F46C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F18-3488-4FF6-A647-5F444860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6C7-A0D5-45AA-944F-0CE71F6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080-0B6B-4448-AA1E-3359833E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986-C48F-419C-9FF0-B2592AC0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C99-1514-43B5-8C6C-7B9F4B97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342-1467-454B-926B-A8115E9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A9E-D234-4274-873A-45F8830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059-5CAF-42D3-A031-C9BFCC3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E556-1FBA-4691-A879-9288A640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91120" y="457200"/>
            <a:ext cx="434340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 يا قو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ُ مخلصي ومُنقذ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ك يا ربُ         يا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رب هو ترسي وملجأي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10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دعوتُك يا رب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سمع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ِن مثوى الأمواتِ انتشلتني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حببتُك في ضيقي استجبتَ ل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غَمرةِ حبكَ غمرت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42900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  أحبك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ُ الحب يضرمني بنارِه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جتذبُ الآبَ بِحُبِّ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بحبك تحترق الخطاي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44:50Z</dcterms:created>
  <dc:creator>SUZANNE.MD</dc:creator>
  <dc:description/>
  <dc:language>en-US</dc:language>
  <cp:lastModifiedBy>HANI SAFI</cp:lastModifiedBy>
  <dcterms:modified xsi:type="dcterms:W3CDTF">2003-05-22T17:04:57Z</dcterms:modified>
  <cp:revision>2</cp:revision>
  <dc:subject/>
  <dc:title>PowerPoint Presentation</dc:title>
</cp:coreProperties>
</file>