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404-2BFA-428A-B7FF-46E0828F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BDC-9748-4D32-8461-084225B0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582-6AFA-4B9E-B30B-F681FDA5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C4C5-3F73-48E0-8794-5A6C3D7D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E83D-4A58-49AB-B982-98457363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9E5-35A2-43A0-AC31-C18D6004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7F84-2607-4315-B694-F45C52E0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B716-3B21-4577-B62C-161C7A9D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5EA-7C27-4A46-A577-CD361EA0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2043-648C-4719-9E69-575C9343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B15-2610-4E50-8DA9-B2EE5386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E7F3-B9AF-4F70-9DAF-AE3921CF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B123-D044-4053-B503-B59AB0B25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esus%20healer%20teacher%20comforter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72200" y="304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82520"/>
            <a:ext cx="2895480" cy="9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نت عظيمٌ عظيمٌ عظيمٌ يا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ظيمٌ في محبت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ظيمٌ في أمانت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ظيمٌ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ي تحرير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</a:rPr>
              <a:t>عظيم أيضا في شفائ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10:12:55Z</dcterms:created>
  <dc:creator>SUZANNE.MD</dc:creator>
  <dc:description/>
  <dc:language>en-US</dc:language>
  <cp:lastModifiedBy>USER</cp:lastModifiedBy>
  <dcterms:modified xsi:type="dcterms:W3CDTF">2003-02-17T14:28:32Z</dcterms:modified>
  <cp:revision>2</cp:revision>
  <dc:subject/>
  <dc:title>PowerPoint Presentation</dc:title>
</cp:coreProperties>
</file>