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DC2-9D6E-4C50-98F4-0E832089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21C-2B14-46FC-8243-AFD2E6E5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F50-C76F-452D-B0DA-FACC06D7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98F-FAE5-497E-851B-DD82AD06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30E-44D7-4F98-9083-3043564C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BCC-BBAF-49E1-B8CD-523E3518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16D-C9C0-425E-BB43-4D8E61AC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CD2-93F1-4F17-8944-2AB78892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A54-7010-4054-8F31-68B66577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581-0892-492C-9062-FB0DDA2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DDE-CBE6-42C9-BA4D-0E74950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EA1-6686-4528-9FA6-404146B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4CF7-83C9-41AA-B166-54F13280F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216818KHAPFKsPan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5880" y="0"/>
            <a:ext cx="30481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الربُّ هوالله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هو صنعنا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نحن شعبُهُ</a:t>
            </a: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غنمُ مرعاه (×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2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لنَعبُدِ الربّ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بالفرحِ والحمد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لْنَهْتِفَنْ ل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cs typeface="Times New Roman"/>
              </a:rPr>
              <a:t>ولْنرفَعِ الأيدي </a:t>
            </a:r>
            <a:r>
              <a:rPr b="1" lang="ar-SA" sz="3600" spc="-1" strike="noStrike">
                <a:solidFill>
                  <a:srgbClr val="ffff99"/>
                </a:solidFill>
                <a:latin typeface="Arabic Transparent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9839597SVHMFGJHYQ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96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304920"/>
            <a:ext cx="3200400" cy="78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نّوا ورنّموا بأعجب الألحان بالأيدي صفقوا لسيد الأكوان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والله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و صنعنا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9839130pPYJDRksSW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7095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685800"/>
            <a:ext cx="335268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قدّمُ المجدَ لساكن السماء ونرفعُ الحمدَ لمن في وسطِنا 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بُّ هوالل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صنعنا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0554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24280"/>
            <a:ext cx="91440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سمِ الهِنا سنرفع الرايات ولخلاصِه ِ ستعلو الترنيمات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والله هو صنعنا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شعبُهُ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غنمُ مرعاه (×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41:27Z</dcterms:modified>
  <cp:revision>7</cp:revision>
  <dc:subject/>
  <dc:title>PowerPoint Presentation</dc:title>
</cp:coreProperties>
</file>