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48D-CC8B-402D-9BE8-9D93292A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C5A-774D-4C8D-BD35-AAE40333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B8A-39A6-4C8C-8F40-ACC69BB3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B94-2F2B-4993-8BAE-99D06614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C26-737A-48EA-93B2-52F9C41B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ACA-B1B3-4C1E-B1FB-2D74E7E9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38B-8A88-4B81-B18E-88B8788D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701-1D5F-4DD8-A3CA-051911C5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EE6-E65E-4B8D-8621-EB0A77F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D2C-26BD-4B5C-938D-498FCA2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49B-6B3D-48B6-B826-0822C4E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DB2-A8B6-4EB1-9046-B7C7582C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0614-66FC-42D7-B7AB-ACBB16BB4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7980dqEPmGhUz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15200" y="380880"/>
            <a:ext cx="1600200" cy="9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طيبتك تسمو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طيبتك تسمو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شفتاي تُنشدُ تسبيح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15238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يداي تُرفع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شفتايَ تُنشِدُ تسبيح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يداي ترفع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43:17Z</dcterms:created>
  <dc:creator>SUZANNE.MD</dc:creator>
  <dc:description/>
  <dc:language>en-US</dc:language>
  <cp:lastModifiedBy>SUZANNE.MD</cp:lastModifiedBy>
  <dcterms:modified xsi:type="dcterms:W3CDTF">2002-12-12T07:32:54Z</dcterms:modified>
  <cp:revision>1</cp:revision>
  <dc:subject/>
  <dc:title>PowerPoint Presentation</dc:title>
</cp:coreProperties>
</file>