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BE4-5127-4C77-B4B1-5FFBA293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A35-AA98-460B-B5F4-65067AD9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AA7-DD67-4620-BA0A-FA73EC0D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368-FC66-46A9-B222-75CA234D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E96-46BA-4771-8C57-4F748409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D0F-4B7E-496A-B2B8-7B5673EC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0E9-6C8E-4697-9F86-8BB8CA0D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06D-0CF2-4F9C-AFA6-F64980BA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B1A-05E5-423A-AD34-E2C600B3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6BC-AB47-474B-8971-CB727F4E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DA8-2EB5-40F1-A93C-27D39343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36D-ED2E-4366-BC15-1577A0E7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C984-895D-4B93-8864-B52160EEA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9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راع مع قطيعــه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أب مع بنيـ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قود الرب دومــاً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يرشد في الطري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في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قات الشبـع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في أوقات الجو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كـل من يديه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د الرب المسيح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200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4572000" cy="72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راع يقودنا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آب يقودنـ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باحاً ومسـاءً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اليـوم الجدي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ـراع يقودنــا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آب يقودن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باحـاً ومساءً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و الـرب الإل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12952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831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343400" cy="90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حينمــا نأتي إليه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بذلات البن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روحه القدوس يشفي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يمحو كـل أن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إلى المياه الراحة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هـو يريدنــ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لا نخاف ظل الموت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لأنه معنا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7:42:28Z</dcterms:created>
  <dc:creator>SUZANNE.MD</dc:creator>
  <dc:description/>
  <dc:language>en-US</dc:language>
  <cp:lastModifiedBy>HANI SAFI</cp:lastModifiedBy>
  <dcterms:modified xsi:type="dcterms:W3CDTF">2003-04-30T13:46:23Z</dcterms:modified>
  <cp:revision>1</cp:revision>
  <dc:subject/>
  <dc:title>PowerPoint Presentation</dc:title>
</cp:coreProperties>
</file>