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434-3DD4-4E49-BFD9-6E676A4F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674-CC53-434B-BADB-2B95360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C8C-AB8C-471B-B4A6-03E7A850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4B5-671B-4AA1-874A-4974AB77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EF34-8622-495C-9334-A145405B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C0EF-EADC-4AF0-B370-629FC0B6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9A3C-0407-4FAA-85CB-E779355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913D-15CF-475D-8E05-4244C99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3497-CB8F-44ED-BE0C-005EDDC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8514-76DE-48AF-92E9-E31CF53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A1CE-C9EF-4315-9A49-F849B7F7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A06-DE18-4A13-A569-D9DBA9E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D052-0820-4C8B-81E3-A4F85B3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01E5-DF66-4035-B367-6D405B6A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720-2CA1-4A14-BE06-5ACD4E0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33CD-45ED-4D43-B6C6-C7049B4B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CF8A-A913-47BF-8473-DC05A86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F94-EB13-43B8-9F55-0697CAF6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95E-BA46-4B97-B1AD-38DAAFC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0B7-89AC-49BA-8699-0B4BFFB7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2B0-32C2-49FD-BEC4-BE60058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A7F-7378-4116-8F6E-3CD64B47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BE8-6F57-4BA8-83E5-C903AA5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7EF-4705-42B1-BCD6-860EFF0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295-1A91-40B9-B512-9E00A08D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3BC6-DF57-4A37-ADCA-BA194CC28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0"/>
            <a:ext cx="350496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صَعِدتَ إلى العُلى وسبيتَ السبيَ وأعطيتَ عطايا أيها الإله        الله معنا وهو إلهُ التخليص وللرب السيدِ مخارجُ المو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   في وَسطِ عذار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0" y="5961600"/>
            <a:ext cx="9145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أشيدوا ل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52:37Z</dcterms:created>
  <dc:creator>HANI SAFI</dc:creator>
  <dc:description/>
  <dc:language>en-US</dc:language>
  <cp:lastModifiedBy>HANI SAFI</cp:lastModifiedBy>
  <dcterms:modified xsi:type="dcterms:W3CDTF">2003-05-30T06:58:48Z</dcterms:modified>
  <cp:revision>1</cp:revision>
  <dc:subject/>
  <dc:title>Slide 1</dc:title>
</cp:coreProperties>
</file>