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F6B-6632-434B-A331-85E2C2F7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3B5-80B4-4062-B1B2-9EA8C7AC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2BC-F7E1-4178-BAC6-55A4533B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CB9-C904-42D1-9262-C228A6A0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377-89B7-4E6F-9FFD-42A82BD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888-8E67-4BA7-BB88-F19E0E17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646-FD61-487D-A2AD-E57F0EF2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F8A-28ED-4A5B-85CF-B1F4C6C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D4C-A301-44C4-8676-74A891E8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DB9-99F3-4E84-84BF-1DD79C0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FB1-21F1-4C41-B607-74A4B9F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A14-F1E0-4EBB-AECB-F2791DE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3F75-B843-43BF-A60F-505C1F4D93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 الذي يعر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قصى درجات صغر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أنت لا تخا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 تنزل عليّ وتنحني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كم أرجو طيبتكَ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 تهبني الموت من الحب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يسوع اسمع صرختي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واستمع صراخ حنان قلب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0:56:21Z</dcterms:created>
  <dc:creator>-</dc:creator>
  <dc:description/>
  <dc:language>en-US</dc:language>
  <cp:lastModifiedBy>ف</cp:lastModifiedBy>
  <dcterms:modified xsi:type="dcterms:W3CDTF">2006-04-13T18:08:57Z</dcterms:modified>
  <cp:revision>4</cp:revision>
  <dc:subject/>
  <dc:title>أنت الذي يعرفُ أقصى درجات صغري وأنت لا تخافُ أن تنزل عليّ وتنحني </dc:title>
</cp:coreProperties>
</file>