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C790-EE84-4F92-AC7E-ABFF4EC6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BD4-AB96-4917-A2D0-DCD95967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785D-D45B-4BAC-AF25-9956CDC6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8324-5E33-469A-B3A4-C8922F92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4BCC-817D-4466-876C-1A296148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2E21-83B1-4E22-BCE0-D406E3AC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4C9-26C7-4AE1-9881-DACE0B2D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97EC-10C1-46E1-9EC1-330297B2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859-F644-4048-9203-B6E39BBB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1CE9-8975-4482-ADC1-4E5ED8CA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89FC-63D1-4B01-B278-D729B5C2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4F0-1684-49E4-9A2E-A9131CCF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A7DB-94A2-4A5A-B047-39550F40B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tainjesus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86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876920" cy="9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يسوع قال لي أنا حارسك مالك خايف من إيه؟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حِملَك وأخدته عنَّك مالك تعبان من إيه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خوفك دا عدم إيمان تعبك ده مالوهش مكان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سلَّمت الدفَّة لمين يحدفها شمال ويمين؟ ليه تايه يا مسكين؟  أنا لك ملجأ ومُع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ليه تعيش في الدنيا شريد وانت ليك كلِّ المواعيد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دنا عندي ليك بركات بس إنت قولي ه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أديك من غير حساب خيرات من عند الآب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5524112qsHxQg_th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0" y="3049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0"/>
            <a:ext cx="4572000" cy="42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في نهاية ألمي وتعبي قلتلهم  أنا عطش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وفي عطشي وظمأي رويتك وبروحي بقيت ملي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تصرخ دايماً وحزين وكأنه مالكش مُعين</a:t>
            </a:r>
            <a:r>
              <a:rPr b="0" lang="ar-SA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429000"/>
            <a:ext cx="8915400" cy="47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سلّمت الدفَّة لمين يحدفها شمال ويمين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ليه تايه يا مسكين؟  أنا لك ملجأ ومُع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ليه تعيش في عطش وف جوع  ليه عينيك مليانه دم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دنا عندي ليك بركات بس إنت قولي ه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أديك من غير حساب خيرات من عند الآب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54916690EgLuIu_ph" descr="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5334120" cy="82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نكَّست عشانك راسي إكليلي كان أشوا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وفي موتي وجدت حياتك بعد مازالت خطايا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ليه أنا شايفك زعلان كان أملي تكون فرح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سلّمت الدفَّة لمين يحدفها شمال ويمين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ليه تايه يا مسكين؟  أنا لك ملجأ ومُع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ليه تعيش عبد ومملوك وانت أبوك ملك الملو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دنا عندي ليك بركات بس إنت قولي ه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أديك من غير حساب خيرات من عند الآب</a:t>
            </a:r>
            <a:r>
              <a:rPr b="0" lang="ar-SA" sz="3200" spc="-1" strike="noStrike">
                <a:solidFill>
                  <a:srgbClr val="ffcc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10:28:10Z</dcterms:created>
  <dc:creator>SUZANNE.MD</dc:creator>
  <dc:description/>
  <dc:language>en-US</dc:language>
  <cp:lastModifiedBy>USER</cp:lastModifiedBy>
  <dcterms:modified xsi:type="dcterms:W3CDTF">2003-02-17T14:37:45Z</dcterms:modified>
  <cp:revision>2</cp:revision>
  <dc:subject/>
  <dc:title>PowerPoint Presentation</dc:title>
</cp:coreProperties>
</file>