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8A6-2C12-4616-AA45-925601ED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951-483F-40C1-92F2-8CF31CF5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5D7-80D2-4860-B5AA-7D29A6B4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124-46E0-4102-92F7-A0A2370D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3E2-3634-46E2-A286-3697D6D8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767-C703-499D-8280-EE8398FC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638-88B1-4894-9EB9-0933D479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DDA-6D5B-4CD5-91C2-2F072D81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334-93DB-42CE-8524-249F5102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31A-3A6A-470F-AE8B-17AA5C9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9D7-7051-4612-A673-8E82A35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6A6-FFC5-4B81-87E7-3299B562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5D4-D630-46E9-8FC3-89338BFE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779157naqLxMiIal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697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85800"/>
            <a:ext cx="335268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ــا أبانــا الحق إبنُكَ المَذبوحْ قربانَ فِـ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قبَـــلْ مَـن ذاق ليبرِّرَنــا أهــوالَ  الرَدى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92187KzkgEjNdws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ِقبَـلْ منـا هـذا القربـانْ واصفَح عَنـ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نـسَ خطايــا ضِـدَ جَلالـَـك صدرَت من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684030QzQKrpGfyW_ph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7432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ظرْ يا ربْ لِخطيئتِنا وذبيحتِ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ذبيحتُنـا أعلى جـداً مـن خطيئتِنــــ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3581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Simplified Arabic"/>
              </a:rPr>
              <a:t>دمُـهُ المُهــرَقْ فوقَ الجلجلــة  ليخلصَنـا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َضـرَعُ عنّـا فاسمَـعْ لأجلِـهِ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صوتَ صلاتِنــا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4031060nWgdwk_ph" descr=""/>
          <p:cNvPicPr/>
          <p:nvPr/>
        </p:nvPicPr>
        <p:blipFill>
          <a:blip r:embed="rId1"/>
          <a:stretch/>
        </p:blipFill>
        <p:spPr>
          <a:xfrm>
            <a:off x="3840120" y="0"/>
            <a:ext cx="56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t11" descr=""/>
          <p:cNvPicPr/>
          <p:nvPr/>
        </p:nvPicPr>
        <p:blipFill>
          <a:blip r:embed="rId1"/>
          <a:stretch/>
        </p:blipFill>
        <p:spPr>
          <a:xfrm>
            <a:off x="388620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27672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Simplified Arabic"/>
              </a:rPr>
              <a:t>ألمُ المساميـرْ جُـرحُ الحربـة قاسـى حبيبَك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Times New Roman"/>
              </a:rPr>
              <a:t>في آلامِـــهِ مـا يُحيينـــا ويُرضــي قلبَـك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33:13Z</dcterms:created>
  <dc:creator>SUZANNE.MD</dc:creator>
  <dc:description/>
  <dc:language>en-US</dc:language>
  <cp:lastModifiedBy>SUZANNE.MD</cp:lastModifiedBy>
  <dcterms:modified xsi:type="dcterms:W3CDTF">2003-03-10T06:59:55Z</dcterms:modified>
  <cp:revision>1</cp:revision>
  <dc:subject/>
  <dc:title>PowerPoint Presentation</dc:title>
</cp:coreProperties>
</file>