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281-3C2F-4A84-B094-CE36FCAC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755-AB33-420D-823F-3FDE5AD5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92E-E61E-4B1C-AB5A-E47F3456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392-C438-4FEF-AF03-065C871E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0BC-C68A-4554-84DE-22FB10F7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83D-BCA6-44DF-BC1D-6A5EA650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DBF-669E-44E2-B10D-D736954F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5C4-273F-4CDC-B984-D28E5A30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324-6600-464E-A0C3-8572776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218-398C-4F4A-86BB-7835E8E1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6F1-A33B-4F27-8B11-3126F13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9F7-91DE-4F58-87EA-97997D9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073C-7CD5-4776-A587-65BD4EBA7D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 الذي يعر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قصى درجات صغر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أنت لا تخافُ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 تنزل عليّ وتنحني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كم أرجو طيبتكَ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 تهبني الموت من الحب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يسوع اسمع صرختي</a:t>
            </a:r>
            <a:br>
              <a:rPr sz="6000"/>
            </a:b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واستمع صراخ حنان قلب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ألهب بحبّ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عال الى قلب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ها قلبي يتوق الي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10:56:21Z</dcterms:created>
  <dc:creator>-</dc:creator>
  <dc:description/>
  <dc:language>en-US</dc:language>
  <cp:lastModifiedBy>ف</cp:lastModifiedBy>
  <dcterms:modified xsi:type="dcterms:W3CDTF">2006-04-13T18:08:57Z</dcterms:modified>
  <cp:revision>4</cp:revision>
  <dc:subject/>
  <dc:title>أنت الذي يعرفُ أقصى درجات صغري وأنت لا تخافُ أن تنزل عليّ وتنحني </dc:title>
</cp:coreProperties>
</file>