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B8D6-CB38-417D-927C-3692099E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4FA6-5FC7-49AD-A5C8-F89A409E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1CE5-03DF-4180-8721-A01F31AD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9ED2-E879-4E14-B5BF-D4CA52EB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89E-6813-4684-AA3B-1D51D01A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088C-C670-442F-8F55-F87B34A4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D2C-9683-40ED-9533-1802E04D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5EB-4795-4E2C-A306-7BFBABD2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871E-95DC-4F0B-BE61-BD1C0434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598-E350-457F-BAD8-2C0FAB60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BEF-6F74-43A5-BEC0-6D2F33DD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2AA1-C607-4FBD-8F25-3EB07F79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501D-6C45-4357-AD28-4297B693D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205340CxXcORIlCn_ph" descr=""/>
          <p:cNvPicPr/>
          <p:nvPr/>
        </p:nvPicPr>
        <p:blipFill>
          <a:blip r:embed="rId2"/>
          <a:stretch/>
        </p:blipFill>
        <p:spPr>
          <a:xfrm>
            <a:off x="0" y="0"/>
            <a:ext cx="5483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1200" y="0"/>
            <a:ext cx="49903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 شئت حيا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بين يد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 شئت أشوا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هي إل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ي لست أطل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شيئا من لد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ير حبك الأ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والسعي إل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ذي هي طلب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هذي مني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استجب لي يا إله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6205340CxXcORIlCn_ph" descr=""/>
          <p:cNvPicPr/>
          <p:nvPr/>
        </p:nvPicPr>
        <p:blipFill>
          <a:blip r:embed="rId2"/>
          <a:stretch/>
        </p:blipFill>
        <p:spPr>
          <a:xfrm>
            <a:off x="0" y="0"/>
            <a:ext cx="5483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36880" y="0"/>
            <a:ext cx="44265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شفيني وقت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خبز السم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لما اعتر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جوع أو ظم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جعل في فؤا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ب الإنتم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لتأني في سبي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فظ ود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إذا أخطأ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بني الندما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لعزاء يا إله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6205340CxXcORIlCn_ph" descr=""/>
          <p:cNvPicPr/>
          <p:nvPr/>
        </p:nvPicPr>
        <p:blipFill>
          <a:blip r:embed="rId2"/>
          <a:stretch/>
        </p:blipFill>
        <p:spPr>
          <a:xfrm>
            <a:off x="0" y="0"/>
            <a:ext cx="54831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59520" y="0"/>
            <a:ext cx="44892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ذا ما ضعف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نت قو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ذا ما حزن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نت سلو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ك القدي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شدد همتي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بناء الملكوت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ا بين الأ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وسط الصعا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ذكر عهد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نتشلني يا إله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30:28Z</dcterms:modified>
  <cp:revision>3</cp:revision>
  <dc:subject/>
  <dc:title>PowerPoint Presentation</dc:title>
</cp:coreProperties>
</file>