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4E95-A437-44AC-949A-C9692DA64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CABE-E437-4B9F-8AA1-679D8AE3E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CD91-53EF-479E-A926-5E1CBD335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BF11-90AC-4AD6-AC05-CABFBE546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E963-F959-48F8-8079-4603DC259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DE50-81BF-4349-8F7C-DD1A55C9A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F5F2-13A1-4D39-9B5E-7682C5378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EA8B-D570-4040-99CA-E83E9C84D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4E69-E5CC-4CFA-AB9C-967B51B3F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13F5-077E-4A7A-9F55-62D7303C9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4BBA-6618-4C4B-AB03-35FF96B0F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F23A-CC6A-41E5-A04C-E03E720FF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97089-F99B-441F-81D1-655C7F2E5CCE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781360"/>
            <a:ext cx="5410080" cy="22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1700" spc="-1" strike="noStrike">
                <a:solidFill>
                  <a:srgbClr val="000000"/>
                </a:solidFill>
                <a:latin typeface="Tahoma"/>
                <a:cs typeface="????Boutros Rokaa"/>
              </a:rPr>
              <a:t>وحدت يا رب</a:t>
            </a:r>
            <a:endParaRPr b="0" lang="en-US" sz="1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258920" y="1981080"/>
            <a:ext cx="7656480" cy="2820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ahoma"/>
                <a:cs typeface="Akhbar MT"/>
              </a:rPr>
              <a:t>وحّدتَ يا ربُّ لاهوتَكَ بناسوتِنا،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ahoma"/>
                <a:cs typeface="Akhbar MT"/>
              </a:rPr>
              <a:t>وناسوتَنا بلاهوتِكَ،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ahoma"/>
                <a:cs typeface="Akhbar MT"/>
              </a:rPr>
              <a:t>حياتَكَ بموتِنا وموتَنا بحياتِك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478320" y="0"/>
            <a:ext cx="54864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ahoma"/>
                <a:cs typeface="Akhbar MT"/>
              </a:rPr>
              <a:t>أخذتَ ما لنا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ahoma"/>
                <a:cs typeface="Akhbar MT"/>
              </a:rPr>
              <a:t>ووهبتنا ما لكَ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ahoma"/>
                <a:cs typeface="Akhbar MT"/>
              </a:rPr>
              <a:t>لتُحيينا وتُخلِّصنا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ahoma"/>
                <a:cs typeface="Akhbar MT"/>
              </a:rPr>
              <a:t>لكَ المجدُ إلى الأبد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8T20:45:08Z</dcterms:created>
  <dc:creator>Charbel Azar</dc:creator>
  <dc:description/>
  <dc:language>en-US</dc:language>
  <cp:lastModifiedBy>ف</cp:lastModifiedBy>
  <dcterms:modified xsi:type="dcterms:W3CDTF">2007-04-03T19:08:50Z</dcterms:modified>
  <cp:revision>8</cp:revision>
  <dc:subject/>
  <dc:title>PowerPoint Presentation</dc:title>
</cp:coreProperties>
</file>