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F04-13DB-46B8-81CF-9E51DDF4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997-0A02-4848-8028-048A0979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73F-34FF-4DB4-A30D-DD3D4F51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F15-17A2-4F5B-AC2C-13C35077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AEE-81B1-4A10-965F-411F42CC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0BA-0D08-4D99-A472-980FBEA9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440-99B9-4256-BF7D-3EAF32FD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B17-3069-41DF-AC9C-22651F0C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58F-65DB-40E0-A28B-0DCE22B2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5F4-B29A-4C01-941E-8A3DEDC9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83B-25A5-48CB-A008-8D584516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25F-FDE1-40DB-B7A1-A38F69D4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7E49-FEE2-4678-A6A4-78DEC84EE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ble2" descr=""/>
          <p:cNvPicPr/>
          <p:nvPr/>
        </p:nvPicPr>
        <p:blipFill>
          <a:blip r:embed="rId1"/>
          <a:stretch/>
        </p:blipFill>
        <p:spPr>
          <a:xfrm>
            <a:off x="914400" y="17640"/>
            <a:ext cx="7315200" cy="682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8975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كلمتك مصباح لخطا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نور لسبيل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من كان من الله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سمع كلام الل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إذا ثبتم بكلامي صرتم حقا تلاميذ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 السماء و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تزولان وكلامي لا يزول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1:35Z</dcterms:modified>
  <cp:revision>4</cp:revision>
  <dc:subject/>
  <dc:title>PowerPoint Presentation</dc:title>
</cp:coreProperties>
</file>