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6F68-0C3E-4B98-91C7-ED2C60C39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0E23-6D1B-453C-98FE-6DFC5773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78F5-38FF-4ACE-B11A-5C577673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115A-976E-413C-9A40-C27F293DA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4F67-7B73-4519-B73C-18C2A595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8865-8D31-4E8C-9E0E-F6828DA8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E41B-A94E-497E-829C-41DD9243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C669-84DD-4F1F-84C2-80E1F7C0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2B4F-2DAE-4044-AB9A-C065F565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6DDA-B557-4F58-AA6E-D3049D03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8074-5B5A-4A0A-A0FA-E77F763B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716B-9641-42D3-A283-ED309C5A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96CE-7F8E-4087-8112-E07CEAA67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90920" y="0"/>
            <a:ext cx="612288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352680" cy="110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حنانــكَ يــا ربَّ</a:t>
            </a:r>
            <a:r>
              <a:rPr b="1" lang="en-US" sz="4800" spc="-1" strike="noStrike">
                <a:solidFill>
                  <a:srgbClr val="ffcc99"/>
                </a:solidFill>
                <a:latin typeface="Simplified Arabic"/>
              </a:rPr>
              <a:t> 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الأكــوان 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	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إليك رفعـــتُ صلاتـ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raditional Arabic"/>
              </a:rPr>
              <a:t>أنـا إن أحيـــا فبالايمـان يُشرِفُ معنى  حياتـــي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04920"/>
            <a:ext cx="4114800" cy="82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سمعـتُ نداءَك يا ربي يُجلجلُ في أعماق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صَدىً يتجاوبُ في قلبي معَ النغم الخفا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فسِرتُ بهديك في دربي وبي ظمأُ المشتا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لمَنهلك الصافي العذب </a:t>
            </a: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أروَّي بـه أمنياتـي</a:t>
            </a:r>
            <a:r>
              <a:rPr b="0" lang="ar-SA" sz="24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495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490920" y="0"/>
            <a:ext cx="6122880" cy="7315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3352680" cy="110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حنانــكَ يــا ربَّ</a:t>
            </a:r>
            <a:r>
              <a:rPr b="1" lang="en-US" sz="4800" spc="-1" strike="noStrike">
                <a:solidFill>
                  <a:srgbClr val="ffcc99"/>
                </a:solidFill>
                <a:latin typeface="Simplified Arabic"/>
              </a:rPr>
              <a:t> 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الأكــوان 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	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إليك رفعـــتُ صلاتـ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raditional Arabic"/>
              </a:rPr>
              <a:t>أنـا إن أحيـــا فبالايمـان يُشرِفُ معنى  حياتـــي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9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يُروعني صخبُ البحرِ وصوتُ قصيف الرعو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فآنسُ منك مع الفجر بفيض الرضى  والجو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ea typeface="Simplified Arabic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فيا مُبدع الكون من يدري سواك بسرِّ  الوجو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فكم فيك يا ربُّ من سرً</a:t>
            </a:r>
            <a:r>
              <a:rPr b="1" lang="ar-SA" sz="4400" spc="-1" strike="noStrike">
                <a:solidFill>
                  <a:srgbClr val="ffcc00"/>
                </a:solidFill>
                <a:latin typeface="Times New Roman"/>
                <a:ea typeface="Simplified Arabic"/>
              </a:rPr>
              <a:t>	</a:t>
            </a: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وآياتٍ مُذهـلاتِ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90920" y="0"/>
            <a:ext cx="612288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3352680" cy="110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حنانــكَ يــا ربَّ</a:t>
            </a:r>
            <a:r>
              <a:rPr b="1" lang="en-US" sz="4800" spc="-1" strike="noStrike">
                <a:solidFill>
                  <a:srgbClr val="ffcc99"/>
                </a:solidFill>
                <a:latin typeface="Simplified Arabic"/>
              </a:rPr>
              <a:t> 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الأكــوان 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	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إليك رفعـــتُ صلاتـ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raditional Arabic"/>
              </a:rPr>
              <a:t>أنـا إن أحيـــا فبالايمـان يُشرِفُ معنى  حياتـــي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781680" y="0"/>
            <a:ext cx="2133720" cy="83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إلهي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َ إن أدعو فمالي سواك مجيبُ ندائ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وحين أنوءُ بأثقالي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لي برضاك عزائ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228600" y="0"/>
            <a:ext cx="2209680" cy="82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طرحتُ مُناي</a:t>
            </a:r>
            <a:r>
              <a:rPr b="1" lang="ar-SA" sz="4400" spc="-1" strike="noStrike">
                <a:solidFill>
                  <a:srgbClr val="ffcc00"/>
                </a:solidFill>
                <a:latin typeface="Times New Roman"/>
                <a:ea typeface="Simplified Arabic"/>
              </a:rPr>
              <a:t> وآمالي لديك وكلَ رجائ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فأنت ملاذي ومآلي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ليك وفيـك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نجاتـ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90920" y="0"/>
            <a:ext cx="6122880" cy="7315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3352680" cy="110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حنانــكَ يــا ربَّ</a:t>
            </a:r>
            <a:r>
              <a:rPr b="1" lang="en-US" sz="4800" spc="-1" strike="noStrike">
                <a:solidFill>
                  <a:srgbClr val="ffcc99"/>
                </a:solidFill>
                <a:latin typeface="Simplified Arabic"/>
              </a:rPr>
              <a:t> 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الأكــوان 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	</a:t>
            </a:r>
            <a:r>
              <a:rPr b="1" lang="ar-SA" sz="4800" spc="-1" strike="noStrike">
                <a:solidFill>
                  <a:srgbClr val="ffcc99"/>
                </a:solidFill>
                <a:latin typeface="Simplified Arabic"/>
              </a:rPr>
              <a:t>إليك رفعـــتُ صلاتـ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raditional Arabic"/>
              </a:rPr>
              <a:t>أنـا إن أحيـــا فبالايمـان يُشرِفُ معنى  حياتـــي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8T09:49:50Z</dcterms:created>
  <dc:creator>SUZANNE.MD</dc:creator>
  <dc:description/>
  <dc:language>en-US</dc:language>
  <cp:lastModifiedBy>HANI SAFI</cp:lastModifiedBy>
  <dcterms:modified xsi:type="dcterms:W3CDTF">2003-05-18T13:12:15Z</dcterms:modified>
  <cp:revision>2</cp:revision>
  <dc:subject/>
  <dc:title>PowerPoint Presentation</dc:title>
</cp:coreProperties>
</file>