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8AD-8E5D-4DAF-8C98-CC331031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28E-5FA5-4BB7-8A82-1048C3E5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2CE-2CD8-4B53-A3FB-FCC26913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3B4-D0A3-4879-9372-DAA85307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F7F-9BA7-4391-9E77-71D48013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CF4-D656-475E-8330-A6DC411B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C83-F56B-41CD-8F61-58EBBC04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9E3-33B7-4B4F-B98F-84A83C04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6B1-BEE5-41B5-BA68-E58F9694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5AB-62A0-4220-A634-DD470BC0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3FB-5E0E-47E6-B7C9-D8C290F4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1BA-B7BF-4DF8-BA47-D8D7BCBF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8A51-0078-4425-8E28-3EB35084E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6666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يا ر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ز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قدر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جلال والبه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مج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الجبر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ك الملك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ك السياد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د ارتفعت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ملكا على                    الجم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1-31T04:27:31Z</dcterms:modified>
  <cp:revision>7</cp:revision>
  <dc:subject/>
  <dc:title>PowerPoint Presentation</dc:title>
</cp:coreProperties>
</file>