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66D-C5E7-4A62-8917-4E055A4D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C82-8C79-4478-80CF-2A3B33BC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EA7-0228-4794-8D12-CFAC88B8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7A0-6F39-49CB-8955-E491A45E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594-3454-4954-A3A0-56699A53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DD3-5981-41B2-8FB2-F74CB97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F89-705F-4CE8-852C-806BCF77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7FA-F013-4C8F-83C3-C768E7F8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BC0-9271-4586-8A7F-00AED87E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6F5-8028-46A1-8C1A-3F77DCF2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A44-8934-47FC-99B6-3E0E9E2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9DE-163A-4995-8F7F-10D474D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A8F-7C15-4111-B85F-CC50B54FF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89680" cy="7543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0"/>
            <a:ext cx="28195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حتَميتُ يا ألله أنتَ إلهي إني آتٍ إلي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عتصَمْتُ يا أللهُ  فأنتَ سيدي ولا خيرَ لي سِوا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58128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نتَ أمامي كلَّ حينٍ وعن يميني فلا أتزعزع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يبتهجُ قلبي بحُضورِكَ تُعلِّمُني سبيلَ الحي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9:58Z</dcterms:created>
  <dc:creator>HANI SAFI</dc:creator>
  <dc:description/>
  <dc:language>en-US</dc:language>
  <cp:lastModifiedBy>HANI SAFI</cp:lastModifiedBy>
  <dcterms:modified xsi:type="dcterms:W3CDTF">2003-05-30T14:00:15Z</dcterms:modified>
  <cp:revision>1</cp:revision>
  <dc:subject/>
  <dc:title>Slide 1</dc:title>
</cp:coreProperties>
</file>