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545-31AC-4434-8FEF-6CE98304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9EA-C763-43C3-AC98-86C9EFC5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CD8-ADBD-4538-B441-2B1577F6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BF3-95B1-4BD5-9A86-604BBB7E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8DD-C1F0-49CC-8710-D4A1279D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DE8-C5AD-4496-BC2B-9965476D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D4D-F39A-4346-AF1C-CFEC21F6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0BE-1183-42E1-AA18-A943C54B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3FF-017B-435A-A0CF-018CD73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D3A-F84D-43EB-B9AC-CE6BA0A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AED-0053-4EA8-9BE9-17D202D3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3B9-CF95-47DF-9FF5-02340EE3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64C1-12E8-4491-BAD2-3B078E49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89548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قالَ الربُ</a:t>
            </a:r>
            <a:r>
              <a:rPr b="1" i="1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 أنا الكرمه   أنتم أغصانُ الكر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كالأغصانِ اثبتوا فيَّ   تأتوا بثماٍر جمَّ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0"/>
            <a:ext cx="2743200" cy="13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مثلَ الهائمِ في الصحراء   يبحثُ عن قطراتِ الم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هكذا يلْهَفُ قلبي إليكْ   أنتَ الهدايةُ أنت الرجاء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3048120" cy="10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مَن يأكل من خُبزِ الله   </a:t>
            </a:r>
            <a:r>
              <a:rPr b="1" i="1" lang="en-US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 مَن يشرب من خمرِ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يرِثِ  الحياةَ الأبدية     يُعطى السعادةَ في دُنيا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2:22:58Z</dcterms:created>
  <dc:creator>HANI SAFI</dc:creator>
  <dc:description/>
  <dc:language>en-US</dc:language>
  <cp:lastModifiedBy>HANI SAFI</cp:lastModifiedBy>
  <dcterms:modified xsi:type="dcterms:W3CDTF">2003-05-18T13:01:41Z</dcterms:modified>
  <cp:revision>1</cp:revision>
  <dc:subject/>
  <dc:title>Slide 1</dc:title>
</cp:coreProperties>
</file>