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2E9-E978-4D2B-849E-A1741B03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651-D595-4879-8C35-29BB073B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D28-9C32-49E2-BA27-F626F46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9FE-4F95-4E85-B247-FC3D5377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C80-C71F-474F-ACD2-B0D71566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741-FB2E-4EEF-988E-DB2860B8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D9AB-DE78-4F70-9AD3-7545186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BBFF-1578-4282-A602-B4657A55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7462-AAA6-446F-B4E9-6FA043C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08D7-D7E1-4110-9D9B-62F2B6D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9D4-A7BD-4B58-9134-1A2B48E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DB9-EFFE-4D58-BE84-77E5E92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52BC-2054-44B2-825E-1080658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B2B-253F-441D-B5B6-78EEB06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04CE-7208-4058-8425-C464AD2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99A3-A01F-4D4A-AF36-8CD15870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38D3-E009-44CF-A0DB-AC07307F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03E1F-F269-4F2E-84CF-F5E4CA6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8C51-D105-497B-A0FB-59BB1E1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EF3C-3749-4617-8B6F-F2609E6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42D7-6096-49BD-8291-35A7955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0597-120A-4BF8-AAA0-434DE641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C84-9919-4D59-8352-E132B34C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A78C-3757-4BB3-8C9E-0DAA9934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EBF0-8726-49E5-A96A-12C191E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7DAB-4AAA-45E3-805E-A95E5DB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8E10-1A87-4C52-A692-4354419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6472-D9C2-452B-9B16-D704D7D0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1871-C8B9-40B8-8258-D3CFC6AF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B459-2F08-43F6-BA07-09EDF261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A9D-3C63-4164-8E7E-3E2C638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E0C-B920-4879-837B-42DAD70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1C3-3EC4-44B6-B25B-F0D5182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947-FDE0-47A6-AC9F-02DF89D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928-D460-410A-A1F0-9B2C6E01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4DA-C53F-44FF-B154-F5904B3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6FB8-0639-4B2D-BD95-467595ADBED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5AC3-C06A-4FEE-9189-8B695D6B902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0665-0CA7-40D3-B6B8-5F2CC10BCAF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67280" y="3141720"/>
            <a:ext cx="507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????Boutros Rokaa"/>
              </a:rPr>
              <a:t>يسوع أنت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876920" y="0"/>
            <a:ext cx="4114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تنحني لاسمِكَ كل رُكبَة ويعترف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ahoma"/>
                <a:cs typeface="Akhbar MT"/>
              </a:rPr>
              <a:t>كلّ لسان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40360" y="836640"/>
            <a:ext cx="500220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سمُك يسوع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خلاص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ُرَدّدُه ف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كلِّ حين.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0"/>
            <a:ext cx="4648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سجُدُ أمامَ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إله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عترفُ 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مَلِك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9080" y="189000"/>
            <a:ext cx="4680000" cy="626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ها هي حياتي في يديكَ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إفعلْ بها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00"/>
                </a:solidFill>
                <a:latin typeface="Tahoma"/>
                <a:cs typeface="Akhbar MT"/>
              </a:rPr>
              <a:t>ما تُريد.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5920"/>
            <a:ext cx="5029200" cy="64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َ إله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ُبُكَ شافـيَ الوحيد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44280"/>
            <a:ext cx="4647960" cy="65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حبيبُ نفسي أبداً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ن أريد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91000" y="0"/>
            <a:ext cx="5553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0"/>
            <a:ext cx="3886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تعالَ واملُكْ على قلبي أتوقُ إليكَ تعال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47800" y="171360"/>
            <a:ext cx="49118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تُرنِّمُ لكَ شفتايَ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حبُّك للأبدِ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20:40:08Z</dcterms:created>
  <dc:creator>Charbel Azar</dc:creator>
  <dc:description/>
  <dc:language>en-US</dc:language>
  <cp:lastModifiedBy>ف</cp:lastModifiedBy>
  <dcterms:modified xsi:type="dcterms:W3CDTF">2006-07-04T10:59:33Z</dcterms:modified>
  <cp:revision>13</cp:revision>
  <dc:subject/>
  <dc:title>PowerPoint Presentation</dc:title>
</cp:coreProperties>
</file>