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4EE0-7F0B-4543-BE0D-59C43BA38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8FE1-1A65-4F3E-AF8D-D07728F8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C36A-12DA-455A-BB57-967B1707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0D85-D4C6-4BFC-995F-34EE29EBC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8C1B-8705-483F-997F-E309C998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6F34-1B9C-48C6-A5A1-ED281A26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23E6-A12E-459A-A166-E8DF94AF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8D73-2980-4FB9-A9C7-6030F246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E6E0-5052-4879-BA11-9E486FA1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AA3C-1025-4323-A20F-7727F5A4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FE2B-570F-4A1A-B70E-709E7BB2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2268-1EF6-42E7-B2F8-0734E5D8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6221-CCB5-4CE3-A93A-A552D0FDB1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Arial"/>
                <a:cs typeface="????Boutros Rokaa"/>
              </a:rPr>
              <a:t>يا مَسِيحاً جِئتَ نُورا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مَسِيحاً جِئتَ نُور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َيْ تُنِيرَ العَالَمِي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ِئتَ حُبّاً جِئتَ صَفْح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َئتَ سَلْوَى الْبَائِسِين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ِئتَ تُلْقي الظُّلمَ عَنّ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عَنْ شُعوبٍ كادِحي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َيْ يَسودَ الحبُ فين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ن ثبُتْنا مُخْلِصين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مَسِيحاً جِئتَ نُور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َيْ تُنِيرَ العَالَمِي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ِئتَ حُبّاً جِئتَ صَفْح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َئتَ سَلْوَى الْبَائِسِين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نتَ يا ربَّ السَّماءِ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شِئْتَنا لِلْمَجْدِ شَعْباً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َاتَّشَحْنَا بالبَهاء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َوْمَ جَئتَ الأرضَ رَبّاً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مَسِيحاً جِئتَ نُور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َيْ تُنِيرَ العَالَمِي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ِئتَ حُبّاً جِئتَ صَفْح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َئتَ سَلْوَى الْبَائِسِين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َاقْتَبلنا بالرَّجاءِ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َسْمُكَ الصّافِي مَحَبّة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انْعَرَفْنا بالضِّياءِ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اسمِكَ الشعبُ الأمين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مَسِيحاً جِئتَ نُور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َيْ تُنِيرَ العَالَمِي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ِئتَ حُبّاً جِئتَ صَفْح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َئتَ سَلْوَى الْبَائِسِين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8T15:04:27Z</dcterms:created>
  <dc:creator>Charbel Azar</dc:creator>
  <dc:description/>
  <dc:language>en-US</dc:language>
  <cp:lastModifiedBy>-</cp:lastModifiedBy>
  <dcterms:modified xsi:type="dcterms:W3CDTF">2002-12-29T07:40:30Z</dcterms:modified>
  <cp:revision>3</cp:revision>
  <dc:subject/>
  <dc:title>يا مَسِيحاً جِئتَ نُوراً كَيْ تُنِيرَ العَالَمِين جِئتَ حُبّاً جِئتَ صَفْحاً جَئتَ سَلْوَى الْبَائِسِين.</dc:title>
</cp:coreProperties>
</file>