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A608-34DF-4E7F-A5AB-AE94F2E8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A3F0-2AAD-4891-A9BF-6F5069B1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58BB-F358-4B2E-8DC9-B7627AD0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095A-5F34-4A8B-9263-0A2B9BEA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5FFD-F32F-42A3-BC83-60BC3F9D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B053-34C8-4F0E-AAD2-00E00BCD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A34-066D-41C5-8C1C-10A180C4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9927-B6B6-4DA5-90D3-71EEE627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2F8B-C20F-41C5-B9F9-F6EAADC5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CA5B-452E-46DB-B9E6-83EE4F0E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1FFA-7FF8-4CB0-9B93-73DEDC0D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540-B294-4BAF-BD46-9D33CFA5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01E2-07DE-46FF-B9AF-B549BE7A50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000" y="0"/>
            <a:ext cx="4140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  <a:cs typeface="????Boutros Rokaa"/>
              </a:rPr>
              <a:t>لكَ التسبيحُ والشكرا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 المجدُ يا سرّ القربان، 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كلِّ زمانٍ وكلّ مكان.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 المجدُ يا سرّ القربان، 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كلِّ زمانٍ وكلّ مكان.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جنادُ العلاء تشدو بالثناء قوّات السماء تذيع الشان ها هو عندنا باختفاء فلنسجد له بإيم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 المجدُ يا سرّ القربان، 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كلِّ زمانٍ وكلّ مكان.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هذا العيد تفيضُ النِعَم بسرٍّ به كانت الأسرار بهذا العيد تفيضُ النِعَم على جنسنا يا بني آد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ن كان فقيراً أو كان حقيراً أو كان أسيراً ليأتِ الآن يجد رباً كريماً قدي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سرّ الوداد والرضو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ك المجدُ يا سرّ القربان، لكَ التسبيحُ والشكر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كلِّ زمانٍ وكلّ مكان.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هبوه القلوب يا مؤمنين فإن القلوبُ به تستريح هبوه القلوب يا مؤمنين فهو اشترانا بدمه الثمي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71280" y="0"/>
            <a:ext cx="727236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لنشكر سخاه ولنطلب رضاه نترك ما شناه لئلاّ يُهان وبعد الممات ننال سماه مقرّ النِعَم والرضو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12:23:25Z</dcterms:created>
  <dc:creator>Charbel Azar</dc:creator>
  <dc:description/>
  <dc:language>en-US</dc:language>
  <cp:lastModifiedBy>-</cp:lastModifiedBy>
  <dcterms:modified xsi:type="dcterms:W3CDTF">2003-01-26T16:49:21Z</dcterms:modified>
  <cp:revision>6</cp:revision>
  <dc:subject/>
  <dc:title>لكَ التسبيحُ والشكران لك المجدُ يا سرّ القربان، لكَ التسبيحُ والشكران بكلِّ زمانٍ وكلّ مكان. </dc:title>
</cp:coreProperties>
</file>