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317-023F-469C-971A-DF2B5A3A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B84-8326-4B23-85B7-197CA917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C0F-833D-46BE-A0F9-297DEA3A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F3C-9AF9-4562-9A3E-A0E2541A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7AC-40D0-45FA-8183-B3C3ED25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6EE-F9CA-4275-B860-C44C06E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2BA-A524-4EFE-BC59-853C8F22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440-1587-4EEF-BA2E-0BDAC51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A9F-8572-4F1A-9AE3-E3E8430D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422-FD6F-42DF-9D3D-4909F5A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33E-09B4-4AD3-9F82-1744BED5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BF2-C7F7-4BD5-8E27-CA82D902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4767-6AC8-4772-8888-376AED09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380880"/>
            <a:ext cx="731520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ي العشاء السري رسمتُ القرب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 الدم والخمر خلصتُ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5886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90720"/>
            <a:ext cx="304812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ثقبوا يديَّ أسقوني الآلا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ن وهجِ عيني وزّعتُ السلام</a:t>
            </a:r>
            <a:r>
              <a:rPr b="0" lang="en-US" sz="5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11480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اً سالَ جنبي كالحملِ المذبو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عذاب الصلبِ قد اسلمتُ الرو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39625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66"/>
                </a:solidFill>
                <a:latin typeface="Times New Roman"/>
                <a:cs typeface="Simplified Arabic"/>
              </a:rPr>
              <a:t>كلوا هذا جسدي يا شعبي الحبيب يا برايا اشهدي للسر العج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52:11Z</dcterms:created>
  <dc:creator>SUZANNE.MD</dc:creator>
  <dc:description/>
  <dc:language>en-US</dc:language>
  <cp:lastModifiedBy>HANI SAFI</cp:lastModifiedBy>
  <dcterms:modified xsi:type="dcterms:W3CDTF">2003-04-16T13:44:52Z</dcterms:modified>
  <cp:revision>2</cp:revision>
  <dc:subject/>
  <dc:title>PowerPoint Presentation</dc:title>
</cp:coreProperties>
</file>