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AD90-C01E-4F56-9C89-D9543042F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A90E-F66D-4641-A530-353788F11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FAB4-540C-40EB-B0A9-EF806FE7A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A282-D49F-4352-AAD5-1AC19EBC7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B6C8-643A-4288-8749-565FF9EAC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66CA-6C01-4E07-BD80-0F135F07C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73D5-B60C-4854-911A-7066DC139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207D-8E74-4273-87E9-FC2D42BEF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7F89-F559-4B25-9F49-9EA35DC88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576B-8431-4B1C-B6E8-E8F3B4B0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1C02-4D08-481A-97A7-426C5836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6FD7-2A94-4454-B736-D77E3D14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50151-8CE7-499A-ABF8-3179267A57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h02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29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889280" y="47628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1395000" y="0"/>
            <a:ext cx="8235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ff"/>
                </a:solidFill>
                <a:uFillTx/>
                <a:latin typeface="Times New Roman"/>
                <a:cs typeface="Arabic Transparent"/>
              </a:rPr>
              <a:t>يسوع أنت إلهي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سوع أنت إلهي     حبك شافيَ الوحي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نتَ حبيبُ نفسي أبداً  يسوع أنتَ من أري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th10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308120" y="0"/>
            <a:ext cx="560016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سجدُ أمامَك إله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عترفُ بك ملك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ها هي حياتي في يديك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إفعل بها ما تري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سوع أنت إلهي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بك شافيَ الوحي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نتَ حبيبُ نفسي أبداً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يسوع أنتَ من أريد 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th0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809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4800600"/>
            <a:ext cx="8610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عال واملك على قلبي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توقُ إليكَ تعا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ُرنِّم لك شفتاي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  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     أُحبك للأبد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191120" y="458640"/>
            <a:ext cx="4763880" cy="78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تنحني لاسمِكَ كل ركبة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ويعترف كل لسان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إسمك يسوع خلاصي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أردده في كل حي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سوع أنت إلهي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حبك شافيَ الوحي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نتَ حبيبُ نفسي أبداً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يسوع أنتَ من أري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th10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5:52:49Z</dcterms:created>
  <dc:creator>USER</dc:creator>
  <dc:description/>
  <dc:language>en-US</dc:language>
  <cp:lastModifiedBy>USER</cp:lastModifiedBy>
  <dcterms:modified xsi:type="dcterms:W3CDTF">2003-02-03T14:36:41Z</dcterms:modified>
  <cp:revision>3</cp:revision>
  <dc:subject/>
  <dc:title>PowerPoint Presentation</dc:title>
</cp:coreProperties>
</file>