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514-5489-432C-B0D8-AF6368B8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ED9-7E56-4E2C-BC91-1862681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96C-F6B0-41D1-9501-3B2FDDFE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2CF-87A0-4EC9-8AB2-A2354ABA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EAC-7E36-4487-8B48-DE412017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B53-92FE-419C-8ED7-E7908049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136-3C39-4362-B05A-5A2729C1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F25-672F-4CBF-9AF1-0074B39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594-7CD4-4A0E-B16E-A55E5AA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00F-EF4A-45F5-A555-585D0FA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BA2-77F8-4FD7-BA61-66D6E744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047-A81D-427C-9EBF-6C9C4E4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C7E-AC87-4676-8324-702CB8CA0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52560" y="2238480"/>
            <a:ext cx="3638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0" y="213840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47:00Z</dcterms:created>
  <dc:creator>SUZANNE.MD</dc:creator>
  <dc:description/>
  <dc:language>en-US</dc:language>
  <cp:lastModifiedBy>HANI SAFI</cp:lastModifiedBy>
  <dcterms:modified xsi:type="dcterms:W3CDTF">2003-04-16T13:11:01Z</dcterms:modified>
  <cp:revision>2</cp:revision>
  <dc:subject/>
  <dc:title>PowerPoint Presentation</dc:title>
</cp:coreProperties>
</file>