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760-1D15-411F-93D8-953FBFF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D9F-DD20-4B3F-927A-5DE8519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659-098F-4918-B628-B61CDC92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9E7-7ED1-4DAA-8FF2-948C163F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84E-4988-444A-AC94-A60DBE86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754-2C68-4AEB-9590-C07E45CD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92E-6AB7-462A-9AD5-3E45F89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B10-E9B8-4254-AB55-69C18229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391-A9B0-42F0-A940-2AE198A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152-43BF-4C55-97B0-5D693B5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A63-F215-4A5E-87A2-816E986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4DE-AFD3-44D1-B498-9C6958A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311-1155-4516-B317-48A3736B94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360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907920"/>
            <a:ext cx="5113440" cy="74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0"/>
            <a:ext cx="448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0560" y="620640"/>
            <a:ext cx="5113440" cy="72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في القربانِ أعطِ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 نلقاك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396720" y="0"/>
            <a:ext cx="44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حنُ بن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511344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رجوكِ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907920"/>
            <a:ext cx="5113440" cy="10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ف</cp:lastModifiedBy>
  <dcterms:modified xsi:type="dcterms:W3CDTF">2006-09-18T10:12:17Z</dcterms:modified>
  <cp:revision>6</cp:revision>
  <dc:subject/>
  <dc:title>Slide 1</dc:title>
</cp:coreProperties>
</file>