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EDB9-B8F6-475F-A9A0-47884BED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BA2-286F-4C2F-A73B-2AC6283C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BF3-C82D-49D3-A0AD-CBD94ADE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A04-7259-46C6-B9EF-8C880F62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3000-9EAD-44BA-9386-176AC63F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195-8316-486D-B23B-30DFDC5E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D12-3B7C-4B2A-AA98-64ED73AB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0E0-18F7-48DE-8DB9-030184B1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A60-33D2-448B-A137-83A3CC8C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5B0-01F3-4584-92AA-2093BD30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86DA-62B6-460E-8615-162FE11C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173-EFCB-44BA-9375-8CE42915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B360-06B4-486E-8DE1-5A2F4FC0E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465e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203436tgMgIzIxnz_ph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38680" y="0"/>
            <a:ext cx="3276720" cy="10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نا في المدينةِ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مشي مكتئبا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ي قلبي خيبتي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نسابُ تائها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في آهات الضيقِ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بحثُ عن الطري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نت م كنت السبيلُ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لك قلبي يمي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8624513QCBBMr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05320" y="228600"/>
            <a:ext cx="518148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أين بهجتي في عالمٍ غري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سمع مناجاتي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في قلبي حري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أين بسمتي والآمال تغي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أنت من يدوم أرجوك يا حبيب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ildelsken" descr=""/>
          <p:cNvPicPr/>
          <p:nvPr/>
        </p:nvPicPr>
        <p:blipFill>
          <a:blip r:embed="rId1"/>
          <a:stretch/>
        </p:blipFill>
        <p:spPr>
          <a:xfrm>
            <a:off x="-1758960" y="0"/>
            <a:ext cx="6178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28600"/>
            <a:ext cx="3504960" cy="76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أين فرحتي والأطفال جي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أين ضحكتي والعالم في ضي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بدد ظلمتي بوجهك المني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أنت النور الحقُّ أرجوك يا قدي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7731617KWXnreKPiA_th" descr=""/>
          <p:cNvPicPr/>
          <p:nvPr/>
        </p:nvPicPr>
        <p:blipFill>
          <a:blip r:embed="rId1"/>
          <a:stretch/>
        </p:blipFill>
        <p:spPr>
          <a:xfrm>
            <a:off x="-21420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4120" y="0"/>
            <a:ext cx="3352680" cy="10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رجائي أم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ي رهبةِ الظلا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أنت متك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ي غمرة الآ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وأنت قُدوت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ي حملك الصل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فإليك ذاتي اقبله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Simplified Arabic"/>
              </a:rPr>
              <a:t>أرجوك يا حب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3894622lnkCImSXrf_ph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380880"/>
            <a:ext cx="2590920" cy="78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ظر لحال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رجوك يا ربي أنا في ض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 يا ربي ضمِّد جراح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دمك ربي دم الصدي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2-11-19T10:49:07Z</dcterms:modified>
  <cp:revision>4</cp:revision>
  <dc:subject/>
  <dc:title>PowerPoint Presentation</dc:title>
</cp:coreProperties>
</file>