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F113-9ECA-4B2B-8331-6FD9FEFA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B42F-A2F8-4E78-9602-F2D602F4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1287-F1EA-4180-9732-A821A4B6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60D-B172-4746-AD62-018F5B9C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6798-AB83-4412-A37A-B81FC53C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74F-BB5A-40D2-8CFB-05DB58BF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01FD-7A61-4808-9F00-3C399418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AA4-9ECA-49FA-A828-9BCACF3E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9115-336D-4D50-BBE1-BBB35CD0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2F6-2441-4DC9-9149-8479E1C5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8036-0E5C-4082-89CE-A1049DDF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B00-65ED-42A1-B5BA-8446B89A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4BB2-DB82-461B-9811-B65E17C96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206007KpoZqsBeQp_ph" descr=""/>
          <p:cNvPicPr/>
          <p:nvPr/>
        </p:nvPicPr>
        <p:blipFill>
          <a:blip r:embed="rId1"/>
          <a:stretch/>
        </p:blipFill>
        <p:spPr>
          <a:xfrm>
            <a:off x="0" y="0"/>
            <a:ext cx="4959360" cy="541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4290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مام كأسك تنحني الرؤو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                                  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تخفق القلوب تتمتم الشفا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وتحلم العيون بنورك المضي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مام كأسك نهتف بالدع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ندعو باسمك نحاور السماء فاستجب لنا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55:57Z</dcterms:created>
  <dc:creator>USER</dc:creator>
  <dc:description/>
  <dc:language>en-US</dc:language>
  <cp:lastModifiedBy>USER</cp:lastModifiedBy>
  <dcterms:modified xsi:type="dcterms:W3CDTF">2002-10-30T16:56:17Z</dcterms:modified>
  <cp:revision>1</cp:revision>
  <dc:subject/>
  <dc:title>PowerPoint Presentation</dc:title>
</cp:coreProperties>
</file>