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245-4804-413F-9D4B-4E40D9A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D33-29A0-4601-B439-CEF3BB4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CD3-7FCA-423B-AC82-2BF470E0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F79-854D-4143-B0C2-6DABD45B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C43-D122-4BC3-A3EC-06B61D56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C4F-F8AD-47DF-8F6E-EADA653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011-6EC8-45D3-9E94-B9F2609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8C2-AFE4-4221-AB3B-5A5FEB7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629-D2AE-41DD-855E-DF4E773D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3CF-FD30-44CA-A36C-95A4F94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12D-F262-4BC3-942E-F4E455F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01A-8582-4111-AF7A-1531585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645-8AD4-4E7A-883A-753E5640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6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يهـا الأحبـّه، أيها الأحبه ، أسلكوا في المحبّـ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يحـبَّ بعضُنا بعضاً،    فـإنَّ ألله محبّــــ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7467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6002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ذاً أحبَّ بعضُنا بعضاً أقام ألله فينا وتمّتْ محبتُه فينـ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1828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ـــــذا يُقيـــــمُ ألله فينــا ونقيــمُ في ألل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1760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2:13Z</dcterms:created>
  <dc:creator>SUZANNE.MD</dc:creator>
  <dc:description/>
  <dc:language>en-US</dc:language>
  <cp:lastModifiedBy>HANI SAFI</cp:lastModifiedBy>
  <dcterms:modified xsi:type="dcterms:W3CDTF">2003-05-22T04:51:52Z</dcterms:modified>
  <cp:revision>2</cp:revision>
  <dc:subject/>
  <dc:title>PowerPoint Presentation</dc:title>
</cp:coreProperties>
</file>