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17C7-EACB-41BA-8625-AB65AA332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D50D-8A48-4630-8D81-CA90873F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AB80-D28D-4AE0-9006-30C64F3A7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B3E2-4E23-46EE-8201-1F6F04BB8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B1D0-498C-4C15-AF6B-F6072F46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1667-C528-4339-BACB-CD979F76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175E-23B9-4440-90C1-9DA71B9E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7C13-CF66-4AE7-B8D6-71F12FBA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6DD7-A5EC-40C4-9F4E-E947B8C8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8DD9-C77A-45F5-B906-CA689DD5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57CC-9FEE-4944-A257-E747E5EA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7135-94E7-4666-9251-ACADC329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F542-8AED-477D-8238-09D011B73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5283597fvnSvW_ph" descr=""/>
          <p:cNvPicPr/>
          <p:nvPr/>
        </p:nvPicPr>
        <p:blipFill>
          <a:blip r:embed="rId1"/>
          <a:stretch/>
        </p:blipFill>
        <p:spPr>
          <a:xfrm>
            <a:off x="0" y="0"/>
            <a:ext cx="41148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114800" y="30492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81280" y="0"/>
            <a:ext cx="5562720" cy="9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abic Transparent"/>
              </a:rPr>
              <a:t>يسوع ملكُ الملوك مجداً 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abic Transparent"/>
              </a:rPr>
              <a:t>يسوع ربُّ الأرباب مجداً 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abic Transparent"/>
              </a:rPr>
              <a:t>يسوع ربُّ النجاة   مجداً 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abic Transparent"/>
              </a:rPr>
              <a:t>يسوع نبعُ الحياة   مجداً 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abic Transparent"/>
              </a:rPr>
              <a:t> يسوع نورُ الرجاء مجداً 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abic Transparent"/>
              </a:rPr>
              <a:t> يسوع دربُ السماء مجداً 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000000"/>
                </a:solidFill>
                <a:latin typeface="Arabic Transparent"/>
              </a:rPr>
              <a:t> اللازمة: أميرُ السلا م</a:t>
            </a:r>
            <a:r>
              <a:rPr b="1" i="1" lang="ar-SA" sz="4400" spc="-1" strike="noStrike">
                <a:solidFill>
                  <a:srgbClr val="000000"/>
                </a:solidFill>
                <a:latin typeface="Arabic Transparent"/>
              </a:rPr>
              <a:t>	</a:t>
            </a:r>
            <a:r>
              <a:rPr b="1" i="1" lang="ar-SA" sz="4400" spc="-1" strike="noStrike">
                <a:solidFill>
                  <a:srgbClr val="000000"/>
                </a:solidFill>
                <a:latin typeface="Arabic Transparent"/>
              </a:rPr>
              <a:t>	</a:t>
            </a:r>
            <a:r>
              <a:rPr b="1" i="1" lang="ar-SA" sz="4400" spc="-1" strike="noStrike">
                <a:solidFill>
                  <a:srgbClr val="000000"/>
                </a:solidFill>
                <a:latin typeface="Arabic Transparent"/>
              </a:rPr>
              <a:t>       مجداً هللويا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06:57:28Z</dcterms:created>
  <dc:creator>SUZANNE.MD</dc:creator>
  <dc:description/>
  <dc:language>en-US</dc:language>
  <cp:lastModifiedBy>USER</cp:lastModifiedBy>
  <dcterms:modified xsi:type="dcterms:W3CDTF">2002-12-23T20:08:24Z</dcterms:modified>
  <cp:revision>1</cp:revision>
  <dc:subject/>
  <dc:title>PowerPoint Presentation</dc:title>
</cp:coreProperties>
</file>