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B2C8-D95F-496B-B02B-73F6FB47B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304A-21AA-4597-BA7C-068640457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354A-7AEE-471C-8061-8EB78E2E4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6707-4BE7-44CD-A76C-F3755DE50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2066-F8D2-401A-A378-1D7E483B4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048B-50A8-4FE1-A4D2-46752D967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F501-2BDA-4406-90DF-DF0C038EB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8303-B7C2-4FF4-9C93-ED46EF700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6B43-8B3B-4A84-873C-BF3BC4735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23F2-CC47-4278-81CC-C6A94300D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C4D2-F117-4117-9B0F-61CA491C4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A0B7-7090-4E41-9E17-65639DFDD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CC446-E56A-4E4E-8A18-0E841C967D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iffany_UCCMontclair_Agony_in_the_Garden" descr=""/>
          <p:cNvPicPr/>
          <p:nvPr/>
        </p:nvPicPr>
        <p:blipFill>
          <a:blip r:embed="rId1"/>
          <a:stretch/>
        </p:blipFill>
        <p:spPr>
          <a:xfrm>
            <a:off x="0" y="0"/>
            <a:ext cx="51832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711680" y="119160"/>
            <a:ext cx="50803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أدعوكَ أبّا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أيهـا الآ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أرفع يديّ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حمداً لاسم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سرّ وجودي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في حـبـ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لأنك أنت أب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يوم ابتعدتُ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انتظرتـن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مهما خطئتُ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تـقبلنـ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أنـا ابـنك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تحـبـن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لأنك أنت أب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Tiffany_UCCMontclair_Agony_in_the_Garden" descr=""/>
          <p:cNvPicPr/>
          <p:nvPr/>
        </p:nvPicPr>
        <p:blipFill>
          <a:blip r:embed="rId1"/>
          <a:stretch/>
        </p:blipFill>
        <p:spPr>
          <a:xfrm>
            <a:off x="0" y="0"/>
            <a:ext cx="518328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830840" y="119160"/>
            <a:ext cx="508032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أدعوكَ أبّا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أيهـا الآ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أرفع يديّ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حمداً لاسم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سرّ وجودي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في حـبـ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لأنك أنت أب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قلبك ربي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نبع السما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حبك يشفي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كل الجرا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بين يديك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قلبي يرتا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لأنك أنت أب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Tiffany_UCCMontclair_Agony_in_the_Garden" descr=""/>
          <p:cNvPicPr/>
          <p:nvPr/>
        </p:nvPicPr>
        <p:blipFill>
          <a:blip r:embed="rId1"/>
          <a:stretch/>
        </p:blipFill>
        <p:spPr>
          <a:xfrm>
            <a:off x="0" y="0"/>
            <a:ext cx="518328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487040" y="361800"/>
            <a:ext cx="51534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أدعوكَ أبّا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أيهـا الآ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أرفع يديّ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حمداً لاسم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سرّ وجودي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في حـبـ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لأنك أنت أب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كنز حياتي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جـدتـ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في عمق ذاتي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أحـمـل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طبعـتَ فـيّ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جمـالـ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لأنك أنت أبي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2T16:07:29Z</dcterms:created>
  <dc:creator>USER</dc:creator>
  <dc:description/>
  <dc:language>en-US</dc:language>
  <cp:lastModifiedBy>USER</cp:lastModifiedBy>
  <dcterms:modified xsi:type="dcterms:W3CDTF">2003-01-21T11:13:52Z</dcterms:modified>
  <cp:revision>6</cp:revision>
  <dc:subject/>
  <dc:title>PowerPoint Presentation</dc:title>
</cp:coreProperties>
</file>