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816-6E0C-488F-AFFA-629A4933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136-8912-4F5F-8761-C5491AB5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AA6-BAC7-4338-80F9-ABD3CFCD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BE3-D657-4099-B594-63CD1C0E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C5A-4561-48A2-B48C-ABF0F8B1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375-D2E6-420A-A928-180973B1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D97-45C2-483C-9ECF-51737660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09C-76CD-445F-A49B-F0AF441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AD0-BB8D-4372-8B19-9D98BAD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B92-27EF-4D1D-8872-ABD699AB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7E9-BB75-4B39-8884-1329B04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1C8-3753-44D3-8737-42284F92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3D22-9424-452B-A0D2-DB5D1CD75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128811tjyYwEGwHP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762120"/>
            <a:ext cx="312408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 منصلّي بحرار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تتركنا يا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طينا نعمة وطها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تى ما نخطى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نجوع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-masslg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4120" y="1523880"/>
            <a:ext cx="35812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ولّع هالأرض بنا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طهّرنا من أهل الش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وناولنا من أسرا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حتى المحبّة تكبر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4TT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1523880"/>
            <a:ext cx="388620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بّل منا هالبخور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بارك كل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شترك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ولا المحبّة والنو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نا بقينا مخطيين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3-02-05T12:52:14Z</dcterms:modified>
  <cp:revision>4</cp:revision>
  <dc:subject/>
  <dc:title>PowerPoint Presentation</dc:title>
</cp:coreProperties>
</file>