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D0C-FEC6-4863-B274-520CFA9E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D8E-59FD-4194-9149-BBC22179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F0F-905F-49EA-9D02-0C4CDC17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6DC-1A88-495E-8FC1-5A496EE4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0A0-226C-4B64-BB52-4984839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6C0-2AAB-4479-BED0-404BA742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82D-1F8F-45AF-8732-9F82970F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413-CFD7-49D1-89CF-4301D2E3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AAE-5246-4C34-90E1-CE440700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DDF-D332-4CDB-8916-AFE8371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27D-02F1-4121-A293-686F5DD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382-9802-4816-8778-CF63EF9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F15-0BFA-47F0-A0E1-66DE06B1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91120" cy="9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حلى السجود أم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شد بالعود لجلا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للي دفعت فيَّ أغ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ث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ما قبلتك ربي، صا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ي السلط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 بترعى حياتي بكل حن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8759475AFNWUZafbD_ph" descr=""/>
          <p:cNvPicPr/>
          <p:nvPr/>
        </p:nvPicPr>
        <p:blipFill>
          <a:blip r:embed="rId1"/>
          <a:stretch/>
        </p:blipFill>
        <p:spPr>
          <a:xfrm>
            <a:off x="0" y="-100080"/>
            <a:ext cx="487692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457200"/>
            <a:ext cx="39625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صوتي ليك حيعلا بهتاف أناش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لأنك عايش فيّ، أيامي 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بتغني حياتي جنبك بالموا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6574917mhMQwO_ph" descr=""/>
          <p:cNvPicPr/>
          <p:nvPr/>
        </p:nvPicPr>
        <p:blipFill>
          <a:blip r:embed="rId1"/>
          <a:stretch/>
        </p:blipFill>
        <p:spPr>
          <a:xfrm>
            <a:off x="394956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58128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ا عزي بيك وفخري، وما ليّ سو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سراج لرجلي كلامك وماشي ور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لى أيامي يا ربي ما يسود إ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6:39:56Z</dcterms:created>
  <dc:creator>SUZANNE.MD</dc:creator>
  <dc:description/>
  <dc:language>en-US</dc:language>
  <cp:lastModifiedBy>USER</cp:lastModifiedBy>
  <dcterms:modified xsi:type="dcterms:W3CDTF">2002-12-31T13:42:02Z</dcterms:modified>
  <cp:revision>2</cp:revision>
  <dc:subject/>
  <dc:title>PowerPoint Presentation</dc:title>
</cp:coreProperties>
</file>