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7CD-4E90-4F6E-9C9C-1DC45E63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770-E0B0-43B3-B5BD-2B025769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35B-A5E3-488D-B48C-0564CDE7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0C4-41BA-478E-898B-46363E09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CE0-C027-48E1-B634-B1B631C7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3CA-A527-4BAA-9812-69F5DF13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783-28AB-4A02-BED0-685422CD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FCD-DC69-4681-A6AA-B6365B4D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14A-702F-4066-BA61-557E0B5C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06C-46BD-41D4-9EE9-12108AAC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3DB-7B51-4AFE-8B3A-CD538F25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6F9-6677-4C79-9269-B1EF6FB8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F691-4EDF-486A-99F0-4AB2239CD76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3645000"/>
            <a:ext cx="5410080" cy="32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ت الشفيع الأكرم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59280" y="0"/>
            <a:ext cx="576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ُزْتِ مَقَاماً في السما فوقَ الخَلائِقِ قَدْ سَما وَبَلَغْتِ في التقديسِ ما عَنْهُ الخَلائِقُ تُحْجِ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27280" y="287280"/>
            <a:ext cx="6481800" cy="62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ِبْرِيلُ وافى الناصِرَة ببشارَةٍ لَكِ بَاهِرَة</a:t>
            </a:r>
            <a:br>
              <a:rPr sz="7500"/>
            </a:b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الَ افْرَحِي يا طَاهِرَة</a:t>
            </a:r>
            <a:br>
              <a:rPr sz="7500"/>
            </a:br>
            <a:r>
              <a:rPr b="1" lang="ar-SA" sz="7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َلَكِ الهَنَاءُ الأَعْظَمُ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76720" y="0"/>
            <a:ext cx="5832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ربُّ المَلائِكِ والبَشَر يُهْدِيكِ مَجْداً مُفْتَخَ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نَّ المَسيحُ المُنْتَظَ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ِنْ جِسْمِكِ يَتَجَسَّ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59280" y="0"/>
            <a:ext cx="42498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ِ الشَّفِيع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َكرَمُ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بْنِك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َرْيَ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6:32Z</dcterms:created>
  <dc:creator>Charbel Azar</dc:creator>
  <dc:description/>
  <dc:language>en-US</dc:language>
  <cp:lastModifiedBy>ف</cp:lastModifiedBy>
  <dcterms:modified xsi:type="dcterms:W3CDTF">2007-05-01T20:13:01Z</dcterms:modified>
  <cp:revision>23</cp:revision>
  <dc:subject/>
  <dc:title>PowerPoint Presentation</dc:title>
</cp:coreProperties>
</file>