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BDD-3C91-438A-B029-568FB1C8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C4B-E965-4E09-AE0E-247AFDC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3FE-82F8-4835-98C8-7FBB7A66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349-4144-4936-B2DF-5B59C346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A5C-7C9E-4B16-B604-FC30A4A3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9B8-1C86-4BDE-AD1E-AC548EB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5E9-FB35-4B27-A1B3-146953F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D06-A170-42B4-B5E0-81E7690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ED0-C8A7-4E9E-8FA6-5CF8CA1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710-1CF3-4FA6-BC71-2F6EF4C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F1F-ECE8-4FC3-A2DD-AD0BDB5E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7B9-398D-4C11-BAFF-C84BE874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67C-1B46-4278-AB41-0F4ED65D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440" y="0"/>
            <a:ext cx="58636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أبانا لستُ أد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كيف كان عمري يج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دون أن أدركَ أنّ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كنّ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آن إبنُ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ت ترعاني بحبِّ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لن أخافَ أبد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أنّك تُمسِك يم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5:30Z</dcterms:modified>
  <cp:revision>8</cp:revision>
  <dc:subject/>
  <dc:title>PowerPoint Presentation</dc:title>
</cp:coreProperties>
</file>