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BC1-59FD-4F1F-83B3-E6C061B8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021-FF7E-49CB-8C4B-E045A912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FE7-A7E0-4A6F-8D1E-DBAF516C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576-183F-4A19-B158-2CA0C4E9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159-D3C1-4050-969D-9045B53B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72B-4CDA-4A4A-A619-124E2C5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D6F-27F6-4C09-B3C4-52148BBF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04F-A473-4C25-B4AE-14FD60E7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23D-5D18-439B-922C-9D5398FF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1DB-D87F-46F1-AFBA-70220195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CEE-B037-492C-BEFE-02B98F0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16B-37BB-4407-83D7-E3389A9D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FB04-976F-484B-A71D-C5BFFF262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451070cXNiyMwIs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6019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عبك يا رب يسبّح اسمك كلّ القوات تسجد لك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لائكة تعظّمك يسو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 الطري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وحّدنا دوماً بروحك لنعمل مشيئتك</a:t>
            </a:r>
            <a:br>
              <a:rPr sz="4000"/>
            </a:b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من الأعماق نصرخ لك يسوع نحبك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793824aphalWqawZ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كل التسبيح يليق بك يا الله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شُكراً ومديح قليل لك يا رباه</a:t>
            </a:r>
            <a:br>
              <a:rPr sz="4000"/>
            </a:br>
            <a:br>
              <a:rPr sz="4000"/>
            </a:b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7:02:23Z</dcterms:created>
  <dc:creator>SUZANNE.MD</dc:creator>
  <dc:description/>
  <dc:language>en-US</dc:language>
  <cp:lastModifiedBy>USER</cp:lastModifiedBy>
  <dcterms:modified xsi:type="dcterms:W3CDTF">2003-02-03T12:24:12Z</dcterms:modified>
  <cp:revision>2</cp:revision>
  <dc:subject/>
  <dc:title>PowerPoint Presentation</dc:title>
</cp:coreProperties>
</file>