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D04-CA70-41FD-B0D9-F56A28A5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A6F-8F99-424F-8B11-7A67ECF9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6FA-C986-41FD-A1F2-CE419C13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9A4-1E23-4E1B-AF6F-33E9B3DB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751-1261-422E-9649-91744318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856-0552-47C1-907D-9DDA439F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AEB-0B64-446B-940B-B262DE7D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D0D-091A-4DD4-BE3F-CE554C83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ABE-C851-463D-BEA0-9E545D76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C7E-EAA8-421E-AAD3-94184003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65A-0923-486D-8A72-662C2A2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966-96F5-4785-8E19-449CAF69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138D-80A2-4C8B-BE72-6B89541AB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347760"/>
            <a:ext cx="45720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يا آبَ الحقِّ الرحمان خُذ منَّا هذا القربان، قُربانَ ابنِكَ الفادي بَحرِ الحبِّ والغفران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يا بكرَ الآبِ المحجوب يسوعُ الفادي المحبوب، حيٌّ أنتَ يا ابن الله حيٌّ أنتَ يا مَصلوب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له الآب القادر والربِّ الابنِ الغافر والروحِ الحيّ الطاهِر غنُّوا المجدَ كلَّ آ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34:21Z</dcterms:created>
  <dc:creator>HANI SAFI</dc:creator>
  <dc:description/>
  <dc:language>en-US</dc:language>
  <cp:lastModifiedBy>HANI SAFI</cp:lastModifiedBy>
  <dcterms:modified xsi:type="dcterms:W3CDTF">2003-04-25T04:34:21Z</dcterms:modified>
  <cp:revision>1</cp:revision>
  <dc:subject/>
  <dc:title>Slide 1</dc:title>
</cp:coreProperties>
</file>