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377-8778-41B8-A9B8-040A1948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517-DC65-4371-A886-BA2B3A9B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E15-27C8-4CEF-8589-858B8DB5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E35-9F8E-4DED-9909-5C8A4665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B88-F155-4199-B320-CD09B2E7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F2E-57F3-499B-B3DB-E80EC33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5A7-FE21-4D1A-87BB-470C1B5E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E94-9295-423A-BFF8-E3D01B4B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7B2-9A24-4944-915C-14EEFCB2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E5D-8F42-4EE2-B914-FF64DE9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B61-C55D-42E0-9475-A892337D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BF0-6862-4FDB-8D62-CBEB717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6C24-B438-44A2-9C91-248A9BFA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653256EdbXgQadtT_ph" descr=""/>
          <p:cNvPicPr/>
          <p:nvPr/>
        </p:nvPicPr>
        <p:blipFill>
          <a:blip r:embed="rId1"/>
          <a:stretch/>
        </p:blipFill>
        <p:spPr>
          <a:xfrm>
            <a:off x="-3657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6095880" cy="62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ٌ من إله يسوعُ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إنه ابنُ الله ابنُهُ الوح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زلَ من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صارَ انسانا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ُلِد من العذ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دُنيان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220153ufSbGEcTWm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-98280"/>
            <a:ext cx="2667240" cy="9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ورٌ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بنُ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مسُ الده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هيُّ الط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زلَ إلى القب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موت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َّقَ الديج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امَ أحي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960" y="621648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7112962IYqlIRsJHe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15000" y="0"/>
            <a:ext cx="3429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ساوٍ للآ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هَرُ يسوع وقلبُهُ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ذاب بحبنِا وُ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سوعُ في القربان قوتُنا الأشه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نُهى الأزما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جدُنا الأبه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0:39:13Z</dcterms:modified>
  <cp:revision>4</cp:revision>
  <dc:subject/>
  <dc:title>PowerPoint Presentation</dc:title>
</cp:coreProperties>
</file>