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A9A-8192-4C4C-BDC9-94C37E2E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E51-8E64-448F-8531-FB73E4F0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588-D816-432E-93E9-7D7173DE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FDC-6881-4AB5-897A-601BD1A4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423-84FA-4903-8E0D-3636F152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2FB-4950-436E-9FF2-0D5D5779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9DA-0C69-4614-9037-B5382847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312-3CD7-4E34-B671-DC0745E7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81F-EB14-4C11-BE48-6CBFEF2C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2BC-0922-4978-AE94-B4BF0DC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2F4-1B5E-47D9-8C32-0376859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35F-0822-4062-88D2-4642028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63E2-431E-4ECB-81B7-A96CE5303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52560" y="2238480"/>
            <a:ext cx="3638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0" y="2138400"/>
            <a:ext cx="33336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47:00Z</dcterms:created>
  <dc:creator>SUZANNE.MD</dc:creator>
  <dc:description/>
  <dc:language>en-US</dc:language>
  <cp:lastModifiedBy>HANI SAFI</cp:lastModifiedBy>
  <dcterms:modified xsi:type="dcterms:W3CDTF">2003-04-16T13:11:01Z</dcterms:modified>
  <cp:revision>2</cp:revision>
  <dc:subject/>
  <dc:title>PowerPoint Presentation</dc:title>
</cp:coreProperties>
</file>