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95B-26D0-4FD8-BADC-9EF4E1F5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E9D-C71E-41AF-B8EA-B2D1C794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29E-CA77-40CF-904A-57FF6A6E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A79-A971-436E-880F-762CAE9B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195-932D-420F-822A-31A2719A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B94-8323-43C4-9A32-7C591151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DE8-890D-4314-A8A7-E86547EF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827-D50A-4520-8E3F-D39EDCCB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D94-5655-4ADC-B425-24085037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C55-39B2-4678-B094-C1702C29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EA0-4662-4A53-B739-21DFB23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0E1-8F14-4784-9F9B-21F9241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B247-0127-46CF-9D0D-D421616F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يا ر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ز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قدر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جلال والبه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مج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الجبر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ك الملك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ك السياد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د ارتفعت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لكا على                    الجم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1-31T04:27:31Z</dcterms:modified>
  <cp:revision>7</cp:revision>
  <dc:subject/>
  <dc:title>PowerPoint Presentation</dc:title>
</cp:coreProperties>
</file>