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C33-E1A4-4CA9-BF58-5605D2B1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3C3-7E10-4E49-B62F-9542AFF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904-E7D2-4689-9E5E-F9CA3C92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5E9-C165-44BC-84ED-F4C7C1BE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84D-2EF6-48E3-BA70-FFB752B1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D71-D60E-4023-A5BD-E2E206C3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D2E-B9CC-4BD2-A7C9-294D093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454-84BF-44AE-9240-F49F598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EC3-5D03-4312-B5FD-A133D6A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592-3BA7-44E9-A824-5003754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676-3C96-4321-9975-ACFD8F09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03C-B6EF-4FC5-8756-D2B8778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F42-E205-4875-97AF-90230B435D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4005360"/>
            <a:ext cx="4284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ربي جسد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3527280"/>
            <a:ext cx="7345440" cy="29768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412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الأغصانِ اثبَتوا ف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أتوا بثِمارٍ جمّ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3624120"/>
            <a:ext cx="7129800" cy="59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َ الرَّبُ أَنَا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ُمْ أَغْصَانُ الْكَرْمَ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1989000"/>
            <a:ext cx="46432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َ الهائِم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صحر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بحَثُ ع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طَراتِ الماء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42600" y="0"/>
            <a:ext cx="63604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لهَف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لبي إليك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هِداية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الرج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" name=""/>
          <p:cNvSpPr/>
          <p:nvPr/>
        </p:nvSpPr>
        <p:spPr>
          <a:xfrm>
            <a:off x="4788000" y="198900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يأك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بز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يشرَ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خمرِ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8600" y="189000"/>
            <a:ext cx="663624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رث الحيا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ب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ُعطى السعادة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دُنيا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جسدُكَ مأكَلٌ حقاً ربّي دَمُكَ مشرَبٌ حقاً طوبى لمن يرتَوي منهم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4-17T23:27:04Z</dcterms:modified>
  <cp:revision>16</cp:revision>
  <dc:subject/>
  <dc:title>PowerPoint Presentation</dc:title>
</cp:coreProperties>
</file>