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B16-D918-4B0C-8AE1-3697780A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DFD-0EFF-4DB1-8278-411D1450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007-F638-43F6-A59E-2904A7FA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081-42C8-4A5D-83A8-A1DEE62F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C64-51C2-41E4-A303-980A9F52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079-EE39-4626-B729-86326BF0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5FD-461F-483F-8B27-6B70C432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5F5-C5FA-42F1-8402-7FA8DB5E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C37-D70E-41C0-9937-75B134B7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576-CDBB-46F3-9A43-379889FD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5E4-E8F7-4B78-A239-8512E8D1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5A3-80D1-49EB-9B89-7357AE3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3B68-7973-4E24-979D-B0C0BF5DA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591" descr=""/>
          <p:cNvPicPr/>
          <p:nvPr/>
        </p:nvPicPr>
        <p:blipFill>
          <a:blip r:embed="rId1"/>
          <a:stretch/>
        </p:blipFill>
        <p:spPr>
          <a:xfrm>
            <a:off x="-1679400" y="0"/>
            <a:ext cx="640368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91120" y="0"/>
            <a:ext cx="4952880" cy="7405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صمتِ الكونِ أدعو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عمق وجودي أشدو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ُسكُن في قلبي وروحي</a:t>
            </a:r>
            <a:r>
              <a:rPr b="1" lang="ar-SA" sz="3200" spc="-1" strike="noStrike">
                <a:solidFill>
                  <a:srgbClr val="6600cc"/>
                </a:solidFill>
                <a:latin typeface="Simplified Arabic"/>
                <a:ea typeface="Times New Roman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ملأني سلام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إقبلني طِفلا في سما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ملأ عينيَّ بِسَن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لا أستحقُّ الغُفران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لكن أرجو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من عَرشِكَ تحنو عل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نفسي تمحو آلامي ويأس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تملأني حبًّا يا رب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cc"/>
                </a:solidFill>
                <a:latin typeface="Simplified Arabic"/>
                <a:cs typeface="Times New Roman (Arabic)"/>
              </a:rPr>
              <a:t>يكفيني سلام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79653" descr=""/>
          <p:cNvPicPr/>
          <p:nvPr/>
        </p:nvPicPr>
        <p:blipFill>
          <a:blip r:embed="rId1"/>
          <a:stretch/>
        </p:blipFill>
        <p:spPr>
          <a:xfrm>
            <a:off x="0" y="0"/>
            <a:ext cx="61880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152280"/>
            <a:ext cx="315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نا كلي إي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لكَ فيَّ وجو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ولِعرشِ النِّعَم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لقُدسِ الأقداسِ أت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5908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2280" y="2362320"/>
            <a:ext cx="9296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آمنتَ دوماً بكياني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ِرُغمِ قلَّةِ إيماني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بِعَينِ الآبِ ترعان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غمُرُني حُبَّك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اركتَ عمري وآمال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شْبَعتَ خيراً أيام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فرتَ كلَّ آثام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سِرتُ مُلكَك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ليك أرفَعُ تهاليلي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لَّ أفراحي وتسابيحي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تُفرِحُ قلْبَكَ أناشيدي وأُعلِنُ مَجدَك</a:t>
            </a:r>
            <a:r>
              <a:rPr b="0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0:55:16Z</dcterms:created>
  <dc:creator>USER</dc:creator>
  <dc:description/>
  <dc:language>en-US</dc:language>
  <cp:lastModifiedBy>USER</cp:lastModifiedBy>
  <dcterms:modified xsi:type="dcterms:W3CDTF">2002-11-13T14:21:55Z</dcterms:modified>
  <cp:revision>1</cp:revision>
  <dc:subject/>
  <dc:title>PowerPoint Presentation</dc:title>
</cp:coreProperties>
</file>