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B49-CD93-4A57-A883-FB4F9DFC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25B-DF55-484F-A879-39E3B7EF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14A-C266-40A1-BE13-FFEA1157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549-4B36-468C-BB61-86E430A5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D36-FB79-4503-8E20-954EA5C4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42D-D0FA-46F3-BB7A-4DB696D8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4D0-DEE2-4341-B386-378534DB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D60-B6B6-43E1-B4D7-49FF4ABE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3C8-A2F4-4992-BFAB-A993FB49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4F9-780B-4CE4-9AEA-87059FA4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EA5-4FB2-4B52-BF9E-2D593088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847-DF8C-43EE-BE80-560CC42A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309C-282D-410E-9E8A-2B2D7C9BD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vesque1_med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42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0"/>
            <a:ext cx="36576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الَ يا روحَ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اسكن فينا للدوا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ت حياةُ قلبِ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دِّسنا لِنَتَّحِد ب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هللويا 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لم تعال يا أبَ الفقر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ضرمنا بنار حبِّ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9:09:23Z</dcterms:modified>
  <cp:revision>10</cp:revision>
  <dc:subject/>
  <dc:title>PowerPoint Presentation</dc:title>
</cp:coreProperties>
</file>