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BDC5-2691-4A33-9F24-EEE5979F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D44D-5EB4-453D-B5DC-5F443C7B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82B-34D0-47CE-BD4A-1F119EDB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F0C-337A-4ACC-A2EB-8287D3FA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C616-1A29-4F7D-82B5-1D61B358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B8F-F9E3-4218-AFD9-93CCE056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427-356F-426F-A418-17F169D7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A5A-C8E7-475D-B4C7-E4DF9902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AB28-5F57-45FF-8EC6-8AD5030D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57EA-E34C-4ACE-BC6A-EA57779D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46F-2673-4669-9BD0-42886A60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1CBC-3381-472E-A217-B718176D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BA0D-83A8-475B-9BBF-FAAB655D1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513539ycDdZUpApJ_ph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72200" y="0"/>
            <a:ext cx="2666880" cy="88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ربّ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رعان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فلا شيء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يُعوِزُني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1722214aJLtUnFFfJ_ph" descr=""/>
          <p:cNvPicPr/>
          <p:nvPr/>
        </p:nvPicPr>
        <p:blipFill>
          <a:blip r:embed="rId1"/>
          <a:stretch/>
        </p:blipFill>
        <p:spPr>
          <a:xfrm>
            <a:off x="0" y="0"/>
            <a:ext cx="5748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1320" y="304920"/>
            <a:ext cx="3352680" cy="10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مراعٍ خصيبةٍ يُقيلني ومياهَ الراحة يورِدُ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ردُّ نفسي وسبُلَ البرِّ يهدي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513539ycDdZUpApJ_ph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5880" y="0"/>
            <a:ext cx="2743200" cy="88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ربّ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رعان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فلا شيء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يُعوِزُني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513720KKRTabSSPZ_ph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91320" y="0"/>
            <a:ext cx="335268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إني ولو سلكتُ في وادي ظال الموت لا أخافُ سوءاً لأنك معي عصاك وعُكّازُك هما يعزياني</a:t>
            </a:r>
            <a:r>
              <a:rPr b="0" lang="ar-SA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513539ycDdZUpApJ_ph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72200" y="0"/>
            <a:ext cx="2666880" cy="88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ربّ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رعان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فلا شيء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يُعوِزُني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9:36:20Z</dcterms:created>
  <dc:creator>SUZANNE.MD</dc:creator>
  <dc:description/>
  <dc:language>en-US</dc:language>
  <cp:lastModifiedBy>USER</cp:lastModifiedBy>
  <dcterms:modified xsi:type="dcterms:W3CDTF">2003-01-22T11:14:34Z</dcterms:modified>
  <cp:revision>2</cp:revision>
  <dc:subject/>
  <dc:title>PowerPoint Presentation</dc:title>
</cp:coreProperties>
</file>