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C20D-1786-45E1-AEE6-72F31649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723-230C-4BD2-B8E9-51E46820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1DF3-9C26-4249-83FA-12E60D23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EAF-FA2D-4D01-B296-95E3955D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52C0-DD08-49CC-A8F9-DD49F6D8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5ED-E33B-4E20-A7C1-EE07196F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81A6-F039-4DD7-995D-FCC18A41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A30-BBF0-4096-A7F3-9C4A4D3C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471-FCD8-4195-B632-57650AC3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57C7-CE2D-489F-B1F9-C1FE8D76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E3C-17E7-45BE-B63F-7DDB34A2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959-4567-4755-A536-8C47F69E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CF4F-7D8C-47D9-BAA4-7D3139D17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evesque1_med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42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0"/>
            <a:ext cx="365760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َ يا روحَ 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هللويا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اسكن فينا للدوا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هللويا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حياةُ قلبِ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هللويا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دِّسنا لِنَتَّحِد ب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هللويا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لم تعال يا أبَ الفقر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أضرمنا بنار حبِّ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9:09:23Z</dcterms:modified>
  <cp:revision>10</cp:revision>
  <dc:subject/>
  <dc:title>PowerPoint Presentation</dc:title>
</cp:coreProperties>
</file>