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FCE-45FF-42BD-ADE4-4D9A8776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CC7-A3F5-4D49-A670-D5EE8761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BFD-05C7-45EE-8F31-2606FC16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CFD-82AC-433F-AEE4-A49EA58C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A3A-67F9-4373-AE3F-24839BB4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079-F1F4-4BE6-BA0B-19E0296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EC5-149A-420C-B8B9-DC7F5C1A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DD1-02E5-4D29-9781-C4A702B7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87C-865C-41CC-ACB0-BA11AE7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C82-02BB-46D3-BF43-E388A43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F52-3CA3-42A7-95AF-125A2D7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C7D-E6D5-4218-84B6-BB980D2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DC54-6A54-46C5-8E2D-9651A95F4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840" y="15228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لي سواك يا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رضاك يا سيدي أنت مُتّكَل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ُطَمئِنُ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33600" y="304920"/>
            <a:ext cx="122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فس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رِّح قل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نَرتَ لي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نما ألقاك يا سيدي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ذبٌ ما أحلاك يا سيدي        تُبَدِّدُ همّ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َرِّجُ 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وسط الأشواك يا 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عينيَّ تراك يا سيدي تُضَمِّدُ جُرح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جدِّدُ فَرَح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61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في حماك يا سيد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يني لعُ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قوَّتي حبَّ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صخرتي وع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42:37Z</dcterms:modified>
  <cp:revision>9</cp:revision>
  <dc:subject/>
  <dc:title>PowerPoint Presentation</dc:title>
</cp:coreProperties>
</file>