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18A6-D846-4DF3-A5CC-183094763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115E-7A0C-45BF-A6F4-9A53BF4A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6625-FE16-485F-B05D-D26ECB1C4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8CBB-468A-4561-9B5F-EB4F6A18A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CA7C-C6C4-4FF8-8F83-06864767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CCC3-8BD1-4727-8087-71BB5FB6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F45B-DB51-4E09-B297-BA320CCD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E007-D7ED-43E0-8531-48C398A7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5F25-9D44-4225-8C0F-25776EF4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91FE-8A85-411D-8E18-7ACC9B7C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7FAC-2EC1-4343-AD99-C988B159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7916-6FD5-4F2E-9B71-2524FABE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7081-8941-4B5F-AF78-F3F3CB378FC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08360" y="4797360"/>
            <a:ext cx="5329440" cy="184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أراك اله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4" name=""/>
          <p:cNvSpPr/>
          <p:nvPr/>
        </p:nvSpPr>
        <p:spPr>
          <a:xfrm>
            <a:off x="0" y="0"/>
            <a:ext cx="5580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أراك الهي أر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 بما صنعته يد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فأنشد فيك الهد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 يا الهي و يمل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 قلبي سن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28640"/>
            <a:ext cx="630072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الهي أراك الهي أر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 بما صنعته يداك الهي أراك الهي أر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68600" y="0"/>
            <a:ext cx="65754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أراك بنور الصّباح الحنون بلون الأزاهير فوق الغصون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فأسمع صوتك في كلّ صوب و اصغي اليك بقلب سكو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32000" y="1844640"/>
            <a:ext cx="6012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الهي أراك الهي أراك بما صنعته يداك الهي أراك الهي أر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5754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أمتّع عيني بكلّ الرّبو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فأبصر فيها جمال يسو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محبّة فادي تغمر نفسي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فتبعث فيّ التّقى و الخشو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413000"/>
            <a:ext cx="6012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الهي أراك الهي أراك بما صنعته يداك الهي أراك الهي أر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68600" y="0"/>
            <a:ext cx="65754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عرفتك دوما تشع ضياء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و فوق الصّليب رجاء الفدا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سكنت فؤادي و نوّرت فكر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فزال عذابي و زال الشّقا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32000" y="1700280"/>
            <a:ext cx="6012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الهي أراك الهي أراك بما صنعته يداك الهي أراك الهي أر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4" name=""/>
          <p:cNvSpPr/>
          <p:nvPr/>
        </p:nvSpPr>
        <p:spPr>
          <a:xfrm>
            <a:off x="0" y="0"/>
            <a:ext cx="5580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أراك الهي أر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 بما صنعته يد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فأنشد فيك الهد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 يا الهي و يمل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 قلبي سن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628640"/>
            <a:ext cx="630072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الهي أراك الهي أر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 بما صنعته يداك الهي أراك الهي أراك (</a:t>
            </a: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7T17:09:33Z</dcterms:created>
  <dc:creator>Charbel Azar</dc:creator>
  <dc:description/>
  <dc:language>en-US</dc:language>
  <cp:lastModifiedBy>Personal</cp:lastModifiedBy>
  <dcterms:modified xsi:type="dcterms:W3CDTF">2008-04-24T05:16:04Z</dcterms:modified>
  <cp:revision>7</cp:revision>
  <dc:subject/>
  <dc:title>Slide 1</dc:title>
</cp:coreProperties>
</file>