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C41A-0CE0-4ED4-89F5-E7DD2983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EFF-31AD-4A1B-92BB-275F79E7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4BB9-98FF-42A5-8AE9-7B1AD07B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781-F8E1-4406-BB66-300443CB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9B7-985F-4163-8359-A5B128B0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6AC-FCFC-4149-8D50-12AC06CA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DC9-5A6C-492F-AB69-B19293E3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865-2BC3-42C0-B4D7-1D23A04A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9AB-5D63-40ED-938E-7C5F4C48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62C-DB48-406C-9718-09DA447C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337-C6B0-4524-80CF-5353DEE2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180-2CC4-4345-8F9C-BE3E9765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6AA1-1D84-47D2-9CA8-49EC702C6FF9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68280"/>
            <a:ext cx="9144000" cy="808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ي في ستر  دما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حَب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نْ فَدَانِي إِذْ قَضَى فَوْقَ الصَّلِيب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دْ وَجَدْتُ فِيكَ غُفْرَانَ ذُنُو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غَطَاءُ الْحُبِّ يَخْفِي لِي عُيُو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يَسُوع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حَنَانِكَ تُكَفْكِفُ دُمُوع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نْتَ تَحْمِينِي مِنَ الشَّرِّ الْمُرِيع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ثمَّ تَهْدِينِي إِلَى الْمَجْدِ الرَّفِيع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َ يَا رَجَائ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فَعُ الرَّأْسَ بفَخْرٍ فِي السَّمَاء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كْمُنُ فَرَحِي هُنَاكَ فِي الْعَلاَءِ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مَعَ الأَبْرَارِ أَشْدُو باِلثـَّنَاء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2060640"/>
            <a:ext cx="899172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رَبِّي فِي سِتْرِ دِمَا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PSE</cp:lastModifiedBy>
  <dcterms:modified xsi:type="dcterms:W3CDTF">2004-03-12T15:50:18Z</dcterms:modified>
  <cp:revision>23</cp:revision>
  <dc:subject/>
  <dc:title>Slide 1</dc:title>
</cp:coreProperties>
</file>