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C46-04B7-40E6-9B17-3AFFA6F2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276-6DDD-4037-B7AB-DBE22F2D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C6A-5AA6-46A4-AD09-5C959478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FE2-6916-4F80-9743-328B2502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A95-2BFC-4741-80A4-F779C302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E85-A790-4985-980B-CB4672D9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310-EC1A-48E2-972D-8B983FF8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224-57DF-4D81-BD0B-29A6C8F5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50B-5B65-4E4A-A874-4D638004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3E6-2C3A-43A1-B2DD-0B1DDAC3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304-B0F1-4E89-910F-F74AEDFA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26E-23D4-44AA-9E2D-F89CC016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7CE7-4F35-4C44-8DA1-767C28A8A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215561trgpRaNsdy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57800"/>
            <a:ext cx="91440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مالي سواك ياسيدي       حياتي رض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        أنت مُتّكَلي .... تُطَمئِنُ نفسي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6457ZyMZbofvp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334120"/>
            <a:ext cx="8915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لوٌ ما أشهاك يا سيدي     نفسي لا تس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تُفرِّح قلبي  ...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َرتَ لي درب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138657fOyBjnytPv_ph" descr=""/>
          <p:cNvPicPr/>
          <p:nvPr/>
        </p:nvPicPr>
        <p:blipFill>
          <a:blip r:embed="rId1"/>
          <a:stretch/>
        </p:blipFill>
        <p:spPr>
          <a:xfrm>
            <a:off x="-198108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7120" y="0"/>
            <a:ext cx="1676160" cy="9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cs typeface="Arabic Transparent"/>
              </a:rPr>
              <a:t>حينما ألقاك يا سيدي       عذبٌ ما أح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ea typeface="Arabic Transparent"/>
              </a:rPr>
              <a:t>        تُبَدِّدُ همّي  ..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cs typeface="Times New Roman"/>
              </a:rPr>
              <a:t>تُفَرِّجُ ع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340044ekIzaANufR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1905120"/>
            <a:ext cx="32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وسط الأشواك يا سيدي عينيَّ تراك يا سيدي      تُضَمِّدُ جُرحي ...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تُجدِّدُ فَرَ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7111219eXbTqlfTt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5257800"/>
            <a:ext cx="86868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نفسي في حماك يا سيدي    عيني لعُلاك يا سي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       قوَّتي حبَّك ...  </a:t>
            </a: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صخرتي وعد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9:29:42Z</dcterms:created>
  <dc:creator>SUZANNE.MD</dc:creator>
  <dc:description/>
  <dc:language>en-US</dc:language>
  <cp:lastModifiedBy>USER</cp:lastModifiedBy>
  <dcterms:modified xsi:type="dcterms:W3CDTF">2002-12-12T16:02:34Z</dcterms:modified>
  <cp:revision>2</cp:revision>
  <dc:subject/>
  <dc:title>PowerPoint Presentation</dc:title>
</cp:coreProperties>
</file>