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87C-3AEA-4D8B-89BF-156533F6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371-B1EA-4F24-B52E-ADB559B9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337-6BA7-400E-B738-5700BA5F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C53-4AAB-49D5-A73A-5DC97A9E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782-31BB-46A8-B217-2DA0E1F8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080-3472-4628-BB6C-40C8688E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602-AE67-4770-A051-D745E72D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2A4-6700-47DE-BCD7-A57D2A9A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E50-23E7-4DAA-A100-A34510E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5EB-E106-49E8-9E11-C49A262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3FB-D95B-4516-B9F7-0D545D18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032-36EB-48E6-9039-792A409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5580-EE8F-482E-9459-380453DE9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9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راع مع قطيعــه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أب مع بنيـ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د الرب دومـ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يرشد في الطري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في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قات الشبـع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في أوقات الج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كـل من يديه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د الرب المسيح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200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572000" cy="72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راع يقودنا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آب يقودن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باحاً ومسـاءً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اليـوم الجد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ـراع يقودنــا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آب يقودن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باحـاً ومساءً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و الـرب الإ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1295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831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343400" cy="90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حينمــا نأتي إليه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ذلات الب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روحه القدوس يشفي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يمحو كـل أ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إلى المياه الراحة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هـو يريدن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ا نخاف ظل الموت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أنه معنا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42:28Z</dcterms:created>
  <dc:creator>SUZANNE.MD</dc:creator>
  <dc:description/>
  <dc:language>en-US</dc:language>
  <cp:lastModifiedBy>HANI SAFI</cp:lastModifiedBy>
  <dcterms:modified xsi:type="dcterms:W3CDTF">2003-04-30T13:46:23Z</dcterms:modified>
  <cp:revision>1</cp:revision>
  <dc:subject/>
  <dc:title>PowerPoint Presentation</dc:title>
</cp:coreProperties>
</file>