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EA9-DB50-49C4-95EF-2D9B2A87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8E8-A2BE-4524-9F7F-6A5E3DA9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CAE-F65E-4BE8-ACEC-8965FEC9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B53-018C-4397-9405-0C7154BE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55A-6BD6-49C5-A76E-EFBAA84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8B0-6707-4B46-B86E-27AEDD39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4C9-4578-4F7E-A5AB-44B8A6EC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9C4-D1B2-4628-8BA4-F88C69D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FB5-2DAB-47AB-8EAF-FC480C0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916-0B52-4692-AD0D-A004FB48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377-C383-4068-A6EB-A8CEC5D4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5AA-244A-4ECF-AB7E-9849176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E208-6868-4C51-A3B7-5F1BBB3FD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66996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بِّّي أنتَ طر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في معاثرِ الحيا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ربي أنتَ رفي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عندَ ساعةِ المم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رَجَو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39720"/>
            <a:ext cx="35053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نارٌ لقل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أيضاً نس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 هديٌ لدرْ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فجْرِي الوسيم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29886SKrDwSrIIf_ph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6962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0"/>
            <a:ext cx="350532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َعْضُدِ الموجَعينَ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ساعدِ البائِس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شْبعِ الجائع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رْجعِ الخاطئين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َكَ دَعَو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وحدك رَجَو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غايةُ المُنى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نتَ مصدرُ الهَن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28:57Z</dcterms:modified>
  <cp:revision>2</cp:revision>
  <dc:subject/>
  <dc:title>PowerPoint Presentation</dc:title>
</cp:coreProperties>
</file>