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16D-DA84-41DD-A8E3-C216A2C0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577-CD87-4696-8307-D81651AA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757-F9DA-4DC9-ADB8-73051350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5EB-F27A-41B0-9D33-0CE6695E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C53-EA4C-41FC-9D8A-5340E952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33E-6200-4BA8-AF0F-6A90EE48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902-D6AB-4133-A249-1F814ED0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736-46B9-41BE-B7C4-1A3BEF66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658-6F99-4E56-8C11-5B3FFA0E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280-9781-426B-96D9-394B496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313-3FC0-4C39-95F9-095CB2A2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334-3AEA-464D-BF60-DC7008A6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6430-3728-4DF6-82BF-EF018EA2BA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723920"/>
            <a:ext cx="521964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ن تعمّدت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56000" y="0"/>
            <a:ext cx="4788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إذا تصلّب قلبي، تعال إليّ بعصف من الأناشيد 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0"/>
            <a:ext cx="471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وإذا أعمت الشهوة عقلي بالوهم والغبا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تعال إليّ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يّها الساهر، بالبرق والرعود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عطاياكَ لا متناهية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دايَ صغيرتان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2100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أسكبْ، فسوفَ تفنى الأجيال،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بقى في يديَّ فرا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20:20:54Z</dcterms:created>
  <dc:creator>Charbel Azar</dc:creator>
  <dc:description/>
  <dc:language>en-US</dc:language>
  <cp:lastModifiedBy>-</cp:lastModifiedBy>
  <dcterms:modified xsi:type="dcterms:W3CDTF">2003-01-06T16:33:39Z</dcterms:modified>
  <cp:revision>3</cp:revision>
  <dc:subject/>
  <dc:title>يا من تعمّدت في ماء الأردن عمّدنا بالروح القدس والنار</dc:title>
</cp:coreProperties>
</file>