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9DE-3760-4FC7-A239-F85CA616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922-EA78-4A43-8DD2-8E936687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83A-DE4F-4C31-97B2-3A004692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D55-63F8-42D2-AA17-28E7FC04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B98-B3BA-4400-AA76-DE56E798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471-61FA-40A1-9CEF-67BB8751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CD38-7452-4EEA-B02C-FBC37690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DC4-CBD9-472F-92FF-67921D16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0D1-24A2-4286-BE2A-F7BEA6CC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297-339C-42CB-ADE5-5D573288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F3C-FEDF-4B80-9269-706E430A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9C4-E16E-41DF-BD2B-D1E641F9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CA94-2FB9-4561-B9AD-0FE596FB4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22720" y="0"/>
            <a:ext cx="5089680" cy="7543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0"/>
            <a:ext cx="2819520" cy="11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Arial"/>
              </a:rPr>
              <a:t>فيكَ احتَميتُ يا ألله أنتَ إلهي إني آتٍ إليك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Arial"/>
              </a:rPr>
              <a:t>فيكَ اعتصَمْتُ يا أللهُ  فأنتَ سيدي ولا خيرَ لي سِواك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81560" y="0"/>
            <a:ext cx="5662440" cy="79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52280"/>
            <a:ext cx="3276720" cy="11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</a:rPr>
              <a:t>فيكَ اللهم كلُ رجائي فيكَ اللهمَ كلُ سعادتي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4920"/>
            <a:ext cx="358128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نتَ أمامي كلَّ حينٍ وعن يميني فلا أتزعزع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يبتهجُ قلبي بحُضورِكَ تُعلِّمُني سبيلَ الحي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81560" y="0"/>
            <a:ext cx="5662440" cy="7924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280"/>
            <a:ext cx="3276720" cy="11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</a:rPr>
              <a:t>فيكَ اللهم كلُ رجائي فيكَ اللهمَ كلُ سعادتي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13:49:58Z</dcterms:created>
  <dc:creator>HANI SAFI</dc:creator>
  <dc:description/>
  <dc:language>en-US</dc:language>
  <cp:lastModifiedBy>HANI SAFI</cp:lastModifiedBy>
  <dcterms:modified xsi:type="dcterms:W3CDTF">2003-05-30T14:00:15Z</dcterms:modified>
  <cp:revision>1</cp:revision>
  <dc:subject/>
  <dc:title>Slide 1</dc:title>
</cp:coreProperties>
</file>