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0E8-2766-41C6-B1FB-0DB282E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960-0A26-4EA9-A6C0-CD16BC9E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EC8-DB71-4498-964C-61A0CBB4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3CA-24D7-4A88-9391-A58D891E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1DE-1ABF-4193-8C2E-0960670D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351-CF48-4BFF-9967-9676286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D8C-1550-4EE7-A700-8D9B4912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C64-9FA3-47BA-9C41-1816267D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122-E8F0-4B56-B617-F2BC0D14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C51-5AD4-4AFB-8B2E-E24018F6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D91-D534-4977-86C5-52E56CD0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699-691F-47F8-A718-8A3097F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725-389B-4FA1-B0BE-5F04FCF01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6920" y="5013000"/>
            <a:ext cx="4678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Ruqah2 Normal"/>
              </a:rPr>
              <a:t>أصلي حب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3428640"/>
            <a:ext cx="3924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ل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خوف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شتي وابتعادي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0"/>
            <a:ext cx="356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حد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غمرني واملأ فؤاد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0" y="2707920"/>
            <a:ext cx="5796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ع إليك في لوعت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سمةٍ من شفتي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ربُ منكَ أهربُ إليكَ فشدَّني بجناحيك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2000" y="2707920"/>
            <a:ext cx="594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ُنشِدُ الدفءَ معك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دغدغ بلمسِك أجفا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رتاح إليك فضمني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ئلا أفلت من يديك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3471480"/>
            <a:ext cx="6948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َك يا ربّ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هتف بحبّ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ي ل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 حبّي مع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صلّيك يا إلهي أصلّيك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1:15:47Z</dcterms:created>
  <dc:creator>Charbel Azar</dc:creator>
  <dc:description/>
  <dc:language>en-US</dc:language>
  <cp:lastModifiedBy>-</cp:lastModifiedBy>
  <dcterms:modified xsi:type="dcterms:W3CDTF">2003-01-20T15:53:38Z</dcterms:modified>
  <cp:revision>11</cp:revision>
  <dc:subject/>
  <dc:title>أصلي حبك يا ربي</dc:title>
</cp:coreProperties>
</file>