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319C-11E1-4E60-8EF1-D05DCD8CE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A18C-F655-4D62-9308-178DDAED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EA2A-9BF9-4297-93B6-A0342DC7E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F148-5EF5-4922-B945-F9E865B1B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954B-4F40-416B-8BD8-4DAE00C1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E32F-3C1A-4865-A0C1-BEBC929C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C488-7A2F-4323-B0D7-B5DCECB7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FF02-AFF9-420E-869D-068A5EBB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3B31-0DB8-481C-9AF0-C5F40B51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9E36-22F8-4B6D-A789-BC17BDB9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D8BC-36E6-4AA1-BDC1-97C68D8F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CE55-D51B-41F1-B2A3-76DF8A49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4D0F-063E-409F-8243-C61C8CBD7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Arial"/>
                <a:cs typeface="????Boutros Rokaa"/>
              </a:rPr>
              <a:t>إليكَ رفعتُ عينيَّ</a:t>
            </a:r>
            <a:r>
              <a:rPr b="0" lang="en-US" sz="8800" spc="-1" strike="noStrike">
                <a:solidFill>
                  <a:srgbClr val="ffffff"/>
                </a:solidFill>
                <a:latin typeface="Arial"/>
                <a:ea typeface="????Boutros Rokaa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ليكَ رفعتُ عينيَّ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يا ساكِنَ السماواتِ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كما أنَّ عيونَ العبيدِ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لى أيدي مواليهم</a:t>
            </a:r>
            <a:r>
              <a:rPr b="1" lang="en-US" sz="88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كما أنَّ عيني الأَمَةِ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لى سيدتها كذلك عيونُنا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لى الربِ إلهـِنا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حتى يتحنَّن علين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تحنَّنَ علينا يا ربُ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تحنَّن علينا فقد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طالـما امتلأنا هواناً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طالما امتلأت نفوسنا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من هُزؤِ المترَفينَ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وإهانةِ المتكبّرينَ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11:17:01Z</dcterms:created>
  <dc:creator>Charbel Azar</dc:creator>
  <dc:description/>
  <dc:language>en-US</dc:language>
  <cp:lastModifiedBy>Charbel Azar</cp:lastModifiedBy>
  <dcterms:modified xsi:type="dcterms:W3CDTF">2003-01-31T11:17:01Z</dcterms:modified>
  <cp:revision>1</cp:revision>
  <dc:subject/>
  <dc:title>إليكَ رفعتُ عينيَّ </dc:title>
</cp:coreProperties>
</file>