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876E-CE9A-46CF-AACC-D159921C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AC36-3415-4EE8-A479-F797AD29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3B99-A4BB-4A29-98BE-3F919173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88C3-7720-4E2E-B5E2-6B3E5450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6CFD-43B5-4957-8D46-3CAEC327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7ABD-591A-466A-998D-B179A001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69E4-8985-4026-A700-A944A448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A564-AB57-4854-ADA8-950A8F8C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702E-CCCD-4DDC-B178-23E861CC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8FE0-6E42-4392-9491-6FCF188A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358C-EDE5-471F-87C1-2C0956A0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F662-D1DF-4DB9-9E11-39479371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8050-6AA0-472A-9C4B-F9ED794EB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h02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89280" y="4762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1395000" y="0"/>
            <a:ext cx="8235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ff"/>
                </a:solidFill>
                <a:uFillTx/>
                <a:latin typeface="Times New Roman"/>
                <a:cs typeface="Arabic Transparent"/>
              </a:rPr>
              <a:t>يسوع أنت إلهي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سوع أنت إلهي     حبك شافيَ الوح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تَ حبيبُ نفسي أبداً  يسوع أنتَ من أر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h10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08120" y="0"/>
            <a:ext cx="56001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سجدُ أمامَك إله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عترفُ بك ملك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ا هي حياتي في يديك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فعل بها ما تر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سوع أنت إلهي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بك شافيَ الوح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تَ حبيبُ نفسي أبداً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يسوع أنتَ من أريد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h0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809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80060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عال واملك على قلبي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توقُ إليكَ تعا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ُرنِّم لك شفتاي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أُحبك للأبد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191120" y="458640"/>
            <a:ext cx="476388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نحني لاسمِكَ كل ركب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ويعترف كل لسان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سمك يسوع خلاصي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أردده في كل ح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سوع أنت إلهي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حبك شافيَ الوح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تَ حبيبُ نفسي أبداً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يسوع أنتَ من أر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th10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52:49Z</dcterms:created>
  <dc:creator>USER</dc:creator>
  <dc:description/>
  <dc:language>en-US</dc:language>
  <cp:lastModifiedBy>USER</cp:lastModifiedBy>
  <dcterms:modified xsi:type="dcterms:W3CDTF">2003-02-03T14:36:41Z</dcterms:modified>
  <cp:revision>3</cp:revision>
  <dc:subject/>
  <dc:title>PowerPoint Presentation</dc:title>
</cp:coreProperties>
</file>