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768-FA8D-4474-BC85-91AB27A3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8F69-9FA7-4449-9313-B8855E1B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91B7-5862-45CB-B579-2B63878C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6CA-97AC-4225-9BD7-4ABA284B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F490-5F87-4C28-8CAC-6B64FAD1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517-4D39-4F39-A93B-8EC6318E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761-9EEC-441A-B014-0A8A7EB7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3F0F-7CB3-4B70-8414-14B5A265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FB5A-BAF6-4111-A581-30048059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02A-6115-40F8-8B22-1802605A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CD28-F14B-4F3C-8635-387BD1AC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1D93-C452-4E7F-8B9A-66EB3E3A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23F5-4070-47AD-A21A-BF3E90438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114800" cy="11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بِسرّ قيامة  المسيح ربِنا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نستمدّ الغفر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نهتف مبارك مَن بصلبه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عـتـقـنا من الطغي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ه قدوس قدوس  قدوس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تعظم رحمـ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00360" y="0"/>
            <a:ext cx="55436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352680" cy="9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معظم تذكار   أمّه مريم        سيّدة  الأكو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ومكرّم ذكر جميع القديسين وشعبه بني  الإيم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هللوي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9:33:28Z</dcterms:created>
  <dc:creator>SUZANNE.MD</dc:creator>
  <dc:description/>
  <dc:language>en-US</dc:language>
  <cp:lastModifiedBy>HANI SAFI</cp:lastModifiedBy>
  <dcterms:modified xsi:type="dcterms:W3CDTF">2003-04-16T13:53:06Z</dcterms:modified>
  <cp:revision>1</cp:revision>
  <dc:subject/>
  <dc:title>PowerPoint Presentation</dc:title>
</cp:coreProperties>
</file>