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4D0-4767-4981-89F5-868AE1BB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43D-CBD7-4283-8DEE-A2D5F92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DDB-3B2D-4577-8605-9A4D7410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16A-0871-4178-B675-01E9D7C9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ABC-3779-492D-BCB9-28657A2D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9D7-4694-4341-A97A-8C3EDA88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913-DACD-4C29-9384-D570D42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D50-F8FE-4581-BF80-E4484986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3A5-0500-41DD-835B-FE5E2B1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88-4D3D-4C54-A5CE-C722A9E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1AB-CFAA-4C5D-A19E-E44FB808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62F-FE8F-4AFF-B2A8-AB6BE8A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C31D-67D7-4A85-8D30-31256C29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24816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حمدَ رددوا لله ربِّنا ولنتلُ دائماً من عمقِ قلب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ادوا بملكه كلُ العوالم يحيا مليك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200400" cy="12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ليلُ دامسُ والقلبُ قاتمٌ كالشمسِ مِن علِ يسوعُ قادمُ يحيا 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سوعُ للسما حيثُ السعاده حقاً طريق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95560" y="228600"/>
            <a:ext cx="524844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8098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قد ضلَّ جِنسنا والموتُ أُعلِ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ربُ مَنْ لَنا سلوى لحُزن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سوعُ قد محا بالصلبِ موتَنا أضحى حياتَ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0:21Z</dcterms:created>
  <dc:creator>HANI SAFI</dc:creator>
  <dc:description/>
  <dc:language>en-US</dc:language>
  <cp:lastModifiedBy>HANI SAFI</cp:lastModifiedBy>
  <dcterms:modified xsi:type="dcterms:W3CDTF">2003-05-30T13:40:32Z</dcterms:modified>
  <cp:revision>1</cp:revision>
  <dc:subject/>
  <dc:title>Slide 1</dc:title>
</cp:coreProperties>
</file>