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4AF-99FF-46C9-AC74-29F62C27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2FA-91EA-4D49-9767-03727DA1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BA7-2B7F-4E4F-AEAC-2F92EEC4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7E3-8022-4241-BAB6-E6600FB3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3C4-87D9-4576-9F02-933B720B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11D-B0FF-4F8C-BAA6-73501D8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07B-71FD-4485-BE37-186A580B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CF3-00F7-483F-8F2F-8C64469C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A99-0EA7-43C4-8E9D-8544A2C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0F3-06C5-4F59-BD81-D19943F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76B-BC10-47A4-9EF0-10B7675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55E-889B-4D2E-AD86-748117F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FCD-2E96-4150-9DED-B2EA4D11B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3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3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3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03:45Z</dcterms:created>
  <dc:creator>USER</dc:creator>
  <dc:description/>
  <dc:language>en-US</dc:language>
  <cp:lastModifiedBy>USER</cp:lastModifiedBy>
  <dcterms:modified xsi:type="dcterms:W3CDTF">2002-11-01T03:05:55Z</dcterms:modified>
  <cp:revision>1</cp:revision>
  <dc:subject/>
  <dc:title>PowerPoint Presentation</dc:title>
</cp:coreProperties>
</file>