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7F1A-8A70-4C04-861A-0A965A007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3724-C59E-4913-87B6-5A973171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0D84-A5AC-4ABB-897C-6798F1AD6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1BC6-6A41-44DB-B341-B305234B6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75FF-5403-4DEF-B387-C8422EFB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3DE2-4339-4DCE-9160-6CA7AA5E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4709-0DA8-4201-AAE3-9B84AA7B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0B1B-D649-471E-BD7F-F0EA89EC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20BF-02A5-44C7-81E3-235AE397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5A16-2F09-4D29-B514-6D538399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3A3C-1885-42AF-BA66-C394DF9F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7C0E-98FD-4DD8-915E-511FDE75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2F25-1CAD-480A-9A26-CD79ABC2CE8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59280" y="4005360"/>
            <a:ext cx="4284720" cy="28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0000"/>
                </a:solidFill>
                <a:latin typeface="Tahoma"/>
                <a:cs typeface="????Boutros Rokaa"/>
              </a:rPr>
              <a:t>ربي جسدك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4" name=""/>
          <p:cNvSpPr/>
          <p:nvPr/>
        </p:nvSpPr>
        <p:spPr>
          <a:xfrm>
            <a:off x="0" y="198900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ربّي جسدُكَ مأكَلٌ حقاً ربّي دَمُكَ مشرَبٌ حقاً طوبى لمن يرتَوي منهم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42920" y="3527280"/>
            <a:ext cx="7345440" cy="297684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624120"/>
            <a:ext cx="9144000" cy="451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الأغصانِ اثبَتوا فيَّ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أتوا بثِمارٍ جمّه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87280" y="3624120"/>
            <a:ext cx="7129800" cy="599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َالَ الرَّبُ أَنَا الْكَرْمَه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َنْتُمْ أَغْصَانُ الْكَرْمَه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9" name=""/>
          <p:cNvSpPr/>
          <p:nvPr/>
        </p:nvSpPr>
        <p:spPr>
          <a:xfrm>
            <a:off x="0" y="198900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ربّي جسدُكَ مأكَلٌ حقاً ربّي دَمُكَ مشرَبٌ حقاً طوبى لمن يرتَوي منهم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1" name=""/>
          <p:cNvSpPr/>
          <p:nvPr/>
        </p:nvSpPr>
        <p:spPr>
          <a:xfrm>
            <a:off x="0" y="1989000"/>
            <a:ext cx="46432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ثلَ الهائِمِ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الصحراء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َبحَثُ عن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َطَراتِ الماء 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642600" y="0"/>
            <a:ext cx="6360480" cy="667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كذا يلهَفُ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لبي إليك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تَ الهِدايةُ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تَ الرجاء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4" name=""/>
          <p:cNvSpPr/>
          <p:nvPr/>
        </p:nvSpPr>
        <p:spPr>
          <a:xfrm>
            <a:off x="0" y="198900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ربّي جسدُكَ مأكَلٌ حقاً ربّي دَمُكَ مشرَبٌ حقاً طوبى لمن يرتَوي منهم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6" name=""/>
          <p:cNvSpPr/>
          <p:nvPr/>
        </p:nvSpPr>
        <p:spPr>
          <a:xfrm>
            <a:off x="4788000" y="1989000"/>
            <a:ext cx="435600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ن يأك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ن خبزِ الل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َن يشرَ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ن خمرِ الل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68600" y="189000"/>
            <a:ext cx="6636240" cy="536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رث الحياة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أبدية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ُعطى السعادة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دُنيا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9" name=""/>
          <p:cNvSpPr/>
          <p:nvPr/>
        </p:nvSpPr>
        <p:spPr>
          <a:xfrm>
            <a:off x="0" y="198900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ربّي جسدُكَ مأكَلٌ حقاً ربّي دَمُكَ مشرَبٌ حقاً طوبى لمن يرتَوي منهم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45:08Z</dcterms:created>
  <dc:creator>Charbel Azar</dc:creator>
  <dc:description/>
  <dc:language>en-US</dc:language>
  <cp:lastModifiedBy>ف</cp:lastModifiedBy>
  <dcterms:modified xsi:type="dcterms:W3CDTF">2006-04-17T23:27:04Z</dcterms:modified>
  <cp:revision>16</cp:revision>
  <dc:subject/>
  <dc:title>PowerPoint Presentation</dc:title>
</cp:coreProperties>
</file>