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9E9-8214-4DA6-8C91-C0CD0554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295-5A9C-4FC4-B4BD-B13747B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73F-80E2-40BE-B191-129A783C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528-DDEA-4352-85C2-FE7EAD51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8DD-140A-4BFA-892A-8049770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9C3-BC85-4A32-A497-B520E50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934-EA71-4853-A6D2-673098B5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9B1-57C2-4118-9226-60F4D4A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04B-DA75-41D9-85B0-716E39EA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87C-3288-457A-AA9C-CF2871C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C59-A1E3-44B0-ABB5-B5172A2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4CA-FBBC-4F04-AF41-4821556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C64-3288-4506-8703-D7D58277D5B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81360"/>
            <a:ext cx="541008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وحدت يا رب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981080"/>
            <a:ext cx="76564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حّدتَ يا ربُّ لاهوتَكَ بناسوتِنا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ناسوتَنا بلاهوتِكَ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اتَكَ بموتِنا وموتَنا بحياتِك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78320" y="0"/>
            <a:ext cx="5486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خذتَ ما ل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وهبتنا ما لك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تُحيينا وتُخلِّص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كَ المجدُ إلى الأبد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4-03T19:08:50Z</dcterms:modified>
  <cp:revision>8</cp:revision>
  <dc:subject/>
  <dc:title>PowerPoint Presentation</dc:title>
</cp:coreProperties>
</file>