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337-26FE-4678-8759-976DAD84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BE0-E74E-424C-8340-F9DE7059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66D-EE2D-4435-9134-877ACA32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05E-0E0A-4153-81F9-DC80280A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EA1-4C9E-4BD1-9E8D-19DAC756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2D2-0BDD-4529-8A21-4EFB9E89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E4A-1014-439E-9105-4230EEF1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766-B5E0-42CC-8033-777A9264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003-71B5-4EE0-97BA-C28C211A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644-DAC6-4B20-A5D6-1322FF3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9DC-9CB9-468E-9C91-442C683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DFC-8598-4265-AD83-7CFEC202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ACB3-A07E-4654-B57E-F96FD1DC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57987lPLwnGivWK_ph" descr=""/>
          <p:cNvPicPr/>
          <p:nvPr/>
        </p:nvPicPr>
        <p:blipFill>
          <a:blip r:embed="rId1"/>
          <a:stretch/>
        </p:blipFill>
        <p:spPr>
          <a:xfrm>
            <a:off x="3657600" y="-571680"/>
            <a:ext cx="6095880" cy="800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3581280" cy="9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طوبى لمَن يراعي المسك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ينقذهُ الرب في يوم السو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76960" y="228600"/>
            <a:ext cx="6419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الربُّ يعضُدُهُ على سرير الأل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7:50:20Z</dcterms:created>
  <dc:creator>SUZANNE.MD</dc:creator>
  <dc:description/>
  <dc:language>en-US</dc:language>
  <cp:lastModifiedBy>USER</cp:lastModifiedBy>
  <dcterms:modified xsi:type="dcterms:W3CDTF">2003-02-20T14:08:25Z</dcterms:modified>
  <cp:revision>2</cp:revision>
  <dc:subject/>
  <dc:title>PowerPoint Presentation</dc:title>
</cp:coreProperties>
</file>