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0B7-67E2-49F8-9040-34B104E6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CC3-7F6C-417B-BF75-14BE806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B37-5BCF-46D6-863B-8D4EEE4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899-2B61-4AF2-99D3-8B80E637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350-BA92-4AD9-9F1D-9539C95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B89-E78C-4F91-8A3A-6C8AA1C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AEA-737F-4AD4-AF41-41288974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D34-E74B-41E6-B203-C68C6AC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B9D-275F-4A0A-96F0-225E6D15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18F-0657-40D5-B1E4-4AF38D8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062-E6C4-4C49-8E80-A68F97E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6B2-AC4B-477B-A0EF-7BB3233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2E37-F98A-4D6E-B2CB-48309386D27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4797360"/>
            <a:ext cx="5329440" cy="360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907920"/>
            <a:ext cx="5113440" cy="74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0"/>
            <a:ext cx="448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0560" y="620640"/>
            <a:ext cx="5113440" cy="72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في القربانِ أعطِ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أن نلقاكَ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396720" y="0"/>
            <a:ext cx="44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حنُ بنوكِ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511344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رجوكِ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95280" y="0"/>
            <a:ext cx="4776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َ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نوراً من ن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جئناكَ وقلبُن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الحبِّ مغمور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907920"/>
            <a:ext cx="5113440" cy="10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اقبلْ منّا حبَّن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7:09:33Z</dcterms:created>
  <dc:creator>Charbel Azar</dc:creator>
  <dc:description/>
  <dc:language>en-US</dc:language>
  <cp:lastModifiedBy>ف</cp:lastModifiedBy>
  <dcterms:modified xsi:type="dcterms:W3CDTF">2006-09-18T10:12:17Z</dcterms:modified>
  <cp:revision>6</cp:revision>
  <dc:subject/>
  <dc:title>Slide 1</dc:title>
</cp:coreProperties>
</file>