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C5E-CA56-41FB-89CA-5D07B9B7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5EC-7996-453F-9B76-07AE3845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007-66F2-4243-A570-97956B48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234-F10A-4DD5-9980-2466F552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9228-53B5-4D95-84BB-AC34860F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AF72-7550-4D9D-899B-AB83FE21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F922-FEF1-41E4-8BF8-A7DE842B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9C27-F219-4C89-B2BB-B43B828E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71D6-1ECB-48F3-B6D8-C53F8E9B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D032-6900-4814-B7A8-115D55B2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666B-C220-4CFD-9339-B48CAB94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78F-0BD8-4AB3-9384-1AF12F46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51A6-4497-46CA-A8BB-3B0FD072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5A29-BB4D-4B20-8662-B27599B8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9A7F-97E5-409E-8EDE-A5F14956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05A5-2ACA-4946-9A56-790B9D59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4E54-CE6F-4537-9EDC-D41D0381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9B5-4C7A-4FBE-8FBD-EA0B9E72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506-8A7B-47BD-9CD8-8921B852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357-8D3C-42DB-8A01-1DDCE06E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D43-90FC-468C-898F-A820F90E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5BD-66B9-4B5E-AD91-12318488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8C3-8CF5-4BDD-8C39-7964DDC2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EB8-D2AA-48E1-9FCD-32DCA8E9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9705-45E2-4469-993B-1BA0CF81E0C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D35C-0C39-496E-A7FB-2F1714FEFB2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724280"/>
            <a:ext cx="572436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Arial"/>
                <a:cs typeface="????Boutros Rokaa"/>
              </a:rPr>
              <a:t>ربي بتعرف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51280" y="2781000"/>
            <a:ext cx="5292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صلّيتْ وتمنّيْ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مشي على دربَ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يت فيّي كُو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ين الرّسُل حَدَّك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8000" y="2636640"/>
            <a:ext cx="57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وقي إلَك يا ربّ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وق الطّفل للع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يا ريت فينا نحبّ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ا قدّ ما بتريد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640" y="2707920"/>
            <a:ext cx="601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ْخِبزَك أنا جوع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ْخَمِرْتَك بالكا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تْناوَل القرب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يروي العطش قدّاس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9:25:23Z</dcterms:created>
  <dc:creator>Charbel Azar</dc:creator>
  <dc:description/>
  <dc:language>en-US</dc:language>
  <cp:lastModifiedBy>-</cp:lastModifiedBy>
  <dcterms:modified xsi:type="dcterms:W3CDTF">2003-01-03T16:39:09Z</dcterms:modified>
  <cp:revision>4</cp:revision>
  <dc:subject/>
  <dc:title>ربّي بتعرِف إنّي بحِبَّك عا قدّ الكَون مِنَّك عطا ومنّي كلّ الصّلا اللي هَون</dc:title>
</cp:coreProperties>
</file>