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5C0-4BDD-4A27-B207-22CC0CBB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9E5-D61D-4C83-9D7B-F9DC17F8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735-8549-4A22-8E4D-D2D356ED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7A2-8775-44C0-9A43-CB360F29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8B3-2CA9-4687-946D-C34CEB46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5B4-3453-46C6-B0BB-346661B2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CF9-BC8E-446E-9110-EEF31869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84BC-53AE-4661-9D13-490D011C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5B3E-97BE-4BD8-916C-2E07D607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F84-B301-481E-8187-E3401494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D86-4C6F-4FAB-9BFD-A9944725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E75-040A-4939-96D9-8AAFC87E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7F53-ED2E-4D58-B0EB-A2C42BACA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5283597fvnSvW_ph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14800" y="3049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0"/>
            <a:ext cx="5562720" cy="9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ملكُ الملوك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ربُّ الأرباب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ربُّ النجاة  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نبعُ الحياة  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 يسوع نورُ الرجاء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 يسوع دربُ السماء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 اللازمة: أميرُ السلا م</a:t>
            </a: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	</a:t>
            </a: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	</a:t>
            </a: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       مجداً هللويا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6:57:28Z</dcterms:created>
  <dc:creator>SUZANNE.MD</dc:creator>
  <dc:description/>
  <dc:language>en-US</dc:language>
  <cp:lastModifiedBy>USER</cp:lastModifiedBy>
  <dcterms:modified xsi:type="dcterms:W3CDTF">2002-12-23T20:08:24Z</dcterms:modified>
  <cp:revision>1</cp:revision>
  <dc:subject/>
  <dc:title>PowerPoint Presentation</dc:title>
</cp:coreProperties>
</file>