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BA0E-840E-43EF-B4B7-31AFDD966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FEB1-A21A-4E5A-B52D-C7EA5D66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F2A4-8C47-41A7-AAEA-3EDBB3D61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F1AF-0BC5-4927-A378-7EF0058C6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D8A8-8BE8-4BD5-882D-47C748D3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F051-692A-47CC-B60B-B7D787BC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0691-091B-4A4C-AB1E-CA083698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C25E-7B35-492F-8BC5-32AEF4FF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ACB4-5CEA-40BE-AB82-EC24488B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ACE2-020A-419E-9A76-91A5D5CB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FEFA-D705-4A14-96DB-387D40E1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0C12-1B46-45C9-B97C-684853E8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D264-7FA6-427C-95D4-34A40649A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3927813TLaFSsNbjp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400800" y="0"/>
            <a:ext cx="27432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تبعني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ذ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حيا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ى الأمـا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أتْـبَعُـكَ، أتْـبَعُـكَ   ربي يسوع، أتْـبَعُـ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إتبعني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بلا ارتـخ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لا تـلتـفـِت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إلى الور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3927813TLaFSsNbjp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400800" y="0"/>
            <a:ext cx="274320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إتبعني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تلـق العـز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تلـقَ السّـُرور والهنـ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تْـبَعُـكَ، أتْـبَعُـكَ   ربي يسوع، أتْـبَعُـ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إتبع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كـلَّ الطـري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أنا لَكَ دوما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رَفيـ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3927813TLaFSsNbjp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400800" y="0"/>
            <a:ext cx="2743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كـُن أمـينـا للممات   تنــل إكليـلَ الحيـاةْ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تْـبَعُـكَ، أتْـبَعُـكَ   ربي يسوع، أتْـبَعُـ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24:44Z</dcterms:created>
  <dc:creator>USER</dc:creator>
  <dc:description/>
  <dc:language>en-US</dc:language>
  <cp:lastModifiedBy>USER</cp:lastModifiedBy>
  <dcterms:modified xsi:type="dcterms:W3CDTF">2003-01-16T14:52:37Z</dcterms:modified>
  <cp:revision>8</cp:revision>
  <dc:subject/>
  <dc:title>PowerPoint Presentation</dc:title>
</cp:coreProperties>
</file>