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422A-D997-4972-B9CC-4AD248B7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04F1-21B1-4DC3-8DF3-165EF372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426E-1A62-4C92-9346-77700314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F5F-E01F-429A-B19D-1D9BBD28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F814-1FBF-405A-8116-48CE5E4C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F7B-DD0D-4992-ACF4-BD015A08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5D1F-A9F4-4DD9-B78D-CBC34A31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798B-D356-4CA7-8F84-2EC2F992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063C-A3F6-4A59-A37C-F2D11DD2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A38-A4C1-42EB-9D16-10F2D59F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C784-5EB0-4162-89F4-A6C1CF4F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5782-43BE-49E4-8FB8-7024886A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3156-1E3D-4DE6-B46B-EA9BE1367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5486400" cy="830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572000" cy="76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يسـوع يـا يسـوع      </a:t>
            </a:r>
            <a:r>
              <a:rPr b="1" lang="en-US" sz="4000" spc="-1" strike="noStrike">
                <a:solidFill>
                  <a:srgbClr val="000000"/>
                </a:solidFill>
                <a:latin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احلى واطيب قربانة؟  يسـوع يـا يسـوع</a:t>
            </a:r>
            <a:r>
              <a:rPr b="1" lang="en-US" sz="4000" spc="-1" strike="noStrike">
                <a:solidFill>
                  <a:srgbClr val="000000"/>
                </a:solidFill>
                <a:latin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     نعمــة ما الهـا تانــي!    اول مرة بحياتي               عـم بتناول هالنعمــ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برفع قلبي ودياتي ربـ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دوقني الطع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عطينـي القربانة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5227560"/>
            <a:ext cx="175248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0"/>
            <a:ext cx="3581280" cy="74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ما نطرتو   هاليوم من زمـان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وعمـري ندرتـو لسر القربـــ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ـارب حبيتــك وبالقلب خبيتـــ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وع طـول لبيتك عهد الامانـة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!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346720"/>
            <a:ext cx="4191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7180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0"/>
            <a:ext cx="3429000" cy="9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ــن قنديلك  قلبي ضويتــو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مـن انجيلــك حبـي رويتــ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ارب سلمنـــي الانجيل علمنــ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ع طول كلمني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قـــوي ايمانـــــ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5410080"/>
            <a:ext cx="7621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049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4114800" cy="90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امـــي وابـي    ع الدني طليــت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اخـي و اختــي مـن قلبـي صليـ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يـارب خلينـا وبالحب ملينـــ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وع الدرب دلينا صــوب القربانـة</a:t>
            </a:r>
            <a:r>
              <a:rPr b="1" lang="ar-SA" sz="44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!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7:57:38Z</dcterms:created>
  <dc:creator>SUZANNE.MD</dc:creator>
  <dc:description/>
  <dc:language>en-US</dc:language>
  <cp:lastModifiedBy>HANI SAFI</cp:lastModifiedBy>
  <dcterms:modified xsi:type="dcterms:W3CDTF">2003-04-30T13:47:47Z</dcterms:modified>
  <cp:revision>2</cp:revision>
  <dc:subject/>
  <dc:title>PowerPoint Presentation</dc:title>
</cp:coreProperties>
</file>