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080-087B-4AF2-B1FE-6E11FD90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A1B-B56A-4184-B817-D50B7D01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6A9-FD9B-4149-8750-6BC51B01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168-D18F-4E02-B2C6-96AE0896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DC2-1817-4DE3-9498-3FE8CFDC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823-4876-4BB9-9874-82335186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DDB-57BF-45AF-8B9B-CCB12F5F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8E1-A603-4038-8839-FCAEB558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03A-AF86-4CC1-B073-C85268B1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A0D-E9D7-4AD4-BEA3-E953E7B2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2A1-EFBA-44B2-B527-FE878E88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B93-D6F3-4888-9531-70BC5937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EE85-529B-4A7B-8DE0-BB678AECA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0"/>
            <a:ext cx="624816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حمدَ رددوا لله ربِّنا ولنتلُ دائماً من عمقِ قلبِ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نادوا بملكه كلُ العوالم يحيا مليكُ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200400" cy="12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ليلُ دامسُ والقلبُ قاتمٌ كالشمسِ مِن علِ يسوعُ قادمُ يحيا 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سوعُ للسما حيثُ السعاده حقاً طريقُ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95560" y="228600"/>
            <a:ext cx="524844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38098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قد ضلَّ جِنسنا والموتُ أُعلِ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ا ربُ مَنْ لَنا سلوى لحُزنِ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سوعُ قد محا بالصلبِ موتَنا أضحى حياتَ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3:40:21Z</dcterms:created>
  <dc:creator>HANI SAFI</dc:creator>
  <dc:description/>
  <dc:language>en-US</dc:language>
  <cp:lastModifiedBy>HANI SAFI</cp:lastModifiedBy>
  <dcterms:modified xsi:type="dcterms:W3CDTF">2003-05-30T13:40:32Z</dcterms:modified>
  <cp:revision>1</cp:revision>
  <dc:subject/>
  <dc:title>Slide 1</dc:title>
</cp:coreProperties>
</file>