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AC5E-661B-44DD-B4ED-CE0D17D4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A07C-CCB9-41B7-B129-B432976C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C8A3-882D-41E4-8ABD-90B02311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8377-7FC0-4037-88F9-ED1FB8CB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1ECD-E7D0-4944-9EE8-E5313934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B265-D20B-4905-9CFC-B5822110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B3B8-5A02-4F12-B64D-24436A13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4730-F97E-464E-B170-4276D74A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FBB0-F2EC-4169-946B-6F9ED881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A449-5207-4105-B682-7D4770BE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14E5-847D-494E-A194-7C2FD21C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4E3E-6BEC-43A9-89F3-BEAB3241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56F9-CC01-4C17-8C61-FA78A1587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evesque1_med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94240" y="57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0"/>
            <a:ext cx="365760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الَ يا روحَ الر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هللويا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اسكن فينا للدوا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هللويا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ت حياةُ قلبِ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هللويا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دِّسنا لِنَتَّحِد بالر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 هللويا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هلم تعال يا أبَ الفقر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أضرمنا بنار حبِّ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2-10-30T19:09:23Z</dcterms:modified>
  <cp:revision>10</cp:revision>
  <dc:subject/>
  <dc:title>PowerPoint Presentation</dc:title>
</cp:coreProperties>
</file>