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483-F906-4F5E-8AA9-17630BE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436-59BA-49B2-9D8E-686360CC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20F-A3E4-40E0-89AF-9F8964B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08A-1186-4FEC-A6FE-EF08E30D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094C-4C6C-4570-94F8-6C011A12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C4A4-3F4C-4B40-90EF-392A6A5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3DCD-8151-4E23-A3BA-F3C232B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469-3F81-4B2D-96B6-97F9C61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20A7-2686-4F56-877A-6174860C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97C3-BAFF-4C70-84B6-552A209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EE4-4219-422B-B030-8546CF9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6B3-44E6-431D-9225-4109CD26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F9B4-F5DF-4881-82E0-14E01A4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E8BD-5540-4F00-B381-03E3BEC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F5FE-7A6E-45FE-8AA0-42D619F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727-1B37-44DD-9D4B-8E2E7D6B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263-B7F1-452E-87DF-B8F87547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DD7-3144-4034-AAF1-D3198044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EDC-5C81-41C8-8CAD-78C5C9C1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73A-FA1B-4A20-A588-4F3387C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6F5-4321-4FB9-B242-ABBDC93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8A1-081A-433D-9D5C-D2C3C52A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692-96D3-41E8-8F7B-68F8F09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567-47B2-4631-BB7B-6824D7CC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B21-CF92-4D14-B2F9-38BA886A36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C687-07AA-4649-A6D7-DBCDCCC5416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0"/>
            <a:ext cx="61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ا أحبَّ مساكِنَك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َ الجنود تشتاقُ وتذوبُ نفسي إلى ديارِ الر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رنمُ قلبي وجسمي للإلهِ الحيّ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العصفورُ وجَدَ لهُ مأوى واليمامةُ عُشاً تَضَعُ فيه أفراخَه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0"/>
            <a:ext cx="535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مذابحِكَ يا ربَّ الجنودِ مَلِكي وإله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0"/>
            <a:ext cx="4995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سكّان بيتِكَ فإنه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لا يبرحونَ يسبّحونَكَ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9:47:28Z</dcterms:created>
  <dc:creator>Charbel Azar</dc:creator>
  <dc:description/>
  <dc:language>en-US</dc:language>
  <cp:lastModifiedBy>ف</cp:lastModifiedBy>
  <dcterms:modified xsi:type="dcterms:W3CDTF">2006-11-07T19:33:19Z</dcterms:modified>
  <cp:revision>8</cp:revision>
  <dc:subject/>
  <dc:title>Slide 1</dc:title>
</cp:coreProperties>
</file>