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865A-FCD2-46D0-A57E-0772A39D2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4F32-507D-4ABD-AB36-A6D6314C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C728-E6FB-40B5-B3A1-91C84DD83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05C6-8441-4D26-8984-37E7ACB42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E462-8039-46AF-ABAF-031CA4D7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32E7-B158-451C-A9BB-31658D86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1D40-7BDB-4FFA-996A-8F27A253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31A9-8041-42E9-B41F-641C2FF2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CC67-A79B-4583-B304-3736804B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158B-1A93-44A9-8CAB-66424BD8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30EF-B688-4541-BF8C-0BC24E22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877F-B4C0-45CB-98ED-8792007C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C690-B171-49A2-A360-F5C596E94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73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0" y="347760"/>
            <a:ext cx="4572000" cy="9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يا آبَ الحقِّ الرحمان خُذ منَّا هذا القربان، قُربانَ ابنِكَ الفادي بَحرِ الحبِّ والغفران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يا بكرَ الآبِ المحجوب يسوعُ الفادي المحبوب، حيٌّ أنتَ يا ابن الله حيٌّ أنتَ يا مَصلوب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لله الآب القادر والربِّ الابنِ الغافر والروحِ الحيّ الطاهِر غنُّوا المجدَ كلَّ آن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5T04:34:21Z</dcterms:created>
  <dc:creator>HANI SAFI</dc:creator>
  <dc:description/>
  <dc:language>en-US</dc:language>
  <cp:lastModifiedBy>HANI SAFI</cp:lastModifiedBy>
  <dcterms:modified xsi:type="dcterms:W3CDTF">2003-04-25T04:34:21Z</dcterms:modified>
  <cp:revision>1</cp:revision>
  <dc:subject/>
  <dc:title>Slide 1</dc:title>
</cp:coreProperties>
</file>