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1AF-43D5-4471-9C58-4CD2A05E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D23-D7CD-4353-8BF1-DE8336F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B29-7872-4B6A-B809-E1FAF7B8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4CD-8555-4229-989D-5D534A6D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EF8-E94F-4DE2-BB11-6F5DE65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2E5-5597-4696-BDA8-6B1F8098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F45-B272-4456-8753-3112F1C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3FB-47A4-4965-AF22-2CAE931E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FA3-7987-4878-A6FE-825FB53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F77-9A5C-40F9-85FD-B3CFB4B1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249-AE1F-4F51-A8FA-76E678A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A25-F152-4DA8-945C-1343A95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73AE-972B-4A88-BB91-3D4B9455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28720" y="5302080"/>
            <a:ext cx="1228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عوتني إليك أت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ديتني الطريق مشي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سوى وجهِك ما رأيت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وجهَ الضي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075680" y="5302080"/>
            <a:ext cx="113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ني منك إلي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أُلقي بعبئي ع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ا أنا جاثٍ لدي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ملأني صف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63000" y="5302080"/>
            <a:ext cx="10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هيَ قبلُ وبع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َن حُبهُ لا يُحَد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بيني وبينَكَ عهدُ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لمني الوفاء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063528TxTsrwidqE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72720" y="5302080"/>
            <a:ext cx="126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رب هبني عزما لأ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اس بيتا ل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 تجدني فليواكبني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ور نعمت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5:15Z</dcterms:modified>
  <cp:revision>2</cp:revision>
  <dc:subject/>
  <dc:title>PowerPoint Presentation</dc:title>
</cp:coreProperties>
</file>