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B42-D407-4944-ADB0-8B10A053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7E5-9D99-4037-AB44-8974FE6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E2A-5E92-4A8A-9B08-95A016F1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536-9C86-4114-B0BF-B79B0893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84F-66C7-43E9-96FD-303FDAD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91E-1232-4A8C-A262-45EDA40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001-3910-4FDF-97B1-02AA7DD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A2B-B73F-4DB8-9965-BA347B1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D26-C5D7-46C5-83E6-E70EC90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9A6-8944-43FF-BF59-76EA59D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77F-8540-4E17-9299-A7F485C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FD8-92D5-4EFD-B6E2-E92A6B2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7B0-FA9E-4931-880D-4851E0CDE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4880" y="5638680"/>
            <a:ext cx="123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ا آتي بطيبي فوقَ شعرِكَ، هبني الآنَ أعرفُ حقَّ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ِوَضاً عن شوكي في إكليلِك، واتْكِئَنَّ رأسي على ص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60680" y="5638680"/>
            <a:ext cx="128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كَسرتَ قلبَك من أجلي أنا،ها قارورةَ الطيبِ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كسرُها ه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َ قدَميكَ وأدهِنهم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حيث راحتي.. لا ولا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5715000"/>
            <a:ext cx="113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يكن في قلبي شريكٌ ل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كلُّ حبي، لكَ وحد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ينكسِر قلبي ليشبَع قلبُكَ وكلُّ شهوتي في مجد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34760" y="5715000"/>
            <a:ext cx="130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تلِف نفسي عند قدميكْ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ُحظى دواماً بملءِ 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ر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سعى ضعيفا وأستند علي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تى كلُّ المجدِ يرجِعَ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497680" y="5699160"/>
            <a:ext cx="14007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كرم اسمكْ وأَرفَعْهُ الآ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ِئَلا تمضي الفرصة وينت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ز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ريم وحدَها قد فازت بالنيشا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طيبُ المريماتِ فاتَهُ الأو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2:49Z</dcterms:modified>
  <cp:revision>2</cp:revision>
  <dc:subject/>
  <dc:title>PowerPoint Presentation</dc:title>
</cp:coreProperties>
</file>