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B29-6390-476A-A00F-F85A9A77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D7C-906E-488D-9D1C-723800B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360-FB4D-4EFE-84E2-D574517E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78A-43EF-4F22-9D93-64201BE9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1F7-02D7-4843-ADE4-6865DC31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647-17AE-4F3F-B2DD-B1E69C1D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C55-697A-40EF-AAD7-54077267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D29-6DA6-49E6-A120-B37907F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2DF-4D9E-4E40-AADB-C1DD6716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5C1-71A3-468A-985A-07D032C6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55C-7A30-4C58-A9F1-EFBD898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EC4-D76E-4286-BF56-3D3794C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118E-93A2-4EF6-AD7C-F8FF5520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1600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8759574HqrouBNtBi_ph" descr=""/>
          <p:cNvPicPr/>
          <p:nvPr/>
        </p:nvPicPr>
        <p:blipFill>
          <a:blip r:embed="rId2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0"/>
            <a:ext cx="23623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سهروا توبوا صلوا وترقب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فتحوا الأبواب إرفعوا الأعت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ِّلوا الدروب زينوا القلو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1705873ayScpooCjj_ph" descr=""/>
          <p:cNvPicPr/>
          <p:nvPr/>
        </p:nvPicPr>
        <p:blipFill>
          <a:blip r:embed="rId1"/>
          <a:stretch/>
        </p:blipFill>
        <p:spPr>
          <a:xfrm>
            <a:off x="-30481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228600"/>
            <a:ext cx="2286000" cy="80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و الآتي الآتي لا تنتظروا سِو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َذارِ يمرُّ دون أن تعرفو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كلُّ آتٍ دونَه مسيح دج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7:58:37Z</dcterms:created>
  <dc:creator>SUZANNE.MD</dc:creator>
  <dc:description/>
  <dc:language>en-US</dc:language>
  <cp:lastModifiedBy>USER</cp:lastModifiedBy>
  <dcterms:modified xsi:type="dcterms:W3CDTF">2002-12-16T14:43:32Z</dcterms:modified>
  <cp:revision>4</cp:revision>
  <dc:subject/>
  <dc:title>PowerPoint Presentation</dc:title>
</cp:coreProperties>
</file>