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8C1-B162-4ACD-93B8-63F68A15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ADD-37C4-4997-A55C-356C67FF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A71-1953-46D2-A9F9-D2F77FC8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CA8-5036-4898-B6CE-30E32920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B46-24F7-4E68-BD62-247D1FD7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A2A-5DAF-486E-8824-3CBD64C1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94A-1E3F-4289-83AB-914F2739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984-9F0C-4816-A11C-14B9FB78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028-C76D-4D6C-A632-CBCD59FE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BFD-964A-460E-BCDF-A981C75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081-A565-4CE5-B00D-5CF0551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161-53F7-443B-B75C-583519A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EE36-4427-4DDB-A9BE-8C816FA00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6255000" cy="777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28600"/>
            <a:ext cx="23619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دل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ثل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جبال، وأحكامك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مرٌ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ظيمٌ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-1523880"/>
            <a:ext cx="7421400" cy="921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لهم ما أثمن محبتك، إن بني البشر بظل جناحيك يعتصمون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908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429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رتوون من فيض بيتك لأن عندك ينبوع الحياة وبنورك نعاين النور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7508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3124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يا رب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سماء محبتك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وإلى </a:t>
            </a: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ar-SA" sz="6000" spc="-1" strike="noStrike">
                <a:solidFill>
                  <a:srgbClr val="ffffcc"/>
                </a:solidFill>
                <a:latin typeface="Times New Roman"/>
              </a:rPr>
              <a:t>الغيوم أمانتك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6:27:58Z</dcterms:created>
  <dc:creator>SUZANNE.MD</dc:creator>
  <dc:description/>
  <dc:language>en-US</dc:language>
  <cp:lastModifiedBy>HANI SAFI</cp:lastModifiedBy>
  <dcterms:modified xsi:type="dcterms:W3CDTF">2003-04-17T11:02:19Z</dcterms:modified>
  <cp:revision>2</cp:revision>
  <dc:subject/>
  <dc:title>PowerPoint Presentation</dc:title>
</cp:coreProperties>
</file>