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50B-B1DC-46DD-B026-993FD335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FDA-4590-4821-BD65-CE8B0C27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26D-6C97-476E-975F-51B0F349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2DD-E0F3-420C-B8D2-7DA1AA17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043-DA9E-4EC2-A6F9-31438A01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C21-B474-46D1-A8AA-B8E61BCE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C57-F55D-4062-A3B5-BC9E3091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F81-FE74-4220-B1B9-1D960051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D96-2B26-4B22-B10F-B615956B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26D-FBB7-4C1F-9C8C-4675467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E22-8D61-40D5-B75A-381397F6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3C1-B4A9-4B10-84B5-CFC42C7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DF2-30BB-40EE-BFB4-1778FD961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91120" cy="9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حلى السجود أم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شد بالعود لجلا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للي دفعت فيَّ أغ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ث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ما قبلتك ربي، صار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ي السلط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 بترعى حياتي بكل حن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8759475AFNWUZafbD_ph" descr=""/>
          <p:cNvPicPr/>
          <p:nvPr/>
        </p:nvPicPr>
        <p:blipFill>
          <a:blip r:embed="rId1"/>
          <a:stretch/>
        </p:blipFill>
        <p:spPr>
          <a:xfrm>
            <a:off x="0" y="-100080"/>
            <a:ext cx="487692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457200"/>
            <a:ext cx="39625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صوتي ليك حيعلا بهتاف أناش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لأنك عايش فيّ، أيامي 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بتغني حياتي جنبك بالموا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6574917mhMQwO_ph" descr=""/>
          <p:cNvPicPr/>
          <p:nvPr/>
        </p:nvPicPr>
        <p:blipFill>
          <a:blip r:embed="rId1"/>
          <a:stretch/>
        </p:blipFill>
        <p:spPr>
          <a:xfrm>
            <a:off x="394956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58128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ا عزي بيك وفخري، وما ليّ سو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سراج لرجلي كلامك وماشي ور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لى أيامي يا ربي ما يسود إ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6:39:56Z</dcterms:created>
  <dc:creator>SUZANNE.MD</dc:creator>
  <dc:description/>
  <dc:language>en-US</dc:language>
  <cp:lastModifiedBy>USER</cp:lastModifiedBy>
  <dcterms:modified xsi:type="dcterms:W3CDTF">2002-12-31T13:42:02Z</dcterms:modified>
  <cp:revision>2</cp:revision>
  <dc:subject/>
  <dc:title>PowerPoint Presentation</dc:title>
</cp:coreProperties>
</file>