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13B-2DD3-4AC8-A1E8-EF5C580F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206-AA4B-43DE-A312-0C19EDC1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734-7447-4ED5-B773-6E10DD77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D30-E73F-49B1-800C-DAFAFA12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B41-0B6C-485B-9670-B3555FFA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51A-F23C-43ED-AB00-6958821D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2CA-8904-4EA3-8EB4-E2399D14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5F9-0DEE-481B-9CF4-E3E3597D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990-69E1-438F-AC48-C298AB82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EF8-E377-412E-9861-1C3111FE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8BD-CD16-4BF7-9644-266A89CD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279-4CEB-4CC1-82B4-5F5C7500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C0FE-5F07-4BE5-91DD-28FF5287E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5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3280" y="361800"/>
            <a:ext cx="7736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يسوعُ ربّنا يا نوراً من 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جئناكَ وقلبُنا بالحبِّ مغم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اقبل منا حبَّنا واملأ قلبَنا بالن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يسوعُ ما لنا حبٌ سو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نِّور عقلَنا حتى نر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 القربانِ أعطنا يا ربُّ أن نلقَ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مُّنا يا مريمُ البكرُ ندع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لبُنا يرنمُ نحنُ بن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نكِ تنتقدمُ باركينا نرجوك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04:29Z</dcterms:modified>
  <cp:revision>3</cp:revision>
  <dc:subject/>
  <dc:title>PowerPoint Presentation</dc:title>
</cp:coreProperties>
</file>