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E2B-85D4-4331-9189-749FC79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BDE-293D-4FD8-A801-C1CE1F9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DD8-F3C6-4801-893B-D67635F6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8E6-B6AC-4BB2-88EB-CF3F5BB4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E8D-7134-4C19-81C4-D2F8ADD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7D4-A382-4387-B7D8-5D3F8B59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7D2-834A-449B-9407-B8AD067B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48E-CA88-468A-B321-57DC742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7E3-728A-4F96-9DE0-0427D6CC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6F4-5B71-43AD-8904-F9B34682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BB-9D93-4BE2-8E82-2A79734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531-1914-4EEA-8CFF-0AF2A42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5286-A6E0-41EF-AD18-779EFFAE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203436tgMgIzIxnz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0"/>
            <a:ext cx="3276720" cy="10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ا في المدينةِ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مشي مكتئبا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قلبي خيب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سابُ تائه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في آهات الضيق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بحثُ عن الط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ت م كنت السبيلُ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لك قلبي يمي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8624513QCBBM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228600"/>
            <a:ext cx="518148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هجتي في عالمٍ غ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سمع مناجا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في قلبي ح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سمتي والآمال تغ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نت من يدوم أرجوك يا حبي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ildelsken" descr=""/>
          <p:cNvPicPr/>
          <p:nvPr/>
        </p:nvPicPr>
        <p:blipFill>
          <a:blip r:embed="rId1"/>
          <a:stretch/>
        </p:blipFill>
        <p:spPr>
          <a:xfrm>
            <a:off x="-1758960" y="0"/>
            <a:ext cx="617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28600"/>
            <a:ext cx="350496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فرحتي والأطفال ج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ضحكتي والعالم في ض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بدد ظلمتي بوجهك المن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أنت النور الحقُّ أرجوك يا قد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731617KWXnreKPiA_th" descr=""/>
          <p:cNvPicPr/>
          <p:nvPr/>
        </p:nvPicPr>
        <p:blipFill>
          <a:blip r:embed="rId1"/>
          <a:stretch/>
        </p:blipFill>
        <p:spPr>
          <a:xfrm>
            <a:off x="-2142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0"/>
            <a:ext cx="33526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رجائي أم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رهبةِ الظل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نت متك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غمرة الآ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وأنت قُدو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حملك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إليك ذاتي اقب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رجوك يا حب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9:07Z</dcterms:modified>
  <cp:revision>4</cp:revision>
  <dc:subject/>
  <dc:title>PowerPoint Presentation</dc:title>
</cp:coreProperties>
</file>