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374-42BD-4DE6-81F4-0E18C7BA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D97-1C65-4E07-880C-837465D7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F06-F921-4EE8-BDCA-18DE4DD8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242-9E03-4A95-81EA-B9D8CB29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1A2-1A30-4EC0-9F02-E3757FA7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47F-F49A-40E8-85A9-7F79575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439-C96A-44BB-8815-57EA3F2B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D46-5CBF-497D-A14F-8F639585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336-667B-4049-9175-D0358DB2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332-F9FF-4CA2-B30A-F929923D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53E-AEA7-4642-976E-7DE0BF9D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AEB-C1B9-4CC4-AE35-1099BA58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0083-8654-4E11-A585-ED2B7C32A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1679400" y="0"/>
            <a:ext cx="640368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0"/>
            <a:ext cx="4952880" cy="7405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صمتِ الكونِ أدعو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عمق وجودي أشد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ُسكُن في قلبي وروحي</a:t>
            </a:r>
            <a:r>
              <a:rPr b="1" lang="ar-SA" sz="3200" spc="-1" strike="noStrike">
                <a:solidFill>
                  <a:srgbClr val="6600cc"/>
                </a:solidFill>
                <a:latin typeface="Simplified Arabic"/>
                <a:ea typeface="Times New Roman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ني سلا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إقبلني طِفلا في سما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 عينيَّ بِسَن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ا أستحقُّ الغُفران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كن أرجو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من عَرشِكَ تحنو عل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نفسي تمحو آلامي ويأس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تملأني حبًّا يا رب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يكفيني سلام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653" descr=""/>
          <p:cNvPicPr/>
          <p:nvPr/>
        </p:nvPicPr>
        <p:blipFill>
          <a:blip r:embed="rId1"/>
          <a:stretch/>
        </p:blipFill>
        <p:spPr>
          <a:xfrm>
            <a:off x="0" y="0"/>
            <a:ext cx="61880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152280"/>
            <a:ext cx="315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نا كلي إي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لكَ فيَّ وج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ولِعرشِ النِّعَم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لقُدسِ الأقداسِ أت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5908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2280" y="2362320"/>
            <a:ext cx="929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آمنتَ دوماً بكياني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ِرُغمِ قلَّةِ إيمان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ِعَينِ الآبِ ترعان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غمُرُني حُبّ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ركتَ عمري وآما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شْبَعتَ خيراً أي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فرتَ كلَّ آث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سِرتُ مُلك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ليك أرفَعُ تهالي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َ أفراحي وتسابيح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تُفرِحُ قلْبَكَ أناشيدي وأُعلِنُ مَجدَك</a:t>
            </a:r>
            <a:r>
              <a:rPr b="0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55:16Z</dcterms:created>
  <dc:creator>USER</dc:creator>
  <dc:description/>
  <dc:language>en-US</dc:language>
  <cp:lastModifiedBy>USER</cp:lastModifiedBy>
  <dcterms:modified xsi:type="dcterms:W3CDTF">2002-11-13T14:21:55Z</dcterms:modified>
  <cp:revision>1</cp:revision>
  <dc:subject/>
  <dc:title>PowerPoint Presentation</dc:title>
</cp:coreProperties>
</file>