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C7C-552F-48B1-9878-E1B22558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381-9344-4159-9968-0F81AD7A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C97-DEDB-4977-8DA3-0D0C584E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549-20A9-4F4C-AA96-E104C64C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239-B6CF-44E1-A8FF-EF41C92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B2B-85BE-48EB-87D9-6AA7264B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A75-9676-40AA-BD89-246DE010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EA5-282D-411A-9FBC-0B458776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08C-CAA6-4BDA-B441-2B934931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00E-4334-45CF-BB08-2C809B0D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229-BAF4-4D7A-A082-9C359A5E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046-60BE-458D-906D-00E8A2C9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5A21-E74F-408E-8ED0-F848E5A97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653256EdbXgQadtT_ph" descr=""/>
          <p:cNvPicPr/>
          <p:nvPr/>
        </p:nvPicPr>
        <p:blipFill>
          <a:blip r:embed="rId1"/>
          <a:stretch/>
        </p:blipFill>
        <p:spPr>
          <a:xfrm>
            <a:off x="-3657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6095880" cy="62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هٌ من إله يسوعُ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إنه ابنُ الله ابنُهُ الوح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زلَ من السم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صارَ انسانا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ُلِد من العذ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دُنيان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220153ufSbGEcTWm_ph" descr=""/>
          <p:cNvPicPr/>
          <p:nvPr/>
        </p:nvPicPr>
        <p:blipFill>
          <a:blip r:embed="rId1"/>
          <a:stretch/>
        </p:blipFill>
        <p:spPr>
          <a:xfrm>
            <a:off x="2438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-98280"/>
            <a:ext cx="2667240" cy="9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ورٌ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ربنُ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مسُ الده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هيُّ الط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زلَ إلى القب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زارَ موت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َّقَ الديج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امَ أحيا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2960" y="621648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7112962IYqlIRsJHe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15000" y="0"/>
            <a:ext cx="3429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ساوٍ للآ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هَرُ يسوع وقلبُهُ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د ذاب بحبنِا وُل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سوعُ في القربان قوتُنا الأشه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نُهى الأزما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جدُنا الأبه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ا يسوعُ إله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 أُقدمُ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4280" y="0"/>
            <a:ext cx="441972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سوعي، يا إله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يا ينبوعي اللامتنا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حيات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إنك وجودي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ك صلاتي وعهو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لك أُقدم ذا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26329886SKrDwSrIIf_ph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1-20T00:39:13Z</dcterms:modified>
  <cp:revision>4</cp:revision>
  <dc:subject/>
  <dc:title>PowerPoint Presentation</dc:title>
</cp:coreProperties>
</file>