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6CB-2D55-4A4E-AF62-DB1B90E1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216-2304-483A-B415-D0D28A11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979-DE18-4DFF-BACB-B23A1E4E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1781-A8A7-4E64-9F2E-56570438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EFCC-B9C2-46A7-AF01-6F1297A5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F944-8591-4149-9B7F-300C09DC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E75F-F68E-4720-BD96-ADFDDA0C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3520-E132-4FE4-8F15-08B7E1F1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AD5D-B2B9-4E67-9B9B-2997715C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A07E-708C-418F-8A02-6349CB25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5462-CEF0-47F5-AEE9-C14050E8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FFF4-D34D-4E01-95E8-F395235C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BD12-BFFE-493C-9DBE-695EE14B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E9BB-651F-46D0-B1AD-140237DA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2D31-D25F-4219-8F4B-5D7A96EB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6F78-10A5-454D-9E52-E7DCCE1F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D03F-2548-4FD3-982C-3D7DD4F1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CC879-1082-4E05-AF1A-C0A2818F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D1D48-7F22-4700-ABD0-CD473B52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9045B-1CC3-4A03-B9ED-8E90A35F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BE31A-EECE-49B3-90FF-6D8E3781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9D64B-C3DA-4DD0-87FD-4B3D3B3D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C5D2-0876-4A0B-A615-C07E7685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56E03-6D32-4501-B855-9370E40E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E41FC-28B5-48F5-B48C-027C43DE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33C8E-2265-4E04-89EF-A00E5552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DB641-04D3-480A-877B-0FBFFC25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ADB1F-038E-4883-B8A7-BC0C1915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FFAB-54EC-4060-9EBD-A48BADB3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A94CF-A8C6-45A1-8E87-0DD5AC18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DA4-84D5-41B7-A06F-ADACDE6B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A1A-581F-433E-AE24-21F67AEA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8E2C-8B97-4CCF-BA28-65E89FA4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66F-C940-4927-89F5-815D1045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94C-0478-4172-8A64-EBC6C020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8FC-06CE-4BFE-8792-88F9F6EC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4351-DCB8-424B-A207-DE94E902143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00CE-421B-4C57-80E6-44FAF44EBBB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972A-1313-41E3-8664-28A116030D2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067280" y="3141720"/>
            <a:ext cx="507672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????Boutros Rokaa"/>
              </a:rPr>
              <a:t>يسوع أنت إلهي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50292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َ إله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ُبُكَ شافـيَ الوحيد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0"/>
            <a:ext cx="4648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حبيبُ نفسي أبدا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سوع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ن أريد.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876920" y="0"/>
            <a:ext cx="41148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تنحني لاسمِكَ كل رُكبَة ويعترفُ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كلّ لسان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140360" y="836640"/>
            <a:ext cx="5002200" cy="51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سمُك يسوعُ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خلاصي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ُرَدّدُه في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كلِّ حين.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50292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َ إلهي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حُبُكَ شافـيَ الوحيد،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0"/>
            <a:ext cx="4648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حبيبُ نفسي أبدا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سوع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ن أريد.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50292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َ إله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ُبُكَ شافـيَ الوحيد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0"/>
            <a:ext cx="4648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حبيبُ نفسي أبدا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سوع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ن أريد.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876920" y="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أسجُدُ أمامَ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إله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أعترفُ بـِ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مَلِك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29080" y="189000"/>
            <a:ext cx="4680000" cy="626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00"/>
                </a:solidFill>
                <a:latin typeface="Tahoma"/>
                <a:cs typeface="Akhbar MT"/>
              </a:rPr>
              <a:t>ها هي حياتي في يديكَ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00"/>
                </a:solidFill>
                <a:latin typeface="Tahoma"/>
                <a:cs typeface="Akhbar MT"/>
              </a:rPr>
              <a:t>إفعلْ بها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00"/>
                </a:solidFill>
                <a:latin typeface="Tahoma"/>
                <a:cs typeface="Akhbar MT"/>
              </a:rPr>
              <a:t>ما تُريد.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15920"/>
            <a:ext cx="5029200" cy="642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َ إله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ُبُكَ شافـيَ الوحيد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44280"/>
            <a:ext cx="4647960" cy="65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نتَ حبيبُ نفسي أبداً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ن أريد.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91000" y="0"/>
            <a:ext cx="5553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4000" y="0"/>
            <a:ext cx="38862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تعالَ واملُكْ على قلبي أتوقُ إليكَ تعال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47800" y="171360"/>
            <a:ext cx="49118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تُرنِّمُ لكَ شفتايَ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أحبُّك للأبدِ.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7T20:40:08Z</dcterms:created>
  <dc:creator>Charbel Azar</dc:creator>
  <dc:description/>
  <dc:language>en-US</dc:language>
  <cp:lastModifiedBy>ف</cp:lastModifiedBy>
  <dcterms:modified xsi:type="dcterms:W3CDTF">2006-07-04T10:59:33Z</dcterms:modified>
  <cp:revision>13</cp:revision>
  <dc:subject/>
  <dc:title>PowerPoint Presentation</dc:title>
</cp:coreProperties>
</file>