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C9EC-06E2-4C8C-9072-7E384F712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EFD0-7F8B-48A0-B419-1CDCE507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EDE7-0321-49BF-9276-FA7F7A07D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52D9-EB41-4C62-8272-1A8AC0B6A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DF47-5F6B-44CF-B942-E4F6C3BC9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88C7-16C1-405D-BFE9-ECFB04D0B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310B-1E99-424F-80E4-B038E14E3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EF9E-6E15-48CD-B3CA-C0F2FAC26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F367-0738-413C-90B0-F70EA57FF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F24A-5B89-4138-9AE6-EB7F4E57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AEC0-4CCD-4B8D-9078-C9D8596D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CCCA-CE57-446F-8BD2-437D14FE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94318-49C9-4468-8A15-90D1342EC7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6257987lPLwnGivWK_ph" descr=""/>
          <p:cNvPicPr/>
          <p:nvPr/>
        </p:nvPicPr>
        <p:blipFill>
          <a:blip r:embed="rId1"/>
          <a:stretch/>
        </p:blipFill>
        <p:spPr>
          <a:xfrm>
            <a:off x="3657600" y="-571680"/>
            <a:ext cx="6095880" cy="8001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60948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808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04920"/>
            <a:ext cx="3581280" cy="9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Arabic Transparent"/>
              </a:rPr>
              <a:t>أنا قلتُ يا ربُّ ارحم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Arabic Transparent"/>
              </a:rPr>
              <a:t>إشفِ نفسي خطئتُ إلي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Arabic Transparent"/>
              </a:rPr>
              <a:t>طوبى لمَن يراعي المسك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Arabic Transparent"/>
              </a:rPr>
              <a:t>ينقذهُ الرب في يوم السوء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Arabic Transparent"/>
              </a:rPr>
              <a:t>أنا قلتُ يا ربُّ ارحم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Arabic Transparent"/>
              </a:rPr>
              <a:t>إشفِ نفسي خطئتُ إلي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Arabic Transparent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th02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29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876960" y="228600"/>
            <a:ext cx="64198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</a:rPr>
              <a:t>الربُّ يعضُدُهُ على سرير الأل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Arabic Transparent"/>
              </a:rPr>
              <a:t>أنا قلتُ يا ربُّ ارحم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Arabic Transparent"/>
              </a:rPr>
              <a:t>إشفِ نفسي خطئتُ إليك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0T07:50:20Z</dcterms:created>
  <dc:creator>SUZANNE.MD</dc:creator>
  <dc:description/>
  <dc:language>en-US</dc:language>
  <cp:lastModifiedBy>USER</cp:lastModifiedBy>
  <dcterms:modified xsi:type="dcterms:W3CDTF">2003-02-20T14:08:25Z</dcterms:modified>
  <cp:revision>2</cp:revision>
  <dc:subject/>
  <dc:title>PowerPoint Presentation</dc:title>
</cp:coreProperties>
</file>