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2D4-2CEA-4527-AA15-DC95F375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9BF-85D8-4887-81A9-1F4DBAE2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AC2-7FCA-437F-A77F-ED5B950B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542-8CD6-4A8A-89D7-B279237C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927-CF4A-4D97-B536-968A2831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C8B-E9C6-486C-A944-06660FB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A89-DD9A-4B74-909E-4D2818CA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2C8-B39F-4568-B66D-E72392E2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73C-E9CF-44E9-9C81-5E435637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203-754D-40B1-BA89-64BCB3D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4A7-F241-4302-969C-8107F5B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53B-6965-4560-827B-11314AE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3F0C-7174-4CD0-8DD3-8CA2876C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89548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قالَ الربُ</a:t>
            </a:r>
            <a:r>
              <a:rPr b="1" i="1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 أنا الكرمه   أنتم أغصانُ الكر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كالأغصانِ اثبتوا فيَّ   تأتوا بثماٍر جمَّ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0"/>
            <a:ext cx="2743200" cy="13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مثلَ الهائمِ في الصحراء   يبحثُ عن قطراتِ الم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هكذا يلْهَفُ قلبي إليكْ   أنتَ الهدايةُ أنت الرجا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048120" cy="10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مَن يأكل من خُبزِ الله   </a:t>
            </a: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 مَن يشرب من خمرِ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يرِثِ  الحياةَ الأبدية     يُعطى السعادةَ في دُنيا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2:22:58Z</dcterms:created>
  <dc:creator>HANI SAFI</dc:creator>
  <dc:description/>
  <dc:language>en-US</dc:language>
  <cp:lastModifiedBy>HANI SAFI</cp:lastModifiedBy>
  <dcterms:modified xsi:type="dcterms:W3CDTF">2003-05-18T13:01:41Z</dcterms:modified>
  <cp:revision>1</cp:revision>
  <dc:subject/>
  <dc:title>Slide 1</dc:title>
</cp:coreProperties>
</file>