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1BC-41CE-4DD4-918F-2CA9EF41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A32-E294-4A70-B07F-DB041FF6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44B-BA86-40F1-9A82-22149BCB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F33-68CA-4DCA-9B8E-FDEA6406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672-5381-4082-ACCE-38B49E0A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B30-EE2C-4ABA-B9AD-6A899874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5E9-B7D5-486B-B2E1-8B40639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B4C-7A11-4967-A054-1899231F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E99-4836-4431-9AE3-E4213E1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F25-2064-4ADC-AEC6-F7D54F02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669-195B-46C3-ABB0-9AE6A1F7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838-5625-4CA1-801C-B77A15B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370C-2217-4DD7-972B-5AE074BF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89548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قالَ الربُ</a:t>
            </a:r>
            <a:r>
              <a:rPr b="1" i="1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 أنا الكرمه   أنتم أغصانُ الكر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cc"/>
                </a:solidFill>
                <a:latin typeface="Arial"/>
              </a:rPr>
              <a:t>كالأغصانِ اثبتوا فيَّ   تأتوا بثماٍر جمَّ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0"/>
            <a:ext cx="2743200" cy="13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مثلَ الهائمِ في الصحراء   يبحثُ عن قطراتِ الم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00"/>
                </a:solidFill>
                <a:latin typeface="Arial"/>
              </a:rPr>
              <a:t>هكذا يلْهَفُ قلبي إليكْ   أنتَ الهدايةُ أنت الرجاء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3048120" cy="10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مَن يأكل من خُبزِ الله   </a:t>
            </a: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 مَن يشرب من خمرِ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ffffcc"/>
                </a:solidFill>
                <a:latin typeface="Arial"/>
              </a:rPr>
              <a:t>يرِثِ  الحياةَ الأبدية     يُعطى السعادةَ في دُنيا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304920"/>
            <a:ext cx="3048120" cy="12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ربّي جسدُكَ مأكلٌ حقاً   ربي دمُكَ مشربٌ حق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5400" spc="-1" strike="noStrike">
                <a:solidFill>
                  <a:srgbClr val="ffffff"/>
                </a:solidFill>
                <a:latin typeface="Arial"/>
              </a:rPr>
              <a:t>طوبي لمَن يرتوي منهما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2:22:58Z</dcterms:created>
  <dc:creator>HANI SAFI</dc:creator>
  <dc:description/>
  <dc:language>en-US</dc:language>
  <cp:lastModifiedBy>HANI SAFI</cp:lastModifiedBy>
  <dcterms:modified xsi:type="dcterms:W3CDTF">2003-05-18T13:01:41Z</dcterms:modified>
  <cp:revision>1</cp:revision>
  <dc:subject/>
  <dc:title>Slide 1</dc:title>
</cp:coreProperties>
</file>