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AE3-2FC4-44F0-A37E-94A11A87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CAB-B892-4032-A173-1F4D69EC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454-A188-4B2B-9CDD-580C8B76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1B5-4423-483E-BD52-F185BFFE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87F-D38E-4014-A3E3-DA91E088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079-5CFC-4F7A-8285-78BC0D58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5D4-C3A0-4B6D-8D1E-F078FA87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9DF-428C-407B-BF0E-3355B8EB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FE4B-45FE-4B67-A4DC-2F798F0D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CE35-7052-4C47-B8A0-3AA642AF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2BC-A3A5-4265-8061-0875A243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225-0C03-4974-938F-6B40E029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D3E6-7420-4D5B-B6BD-2A30BD00E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67080" y="3240"/>
            <a:ext cx="4834080" cy="9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الحمدُ والشكران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والمجدُ والسلطانْ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والقُدرة لإلهنا لا لا  لا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لهُ الحكمة والقُوَّة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والعزُّ والاجلالْ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إلى أبدِ الآبدين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         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الحمدُ والشكران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والمجدُ والسلطان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والقدرة لإلهنا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                         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مُستَحِقٌ أن يَنَال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كُلَّ حُبٍّ وإكرام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الجالِسْ عَلى عَرْشِ السَماو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ات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935640" y="3240"/>
            <a:ext cx="558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طوبى للذي يحفظْ وصايَا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ويَعتصِمُ في ظِلِّ جَنَاحيكَ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يُثمِرُ بالبِرِّ والقَدَاسة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ويَفْرحْ في ملكوتِكَ  لا  لا  ل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133720"/>
            <a:ext cx="421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طوبى للذيِنَ يتَّقون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َبْرَحونَ يسبِّحونكَ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لا يجوعونَ لا يعطشون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rabic Transparent"/>
              </a:rPr>
              <a:t>مِنْ نبعِ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حياةِ يرتوون  لالا  ل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923400" y="4816440"/>
            <a:ext cx="579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طو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ى للَّذين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َ أتَواْ مِنَ الضيق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ُلوِّحون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َ أغصانَ النخيلِ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ِدَمِ الحَمَلِ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غَسَلُوا حُلَلَهُ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روحُ يَحُلُّ فوقهُم  لا  لا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ل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13:43Z</dcterms:modified>
  <cp:revision>5</cp:revision>
  <dc:subject/>
  <dc:title>PowerPoint Presentation</dc:title>
</cp:coreProperties>
</file>