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FE1-CE5E-4EEA-9672-AAE7DE08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8D4-2EAA-476F-BD35-EC0C602A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707-B208-42F6-808D-87227A47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E39-9BE3-4B96-B8BE-CF4894DF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91B-6177-414C-A6C7-D7E77555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D6A-3FF3-414B-990D-DE298784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8A2-B8C0-4040-A323-DA5F053D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AEA-4952-4F61-AD6B-7D75CBCC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68C-3702-472C-8F86-6DAE4695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77E-F133-4A0B-8504-0B28C030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893-0CBC-4015-9CD6-05D94ECE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7AC-D46D-46E7-9FAD-FF31AD9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6168-658E-4F4E-9C3F-1DF5890B3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إليكَ رفعتُ عينيَّ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  <a:ea typeface="????Boutros Roka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يكَ رفعتُ عينيَّ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يا ساكِنَ السماوات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كما أنَّ عيونَ العبيد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ى أيدي مواليهم</a:t>
            </a:r>
            <a:r>
              <a:rPr b="1" lang="en-US" sz="88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كما أنَّ عيني الأَمَة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ى سيدتها كذلك عيونُن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لى الربِ إلهـِن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حتى يتحنَّن علي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تحنَّنَ علينا يا ربُ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تحنَّن علينا فقد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طالـما امتلأنا هواناً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طالما امتلأت نفوسن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هُزؤِ المترَفينَ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وإهانةِ المتكبّرينَ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1:17:01Z</dcterms:created>
  <dc:creator>Charbel Azar</dc:creator>
  <dc:description/>
  <dc:language>en-US</dc:language>
  <cp:lastModifiedBy>Charbel Azar</cp:lastModifiedBy>
  <dcterms:modified xsi:type="dcterms:W3CDTF">2003-01-31T11:17:01Z</dcterms:modified>
  <cp:revision>1</cp:revision>
  <dc:subject/>
  <dc:title>إليكَ رفعتُ عينيَّ </dc:title>
</cp:coreProperties>
</file>