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9F50-D84A-4E07-884C-ACAD247C9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41A1-8AB3-4B70-A894-F3506237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0ED6-B7BF-4F71-A867-24516AE2C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9E99-068C-4D4E-88A3-A711FA626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6203-E858-4A98-B0E5-E41832DC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8F24-CB2B-4A4F-8284-16DD0824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7DB8-70D8-4FDE-9AD7-A4AC6B35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A32C-32D9-4D69-BC39-ACFA3843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8903-B9AC-4131-A46D-5B62DF09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8559-5E00-49CA-918C-A983046B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DFD0-FB83-446E-9A4F-3F62BEAF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1086-F529-4908-950D-E4453C9A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5FBE-E42D-4F09-806E-B5E0D8D94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62520" y="3573360"/>
            <a:ext cx="5181480" cy="31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600" spc="-1" strike="noStrike">
                <a:solidFill>
                  <a:srgbClr val="000000"/>
                </a:solidFill>
                <a:latin typeface="Tahoma"/>
                <a:cs typeface="????Boutros Rokaa"/>
              </a:rPr>
              <a:t>يا أبتاه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038480" y="1905120"/>
            <a:ext cx="495324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أبتاه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قد خطئتُ إليك وإلـى السماء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356000" y="2060640"/>
            <a:ext cx="457200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لا أستحقُّ  أن أُدعَى لكَ ابناً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ea typeface="Akhbar MT"/>
              </a:rPr>
              <a:t>  يا أبتاه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419720" y="1981080"/>
            <a:ext cx="457200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اتوا أجملَ حُلَّةٍ وأَلبسُوه، وضعوا في يدِهِ خاتماً،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19720" y="1981080"/>
            <a:ext cx="457200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أنَّ إبنيَ هذا كان ميتاً فعاش، وكان ضالاً فوُجِدَ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038480" y="1905120"/>
            <a:ext cx="495324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أبتاه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قد خطئتُ إليك وإلـى السماء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27640" y="2133720"/>
            <a:ext cx="457200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لا أستحقُّ  أن أُدعَى لكَ ابناً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ea typeface="Akhbar MT"/>
              </a:rPr>
              <a:t>  يا أبتاه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1:12:41Z</dcterms:created>
  <dc:creator>Charbel Azar</dc:creator>
  <dc:description/>
  <dc:language>en-US</dc:language>
  <cp:lastModifiedBy>-</cp:lastModifiedBy>
  <dcterms:modified xsi:type="dcterms:W3CDTF">2003-01-20T12:10:43Z</dcterms:modified>
  <cp:revision>2</cp:revision>
  <dc:subject/>
  <dc:title>PowerPoint Presentation</dc:title>
</cp:coreProperties>
</file>