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D8A9-248C-46E3-B675-2875F84E7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3DDC-C3C1-4B1F-AFA9-18DF4605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9E73-38E7-488A-96D0-B791BB0D1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3B26-6271-4762-9F50-DFE65BCB4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AE0C-8EBF-4643-BF83-A658E701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1DAE-C58C-4B3D-8E6E-A2264617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4EFF-699F-449A-9D6B-373324DC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43F4-B991-40B8-8B7A-968674FF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90E3-6127-48D6-B837-2DF17E80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8810-8405-4A69-B95A-3201D830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28DB-6E39-47BF-B590-265DE357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D811-7DA8-4170-B7F8-3D25337D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5445-B9CB-41A4-BCC3-C958C1C5383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30160" y="4508280"/>
            <a:ext cx="5613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Arial"/>
                <a:cs typeface="Ruqah2 Normal"/>
              </a:rPr>
              <a:t>ما أبهى نورك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03280" y="2707920"/>
            <a:ext cx="594036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Arial"/>
                <a:cs typeface="Akhbar MT"/>
              </a:rPr>
              <a:t>ما أبهى نوركَ أيها المسيح ابن الله نور الحق والحياة</a:t>
            </a:r>
            <a:br>
              <a:rPr sz="9000"/>
            </a:br>
            <a:r>
              <a:rPr b="1" lang="ar-SA" sz="9000" spc="-1" strike="noStrike">
                <a:solidFill>
                  <a:srgbClr val="ffffff"/>
                </a:solidFill>
                <a:latin typeface="Arial"/>
                <a:cs typeface="Akhbar MT"/>
              </a:rPr>
              <a:t>بك نهتدي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51280" y="2636640"/>
            <a:ext cx="529272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Arial"/>
                <a:cs typeface="Akhbar MT"/>
              </a:rPr>
              <a:t>تشرق عليّ نوراً تضيء دربي إليك وبفرح لقائي آتيكَ ربّي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03280" y="2707920"/>
            <a:ext cx="594036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Arial"/>
                <a:cs typeface="Akhbar MT"/>
              </a:rPr>
              <a:t>ما أبهى نوركَ أيها المسيح ابن الله نور الحق والحياة</a:t>
            </a:r>
            <a:br>
              <a:rPr sz="9000"/>
            </a:br>
            <a:r>
              <a:rPr b="1" lang="ar-SA" sz="9000" spc="-1" strike="noStrike">
                <a:solidFill>
                  <a:srgbClr val="ffffff"/>
                </a:solidFill>
                <a:latin typeface="Arial"/>
                <a:cs typeface="Akhbar MT"/>
              </a:rPr>
              <a:t>بك نهتدي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2T19:52:04Z</dcterms:created>
  <dc:creator>Charbel Azar</dc:creator>
  <dc:description/>
  <dc:language>en-US</dc:language>
  <cp:lastModifiedBy>-</cp:lastModifiedBy>
  <dcterms:modified xsi:type="dcterms:W3CDTF">2003-01-30T06:48:53Z</dcterms:modified>
  <cp:revision>9</cp:revision>
  <dc:subject/>
  <dc:title>أنتَ المسيح ابن الله الحيّ</dc:title>
</cp:coreProperties>
</file>