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92D-0982-41C3-B7E6-646C8D05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57A-264E-4FAD-85AE-ED442B1D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7EF-BD09-477B-885C-1671A0BC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8EF-7160-4FC2-8E53-CB4C9124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550-3004-4D8A-ACFE-FDE6815D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41E-1361-403F-A22A-AB3664D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2F6-1AEE-406E-A0DE-711026C5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0FA-4823-43CA-A439-E63EB7D7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B06-54D8-4CB9-8D06-CD67BC63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B25-88C3-4B7B-9BDC-1E90F77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009-ADA7-4FFC-8D8F-89F874FA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A69-8151-43FB-B6BB-213983ED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254-E392-427C-A621-0BC410A6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215561trgpRaNsdy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57800"/>
            <a:ext cx="9144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مالي سواك ياسيدي       حياتي رض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        أنت مُتّكَلي .... تُطَمئِنُ نفسي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6457ZyMZbofv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33412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     نفس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تُفرِّح قلبي  ...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َرتَ لي درب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138657fOyBjnytPv_ph" descr=""/>
          <p:cNvPicPr/>
          <p:nvPr/>
        </p:nvPicPr>
        <p:blipFill>
          <a:blip r:embed="rId1"/>
          <a:stretch/>
        </p:blipFill>
        <p:spPr>
          <a:xfrm>
            <a:off x="-198108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0"/>
            <a:ext cx="1676160" cy="9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Arabic Transparent"/>
              </a:rPr>
              <a:t>حينما ألقاك يا سيدي       عذبٌ ما أح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ea typeface="Arabic Transparent"/>
              </a:rPr>
              <a:t>        تُبَدِّدُ همّي  ..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ff66"/>
                </a:solidFill>
                <a:latin typeface="Times New Roman"/>
                <a:cs typeface="Times New Roman"/>
              </a:rPr>
              <a:t>تُفَرِّجُ ع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1905120"/>
            <a:ext cx="32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وسط الأشواك يا سيدي عينيَّ تراك يا سيدي      تُضَمِّدُ جُرحي ...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ُجدِّدُ فَرَ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525780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نفسي في حماك يا سيدي    عيني لعُلاك يا س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     قوَّتي حبَّك ...  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صخرتي وعد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9:29:42Z</dcterms:created>
  <dc:creator>SUZANNE.MD</dc:creator>
  <dc:description/>
  <dc:language>en-US</dc:language>
  <cp:lastModifiedBy>USER</cp:lastModifiedBy>
  <dcterms:modified xsi:type="dcterms:W3CDTF">2002-12-12T16:02:34Z</dcterms:modified>
  <cp:revision>2</cp:revision>
  <dc:subject/>
  <dc:title>PowerPoint Presentation</dc:title>
</cp:coreProperties>
</file>