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DE6-71ED-4ADE-9680-D0E2036B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2FC-75AB-4CBF-BA74-16F1093A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A97-CBE2-455B-B311-D98E0C90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031B-04B3-4BC6-B3C5-A97EBE3B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57A-3BA7-44BF-BB96-9C40997B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2EC1-A3AE-4BB7-9592-A111DF82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8C7-4E3A-43A4-8230-6B0BE443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5A7-EBFA-4B50-AB0B-B7431320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635-AC59-4F12-9C9F-EA35D57F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25EF-ACFB-4A02-AB49-683BB248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32C-FB3A-42C0-A0AE-98D6F593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BDF-8667-411C-A4CC-F4486058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BD31-AA6D-4F97-B295-ED546996041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8360" y="4797360"/>
            <a:ext cx="5329440" cy="360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يسوع ربن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395280" y="0"/>
            <a:ext cx="47768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َ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نوراً من ن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جئناكَ وقلبُ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بالحبِّ مغم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907920"/>
            <a:ext cx="5113440" cy="746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فاقبلْ منّا حبَّ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27640" y="0"/>
            <a:ext cx="44877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يا يسوعُ ما لنا حبٌ سو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أنتَ نوِّر عقلَنا حتى نر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0560" y="620640"/>
            <a:ext cx="5113440" cy="722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في القربانِ أعطِ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أن نلقاكَ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396720" y="0"/>
            <a:ext cx="4488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مَّنا يا مريمُ البكرُ ندعوكِ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يُرنِّمُ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حنُ بنوكِ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5113440" cy="72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ِنكِ نتقدَّمُ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ركينا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رجوكِ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3" name=""/>
          <p:cNvSpPr/>
          <p:nvPr/>
        </p:nvSpPr>
        <p:spPr>
          <a:xfrm>
            <a:off x="395280" y="0"/>
            <a:ext cx="47768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َ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نوراً من ن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جئناكَ وقلبُ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بالحبِّ مغم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7280" y="907920"/>
            <a:ext cx="5113440" cy="10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اقبلْ منّا حبَّنا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5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7:09:33Z</dcterms:created>
  <dc:creator>Charbel Azar</dc:creator>
  <dc:description/>
  <dc:language>en-US</dc:language>
  <cp:lastModifiedBy>ف</cp:lastModifiedBy>
  <dcterms:modified xsi:type="dcterms:W3CDTF">2006-09-18T10:12:17Z</dcterms:modified>
  <cp:revision>6</cp:revision>
  <dc:subject/>
  <dc:title>Slide 1</dc:title>
</cp:coreProperties>
</file>