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742-C61E-4477-A1FE-E316F364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DC9-8FBB-4D86-AE1B-00F2F003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FEB-B0A4-450F-B241-E8764ACC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26A-983C-40EB-907C-FC3EE0A3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F2E-0E4D-4270-A76D-077889E5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43E-D5A4-4FE9-AA6C-866BA869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774-C21E-4AE2-830F-D791C78E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5E1-FD6E-444B-AE55-FC50F4A9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9D0-28A0-46C7-A49D-3F6E350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778-A4D0-4736-9671-0DE0504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2AC-C497-4214-A2C0-0E67A7A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C98-CE86-4DED-81D5-09EA730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C2E-91F7-4108-9E1B-CB8673385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7" descr=""/>
          <p:cNvPicPr/>
          <p:nvPr/>
        </p:nvPicPr>
        <p:blipFill>
          <a:blip r:embed="rId1"/>
          <a:stretch/>
        </p:blipFill>
        <p:spPr>
          <a:xfrm>
            <a:off x="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ربّي يَسوع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لَيْسَ لي سِواك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أتبَعُكَ ربّي دَ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بَعُكَ بِلا رُجُوع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سبِّحُ اسمَكَ القُدّو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َيْسَ ل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ِ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حِبُّكَ يا روحَ الل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ربّي دو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مُرُني بلا 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مسَحُني بقوَّةٍ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7200" y="4329000"/>
            <a:ext cx="657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يا أُبّا الآب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بِحُبِّكَ تغمُرُني بِمَجْدِ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َجْثو أمامَ عَرْشِ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44:51Z</dcterms:created>
  <dc:creator>USER</dc:creator>
  <dc:description/>
  <dc:language>en-US</dc:language>
  <cp:lastModifiedBy>USER</cp:lastModifiedBy>
  <dcterms:modified xsi:type="dcterms:W3CDTF">2002-12-16T14:44:02Z</dcterms:modified>
  <cp:revision>2</cp:revision>
  <dc:subject/>
  <dc:title>PowerPoint Presentation</dc:title>
</cp:coreProperties>
</file>