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325-E8FA-40D2-B13B-9A55CC43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B2A-854C-48BF-B584-86A7A5BE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122-4B66-43C3-A6C4-8760EB5E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05C-7805-438E-A623-CAB6B1E2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D00-88E9-4B9A-9490-FD2A8C2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1DF-4EF3-488E-A62E-315010E0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227-8EAC-48DA-864B-ACAECBC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3D7-AC08-49F2-BA47-8603337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D60-D9C9-4E35-9369-BA2745AF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50D-E527-441E-9B05-F908BB4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3ED-7BE5-4734-B6C6-E9AF983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253-AF46-47CE-8430-1DD1796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49F-1D30-44E8-A690-C9342B18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66996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بِّّي أنتَ طر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في معاثرِ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ربي أنتَ رف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عندَ ساعةِ المم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َجَو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39720"/>
            <a:ext cx="35053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نارٌ لقل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أيضاً نس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 هديٌ لدرْ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فجْرِي الوسيم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َعْضُدِ الموجَعينَ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ساعدِ البائِس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شْبعِ الجائع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رْجعِ الخاطئين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28:57Z</dcterms:modified>
  <cp:revision>2</cp:revision>
  <dc:subject/>
  <dc:title>PowerPoint Presentation</dc:title>
</cp:coreProperties>
</file>