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463-3CFF-40D8-862B-01268697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742-1F07-4B49-821B-7E6BF678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E21-A46C-4211-BB99-97F1CFD7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3F2-2AB8-4BCF-B3FA-B61980F3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4DC-FDEE-4047-82F0-321D623E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F9C-610A-4C24-97BB-E5977F99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7C3-B145-45C8-9299-C7EA4032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796-EEC3-4A50-A419-133C7518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E0F-02CD-465A-A0E7-F2DFA783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E0A-5A0B-42E0-994C-40B6B9A0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E0E-CDB3-4AAC-9E00-1CBD8EFD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C8F-D336-42BE-B7F9-7DA36878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5DFE-84CA-41A6-8107-99C491EE7BE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197000"/>
            <a:ext cx="52578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ر ب نوري وخلاصي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 نوري وخلاص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ممّن أخاف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ُّ حصنُ حيات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ممّن أفزع؟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تقدّم عليَّ الأشرار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أكلوا لحمي مُضايقيَّ وأعدائي فإنّهم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عثـُرون ويسقُطون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9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اصطفَّ عليَّ عسكر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لا يخافُ قلب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قامَ عليَّ قتال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في ذلك ثقت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26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حدةً سألتُ الربّ وإيّاها ألتمس. أن أُقيمَ ببيتِ الربِ جميعَ أيام حياتي، لكي أُعاينَ نعيمَ الربِ وأتأمّل في هيكَلِهِ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1000"/>
            <a:ext cx="9144000" cy="14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ّه يخبّأني في مِظَلَّتِهِ يومَ الشرِ ويستُرني بسِترِ خِبائِه وعلى صخرةٍ يرفَعُني. فحينئذٍ يعلو رأسي فوقَ أعدائي من حولي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1000"/>
            <a:ext cx="9144000" cy="1146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ذبحُ في خبائِه ذبائِحَ هُتافٍ. أُرَنِّمُ وأُشيدُ للربِ. إِستَمِع ياربّي، إنّي بصوتي أدعو فارحَمني، واستجب لي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0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كَ نَطَقَ قلبي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ّاكَ التمَسَ وجهي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جَهَك يا ربِّ ألتمس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تَحجُب وجهَك عنّي ولا تنبذ بغضَبٍ عبدكَ. ناصراً كنتَ لي، فلا تَخذلُني ولا تترُكني، يا إلهَ خلاص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1:59Z</dcterms:created>
  <dc:creator>Charbel Azar</dc:creator>
  <dc:description/>
  <dc:language>en-US</dc:language>
  <cp:lastModifiedBy>-</cp:lastModifiedBy>
  <dcterms:modified xsi:type="dcterms:W3CDTF">2003-01-03T12:51:55Z</dcterms:modified>
  <cp:revision>6</cp:revision>
  <dc:subject/>
  <dc:title>PowerPoint Presentation</dc:title>
</cp:coreProperties>
</file>