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432-40F5-4FA9-B417-29CE2086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532-F505-477F-9D08-20F688B1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556-981E-43F7-8033-E7835A81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574-4D8B-4816-A144-FEFBCEFA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B6D-30AE-4754-9FAD-92632116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59F-91F2-4A08-BAAC-D2C782C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7E9-135E-4945-BC17-FBDB16BB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0E3-87FC-4C03-9B38-3FE492E9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3D6-8005-4C94-9514-158AF15C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05A-EE6C-4396-AAF7-71791B78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D0C-6673-4F0C-A53D-7ED9AAA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BC5-D651-46C4-94B9-809E7E55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E3F6-6AF2-4D6D-A96C-2435D92AA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216818KHAPFKsPan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5880" y="0"/>
            <a:ext cx="30481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الربُّ هوالله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هو صنعنا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نحن شعبُهُ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غنمُ مرعاه (×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لنَعبُدِ الربّ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بالفرحِ والحم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َهْتِفَنْ ل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رفَعِ الأيدي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9839597SVHMFGJHYQ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304920"/>
            <a:ext cx="3200400" cy="78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نّوا ورنّموا بأعجب الألحان بالأيدي صفقوا لسيد الأكوان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9839130pPYJDRksSW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7095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685800"/>
            <a:ext cx="335268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قدّمُ المجدَ لساكن السماء ونرفعُ الحمدَ لمن في وسطِنا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0554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24280"/>
            <a:ext cx="91440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سمِ الهِنا سنرفع الرايات ولخلاصِه ِ ستعلو الترنيمات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 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41:27Z</dcterms:modified>
  <cp:revision>7</cp:revision>
  <dc:subject/>
  <dc:title>PowerPoint Presentation</dc:title>
</cp:coreProperties>
</file>