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36E0-6372-4A4D-96DB-D4B94531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DE6A-47DE-40CC-B6B2-747BE265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8003-72B3-4742-A5A0-30E6460D1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E2BE-946D-45B1-8DF5-1A6064549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6101-63F8-46D1-BA1D-A2AFE47F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660B-FCA0-454F-9857-2ECA92FD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A4E2-39E6-4D46-A8FF-A73775DE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EBAA-E62A-43F9-8AAB-65BA138D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81F3-A748-424C-AB89-CD54D7DB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5A76-EED2-4299-959B-695AB7FF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EA7C-EC00-4414-BC14-CF527CD6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C904-DFDC-4161-A739-23764101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FB60-902E-4D15-98F9-881064F99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0079591" descr=""/>
          <p:cNvPicPr/>
          <p:nvPr/>
        </p:nvPicPr>
        <p:blipFill>
          <a:blip r:embed="rId1"/>
          <a:stretch/>
        </p:blipFill>
        <p:spPr>
          <a:xfrm>
            <a:off x="-554040" y="0"/>
            <a:ext cx="5626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19920" y="0"/>
            <a:ext cx="2895480" cy="9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م بشتقل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الل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م بشتقل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رب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شو بتسو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دنيي كلها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ول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وجود المحبّة؟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4128811tjyYwEGwHP_ph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15000" y="762120"/>
            <a:ext cx="3124080" cy="70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م منصلّي بحرارة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ا تتركنا يا يس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طينا نعمة وطهار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حتى ما نخطى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نجوع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0079591" descr=""/>
          <p:cNvPicPr/>
          <p:nvPr/>
        </p:nvPicPr>
        <p:blipFill>
          <a:blip r:embed="rId1"/>
          <a:stretch/>
        </p:blipFill>
        <p:spPr>
          <a:xfrm>
            <a:off x="-554040" y="0"/>
            <a:ext cx="56260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19920" y="0"/>
            <a:ext cx="2895480" cy="9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م بشتقل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الل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م بشتقل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رب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شو بتسو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دنيي كلها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ول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وجود المحبّة؟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-masslg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34120" y="1523880"/>
            <a:ext cx="3581280" cy="59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Simplified Arabic"/>
              </a:rPr>
              <a:t>ولّع هالأرض بنار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Simplified Arabic"/>
              </a:rPr>
              <a:t>طهّرنا من أهل الش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Simplified Arabic"/>
              </a:rPr>
              <a:t>وناولنا من أسرار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Simplified Arabic"/>
              </a:rPr>
              <a:t>حتى المحبّة تكبر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0079591" descr=""/>
          <p:cNvPicPr/>
          <p:nvPr/>
        </p:nvPicPr>
        <p:blipFill>
          <a:blip r:embed="rId1"/>
          <a:stretch/>
        </p:blipFill>
        <p:spPr>
          <a:xfrm>
            <a:off x="-554040" y="0"/>
            <a:ext cx="56260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19920" y="0"/>
            <a:ext cx="2895480" cy="9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م بشتقل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الل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م بشتقل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رب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شو بتسو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دنيي كلها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ول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وجود المحبّة؟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L4TT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57800" y="1523880"/>
            <a:ext cx="3886200" cy="592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قبّل منا هالبخور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بارك كل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مشترك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ولا المحبّة والنو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كنا بقينا مخطيين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0079591" descr=""/>
          <p:cNvPicPr/>
          <p:nvPr/>
        </p:nvPicPr>
        <p:blipFill>
          <a:blip r:embed="rId1"/>
          <a:stretch/>
        </p:blipFill>
        <p:spPr>
          <a:xfrm>
            <a:off x="-554040" y="0"/>
            <a:ext cx="56260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19920" y="0"/>
            <a:ext cx="2895480" cy="9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م بشتقل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الل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م بشتقل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رب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شو بتسو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دنيي كلها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ول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وجود المحبّة؟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3-02-05T12:52:14Z</dcterms:modified>
  <cp:revision>4</cp:revision>
  <dc:subject/>
  <dc:title>PowerPoint Presentation</dc:title>
</cp:coreProperties>
</file>