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58F-88A1-46E8-AD44-C74668A6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590-9F31-4BE4-983F-8F65724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212-9F00-4158-8273-2640085B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4D7-95D4-4764-B3F2-2EF97604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2D8-071C-4188-8E21-9A8E52F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873-FAE5-47D1-90A4-EDEE58B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F1C-C295-4334-A419-278A4C3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1ED-00CE-4B67-8CB7-22029BC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E47-DD75-4033-9BC9-84EFBDF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CDA-AD65-41A9-8C07-08851626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78C-0881-4C94-8777-0B9E433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6D3-AC8D-49FD-9BD6-B88CDED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AA3-240F-49C9-9B5D-B1156E6AF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73360"/>
            <a:ext cx="518148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أبتاه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56000" y="206064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اتوا أجملَ حُلَّةٍ وأَلبسُوه، وضعوا في يدِهِ خاتماً،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أنَّ إبنيَ هذا كان ميتاً فعاش، وكان ضالاً فوُجِدَ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7640" y="213372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2:41Z</dcterms:created>
  <dc:creator>Charbel Azar</dc:creator>
  <dc:description/>
  <dc:language>en-US</dc:language>
  <cp:lastModifiedBy>-</cp:lastModifiedBy>
  <dcterms:modified xsi:type="dcterms:W3CDTF">2003-01-20T12:10:43Z</dcterms:modified>
  <cp:revision>2</cp:revision>
  <dc:subject/>
  <dc:title>PowerPoint Presentation</dc:title>
</cp:coreProperties>
</file>