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D30-6F81-4585-93E4-B3FD349F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B4F-BB3F-489B-99FF-BE40974A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0CC-535D-48F0-83BB-B8FB880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1A5-5590-44D2-B5D4-56C6048E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C439-7739-49EA-8B00-5F390CF5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4A78-8487-4685-A967-94113D64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B59-E9E0-42CC-850A-E8171C06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8DE2-E703-4C39-A336-D05B066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F71-A80D-4646-9B75-90DAA0C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FB26-273F-449D-B3B0-0269A9AA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CD3-1AE1-49A4-9873-15672D3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232-0A81-4915-8AFC-8809318E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49A5-429A-4BD6-BF58-69430E0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7310-6F1A-4A0E-AB7D-E933583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CE09-A264-4AFE-AA49-7005AA8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B7C-AB64-4853-ACE0-3FF7EBFE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278-6795-480A-BD62-A37AD2EA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A30-57BC-4E4A-A070-1316077A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18A-5F58-46B6-9766-9683308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4DB-2B92-4DC3-A598-28DA8B2F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45E-B2AD-47CF-9A53-C0E8F78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7B2-328C-4028-98D8-C7816EE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76E-B89C-407F-9984-8A9E798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079-10D9-47B4-A90E-0EF85D6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685-2DB1-41FB-9BF0-1000315DA11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F95-70CA-4A98-8DA4-DB9E6814CE0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24280"/>
            <a:ext cx="57243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ربي بتعرف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51280" y="2781000"/>
            <a:ext cx="529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لّيتْ وتمنّيْت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مشي على دربَ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يت فيّي كُو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ين الرّسُل حَدَّك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2636640"/>
            <a:ext cx="57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ي إلَك يا ر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شوق الطّفل للع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ا ريت فينا نحبّ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ا قدّ ما بتريد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2707920"/>
            <a:ext cx="601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ْخِبزَك أنا جوع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ْخَمِرْتَك بالكا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تْناوَل القرب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يروي العطش قدّاس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" y="2750760"/>
            <a:ext cx="91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تعرِف إ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حِبَّك عا قدّ الكَون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مِنَّك عطا ومنّي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كلّ الصّلا اللي هَون</a:t>
            </a:r>
            <a:endParaRPr b="0" lang="en-US" sz="7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25:23Z</dcterms:created>
  <dc:creator>Charbel Azar</dc:creator>
  <dc:description/>
  <dc:language>en-US</dc:language>
  <cp:lastModifiedBy>-</cp:lastModifiedBy>
  <dcterms:modified xsi:type="dcterms:W3CDTF">2003-01-03T16:39:09Z</dcterms:modified>
  <cp:revision>4</cp:revision>
  <dc:subject/>
  <dc:title>ربّي بتعرِف إنّي بحِبَّك عا قدّ الكَون مِنَّك عطا ومنّي كلّ الصّلا اللي هَون</dc:title>
</cp:coreProperties>
</file>