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E129-D583-4454-BE48-D08A19262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0E9A-85DE-46F2-B68B-78109273C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F7A2-2467-42FC-BD65-A876A98EE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56BB-E7CD-4E4C-A041-7FBA7FF13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3EF3-81F8-474F-8C28-A8479DB6C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6326-C310-4FD6-97EF-1CAE5ED0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62AE-1CBD-42B3-98D0-14D40DD2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1365-F7B3-4FA4-9DD2-3F58407D6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0CEE-224C-4910-A12C-0FAB8FC1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9402-9949-4F9D-B4CB-73E0AC35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1D2D-9B34-4725-A7D0-DDC3C22E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F43D-67E2-489E-B48E-8A5E14BA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3523F-4E22-42C2-BC27-6ED7C27140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ey0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267080" y="3240"/>
            <a:ext cx="4834080" cy="9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abic Transparent"/>
                <a:cs typeface="Arabic Transparent"/>
              </a:rPr>
              <a:t>الحمدُ والشكران</a:t>
            </a:r>
            <a:r>
              <a:rPr b="1" lang="en-US" sz="3200" spc="-1" strike="noStrike">
                <a:solidFill>
                  <a:srgbClr val="000000"/>
                </a:solidFill>
                <a:latin typeface="Arabic Transparent"/>
                <a:ea typeface="Arabic Transparent"/>
              </a:rPr>
              <a:t>                         </a:t>
            </a:r>
            <a:r>
              <a:rPr b="1" lang="ar-SA" sz="3200" spc="-1" strike="noStrike">
                <a:solidFill>
                  <a:srgbClr val="000000"/>
                </a:solidFill>
                <a:latin typeface="Arabic Transparent"/>
                <a:ea typeface="Arabic Transparent"/>
              </a:rPr>
              <a:t> والمجدُ والسلطانْ</a:t>
            </a:r>
            <a:r>
              <a:rPr b="1" lang="en-US" sz="3200" spc="-1" strike="noStrike">
                <a:solidFill>
                  <a:srgbClr val="000000"/>
                </a:solidFill>
                <a:latin typeface="Arabic Transparent"/>
                <a:ea typeface="Arabic Transparent"/>
              </a:rPr>
              <a:t>                       </a:t>
            </a:r>
            <a:r>
              <a:rPr b="1" lang="ar-SA" sz="3200" spc="-1" strike="noStrike">
                <a:solidFill>
                  <a:srgbClr val="000000"/>
                </a:solidFill>
                <a:latin typeface="Arabic Transparent"/>
                <a:cs typeface="Arabic Transparent"/>
              </a:rPr>
              <a:t>والقُدرة لإلهنا لا لا  لا</a:t>
            </a:r>
            <a:r>
              <a:rPr b="1" lang="en-US" sz="3200" spc="-1" strike="noStrike">
                <a:solidFill>
                  <a:srgbClr val="000000"/>
                </a:solidFill>
                <a:latin typeface="Arabic Transparent"/>
                <a:ea typeface="Arabic Transparent"/>
              </a:rPr>
              <a:t>                  </a:t>
            </a:r>
            <a:r>
              <a:rPr b="1" lang="ar-SA" sz="3200" spc="-1" strike="noStrike">
                <a:solidFill>
                  <a:srgbClr val="000000"/>
                </a:solidFill>
                <a:latin typeface="Arabic Transparent"/>
                <a:cs typeface="Arabic Transparent"/>
              </a:rPr>
              <a:t>لهُ الحكمة والقُوَّة</a:t>
            </a:r>
            <a:r>
              <a:rPr b="1" lang="en-US" sz="3200" spc="-1" strike="noStrike">
                <a:solidFill>
                  <a:srgbClr val="000000"/>
                </a:solidFill>
                <a:latin typeface="Arabic Transparent"/>
                <a:ea typeface="Arabic Transparent"/>
              </a:rPr>
              <a:t>                        </a:t>
            </a:r>
            <a:r>
              <a:rPr b="1" lang="ar-SA" sz="3200" spc="-1" strike="noStrike">
                <a:solidFill>
                  <a:srgbClr val="000000"/>
                </a:solidFill>
                <a:latin typeface="Arabic Transparent"/>
                <a:ea typeface="Arabic Transparent"/>
              </a:rPr>
              <a:t> والعزُّ والاجلالْ</a:t>
            </a:r>
            <a:r>
              <a:rPr b="1" lang="en-US" sz="3200" spc="-1" strike="noStrike">
                <a:solidFill>
                  <a:srgbClr val="000000"/>
                </a:solidFill>
                <a:latin typeface="Arabic Transparent"/>
                <a:ea typeface="Arabic Transparent"/>
              </a:rPr>
              <a:t>                           </a:t>
            </a:r>
            <a:r>
              <a:rPr b="1" lang="ar-SA" sz="3200" spc="-1" strike="noStrike">
                <a:solidFill>
                  <a:srgbClr val="000000"/>
                </a:solidFill>
                <a:latin typeface="Arabic Transparent"/>
                <a:cs typeface="Arabic Transparent"/>
              </a:rPr>
              <a:t>إلى أبدِ الآبدين</a:t>
            </a:r>
            <a:r>
              <a:rPr b="1" lang="en-US" sz="3200" spc="-1" strike="noStrike">
                <a:solidFill>
                  <a:srgbClr val="000000"/>
                </a:solidFill>
                <a:latin typeface="Arabic Transparent"/>
                <a:ea typeface="Arabic Transparent"/>
              </a:rPr>
              <a:t>          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Arial"/>
              </a:rPr>
              <a:t>         </a:t>
            </a:r>
            <a:br>
              <a:rPr sz="3200"/>
            </a:b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Arabic Transparent"/>
              </a:rPr>
              <a:t>الحمدُ والشكرانْ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	</a:t>
            </a: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Arabic Transparent"/>
              </a:rPr>
              <a:t>والمجدُ والسلطانْ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	</a:t>
            </a: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Arabic Transparent"/>
              </a:rPr>
              <a:t>والقدرة لإلهنا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                            </a:t>
            </a: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Arabic Transparent"/>
              </a:rPr>
              <a:t>مُستَحِقٌ أن يَنَالْ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 كُلَّ حُبٍّ وإكرامْ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Arabic Transparent"/>
              </a:rPr>
              <a:t>الجالِسْ عَلى عَرْشِ السَماو</a:t>
            </a:r>
            <a:r>
              <a:rPr b="1" lang="ar-SA" sz="3200" spc="-1" strike="noStrike">
                <a:solidFill>
                  <a:srgbClr val="000000"/>
                </a:solidFill>
                <a:latin typeface="Arabic Transparent"/>
                <a:cs typeface="Arabic Transparent"/>
              </a:rPr>
              <a:t>ات</a:t>
            </a:r>
            <a:r>
              <a:rPr b="1" lang="en-US" sz="3200" spc="-1" strike="noStrike">
                <a:solidFill>
                  <a:srgbClr val="000000"/>
                </a:solidFill>
                <a:latin typeface="Arabic Transparent"/>
                <a:ea typeface="Arabic Transparent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abic Transparent"/>
                <a:ea typeface="Arabic Transparent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935640" y="3240"/>
            <a:ext cx="5586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abic Transparent"/>
                <a:cs typeface="Arabic Transparent"/>
              </a:rPr>
              <a:t>طوبى للذي يحفظْ وصايَاك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abic Transparent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abic Transparent"/>
                <a:cs typeface="Arabic Transparent"/>
              </a:rPr>
              <a:t>ويَعتصِمُ في ظِلِّ جَنَاحيكَ</a:t>
            </a:r>
            <a:br>
              <a:rPr sz="3200"/>
            </a:br>
            <a:r>
              <a:rPr b="1" lang="ar-SA" sz="3200" spc="-1" strike="noStrike">
                <a:solidFill>
                  <a:srgbClr val="000000"/>
                </a:solidFill>
                <a:latin typeface="Arabic Transparent"/>
                <a:ea typeface="Arabic Transparent"/>
              </a:rPr>
              <a:t>     يُثمِرُ بالبِرِّ والقَدَاسة</a:t>
            </a:r>
            <a:r>
              <a:rPr b="1" lang="ar-SA" sz="3200" spc="-1" strike="noStrike">
                <a:solidFill>
                  <a:srgbClr val="000000"/>
                </a:solidFill>
                <a:latin typeface="Arabic Transparent"/>
                <a:ea typeface="Arabic Transparen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abic Transparent"/>
                <a:cs typeface="Arabic Transparent"/>
              </a:rPr>
              <a:t>ويَفْرحْ في ملكوتِكَ  لا  لا  ل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133720"/>
            <a:ext cx="4213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طوبى للذيِنَ يتَّقونك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لا يَبْرَحونَ يسبِّحونكَ</a:t>
            </a:r>
            <a:br>
              <a:rPr sz="3200"/>
            </a:b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لا يجوعونَ لا يعطشون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Arabic Transparent"/>
              </a:rPr>
              <a:t>مِنْ نبعِ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الحياةِ يرتوون  لالا  ل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923400" y="4816440"/>
            <a:ext cx="5796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طو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بى للَّذين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َ أتَواْ مِنَ الضيق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يُلوِّحون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َ أغصانَ النخيلِ</a:t>
            </a:r>
            <a:br>
              <a:rPr sz="3200"/>
            </a:b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بِدَمِ الحَمَلِ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غَسَلُوا حُلَلَهُ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الروحُ يَحُلُّ فوقهُم  لا  لا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ل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6:02:10Z</dcterms:created>
  <dc:creator>USER</dc:creator>
  <dc:description/>
  <dc:language>en-US</dc:language>
  <cp:lastModifiedBy>USER</cp:lastModifiedBy>
  <dcterms:modified xsi:type="dcterms:W3CDTF">2002-10-30T16:13:43Z</dcterms:modified>
  <cp:revision>5</cp:revision>
  <dc:subject/>
  <dc:title>PowerPoint Presentation</dc:title>
</cp:coreProperties>
</file>