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B8B-6144-4311-B239-D13C4ABD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298-C980-41CF-9159-90712F10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121-4707-4518-BFB6-3F9B360E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E19-A037-4B47-866D-6967565E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58F-247E-465C-9179-B25FA8E4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0E9-A8DF-4B86-AA3A-53F016C2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55C-28BC-4F8B-B6F7-E66CDCA7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905-8A8A-4E99-BBA1-F495C76C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198-5429-43D3-ACB1-A1AA5627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CD2-81E7-40C9-B21A-AA2E4505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281-2862-418F-BFC1-D0BA1438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819-3467-4C95-83BD-10E514C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8B90-1700-4CAC-AE7B-CFA16BBE7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0"/>
            <a:ext cx="624816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حمدَ رددوا لله ربِّنا ولنتلُ دائماً من عمقِ قلبِ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نادوا بملكه كلُ العوالم يحيا مليكُ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200400" cy="12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ليلُ دامسُ والقلبُ قاتمٌ كالشمسِ مِن علِ يسوعُ قادمُ يحيا 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يسوعُ للسما حيثُ السعاده حقاً طريقُ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95560" y="228600"/>
            <a:ext cx="524844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38098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قد ضلَّ جِنسنا والموتُ أُعلِ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ا ربُ مَنْ لَنا سلوى لحُزنِ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سوعُ قد محا بالصلبِ موتَنا أضحى حياتَنا يحيا المسي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3:40:21Z</dcterms:created>
  <dc:creator>HANI SAFI</dc:creator>
  <dc:description/>
  <dc:language>en-US</dc:language>
  <cp:lastModifiedBy>HANI SAFI</cp:lastModifiedBy>
  <dcterms:modified xsi:type="dcterms:W3CDTF">2003-05-30T13:40:32Z</dcterms:modified>
  <cp:revision>1</cp:revision>
  <dc:subject/>
  <dc:title>Slide 1</dc:title>
</cp:coreProperties>
</file>