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95CC-7C15-423B-BB86-DDB5B7E6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73BA-5DA0-4BE0-980C-60F94EC2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E7B7-5381-4952-BF77-32176B67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4914-2CCF-4104-8C3C-263497F4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27F8-9A00-40AA-94DA-CDAC064B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19BA-C795-4333-8218-0B5134C8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07B1-738A-4B7E-A075-C3E4F175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B0A5-DE6D-431D-BDFE-2301414C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F4D3-5C34-48EB-9984-E53EB8E7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5D46-8CBC-4DF0-A12A-3B0AC5FA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909D-890A-4D57-BF2C-95B93AE8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8417-9AFA-4053-9971-BF5DAF38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C967-D8DB-4B14-B4BB-C1033897E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4924715GRMuZrvGAj_ph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304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0"/>
            <a:ext cx="3886200" cy="10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abic Transparent"/>
                <a:cs typeface="Times New Roman (Arabic)"/>
              </a:rPr>
              <a:t>كنت أبي وأنا ما زلتُ في فكركَ - أنتَ أبي حين أوجدتني</a:t>
            </a:r>
            <a:r>
              <a:rPr b="1" lang="en-US" sz="3800" spc="-1" strike="noStrike">
                <a:solidFill>
                  <a:srgbClr val="ffffff"/>
                </a:solidFill>
                <a:latin typeface="Arabic Transparent"/>
                <a:ea typeface="Times New Roman (Arabic)"/>
              </a:rPr>
              <a:t> </a:t>
            </a:r>
            <a:r>
              <a:rPr b="1" lang="ar-SA" sz="3800" spc="-1" strike="noStrike">
                <a:solidFill>
                  <a:srgbClr val="ffffff"/>
                </a:solidFill>
                <a:latin typeface="Arabic Transparent"/>
                <a:cs typeface="Times New Roman (Arabic)"/>
              </a:rPr>
              <a:t>حيـن ولدتني لحياتـكَ  وســتبقى أبي إلى الأبــدِ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abic Transparent"/>
                <a:ea typeface="Times New Roman (Arabic)"/>
              </a:rPr>
              <a:t> أريدُك وحدَك علمني         كيف أحيا وأعيشُ معَ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abic Transparent"/>
                <a:cs typeface="Times New Roman (Arabic)"/>
              </a:rPr>
              <a:t>زدني معرفةً بك إني         أحبُك وأنا دومــاً ل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abic Transparent"/>
                <a:cs typeface="Times New Roman (Arabic)"/>
              </a:rPr>
              <a:t>أُحبُّكَ وأنا دوما ل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513590NCRDtitzaP_ph" descr=""/>
          <p:cNvPicPr/>
          <p:nvPr/>
        </p:nvPicPr>
        <p:blipFill>
          <a:blip r:embed="rId1"/>
          <a:stretch/>
        </p:blipFill>
        <p:spPr>
          <a:xfrm>
            <a:off x="0" y="0"/>
            <a:ext cx="49640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05120" y="0"/>
            <a:ext cx="723888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تعلَمُ َُضعفي وجراحي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تعرف قلبي وأفكار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رغبُ أن أحياك بكلِّ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ياني بروحي وإحسا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سامح عدمَ إخلاصي</a:t>
            </a:r>
            <a:r>
              <a:rPr b="0" lang="ar-S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نت أبي وأنا ما زلتُ في فكركَ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نتَ أبي حين أوجدت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يـن ولدتني لحياتـكَ  وســتبقى أبي إلى الأبــدِ</a:t>
            </a:r>
            <a:r>
              <a:rPr b="0" lang="ar-S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29370043fipmPeKXZd_ph" descr=""/>
          <p:cNvPicPr/>
          <p:nvPr/>
        </p:nvPicPr>
        <p:blipFill>
          <a:blip r:embed="rId2"/>
          <a:stretch/>
        </p:blipFill>
        <p:spPr>
          <a:xfrm>
            <a:off x="4038480" y="0"/>
            <a:ext cx="8001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4343400" cy="10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دمُكَ ينضحُني فأطهُر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تشفيني نفساً وجسد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نا في قلب العالمِ مُتعَب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هب أن أُصبحَ كُلّي ل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المجدُ والحمدُ لكَ</a:t>
            </a:r>
            <a:r>
              <a:rPr b="0" lang="ar-S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نت أبي وأنا ما زلتُ في فكركَ - أنتَ أبي حين أوجدتني 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يـن ولدتني لحياتـكَ  وســتبقى أبي إلى الأبــدِ</a:t>
            </a:r>
            <a:r>
              <a:rPr b="0" lang="ar-S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870792SCABvVcdSc_ph" descr=""/>
          <p:cNvPicPr/>
          <p:nvPr/>
        </p:nvPicPr>
        <p:blipFill>
          <a:blip r:embed="rId1"/>
          <a:stretch/>
        </p:blipFill>
        <p:spPr>
          <a:xfrm>
            <a:off x="-104760" y="0"/>
            <a:ext cx="4753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24280" y="0"/>
            <a:ext cx="4419720" cy="11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حبيبيَ خُذ قلبيَ منّي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ُذ روحي وجسدي وتعال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روحَ الحبِّ هلمّ الآن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نوّرني حرّرنــي تعا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ربّي يسوعَ تعال</a:t>
            </a:r>
            <a:r>
              <a:rPr b="0" lang="ar-S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نت أبي وأنا ما زلتُ في فكركَ -أنتَ أبي حين أوجدتني-حيـن ولدتني لحياتـكَ  وســتبقى أبي إلى الأبــد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34:51Z</dcterms:created>
  <dc:creator>USER</dc:creator>
  <dc:description/>
  <dc:language>en-US</dc:language>
  <cp:lastModifiedBy>USER</cp:lastModifiedBy>
  <dcterms:modified xsi:type="dcterms:W3CDTF">2002-11-25T15:39:45Z</dcterms:modified>
  <cp:revision>5</cp:revision>
  <dc:subject/>
  <dc:title>PowerPoint Presentation</dc:title>
</cp:coreProperties>
</file>