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E35-769A-493E-A467-7A409934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D7C-2DCA-43DD-AABF-E5776526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56A-EC5F-46E6-8300-ABC57C4E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0C5-9DF2-465F-88FF-C6FE6F7C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FA8-DE28-4D4C-8530-1ACFF7B5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B6A-85D0-412F-B4E9-000190A9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62C-4A7B-4639-B4A6-63AD79DA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0BFD-0A25-4A24-A9E8-90ECA881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4A3-9C3A-4206-8EF4-04F5C9A4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C85-6CDC-4500-8891-C062A6FD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AE2C-3A60-4178-BC14-29B35C6E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702-44A9-4D82-80EE-054196F9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54B7-76B6-472C-A9BE-69D5CC655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jn14_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4952880"/>
            <a:ext cx="8001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يناكَ تنظر إلي حضورك يهزّ كي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رعاني ملء حنانك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يا منبع بحر الحن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n14_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4952880"/>
            <a:ext cx="8001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يناكَ تنظر إلي حضورك يهزّ كي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رعاني ملء حنانك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يا منبع بحر الحن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0219416ekJGdecUPx_ph" descr=""/>
          <p:cNvPicPr/>
          <p:nvPr/>
        </p:nvPicPr>
        <p:blipFill>
          <a:blip r:embed="rId1"/>
          <a:stretch/>
        </p:blipFill>
        <p:spPr>
          <a:xfrm>
            <a:off x="0" y="0"/>
            <a:ext cx="11049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34800"/>
            <a:ext cx="167652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بقى ل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باً وأما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رؤياك نفسي تحلُم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أرى وجهك يوما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أنت الذي دوما تران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42280" y="228600"/>
            <a:ext cx="1701720" cy="10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آتي إليك ربي دوما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اثقاً أمري أُسلِّمُ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تقبلني مبتسما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أنك همّي تعلم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jn14_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4952880"/>
            <a:ext cx="8001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يناكَ تنظر إلي حضورك يهزّ كي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رعاني ملء حنانك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يا منبع بحر الحن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6:35:22Z</dcterms:created>
  <dc:creator>SUZANNE.MD</dc:creator>
  <dc:description/>
  <dc:language>en-US</dc:language>
  <cp:lastModifiedBy>USER</cp:lastModifiedBy>
  <dcterms:modified xsi:type="dcterms:W3CDTF">2003-01-16T15:33:11Z</dcterms:modified>
  <cp:revision>6</cp:revision>
  <dc:subject/>
  <dc:title>PowerPoint Presentation</dc:title>
</cp:coreProperties>
</file>