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370-2AD4-425D-A915-A4797CB0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591-8E33-4BDA-AAE3-BCB2898B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A62-9943-4D51-883C-452E263A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106-7815-4BC5-9C00-0C0D821F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54F-F63C-4772-8BCF-5502F753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D4C-3AE7-46C8-AFFA-CCC4C487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925-3CD3-48C8-8625-AA6AC36B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1B8-8FD0-4B3E-AE13-D9241D07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805-D113-4D1C-893A-4904FC96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386-B050-4949-952F-CCFCFC71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D3B-D3BE-423E-9F7B-DE5CE840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893-6CCB-4943-9C00-DF35B974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8BA8-7763-4C29-9742-2D2A474175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يا مَسِيحاً جِئتَ نُور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تُلْقي الظُّلمَ عَنّ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َنْ شُعوبٍ كادِح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يَسودَ الحبُ فين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ن ثبُتْنا مُخْلِص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نتَ يا ربَّ السَّماء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شِئْتَنا لِلْمَجْدِ شَعْباً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َاتَّشَحْنَا بالبَهاء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َوْمَ جَئتَ الأرضَ رَبّاً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اقْتَبلنا بالرَّجاء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سْمُكَ الصّافِي مَحَبّة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انْعَرَفْنا بالضِّياء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اسمِكَ الشعبُ الأم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َسِيحاً جِئتَ نُو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َيْ تُنِيرَ العَالَمِي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ِئتَ حُبّاً جِئتَ صَفْح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َئتَ سَلْوَى الْبَائِسِي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15:04:27Z</dcterms:created>
  <dc:creator>Charbel Azar</dc:creator>
  <dc:description/>
  <dc:language>en-US</dc:language>
  <cp:lastModifiedBy>-</cp:lastModifiedBy>
  <dcterms:modified xsi:type="dcterms:W3CDTF">2002-12-29T07:40:30Z</dcterms:modified>
  <cp:revision>3</cp:revision>
  <dc:subject/>
  <dc:title>يا مَسِيحاً جِئتَ نُوراً كَيْ تُنِيرَ العَالَمِين جِئتَ حُبّاً جِئتَ صَفْحاً جَئتَ سَلْوَى الْبَائِسِين.</dc:title>
</cp:coreProperties>
</file>