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812-5D76-4314-AF97-DB964860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622-A5B3-4E97-B868-DA1348F9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EA1-E0FF-4977-BECC-3630435A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87A-D664-4488-96FC-5D0B7624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975-1419-4317-83C2-5BE85762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219-E16E-46E5-A2C2-BEC9D27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099-B434-432B-8BA5-54E8CDC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71F-1655-4E8F-A9F7-C768A75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B1A-15E8-4975-92A5-73FB7EF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E73-85D7-4863-958F-1B9E80E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0E5-1256-4D0A-9740-4314EC2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947-5A0A-43FA-9210-95454DF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59B8-485F-4B1B-B062-501008EF8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1679400" y="0"/>
            <a:ext cx="640368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7405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صمتِ الكونِ أدعو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عمق وجودي أشد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ُسكُن في قلبي وروحي</a:t>
            </a:r>
            <a:r>
              <a:rPr b="1" lang="ar-SA" sz="3200" spc="-1" strike="noStrike">
                <a:solidFill>
                  <a:srgbClr val="6600cc"/>
                </a:solidFill>
                <a:latin typeface="Simplified Arabic"/>
                <a:ea typeface="Times New Roman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ني سلا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إقبلني طِفلا في سما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 عينيَّ بِسَن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ا أستحقُّ الغُفران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كن أرجو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من عَرشِكَ تحنو ع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نفسي تمحو آلامي ويأس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تملأني حبًّا يا رب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يكفيني سلام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653" descr=""/>
          <p:cNvPicPr/>
          <p:nvPr/>
        </p:nvPicPr>
        <p:blipFill>
          <a:blip r:embed="rId1"/>
          <a:stretch/>
        </p:blipFill>
        <p:spPr>
          <a:xfrm>
            <a:off x="0" y="0"/>
            <a:ext cx="61880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52280"/>
            <a:ext cx="315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نا كلي إي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لكَ فيَّ وج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لِعرشِ النِّعَم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لقُدسِ الأقداسِ أت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5908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236232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آمنتَ دوماً بكياني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ِرُغمِ قلَّةِ إيمان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ِعَينِ الآبِ ترعان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غمُرُني حُبّ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كتَ عمري وآما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شْبَعتَ خيراً أي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فرتَ كلَّ آث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سِرتُ مُلك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ليك أرفَعُ تهالي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َ أفراحي وتسابيح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ُفرِحُ قلْبَكَ أناشيدي وأُعلِنُ مَجدَك</a:t>
            </a:r>
            <a:r>
              <a:rPr b="0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55:16Z</dcterms:created>
  <dc:creator>USER</dc:creator>
  <dc:description/>
  <dc:language>en-US</dc:language>
  <cp:lastModifiedBy>USER</cp:lastModifiedBy>
  <dcterms:modified xsi:type="dcterms:W3CDTF">2002-11-13T14:21:55Z</dcterms:modified>
  <cp:revision>1</cp:revision>
  <dc:subject/>
  <dc:title>PowerPoint Presentation</dc:title>
</cp:coreProperties>
</file>