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4BC-C262-42C8-B87A-01A18017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B26-16E0-4EAF-883F-069CF972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C21-DFA4-4EF9-AB01-5D13C60A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4C4-495B-4271-B4CA-BE1DCB42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5D97-1E8B-48C5-9E90-6DB3483C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3A7-75EF-45F2-BB91-789A14E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D5C6-77B7-4DE2-8B56-B0864A6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E81B-1318-4D63-9405-32C061CE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6525-D6BB-45A0-9981-3F44166D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3E57-09EB-4796-913D-05D73E4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6BC1-F808-4932-B0CF-938F92C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4EE-6245-4907-863A-F534E2C5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281-4643-4861-83F8-1D09AD6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65BB-7AA9-40B1-B7DB-0F08166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526-F6C9-4EEB-8448-6A6A3CBB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B4AB-D68D-49EF-942A-71D41570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FF8-C165-48E6-92B6-8A772E3A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BF6-1161-4949-ADCE-61776F00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D00-ADA3-4506-AE14-250421D7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7FF-10EC-46D9-A9AD-C4474ED1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722-B4C7-42E7-B862-53CB3D3E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278-37F2-4913-BA65-D9F0395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603-A79D-4F59-A53D-2016EF2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F18-D3D8-407E-B43B-2EFA2C99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8DBA-0027-49CE-8CBB-E275F433EC6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994-AF01-4845-B448-9E1D4A53F7B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724280"/>
            <a:ext cx="57243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ربي بتعرف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1280" y="278100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لّيتْ وتمنّيْ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مشي على دربَ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يت فيّي كُو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ين الرّسُل حَدَّك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263664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ي إلَك يا ر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 الطّفل للع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ا ريت فينا نح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ا قدّ ما بتريد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2707920"/>
            <a:ext cx="601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ْخِبزَك أنا جوع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ْخَمِرْتَك بالكا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تْناوَل القرب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روي العطش قدّاس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25:23Z</dcterms:created>
  <dc:creator>Charbel Azar</dc:creator>
  <dc:description/>
  <dc:language>en-US</dc:language>
  <cp:lastModifiedBy>-</cp:lastModifiedBy>
  <dcterms:modified xsi:type="dcterms:W3CDTF">2003-01-03T16:39:09Z</dcterms:modified>
  <cp:revision>4</cp:revision>
  <dc:subject/>
  <dc:title>ربّي بتعرِف إنّي بحِبَّك عا قدّ الكَون مِنَّك عطا ومنّي كلّ الصّلا اللي هَون</dc:title>
</cp:coreProperties>
</file>