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C53-E3F0-4F2B-9115-3718A3C2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CC60-F4A0-4102-B614-BA583AB6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4F9-22CF-4E20-B4C2-2C7B7B46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054-BC86-415F-8DCF-C002605A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98A-31B3-4883-99E7-25A9DCA6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829-C340-41BB-AE0F-83EF12BB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DF0-26E0-40E8-8358-C9AF81CF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AF4-EDA5-47C4-8469-C08E3588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196-42C9-4F79-B848-2083574E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E13-0A62-4175-8D5E-60668690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626-4355-4BCA-9598-AC6E2D0A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073-2864-473D-823A-4DAED0CF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3922-0277-4D1D-9B7B-23F69DCD4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191120" cy="9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نهجت الطريقَ أسائلُ عنـكَ بِحَيرةِ ضعفي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وأوهامي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سمعتُ الخليقةَ تُنشدُ لحناً لقلبي فتُنعِشُ إيماني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حَلَـتِ لـي الاقامـةُ داخلَ بيتـــكَ يــا أللّــه يا أللّــه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.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46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72000" cy="9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شجاني أنينُ اليتيــمِ يضيعُ بصخبِ الحياةِ ولا من يُجيب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رأيتُ عيونَ الشريدِ           تتيهُ وشمسُ المحبـةِ عنه تغيب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أشـــرِقْ علــيَّ بأنـــوارِ وجهــِـكَ يا أللّـه يا أللّ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6101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4572000" cy="9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ذا غِبتَ عني شَردتُ     بذاتي غرقتُ بحزني دهاني الضجـــر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وإنْ كنتَ فيَّ حييتُ فـرحتُ نشــرتُ الطيـوبَ فَرشـتُ الزهــ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طيــبُ الحيــاةُ تَطيــبُ بقربِــكَ يا أللّـــه يا ألل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9:52:26Z</dcterms:created>
  <dc:creator>SUZANNE.MD</dc:creator>
  <dc:description/>
  <dc:language>en-US</dc:language>
  <cp:lastModifiedBy>HANI SAFI</cp:lastModifiedBy>
  <dcterms:modified xsi:type="dcterms:W3CDTF">2003-03-14T12:20:41Z</dcterms:modified>
  <cp:revision>3</cp:revision>
  <dc:subject/>
  <dc:title>PowerPoint Presentation</dc:title>
</cp:coreProperties>
</file>