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262-52B6-4D3A-8004-B6F646D1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EDC-C862-4C52-A2C1-A37DA5EB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26B-6B01-4921-AB38-FEFC5A5B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3AB-61C3-4ECD-926D-8770C505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7BD4-A9C3-4F93-B8AA-19F57D0C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7B7-A698-4A2B-98A1-3CC3D0D0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5C1-FC7E-4F4A-9B2D-F54D4A76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6737-0C83-40C8-B748-EDC35CEC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FB8-75EA-4884-95E8-1D47C22C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59E-2B99-4560-A7F7-0DD74861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DDC-E1FA-4A71-AED1-205769DC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1BF-FD28-47A4-BB9E-103B20E0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1DC7-6449-4E7A-982F-19B405C95E18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68280"/>
            <a:ext cx="9144000" cy="808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ربي في ستر  دماك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َ يَا حَبي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نْ فَدَانِي إِذْ قَضَى فَوْقَ الصَّلِيب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دْ وَجَدْتُ فِيكَ غُفْرَانَ ذُنُو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غَطَاءُ الْحُبِّ يَخْفِي لِي عُيُوب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2060640"/>
            <a:ext cx="899172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َ يَا يَسُوع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حَنَانِكَ تُكَفْكِفُ دُمُوع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نْتَ تَحْمِينِي مِنَ الشَّرِّ الْمُرِيع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ثمَّ تَهْدِينِي إِلَى الْمَجْدِ الرَّفِيع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2060640"/>
            <a:ext cx="899172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َ يَا رَجَائ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فَعُ الرَّأْسَ بفَخْرٍ فِي السَّمَاء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كْمُنُ فَرَحِي هُنَاكَ فِي الْعَلاَء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مَعَ الأَبْرَارِ أَشْدُو باِلثـَّنَاء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2060640"/>
            <a:ext cx="899172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PSE</cp:lastModifiedBy>
  <dcterms:modified xsi:type="dcterms:W3CDTF">2004-03-12T15:50:18Z</dcterms:modified>
  <cp:revision>23</cp:revision>
  <dc:subject/>
  <dc:title>Slide 1</dc:title>
</cp:coreProperties>
</file>