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D9A-AC71-44AB-80B6-E475F351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51A-EA70-4455-B5CD-B45473C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F47-5E35-4DCF-8E16-B0C1B1CE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B76-4BED-481C-8E9A-495B8E93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DDE-8769-44EF-8505-C0A5D18B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985-A748-4D42-B6BC-4AF226AB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FAF-B723-4CBD-B84B-EF9EA6BA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C86-1FAF-47DC-839C-20AC950C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890-ED19-4E96-A32D-864C40B3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409-E172-4E81-A4D7-5B797B6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681-C0BB-43DB-8296-71D99DF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CD2-7D18-4079-88E0-9FF474F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4924-CA1E-4513-A075-0EEAC9D67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653" descr=""/>
          <p:cNvPicPr/>
          <p:nvPr/>
        </p:nvPicPr>
        <p:blipFill>
          <a:blip r:embed="rId1"/>
          <a:stretch/>
        </p:blipFill>
        <p:spPr>
          <a:xfrm>
            <a:off x="-93600" y="0"/>
            <a:ext cx="576576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228600"/>
            <a:ext cx="38862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حدت يا رب لا هوتك بناس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ناسوتنا بلاهو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حياتك بم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موتنا بحيا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أخذت ما لنا ووهبتنا م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تحيينا وتخلص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ك المجد إلى ا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4:52:46Z</dcterms:created>
  <dc:creator>USER</dc:creator>
  <dc:description/>
  <dc:language>en-US</dc:language>
  <cp:lastModifiedBy>USER</cp:lastModifiedBy>
  <dcterms:modified xsi:type="dcterms:W3CDTF">2003-02-13T04:52:57Z</dcterms:modified>
  <cp:revision>1</cp:revision>
  <dc:subject/>
  <dc:title>PowerPoint Presentation</dc:title>
</cp:coreProperties>
</file>