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9AC-AC8E-4214-A63D-44DE036A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2B6-EA45-4035-A456-6796C87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811-AC76-4AD3-934D-E395F53F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8F9-6FF1-47D2-9707-828C33DC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E16-823E-41C1-BBB2-E5DD3D6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3AB-CB4F-45BE-9F4A-CB813A7A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8F4-7968-40D3-918A-3F519336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F25-160C-4F26-AB45-BA563C61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E02-0F6C-4B06-88C4-1735808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3B8-E26F-4C6B-9B2F-8777415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2CA-BC88-4FE8-AB55-05EDA68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42A-C432-497E-9F83-DE9E815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8BB-60B2-493B-94D3-A008B5851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67440" y="0"/>
            <a:ext cx="58636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أبانا لستُ أد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كيف كان عمري يج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دون أن أدركَ أنّك أنت أ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كنّ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آن إبنُ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ت ترعاني بحبِّ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لن أخافَ أبدا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أنّك تُمسِك يم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ـأسـبِّحُكَ وأهتفُ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لأبد أنا لك، ل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5:30Z</dcterms:modified>
  <cp:revision>8</cp:revision>
  <dc:subject/>
  <dc:title>PowerPoint Presentation</dc:title>
</cp:coreProperties>
</file>