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042-F2A1-4FB8-B92F-43C0F6E5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51D-EAFB-489B-B4D5-C7EE851A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FB4-A91E-401B-ADBF-F7C74579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AFA-2660-4151-B581-E9BFCF9F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65A-41DE-422F-BB2F-4347412E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B04-3994-43F1-9E10-0FE2A1F6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306-B07F-431B-B73C-60AB90BE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BBA-51B4-4E7A-971A-FE6A327A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256-B95F-42CB-9424-ACCBEF4D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493-56D9-4EBB-B7C0-C00DCDA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049-DB39-4126-97D3-BE176432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544-6814-439D-AF81-DCD2C57C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0EA2-0E68-458B-B5D5-C7D6BAA15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3573360"/>
            <a:ext cx="518148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أبتاه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38480" y="1905120"/>
            <a:ext cx="49532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خطئتُ إليك وإلـى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56000" y="2060640"/>
            <a:ext cx="4572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أستحقُّ  أن أُدعَى لكَ ابناً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19720" y="1981080"/>
            <a:ext cx="45720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اتوا أجملَ حُلَّةٍ وأَلبسُوه، وضعوا في يدِهِ خاتماً،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9720" y="1981080"/>
            <a:ext cx="457200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أنَّ إبنيَ هذا كان ميتاً فعاش، وكان ضالاً فوُجِدَ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1905120"/>
            <a:ext cx="49532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خطئتُ إليك وإلـى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27640" y="2133720"/>
            <a:ext cx="4572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أستحقُّ  أن أُدعَى لكَ ابناً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يا أبتا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2:41Z</dcterms:created>
  <dc:creator>Charbel Azar</dc:creator>
  <dc:description/>
  <dc:language>en-US</dc:language>
  <cp:lastModifiedBy>-</cp:lastModifiedBy>
  <dcterms:modified xsi:type="dcterms:W3CDTF">2003-01-20T12:10:43Z</dcterms:modified>
  <cp:revision>2</cp:revision>
  <dc:subject/>
  <dc:title>PowerPoint Presentation</dc:title>
</cp:coreProperties>
</file>