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A55-64A9-4A52-8040-1A25AB85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E92-C6FC-40C7-A533-8ECAC925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5C6-4AE2-45C7-8E24-AA8096BE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075-12B4-40EC-8FE2-B2922BF8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FCD-9ED7-4C28-AC61-953BE778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3B3-E161-4674-8330-F4FDDC0A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702-53A3-4E20-AD22-A7745BA4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4A4-8A58-40A1-817C-777E3385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F76-AE73-45EF-B2AD-28219984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208-AF42-4E5A-947A-56A5F256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DB6-80F8-4423-9E14-7352228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7E9-621D-4E3E-88DB-FE10571C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C8E6-11EB-4A1E-BE1B-91795B98D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0"/>
            <a:ext cx="3886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عصُفُ الري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فسي لا تب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ثخُنُ الجِرا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كَ أنسى ح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ربَكَ تُزا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تمةُ اللي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ey08" descr="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0"/>
            <a:ext cx="3962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 وجهُكَ النع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يتني أر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طلٌ ع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لُّ ما سِوا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رغبتي أُقيم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حِما هوا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يها المسيح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أخي و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ضوءُكَ يلوحُ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في ظلام دربي فيك أستريح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ا سلامَ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21T02:46:16Z</dcterms:modified>
  <cp:revision>7</cp:revision>
  <dc:subject/>
  <dc:title>PowerPoint Presentation</dc:title>
</cp:coreProperties>
</file>