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E8B-2D3D-433C-B229-B48C9D2D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B71-8C25-4CCB-AD5F-DEACB29B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835-194B-4404-9AD9-64D44B0E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5EF-FE07-482D-BF29-AE67B448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467-75F8-469F-8912-038C4236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D87-6126-4E88-878F-BD45E3D6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EA4-5303-4BF1-B239-8BC7CB61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563-7A78-4291-8623-5D52AEEC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454-DD0D-4AD2-BBD7-047E878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50C-62B4-4171-B482-32F57F6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1D3-3C21-4C7D-AB44-95985977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B01-1724-4944-9EAC-4AD19D7A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3BA3-9C34-4DB3-BD73-705A967AA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5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361800"/>
            <a:ext cx="773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ربّنا يا نوراً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ئناكَ وقلبُنا بالحبِّ مغم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اقبل منا حبَّنا واملأ قلبَنا بال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ما لنا حبٌ سو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نِّور عقلَنا حتى ن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القربانِ أعطنا يا ربُّ أن نلقَ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مُّنا يا مريمُ البكرُ ندع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ُنا يرنمُ نحنُ بن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كِ تنتقدمُ باركينا نرج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4:29Z</dcterms:modified>
  <cp:revision>3</cp:revision>
  <dc:subject/>
  <dc:title>PowerPoint Presentation</dc:title>
</cp:coreProperties>
</file>