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FED1-ADA7-42A8-B606-1F982F1B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5B98-D74F-44C2-B6C1-E8131112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E16D-AEB4-4DB9-A2FE-F4894D5A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7F93-E403-455B-BFBA-E21116DC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4FF8-F754-46FA-9ECC-1729241F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6816-9010-44AD-817B-35E82F8D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C0C9-ABB4-4846-B1AD-E73AFF3F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4EFD-BE42-4A36-9E48-4EA8EE86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0B5A-A7BE-4969-9D88-C709ABBB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406E-93A4-4E70-A1B2-726BA1F0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51CC-9F47-420C-AEC3-4C54F380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100A-0575-4DF2-B4E6-5F9C129A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A341-A9EE-444C-94F9-5D90E294D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793824aphalWqawZ_ph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كل التسبيح يليق بك يا الله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شُكراً ومديح قليل لك يا رباه</a:t>
            </a:r>
            <a:br>
              <a:rPr sz="4000"/>
            </a:br>
            <a:br>
              <a:rPr sz="4000"/>
            </a:b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3451070cXNiyMwIsJ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6019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عبك يا رب يسبّح اسمك كلّ القوات تسجد لك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لائكة تعظّمك يسوع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ت الطريق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3793824aphalWqawZ_ph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كل التسبيح يليق بك يا الله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شُكراً ومديح قليل لك يا رباه</a:t>
            </a:r>
            <a:br>
              <a:rPr sz="4000"/>
            </a:br>
            <a:br>
              <a:rPr sz="4000"/>
            </a:b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216836NubwvsYlWk_ph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  <a:cs typeface="Times New Roman"/>
              </a:rPr>
              <a:t>وحّدنا دوماً بروحك لنعمل مشيئتك</a:t>
            </a:r>
            <a:br>
              <a:rPr sz="4000"/>
            </a:br>
            <a:r>
              <a:rPr b="1" lang="ar-SA" sz="4000" spc="-1" strike="noStrike">
                <a:solidFill>
                  <a:srgbClr val="ffff66"/>
                </a:solidFill>
                <a:latin typeface="Times New Roman"/>
                <a:cs typeface="Times New Roman"/>
              </a:rPr>
              <a:t>من الأعماق نصرخ لك يسوع نحبك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3793824aphalWqawZ_ph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كل التسبيح يليق بك يا الله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شُكراً ومديح قليل لك يا رباه</a:t>
            </a:r>
            <a:br>
              <a:rPr sz="4000"/>
            </a:br>
            <a:br>
              <a:rPr sz="4000"/>
            </a:b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07:02:23Z</dcterms:created>
  <dc:creator>SUZANNE.MD</dc:creator>
  <dc:description/>
  <dc:language>en-US</dc:language>
  <cp:lastModifiedBy>USER</cp:lastModifiedBy>
  <dcterms:modified xsi:type="dcterms:W3CDTF">2003-02-03T12:24:12Z</dcterms:modified>
  <cp:revision>2</cp:revision>
  <dc:subject/>
  <dc:title>PowerPoint Presentation</dc:title>
</cp:coreProperties>
</file>