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04CC-B097-485E-AA36-0880D4D6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F2A7-0FCC-4B9E-9BFD-E4362304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BB23-0315-48B1-B2CE-0EDE97EA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2AA8-10D5-41A6-A74C-EEE41D46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F3FE-AB41-4B00-971D-8E827896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4484-C6F1-4010-8405-EF5E93AE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C144-B965-4AD7-B386-1B67D106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39CA-EB79-40F3-A064-32226868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AC2A-4638-4DC2-A4E9-A65982DD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FB4C-F8B1-47A1-AE39-3B4BDF8C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AB2-5273-4DFE-BA9E-01D81EFE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A8D-BA7D-4FCC-AE67-DD589762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FBF5-6E88-46DF-9CDC-7DB21AB774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6920" y="5013000"/>
            <a:ext cx="46782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  <a:cs typeface="Ruqah2 Normal"/>
              </a:rPr>
              <a:t>أصلي حب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8000" y="3471480"/>
            <a:ext cx="6948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َك يا ربّ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هتف بحبّ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ي مع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ك يا إلهي أصلّيك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19280" y="3428640"/>
            <a:ext cx="392436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صلي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خوف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وحشتي وابتعادي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0"/>
            <a:ext cx="3564000" cy="1203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دعو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وحدت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اغمرني واملأ فؤاد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8000" y="3471480"/>
            <a:ext cx="6948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َك يا ربّ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هتف بحبّ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ي مع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ك يا إلهي أصلّيك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0" y="2707920"/>
            <a:ext cx="5796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هرع إليك في لوعت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بسمةٍ من شفتي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هربُ منكَ أهربُ إليكَ فشدَّني بجناحيك</a:t>
            </a:r>
            <a:r>
              <a:rPr b="1" lang="en-US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8000" y="3471480"/>
            <a:ext cx="6948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َك يا ربّ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هتف بحبّ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ي مع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ك يا إلهي أصلّيك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32000" y="2707920"/>
            <a:ext cx="5940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ُنشِدُ الدفءَ معك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دغدغ بلمسِك أجفاني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رتاح إليك فضمني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ئلا أفلت من يديك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8000" y="3471480"/>
            <a:ext cx="6948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َك يا ربّ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هتف بحبّ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ي مع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ك يا إلهي أصلّيك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1:15:47Z</dcterms:created>
  <dc:creator>Charbel Azar</dc:creator>
  <dc:description/>
  <dc:language>en-US</dc:language>
  <cp:lastModifiedBy>-</cp:lastModifiedBy>
  <dcterms:modified xsi:type="dcterms:W3CDTF">2003-01-20T15:53:38Z</dcterms:modified>
  <cp:revision>11</cp:revision>
  <dc:subject/>
  <dc:title>أصلي حبك يا ربي</dc:title>
</cp:coreProperties>
</file>