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45B-37F8-497C-A437-18543D03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A67-0344-4444-B106-5078AD8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557-F2DB-4352-8FED-21318376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0F4-51AF-4399-8D34-9B1DE306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C09-1EA9-4BB3-8C66-84BD39F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177-DC6F-408A-ACEB-1755C5AE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A4E-775C-4B2A-9C9B-75ED8B6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CF8-1763-48C0-86FD-75389DC1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733-0574-42A4-ABFC-83CB986D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A97-A1F7-454B-AFDA-6894EA57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1E0-BE8E-47B6-AD16-86D11E55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614-488E-4DDA-B045-506284DD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23F1-36B0-4D5F-9917-C457B8EFEB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4788000" y="198900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يأك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بز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يشرَ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مر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68600" y="189000"/>
            <a:ext cx="6636240" cy="53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ث الحيا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بدي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ُعطى السعاد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دُنيا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4-17T23:27:04Z</dcterms:modified>
  <cp:revision>16</cp:revision>
  <dc:subject/>
  <dc:title>PowerPoint Presentation</dc:title>
</cp:coreProperties>
</file>