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3FD-0D99-4CEB-B24C-737B09C8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06A-FB43-4A06-9D7D-D1EDA17A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CA3-F0D6-47D2-9032-0DDEB6E0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335-052A-43AE-B6DD-8ADB0CF9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BD4-7058-4120-A7C2-AD423350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D26-2C0A-4087-9745-194C4E29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375-7D55-4F5D-B5B2-A3C554F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FFC-4A1F-4137-ADBD-0B751A9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207-839F-4068-BDE4-CD134E7E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2B1-B83B-4A6E-8AE7-B8DA2DA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0F5-4896-4E91-8094-EB927CF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1CB-7507-47BB-93C5-C11874EF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DFD-7A3C-44D0-A984-B8792A44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7" descr=""/>
          <p:cNvPicPr/>
          <p:nvPr/>
        </p:nvPicPr>
        <p:blipFill>
          <a:blip r:embed="rId1"/>
          <a:stretch/>
        </p:blipFill>
        <p:spPr>
          <a:xfrm>
            <a:off x="0" y="0"/>
            <a:ext cx="523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ربّي يَسوع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لَيْسَ لي سِواك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أتبَعُكَ ربّي دَ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بَعُكَ بِلا رُجُوع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سبِّحُ اسمَكَ القُدّو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َيْسَ ل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ِ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حِبُّكَ يا روحَ الل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ربّي دو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مُرُني بلا حد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مسَحُني بقوَّةٍ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7200" y="4329000"/>
            <a:ext cx="657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يا أُبّا الآب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بِحُبِّكَ تغمُرُني بِمَجْدِ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َجْثو أمامَ عَرْشِ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44:51Z</dcterms:created>
  <dc:creator>USER</dc:creator>
  <dc:description/>
  <dc:language>en-US</dc:language>
  <cp:lastModifiedBy>USER</cp:lastModifiedBy>
  <dcterms:modified xsi:type="dcterms:W3CDTF">2002-12-16T14:44:02Z</dcterms:modified>
  <cp:revision>2</cp:revision>
  <dc:subject/>
  <dc:title>PowerPoint Presentation</dc:title>
</cp:coreProperties>
</file>