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BAF-828B-40B6-94A0-9253B385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B64-8FE1-462D-A5AF-73005558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3B7-0119-4973-9A08-B22D393F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967-1C4B-4C63-83D9-E1046447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489-1781-4D88-8923-1652C511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0D9-7A62-4A6D-AEE9-08A04982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B66-F163-46C9-AEE2-27E98A16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D3F-2079-4903-81F7-96E9286B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74E-67C8-485A-9BBA-535F3FDB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E21-C394-4D48-8B11-7E8F0FB5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A74-8B90-4164-AF09-A21282F2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44C-5527-49A2-B8A5-6EE65CCD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8FB8-1CEF-4A82-867C-D2B7D9A60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840" y="152280"/>
            <a:ext cx="851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لي سواك ياسي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اتي رضاك يا سيدي أنت مُتّكَلي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ُطَمئِنُ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33600" y="304920"/>
            <a:ext cx="122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لوٌ ما أشهاك يا سي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فس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 لا تس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فرِّح قلب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نَرتَ لي د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3618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نما ألقاك يا سيدي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ذبٌ ما أحلاك يا سيدي        تُبَدِّدُ همّ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فَرِّجُ ع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618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وسط الأشواك يا س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عينيَّ تراك يا سيدي تُضَمِّدُ جُرح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جدِّدُ فَرَح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61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فسي في حماك يا سيد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يني لعُ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قوَّتي حبَّ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صخرتي وع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42:37Z</dcterms:modified>
  <cp:revision>9</cp:revision>
  <dc:subject/>
  <dc:title>PowerPoint Presentation</dc:title>
</cp:coreProperties>
</file>