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CFB8-625C-47A5-86D4-5E3BD38F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D8D9-13EA-4893-8901-2CE6BEFA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32F-DE8D-40CC-B228-9BD16E2B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3F45-149B-4EE2-BF60-86433239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7C1-3B7D-4F24-804F-D45B0283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5C0B-6D5A-48F9-B08C-BF4F1C38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DDFF-71E4-4AFC-BE82-9492BF0E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646C-DE4C-48D9-BC4F-2D71E911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DF29-026B-4F86-8FC0-DD90B986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77D4-B41B-427E-BFF3-A3A0EAF0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3912-EF97-486B-B297-F3BA2F95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D04E-453E-45F1-8960-9ED506C4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3894-555C-477D-B3C0-47B1FFBE1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y08" descr=""/>
          <p:cNvPicPr/>
          <p:nvPr/>
        </p:nvPicPr>
        <p:blipFill>
          <a:blip r:embed="rId1"/>
          <a:stretch/>
        </p:blipFill>
        <p:spPr>
          <a:xfrm>
            <a:off x="0" y="0"/>
            <a:ext cx="5133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0"/>
            <a:ext cx="3886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يها المسيحُ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أخي و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ضوءُكَ يلوحُ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ي ظلام د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يك أستري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سلام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عصُفُ الريا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نفسي لا تبا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ثخُنُ الجِرا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يكَ أنسى حا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ربَكَ تُزا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تمةُ الليا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ey08" descr=""/>
          <p:cNvPicPr/>
          <p:nvPr/>
        </p:nvPicPr>
        <p:blipFill>
          <a:blip r:embed="rId1"/>
          <a:stretch/>
        </p:blipFill>
        <p:spPr>
          <a:xfrm>
            <a:off x="0" y="0"/>
            <a:ext cx="51339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81480" y="0"/>
            <a:ext cx="3962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 وجهُكَ النعيم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ليتني أرا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باطلٌ عقيم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لُّ ما سِوا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رغبتي أُقيم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ي حِما هوا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يها المسيحُ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أخي و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ضوءُكَ يلوحُ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ي ظلام دربي فيك أستري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سلامَ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3-01-21T02:46:16Z</dcterms:modified>
  <cp:revision>7</cp:revision>
  <dc:subject/>
  <dc:title>PowerPoint Presentation</dc:title>
</cp:coreProperties>
</file>