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763-AAF6-46FF-8BAD-0AC34A45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D5D-4A4F-4643-ADC1-BFABFCA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6F0-657B-4F07-91E9-6FAC6C47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042-9E79-4DFB-A47C-4DE2BA37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718-3F98-44FB-B544-2C4C1011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014-E8C6-42DB-9DE2-1655392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CE8-2B64-4C08-B2BB-C8F14711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9D4-1857-4534-8F54-3D8FA65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8F3-5C53-4275-A61F-C58DAD2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427-5615-4698-9611-C19EE8F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DCA-63C1-4F42-AC72-66DA742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07A-7158-4410-A8FD-4D7087D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CEE-2511-474B-8A4C-C7397ACC58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140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لكَ التسبيحُ والشكرا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جنادُ العلاء تشدو بالثناء قوّات السماء تذيع الشان ها هو عندنا باختفاء فلنسجد له بإي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هذا العيد تفيضُ النِعَم بسرٍّ به كانت الأسرار بهذا العيد تفيضُ النِعَم على جنسنا يا بني آد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ن كان فقيراً أو كان حقيراً أو كان أسيراً ليأتِ الآن يجد رباً كريماً قد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سرّ الوداد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هبوه القلوب يا مؤمنين فإن القلوبُ به تستريح هبوه القلوب يا مؤمنين فهو اشترانا بدمه الثم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نشكر سخاه ولنطلب رضاه نترك ما شناه لئلاّ يُهان وبعد الممات ننال سماه مقرّ النِعَم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2:23:25Z</dcterms:created>
  <dc:creator>Charbel Azar</dc:creator>
  <dc:description/>
  <dc:language>en-US</dc:language>
  <cp:lastModifiedBy>-</cp:lastModifiedBy>
  <dcterms:modified xsi:type="dcterms:W3CDTF">2003-01-26T16:49:21Z</dcterms:modified>
  <cp:revision>6</cp:revision>
  <dc:subject/>
  <dc:title>لكَ التسبيحُ والشكران لك المجدُ يا سرّ القربان، لكَ التسبيحُ والشكران بكلِّ زمانٍ وكلّ مكان. </dc:title>
</cp:coreProperties>
</file>