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20D-7655-4E5C-88D5-C84D962A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6FC-30B3-4551-BF71-BDB1389B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F98-AFC3-43B0-AF86-7F140EED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90D-616F-4D5B-B26E-FAB4076A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F1A-CA4B-4D37-A1F4-BC60B6D1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15C-EDAC-4090-9056-51CD01CC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9B6-185C-4E7D-B25C-8A77D06D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593-80D7-474A-A2A1-42DE1902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15B-7C3B-4362-9E05-B0E914AF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952-7324-4F75-A7C3-A30EA5C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C59-762C-4CFD-8D1D-E80B0F7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60F-E18E-4146-9D37-6434CBC3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E817-9129-4376-A37E-CF04D2E3D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28720" y="5302080"/>
            <a:ext cx="1228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عوتني إليك أت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ديتني الطريق مشي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سوى وجهِك ما رأ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وجهَ الضي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75680" y="5302080"/>
            <a:ext cx="1136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ني منك إلي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أُلقي بعبئي ع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ا أنا جاثٍ لدي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ملأني صف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5:15Z</dcterms:modified>
  <cp:revision>2</cp:revision>
  <dc:subject/>
  <dc:title>PowerPoint Presentation</dc:title>
</cp:coreProperties>
</file>