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2C9-4E60-495B-8DA9-189E70B2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4FF-E101-46ED-85F4-A9AD3B25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E85-561A-40FB-BB50-2A7964D6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38C-5776-4D6A-89EE-478C5428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D949-EFCC-43CB-A61D-7C3A087A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AD52-AEE4-412D-99ED-9AB3904F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E70E-78D3-4C0F-9C3C-90AFDB3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F24B-16FB-40EC-91CF-844F16E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BFA5-E0D0-4EF4-AE8F-FDD76702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AF1F-F209-40FE-931E-A9445CF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C22D-4383-4BA8-982F-C851149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1E3-2809-4AAA-96ED-C4D6D0EF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75B-AFE2-41D3-BA85-86E2D446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7F50-27D5-4A42-BA0D-5C6BA09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B670-78DE-40B5-BCB1-A9F68CC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172B-22FC-4768-8256-F15D91D6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2882-247B-4758-8EEA-99CE9A99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0B5B-0890-48D3-A80D-210A39CD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2575-DCCE-42A2-8E2E-37EBBEF5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C4F2-C800-44CF-9A2C-A3F59E8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F4B6-FA03-411B-AF49-2987FFE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394A-D0EB-48A6-A1E8-09D93831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281-70C8-4F06-B8AF-35B07DE0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090B-4323-473D-81EE-B0C3A7F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704E-F9B9-4470-8B63-BD891FC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8F42-2394-4523-9EE7-909B13E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2B5F-496C-4593-927E-733BD70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0942-A68E-4192-B7DC-921E99DB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2855-4A00-4DF7-A427-4476F78C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187A-FAA9-4855-B704-0B38D9C6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9E4-57E5-4671-8F02-D1F237D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811-AA99-4848-88ED-A08CD3A8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8CE-F72B-44BC-A770-3EEE115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925-C76D-48F2-9F2F-7CF0E72F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9D1-0E64-474F-B520-FA0D8C86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A1D-E6B2-48E3-9CA1-D016920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D3D-9E20-4A12-BF00-ABF33EB1FDB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0F3-CCF6-48B5-A63E-936FE81637B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BF90-9CC6-4D37-9BDB-39F2E25B97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67280" y="3141720"/>
            <a:ext cx="5076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????Boutros Rokaa"/>
              </a:rPr>
              <a:t>يسوع أنت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876920" y="0"/>
            <a:ext cx="4114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تنحني لاسمِكَ كل رُكبَة ويعترف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كلّ لسان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40360" y="836640"/>
            <a:ext cx="500220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سمُك يسوع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خلاص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ُرَدّدُه ف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كلِّ حين.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سجُدُ أمامَ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إله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عترفُ 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مَلِك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9080" y="189000"/>
            <a:ext cx="4680000" cy="62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ها هي حياتي في يديك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إفعلْ بها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ما تُريد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15920"/>
            <a:ext cx="5029200" cy="64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4280"/>
            <a:ext cx="4647960" cy="65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91000" y="0"/>
            <a:ext cx="5553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0"/>
            <a:ext cx="3886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تعالَ واملُكْ على قلبي أتوقُ إليكَ تعال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47800" y="171360"/>
            <a:ext cx="4911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تُرنِّمُ لكَ شفتايَ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حبُّك للأبدِ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20:40:08Z</dcterms:created>
  <dc:creator>Charbel Azar</dc:creator>
  <dc:description/>
  <dc:language>en-US</dc:language>
  <cp:lastModifiedBy>ف</cp:lastModifiedBy>
  <dcterms:modified xsi:type="dcterms:W3CDTF">2006-07-04T10:59:33Z</dcterms:modified>
  <cp:revision>13</cp:revision>
  <dc:subject/>
  <dc:title>PowerPoint Presentation</dc:title>
</cp:coreProperties>
</file>