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8E3-F094-431A-A59C-403C9A7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F76-8A99-493C-9EFC-029D7FA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EB0-D4BA-4A57-90B3-11F94519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389-70F4-4378-AC7B-18DE77FB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1BA-C857-4863-A127-E28EE15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DC9-E4C3-4463-BAD3-6481CA3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6D7-E626-4BA6-AC59-C8AC423E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2F5-E5BF-45D0-A636-C960D57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265-40A2-4BC2-B60C-8873C72E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02A-D75E-468B-84CA-1854E90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8B4-DE4D-44E6-BF12-ABB659FE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1EE-B8F8-4B3C-A820-16CBCC9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D34F-3AB3-40A0-A1BE-B86B358A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عصُفُ الري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فسي لا تب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ثخُنُ الجِرا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َ أنسى ح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ربَكَ تُز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تمةُ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0"/>
            <a:ext cx="396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وجهُكَ النع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يتني أ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طلٌ ع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ُ ما سِو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غبتي أُ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حِما هوا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 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1T02:46:16Z</dcterms:modified>
  <cp:revision>7</cp:revision>
  <dc:subject/>
  <dc:title>PowerPoint Presentation</dc:title>
</cp:coreProperties>
</file>