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BAA-AF04-4805-9828-9BD325EE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5C2-A520-40C7-BC29-4C559DFF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E5E-C174-4BEA-B3EC-9204ACF0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6F3-A781-494A-9BA2-87239B50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701-C1A4-42D5-BE07-0140C51F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A39-1A42-4C40-8AAE-55D4F6C1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1AF-CBC6-4AE3-B62E-800B515C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752-5C32-462E-9A61-927A762E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762-1794-4873-B813-07C773BD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C2F-8FED-44FA-92DD-2402780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8B0-4FB8-46C1-A198-337205B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C1C-073A-4EAB-9484-5DBCE71A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CC0D-FE71-444C-8E97-6A414F3C5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840" y="152280"/>
            <a:ext cx="85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لي سواك ياسي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اتي رضاك يا سيدي أنت مُتّكَلي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ُطَمئِنُ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33600" y="304920"/>
            <a:ext cx="122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لوٌ ما أشهاك يا سي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فس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 لا تس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فرِّح قلب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نَرتَ لي د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36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نما ألقاك يا سيدي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ذبٌ ما أحلاك يا سيدي        تُبَدِّدُ همّ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فَرِّجُ ع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61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وسط الأشواك يا س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عينيَّ تراك يا سيدي تُضَمِّدُ جُرح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ُجدِّدُ فَرَح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574003fYJtJwiCSu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61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فسي في حماك يا سيد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يني لعُلاك يا سي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قوَّتي حبَّ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صخرتي وع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42:37Z</dcterms:modified>
  <cp:revision>9</cp:revision>
  <dc:subject/>
  <dc:title>PowerPoint Presentation</dc:title>
</cp:coreProperties>
</file>