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5C9-A15A-491B-A22C-093BF1BD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678-C45E-4BC5-95DD-82DC8B81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9D2-9D60-4D63-9C46-09171EAE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5C5-EFB7-4E19-92C7-F2CF934F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712-1455-4712-8A9C-57B01AA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CC8-683A-4FC5-BEB8-170ED697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A31-8A45-469A-BC83-B79062A6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7C5-0582-4A50-BA5F-B63A82E7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A6E-D3C0-44F2-982B-78A9C9AA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AB7-898F-4D14-8AC8-205BF49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16E-E0E4-4469-BB9C-46EAF05F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97D-5C9F-4784-850B-77392DC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B83-32BE-4C68-94A5-D4F59D3346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81360"/>
            <a:ext cx="541008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وحدت يا رب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981080"/>
            <a:ext cx="76564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حّدتَ يا ربُّ لاهوتَكَ بناسوتِنا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ناسوتَنا بلاهوتِكَ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اتَكَ بموتِنا وموتَنا بحياتِك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78320" y="0"/>
            <a:ext cx="5486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خذتَ ما ل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وهبتنا ما لك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تُحيينا وتُخلِّص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كَ المجدُ إلى الأبد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4-03T19:08:50Z</dcterms:modified>
  <cp:revision>8</cp:revision>
  <dc:subject/>
  <dc:title>PowerPoint Presentation</dc:title>
</cp:coreProperties>
</file>