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D2A2A-FF8C-4479-86DE-A29A83EAD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48C28-C53E-4A3A-B1D4-64017054E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41C7D-B86C-40A7-91C9-77D395C76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6C705-C6F7-44F0-ACB4-62E47A5A1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C5C47-F174-4CA4-B92F-384150ECB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3D7A6-BF63-41A9-A086-5027DDBE2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7B1C7-3CD7-44BC-902A-C04BAF494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44D3E-3CE2-49DA-8909-D8469FE04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DFA9B-92E4-4D0C-9207-EA2C10B48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545A1-BEE5-4945-A0D7-A34928286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2FBF9-5DBD-4DC6-9FDE-F6B11D018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A364C-0BCD-4AC4-B91D-7E96E29FD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30341-89BD-4931-8BD1-67EB99A64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E598A-FA4F-465B-88AE-489FF38E4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55EB6-3F2A-4FD7-8F4F-6AEA037A2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80C32-33D3-438C-9371-F46F9C8B5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55704-C76D-4A65-9BE3-8BB930A3E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C29A3-2FCF-48D8-BC4B-0DFBF4815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77890-A2A0-4D07-9F98-5D935758B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82CF9-82D0-44EE-918B-1936BB344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8DE6C-35EA-4F3D-9A41-0D2A1041D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A2FCA-FE47-41FD-883D-A59EDCCC5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D93E1-98A9-4996-B393-2D8B9DAE8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7FFB1-4FAB-4736-BE5A-F30F2A2DB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95E68-CB1B-4DCF-873D-2D8D3E25B4F4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7AA18-FEA9-4A3B-8148-D0345A8F2BAA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4221000"/>
            <a:ext cx="6400800" cy="2256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600" spc="-1" strike="noStrike">
                <a:solidFill>
                  <a:srgbClr val="ffffff"/>
                </a:solidFill>
                <a:latin typeface="Tahoma"/>
                <a:cs typeface="????Boutros Rokaa"/>
              </a:rPr>
              <a:t>عرفتَ</a:t>
            </a:r>
            <a:endParaRPr b="0" lang="en-US" sz="10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in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924360" y="1844640"/>
            <a:ext cx="5219640" cy="2971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وليسَ لدربي</a:t>
            </a:r>
            <a:br>
              <a:rPr sz="9000"/>
            </a:b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سواكَ رفيقٌ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يا ألله، يا ألله. 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ircl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8600" y="-152280"/>
            <a:ext cx="426708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Akhbar MT"/>
              </a:rPr>
              <a:t>شجاني أنينُ اليتيم يضيعُ بصخبِ الحياة ولا من يجيب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ircl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826920" y="528480"/>
            <a:ext cx="7391520" cy="1892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00"/>
                </a:solidFill>
                <a:latin typeface="Times New Roman"/>
                <a:cs typeface="Akhbar MT"/>
              </a:rPr>
              <a:t>رأيت عيونَ الشريدِ تتيهُ</a:t>
            </a: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404640"/>
            <a:ext cx="9144000" cy="2593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00"/>
                </a:solidFill>
                <a:latin typeface="Times New Roman"/>
                <a:cs typeface="Akhbar MT"/>
              </a:rPr>
              <a:t>وشمسُ المحبةِ عنهُ تغيب</a:t>
            </a:r>
            <a:r>
              <a:rPr b="0" lang="ar-SA" sz="8200" spc="-1" strike="noStrike">
                <a:solidFill>
                  <a:srgbClr val="000000"/>
                </a:solidFill>
                <a:latin typeface="Times New Roman"/>
                <a:ea typeface="Akhbar MT"/>
              </a:rPr>
              <a:t> </a:t>
            </a: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ircl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" dur="10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447920" y="3962520"/>
            <a:ext cx="7696080" cy="289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imes New Roman"/>
                <a:cs typeface="Akhbar MT"/>
              </a:rPr>
              <a:t>فأشرِقْ عليَّ بأنوارِ وجهِك يا ألله، يا ألله. </a:t>
            </a: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ircl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-152280"/>
            <a:ext cx="426708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Akhbar MT"/>
              </a:rPr>
              <a:t>عرفتَ بأن قد تعثر دربي فجئتَ إليَّ تقودُ خُطاي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ircl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102" name=""/>
          <p:cNvSpPr/>
          <p:nvPr/>
        </p:nvSpPr>
        <p:spPr>
          <a:xfrm>
            <a:off x="250920" y="3933720"/>
            <a:ext cx="8610480" cy="2743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00"/>
                </a:solidFill>
                <a:latin typeface="Times New Roman"/>
                <a:cs typeface="Akhbar MT"/>
              </a:rPr>
              <a:t>وتعرفُ أني بحبكَ ربّي أهيمُ كصَبّ وفيكَ هواي </a:t>
            </a: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ircl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924360" y="1844640"/>
            <a:ext cx="5219640" cy="2971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وليسَ لدربي</a:t>
            </a:r>
            <a:br>
              <a:rPr sz="9000"/>
            </a:b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سواكَ رفيقٌ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يا ألله، يا ألله. 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ircl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-152280"/>
            <a:ext cx="426708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Akhbar MT"/>
              </a:rPr>
              <a:t>إذا غبت عنِّي شردتُ بذاتي غرقتُ بحزني دهاني الضجر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ircl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57200" y="0"/>
            <a:ext cx="426708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Akhbar MT"/>
              </a:rPr>
              <a:t>وإن كنت فيَّ حييتُ فرحتُ نثرتُ الطيوبَ فرشتُ الزهر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ircl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4419720" y="0"/>
            <a:ext cx="426708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تطيبُ الحياة تطيبُ بقربك يا ألله، يا ألله. 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-152280"/>
            <a:ext cx="426708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Akhbar MT"/>
              </a:rPr>
              <a:t>عرفتَ بأن قد تعثر دربي فجئتَ إليَّ تقودُ خُطاي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ircl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-152280"/>
            <a:ext cx="426708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Akhbar MT"/>
              </a:rPr>
              <a:t>عرفتَ بأن قد تعثر دربي فجئتَ إليَّ تقودُ خُطاي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ircl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109" name=""/>
          <p:cNvSpPr/>
          <p:nvPr/>
        </p:nvSpPr>
        <p:spPr>
          <a:xfrm>
            <a:off x="250920" y="3933720"/>
            <a:ext cx="8610480" cy="2743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00"/>
                </a:solidFill>
                <a:latin typeface="Times New Roman"/>
                <a:cs typeface="Akhbar MT"/>
              </a:rPr>
              <a:t>وتعرفُ أني بحبكَ ربّي أهيمُ كصَبّ وفيكَ هواي </a:t>
            </a: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ircl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924360" y="1844640"/>
            <a:ext cx="5219640" cy="2971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وليسَ لدربي</a:t>
            </a:r>
            <a:br>
              <a:rPr sz="9000"/>
            </a:b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سواكَ رفيقٌ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يا ألله، يا ألله. 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85" name=""/>
          <p:cNvSpPr/>
          <p:nvPr/>
        </p:nvSpPr>
        <p:spPr>
          <a:xfrm>
            <a:off x="250920" y="4114800"/>
            <a:ext cx="8610480" cy="2743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00"/>
                </a:solidFill>
                <a:latin typeface="Times New Roman"/>
                <a:cs typeface="Akhbar MT"/>
              </a:rPr>
              <a:t>وتعرفُ أني بحبكَ ربّي أهيمُ كصَبّ وفيكَ هواي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3924360" y="1844640"/>
            <a:ext cx="5219640" cy="2971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وليسَ لدربي</a:t>
            </a:r>
            <a:br>
              <a:rPr sz="9000"/>
            </a:b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سواكَ رفيقٌ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يا ألله، يا ألله. 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4876920" y="0"/>
            <a:ext cx="426708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00"/>
                </a:solidFill>
                <a:latin typeface="Times New Roman"/>
                <a:cs typeface="Akhbar MT"/>
              </a:rPr>
              <a:t>نهبتُ الطريقَ أسائلُ عنكَ بحيرةِ ضعفي وأوهاميَ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ircl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-531720"/>
            <a:ext cx="9144000" cy="74232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89" name=""/>
          <p:cNvSpPr/>
          <p:nvPr/>
        </p:nvSpPr>
        <p:spPr>
          <a:xfrm>
            <a:off x="0" y="4941720"/>
            <a:ext cx="9144000" cy="191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00"/>
                </a:solidFill>
                <a:latin typeface="Times New Roman"/>
                <a:cs typeface="Akhbar MT"/>
              </a:rPr>
              <a:t>سمعتُ الخليقةَ تُنشِدُ لحناً</a:t>
            </a: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-1178640" y="4869000"/>
            <a:ext cx="11180880" cy="1843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00"/>
                </a:solidFill>
                <a:latin typeface="Times New Roman"/>
                <a:cs typeface="Akhbar MT"/>
              </a:rPr>
              <a:t>لقلبي فتنعشُ إيمانيَ </a:t>
            </a: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" dur="10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" dur="10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-152280" y="4343400"/>
            <a:ext cx="9144000" cy="2514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imes New Roman"/>
                <a:cs typeface="Akhbar MT"/>
              </a:rPr>
              <a:t>حَلَت لي الإقامةُ داخل بيتِك</a:t>
            </a: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imes New Roman"/>
                <a:cs typeface="Akhbar MT"/>
              </a:rPr>
              <a:t>يا ألله، يا ألله. </a:t>
            </a: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ircl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-152280"/>
            <a:ext cx="426708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Akhbar MT"/>
              </a:rPr>
              <a:t>عرفتَ بأن قد تعثر دربي فجئتَ إليَّ تقودُ خُطاي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ircl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94" name=""/>
          <p:cNvSpPr/>
          <p:nvPr/>
        </p:nvSpPr>
        <p:spPr>
          <a:xfrm>
            <a:off x="250920" y="3860640"/>
            <a:ext cx="8610480" cy="2743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00"/>
                </a:solidFill>
                <a:latin typeface="Times New Roman"/>
                <a:cs typeface="Akhbar MT"/>
              </a:rPr>
              <a:t>وتعرفُ أني بحبكَ ربّي أهيمُ كصَبّ وفيكَ هواي </a:t>
            </a: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8T20:38:33Z</dcterms:created>
  <dc:creator>Charbel Azar</dc:creator>
  <dc:description/>
  <dc:language>en-US</dc:language>
  <cp:lastModifiedBy>ف</cp:lastModifiedBy>
  <dcterms:modified xsi:type="dcterms:W3CDTF">2006-11-03T19:52:07Z</dcterms:modified>
  <cp:revision>12</cp:revision>
  <dc:subject/>
  <dc:title>PowerPoint Presentation</dc:title>
</cp:coreProperties>
</file>