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08DA-9AAB-42E8-9FD9-70A0BAA5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F4A-FAAD-4CE2-86ED-A1792651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570-894B-4407-BF3E-E2242986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CBF-0EC0-495E-B173-C24B19FA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617C-F915-4826-B306-4B95CE8B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337-DFBD-4152-9710-175D95E6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F4E1-9BF3-4077-871D-A351411A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26E-A202-4119-8651-43F0F61F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A20C-C68F-45A3-85BD-41C4F695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E050-0877-4704-A091-34C6195C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3016-E52F-4CC1-8F3A-605CBA12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B13-F8D8-4181-B6D2-AA7482DF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5982-0A47-4A39-A160-D434D1B38EA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2" name=""/>
          <p:cNvSpPr/>
          <p:nvPr/>
        </p:nvSpPr>
        <p:spPr>
          <a:xfrm>
            <a:off x="4859280" y="3357720"/>
            <a:ext cx="4284720" cy="24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سيدي</a:t>
            </a:r>
            <a:br>
              <a:rPr sz="9600"/>
            </a:b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أعط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ا تعملوا للقوت الفاني بل اعملوا للقوت الباقي للحياة الأبدي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6" name=""/>
          <p:cNvSpPr/>
          <p:nvPr/>
        </p:nvSpPr>
        <p:spPr>
          <a:xfrm>
            <a:off x="0" y="2133720"/>
            <a:ext cx="4356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 من هذا الخبزِ دائماً أبدا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8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ا خبز الحياة، من يأتني لا يجُع أبدا ومن يؤمن بي لا يعطش أبد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0" y="2133720"/>
            <a:ext cx="4356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 من هذا الخبزِ دائماً أبد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2" name=""/>
          <p:cNvSpPr/>
          <p:nvPr/>
        </p:nvSpPr>
        <p:spPr>
          <a:xfrm>
            <a:off x="2987640" y="1197000"/>
            <a:ext cx="6026040" cy="36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ا خبز الحياة، آباؤكم أكلوا المنّ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البريّة وماتو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98640" y="146160"/>
            <a:ext cx="8815680" cy="59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وذا الخبزُ النازل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السماء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يأكُلَ منه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إنسانُ فلا يمو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5" name=""/>
          <p:cNvSpPr/>
          <p:nvPr/>
        </p:nvSpPr>
        <p:spPr>
          <a:xfrm>
            <a:off x="0" y="2133720"/>
            <a:ext cx="4356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 من هذا الخبزِ دائماً أبد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7" name=""/>
          <p:cNvSpPr/>
          <p:nvPr/>
        </p:nvSpPr>
        <p:spPr>
          <a:xfrm>
            <a:off x="3598920" y="204804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أكل جسدي وشرب دم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له الحياة الأبدي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9" name=""/>
          <p:cNvSpPr/>
          <p:nvPr/>
        </p:nvSpPr>
        <p:spPr>
          <a:xfrm>
            <a:off x="0" y="2133720"/>
            <a:ext cx="4356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 من هذا الخبزِ دائماً أبد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6-06-27T11:32:15Z</dcterms:modified>
  <cp:revision>13</cp:revision>
  <dc:subject/>
  <dc:title>PowerPoint Presentation</dc:title>
</cp:coreProperties>
</file>