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7AD-7C2F-4F86-AB0B-7A32CCE8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779-B530-4952-8250-BE994BD4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055-76F6-47C5-827A-E1B84C3A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CBC-BFE7-48E9-A44B-EEA6279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CEBC-BA1D-4FE3-BA6A-A41FDCE0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00B3-C96C-4906-94A7-5C7033B5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C4F5-ED6D-4F56-B74B-A2A63B3D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C3B8-A505-44AB-95CF-8BA3BA25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FDFB-D672-440C-8191-49306D8D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E670-49BC-4EBF-88C8-0C0FBF62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1CD1-66D8-47DA-8204-8804F40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7F1-497A-48CA-8FDA-AA44803D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027E-EAD5-42FC-8F28-13F87D46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E950-D359-41E7-ACDE-019BB6A5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4ABF-8EA4-49FC-A9C2-3FA4E521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F0B0-DA10-427B-99B5-00644003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C0C9-AD6F-4299-83ED-629D5C3E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188-0905-46CC-9263-3B4D4D13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B00-AE62-46EB-BCD9-679C89D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0AD-97C8-4528-BFBB-F7E99153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9D4-1D5F-489D-A4D7-9E05DD9B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273-482C-4C56-8BB1-79D3C18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0EC-4231-4019-A2F4-9A20664D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F83-6611-4D1B-88FB-7528D3ED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AF7-60C8-4059-BCAA-8406431757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A590-44BE-4739-8B59-2920C9640A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86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900"/>
            </a:br>
            <a:r>
              <a:rPr b="0" lang="ar-SA" sz="189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أومن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8088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cc00"/>
                </a:solidFill>
                <a:latin typeface="Tahoma"/>
                <a:cs typeface="Akhbar MT"/>
              </a:rPr>
              <a:t>أومن أن خلفَ الحبات الوادعات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cc00"/>
                </a:solidFill>
                <a:latin typeface="Tahoma"/>
                <a:cs typeface="Akhbar MT"/>
              </a:rPr>
              <a:t>تزهو جنات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80880"/>
            <a:ext cx="861048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لي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عاتي الأمواج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علو سراج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1981080"/>
            <a:ext cx="4572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ومن أنّ القلبَ الـملقى فـي الأحزان يلقى الحنا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9240"/>
            <a:ext cx="380988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04804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ريح الهوجاءِ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شفا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تلو الصلا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124080" y="181944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ْ في صمتِ الكونِ الـمقفل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ن يصغي ل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0"/>
            <a:ext cx="762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نّي إذ ترنو عيناي</a:t>
            </a:r>
            <a:r>
              <a:rPr b="1" lang="ar-LB" sz="82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لسماء تصفو الأضو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ألحا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9240"/>
            <a:ext cx="380988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9:56Z</dcterms:created>
  <dc:creator>Charbel Azar</dc:creator>
  <dc:description/>
  <dc:language>en-US</dc:language>
  <cp:lastModifiedBy>-</cp:lastModifiedBy>
  <dcterms:modified xsi:type="dcterms:W3CDTF">2002-12-21T12:21:34Z</dcterms:modified>
  <cp:revision>6</cp:revision>
  <dc:subject/>
  <dc:title>PowerPoint Presentation</dc:title>
</cp:coreProperties>
</file>