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193-ACA4-4F16-AD04-254BC7EE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471-8EA3-4AB1-AD91-5D0BB7E0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655-94D6-400B-A0B5-E38827A3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858-2E74-4739-9DFC-1FBB6BB4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203-547A-4230-A90F-CE2D18C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3B7-56FC-4057-8A86-DE779BD6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895-413F-48FA-BADC-12D1E89E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32D-4C57-4647-9B02-518FE4E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34A-9221-4E4E-9FA3-9E3FE3C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2EE-DE55-441E-B788-43B9EAA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47B-BEB8-49BC-9BB3-D2C2B398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0AF-024A-425B-8938-5C63B18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0285-C54B-4831-B43A-8846B15D5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57880" cy="708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34280" y="0"/>
            <a:ext cx="270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21320" y="0"/>
            <a:ext cx="482436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8:13Z</dcterms:created>
  <dc:creator>SUZANNE.MD</dc:creator>
  <dc:description/>
  <dc:language>en-US</dc:language>
  <cp:lastModifiedBy>HANI SAFI</cp:lastModifiedBy>
  <dcterms:modified xsi:type="dcterms:W3CDTF">2003-03-23T14:04:47Z</dcterms:modified>
  <cp:revision>2</cp:revision>
  <dc:subject/>
  <dc:title>PowerPoint Presentation</dc:title>
</cp:coreProperties>
</file>