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8C2-6366-4EEC-B35A-EBE5F0E7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DEE-9AD9-46F4-A759-817B808C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314-70B3-4538-BC61-0C23C818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376-26F5-4E31-9DF5-936E5FC8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B6A-103C-4AE6-A83A-A2F11D7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E04-6FBB-4CD6-A1D6-72DFCBB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439-28FA-413D-871C-D5CFB20E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E58-4C20-4F8D-8584-5613FCE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6E4-88F0-49A4-A51D-BD3B081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6EB-F982-49B8-8A77-3DBEB731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95A-E2AE-44CC-901D-3C27DA0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28C-6719-48B4-AA76-CDB8B98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6A05-3B09-4671-9942-E5348976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3787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هلم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بضياء وجه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920" y="5791320"/>
            <a:ext cx="9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ن نخاف    لن نخشى الظلمة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85240" y="0"/>
            <a:ext cx="6522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لن تقس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در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نحوك تسافر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قل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114920" y="5943600"/>
            <a:ext cx="111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نورك ربّي يكفينا    ذا مكانٌ نلتقي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00" y="301680"/>
            <a:ext cx="45118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صوبك</a:t>
            </a: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مُدّ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أيدين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تناجيك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3:20:01Z</dcterms:created>
  <dc:creator>HANI SAFI</dc:creator>
  <dc:description/>
  <dc:language>en-US</dc:language>
  <cp:lastModifiedBy>HANI SAFI</cp:lastModifiedBy>
  <dcterms:modified xsi:type="dcterms:W3CDTF">2003-06-01T13:44:26Z</dcterms:modified>
  <cp:revision>1</cp:revision>
  <dc:subject/>
  <dc:title>Slide 1</dc:title>
</cp:coreProperties>
</file>