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7D2-DD20-4146-A010-6AA49B24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F62-1132-4559-8E1A-4178F54B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EAC-47A7-4087-8183-6EF61363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E95-18EC-4226-83E7-5855B515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C5E-8F76-47CF-A1A4-D65F227C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FD2-42E5-4B1A-8D7A-6FF39017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DE9-1A87-4448-BC2B-1FD1290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C06-6A80-4230-9734-AFAE52A2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23D-B96D-4A75-8DBF-199FFA9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F4A-669E-4058-A6AE-2D3CAD0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8CF-F7B3-4B2E-95BA-E882F65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25D-02D8-40D1-9811-13C81889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4C08-F462-4250-9F85-3A3C3E03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81320" y="0"/>
            <a:ext cx="5062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4114800" cy="86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فلنُوَقِّرْ باحتِرامٍ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سرَّ فادينا الصم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ولْيَزُلْ شَرعٌ قديمٌ  عندما السِّرُ استَج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أَقنعَ الإيمانُ حِساً  كانَ بالنقصِ جَح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14800" cy="11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وَلْيَكُ الآبُ مجيداً والذي منه اتَّلَ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ثمَّ روحٌ بانبثاقٍ  منهما قبلَ الأب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فلنُوَقِّرْ باحتِرامٍ  سرَّ ثالوثٍ أحد. آمين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717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12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: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أرسلتَ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هم من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السماء خبزا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ش: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يحتوي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لَّ لذة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ك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لهمَّ يا مَن تركتَ لنا ذِكرَ آلامِكَ في السرِّ العجيب، هَبْنا أن تكرِّمَ سرَّ جسدك ودمِك المقدس حتى نشعر دائماً في نفوسنا بثمرة فدائك. أنت الحي المالك إلى دهر الداهرين.                         ش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آم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28600"/>
            <a:ext cx="3581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َكَ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اسمُه القدو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يسوع المسيح، الإلهُ الحق والإنسانُ الح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809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سم يسوع</a:t>
            </a: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قلبه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يسوع في سر القربان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روح القدس المُعزي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3352680" cy="11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ت والدةُ الله   المعظمة، مريمُ     الفائقةُ القداسة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لحبل بها   المقدس، المنزه     عن كل عي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نتقالها    المجيد إلى السم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سم مريم العذراء، والأمِّ مع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28600"/>
            <a:ext cx="4114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قديس يوسف خِطّيبُها العف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له في ملائكته وقديسي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4:55:45Z</dcterms:created>
  <dc:creator>HANI SAFI</dc:creator>
  <dc:description/>
  <dc:language>en-US</dc:language>
  <cp:lastModifiedBy>HANI SAFI</cp:lastModifiedBy>
  <dcterms:modified xsi:type="dcterms:W3CDTF">2003-06-06T15:20:15Z</dcterms:modified>
  <cp:revision>1</cp:revision>
  <dc:subject/>
  <dc:title>Slide 1</dc:title>
</cp:coreProperties>
</file>