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477-0DAE-4543-95EC-435D607D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741-7302-4DC8-A164-44699588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D25-2ACD-4385-BF4B-7F30B2E1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026-83E3-4CDE-BFD8-F8A4E7F1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F1B-B3C2-4DAD-BEA4-97FD07C6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338-5585-49CE-A7AE-884C1A48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292-714B-42F5-B87E-3B226562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909-B452-4AC0-BD57-66EDEE8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938-7E58-4EC8-8428-684639DF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F4C-DE46-4B24-A856-B577F7D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5E2-BFC5-4E7D-BE13-E3F531D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55C-16AA-40F4-908D-ED575532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B618-40D0-4303-8523-6EC9A917B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33000" y="5118120"/>
            <a:ext cx="117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حين سكت بليت عظ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هشيم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تحو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أبحتك بجميع آث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رفعت و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زر خطيئ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طوبى طوبى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من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OTEPICFS17-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حتى إن طغى غمر المياه لما استطاع أن يدرك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ستري من الضيق تقيني وبترنيم النجاة تحيط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   طوبى طوبى لمن غفرت معصيته</a:t>
            </a:r>
            <a:r>
              <a:rPr b="1" lang="ar-SA" sz="36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60642WcABmRMkZ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عودي يا نفسي إلى راحت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إن الرب قد أحس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لأنه من الموت أنقذ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ن الدمع مسح عين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 (Arabic)"/>
              </a:rPr>
              <a:t>طوبى طوبى لمن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8:47Z</dcterms:created>
  <dc:creator>USER</dc:creator>
  <dc:description/>
  <dc:language>en-US</dc:language>
  <cp:lastModifiedBy>USER</cp:lastModifiedBy>
  <dcterms:modified xsi:type="dcterms:W3CDTF">2003-02-14T05:19:33Z</dcterms:modified>
  <cp:revision>3</cp:revision>
  <dc:subject/>
  <dc:title>PowerPoint Presentation</dc:title>
</cp:coreProperties>
</file>