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898-A015-45A7-A2A2-BF69E94D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3476-EA31-445B-BD9D-AD8431AA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3EC2-EB1C-4EE5-BBD1-C65A5DAB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A17-AFCE-4CE4-A4AA-92EFD161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7E31-E4D9-431E-A48C-4201E339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9852-0B70-4B35-8842-E79B97A8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0E1C-5897-49FB-96E6-1EB2D6A8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F876-8937-4AE5-A110-B657DA9B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F160-47B8-43A4-A6DA-394BEED9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62E4-EF7C-47DA-829A-B5691D17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044-37F5-4108-8010-24B40D18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76F-A335-4283-8717-523DC6C3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33DB-BC35-4BBE-ACF5-E4CCA7E8E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18320" y="174600"/>
            <a:ext cx="7308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حسبي أن أكون خادم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ي بيتك طول أيام حيا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نذ صبائي قلبي يهفو إلي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ليس أحد سواك يملأ فراغ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حنين يشدني إليك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نعمتك تكتنفني فعندك هدو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قلب وصفو الأفك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أمامك ندرك حقيقة الوجو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بفيض حبك أدخل في بيت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بخشيتك أسجد في هيكل قدس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محبتك أطيب من الحيا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لك تسبح شفتا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2T05:23:12Z</dcterms:created>
  <dc:creator>HANI SAFI</dc:creator>
  <dc:description/>
  <dc:language>en-US</dc:language>
  <cp:lastModifiedBy>HANI SAFI</cp:lastModifiedBy>
  <dcterms:modified xsi:type="dcterms:W3CDTF">2003-04-12T05:23:40Z</dcterms:modified>
  <cp:revision>1</cp:revision>
  <dc:subject/>
  <dc:title>Slide 1</dc:title>
</cp:coreProperties>
</file>