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4B46-3807-4AD8-B26F-423DDD46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2229-F4BA-4BE5-A675-CBF9FACB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63B8-C161-4A49-A7AB-6FAA39DF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BD39-9AC0-45E4-AAF2-72DE57739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47D2-78A4-4AEB-B30A-F8B93556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A331-48E1-4F60-8726-ECBBAD86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2FA6-0F80-403E-BC9A-2C04042E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72D6-23CE-48F7-9B45-2A506DAE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0F7F-8731-4CA7-A2D4-366CED11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66BE-A7E7-4CC8-8E8B-C4DCE396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5757-A6CE-4B2F-A7D5-D93DADD0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DDC7-B7DA-4FF3-9CBE-FD97A3D0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A78F-0ED8-4C78-9AED-B1928328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7980-B22E-496A-9D5D-B5E557BF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39A9-007D-450B-9E4B-CDB7A395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E937-95D3-46B3-BCDB-1D80E376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1023-8C62-4C12-B2E0-8ECDF45C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33E6-6957-4267-8235-0522AC7A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CF1D-FFA5-4ACA-9EF5-FC9CC5A2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723D-6D22-4975-AECF-991CAE56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DD15-5034-46C3-A73C-00F90CF2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6207-C9F5-496A-A248-7DE53453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317E-419E-4DA8-99AD-2E25AEEA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0354-B7ED-4999-B68D-54FA34A7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EA8C-F968-436F-9499-4DE3AC3F7AA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1375-36B7-4BC5-BF61-71E804DD981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221000"/>
            <a:ext cx="6400800" cy="225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ff"/>
                </a:solidFill>
                <a:latin typeface="Tahoma"/>
                <a:cs typeface="????Boutros Rokaa"/>
              </a:rPr>
              <a:t>عرفتَ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24360" y="1844640"/>
            <a:ext cx="521964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يسَ لدربي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واكَ رفيق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ألله، يا ألله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-15228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شجاني أنينُ اليتيم يضيعُ بصخبِ الحياة ولا من يجيب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26920" y="528480"/>
            <a:ext cx="7391520" cy="189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00"/>
                </a:solidFill>
                <a:latin typeface="Times New Roman"/>
                <a:cs typeface="Akhbar MT"/>
              </a:rPr>
              <a:t>رأيت عيونَ الشريدِ تتيهُ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04640"/>
            <a:ext cx="9144000" cy="259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وشمسُ المحبةِ عنهُ تغيب</a:t>
            </a:r>
            <a:r>
              <a:rPr b="0" lang="ar-SA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3962520"/>
            <a:ext cx="7696080" cy="289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أشرِقْ عليَّ بأنوارِ وجهِك يا ألله، يا ألله.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-15228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رفتَ بأن قد تعثر دربي فجئتَ إليَّ تقودُ خُطا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02" name=""/>
          <p:cNvSpPr/>
          <p:nvPr/>
        </p:nvSpPr>
        <p:spPr>
          <a:xfrm>
            <a:off x="250920" y="3933720"/>
            <a:ext cx="861048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وتعرفُ أني بحبكَ ربّي أهيمُ كصَبّ وفيكَ هواي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924360" y="1844640"/>
            <a:ext cx="521964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يسَ لدربي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واكَ رفيق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ألله، يا ألله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-15228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ا غبت عنِّي شردتُ بذاتي غرقتُ بحزني دهاني الضجر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إن كنت فيَّ حييتُ فرحتُ نثرتُ الطيوبَ فرشتُ الزهر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419720" y="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طيبُ الحياة تطيبُ بقربك يا ألله، يا ألله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-15228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رفتَ بأن قد تعثر دربي فجئتَ إليَّ تقودُ خُطا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-15228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رفتَ بأن قد تعثر دربي فجئتَ إليَّ تقودُ خُطا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09" name=""/>
          <p:cNvSpPr/>
          <p:nvPr/>
        </p:nvSpPr>
        <p:spPr>
          <a:xfrm>
            <a:off x="250920" y="3933720"/>
            <a:ext cx="861048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وتعرفُ أني بحبكَ ربّي أهيمُ كصَبّ وفيكَ هواي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24360" y="1844640"/>
            <a:ext cx="521964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يسَ لدربي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واكَ رفيق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ألله، يا ألله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5" name=""/>
          <p:cNvSpPr/>
          <p:nvPr/>
        </p:nvSpPr>
        <p:spPr>
          <a:xfrm>
            <a:off x="250920" y="4114800"/>
            <a:ext cx="861048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وتعرفُ أني بحبكَ ربّي أهيمُ كصَبّ وفيكَ هوا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24360" y="1844640"/>
            <a:ext cx="521964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يسَ لدربي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واكَ رفيق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ألله، يا ألله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876920" y="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نهبتُ الطريقَ أسائلُ عنكَ بحيرةِ ضعفي وأوهاميَ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7423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9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00"/>
                </a:solidFill>
                <a:latin typeface="Times New Roman"/>
                <a:cs typeface="Akhbar MT"/>
              </a:rPr>
              <a:t>سمعتُ الخليقةَ تُنشِدُ لحناً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1178640" y="4869000"/>
            <a:ext cx="11180880" cy="18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لقلبي فتنعشُ إيمانيَ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152280" y="4343400"/>
            <a:ext cx="914400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َلَت لي الإقامةُ داخل بيتِك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ألله، يا ألله.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-15228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رفتَ بأن قد تعثر دربي فجئتَ إليَّ تقودُ خُطا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94" name=""/>
          <p:cNvSpPr/>
          <p:nvPr/>
        </p:nvSpPr>
        <p:spPr>
          <a:xfrm>
            <a:off x="250920" y="3860640"/>
            <a:ext cx="861048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وتعرفُ أني بحبكَ ربّي أهيمُ كصَبّ وفيكَ هواي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38:33Z</dcterms:created>
  <dc:creator>Charbel Azar</dc:creator>
  <dc:description/>
  <dc:language>en-US</dc:language>
  <cp:lastModifiedBy>ف</cp:lastModifiedBy>
  <dcterms:modified xsi:type="dcterms:W3CDTF">2006-11-03T19:52:07Z</dcterms:modified>
  <cp:revision>12</cp:revision>
  <dc:subject/>
  <dc:title>PowerPoint Presentation</dc:title>
</cp:coreProperties>
</file>