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2AB-6DBB-4E59-A3AE-0115AC39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B25-956D-43A0-9376-4BEF7E47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1099-BAB2-4A6E-BF64-EAEEEEB9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0AA3-20F4-402A-BB26-A83192AC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51C-D033-45EF-9B64-1D7FD918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C41F-2B40-4665-9B4D-233B7BF9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96B-31E9-4A6A-AE60-8D7AAA54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CFC-9252-4A5C-88A7-1A92596F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E9C9-18E9-4AD3-8C30-4BFEB101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BB3-73BD-464F-97AE-12172C81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5F8-AC88-46B1-91F3-E755FC7B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C51-AA3A-40AB-B8B3-E9C86738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2326-2376-44B0-B157-31AAC4AB1D1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2" name=""/>
          <p:cNvSpPr/>
          <p:nvPr/>
        </p:nvSpPr>
        <p:spPr>
          <a:xfrm>
            <a:off x="4859280" y="3357720"/>
            <a:ext cx="428472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سيدي</a:t>
            </a:r>
            <a:br>
              <a:rPr sz="9600"/>
            </a:b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أعط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ا تعملوا للقوت الفاني بل اعملوا للقوت الباقي للحياة الأبدي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6" name=""/>
          <p:cNvSpPr/>
          <p:nvPr/>
        </p:nvSpPr>
        <p:spPr>
          <a:xfrm>
            <a:off x="0" y="2133720"/>
            <a:ext cx="4356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 من هذا الخبزِ دائماً أبد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8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ا خبز الحياة، من يأتني لا يجُع أبدا ومن يؤمن بي لا يعطش أبد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0" y="2133720"/>
            <a:ext cx="4356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 من هذا الخبزِ دائماً أبد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2" name=""/>
          <p:cNvSpPr/>
          <p:nvPr/>
        </p:nvSpPr>
        <p:spPr>
          <a:xfrm>
            <a:off x="2987640" y="1197000"/>
            <a:ext cx="6026040" cy="36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ا خبز الحياة، آباؤكم أكلوا المنّ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البريّة وماتو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98640" y="146160"/>
            <a:ext cx="8815680" cy="59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وذا الخبزُ النازل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السماء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أكُلَ منه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إنسانُ فلا يمو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5" name=""/>
          <p:cNvSpPr/>
          <p:nvPr/>
        </p:nvSpPr>
        <p:spPr>
          <a:xfrm>
            <a:off x="0" y="2133720"/>
            <a:ext cx="4356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 من هذا الخبزِ دائماً أبد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7" name=""/>
          <p:cNvSpPr/>
          <p:nvPr/>
        </p:nvSpPr>
        <p:spPr>
          <a:xfrm>
            <a:off x="3598920" y="20480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أكل جسدي وشرب دم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له الحياة الأبدي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9" name=""/>
          <p:cNvSpPr/>
          <p:nvPr/>
        </p:nvSpPr>
        <p:spPr>
          <a:xfrm>
            <a:off x="0" y="2133720"/>
            <a:ext cx="4356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 من هذا الخبزِ دائماً أبد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6-06-27T11:32:15Z</dcterms:modified>
  <cp:revision>13</cp:revision>
  <dc:subject/>
  <dc:title>PowerPoint Presentation</dc:title>
</cp:coreProperties>
</file>