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1FE3-C71D-4C8D-9F4B-88F80728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1431-C562-468B-9EF1-2EE04CB0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893B-0066-4B02-9B0D-21524412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0A1A-278D-4A71-AE93-0E197798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F392-3467-495F-AFD0-8C3349D9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1D54-F0E7-4D99-9C6A-27E29D4C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6CAB-559D-4610-9262-2E2CB799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5A52-07BF-4EE7-B735-4FBB27C3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D7C3-D1E0-4060-93CD-4C9C7829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A269-A6A0-4A8B-80F2-0601A641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78D4-E702-4F14-BD88-D5DBD768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D369-D7E9-4686-9FDF-C87F83C0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F415-0820-4EF0-965F-0CF945DF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AEB3-386D-491E-8F3E-AB16C962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4281-19EE-4190-AF1B-6B1EABF9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54B9-C974-4B10-927F-3DC101ED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C4D1-CDE4-4B0E-AFBC-9D5A2D4D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096-76DB-4577-A441-DC1E4324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C706-451A-4A16-A710-71645EEE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8C3F-75B3-4085-A12E-D110D516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3508-48E3-44FA-920A-C42B1676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ED00-82BF-46CB-A2A7-93912FC7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1228-12FF-4D26-888E-D0BE2248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854F-FFE8-43BD-9C27-46ACEFD0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5334-D6BD-4A55-943F-14E8D248BF1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500A-FB81-4799-9F54-F11C85F63F5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5867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900"/>
            </a:br>
            <a:r>
              <a:rPr b="0" lang="ar-SA" sz="18900" spc="-1" strike="noStrike">
                <a:solidFill>
                  <a:srgbClr val="ffffff"/>
                </a:solidFill>
                <a:latin typeface="Times New Roman"/>
                <a:cs typeface="????Boutros Rokaa"/>
              </a:rPr>
              <a:t>أومن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380880"/>
            <a:ext cx="91440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cc00"/>
                </a:solidFill>
                <a:latin typeface="Tahoma"/>
                <a:cs typeface="Akhbar MT"/>
              </a:rPr>
              <a:t>أومن أن خلفَ الحبات الوادعات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cc00"/>
                </a:solidFill>
                <a:latin typeface="Tahoma"/>
                <a:cs typeface="Akhbar MT"/>
              </a:rPr>
              <a:t>تزهو جنات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380880"/>
            <a:ext cx="8610480" cy="594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 خلفَ الليل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العاتي الأمواج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علو سراج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0" y="1981080"/>
            <a:ext cx="45720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أومن أنّ القلبَ الـملقى فـي الأحزان يلقى الحنا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19240"/>
            <a:ext cx="380988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كلّي إيمان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يمان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04804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 خلفَ الريح الهوجاءِ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شفا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تتلو الصلا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124080" y="181944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ْ في صمتِ الكونِ الـمقفلِ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ن يصغي ل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14400" y="0"/>
            <a:ext cx="7620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نّي إذ ترنو عيناي</a:t>
            </a:r>
            <a:r>
              <a:rPr b="1" lang="ar-LB" sz="82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لسماء تصفو الأضواء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تعلو الألحا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19240"/>
            <a:ext cx="380988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كلّي إيمان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يمان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6:29:56Z</dcterms:created>
  <dc:creator>Charbel Azar</dc:creator>
  <dc:description/>
  <dc:language>en-US</dc:language>
  <cp:lastModifiedBy>-</cp:lastModifiedBy>
  <dcterms:modified xsi:type="dcterms:W3CDTF">2002-12-21T12:21:34Z</dcterms:modified>
  <cp:revision>6</cp:revision>
  <dc:subject/>
  <dc:title>PowerPoint Presentation</dc:title>
</cp:coreProperties>
</file>