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69E-6BAB-4850-8E84-984919A9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9F6-48A5-45B1-A3F0-3EA7E3CC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B0B-EAB1-4DC3-8CEF-BD61D383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81C-B0C6-4C74-A5C2-444041B8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476-3420-449E-9464-37FD5FF8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729-AAA9-4C7F-B746-2A1E01C6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C4C-6804-4FB7-9E6F-532A0257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F7D-5D18-4686-A66F-722D28F4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49C-D11A-4E93-95A9-B897D46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9D9-E18D-438B-9E13-B7275B4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D53-DE63-46CD-823E-BB6AD0CE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B85-C56D-48A7-B795-D966655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FDD-132B-427C-B640-7E8E46EF9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57880" cy="708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34280" y="0"/>
            <a:ext cx="270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21320" y="0"/>
            <a:ext cx="482436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8:13Z</dcterms:created>
  <dc:creator>SUZANNE.MD</dc:creator>
  <dc:description/>
  <dc:language>en-US</dc:language>
  <cp:lastModifiedBy>HANI SAFI</cp:lastModifiedBy>
  <dcterms:modified xsi:type="dcterms:W3CDTF">2003-03-23T14:04:47Z</dcterms:modified>
  <cp:revision>2</cp:revision>
  <dc:subject/>
  <dc:title>PowerPoint Presentation</dc:title>
</cp:coreProperties>
</file>