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9EB0-69FE-4D21-9867-427CDFFE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17EC-17D6-4784-9BA5-BFDABE88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428C-2543-4EF9-BAA3-8EBB8D8F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E2BF-BF11-4747-AD81-D51F1B5E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73A-1006-4835-B787-A5DAD099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E21-653E-4100-820C-045878B4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0E28-BD47-41C0-B3C2-F854D989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E5AB-4281-4345-BD51-D2DA957E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D76-70E9-4685-8587-CC21A9B5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88FE-8480-4269-BD5D-F42BC493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D8D1-7FE5-4E6A-886A-5ED5CE9B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0E1-7544-40CE-8896-CDD1ED73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6B1D-BAAA-478C-B758-49463B588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33520"/>
            <a:ext cx="3787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هلمّ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واملأ هيكلنا بالنو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واملأ هيكلنا بالنو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بضياء وجه ال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9920" y="5791320"/>
            <a:ext cx="97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لن نخاف    لن نخشى الظلمة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6480" y="0"/>
            <a:ext cx="44575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885240" y="0"/>
            <a:ext cx="65221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</a:rPr>
              <a:t>لن تقس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</a:rPr>
              <a:t>الدرو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</a:rPr>
              <a:t>نحوك تسافر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</a:rPr>
              <a:t>القلو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114920" y="5943600"/>
            <a:ext cx="1119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نورك ربّي يكفينا    ذا مكانٌ نلتقي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9200" y="301680"/>
            <a:ext cx="451188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</a:rPr>
              <a:t>صوبك</a:t>
            </a:r>
            <a:r>
              <a:rPr b="1" lang="ar-SA" sz="10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</a:rPr>
              <a:t>مُدّت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</a:rPr>
              <a:t>أيدينا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</a:rPr>
              <a:t>تناجيك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1T13:20:01Z</dcterms:created>
  <dc:creator>HANI SAFI</dc:creator>
  <dc:description/>
  <dc:language>en-US</dc:language>
  <cp:lastModifiedBy>HANI SAFI</cp:lastModifiedBy>
  <dcterms:modified xsi:type="dcterms:W3CDTF">2003-06-01T13:44:26Z</dcterms:modified>
  <cp:revision>1</cp:revision>
  <dc:subject/>
  <dc:title>Slide 1</dc:title>
</cp:coreProperties>
</file>