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0BB-A98C-4358-ABD0-8110FE85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40C-2EFB-44B6-AF02-9822CCD7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E8E-4340-40F5-A80D-1778A525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6D2-E5B9-45BA-A2C5-B8658702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E33-D83A-415D-9BCD-5A8BEF9A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928-8150-4679-976B-97A750E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039-3EFD-42A8-A8C2-A93C53C5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B13-01C4-4338-9D35-64483F50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7BE-9F4F-4897-9788-08671040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E03-33A8-46A3-B883-244493C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C48-B393-4E15-9A98-DF3FA4E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492-08D2-41EC-8225-76BCDF1B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C1B-3762-46C8-B234-3412FCEDB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81320" y="0"/>
            <a:ext cx="5062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4114800" cy="86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فلنُوَقِّرْ باحتِرامٍ 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سرَّ فادينا الصم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ولْيَزُلْ شَرعٌ قديمٌ  عندما السِّرُ استَج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أَقنعَ الإيمانُ حِساً  كانَ بالنقصِ جَح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14800" cy="11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وَلْيَكُ الآبُ مجيداً والذي منه اتَّلَ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ثمَّ روحٌ بانبثاقٍ  منهما قبلَ الأب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فلنُوَقِّرْ باحتِرامٍ  سرَّ ثالوثٍ أحد. آمين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717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12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: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أرسلتَ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هم من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السماء خبزا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ش: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يحتوي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لَّ لذة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ك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لهمَّ يا مَن تركتَ لنا ذِكرَ آلامِكَ في السرِّ العجيب، هَبْنا أن تكرِّمَ سرَّ جسدك ودمِك المقدس حتى نشعر دائماً في نفوسنا بثمرة فدائك. أنت الحي المالك إلى دهر الداهرين.                         ش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آم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28600"/>
            <a:ext cx="3581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َكَ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اسمُه القدو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يسوع المسيح، الإلهُ الحق والإنسانُ الح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809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سم يسوع</a:t>
            </a: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قلبه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يسوع في سر القربان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روح القدس المُعزي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0"/>
            <a:ext cx="3352680" cy="11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ت والدةُ الله   المعظمة، مريمُ     الفائقةُ القداسة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لحبل بها   المقدس، المنزه     عن كل عي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نتقالها    المجيد إلى السم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سم مريم العذراء، والأمِّ مع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28600"/>
            <a:ext cx="4114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قديس يوسف خِطّيبُها العف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له في ملائكته وقديسي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4:55:45Z</dcterms:created>
  <dc:creator>HANI SAFI</dc:creator>
  <dc:description/>
  <dc:language>en-US</dc:language>
  <cp:lastModifiedBy>HANI SAFI</cp:lastModifiedBy>
  <dcterms:modified xsi:type="dcterms:W3CDTF">2003-06-06T15:20:15Z</dcterms:modified>
  <cp:revision>1</cp:revision>
  <dc:subject/>
  <dc:title>Slide 1</dc:title>
</cp:coreProperties>
</file>