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893-55A5-4829-841B-DD68515E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0F9-6437-44D7-814F-33ACFFBA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11A-EFFE-4B67-BAC5-05C67B2A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9A6-B910-4B09-8FDF-40B2FE22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74D-0498-4110-A0FB-1A57C1BF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B46-DF23-4970-8E50-5D3B9104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97D-FC2C-4865-9195-C60A2AB6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581-2160-48C7-AD07-B0135E96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179-B845-4C28-9A40-5435733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976-9800-4EE7-8B25-A247FB0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98C-8197-4366-A788-4BA7825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C59-FAA4-4D80-9910-185D72C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7675-71E1-4FA7-8465-0C45A2370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33000" y="5118120"/>
            <a:ext cx="117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حين سكت بليت عظامي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لى هشيم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تحول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أبحتك بجميع آثامي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ت رفعت و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زر خطيئ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طوبى طوبى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لمن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غفرت معصيته</a:t>
            </a:r>
            <a:r>
              <a:rPr b="1" lang="ar-SA" sz="3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OTEPICFS17-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حتى إن طغى غمر المياه لما استطاع أن يدرك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ت ستري من الضيق تقيني وبترنيم النجاة تحيط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   طوبى طوبى لمن غفرت معصيته</a:t>
            </a:r>
            <a:r>
              <a:rPr b="1" lang="ar-SA" sz="36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760642WcABmRMkZ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عودي يا نفسي إلى راحت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إن الرب قد أحسن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لأنه من الموت أنقذ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من الدمع مسح عين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Simplified Arabic"/>
                <a:cs typeface="Times New Roman (Arabic)"/>
              </a:rPr>
              <a:t>طوبى طوبى لمن غفرت معصيته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48:47Z</dcterms:created>
  <dc:creator>USER</dc:creator>
  <dc:description/>
  <dc:language>en-US</dc:language>
  <cp:lastModifiedBy>USER</cp:lastModifiedBy>
  <dcterms:modified xsi:type="dcterms:W3CDTF">2003-02-14T05:19:33Z</dcterms:modified>
  <cp:revision>3</cp:revision>
  <dc:subject/>
  <dc:title>PowerPoint Presentation</dc:title>
</cp:coreProperties>
</file>