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483-B6D7-49BE-A0FD-5A26CB45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25F-ADC0-4EFC-83BC-4A160659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784-4B4B-4F56-BFF0-44ABCD34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BE0-7BC5-4142-B6C7-0FAB453E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D89-885D-4484-93E5-49E59189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91B-2625-44D3-B27C-373D1BEF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604-3420-49C7-AF4D-245E234B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9A5-E0E6-47C4-8342-AB9B169A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4D4-907C-4A44-8C79-94E35CB4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46B-BF14-4ED8-9616-7FB0C4BE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A4D-E6F4-4F5B-950D-9A782AE8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35E-D36E-4260-ADA3-46B59D5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E402-6FC9-45C7-BFBB-C60759846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18320" y="174600"/>
            <a:ext cx="730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حسبي أن أكون خادم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ي بيتك طول أيام حيا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نذ صبائي قلبي يهفو إلي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ليس أحد سواك يملأ فراغ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حنين يشدني إليك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نعمتك تكتنفني فعندك هدو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قلب وصفو الأفك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أمامك ندرك حقيقة الوجو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بفيض حبك أدخل في بي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بخشيتك أسجد في هيكل قدس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محبتك أطيب من الحيا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ك تسبح شفتا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05:23:12Z</dcterms:created>
  <dc:creator>HANI SAFI</dc:creator>
  <dc:description/>
  <dc:language>en-US</dc:language>
  <cp:lastModifiedBy>HANI SAFI</cp:lastModifiedBy>
  <dcterms:modified xsi:type="dcterms:W3CDTF">2003-04-12T05:23:40Z</dcterms:modified>
  <cp:revision>1</cp:revision>
  <dc:subject/>
  <dc:title>Slide 1</dc:title>
</cp:coreProperties>
</file>