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ACBC-DFED-4217-A659-A940666B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69B-8389-4BD0-82B1-66A0B2D6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774-2455-474F-82B8-0D83E7B2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E6E-7DE9-4DAF-A0FB-627C1CEA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C13-1AC6-4413-BE35-D54448FA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8BC-BE4A-4070-82C9-22F813FD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61D-A8A7-492B-A632-8C532B52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ECF-469B-4C2B-9461-C66C2EBD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5B0-311D-4B6C-9AFB-A25EDEC6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B06-D13E-4805-9BE8-B0CEC99E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25DF-2021-4B86-BC32-D7C803D0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199-CB36-434F-ADAE-467D0409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3576-528D-41A4-930A-04AB0182C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7219758DxrZZt_ph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3049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تم الذينَ اعتَمَدتُم في المسيحْ قد لبِستُمُ المسي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998066guZQrOLuCi_ph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304920"/>
            <a:ext cx="243864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ميعُكم أبناءُ اللهِ بالإيمانِ بيسوعَ المسي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P-KAF0059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781680" y="457200"/>
            <a:ext cx="1981440" cy="85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Times New Roman"/>
                <a:cs typeface="Arabic Transparent"/>
              </a:rPr>
              <a:t>أما تعلمونَ أنَّ أجسادّكُم هي هَيكَلُ الروحِ القد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52242359KjXGwQ_ph" descr=""/>
          <p:cNvPicPr/>
          <p:nvPr/>
        </p:nvPicPr>
        <p:blipFill>
          <a:blip r:embed="rId1"/>
          <a:stretch/>
        </p:blipFill>
        <p:spPr>
          <a:xfrm>
            <a:off x="0" y="0"/>
            <a:ext cx="50068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0080" y="1066680"/>
            <a:ext cx="3353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مجّدوا اللهَ واحملوهُ في أجسادكم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4924715GRMuZrvGAj_ph" descr="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3049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533520"/>
            <a:ext cx="3276720" cy="49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نحن الذين اعتمدنا فيك أيها المس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إحفَظنا في ثوبِ ضِياَ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ئِكَ</a:t>
            </a:r>
            <a:r>
              <a:rPr b="1" lang="ar-SA" sz="4400" spc="-1" strike="noStrike">
                <a:solidFill>
                  <a:srgbClr val="ffffff"/>
                </a:solidFill>
                <a:latin typeface="Arabic Transparent"/>
              </a:rPr>
              <a:t>  المج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19:48Z</dcterms:created>
  <dc:creator>SUZANNE.MD</dc:creator>
  <dc:description/>
  <dc:language>en-US</dc:language>
  <cp:lastModifiedBy>USER</cp:lastModifiedBy>
  <dcterms:modified xsi:type="dcterms:W3CDTF">2003-01-07T16:16:12Z</dcterms:modified>
  <cp:revision>2</cp:revision>
  <dc:subject/>
  <dc:title>PowerPoint Presentation</dc:title>
</cp:coreProperties>
</file>