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CE9-7D6E-4C88-AE53-AE26721D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FF6-A557-496E-BD73-76907728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A0F-9750-45D2-88F2-55F978D8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43B-D55C-4950-8667-0089B7C8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61B-DBB4-4277-AE41-849500CB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D827-F55D-46E1-9CBB-E0AA33C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D59-78A6-43D7-BE85-78A99A0A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C7CA-377F-4947-96C8-25823003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965F-F18D-4703-ADB0-EA5F93E2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C6B8-03CC-4080-A127-08CFE5B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617-8699-4E8E-968D-500B9C5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879-BB5E-4CE1-BB14-CCB93F80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741B-EAD8-4E8B-87AB-2E935A0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6F51-A9C1-445B-A7AD-A03D74F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3A20-E461-44B3-94B9-8DD5F4E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4601-3B81-4FFC-84EA-593D8840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0FB-211F-4937-9F85-4CCAFBF1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297-63DE-4DD9-8561-0EA51757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EE3-C29F-487C-A1F9-4A2B6DF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EF9-3E19-44AD-818D-5058FDE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744-2C55-467E-9EDE-14EC772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D68-9C8E-4740-B24B-C8B01FB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6E6-DE96-46A9-8523-BE512BE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B40-AAE6-4C53-8585-8ACD80D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11D4-C67E-4543-8125-9A9A00ACFDC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9048-CF90-4929-AE52-D977B6E08D2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60720" y="0"/>
            <a:ext cx="586728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900"/>
            </a:b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هللي يا محبّة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00720" y="3952800"/>
            <a:ext cx="495288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 بخور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8000" y="2971800"/>
            <a:ext cx="59054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 نبيذ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 قربان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4365720"/>
            <a:ext cx="49532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000000"/>
                </a:solidFill>
                <a:latin typeface="Tahoma"/>
                <a:cs typeface="Akhbar MT"/>
              </a:rPr>
              <a:t>لقاؤنا صلاة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3145" t="0" r="0" b="45810"/>
          <a:stretch/>
        </p:blipFill>
        <p:spPr>
          <a:xfrm>
            <a:off x="4859280" y="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46860" b="45810"/>
          <a:stretch/>
        </p:blipFill>
        <p:spPr>
          <a:xfrm>
            <a:off x="0" y="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0" t="54190" r="49220" b="0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rcRect l="50784" t="54196" r="0" b="0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11840" y="620640"/>
            <a:ext cx="2432160" cy="155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رح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0"/>
            <a:ext cx="2627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ن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3933720"/>
            <a:ext cx="2735280" cy="18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ُ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3573360"/>
            <a:ext cx="341964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قاؤ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924280"/>
            <a:ext cx="461016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اسُنا محبّ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4941720"/>
            <a:ext cx="7993080" cy="17182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4941720"/>
            <a:ext cx="918036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الأرضُ تهلِّل والسماءُ تبار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1644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تحت سقفٍ واحدٍ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213520"/>
            <a:ext cx="71154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ما أجملَ أن يجتَمعَ الإخ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013360"/>
            <a:ext cx="799308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 رنّم يا رجا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2824560" y="4941720"/>
            <a:ext cx="14811120" cy="16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ي لقاءِ الأحبّة في يوم السّ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8440" y="5079960"/>
            <a:ext cx="7242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Tahoma"/>
                <a:cs typeface="Akhbar MT"/>
              </a:rPr>
              <a:t>هلّلي يا محبّ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9:11Z</dcterms:created>
  <dc:creator>Charbel Azar</dc:creator>
  <dc:description/>
  <dc:language>en-US</dc:language>
  <cp:lastModifiedBy>-</cp:lastModifiedBy>
  <dcterms:modified xsi:type="dcterms:W3CDTF">2003-01-16T16:23:58Z</dcterms:modified>
  <cp:revision>9</cp:revision>
  <dc:subject/>
  <dc:title>PowerPoint Presentation</dc:title>
</cp:coreProperties>
</file>