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4ACA-D2B6-4CF5-9BC7-0199240C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49CD-E6F1-45A1-9AAD-1C19F9F9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338E-B7E9-4D85-A4E3-EB59E31E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627A-7BF8-47C9-8887-CD692158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3F4C-F355-4006-858B-619694BD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9F1F-49B3-409C-AC5C-48D8E9A3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8A60-ECCD-49B4-B53F-D642231A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3A84-441B-49EE-9475-241D9E4D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B89E-4BB4-4AF9-BA6A-87D5B729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7123-EA1E-4EFA-BF64-461444B0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4B1B-9FF8-4F1B-A348-558E1C11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72B7-A016-4FD8-8709-908181D8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84BB-CDB4-4D4F-9249-6145E2E22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055188" descr=""/>
          <p:cNvPicPr/>
          <p:nvPr/>
        </p:nvPicPr>
        <p:blipFill>
          <a:blip r:embed="rId1"/>
          <a:stretch/>
        </p:blipFill>
        <p:spPr>
          <a:xfrm>
            <a:off x="0" y="0"/>
            <a:ext cx="5443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51320" y="0"/>
            <a:ext cx="55314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عالوا إلى الرب يا مثقل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أعباءِ هذه الحي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عالوا ولا تقفوا يائسي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عند يسوع النج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*تعالوا إلى الرب يا خاطئ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فقلب يسوع رحيم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فور يرحب بالتائب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يمحو جميع الذنو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0034529" descr=""/>
          <p:cNvPicPr/>
          <p:nvPr/>
        </p:nvPicPr>
        <p:blipFill>
          <a:blip r:embed="rId1"/>
          <a:stretch/>
        </p:blipFill>
        <p:spPr>
          <a:xfrm>
            <a:off x="0" y="0"/>
            <a:ext cx="4630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488480" y="247680"/>
            <a:ext cx="5200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عالوا إلى الرب يا مثقل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بأعباءِ هذه الحي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عالوا ولا تقفوا يائسين 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فعند يسوع النج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5562720"/>
            <a:ext cx="426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عود إليك رحي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أجل الخرا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بذلت دماء فأن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حبيب الشفي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13760" y="2514600"/>
            <a:ext cx="5308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يُرَنَّمُ باسمك عند الشرو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وعند الضحى والغرو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أنت الإله الغفور الرح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لكل أثيمٍ يتو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فيا رب أنت لكل خرو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02:10Z</dcterms:created>
  <dc:creator>USER</dc:creator>
  <dc:description/>
  <dc:language>en-US</dc:language>
  <cp:lastModifiedBy>USER</cp:lastModifiedBy>
  <dcterms:modified xsi:type="dcterms:W3CDTF">2002-10-30T16:05:47Z</dcterms:modified>
  <cp:revision>2</cp:revision>
  <dc:subject/>
  <dc:title>PowerPoint Presentation</dc:title>
</cp:coreProperties>
</file>