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8E1-1754-42EF-A9DC-5C5FC9DD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E49-E1A9-4D3B-9151-877F5CB0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20E-88AE-403C-AA26-5F8647F4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371-54C2-4020-87BD-200851FD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674-57F6-4279-9299-3A0E66F7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EEE-3E90-40A6-8E77-23FE3141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F72-A45F-41C8-BEC7-95628796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9BF-9443-41FE-84A3-44F12E7B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911-D29A-42FB-9F91-53FD80C1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656-6FB5-4812-8733-663480F4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D32-10F0-4401-B495-21F50248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E29-22FC-420B-ADAA-3741C5C5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D965-9750-4E06-B932-81137F6AD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29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ب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 يصنع العجائ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ن طلبت تكريسي هل يستجيب الطل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5240" y="0"/>
            <a:ext cx="72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أن يقّدس ذا الجس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95280" y="609480"/>
            <a:ext cx="58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 ضعفه وإثمه به يحلّ للمد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7640" y="0"/>
            <a:ext cx="70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أن يشغل مواه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615600" y="60948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ّساً عواطفي لمجد من أحب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40160" y="0"/>
            <a:ext cx="75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أن يبارك في خدم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56840" y="609480"/>
            <a:ext cx="57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ّساً لمجده كلّي له بجمل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10:40Z</dcterms:modified>
  <cp:revision>4</cp:revision>
  <dc:subject/>
  <dc:title>PowerPoint Presentation</dc:title>
</cp:coreProperties>
</file>