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4AB-9632-458C-ABF9-C18E51FE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57C-4A18-4D84-B467-1504842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930-1F36-4E21-BA2E-26EAFE7A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6C4-0021-4B09-A9F0-8482FF06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150-852F-45BF-BE38-30A210A6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2C5-51A6-41D6-8AEC-C24C182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964-B291-4D66-A2BD-5DD6A0B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F25-612A-45AE-A9BE-BDC4FAEE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0B1-28DE-4287-B974-013C026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568-B838-4B9B-AB29-EAD59538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711-A17E-4516-9D98-F847C694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DB3-5C75-4CFE-96D7-C13B6896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DF6-FBB9-4765-93AD-551A51DF2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9600"/>
            </a:b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Tahoma"/>
              </a:rPr>
              <a:t>قادي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ب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03Z</dcterms:created>
  <dc:creator>Charbel Azar</dc:creator>
  <dc:description/>
  <dc:language>en-US</dc:language>
  <cp:lastModifiedBy>Charbel Azar</cp:lastModifiedBy>
  <dcterms:modified xsi:type="dcterms:W3CDTF">2002-02-08T21:10:14Z</dcterms:modified>
  <cp:revision>1</cp:revision>
  <dc:subject/>
  <dc:title>PowerPoint Presentation</dc:title>
</cp:coreProperties>
</file>