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45F-5182-4EC7-8C0F-1BD2929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99C-FEE2-4777-B077-4C7FCB6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F2F-3CF7-4736-992E-433D1AB0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A98-DD6D-49ED-8C9A-30D0D0AD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4C0-ACFE-4389-A9EE-7A43827A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EE0-4675-4CB5-8822-9DA7CF4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A8D-606D-4297-95B4-8494F3D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492-1BD4-4C9D-84C3-D11B2A6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EDD-4D12-4F4C-84E2-798FBA0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970-F630-4C20-BF36-7C99294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60D-00D6-48E8-B686-A592F1E2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F89-2554-4ABB-96E1-C95042D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226-6496-42C7-BF78-F8A01E4ED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غفر ذنوب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جميعَ ذنوبِكِ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شفي أمراض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أمراضِكِ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1:08:37Z</dcterms:modified>
  <cp:revision>6</cp:revision>
  <dc:subject/>
  <dc:title>PowerPoint Presentation</dc:title>
</cp:coreProperties>
</file>