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754-9620-4C45-B142-4981944E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56B-FC42-4A2C-9504-D32EDF7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ABC-0B11-4B47-960C-7DFA66E5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C09-4F34-4870-8281-BC052E14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E70-571B-488B-9334-DABE6E0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D49-A53C-4DAD-93A9-594DDBF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8FE-EA12-4EE4-B3F5-477BBE8F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54D-481E-4369-84BA-089DD7B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8C7-EC6A-4290-9BFB-9169665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79B-AB8A-4011-9078-5AF8A85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AEB-1659-451E-9AE3-F99959E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2B5-70F7-4AED-92A8-8827B2F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06D7-8DB2-485A-B66D-5ACC6688A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120" y="0"/>
            <a:ext cx="613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َجمَلَ أن نَجْتَمِعَ م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بِالحُبِّ يَقولُ الربُّ ل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ما اجتَمعَ باسمي اثنانِ مع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اّ وهُنَاكَ أكونُ أن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19920" y="1981080"/>
            <a:ext cx="5061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 تعال الآن هن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نَدْعوكَ تعالَ 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ِنْ روحِكَ املأنا فرحاً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سَلاماً لايعطيهِ غِنَ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67160" y="4572000"/>
            <a:ext cx="499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أنت لنا عونٌ وسَنَد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في كُلِّ طريقٍ نَسْلُكُهُ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َصديقٌ ليسَ سواه نج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نُعطيهِ القَلْبَ نملّكُهُ  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31661wAIAZzQGt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84840" y="0"/>
            <a:ext cx="278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َوماً مَعَ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ما أجمَلُ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أسعَد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نُكَلّم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سَيَسْمع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يَبقى لن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نا ومَعَن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56272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تعال الآن هنا    نَدْعوكَ تعال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ْ روحِكَ املأنا فرحاً     وسَلاماً لايعطيهِ غِنَ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6:08Z</dcterms:created>
  <dc:creator>USER</dc:creator>
  <dc:description/>
  <dc:language>en-US</dc:language>
  <cp:lastModifiedBy>USER</cp:lastModifiedBy>
  <dcterms:modified xsi:type="dcterms:W3CDTF">2002-10-30T15:38:51Z</dcterms:modified>
  <cp:revision>1</cp:revision>
  <dc:subject/>
  <dc:title>PowerPoint Presentation</dc:title>
</cp:coreProperties>
</file>