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9C8-977F-466D-8D52-D472B09A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59A-C01F-4984-9962-A0BA7E6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ECF-527C-455C-931A-0C4B8954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E1B-52BE-48E2-B778-87A14E8B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369-FEE0-4D83-90D6-E7576EB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D1E-4F2A-4364-94F6-B6079317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533-86DD-4E8A-B7C7-93CE49B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C1D-1A66-4350-9A45-4806E55B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89F-B81F-4E43-9344-27ADCEF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DC2-5149-4C49-AAE9-7261A15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6C5-D7CE-4464-AF21-741F037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A19-9B33-41BF-811C-9130513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1C13-81BC-40B6-A044-6D22933E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89800" y="380880"/>
            <a:ext cx="728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ذ دخلـتُ قدسَكَ ورأيـت عرش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ل من هم حولك يُنشـدون مجد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خجلتني صورتي وصرختُ وي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ل نظــيري ينفـعُ لســيـد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360" y="380880"/>
            <a:ext cx="715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ام طهرِ عرشَكَ أُدرك نجاس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 أنا يا سيدي كي تجيب طلب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ُسَّ ربي شفتاي بلهيب جمـر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أصـير لائـقـاً لخـدمـتـ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02200" y="304920"/>
            <a:ext cx="825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مجدٍ سيدي أي فخرٍ بل يز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بهجة هنا لأنني بك سع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هما أسعى سيد لن أفي الحب الفر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ســرورٍ ســيدي أُطـيـعـ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13:23Z</dcterms:created>
  <dc:creator>HANI SAFI</dc:creator>
  <dc:description/>
  <dc:language>en-US</dc:language>
  <cp:lastModifiedBy>HANI SAFI</cp:lastModifiedBy>
  <dcterms:modified xsi:type="dcterms:W3CDTF">2003-04-12T05:18:14Z</dcterms:modified>
  <cp:revision>1</cp:revision>
  <dc:subject/>
  <dc:title>Slide 1</dc:title>
</cp:coreProperties>
</file>