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3760-3915-4503-9EAD-0877E76FA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61E5-7BB6-4142-BCD5-D3B6EBB6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D300-39DD-4E3D-9E25-73A2EB60E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CEAA-10D8-4149-A285-CD311C018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A5BB-A3CE-4D8E-B35E-0B7A3E9F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A388-C7B5-46DF-B4C2-9132FECC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658D-3D3C-4326-8178-8DE752A7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70EA-FF7A-4BEF-B8DD-38227F56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D78F-4947-4451-A8AC-778F3817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0FD8-CBFD-4DC8-BCE0-45E9F49C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0B6F-9824-49DE-B028-04DFD9AD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5A95-A007-4589-B510-57E40B0F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5F67-72F2-424D-A04C-317078297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62560" y="0"/>
            <a:ext cx="37814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5334120" cy="89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معنا هو اللـه ، فاعلموا أيها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الأمم وانهزموا ، لأن الله معنا</a:t>
            </a:r>
            <a:r>
              <a:rPr b="0" lang="ar-SA" sz="40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إسمعوا الى أقصى الأرض 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أيها الأقوياء انهزموا 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لأنكم وإن قويتم ، أيضا ستغلبون </a:t>
            </a:r>
            <a:r>
              <a:rPr b="1" lang="ar-SA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..</a:t>
            </a:r>
            <a:r>
              <a:rPr b="0" lang="ar-SA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وأي مشورة عقدتم يبددها الرب </a:t>
            </a:r>
            <a:r>
              <a:rPr b="1" lang="ar-SA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..</a:t>
            </a:r>
            <a:r>
              <a:rPr b="0" lang="ar-SA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وأي قول قلتموه لا يثبت فيكم 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0"/>
            <a:ext cx="72388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5257800" cy="91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لا نخاف خوفكم ولا نضطرب ..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إنما نقدس الرب إلهنا ونحبه ..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إذا توكلت عليه كان لي</a:t>
            </a: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قداسة..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فسأتوكل عليه وأخلص به ..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هأنذا والأبناء الذين أعطانيهم اللـه ..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يها الشعب السالك في الظلمة ، أبصر نورا عظيما ..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4876920" cy="76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نـحن السالكين في بقعة الـموت وظلاله يشرقُ علينا نورا ..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لأنه قد ولد لنا ولدٌ ، وأعطي لنا إبنٌ ..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صارت رئاسته على كتفه ..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لا حــد لسلامه ...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يدعى اسـمه رسول الـمشورة العظيمة ..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76920" y="0"/>
            <a:ext cx="426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638680" y="0"/>
            <a:ext cx="3905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228600"/>
            <a:ext cx="5638680" cy="85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مشيراً عـجيبـاً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إلهاً قوياً مسلَّطاً ، رئيس السلام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أبا الدهر الآتـي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المجـد للآب والإبـن والروح القدس ، لأن اللـه معنا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الآن وكل أوان والى دهر الداهرين ، آمين ، لأن اللـه معنا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معنا هو اللـه ، فاعلموا أيها الأمم وانهزموا ، لأن اللـه معنا</a:t>
            </a:r>
            <a:r>
              <a:rPr b="1" i="1" lang="ar-SA" sz="36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.</a:t>
            </a:r>
            <a:r>
              <a:rPr b="0" i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2T07:42:55Z</dcterms:created>
  <dc:creator>SUZANNE.MD</dc:creator>
  <dc:description/>
  <dc:language>en-US</dc:language>
  <cp:lastModifiedBy>HANI SAFI</cp:lastModifiedBy>
  <dcterms:modified xsi:type="dcterms:W3CDTF">2003-03-14T12:30:32Z</dcterms:modified>
  <cp:revision>2</cp:revision>
  <dc:subject/>
  <dc:title>PowerPoint Presentation</dc:title>
</cp:coreProperties>
</file>