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094-27FE-4919-BF2A-CBB0FE7B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BBF-538F-44F9-80DA-31A6340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C7F-9E99-4154-BF16-80A293ED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B0B-BE1D-4193-841B-081214C4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E7DC-E5F9-4179-B7DA-42DE71EF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BE0A-6556-492F-9503-80CAEB15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A71-1D24-4693-BC3D-E4BA32D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E34F-A855-46D1-A331-485DBBC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E3CB-7A89-45CF-BF9C-F98D147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A59A-94CB-4959-B68A-6FB6A37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B873-3F7A-4263-9364-6635182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48B-E3B9-43A9-A95B-61AD2FE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472E-590F-44E5-8203-411CE52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240-0D2B-4359-AFDA-B20D2FA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F9B6-6256-4614-9725-DA0B37A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DFB-38CD-4C04-A1DA-7B88FBC6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8E01-C040-4DD5-B335-8BBA157A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430-8C3D-4FD6-8EE9-75484087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C8D-A0FC-4667-AB8B-20CFBBD7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CFA-0A48-43E7-909D-6C1DCDB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D3D-BF66-4977-BDB8-8A416D3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587-CBDF-45CC-9B76-73F2E0E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07C-1264-4597-A539-D0D072C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8B4-24F2-4EBE-9E54-8F83708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544-4516-471E-9553-6FD9AEBF8E2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1E1F-CB08-4E68-8260-780F269FB6C9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876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طوبى 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للساعين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، يحفظ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وبَكم وأفكارَك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ـمسيحِ يسوع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76520"/>
            <a:ext cx="525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يصفح بعض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عن بعضٍ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كما صفحَ اللهُ عن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فـي الـمسيح.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ذهَبْ وصالِحْ أخاكَ ثمَّ عُدْ وقرِّبْ قربانَك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3:44Z</dcterms:created>
  <dc:creator>Charbel Azar</dc:creator>
  <dc:description/>
  <dc:language>en-US</dc:language>
  <cp:lastModifiedBy>Charbel Azar</cp:lastModifiedBy>
  <dcterms:modified xsi:type="dcterms:W3CDTF">2006-03-07T21:42:12Z</dcterms:modified>
  <cp:revision>11</cp:revision>
  <dc:subject/>
  <dc:title>PowerPoint Presentation</dc:title>
</cp:coreProperties>
</file>