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D49-0D45-4A62-A99D-5707089F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CFC-F1CE-4B3D-BA3A-CB577EDD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8E8-A3E7-4635-A29F-0A89EC0D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61D-3E64-49C3-A956-4CEB91D3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328-B571-4C87-93AE-609041C2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FE6-4038-4518-B3E5-1AA4F1A1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F65-8EE9-49F9-A450-7AE7DED0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46C-16DB-43E8-9E16-756CB2F0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A99-116A-4653-8C24-350DF1BE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C52-97F7-4040-B045-43C9C0F1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4D4-512E-4222-8894-F11E512E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A8A-7CB9-4A80-B251-558B9B1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80DC-0BF2-4C83-8C57-5BDC4FD0A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29983RCXWwpZVvi_ph" descr=""/>
          <p:cNvPicPr/>
          <p:nvPr/>
        </p:nvPicPr>
        <p:blipFill>
          <a:blip r:embed="rId2"/>
          <a:stretch/>
        </p:blipFill>
        <p:spPr>
          <a:xfrm>
            <a:off x="0" y="0"/>
            <a:ext cx="3867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361800"/>
            <a:ext cx="52578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َوكَّلنا على اللهِ وهوَ ملجانَا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َوكَّلنا على اللهِ لا نَخَافُ السُو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ُّ نجّانا من شَدائِدنا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نُقبِلْ إِلَيْهِ وَلْنَسمَعْ لَه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وتُ الَربِّ ناعِمٌ يدخُلُ في الأَعماقْ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َعْمُ الربِّ لَذيذٌ أشهى مِن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َسَلْ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ِيرُ الربِّ طَيّبٌ حِمْلُ الرَبِّ خَفيفْ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َلْبُ الربِّ وديعٌ طوبىَ لِمَنْ يَهواه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18:17Z</dcterms:created>
  <dc:creator>USER</dc:creator>
  <dc:description/>
  <dc:language>en-US</dc:language>
  <cp:lastModifiedBy>USER</cp:lastModifiedBy>
  <dcterms:modified xsi:type="dcterms:W3CDTF">2002-10-30T16:20:03Z</dcterms:modified>
  <cp:revision>2</cp:revision>
  <dc:subject/>
  <dc:title>PowerPoint Presentation</dc:title>
</cp:coreProperties>
</file>