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805-9BF2-4ABF-8420-6EA26550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EEF-5E80-4B93-828D-AE146742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D7D-84B6-4B17-8671-FDE3376D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230-8833-4A50-A34D-88C27228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181-C284-49CD-880B-29EB3E16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D1F-C3A2-40B3-ABED-FCAEC9A2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054-B6EA-4675-9B6A-6C9212E7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F42-4C65-43F3-A506-74965AC6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841-B604-41E8-A0C2-D2E9B329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BC2-F14A-48F2-BDDD-529FA80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856-A99E-467C-A53F-1ED497C4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F4F-1601-4190-BEDB-94939B5A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8DA8-CB1C-4451-9CA5-9BFDE47142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565000"/>
            <a:ext cx="9144000" cy="148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20000"/>
              </a:lnSpc>
              <a:spcBef>
                <a:spcPts val="3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Arial"/>
                <a:cs typeface="????Boutros Rokaa"/>
              </a:rPr>
              <a:t>أعطنا ربِّ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لأْلأَتْ كُلُّ هَضْبَةٍ فَوْقَ لُبْنَان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ُصَلِّي، وَهَامَ كُلُّ فَضَاء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تَسَامَى مَجَامِرا جَبَلُ الأَطْياب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َافْتَحْ، يَا رَبِّ، بَابَ السَّمَاء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َبِّ رُدَّ الأَهْوَالَ أَقْبَلْنَ يَضْرِبْن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َجُدْ لاتَ مَا خَلاكَ يَجُودُ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َبِّ، جَلَّتْ يُمْنَاكَ لا تَعْرِفُ القَبْض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فَمَنْ مِنْكَ، رَبِّ لا يَسْتَزِيدُ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َمَا غَـبَّتِ الْحَسَاسِينُ مِنْ م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رَنَتْ حُلْوَةً إِلَيْكَ بشُكْر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تعَالَتْ إِلَيْكَ فِي لَفْتَةِ الصُّبْح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صَلاةً مِنْ زَقْزَقَاتٍ وَزَهْرِ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ُمِّعَتْ، رَبِّيَ، الْخَلِيقَةُ فِي صَوْت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ُنَاجِي، وَسَبَّحَتْ تَتَغَنَّ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تَمَلَّتْ، فِي رِفْعَةِ الرَّأْسِ وَالطَّرْف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ُثـُوّاً مِنْ رُكْبَتَيْنِ وَوَهْ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أَنَا أَسْتَجِيرُ بالرَّحْمَةِ الأُولَ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نُورِ الأَنْوَارِ، بالْيُنْبُوع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تَقَبَّلْ، رَبِّي، قَرَابينَ حُبّ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رَجَاءٍ، وَذِلَّةٍ، وَدُمُوع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ْطِنَا، رَبِّ، قَبْلَ كُلِّ عَطَاء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نْ نَحُطَّ الْتِفَاتَةً فِي سَن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ُلُّ مَا دُونَ وَجْهِكَ الْجَمِّ وَهْم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عْطِنَا، رَبِّ، أَعْطِنَا أَنْ نَرَا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تَرأَّفْ يَا أيُّهَا السَّعَةُ الكُبْر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َرَأَّفْ باللاّئِذِ الْمُحْتَاج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َانْصُرِ الْقَابسِينَ مِنْ فَيْضِكَ النُّور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إِلَى الْكَوْكَبِ الضَّلُولِ الدَّاجِ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9:04:28Z</dcterms:created>
  <dc:creator>Charbel Azar</dc:creator>
  <dc:description/>
  <dc:language>en-US</dc:language>
  <cp:lastModifiedBy>ف</cp:lastModifiedBy>
  <dcterms:modified xsi:type="dcterms:W3CDTF">2006-09-13T18:08:42Z</dcterms:modified>
  <cp:revision>10</cp:revision>
  <dc:subject/>
  <dc:title>Slide 1</dc:title>
</cp:coreProperties>
</file>