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95C-F38F-44E6-BC8A-C3D085EF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678-5E6B-4D8A-A40E-1457C13D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657-D8FB-46C9-B31B-5CBF4176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D22-ACB4-4679-B9CE-8A85E3F3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44F-388B-4F3A-BF38-DAFDCCA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0D8-8246-4DAC-B70E-8CEFA844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30A-9336-451E-A4DA-35BDA5C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560-912F-482A-A090-18EACD2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7AB-3999-46F4-95AC-C3BF7C27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76B-F8E1-4606-9846-21CAD69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A83-006D-40BF-A199-64D62B7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4D0-3FE6-4103-BCA5-224CFC9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F23-A9A4-44E3-BCBE-0BDE55BBA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18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1219320"/>
            <a:ext cx="464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 الربُّ إلي؟ فيَجْبُرَ قلبي الكس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ثم يُكَفكِفُ الدموعْ عن وجهِ ذا الخاطي الكبير؟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10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ُ الفادي المسيحْ إلى مَن روحُهُ جريح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ْ مَن يُقَوِّم الكسيحْ ويُنعشُ المَيتَ الطريحْ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85800"/>
            <a:ext cx="4572000" cy="74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يُنِقذُ الربُّ الشعوبْ ويَفتَديها مِن ذُنو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مِن نَجاةٍ في الصليبْ تَحمي البَعيدَ والقَري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29718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لا أتى الروحُ القُدُسْ مُقَدِّساً ذا الجَسَدَ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ع ضَعفهِ وإثمهِ بهِ يحلُّ لِلمدى؟</a:t>
            </a:r>
            <a:r>
              <a:rPr b="0" lang="ar-SA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24:23Z</dcterms:created>
  <dc:creator>SUZANNE.MD</dc:creator>
  <dc:description/>
  <dc:language>en-US</dc:language>
  <cp:lastModifiedBy>HANI SAFI</cp:lastModifiedBy>
  <dcterms:modified xsi:type="dcterms:W3CDTF">2003-03-17T14:27:39Z</dcterms:modified>
  <cp:revision>2</cp:revision>
  <dc:subject/>
  <dc:title>PowerPoint Presentation</dc:title>
</cp:coreProperties>
</file>