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1463-04B2-4A0A-B21A-1469DF25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C996-EB6B-497D-BFB9-0340F48E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1A8A-7B93-4825-8759-D951C91A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2583-D2EB-4081-A722-9665195E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E552-B53C-4EC8-BDE7-932F57F3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D398-A412-4EDC-B9BB-FA056F2A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1E7F-BE93-499C-8617-7B220EE4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06A9-EAD6-476F-A2E7-83784D44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B78-D4C3-44DC-80D1-21DD5E35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B6A8-C74F-40AF-AE01-58BDEAF9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CFA5-FBDD-41A8-ABDE-58BF279A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42A7-F619-4B72-97C5-F89DAB18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82B7-E513-4979-8C75-9A125C496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876920"/>
            <a:ext cx="615636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ff"/>
                </a:solidFill>
                <a:latin typeface="Tahoma"/>
                <a:cs typeface="????Boutros Rokaa"/>
              </a:rPr>
              <a:t>أنا ندمان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57080" y="27000"/>
            <a:ext cx="5651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مبارح كنت لحال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متل الغصن اليابس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ما عم بسأل عنَّك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وهلّق صرت قبال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وقلبي نورَك لابس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تركني قرِّب منَّك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2000" y="0"/>
            <a:ext cx="5651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أنا إنسان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اعطيني حبَّك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أنا ندمان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احميني بدارَك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أنا إنسان أنا ندمان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ما تحرمني منَّ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40000" y="0"/>
            <a:ext cx="5003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ff"/>
                </a:solidFill>
                <a:latin typeface="Arial"/>
                <a:cs typeface="Akhbar MT"/>
              </a:rPr>
              <a:t>أنا موجوع</a:t>
            </a:r>
            <a:br>
              <a:rPr sz="7200"/>
            </a:br>
            <a:r>
              <a:rPr b="1" lang="hi-IN" sz="7200" spc="-1" strike="noStrike">
                <a:solidFill>
                  <a:srgbClr val="ffffff"/>
                </a:solidFill>
                <a:latin typeface="Arial"/>
                <a:cs typeface="Akhbar MT"/>
              </a:rPr>
              <a:t>صرلي سنين</a:t>
            </a:r>
            <a:br>
              <a:rPr sz="7200"/>
            </a:br>
            <a:r>
              <a:rPr b="1" lang="hi-IN" sz="7200" spc="-1" strike="noStrike">
                <a:solidFill>
                  <a:srgbClr val="ffffff"/>
                </a:solidFill>
                <a:latin typeface="Arial"/>
                <a:cs typeface="Akhbar MT"/>
              </a:rPr>
              <a:t>غرقان بليل الكذبي عذاب دموع</a:t>
            </a:r>
            <a:br>
              <a:rPr sz="7200"/>
            </a:br>
            <a:r>
              <a:rPr b="1" lang="hi-IN" sz="7200" spc="-1" strike="noStrike">
                <a:solidFill>
                  <a:srgbClr val="ffffff"/>
                </a:solidFill>
                <a:latin typeface="Arial"/>
                <a:cs typeface="Akhbar MT"/>
              </a:rPr>
              <a:t>وغيرَك مين</a:t>
            </a:r>
            <a:br>
              <a:rPr sz="7200"/>
            </a:br>
            <a:r>
              <a:rPr b="1" lang="hi-IN" sz="7200" spc="-1" strike="noStrike">
                <a:solidFill>
                  <a:srgbClr val="ffffff"/>
                </a:solidFill>
                <a:latin typeface="Arial"/>
                <a:cs typeface="Akhbar MT"/>
              </a:rPr>
              <a:t>قادر يشفي يا ربّي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92000" y="0"/>
            <a:ext cx="5651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أنا بردان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اعطيني نارَك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أنا هربان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احميني بدارَك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أنا إنسان أنا ندمان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ما تحرمني منَّ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2:00:33Z</dcterms:created>
  <dc:creator>-</dc:creator>
  <dc:description/>
  <dc:language>en-US</dc:language>
  <cp:lastModifiedBy>-</cp:lastModifiedBy>
  <dcterms:modified xsi:type="dcterms:W3CDTF">2003-01-17T09:31:22Z</dcterms:modified>
  <cp:revision>5</cp:revision>
  <dc:subject/>
  <dc:title>Slide 1</dc:title>
</cp:coreProperties>
</file>