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441-3FB3-43BF-8338-23FF6509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5DD-3057-4763-B1F5-475905FE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DE9-481F-4A8A-8B6C-5B0DC5DF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F34-46B3-449B-9809-D4219FC9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232-4063-4D67-9055-95469388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241-AA42-438E-9E64-3E041CEC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822-7AC3-4F64-9852-852C3DEA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BB0-6092-4393-B833-228B8F83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944-8EE7-4414-A3FC-8BFFBAAF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3D4-EF4C-4117-86C3-9BD84848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050-5741-4BCD-B030-54229699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6A3-0F10-456A-8EBB-5926AAB6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A477-E3CC-428B-98AC-C03DE7E9900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2060640"/>
            <a:ext cx="6477120" cy="48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لى الله صوتي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لهِ صَوْتِ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أَصْرُخُ إِلَى اللهِ صَوْتِ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يَصِيخُ لِي..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َدِي في اللَّيْلِ انْبَسَطَتْ وَلَمْ تَكِلّ.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َدْ أَبَتْ نَفْسِي أَنْ تَتَعَزَّى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ذْكُرُ الْمَاضِي فَأَقْلَق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َأَمَّلُ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يُغْشَى عَلَى رُوحِي..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76320"/>
            <a:ext cx="9144000" cy="135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كَّرْتُ فِي الأَيَّامِ القَدِيمَةِ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ِي السِّنِينِ الدَّهْرِيَّة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ذْكُرُ تَرْنِيمِي فِي اللَّيْل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َأَمَّلُ بقَلْبي وَرُوحِي يَبْحَثُ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َدَى الدُّهُورِ يُقْصِي السَّيِّدُ؟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َلا يَعُودُ يَرْضَى مِنْ بَعْد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عَلَى الدَّوَامِ انْقَضَتْ رَحْمَتُهُ،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َانْقَطَعَتْ كَلِمَتُهُ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ِلِى جِيلٍ فَجِيل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ُرَى نَسِيَ الله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ْ حَبَسَ عَلى الغَضَبِ أَحَشَاءَهُ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6:55:47Z</dcterms:created>
  <dc:creator>-</dc:creator>
  <dc:description/>
  <dc:language>en-US</dc:language>
  <cp:lastModifiedBy>-</cp:lastModifiedBy>
  <dcterms:modified xsi:type="dcterms:W3CDTF">2003-04-18T11:22:21Z</dcterms:modified>
  <cp:revision>3</cp:revision>
  <dc:subject/>
  <dc:title>Slide 1</dc:title>
</cp:coreProperties>
</file>