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557-4415-410D-9F62-23F60C10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EF3-0BEA-43FD-8E75-29521DD8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552-9AFC-4AF2-A680-ED3C9F72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88F-1C7B-4DF1-AF5A-D70C61E4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259-6AC5-4B6F-BCDD-395905DD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1DA-8D48-4AA6-B390-0D2AEE7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A48-80B9-455F-A178-1A23332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53A-9B76-4EC1-A555-80DB9D1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52A-07FB-4FBE-94B4-8D5BCCAD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42F-20DA-461D-84F9-7EF2F4A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D6C-17DD-4E53-969A-3D04D47B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E8F-2438-402C-B7D9-C6A77835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F62-969C-4505-A8CC-824A941FB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429000" cy="9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غنّوا يـا أبنـاءَ اللهِ</a:t>
            </a:r>
            <a:r>
              <a:rPr b="1" lang="en-US" sz="42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يسـوع المسيح قـ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لبَ الموتَ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لكُ الكون زال سلطانُ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ظل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بنُ اللـهِ رب الحيـاةِ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حيٌّ الى دهرِ الدهـــو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ن النـورِ الذي لا يغرُب تعالَوا وخذوا النو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738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505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امَ الربُ وطىءَ الموتَ إِفرحــي أورشليـم       كلُّ شيءٍ صار جديداً قدّ تبدَل القديم            اللهً حيٌّ بين شعبهِ جعل مسكنه معهم لا أحزان لا أوجاعَ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دموع بعـد الي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89284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04920"/>
            <a:ext cx="40384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دُ اللـه قد تحقق تم قول الأنبيـاء   كنّا من قبل أمواتاً فصِرنا الآن أحياء قمنا مَعَهُ سنملك معهُ ليس لملكِه انقض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هُ سنحيا الى الابد 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ن يطالنـــا  الفنـ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543800" cy="73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886200" cy="11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شعب الله إرفع رأسك إنّ إلهك عظيم             أين شوكتك يا موتُ وغلبتك يا جحيم موتُ الربِ صار حياةً أضحى نصرُنا  أكيد هيّا نفرَح ونهلّـل </a:t>
            </a: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هلَ الملكوت الجديــد</a:t>
            </a:r>
            <a:r>
              <a:rPr b="0" lang="ar-SA" sz="4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11:46Z</dcterms:created>
  <dc:creator>SUZANNE.MD</dc:creator>
  <dc:description/>
  <dc:language>en-US</dc:language>
  <cp:lastModifiedBy>HANI SAFI</cp:lastModifiedBy>
  <dcterms:modified xsi:type="dcterms:W3CDTF">2003-04-16T13:55:35Z</dcterms:modified>
  <cp:revision>2</cp:revision>
  <dc:subject/>
  <dc:title>PowerPoint Presentation</dc:title>
</cp:coreProperties>
</file>