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C4D9-C0B2-4481-9C76-82C984821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16BE-9B7D-4FA9-8000-883A8AED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C817-6614-4615-BED1-F2C86D995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A560-07B8-4A8D-A113-E147D8E26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6F8B-B1C6-48BA-A7CD-ED61D145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D657-3E01-492B-AA9D-FD9EDCCD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D409-8BA5-4486-A529-6AC671B1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46F1-2205-4D57-935A-512BA81A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C710-8E24-4415-96BE-17C0E6F0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D826-05AD-433B-ACEA-3A6D43BB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B495-C381-45BC-8149-26BFAB4B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0DAD-CA07-4D51-897A-5D5E9DE7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D518-77E9-445E-BFBA-08D4F9B9BA5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59280" y="3357720"/>
            <a:ext cx="428472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0" lang="ar-SA" sz="7200" spc="-1" strike="noStrike">
                <a:solidFill>
                  <a:srgbClr val="000000"/>
                </a:solidFill>
                <a:latin typeface="Tahoma"/>
                <a:cs typeface="????Boutros Rokaa"/>
              </a:rPr>
              <a:t>خبز  وخمر  وم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7" name=""/>
          <p:cNvSpPr/>
          <p:nvPr/>
        </p:nvSpPr>
        <p:spPr>
          <a:xfrm>
            <a:off x="0" y="184464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خبز وخمر ومي إيما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بن الله الحيّ قربا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140360" y="1844640"/>
            <a:ext cx="500364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محبّي عم بيدوب عم يِروي القلو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من سِرُّو المحبوب حبّو رَوَّا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60" name=""/>
          <p:cNvSpPr/>
          <p:nvPr/>
        </p:nvSpPr>
        <p:spPr>
          <a:xfrm>
            <a:off x="0" y="198900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نعمه لِلكلّ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جسم ودِما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َ الارض بتضلّ عُربون السما</a:t>
            </a:r>
            <a:r>
              <a:rPr b="1" lang="ar-SA" sz="90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06200" y="1903320"/>
            <a:ext cx="903780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ربّي يسوع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صَوبَك دَربي طْلوع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عم بعْطَش وبْجُوع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عطيني القربا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63" name=""/>
          <p:cNvSpPr/>
          <p:nvPr/>
        </p:nvSpPr>
        <p:spPr>
          <a:xfrm>
            <a:off x="0" y="184464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خبز وخمر ومي إيما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بن الله الحيّ قربا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140360" y="1844640"/>
            <a:ext cx="500364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محبّي عم بيدوب عم يِروي القلو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من سِرُّو المحبوب حبّو رَوَّا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4" name=""/>
          <p:cNvSpPr/>
          <p:nvPr/>
        </p:nvSpPr>
        <p:spPr>
          <a:xfrm>
            <a:off x="0" y="184464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خبز وخمر ومي إيما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بن الله الحيّ قربا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140360" y="1844640"/>
            <a:ext cx="500364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محبّي عم بيدوب عم يِروي القلو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من سِرُّو المحبوب حبّو رَوَّا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20760"/>
            <a:ext cx="914400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00"/>
                </a:solidFill>
                <a:latin typeface="Tahoma"/>
                <a:cs typeface="Akhbar MT"/>
              </a:rPr>
              <a:t>يا سنابل وسهول تبقي ملياني يا بيادر وحقول تبقي حِليان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52640"/>
            <a:ext cx="914400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ا مطاحن بتدور بتْطَعمي المعمور خبز ونار ونور أطيب قربا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9" name=""/>
          <p:cNvSpPr/>
          <p:nvPr/>
        </p:nvSpPr>
        <p:spPr>
          <a:xfrm>
            <a:off x="0" y="184464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خبز وخمر ومي إيما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بن الله الحيّ قربا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140360" y="1844640"/>
            <a:ext cx="500364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محبّي عم بيدوب عم يِروي القلو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من سِرُّو المحبوب حبّو رَوَّا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2" name=""/>
          <p:cNvSpPr/>
          <p:nvPr/>
        </p:nvSpPr>
        <p:spPr>
          <a:xfrm>
            <a:off x="179280" y="536400"/>
            <a:ext cx="5545080" cy="282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00"/>
                </a:solidFill>
                <a:latin typeface="Tahoma"/>
                <a:cs typeface="Akhbar MT"/>
              </a:rPr>
              <a:t>يا عْناقيد النور بكروم الدني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1826280" y="0"/>
            <a:ext cx="9932760" cy="367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00"/>
                </a:solidFill>
                <a:latin typeface="Tahoma"/>
                <a:cs typeface="Akhbar MT"/>
              </a:rPr>
              <a:t>يا مواسِم ودهور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00"/>
                </a:solidFill>
                <a:latin typeface="Tahoma"/>
                <a:cs typeface="Akhbar MT"/>
              </a:rPr>
              <a:t>فيك بتغتني 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5" name=""/>
          <p:cNvSpPr/>
          <p:nvPr/>
        </p:nvSpPr>
        <p:spPr>
          <a:xfrm>
            <a:off x="0" y="1916280"/>
            <a:ext cx="493236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معصرة الدار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سرّ الأسرار خمر ونور ونار كاسة قرباني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5:08Z</dcterms:created>
  <dc:creator>Charbel Azar</dc:creator>
  <dc:description/>
  <dc:language>en-US</dc:language>
  <cp:lastModifiedBy>-</cp:lastModifiedBy>
  <dcterms:modified xsi:type="dcterms:W3CDTF">2003-01-19T17:17:20Z</dcterms:modified>
  <cp:revision>16</cp:revision>
  <dc:subject/>
  <dc:title>PowerPoint Presentation</dc:title>
</cp:coreProperties>
</file>