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4AC9-6020-476D-BB6E-A9C44988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34F-80A1-4E1A-89D7-738CE072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729-1BC6-4899-9A68-A8C1E9AB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F290-7127-4146-9B7B-F869DAD2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CA9C-4358-4125-8053-189EE1C0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1A1-885A-40F1-A606-97E4035E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ACE-60FA-40C2-B56E-98DCB2BE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509-48FA-478C-8123-4E40F4D0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C5B6-CF49-458B-92FC-FB4B3CA5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1BE-1415-4B03-8BBF-81098D99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BEB7-BB21-40F3-88E2-F36D2514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663-BCC4-4BCE-B56D-83503455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E2B5-41D6-49CE-B3F5-C68A21792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M50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75120" y="457200"/>
            <a:ext cx="779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ع كل السـماوات              تنـشـد مجــد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ع كل ســحابة               تنشــر لطفــ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ع كل الـنـيرات               ترفـع ســبح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           مع كل المخلوق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7640" y="57913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سـأهتف إلهي  يا ما أجمـلـ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عظم اسمك في الأرض كله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لهي ياما أجملك ما أعظم اسمك  ما أبهاك في خلائق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101218" descr=""/>
          <p:cNvPicPr/>
          <p:nvPr/>
        </p:nvPicPr>
        <p:blipFill>
          <a:blip r:embed="rId1"/>
          <a:stretch/>
        </p:blipFill>
        <p:spPr>
          <a:xfrm>
            <a:off x="0" y="-219240"/>
            <a:ext cx="9144000" cy="7077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908840" y="583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598400" y="5913360"/>
            <a:ext cx="1169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سـأهتف إلهي  يا ما أجمـلـ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عظم اسمك في الأرض كله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لهي يا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جملك ما أعظم اسمك  ما أبهاك في خلائق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480" y="838080"/>
            <a:ext cx="9303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سهول والجبال             مع كل الرياحيـ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من أعلى التـلال              مع همسة النس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ع نغمة الشـلال               وطهر الياسـم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مع زهـر البسا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ي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U152" descr=""/>
          <p:cNvPicPr/>
          <p:nvPr/>
        </p:nvPicPr>
        <p:blipFill>
          <a:blip r:embed="rId1"/>
          <a:stretch/>
        </p:blipFill>
        <p:spPr>
          <a:xfrm>
            <a:off x="0" y="-298440"/>
            <a:ext cx="9144000" cy="7156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43000" y="48164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55960" y="552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276200" y="5715000"/>
            <a:ext cx="1169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سـأهتف إلهي  يا ما أجمـلـ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عظم اسمك في الأرض كله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لهي يا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جملك ما أعظم اسمك  ما أبهاك في خلائق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6560" y="2590920"/>
            <a:ext cx="1015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ع مياه البحــار  وامـتـداد المحيط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ع خرير الأنهـ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نسكاب الينابـي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ع كـرم الأمطار والثـلج والجـلي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كـلهـيـب نــا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7681351fPakcuKDUb_ph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ع كـل كيــان  ينبـض بالحيـا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ع عصفور الجنائن  يغنـي للسـم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ع كـل إنســانٍ يشـع بالرجـا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   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بصــرخة حنـان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7913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سـأهتف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 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لهي 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يا ما أجمـلـ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عظم اسمك في الأرض كله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لهي يا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جملك ما أعظم اسم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ما أبهاك في خلائقك</a:t>
            </a:r>
            <a:r>
              <a:rPr b="1" lang="en-US" sz="32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02:10Z</dcterms:created>
  <dc:creator>USER</dc:creator>
  <dc:description/>
  <dc:language>en-US</dc:language>
  <cp:lastModifiedBy>USER</cp:lastModifiedBy>
  <dcterms:modified xsi:type="dcterms:W3CDTF">2002-10-30T16:09:04Z</dcterms:modified>
  <cp:revision>3</cp:revision>
  <dc:subject/>
  <dc:title>PowerPoint Presentation</dc:title>
</cp:coreProperties>
</file>