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F1A-4034-42A6-874B-5FBCFBE3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D4B-3E54-4DE0-BA53-BBD58A3E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764-A032-42DF-AADD-A5E3484D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724-1743-4539-A3A5-DE948821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308-2E93-4564-B9FA-7541D94B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3B1-6471-4193-8865-7A6987A7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DA1F-036B-46A1-AFE9-8C099997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4C3-DADD-48A7-91EB-B3AC6F1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1759-7A4B-4FAB-8F6C-CDDD76E3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0339-CD7C-4156-894C-A09EA6A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9B6D-7B99-43AC-93D5-C762427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C59-C4F5-4A4F-9421-B705779A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4A75-8C72-4162-B482-41E8DB4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E456-6765-4AC9-9533-E19C271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4A25-4BB0-4357-AA9B-BD56CAB0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96B2-EECB-4FA7-BF5B-D3BB5A1C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5D29-1E59-4F66-B3D2-A74A67E4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0D5-8585-4DC7-8813-D26FF173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008-87AD-4832-A078-800728E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5A3-22F7-449E-B403-5D5D841B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782-4D68-4980-BB00-2813283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D09-5716-4577-AC67-87137DA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C4F-E4C1-4D05-B883-4808A16F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961-A31E-4D2F-AD56-7BC90C7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980E-1F71-4DA6-8A4E-42E290FF27E2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2AB-56D9-41D6-8AD9-0181B925A726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43200" y="17971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 u="sng">
                <a:solidFill>
                  <a:srgbClr val="000000"/>
                </a:solidFill>
                <a:uFillTx/>
                <a:latin typeface="Times New Roman"/>
                <a:cs typeface="AF_Diwani"/>
              </a:rPr>
              <a:t>نشيد المناولة:</a:t>
            </a:r>
            <a:br>
              <a:rPr sz="10600"/>
            </a:br>
            <a:br>
              <a:rPr sz="96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Tahoma"/>
              </a:rPr>
              <a:t>من ذا الذ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-387360"/>
            <a:ext cx="403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3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0" spc="-1" strike="noStrike">
                <a:solidFill>
                  <a:srgbClr val="000000"/>
                </a:solidFill>
                <a:latin typeface="Monotype Corsiva"/>
                <a:cs typeface="Wasit4 Outline Reverse"/>
              </a:rPr>
              <a:t>؟</a:t>
            </a:r>
            <a:endParaRPr b="0" lang="en-US" sz="6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98900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ل أخافُ الليلَ والبدرُ رق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م أداوي اليأسَ والحبُّ طبيبْ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221000"/>
            <a:ext cx="9144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ُرسَلٌ أنا ضاحكُ الـمُنى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581360"/>
            <a:ext cx="914400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يدي في غدي تُنبـِعُ السَنا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أَقطُفُ الورودْ من رُبى الخلودْ وأجودْ باله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963800"/>
            <a:ext cx="5003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طمحي القمم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قحمُ الألم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فمي ود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َفتدي الأُمم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60640"/>
            <a:ext cx="493236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عزمتي وثابةٌ نحو العلى تستقي الارزاءَ منها للمل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060640"/>
            <a:ext cx="46432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إن دعا الحب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حملُ الصل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أجيبْ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ها أن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0400" y="191628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فصلني عن حُبِّ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من ذا الذ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يُبعدني عن دَر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-60480"/>
            <a:ext cx="6804000" cy="71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َسَيفُ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شِدة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أم خَطرْ؟ ل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لا حياةْ لا مماتْ لا بش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2:52Z</dcterms:created>
  <dc:creator>Charbel Azar</dc:creator>
  <dc:description/>
  <dc:language>en-US</dc:language>
  <cp:lastModifiedBy>ف</cp:lastModifiedBy>
  <dcterms:modified xsi:type="dcterms:W3CDTF">2006-05-02T12:40:25Z</dcterms:modified>
  <cp:revision>11</cp:revision>
  <dc:subject/>
  <dc:title>PowerPoint Presentation</dc:title>
</cp:coreProperties>
</file>