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3811-E40B-4A09-870C-417FBD75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22F2-2418-4946-8E3D-B4FAB41C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B81-04E7-4E92-B941-1E1A7D7D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3DE3-A9E9-49E6-AE3B-C721D4C5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760-5394-4B9E-8E94-EE41E759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590-14D4-4BDA-8B85-ED5E642D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539-2CD4-447D-8B9E-D8D776FC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F20-9E9C-400A-9956-C8C69132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BF5-E645-44DE-AEA1-B9954E70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A4B-C3ED-4650-8BA8-180B0958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50B5-ECAB-4FEE-B28C-3D64406F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5DD-452B-4CA8-88ED-C47750B9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024F-39FF-4F90-B19A-D141ACC95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287866lcpLYmOAJ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238880" y="457200"/>
            <a:ext cx="16002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abic Transparent"/>
              </a:rPr>
              <a:t>كما يشتاقُ الأيّل إلى مجاري الميا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57200"/>
            <a:ext cx="182880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كذا نفسي تشتاق إليك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ر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1287869xQRiyRyaRq_ph" descr=""/>
          <p:cNvPicPr/>
          <p:nvPr/>
        </p:nvPicPr>
        <p:blipFill>
          <a:blip r:embed="rId1"/>
          <a:stretch/>
        </p:blipFill>
        <p:spPr>
          <a:xfrm>
            <a:off x="0" y="0"/>
            <a:ext cx="60548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48520" y="457200"/>
            <a:ext cx="2895480" cy="83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ظمئت نفسي إلى الله الح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متى آتي وأَحضَُر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أمام الل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507793AQtFtoRTjq_ph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52920" y="149400"/>
            <a:ext cx="4562640" cy="9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د كان لي دمعي خبزاً نهاراً وليل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ين قيل لي كلَّ يوم أين إلهُ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ماذا تكتئبين يا نفس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سأعودُ أعترف له أنت خلاصُ وجهي وإله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1287866lcpLYmOAJ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238880" y="457200"/>
            <a:ext cx="16002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abic Transparent"/>
              </a:rPr>
              <a:t>كما يشتاقُ الأيّل إلى مجاري الميا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182880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كذا نفسي تشتاق إليك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ر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3385303cWwlWnYqMS_ph" descr=""/>
          <p:cNvPicPr/>
          <p:nvPr/>
        </p:nvPicPr>
        <p:blipFill>
          <a:blip r:embed="rId1"/>
          <a:stretch/>
        </p:blipFill>
        <p:spPr>
          <a:xfrm>
            <a:off x="4521240" y="0"/>
            <a:ext cx="9244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304920"/>
            <a:ext cx="380988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هار يأمرُ الربُ برحمت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في الليل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أ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شد  صلا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إله حيات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286622bSprOQQocd_ph" descr=""/>
          <p:cNvPicPr/>
          <p:nvPr/>
        </p:nvPicPr>
        <p:blipFill>
          <a:blip r:embed="rId1"/>
          <a:stretch/>
        </p:blipFill>
        <p:spPr>
          <a:xfrm>
            <a:off x="-2362320" y="-30492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867280" y="27000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53960"/>
            <a:ext cx="4572000" cy="80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قول له لماذا نسيتني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أنت صخرت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ذا تكتئبينَ يا نفس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سأعود أعترفُ له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ت خلاص وجهي وإله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1287866lcpLYmOAJ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238880" y="457200"/>
            <a:ext cx="16002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abic Transparent"/>
              </a:rPr>
              <a:t>كما يشتاقُ الأيّل إلى مجاري الميا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7200"/>
            <a:ext cx="182880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كذا نفسي تشتاق إليك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ر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9:18:05Z</dcterms:created>
  <dc:creator>SUZANNE.MD</dc:creator>
  <dc:description/>
  <dc:language>en-US</dc:language>
  <cp:lastModifiedBy>USER</cp:lastModifiedBy>
  <dcterms:modified xsi:type="dcterms:W3CDTF">2003-01-22T11:23:52Z</dcterms:modified>
  <cp:revision>3</cp:revision>
  <dc:subject/>
  <dc:title>PowerPoint Presentation</dc:title>
</cp:coreProperties>
</file>