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796C-BA3D-4A0D-824B-F49C38F9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E61-4845-4D0E-A50B-0084AF39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60E-1673-4E95-8BD3-9A5D2248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DA8-373E-44CD-BAB0-4FA83715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00C1-9CA7-4D55-8B1B-D7F8D2CE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27F4-FA2C-4A67-B39D-5AA388C5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D33A-9F6B-4C62-8A1A-8BD57015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7476-1C16-46B9-B45E-0F74D4A0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3066-8618-4F85-8A04-DA16214F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B9E8-5CDF-45E5-ABF7-7F269730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0A28-3B1E-4535-810E-814E7E2D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6243-98CE-408D-8C75-37905665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E0D5-7FE5-49BA-8DC9-BE8B38EF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B107-3746-4CAA-A4B7-A5802332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1B20-C9EA-4229-9350-57EA4F45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A4A7-2AF9-4959-A5BD-6EF7E5AA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A2C0-A0E7-4A89-81CC-BE0F3848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451-8FD4-4D52-9FA5-F0AB58E6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07B-F550-4199-B9D5-4B24716A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CCC-BBA6-4B57-AB1D-FB96253B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9097-106A-4147-BF49-2E2C536D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CADE-EA55-46B7-B3E1-EE38D2B2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0E3-F696-4FBF-8043-9A52D963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7C5-F652-4C6F-B002-2005AC1A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A822-A422-460B-BE0D-67A0884A0EE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3F16-1912-4BF1-A111-0F5173BF8FD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586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900"/>
            </a:br>
            <a:r>
              <a:rPr b="0" lang="ar-SA" sz="18900" spc="-1" strike="noStrike">
                <a:solidFill>
                  <a:srgbClr val="ffffff"/>
                </a:solidFill>
                <a:latin typeface="Times New Roman"/>
                <a:cs typeface="????Boutros Rokaa"/>
              </a:rPr>
              <a:t>أومن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380880"/>
            <a:ext cx="9144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cc00"/>
                </a:solidFill>
                <a:latin typeface="Tahoma"/>
                <a:cs typeface="Akhbar MT"/>
              </a:rPr>
              <a:t>أومن أن خلفَ الحبات الوادعات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cc00"/>
                </a:solidFill>
                <a:latin typeface="Tahoma"/>
                <a:cs typeface="Akhbar MT"/>
              </a:rPr>
              <a:t>تزهو جنات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380880"/>
            <a:ext cx="861048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ليل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عاتي الأمواج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علو سراج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0" y="1981080"/>
            <a:ext cx="4572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أومن أنّ القلبَ الـملقى فـي الأحزان يلقى الحنا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19240"/>
            <a:ext cx="380988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كلّي إيمان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يمان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04804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ريح الهوجاءِ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شفا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تتلو الصلا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124080" y="181944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ْ في صمتِ الكونِ الـمقفلِ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ن يصغي ل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0"/>
            <a:ext cx="7620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نّي إذ ترنو عيناي</a:t>
            </a:r>
            <a:r>
              <a:rPr b="1" lang="ar-LB" sz="82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لسماء تصفو الأضواء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تعلو الألحا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19240"/>
            <a:ext cx="380988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كلّي إيمان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يمان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29:56Z</dcterms:created>
  <dc:creator>Charbel Azar</dc:creator>
  <dc:description/>
  <dc:language>en-US</dc:language>
  <cp:lastModifiedBy>-</cp:lastModifiedBy>
  <dcterms:modified xsi:type="dcterms:W3CDTF">2002-12-21T12:21:34Z</dcterms:modified>
  <cp:revision>6</cp:revision>
  <dc:subject/>
  <dc:title>PowerPoint Presentation</dc:title>
</cp:coreProperties>
</file>