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C2F-FDCB-4BD4-BE14-27645142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A41-28BF-4DEB-B7B1-E2150B75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8BF-723E-43DC-A02F-D7984CED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907-2DDB-4734-9E98-16614BE7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C51-0214-40B9-9BC7-36C3DDBE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2C1-B521-4B22-9669-292A2828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E24-AB56-466E-98D0-0C4281D4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D95-0BBD-450B-A58E-23CADECC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AA2-A66D-4174-A3F5-900545F5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CD2-53A4-4204-B3B3-4A0CBB9E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AE8-0B08-4FCE-ABF8-594F5B65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F7C-E9DB-49D7-AF24-8D5D816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D22A-456C-46D4-B15E-47395B6B8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u09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0"/>
            <a:ext cx="3962520" cy="10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أدخل عرش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بالبر أنظر وجه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صارت حياتي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سكيباً من أجل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صرتَ ليَ وأن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اتي هناك طوع أمر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683545zjAStOanhQ_ph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05520" y="0"/>
            <a:ext cx="4038480" cy="10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أنسى ذاتي والأ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غدو دوماً خاضعاً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ما صارت حيات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ـكيبـاً مـن أجل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قد صرتَ ليَ وأنا ل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أعبدك أعبدك</a:t>
            </a:r>
            <a:r>
              <a:rPr b="1" lang="ar-SA" sz="36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ياتي هناك طوع  أمر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2-17T14:38:09Z</dcterms:modified>
  <cp:revision>2</cp:revision>
  <dc:subject/>
  <dc:title>PowerPoint Presentation</dc:title>
</cp:coreProperties>
</file>