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A0B-0DC8-4EA5-802F-6A2E70E8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9EF-797B-420A-B21C-35A1DB9C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DC9-4F8D-4EE3-A5F6-C4E9F677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DCA-C60A-48CC-BDD8-E2583EE0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8D33-0106-49D8-A5B4-562BAA0F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9CA9-85AC-421F-84A8-BB36EF7E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D44F-1A26-4D8D-BDEF-884CAC5D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BE0-25A9-43EE-BF2E-D8A37156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59B3-46F0-47C1-A290-772ABECB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2878-2A38-4C2E-8745-E7F17206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0FD-4D73-45DE-8E78-5EA49477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FD3-A713-4EA4-A2E2-3A883471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89AB-FD38-4224-9CA4-BDFADB6F5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h07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44640" y="144360"/>
            <a:ext cx="4752720" cy="67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30000">
                <a:solidFill>
                  <a:srgbClr val="ff0000"/>
                </a:solidFill>
                <a:latin typeface="Arial"/>
                <a:ea typeface="Simplified Arabic Fixed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اتي لحظ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و ساعة تم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و يوم واحد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فر من ي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كي أحب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أرض ياا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عندي إلا اليو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08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04400" y="434880"/>
            <a:ext cx="50346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بك يسو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فسي اليك عطش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يوم واح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ن ملجأي الأ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جعلني عرش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زيني بابتسا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بي فقط هذا اليو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1080" y="228600"/>
            <a:ext cx="502992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هم ان بد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ستقبلي غيو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صلي للغ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ا لا لن استط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حفظ طهار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ظللني بالقداس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بي فقط هذا اليو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h0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h06" descr=""/>
          <p:cNvPicPr/>
          <p:nvPr/>
        </p:nvPicPr>
        <p:blipFill>
          <a:blip r:embed="rId2"/>
          <a:stretch/>
        </p:blipFill>
        <p:spPr>
          <a:xfrm>
            <a:off x="0" y="0"/>
            <a:ext cx="5040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47080" y="457200"/>
            <a:ext cx="5029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رجوك خلني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وجهك أضي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لا أصغي إ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صوت الدنيا العق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ب لي حنانك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نعمة الطفو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بي فقط هذا اليو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h12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48600" y="457200"/>
            <a:ext cx="5029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ظل عرش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خشى ما ليس أن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لا تخيفني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ياهب الظل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لا هيأت لي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ذاالقلب مكا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بي فقط هذا اليو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51:04Z</dcterms:created>
  <dc:creator>USER</dc:creator>
  <dc:description/>
  <dc:language>en-US</dc:language>
  <cp:lastModifiedBy>USER</cp:lastModifiedBy>
  <dcterms:modified xsi:type="dcterms:W3CDTF">2003-02-09T02:37:57Z</dcterms:modified>
  <cp:revision>2</cp:revision>
  <dc:subject/>
  <dc:title>PowerPoint Presentation</dc:title>
</cp:coreProperties>
</file>