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BCE-2993-47B3-86A8-93CC19AD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658-F3FB-4334-9A36-AE7514BE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595-4FF6-45D1-910A-736865D6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E03-0A4E-4F6E-8A19-74B1263E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B11-C474-47FC-ACB4-4C004F77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F14-F840-4838-B5E7-5D6483E1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CCE-6925-4E86-8808-A23AF2DA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C86-3509-475B-94E7-30B40398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2AA-CAC6-4FA3-A42F-F5C9FF11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CCD-85FC-40FD-B6C3-2C7028D2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391-6F57-43D4-960C-2B074F2A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A39-6A17-4D61-9BD0-F1C5CBCC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B4FB-44A6-4A4F-B471-9D202F8C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876920"/>
            <a:ext cx="615636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ا ندمان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57080" y="2700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بارح كنت لحا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تل الغصن الياب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ا عم بسأل عنَّك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هلّق صرت قبا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وقلبي نورَك لاب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تركني قرِّب منَّك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عطيني حبّ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حميني بد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 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ما تحرمني منَّ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40000" y="0"/>
            <a:ext cx="5003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أنا موجوع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صرلي سنين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غرقان بليل الكذبي عذاب دموع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وغيرَك مين</a:t>
            </a:r>
            <a:br>
              <a:rPr sz="7200"/>
            </a:br>
            <a:r>
              <a:rPr b="1" lang="hi-IN" sz="7200" spc="-1" strike="noStrike">
                <a:solidFill>
                  <a:srgbClr val="ffffff"/>
                </a:solidFill>
                <a:latin typeface="Arial"/>
                <a:cs typeface="Akhbar MT"/>
              </a:rPr>
              <a:t>قادر يشفي يا ربّي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برد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عطيني ن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هرب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احميني بدارَك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أنا إنسان أنا ندمان</a:t>
            </a:r>
            <a:br>
              <a:rPr sz="7200"/>
            </a:br>
            <a:r>
              <a:rPr b="1" lang="hi-IN" sz="7200" spc="-1" strike="noStrike">
                <a:solidFill>
                  <a:srgbClr val="000000"/>
                </a:solidFill>
                <a:latin typeface="Arial"/>
                <a:cs typeface="Akhbar MT"/>
              </a:rPr>
              <a:t>ما تحرمني منَّ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2:00:33Z</dcterms:created>
  <dc:creator>-</dc:creator>
  <dc:description/>
  <dc:language>en-US</dc:language>
  <cp:lastModifiedBy>-</cp:lastModifiedBy>
  <dcterms:modified xsi:type="dcterms:W3CDTF">2003-01-17T09:31:22Z</dcterms:modified>
  <cp:revision>5</cp:revision>
  <dc:subject/>
  <dc:title>Slide 1</dc:title>
</cp:coreProperties>
</file>