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C1E-95FD-45C5-B370-5B7BF488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DBD-6327-4EC4-9500-698CB45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F2B-0022-4C76-A7E8-EE8B6573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E61-7F12-4D03-8F04-D6D9648B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2956-E6B7-4209-B87C-81042EB5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5B2-5DC3-4F52-8748-AAA5F55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C415-842E-4F08-9395-D2C08D0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06C-0C17-4DAB-BA6B-9E18A69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2D0E-0548-466C-9578-B2CC9D3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9B56-7E8F-4D57-83F3-8B66BE9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36B4-367D-4017-B3A3-0FA8735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701-BF38-4920-9D98-89EF140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8682-8486-4F4A-98EC-F671539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116-6E29-477A-9AED-A316995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3F70-EABC-49D7-8665-2946FCB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A447-B018-4AC2-863B-BA96FCFE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0CE-D266-411E-9043-8363732C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CAB-2CFA-4005-9E23-7103134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773-67C8-41A5-A495-98A17B6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7FC-E52C-4C8A-AB25-FF34708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080-F34C-4DFF-99E4-4BD5959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6BF-9BC3-4D7F-93B9-881C601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0AA-6440-4D55-939D-6E7D0E3D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155-BB76-4BBD-9A7A-A051DA0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585-AEB2-4A5C-937E-E47B6F8F9C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35FA-CC53-4179-9ECF-645089A267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21000"/>
            <a:ext cx="6400800" cy="22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عرفت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جاني أنينُ اليتيم يضيعُ بصخبِ الحياة ولا من يج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28480"/>
            <a:ext cx="7391520" cy="18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رأيت عيونَ الشريدِ تتيهُ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4640"/>
            <a:ext cx="9144000" cy="259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شمسُ المحبةِ عنهُ تغيب</a:t>
            </a:r>
            <a:r>
              <a:rPr b="0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96252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شرِقْ عليَّ بأنوارِ وجهِك 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غبت عنِّي شردتُ بذاتي غرقتُ بحزني دهاني الضج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كنت فيَّ حييتُ فرحتُ نثرتُ الطيوبَ فرشتُ الزه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97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طيبُ الحياة تطيبُ بقربك 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250920" y="411480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نهبتُ الطريقَ أسائلُ عنكَ بحيرةِ ضعفي وأوهامي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42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سمعتُ الخليقةَ تُنشِدُ لحن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78640" y="4869000"/>
            <a:ext cx="11180880" cy="18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لقلبي فتنعشُ إيمانيَ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52280" y="434340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لَت لي الإقامةُ داخل بيتِك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250920" y="386064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8:33Z</dcterms:created>
  <dc:creator>Charbel Azar</dc:creator>
  <dc:description/>
  <dc:language>en-US</dc:language>
  <cp:lastModifiedBy>ف</cp:lastModifiedBy>
  <dcterms:modified xsi:type="dcterms:W3CDTF">2006-11-03T19:52:07Z</dcterms:modified>
  <cp:revision>12</cp:revision>
  <dc:subject/>
  <dc:title>PowerPoint Presentation</dc:title>
</cp:coreProperties>
</file>