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92C-93D3-4C85-B502-A904C98D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B90-C852-4337-A059-E8D1417D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C42-4108-43D0-BD13-6B585C8B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7AF-8BD0-4DDB-8662-34CD4D5E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4B0-F6B1-46D2-8894-EB9B2125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6B5-D7C4-4FE0-8B26-307D45A5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575-062F-4D71-8191-2D1B2986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03F-B88B-4A43-B80F-4E3EA855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F49-8B41-4DAE-BC71-F89B2128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2CE-46B2-4011-85BE-4FC9F150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B40-4F9A-414C-96E1-FA02AADC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29E-CFA1-4270-A4CD-83AD9B7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DBA7-8056-4E28-A519-59EE86DEB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174600"/>
            <a:ext cx="203184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 كل شيء تعطى كل شيء واحمل الصلي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تجد الراحة والهدو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لن يخ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ظنك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05720" y="174600"/>
            <a:ext cx="2031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ما أقمتَ أقيمُ أنا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ن يغ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جهي 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إني اخترتك لي عون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على يدعوكَ تعال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</a:t>
            </a: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361800"/>
            <a:ext cx="20080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نظرتُ في عينيكَ وأحببتكَ عرفتُ ما في قلبكَ 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أرضكَ العطشىَ للحبِ والسلام تصرخُ إليك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4:26:18Z</dcterms:created>
  <dc:creator>USER</dc:creator>
  <dc:description/>
  <dc:language>en-US</dc:language>
  <cp:lastModifiedBy>USER</cp:lastModifiedBy>
  <dcterms:modified xsi:type="dcterms:W3CDTF">2003-01-21T11:10:49Z</dcterms:modified>
  <cp:revision>2</cp:revision>
  <dc:subject/>
  <dc:title>PowerPoint Presentation</dc:title>
</cp:coreProperties>
</file>