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5E72-3FB3-4A60-9319-6ED59782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3B37-7538-496E-89B4-9A72CE9E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859-853D-4739-9D72-2D44F384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453-C1C4-4AFA-8BEE-2C067AB9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241F-3C1D-44DB-94D2-9A3FF7CA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5F91-4B0D-4D39-9EE3-BDC7BA84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6A6-3F2E-42C7-97AB-D048DC9C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6293-6995-43A5-AEE0-4F3DEBCD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56A-2AF0-4F84-8E60-8D6E6267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3ED7-ECA4-49CA-9424-1AB6C1E4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446B-47DA-43A5-B948-FFACF8A3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C383-ABDD-4EE3-97C1-6419CC0F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9DFF-7D7E-45CE-9EB0-4ACDB10EF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esu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581480" y="5118120"/>
            <a:ext cx="123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لمن غُفرت معصيت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وستر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ت خطيئت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لمن تختاره وتقرّب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في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ديارك تسكن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طوبى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طوب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ى لمن تختار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في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ديارك تسكن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esu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233000" y="5118120"/>
            <a:ext cx="1170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حين سكت بليت عظامي 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إلى هشيم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تحول 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فأبحتك بجميع آثامي 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ت رفعت و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زر خطيئ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طوبى طوبى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لمن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غفرت معصيته</a:t>
            </a:r>
            <a:r>
              <a:rPr b="1" lang="ar-SA" sz="3600" spc="-1" strike="noStrike">
                <a:solidFill>
                  <a:srgbClr val="000000"/>
                </a:solidFill>
                <a:latin typeface="MS Sans Serif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OTEPICFS17-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حتى إن طغى غمر المياه لما استطاع أن يدرك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ت ستري من الضيق تقيني وبترنيم النجاة تحيط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     طوبى طوبى لمن غفرت معصيته</a:t>
            </a:r>
            <a:r>
              <a:rPr b="1" lang="ar-SA" sz="36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jesu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581480" y="5118120"/>
            <a:ext cx="123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لمن غُفرت معصيت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وستر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ت خطيئت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لمن تختاره وتقرّب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في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ديارك تسكن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طوبى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طوب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ى لمن تختار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في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ديارك تسكن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3760642WcABmRMkZ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496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عودي يا نفسي إلى راحت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فإن الرب قد أحسن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لأنه من الموت أنقذ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من الدمع مسح عين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Simplified Arabic"/>
                <a:cs typeface="Times New Roman (Arabic)"/>
              </a:rPr>
              <a:t>طوبى طوبى لمن غفرت معصيته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jesu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1581480" y="5118120"/>
            <a:ext cx="123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لمن غُفرت معصيت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وستر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ت خطيئت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لمن تختاره وتقرّب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في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ديارك تسكن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طوبى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طوب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ى لمن تختار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في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ديارك تسكن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15:48:47Z</dcterms:created>
  <dc:creator>USER</dc:creator>
  <dc:description/>
  <dc:language>en-US</dc:language>
  <cp:lastModifiedBy>USER</cp:lastModifiedBy>
  <dcterms:modified xsi:type="dcterms:W3CDTF">2003-02-14T05:19:33Z</dcterms:modified>
  <cp:revision>3</cp:revision>
  <dc:subject/>
  <dc:title>PowerPoint Presentation</dc:title>
</cp:coreProperties>
</file>