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952-996D-42E5-918D-867DFBBA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417-03F7-4577-96DE-E00D5E9F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46F-0DB5-42E4-A430-F3EE9A26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544-83BC-4661-8834-C0AFB93B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EAF-B382-46D7-BBF2-7E47C14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129-EE3C-4194-BC8B-38C4204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CFB-1BA1-41C3-A245-2A45D062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329-A828-49A9-AA16-A590DBE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86D-F8A2-498C-98AE-C94E9B2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B2A-A5EF-41CC-AC9B-84D0F4B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A01-12F6-4FF1-9EA9-B941977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825-7DFB-4331-8BFC-80689EB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4BEE-40EC-42D8-A594-B5D43345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32004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ترحمُ شئتَ خلاصي بقيتَ في سرٍّ ما دام الب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إنني أحلمُ وسطَ حماسي أتوق لوجهِكَ بعد شق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73392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َرحمُ جئتَ تواسي وتسكُنُ فيّ وفيّ تطوف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الا استأصِلِ الشَّوكَ مني وأشعِ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صابيحَ حُبي فحُبّي ضعي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9718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َمُ تغفِرُ ذنبي ولا تنسى خيراً ولو كأسَ 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أُقرُّ بحُبكَ ربّي وهل غيرَ حُبكَ بابُ السماء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-142920"/>
            <a:ext cx="6400800" cy="700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59092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 ترحمُ تُبريءُ نفسي وتَغسِلُ إثمي بِطولِ أناة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ك تعلمُ ضعفي ويأسي تُشَدِّدُ عَزمي فمنكَ الثبات</a:t>
            </a:r>
            <a:r>
              <a:rPr b="0" lang="ar-SA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6700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2895480" cy="13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مُ جئتَ وضيعاً وأنت الإله القوي الأم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بوَعدِكَ أُدرك قلباً وديعاً فتملأُ قلبي إليكَ ح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8:45Z</dcterms:created>
  <dc:creator>SUZANNE.MD</dc:creator>
  <dc:description/>
  <dc:language>en-US</dc:language>
  <cp:lastModifiedBy>HANI SAFI</cp:lastModifiedBy>
  <dcterms:modified xsi:type="dcterms:W3CDTF">2003-03-14T12:26:44Z</dcterms:modified>
  <cp:revision>3</cp:revision>
  <dc:subject/>
  <dc:title>PowerPoint Presentation</dc:title>
</cp:coreProperties>
</file>