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5B9-6F0B-43F6-87D9-1DE289CC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A04-0897-40CE-9E25-33E42D5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83C-D14B-4872-9D0F-09D3CBA0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541-ECD0-4EC0-9671-478B8E2A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721-3BB4-4ED2-BBE4-EEAA0FEF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9F5-8D58-4DE9-BB69-9852084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560-1275-4F99-86EB-01ED6F34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D9D-0323-4DB1-A28D-AA39829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264-CFCB-49A7-A32B-9C49052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1FF-8C47-4F04-9D7B-9F5CF698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57-9768-4C78-A3D1-A8415DDD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ECF-421E-4D49-A0D9-710EAA81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D55-C392-430F-B397-2D09FFF7FDCD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2360" y="0"/>
            <a:ext cx="421164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دَعُوا الأَطفالَ يَأتُونَ إِلَيَّ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اَ تَمْنَعُوهُمْ فَلأَمْثالِ هَؤلاء مَلَكُوتُ الله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6T15:22:30Z</dcterms:created>
  <dc:creator>Charbel Azar</dc:creator>
  <dc:description/>
  <dc:language>en-US</dc:language>
  <cp:lastModifiedBy>Charbel Azar</cp:lastModifiedBy>
  <dcterms:modified xsi:type="dcterms:W3CDTF">2003-03-14T21:16:18Z</dcterms:modified>
  <cp:revision>4</cp:revision>
  <dc:subject/>
  <dc:title>PowerPoint Presentation</dc:title>
</cp:coreProperties>
</file>