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8EB-FF28-4265-A1E3-44E617B2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035-B4D1-4AD6-AC20-96C95491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85D-B578-4F67-A5D7-FAAF8DCA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4DA-B437-4A35-9B10-3E805750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0A6-F6B0-4330-8303-FF5BAD0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5AB-B2CA-4169-A8DA-A3178A7E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D0B-C3D8-49B3-B128-69EACD4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1BF-09BF-4ABE-81FA-E9B96B6E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B46-48E6-4C18-B3ED-CC7F25F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426-2E6D-4598-8D4D-FDC35FB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034-7D5D-49C3-B4CA-68898D2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10C-72CF-46ED-8028-E177030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AD3-53E6-4B62-B68C-E53CAD032E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خبز  وخمر  وم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0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نعمه لِلكل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جسم ودِما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 الارض بتضلّ عُربون السما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200" y="1903320"/>
            <a:ext cx="903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ّي يس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وبَك دَربي طْل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م بعْطَش وبْجُ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طيني ال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76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يا سنابل وسهول تبقي ملياني يا بيادر وحقول تبقي حِليان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5264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مطاحن بتدور بتْطَعمي المعمور خبز ونار ونور أطيب قرب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179280" y="536400"/>
            <a:ext cx="5545080" cy="28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عْناقيد النور بكروم الد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826280" y="0"/>
            <a:ext cx="9932760" cy="367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مواسِم ودهو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فيك بتغتني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1916280"/>
            <a:ext cx="49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عصرة الدار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سرّ الأسرار خمر ونور ونار كاسة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19T17:17:20Z</dcterms:modified>
  <cp:revision>16</cp:revision>
  <dc:subject/>
  <dc:title>PowerPoint Presentation</dc:title>
</cp:coreProperties>
</file>