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443-AB85-44F5-8F9B-E992BE0F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B53-A8A6-4BE4-B7AE-29DE59A3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BD1-1026-49BA-A04F-FA41117A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A3E-5184-4041-961F-3A6765BC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1F9-C861-4FD9-B597-8DB0289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9B7-9CAF-468B-8FA2-DD32FEB4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8A8-9FB5-4247-B2CB-DBAC096B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836-0BCE-42EF-8320-765EDB5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B20-51BF-4A58-B7F2-D32CE78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91D-74FD-4330-9A79-C6914C0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DF9-E78F-4238-BEC0-93941BF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6B7-2557-4792-AF72-E08AF3B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E63-16F1-446B-80D3-35677760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535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ملحُ الأرض، فإذا فَسَدَ الملحُ فأيُّ شيء يُملِّحهُ.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نـَّـهُ لا يَصلُـحُ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لاَّ لأنْ يُطرَحَ في خارجِ الدارِ فيدوسَه الناس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نورُ العالم، لا تَخفى مدينةٌ على جبلٍ، ولا يوقدُ سراجٌ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وضــعَ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حتَ المكيالْ، بلْ على المنارةِ ليضيءَ لجميعِ الذينَ همْ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  البيــت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86400" y="0"/>
            <a:ext cx="3200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ِيُضىءْ نورُكم هكذا للناسْ،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يَروا أعمالكُــمُ الصالحــة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ُمجّـدو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باكـــُــمُ الـــذي فــــي السمــاوات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50528335egXdII_ph" descr="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37:19Z</dcterms:created>
  <dc:creator>USER</dc:creator>
  <dc:description/>
  <dc:language>en-US</dc:language>
  <cp:lastModifiedBy>USER</cp:lastModifiedBy>
  <dcterms:modified xsi:type="dcterms:W3CDTF">2003-02-10T15:44:14Z</dcterms:modified>
  <cp:revision>1</cp:revision>
  <dc:subject/>
  <dc:title>PowerPoint Presentation</dc:title>
</cp:coreProperties>
</file>