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9F3-EAB7-4811-BC5D-32CCBC8D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518-52D7-4C96-9850-50020A59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520-3B86-495D-8635-5C7ED09B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4B0-A591-436D-B6AA-A1F982BF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3C0-EE1C-4DA1-B13E-5B4D4862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AE9-01FB-4CCE-B2FA-0D7DF22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14D-E9F4-4DA7-89ED-E67AA541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913-F36B-4F4F-AD5F-BE437ED7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078-F473-4C2B-AFE5-340985C8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F30-033A-4F67-83FD-EB56660F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9DE-C973-4DAF-8AE6-FCB8EA9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BB1-D73A-4679-936E-B946592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61B-2064-41A0-A80E-1058B93CA8A8}" type="slidenum">
              <a: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060640"/>
            <a:ext cx="550872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هو هو في الأمس واليوم هو البداية هو النهاية هو الألف والياء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ه المجد له الإكرام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له العزّة والقوّة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مدى الدهور آمي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    هللوي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Charbel Azar</cp:lastModifiedBy>
  <dcterms:modified xsi:type="dcterms:W3CDTF">2002-07-03T09:06:12Z</dcterms:modified>
  <cp:revision>2</cp:revision>
  <dc:subject/>
  <dc:title>Slide 1</dc:title>
</cp:coreProperties>
</file>