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625-D47F-4360-B960-AA0637E0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145-FA03-4650-AF0C-18C3E846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165C-AEEC-4D60-8C0A-67B5A32E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205-717B-41CA-BC23-58E638BE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87D-3613-42D7-9DBC-08AFA22D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E5D-5E10-45ED-B8E4-8AB18C3A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502-706B-4533-83F5-4F4E6C75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C3C-B390-4C86-88D1-6F847733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FAF-384E-4562-B152-96EE1FBF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077-5305-4D6C-B44F-C7EB32A8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101-AB7E-4105-85D2-7C844A20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C30-E0E8-4E1E-9ED2-603BB6DA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8541-A066-42A4-A661-80055694A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233000" y="5118120"/>
            <a:ext cx="117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حين سكت بليت عظامي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إلى هشيم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تحول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أبحتك بجميع آثامي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ت رفعت و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زر خطيئ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طوبى طوبى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لمن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غفرت معصيته</a:t>
            </a:r>
            <a:r>
              <a:rPr b="1" lang="ar-SA" sz="3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OTEPICFS17-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حتى إن طغى غمر المياه لما استطاع أن يدرك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ت ستري من الضيق تقيني وبترنيم النجاة تحيط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   طوبى طوبى لمن غفرت معصيته</a:t>
            </a:r>
            <a:r>
              <a:rPr b="1" lang="ar-SA" sz="3600" spc="-1" strike="noStrike">
                <a:solidFill>
                  <a:srgbClr val="ffffff"/>
                </a:solidFill>
                <a:latin typeface="MS Sans Serif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760642WcABmRMkZ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عودي يا نفسي إلى راحت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إن الرب قد أحسن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لأنه من الموت أنقذ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من الدمع مسح عين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Simplified Arabic"/>
                <a:cs typeface="Times New Roman (Arabic)"/>
              </a:rPr>
              <a:t>طوبى طوبى لمن غفرت معصيته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jes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581480" y="5118120"/>
            <a:ext cx="123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غُفرت معصيت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وستر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 خطيئت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لمن تختاره وتقرّب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طوبى طوبى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طوب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ى لمن تختاره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في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ديارك تسكن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5:48:47Z</dcterms:created>
  <dc:creator>USER</dc:creator>
  <dc:description/>
  <dc:language>en-US</dc:language>
  <cp:lastModifiedBy>USER</cp:lastModifiedBy>
  <dcterms:modified xsi:type="dcterms:W3CDTF">2003-02-14T05:19:33Z</dcterms:modified>
  <cp:revision>3</cp:revision>
  <dc:subject/>
  <dc:title>PowerPoint Presentation</dc:title>
</cp:coreProperties>
</file>