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A7E-3AD9-430F-941A-4D79D85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90E-9DDB-42F2-9188-04CD504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08E-331E-45EC-AEFA-B0200435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F68-38AC-4D01-9A6A-EAD96CA5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EDA-4D98-4636-B5DF-A5B9DED9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672-91F0-4D58-8DC3-291F906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5D0-144A-4F02-8F42-38CF9007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495-EC87-4788-A9B1-B2B78B0E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FE4-8EBE-4FE3-88FC-986BAA0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B0B-35AE-4245-B8B5-241711B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56A-A9AE-4E6D-A1DE-87A2375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73E-3081-447D-8372-947C860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CEC-AB30-4827-93DC-83A4AFB6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4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4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4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3:08Z</dcterms:created>
  <dc:creator>USER</dc:creator>
  <dc:description/>
  <dc:language>en-US</dc:language>
  <cp:lastModifiedBy>USER</cp:lastModifiedBy>
  <dcterms:modified xsi:type="dcterms:W3CDTF">2002-11-01T03:53:44Z</dcterms:modified>
  <cp:revision>1</cp:revision>
  <dc:subject/>
  <dc:title>PowerPoint Presentation</dc:title>
</cp:coreProperties>
</file>