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3D1-6FEB-4024-9363-9BB10E15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FCF8-CD19-4684-AC33-1CE1B512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8EA-04F4-4927-991C-74DB0DB2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078E-821C-4B61-ABFF-95C42110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26B8-26AD-4B5E-AA58-71A0327C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CCAF-C00B-4DAB-81CB-E7691BC0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D52F-9656-46B3-8A48-44BECE53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1DB4-3EE0-41B0-978E-24C1A8A2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E3AE-5F61-47ED-A8A7-FC69035D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1F7E-C261-4B13-8E49-D0B77A79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6969-E6FD-46CE-8871-F582A3D8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1E3-24DF-4AAA-8FCD-B99F67A2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11A3-A287-4D7D-A3BC-83FBD34D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AFA3-CF63-42E5-AFF5-D9F8C6D8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1AB6-4263-4C44-8ECC-43981CB9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835D-59EA-4FB5-B25C-3D725ED8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45C5-3091-44DD-B7D9-E3F4D55E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6EE-3113-469D-A0E3-FC0F442E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E96-F539-4845-B3FF-F8C32D8A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5F85-F97B-4EE2-AD07-083179BB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E64-9F75-41F8-ABD4-182710BB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989-3909-4F0D-BAE8-C0BC9754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E4E2-B2EA-40D0-9FBA-BED198AA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00B-52EB-4078-AF0F-E64C3AEC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3ABC-F0CF-4971-8895-6E9E8814F36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DBC3-79CA-46F5-8B73-BED1A09C558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221000"/>
            <a:ext cx="6400800" cy="225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????Boutros Rokaa"/>
              </a:rPr>
              <a:t>عرفتَ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24360" y="1844640"/>
            <a:ext cx="521964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سَ لدربي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واكَ رفيق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شجاني أنينُ اليتيم يضيعُ بصخبِ الحياة ولا من يجيب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528480"/>
            <a:ext cx="7391520" cy="189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رأيت عيونَ الشريدِ تتيهُ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4640"/>
            <a:ext cx="9144000" cy="259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شمسُ المحبةِ عنهُ تغيب</a:t>
            </a:r>
            <a:r>
              <a:rPr b="0" lang="ar-SA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3962520"/>
            <a:ext cx="7696080" cy="28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أشرِقْ عليَّ بأنوارِ وجهِك يا ألله، يا ألله.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رفتَ بأن قد تعثر دربي فجئتَ إليَّ تقودُ خُط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2" name=""/>
          <p:cNvSpPr/>
          <p:nvPr/>
        </p:nvSpPr>
        <p:spPr>
          <a:xfrm>
            <a:off x="250920" y="3933720"/>
            <a:ext cx="861048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تعرفُ أني بحبكَ ربّي أهيمُ كصَبّ وفيكَ هواي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924360" y="1844640"/>
            <a:ext cx="521964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سَ لدربي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واكَ رفيق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ا غبت عنِّي شردتُ بذاتي غرقتُ بحزني دهاني الضجر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ن كنت فيَّ حييتُ فرحتُ نثرتُ الطيوبَ فرشتُ الزهر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419720" y="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طيبُ الحياة تطيبُ بقربك 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رفتَ بأن قد تعثر دربي فجئتَ إليَّ تقودُ خُط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رفتَ بأن قد تعثر دربي فجئتَ إليَّ تقودُ خُط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9" name=""/>
          <p:cNvSpPr/>
          <p:nvPr/>
        </p:nvSpPr>
        <p:spPr>
          <a:xfrm>
            <a:off x="250920" y="3933720"/>
            <a:ext cx="861048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تعرفُ أني بحبكَ ربّي أهيمُ كصَبّ وفيكَ هواي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24360" y="1844640"/>
            <a:ext cx="521964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سَ لدربي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واكَ رفيق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5" name=""/>
          <p:cNvSpPr/>
          <p:nvPr/>
        </p:nvSpPr>
        <p:spPr>
          <a:xfrm>
            <a:off x="250920" y="4114800"/>
            <a:ext cx="861048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تعرفُ أني بحبكَ ربّي أهيمُ كصَبّ وفيكَ هو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24360" y="1844640"/>
            <a:ext cx="521964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سَ لدربي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واكَ رفيق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876920" y="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نهبتُ الطريقَ أسائلُ عنكَ بحيرةِ ضعفي وأوهاميَ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423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0" y="4941720"/>
            <a:ext cx="9144000" cy="191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سمعتُ الخليقةَ تُنشِدُ لحناً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178640" y="4869000"/>
            <a:ext cx="11180880" cy="18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لقلبي فتنعشُ إيمانيَ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52280" y="434340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لَت لي الإقامةُ داخل بيتِك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ألله، يا ألله.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-152280"/>
            <a:ext cx="42670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رفتَ بأن قد تعثر دربي فجئتَ إليَّ تقودُ خُطا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4" name=""/>
          <p:cNvSpPr/>
          <p:nvPr/>
        </p:nvSpPr>
        <p:spPr>
          <a:xfrm>
            <a:off x="250920" y="3860640"/>
            <a:ext cx="861048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تعرفُ أني بحبكَ ربّي أهيمُ كصَبّ وفيكَ هواي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38:33Z</dcterms:created>
  <dc:creator>Charbel Azar</dc:creator>
  <dc:description/>
  <dc:language>en-US</dc:language>
  <cp:lastModifiedBy>ف</cp:lastModifiedBy>
  <dcterms:modified xsi:type="dcterms:W3CDTF">2006-11-03T19:52:07Z</dcterms:modified>
  <cp:revision>12</cp:revision>
  <dc:subject/>
  <dc:title>PowerPoint Presentation</dc:title>
</cp:coreProperties>
</file>