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67F-C629-47F1-B33E-7D0B5C39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D84-E44C-407F-AE8D-83901782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7A7-60E2-40B1-9621-5D2CBC2F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4A8-5385-42CD-BA86-FD257DA9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631-5817-4813-A72E-FC27590A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F90-A93D-4E0D-801F-B40D05D7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E60-E9E3-4436-B44E-4CD993E8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F58-C30C-4855-BE73-C58C28BE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066-829D-4625-900E-B769ADC2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268-C4C6-4AAD-A150-6C2C233B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16B-9FDA-4CBF-A0F4-EEA0F92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C3A-E246-4BE0-8248-02BB43BD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48ED-461A-4944-BB35-434AF2873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276720" cy="103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Arabic Transparent"/>
              </a:rPr>
              <a:t>ملْ روحك اشتياقي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Arabic Transparent"/>
              </a:rPr>
              <a:t>هبه لي واستر خطا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 يرتوي منه غليلي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ea typeface="Arabic Transparent"/>
              </a:rPr>
              <a:t>	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فيك لا غيرُ رجــاي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3200400" cy="88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نت ربي    نورُ قلب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   أنت حصنُ أتقي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املأن يا رب قلبي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وحَ قدسٍ من عُل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251460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املأ روحَ حبٍ روحَ برٍ وس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وحَ إيمانٍ وصبرٍ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حَ لطفٍ ووئ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06600" y="380880"/>
            <a:ext cx="6508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514600" cy="10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ملءُ روحك حياتي     ملءُ روحكَ الوديع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ملءُ روحك 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 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امْنَحَنّي   </a:t>
            </a:r>
            <a:r>
              <a:rPr b="1" lang="en-US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ا يسوع   يا سميع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04920"/>
            <a:ext cx="20574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يا إلهـي يا إلهـي   لا رجاء لي سوا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تـاق قلبي تـاق لبّي أن أفوز برض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08:53:20Z</dcterms:created>
  <dc:creator>SUZANNE.MD</dc:creator>
  <dc:description/>
  <dc:language>en-US</dc:language>
  <cp:lastModifiedBy>HANI SAFI</cp:lastModifiedBy>
  <dcterms:modified xsi:type="dcterms:W3CDTF">2003-05-22T04:56:50Z</dcterms:modified>
  <cp:revision>3</cp:revision>
  <dc:subject/>
  <dc:title>PowerPoint Presentation</dc:title>
</cp:coreProperties>
</file>