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8481-2EBB-4A93-BF1A-7E9BD056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BB0-6939-42A3-A2EF-14FEEF09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0FC9-2D3F-45FA-A212-F7622A6A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D6CA-CCA9-4745-BF85-5DF60337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C2F6-C322-42C1-B6C6-D87C806D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45E-EA48-4627-B732-C2E8B845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9654-58AE-4736-91BC-C23CF882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6CF1-148A-4747-B4BF-B17EFCD7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87D-0A3A-4527-9184-FE92801B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8C7B-6E3A-4172-97A8-5F3741D8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8DDE-04E6-4748-9E99-C36525DA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D4D-1F1C-45A7-A973-C4A1E0F4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894C-75A1-4084-9A8C-129944F34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05720" y="228600"/>
            <a:ext cx="22096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أتر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كل شي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اتبع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وأ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أكو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لك نصيبا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05720" y="174600"/>
            <a:ext cx="203184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أترك كل شيء تعطى كل شيء واحمل الصلي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تعال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تجد الراحة والهدو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لن يخ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ظنك تع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05720" y="228600"/>
            <a:ext cx="22096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أتر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كل شي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اتبع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وأ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أكو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لك نصيبا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705720" y="174600"/>
            <a:ext cx="2031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ثما أقمتَ أقيمُ أنا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ن يغ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جهي تعال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إني اخترتك لي عونا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على يدعوكَ تعال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.</a:t>
            </a: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 (Arabic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05720" y="228600"/>
            <a:ext cx="22096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أتر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كل شي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اتبع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وأ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أكو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لك نصيبا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0" y="361800"/>
            <a:ext cx="200808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نظرتُ في عينيكَ وأحببتكَ عرفتُ ما في قلبكَ تعال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أرضكَ العطشىَ للحبِ والسلام تصرخُ إليك تعا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3521915SgCFIpyue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05720" y="228600"/>
            <a:ext cx="22096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أتر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كل شي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اتبعن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وأ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أكو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لك نصيبا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4:26:18Z</dcterms:created>
  <dc:creator>USER</dc:creator>
  <dc:description/>
  <dc:language>en-US</dc:language>
  <cp:lastModifiedBy>USER</cp:lastModifiedBy>
  <dcterms:modified xsi:type="dcterms:W3CDTF">2003-01-21T11:10:49Z</dcterms:modified>
  <cp:revision>2</cp:revision>
  <dc:subject/>
  <dc:title>PowerPoint Presentation</dc:title>
</cp:coreProperties>
</file>