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9ADB-0F0B-48A5-BAA3-7B9B02C7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1A0-6231-4F4D-9346-5CD1C6ED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EFF-6F71-4A0B-A909-5FF362C9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3A70-3524-43CC-A193-1449FA69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EEFF-59BD-48F1-A44C-9D5C85E8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F0F1-2927-4AAF-8E28-8BC8500E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ED37-8111-440C-B676-C88C4BD6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09C-A39A-42DF-B526-CB06304A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67D3-8070-449C-8AE5-883434CF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AC21-A3B0-499E-A5A5-09F6D4DA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405-4200-4ADC-A1D4-BDEC3AEA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840-E628-4910-AA25-AA72D2D5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FCF0-62B8-4725-81B1-540CC41B0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7113970hxweEnbIfO_th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9880" y="0"/>
            <a:ext cx="5105520" cy="9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ركوا 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ا جميع عبيد 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واقفين في بيت 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ي الليا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إرفعوا أيديكم إلى القدس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اركوا الرب، باركوا الر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ليباركك الرب من صهي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صانع السموات و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6:07:29Z</dcterms:created>
  <dc:creator>USER</dc:creator>
  <dc:description/>
  <dc:language>en-US</dc:language>
  <cp:lastModifiedBy>USER</cp:lastModifiedBy>
  <dcterms:modified xsi:type="dcterms:W3CDTF">2002-11-12T16:11:42Z</dcterms:modified>
  <cp:revision>3</cp:revision>
  <dc:subject/>
  <dc:title>PowerPoint Presentation</dc:title>
</cp:coreProperties>
</file>