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5D48-0A66-4D56-B657-9DB41DF74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8DA3-9C95-451A-9B71-FD3897ED0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510B-9E97-4890-B083-791F39A07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00A1-9FA7-45BA-A8FB-5F9A6E930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A1A89-9A87-4AE1-9B59-0C5AC50E8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B1D0F-E7A6-4B35-B4FF-1044DFF1C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23793-C089-4289-BFF8-5EA95F94D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6A4B1-A3EA-4A0F-A9D2-203B0F470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EABB9-4E92-4525-8C08-4093CA053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22DA7-F531-471D-BAA5-BC0059E37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5D81F-24B9-44E3-85CE-180D5399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03E0-EFED-4422-9467-1B3793BC2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17248-BE3F-49F8-8B51-236E8FE5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A2E3F-6E94-471B-91C5-6E02CB78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F301A-ADEA-4391-90BD-E2492B608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4FF5B-962C-4DDA-81EF-C7CEC004D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026DA-C7D2-4F31-B866-2D7B7690B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CD54-384A-4AEC-A8B1-86DA3582D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89AD-5983-48BC-A2C2-CDB4C9281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F64F-DB22-4B3D-B357-2D299DF4F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06F9-E7FB-4463-8AEA-71DF756E6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3C18-BDA6-4900-9E28-12F90D4A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9C91-F1E1-4281-8E03-2A95A8BF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AA50-4D56-4770-A613-2CDE6A64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73ED8-0E8F-4281-8D9C-B57F57C0569E}" type="slidenum">
              <a:rPr b="0" lang="ar-LB" sz="14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07E94-8404-47E7-BAEA-A22D4395B896}" type="slidenum">
              <a:rPr b="0" lang="ar-LB" sz="14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763640" y="4724280"/>
            <a:ext cx="7380360" cy="213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600" spc="-1" strike="noStrike">
                <a:solidFill>
                  <a:srgbClr val="ffffff"/>
                </a:solidFill>
                <a:latin typeface="Tahoma"/>
                <a:cs typeface="????Boutros Rokaa"/>
              </a:rPr>
              <a:t>أعطني يا رب قلبك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276720" y="0"/>
            <a:ext cx="586728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َعْطِنِي يَا رَبُّ قَلْبَكَ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هَبْنِي أَنْ أَخْتَارَ حُبَّّكَ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َا قَلْبَ يَسُوعَ إِلَه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َرْغَبُ أَنْ أَتْبَعَكَ.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820960" y="0"/>
            <a:ext cx="62881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قَلْبُكَ يَا رَبُّ رَاحَت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هُوَ غِنَايَ هُوَ عُذُوبَت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إِجْذِبْنِي إِلَيْكَ إِلَه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َحْدَكَ أَنْتَ سَعَادَتِي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627280" y="0"/>
            <a:ext cx="6516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َجْهُكَ يَا رَبُّ مَوْطِن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قَلْبُكَ يَا رَبُّ مَسْكِن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هَلُمَّ وَوَحِّدْنِي بكَ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َاجْعَلْنِي أَحْيَا لأَجْلِكَ.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276720" y="0"/>
            <a:ext cx="586728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َعْطِنِي يَا رَبُّ قَلْبَكَ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هَبْنِي أَنْ أَخْتَارَ حُبَّّكَ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َا قَلْبَ يَسُوعَ إِلَه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َرْغَبُ أَنْ أَتْبَعَكَ.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627280" y="0"/>
            <a:ext cx="6516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َجْهُكَ يَا رَبُّ مَوْطِن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قَلْبُكَ يَا رَبُّ مَسْكِن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هَلُمَّ وَوَحِّدْنِي بكَ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َاجْعَلْنِي أَحْيَا لأَجْلِكَ.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76720" y="0"/>
            <a:ext cx="586728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َعْطِنِي يَا رَبُّ قَلْبَكَ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هَبْنِي أَنْ أَخْتَارَ حُبَّّكَ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َا قَلْبَ يَسُوعَ إِلَهِ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َرْغَبُ أَنْ أَتْبَعَكَ.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06:33:39Z</dcterms:created>
  <dc:creator>Charbel Azar</dc:creator>
  <dc:description/>
  <dc:language>en-US</dc:language>
  <cp:lastModifiedBy>Charbel Azar</cp:lastModifiedBy>
  <dcterms:modified xsi:type="dcterms:W3CDTF">2006-03-07T21:38:22Z</dcterms:modified>
  <cp:revision>20</cp:revision>
  <dc:subject/>
  <dc:title>Slide 1</dc:title>
</cp:coreProperties>
</file>