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43AA-B248-4F21-8AAD-AA6BF733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470-4DDA-4610-B2FA-A445BCCD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E75-7397-4506-8663-5359F9F2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B8B-6ECF-4127-A216-26CCB322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857F-A0CC-4657-9D4D-465FB45D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4AA-35E7-4A3A-8994-5A08C5AE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3C3-9684-4798-9CBF-092CCEE3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E3C-67F9-4D18-BEF6-CFEE40D0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D8D-1122-402C-B6F7-90153116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F952-D3A8-43E3-93F8-80E18946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54E-6539-4754-A32F-4BB0F435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849-8494-424B-A8A3-2DA7233B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0737-8F21-4459-8614-67167937C28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907920"/>
            <a:ext cx="640080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200"/>
            </a:br>
            <a:r>
              <a:rPr b="0" lang="ar-SA" sz="11700" spc="-1" strike="noStrike">
                <a:solidFill>
                  <a:srgbClr val="ffffff"/>
                </a:solidFill>
                <a:latin typeface="Tahoma"/>
                <a:cs typeface="????Boutros Rokaa"/>
              </a:rPr>
              <a:t>من لي بأن تكتَبَ أقوالي</a:t>
            </a:r>
            <a:br>
              <a:rPr sz="14200"/>
            </a:b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1384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مَن لي بأن تُكتَب أقوالي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نْ تُنقَش في الصخرِ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لى الأبدِ إلى الأبدِ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1155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إني كلّما تذكّرتُ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رتعتُ وأخذَ جسمي الارتعاش.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93600"/>
            <a:ext cx="9144000" cy="653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نِّي لَعالِمٌ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نَّ فاديَّ حيٌّ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اديَّ حيٌّ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403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ِي لَعالِمٌ أنَّ فاديَّ حيّ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اديَّ حيٌّ وسيقومُ آخرا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لى التُراب وبعد ذل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تلبَسُ هذه الأعضاءُ بجلد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3600"/>
            <a:ext cx="9144000" cy="1298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بجسدي أُعايِنُ اللهَ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لذي أنا أُعاينه بنفسي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عينايَ تريانه لا غيري.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4:51:38Z</dcterms:created>
  <dc:creator>-</dc:creator>
  <dc:description/>
  <dc:language>en-US</dc:language>
  <cp:lastModifiedBy>-</cp:lastModifiedBy>
  <dcterms:modified xsi:type="dcterms:W3CDTF">2003-01-14T15:12:57Z</dcterms:modified>
  <cp:revision>3</cp:revision>
  <dc:subject/>
  <dc:title>Slide 1</dc:title>
</cp:coreProperties>
</file>