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30E-119F-49BF-B588-852B0B75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BD2F-1DA9-4156-9D63-2300382E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C018-8579-4181-9448-FBA9FF76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6A1-CBAA-43CE-8311-E6A2F52B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A58-3503-4AF5-A415-18208FC8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18C-DEA4-4764-97EB-87467A87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47E-94F0-4B0D-AB37-54A9D3E2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E97A-0C71-46B6-94AA-26E7DAD5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684D-0EB3-4C54-B9B0-04E1BD76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03D-BB8E-4904-BB13-0615FF65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FA0A-BC81-4196-8C60-AEC561BC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85F-48A6-44E1-B760-1A924AD1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437D-EF9E-4C45-AEF1-D028DFA14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57680" y="25560"/>
            <a:ext cx="6286320" cy="6832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743200" cy="83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أنك حملتَ العالم وأعطيتَهُ الحيا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آتي إلي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أتذوق للأبد من فيض سلامِك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آتي إلي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40120" y="0"/>
            <a:ext cx="5303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0880"/>
            <a:ext cx="3505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ي أحبكَ آتي إلي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71468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981080" y="54100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154400" y="0"/>
            <a:ext cx="4989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380880"/>
            <a:ext cx="3962160" cy="83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أني أريد الارتواء من عذوبةِ مياهِ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آتي إلي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أني صرتُ مستعداً لترتاحَ في نفس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آتي إليك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40120" y="0"/>
            <a:ext cx="5303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80880"/>
            <a:ext cx="3505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ي أحبكَ آتي إلي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71468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981080" y="54100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2514600" cy="83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أنك تشفي المريض وتستقبلُ الضال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آتي إليك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أني أؤمن بك وبمشيئت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آتي إلي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40120" y="0"/>
            <a:ext cx="53038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380880"/>
            <a:ext cx="3505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ي أحبكَ آتي إلي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71468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981080" y="54100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80880"/>
            <a:ext cx="26668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أهديك فرحي وحزني لأجل حصادي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آتي إلي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أنك حبيبُ نفسي ورفيقي وملك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آتي إلي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2666880" cy="84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هديك فرحي وحزني لأجل حصّاديك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آتي إليك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حبيبُ نفسي ورفيقي ومل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آتي إلي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40120" y="0"/>
            <a:ext cx="53038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380880"/>
            <a:ext cx="3505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ي أحبكَ آتي إلي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71468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81080" y="54100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9:55:04Z</dcterms:created>
  <dc:creator>SUZANNE.MD</dc:creator>
  <dc:description/>
  <dc:language>en-US</dc:language>
  <cp:lastModifiedBy>HANI SAFI</cp:lastModifiedBy>
  <dcterms:modified xsi:type="dcterms:W3CDTF">2003-05-22T17:00:41Z</dcterms:modified>
  <cp:revision>3</cp:revision>
  <dc:subject/>
  <dc:title>PowerPoint Presentation</dc:title>
</cp:coreProperties>
</file>