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9D2-EB90-4FDD-A236-6A457DBA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61E-7E51-41CB-8DCD-22956A60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D34-31B7-444D-9706-0CA30C31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5CA-E39C-4207-A427-7F9F94ED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011-5F5F-41D4-940F-69C789B1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3ED-14CE-45BB-B720-F88BB715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167-D7B3-41FD-A21F-044C173B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989-2069-4B22-8914-969C1AA5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A9A-42C0-49CC-AB5E-D028D43A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00C-C9DB-4D39-ABE2-F85932F2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AC6-97D8-4FA7-BB7D-D58B7719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3C8-B7FE-4569-BEDE-D6C6DBD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448C-EAE3-4680-BCD4-54C865670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40044ekIzaANufR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304920"/>
            <a:ext cx="2895480" cy="10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َرتُ أن أحبَّ الأكملَ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رتُ عِشقَ فادينا الحبي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نذرتُ أن أُضحّي جسَد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ساكباً للدمّ في الكأسِ الرهيب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3548786bKuLjeoRng_ph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19920" y="0"/>
            <a:ext cx="2895480" cy="86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ستمعني أيها الكونُ الخشوع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سماءُ إسمعيني واشهَد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ملاكَ اللهِ خُذِ القَسَمَ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حوَ عرشِ المُتعالِ الأبد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1722210dRDTugoGhX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38680" y="380880"/>
            <a:ext cx="32004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إلهي قد نقيتُ         اليومَ في الماءِ الطَ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اصطفاني الحبُّ فيكَ  مُرسلاً كلَّ الدُّه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56:26Z</dcterms:created>
  <dc:creator>SUZANNE.MD</dc:creator>
  <dc:description/>
  <dc:language>en-US</dc:language>
  <cp:lastModifiedBy>USER</cp:lastModifiedBy>
  <dcterms:modified xsi:type="dcterms:W3CDTF">2003-01-10T12:58:23Z</dcterms:modified>
  <cp:revision>2</cp:revision>
  <dc:subject/>
  <dc:title>PowerPoint Presentation</dc:title>
</cp:coreProperties>
</file>