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FE75-5550-439E-A570-950B44FF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41E1-B695-4282-9D0B-4031675A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3B6-FEDE-4774-9979-7A015D66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290-2F0B-400C-A1DE-B1877BFA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D532-25F8-4053-B702-BB42B052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24F-6377-488C-A7E7-EF66E382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D36D-067C-41C4-8A82-7E084D6A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0B24-A76F-45D5-B697-AB46DD72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223B-D67D-4465-8921-8FFDD8EC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2636-EF63-46FA-9F46-DFE32D19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D2D-2A91-4E4A-867B-AC20E72C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3C79-9FF1-4B95-9F50-AD44C0F1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93FD-9595-464C-B3CF-401C09928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003640" cy="21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نتم الذين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بالمسيح اعتمدتم.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المسيح قد لبستم. هللويا..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Arial"/>
                <a:cs typeface="Akhbar MT"/>
              </a:rPr>
              <a:t>بإعتمادك يا ربّ في نهر الأردن ظهر السجود للثالوث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6000" y="216000"/>
            <a:ext cx="4572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Arial"/>
                <a:cs typeface="Akhbar MT"/>
              </a:rPr>
              <a:t>فإنَّ صوتِ الآب كان يشهدُ لكَ مسمّياً إيّاكَ ابناً محبوب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Arial"/>
                <a:cs typeface="Akhbar MT"/>
              </a:rPr>
              <a:t>والروح بهيئةِ حمامة يؤكّدُ حقيقةَ الكلم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Arial"/>
                <a:cs typeface="Akhbar MT"/>
              </a:rPr>
              <a:t>فيا من ظَهَرَ وأنَار العالم أيها المسيحُ الإله، يا ربّ المجدُ لك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3:13:41Z</dcterms:created>
  <dc:creator>Charbel Azar</dc:creator>
  <dc:description/>
  <dc:language>en-US</dc:language>
  <cp:lastModifiedBy>Charbel Azar</cp:lastModifiedBy>
  <dcterms:modified xsi:type="dcterms:W3CDTF">2003-01-05T13:26:49Z</dcterms:modified>
  <cp:revision>5</cp:revision>
  <dc:subject/>
  <dc:title>أنتم الذين بالمسيح اعتمدتم. المسيح قد لبستم. هللويا...</dc:title>
</cp:coreProperties>
</file>