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EC94-CD63-4D91-A720-046EB137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5167-8600-49BD-9C5A-D22C2A5C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349A-D311-4C16-8584-58BDCC8F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8217-03C1-4401-9D51-FB016DCC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8B63-E916-4926-81BC-0763FBC50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C9C2-D3F2-458D-9727-71178E97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D322-E0F7-4830-87F9-F1813BC4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4DEE-9349-4A9C-A969-C6053E69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1F66-3E1F-437F-A856-833A128B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E8A0-C31E-41BC-8E5B-2DBC7166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B597-F104-461D-A217-246556CC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4920-E7FF-42B9-9FB5-E34613A6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9468-EF7D-4A12-B51E-1216CB98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6A53-27FB-43B9-8C03-D86F8992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1EE3-504A-4D90-9BF0-444A512D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1D8F-4CC7-4C25-A85A-890553BB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36C5-1DD8-45B5-A84C-1B9A5625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1728-92BB-43EB-90BF-34A93DF4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E591-3B54-4810-B911-CB082B40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9828-426E-421B-8CFD-34F1B0BC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5555-036B-441A-AA4E-D374324C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AA9C-2FFE-439D-BDD4-1AC78AC5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9A79-947C-45FF-8D25-9687C17C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0502-5BBE-4509-B60E-70524737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6230-9991-43BF-B2C2-957AE95DE78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B469-B501-4376-B779-1D51BB5E8C5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057400"/>
            <a:ext cx="5105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cs typeface="????Boutros Rokaa"/>
              </a:rPr>
              <a:t>حتّى متى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تّى متى سأظلّ واقفا أسير في مكاني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525780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</a:rPr>
              <a:t>حتّى متى سأبقى هكذا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675320"/>
            <a:ext cx="9144000" cy="427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طفلا في ايمان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م من مرّة نويت و لم أفعل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3880"/>
            <a:ext cx="5105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cs typeface="????Boutros Rokaa"/>
              </a:rPr>
              <a:t>كم من مرّة وعدت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ea typeface="????Boutros Rokaa"/>
              </a:rPr>
              <a:t> و لم أفي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 أعود,  أعود اليك فأراك لم تغفل, تحنو عليّ تماما مثل الأب (</a:t>
            </a:r>
            <a:r>
              <a:rPr b="1" lang="ar-SA" sz="6800" spc="-1" strike="noStrike">
                <a:solidFill>
                  <a:srgbClr val="ffffff"/>
                </a:solidFill>
                <a:latin typeface="Times New Roman"/>
                <a:ea typeface="Akhbar MT"/>
              </a:rPr>
              <a:t>3</a:t>
            </a:r>
            <a:r>
              <a:rPr b="1" lang="ar-SA" sz="6800" spc="-1" strike="noStrike">
                <a:solidFill>
                  <a:srgbClr val="ffffff"/>
                </a:solidFill>
                <a:latin typeface="Times New Roman"/>
                <a:ea typeface="Akhbar MT"/>
              </a:rPr>
              <a:t>)  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تّى متى سأظلّ واقفا أسير في مكاني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525780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</a:rPr>
              <a:t>حتّى متى سأبقى هكذا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675320"/>
            <a:ext cx="9144000" cy="427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طفلا في ايمان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م من مرّة نويت و لم أفعل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523880"/>
            <a:ext cx="5105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cs typeface="????Boutros Rokaa"/>
              </a:rPr>
              <a:t>كم من مرّة وعدت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ea typeface="????Boutros Rokaa"/>
              </a:rPr>
              <a:t> و لم أفي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 أعود,  أعود اليك فأراك لم تغفل, تحنو عليّ تماما مثل الأب (</a:t>
            </a:r>
            <a:r>
              <a:rPr b="1" lang="ar-SA" sz="6800" spc="-1" strike="noStrike">
                <a:solidFill>
                  <a:srgbClr val="ffffff"/>
                </a:solidFill>
                <a:latin typeface="Times New Roman"/>
                <a:ea typeface="Akhbar MT"/>
              </a:rPr>
              <a:t>2</a:t>
            </a:r>
            <a:r>
              <a:rPr b="1" lang="ar-SA" sz="6800" spc="-1" strike="noStrike">
                <a:solidFill>
                  <a:srgbClr val="ffffff"/>
                </a:solidFill>
                <a:latin typeface="Times New Roman"/>
                <a:ea typeface="Akhbar MT"/>
              </a:rPr>
              <a:t>)  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981080"/>
            <a:ext cx="60199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ريد أن أدخل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ea typeface="Akhbar MT"/>
              </a:rPr>
              <a:t> الى أعماقك فأسبح نهر حبّك  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1828800"/>
            <a:ext cx="449568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ريد أن أسكن بقرب قلبك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92" name=""/>
          <p:cNvSpPr/>
          <p:nvPr/>
        </p:nvSpPr>
        <p:spPr>
          <a:xfrm>
            <a:off x="0" y="1981080"/>
            <a:ext cx="57913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أنفق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ea typeface="Akhbar MT"/>
              </a:rPr>
              <a:t> العمر لك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6:11Z</dcterms:created>
  <dc:creator>Charbel Azar</dc:creator>
  <dc:description/>
  <dc:language>en-US</dc:language>
  <cp:lastModifiedBy>Personal</cp:lastModifiedBy>
  <dcterms:modified xsi:type="dcterms:W3CDTF">2008-04-26T08:06:01Z</dcterms:modified>
  <cp:revision>9</cp:revision>
  <dc:subject/>
  <dc:title>PowerPoint Presentation</dc:title>
</cp:coreProperties>
</file>