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D7E2-0656-46E7-9B6E-FD3E376A0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0262-64C7-4D02-8FF2-C2D56711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0A11-4C88-4751-8BDA-448CB909B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3A26-4926-45B3-8E65-1CEB5D150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05C5-A766-406D-B014-D12B6656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2836-F96C-417A-9C6F-2A079195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32F2-9995-4666-8CC1-6537645E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91DC-4D86-4C06-A117-959415CC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9DFD-EED6-4BDE-AD92-60689866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02AF-2A3F-4849-9BEC-C44D500D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4E2D-38C3-4935-9619-61F78184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5021-66F6-448A-8C54-6638804D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EE73-987B-4072-8BA0-68FAAC2C97E6}" type="slidenum">
              <a:rPr b="0" lang="ar-L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4356000" cy="100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0" spc="-1" strike="noStrike" u="sng">
                <a:solidFill>
                  <a:srgbClr val="000000"/>
                </a:solidFill>
                <a:uFillTx/>
                <a:latin typeface="Arial"/>
                <a:cs typeface="AF_Diwani"/>
              </a:rPr>
              <a:t>نشيد المناولة: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0" spc="-1" strike="noStrike">
                <a:solidFill>
                  <a:srgbClr val="000000"/>
                </a:solidFill>
                <a:latin typeface="Tahoma"/>
                <a:cs typeface="Tahoma"/>
              </a:rPr>
              <a:t>ربي أنا ورقة بيضاء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63640" y="0"/>
            <a:ext cx="6156360" cy="136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ربّي أنا ورقةٌ بيضا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ea typeface="Akhbar MT"/>
              </a:rPr>
              <a:t> أُرسُم عليه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كلَّ ما تشا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5661000"/>
            <a:ext cx="88930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6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إنّي الشراعُ وأنتَ الريح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589720"/>
            <a:ext cx="88930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6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هيّا ارحلْ بي حيثما تشاءْ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08000" y="115920"/>
            <a:ext cx="6156360" cy="136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ربّي أنا ورقةٌ بيضا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ea typeface="Akhbar MT"/>
              </a:rPr>
              <a:t> أُرسُم عليه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كلَّ ما تشا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0920" y="414360"/>
            <a:ext cx="5292720" cy="107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8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cc00"/>
                </a:solidFill>
                <a:latin typeface="Arial"/>
                <a:cs typeface="Akhbar MT"/>
              </a:rPr>
              <a:t>إنّي اليراع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8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cc00"/>
                </a:solidFill>
                <a:latin typeface="Arial"/>
                <a:cs typeface="Akhbar MT"/>
              </a:rPr>
              <a:t>وأنتَ الفكر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8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cc00"/>
                </a:solidFill>
                <a:latin typeface="Arial"/>
                <a:cs typeface="Akhbar MT"/>
              </a:rPr>
              <a:t>هيّا اكتُبْ ب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8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cc00"/>
                </a:solidFill>
                <a:latin typeface="Arial"/>
                <a:ea typeface="Akhbar MT"/>
              </a:rPr>
              <a:t> كيفما تشا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08000" y="115920"/>
            <a:ext cx="6156360" cy="136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ربّي أنا ورقةٌ بيضا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ea typeface="Akhbar MT"/>
              </a:rPr>
              <a:t> أُرسُم عليه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كلَّ ما تشا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81080" y="587520"/>
            <a:ext cx="8962920" cy="78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نّي القيثارُ وأنتَ اللحن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7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7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7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هيّا اعزفْ بي قدرَ ما تشا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31640" y="115920"/>
            <a:ext cx="6156360" cy="13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4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ربّي أنا ورقةٌ بيضاء أُرسُم عليه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4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كلَّ ما تشا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20:21:46Z</dcterms:created>
  <dc:creator>Charbel Azar</dc:creator>
  <dc:description/>
  <dc:language>en-US</dc:language>
  <cp:lastModifiedBy>Charbel Azar</cp:lastModifiedBy>
  <dcterms:modified xsi:type="dcterms:W3CDTF">2002-07-05T13:17:24Z</dcterms:modified>
  <cp:revision>7</cp:revision>
  <dc:subject/>
  <dc:title>Slide 1</dc:title>
</cp:coreProperties>
</file>