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DCA-A0A6-4860-90FE-DF5412CA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891-62E3-4388-92BD-F1086990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BEB-63BF-45C4-8CA0-9DEA7B8D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5D2-1141-420F-BDD3-1951E565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954-528E-44BF-BD26-07038FBE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179-555C-4622-B452-3CCFA49D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374-9EAF-497E-AAFC-8F255138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290-60F4-4375-9BB6-E9C14066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DF6-A60C-4D4C-BE52-F93EC312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77A-0601-4354-A42A-7FA05383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BBD-5973-42A7-838E-FEE6D275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1E2-14AD-4D59-A3BE-19E1BD36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2061-81AE-4BA2-A2D4-D27E52F62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8945877cEaAGZliKr_ph" descr=""/>
          <p:cNvPicPr/>
          <p:nvPr/>
        </p:nvPicPr>
        <p:blipFill>
          <a:blip r:embed="rId2"/>
          <a:stretch/>
        </p:blipFill>
        <p:spPr>
          <a:xfrm>
            <a:off x="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5960" y="44280"/>
            <a:ext cx="4296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ثلِ الإبنِ الشاطِ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رح إرجَع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َك يا هالناطِ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عدروب ال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ا قدِّملك 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ثلِ الإبن الشاط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عندك يخل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دربي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7997209garmnR_ph" descr=""/>
          <p:cNvPicPr/>
          <p:nvPr/>
        </p:nvPicPr>
        <p:blipFill>
          <a:blip r:embed="rId2"/>
          <a:stretch/>
        </p:blipFill>
        <p:spPr>
          <a:xfrm>
            <a:off x="0" y="0"/>
            <a:ext cx="5630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12800" y="44280"/>
            <a:ext cx="3916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ما بَدّي الولا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لا لِبس الخوات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َدي قل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ربي يا حبي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ما بَدّي الولا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لا لِبس الخوات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َدي قل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ربي يا حبي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حبي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12:43Z</dcterms:modified>
  <cp:revision>7</cp:revision>
  <dc:subject/>
  <dc:title>PowerPoint Presentation</dc:title>
</cp:coreProperties>
</file>