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7BD-416E-4B22-ADF1-C2735D4D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DDD-18FA-44E6-BBF0-CAA87355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69A-FE13-4B71-8CB8-9F1BDBA7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F46-464B-492F-BFD2-019F455C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123-94CE-486B-8D0A-BB70801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13F-65C8-4E2C-9EB2-B034885A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61C-18C4-4EE6-986A-554BCD61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B30-2EAF-4F54-B99F-74B05BAA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A03-3334-496C-8EFD-F72FF039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091-F619-48BA-AA7B-DA56FF9E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600-55DA-43D9-A956-9BB77122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A3C-7675-4447-8FF4-D2A45E3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2FA5-7794-40F6-8DAB-A74B9ACB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1011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9280" y="149400"/>
            <a:ext cx="9411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اركي يا نفسي الربَّ ولا تنسَي كل حسناته (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 يا نفسي الرب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، بارك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09720" y="2313000"/>
            <a:ext cx="5769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غفر كلّ آثام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ذي يشفي جميع   أمراض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يُنَجّي من الحفرة حيات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الرحمة دوماً يكلّلُ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95720" y="5940360"/>
            <a:ext cx="13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ُشبعُ بالخيرِ عمرَكِ فيجدَِّد كالنَّسرِ شباب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ذي يملأُ احتياجاتك باركي ربّك يا نفسي باركي  باركي يا نفسي الر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39:33Z</dcterms:created>
  <dc:creator>USER</dc:creator>
  <dc:description/>
  <dc:language>en-US</dc:language>
  <cp:lastModifiedBy>USER</cp:lastModifiedBy>
  <dcterms:modified xsi:type="dcterms:W3CDTF">2002-10-30T15:43:48Z</dcterms:modified>
  <cp:revision>1</cp:revision>
  <dc:subject/>
  <dc:title>PowerPoint Presentation</dc:title>
</cp:coreProperties>
</file>