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A22-F45F-4AFB-B77E-AB2D37CB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6FD6-79D8-48AA-B9C0-50B96280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754-AD95-4479-854A-7609BAD0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84A-D09F-4D62-9C62-25A8A75C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95BD-8C50-437E-8FAF-C87F823B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E865-DB42-4476-80BE-0CF1D736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29A7-990A-44CC-9621-7CA3B3F7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FC4A-2DE4-4927-8B58-63DDD56B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F917-F05F-44ED-8D47-2F61B36D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8267-ABC5-443B-990A-60B78C6A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FBC6-C42D-480B-AD4D-00255224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B04-67E6-466B-95A7-ED68B943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7E91-132A-4062-A19D-F861990A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E50E-6B4B-4D42-834D-7CAEE97D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BB76-5A39-481E-ACDB-6BCE5F4C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F4F1-F473-4FC8-AF44-96487698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C939-4AFC-41CF-BBDC-C2A7CBEB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C14C4-DDA4-4188-A1DD-A84385A1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0F6C-EB2A-4456-B645-BEE4E466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F322D-4865-4D8F-B595-B9BED91C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FEBE2-542F-48BE-94CA-519DE483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1460E-8FD1-401E-9696-07480F24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B15-B842-49A9-9793-06C4EF11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50877-A9C5-4D90-9BD8-F94E41F2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1A167-069E-4F6E-B530-A703A70C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1FC29-9D4D-4384-B4E6-C7F5697D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F904-05B3-4454-ADBC-A516D389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6359-B139-4889-B749-D635E4E3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186A0-6D4A-4F3C-8277-A86B65B4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D70CF-AD24-4D89-9DF1-4DC92925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AC7-EF38-4F46-9826-480C9360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A62-2BCA-4CDE-AFF1-F13C0E15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FB0F-24C0-41CB-AEDF-5DFE91FB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02F-05E0-4285-B66E-3B97756E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B7C-E55C-407A-9653-924BC6AC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4F9-1469-40FA-8C41-91A9116A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D8B9-F44D-4097-9FEE-5182C9499FB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D72A-81F9-4F65-A606-EA5065AF2E6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998C-B06A-4F1D-A527-E379177C2EE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148360" y="907920"/>
            <a:ext cx="3995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غنوا ي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أبناء الل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08240" y="0"/>
            <a:ext cx="61437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نّوا يا أبناءَ الل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سوع الـمسيح ق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لب الموت ملك الكو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زال سلطان الظل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340000" y="0"/>
            <a:ext cx="657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 الله رب الحيا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يّ إلى دهر الدهو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النور الذي لا يغر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عالوا وخذوا النور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108240" y="0"/>
            <a:ext cx="61437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نّوا يا أبناءَ الل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سوع الـمسيح ق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لب الموت ملك الكو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زال سلطان الظل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40000" y="0"/>
            <a:ext cx="657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 الله رب الحيا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يّ إلى دهر الدهو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النور الذي لا يغر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عالوا وخذوا النور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16360" y="0"/>
            <a:ext cx="5999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ام الربّ وطِئ الـموت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فرحي أورشلي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كلُّ شيءٍ صار جديدا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د تبدّل القدي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0"/>
            <a:ext cx="5427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لهُ حيٌّ بين شعب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عل مسكنَه معه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ا أحزانَ لا أوجاعَ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ا دموعَ بعد اليوم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عدُ اللهِ قد تحقّق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مّ قولُ الأنبي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نّا من قبل أمواتاً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صرنا الآنَ أحي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منا معه سنملك مع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س لـمُلكه انقض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ه سنحيا إلى الأبد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ن يطالنا الفناء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khbar MT"/>
              </a:rPr>
              <a:t>شعبُ الله ارفع رأس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khbar MT"/>
              </a:rPr>
              <a:t>إن إلهَك عظي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khbar MT"/>
              </a:rPr>
              <a:t>أين شوكتُك يا مو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غلبتُك يا جحي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0"/>
            <a:ext cx="6220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وتُ الربِّ صار حياة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ضحى نصرُنا أكي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يّا نفرح ونهل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ل الـملكوتِ الجديد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39:50Z</dcterms:created>
  <dc:creator>Charbel Azar</dc:creator>
  <dc:description/>
  <dc:language>en-US</dc:language>
  <cp:lastModifiedBy>-</cp:lastModifiedBy>
  <dcterms:modified xsi:type="dcterms:W3CDTF">2003-04-20T07:36:29Z</dcterms:modified>
  <cp:revision>7</cp:revision>
  <dc:subject/>
  <dc:title>PowerPoint Presentation</dc:title>
</cp:coreProperties>
</file>