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32E-923D-4BA1-82AD-81DB4E43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D82-4F48-4EA3-BB8B-041AF7E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2F6-94AC-434C-965A-6C517EF3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9EC-5821-473E-A313-59D5E52D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599-3E8C-40CF-9817-C4DF1BC7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2AC-29E3-4537-9A20-97BCDDF7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7D7-0EE1-4651-B392-C20A101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70F-3AE4-4D51-AA76-979D84E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0E0-B4B8-4A4F-A887-EB3AB46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DCF-4663-486C-87C8-9D38EE2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FE7-78FD-4D02-8C3B-88C16573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2FC-6B9F-43DE-8E1C-B86D1BD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16B-08D7-4F9F-97C0-2CDEFA34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185442zVehBggLgs_ph" descr=""/>
          <p:cNvPicPr/>
          <p:nvPr/>
        </p:nvPicPr>
        <p:blipFill>
          <a:blip r:embed="rId1"/>
          <a:stretch/>
        </p:blipFill>
        <p:spPr>
          <a:xfrm>
            <a:off x="0" y="0"/>
            <a:ext cx="569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15000" y="10666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رنّمي أيتها السمواتُ وابتهجي أيتها الأرضُ واندفعي بالترنيمِ أيتها الجبال</a:t>
            </a:r>
            <a:r>
              <a:rPr b="0" lang="ar-SA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27652EflRjcdJyE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505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ه قد ولد لنا وُلدٌ أُعطِيَ لنا ابنٌ فصارتِ الرئاسةُ على كتِفِهِ  دُعِيَ اسمُهُ عجيباً م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ش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اً إلهاً جباراً أبا الأبدِ رئيسَ السلامِ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304920"/>
            <a:ext cx="31240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لهُنا الذي انتظرناهُ وافانا      وهو يُخَلِّصُ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الذي انتظرناهُ قد أتانا    فلنبتهج ونفرح بخلاصِهِ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BRSO01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9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228600"/>
            <a:ext cx="53341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لموا نستقي المياهَ من ينابيعِ الخلاصِ          هلموا نست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عترفوا للرب     نعترف ل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دعوا باسمِه       ندعو باسمِ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خبروا في الشعوبِ بأعمالِه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نُـخـبــِـــر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5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شيدوا له فقد أتى عظائم رنموا يا سما السموات رن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548985bBMXFMRStl_ph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هتفي ورنّمي يا ساكِنَةَ صهيون فإن قدوسَ إسرائيلَ في وسَطِكِ عظي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09:10Z</dcterms:created>
  <dc:creator>SUZANNE.MD</dc:creator>
  <dc:description/>
  <dc:language>en-US</dc:language>
  <cp:lastModifiedBy>USER</cp:lastModifiedBy>
  <dcterms:modified xsi:type="dcterms:W3CDTF">2002-12-23T19:51:14Z</dcterms:modified>
  <cp:revision>2</cp:revision>
  <dc:subject/>
  <dc:title>PowerPoint Presentation</dc:title>
</cp:coreProperties>
</file>