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68D-0AA8-4040-BD8C-AAD33CA8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269-D990-403A-9DD0-A246745A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63B-9F3F-4ABA-A3DD-0611244C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E9C-9E63-4ED6-A58A-856D5D1E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CF2-364A-4702-A75D-66249A57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90E-613B-4786-8E22-3196AE88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A85-E625-4713-97B4-4FF469FD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D98-3D2D-4CE3-A931-A7D5D2FA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D22-E476-4B45-8691-88F5CA00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174-91CF-411F-9BC6-F3B6370D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62C-B711-4EF6-B6E6-A7187EBB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62C-B2FC-4516-B768-BF710AB1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F39B-A170-42E1-9D66-9B412D5AE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40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05320" cy="9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من عُمـقِ آثامـي دعـوتْ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أنصِتْ الى صوتِ 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دعـــا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أنا غيرَ وجهِـك ما رجـوت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ملقاهُ مأدبــةُ رجــــا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581280" cy="14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هبْ من حنانِك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قطرةً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تحـوّلُ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قفرُ وعو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و أعطِ عينيَ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دمعــةً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ي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وضها طفـلاً                                                                                                                                                                                                              أعـ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480"/>
            <a:ext cx="3581280" cy="90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اذا استبـدَّ بيَ                            الخجلْ أو أبكمَ العارُ فمـ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بضاتُ حُبِّـك فلتـَزَلْ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تـى النهايــةِ في د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9:17:20Z</dcterms:created>
  <dc:creator>SUZANNE.MD</dc:creator>
  <dc:description/>
  <dc:language>en-US</dc:language>
  <cp:lastModifiedBy>HANI SAFI</cp:lastModifiedBy>
  <dcterms:modified xsi:type="dcterms:W3CDTF">2003-03-14T12:24:33Z</dcterms:modified>
  <cp:revision>4</cp:revision>
  <dc:subject/>
  <dc:title>PowerPoint Presentation</dc:title>
</cp:coreProperties>
</file>