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0038-F0DA-4A19-98DB-E24F1BD41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0A7D-E195-463A-99F7-F559DBCB6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3216-EFBA-4362-9991-53181774D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0D7E-BCD9-496C-91A8-C964F9B89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0B9B-B005-499C-9226-8F567D6C7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B260-E47A-41EC-B5D9-D29564070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FA2D-2EE8-4BEA-8EFA-6C6CC923D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4125-F397-468E-A856-82B182002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E0C8-BBA4-4452-9D5E-0FABD6DCF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293D-B8DC-4C28-A399-35194B97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8F11-F31F-48FE-A749-83FC8FDF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D55E-D4DB-4F3E-A82C-B3B28424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6AC27-7F2E-41D0-8A01-22A49E6EE3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357880" cy="7086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434280" y="0"/>
            <a:ext cx="270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6888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621320" y="0"/>
            <a:ext cx="4824360" cy="7315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1028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181480" y="0"/>
            <a:ext cx="3962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3T10:28:13Z</dcterms:created>
  <dc:creator>SUZANNE.MD</dc:creator>
  <dc:description/>
  <dc:language>en-US</dc:language>
  <cp:lastModifiedBy>HANI SAFI</cp:lastModifiedBy>
  <dcterms:modified xsi:type="dcterms:W3CDTF">2003-03-23T14:04:47Z</dcterms:modified>
  <cp:revision>2</cp:revision>
  <dc:subject/>
  <dc:title>PowerPoint Presentation</dc:title>
</cp:coreProperties>
</file>