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717-1B3B-49F0-BC9B-C6E62E3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5C6-E2B3-4299-9AF0-81E38ABA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57D-5850-4637-9F44-EEA56E11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43D-33F3-4504-955E-FB2862C2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EF9-FCC5-410C-81DE-BA4DC02B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104-A02A-4A5E-BC9C-FD7A657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35-F1E6-436D-95EB-9896E1FF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B90-8683-4E19-96EC-BB938D9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155-3A85-4D34-8B97-A2AFEBFC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11-75CE-444E-B952-96A7448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B6B-DACE-4E9B-98CF-23A6366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DE9-587E-4691-9B7F-7EB910E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490D-C4B4-4623-B362-C269ACAF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u0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10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دخل عرش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بالبر أنظر وجه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كيباً من أج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683545zjAStOanhQ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0"/>
            <a:ext cx="40384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نسى ذاتي والأ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غدو دوماً خاضع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ـكيبـاً مـن أج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2-17T14:38:09Z</dcterms:modified>
  <cp:revision>2</cp:revision>
  <dc:subject/>
  <dc:title>PowerPoint Presentation</dc:title>
</cp:coreProperties>
</file>