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1FD-E80A-4943-8EB2-1EDBDE66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3FB-99B0-4D7F-8046-0DFA3590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BA7-423B-4C9D-9266-E486F515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6A8-C53D-47EC-BAEA-2B09D3B8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427-3DC6-4D37-A929-6C7D2ECC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3BC-D394-4120-BA30-E7238AAC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B7E-26BA-430E-B774-70B10342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DA7-FB6E-4533-BF12-984C0CFB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975-398C-4A12-BF6A-FE781AD7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93E-9B09-497F-8F15-AAD3ED6E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69B-D819-4AB0-8985-B825D0B4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EB3-46B4-476A-B681-7A18427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6701-CC8B-44D3-8EA7-A050CBCB1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43600" y="3049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457200"/>
            <a:ext cx="297180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إليك رفعتُ عينيَّ – يا ساكنَ السموات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abic Transparent"/>
              </a:rPr>
              <a:t>كما أن عيونَ العبيدِ إلى أيدي مواليهم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26214415eDIwaFNgfZ_ph" descr=""/>
          <p:cNvPicPr/>
          <p:nvPr/>
        </p:nvPicPr>
        <p:blipFill>
          <a:blip r:embed="rId1"/>
          <a:stretch/>
        </p:blipFill>
        <p:spPr>
          <a:xfrm>
            <a:off x="0" y="0"/>
            <a:ext cx="564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148621aZKcNdfpQu_ph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10080" y="228600"/>
            <a:ext cx="3505320" cy="82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كما أن عينيَّ الأَمَةِ إلى سيِّدَتِ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كذلك عيونُنا إلى الربِّ إلهِ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حتى يتحنَّنَ علينا – تحنَّنْ علينا يا ربّ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تحنَّنْ علينا فقد طالما امتلأنا هوانا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5215561trgpRaNsdy_ph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3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883908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الما امتلأت نفوسنا من هُزُءِ المترف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هانَةِ المتكبر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07:33:32Z</dcterms:created>
  <dc:creator>SUZANNE.MD</dc:creator>
  <dc:description/>
  <dc:language>en-US</dc:language>
  <cp:lastModifiedBy>USER</cp:lastModifiedBy>
  <dcterms:modified xsi:type="dcterms:W3CDTF">2003-01-28T15:07:06Z</dcterms:modified>
  <cp:revision>2</cp:revision>
  <dc:subject/>
  <dc:title>PowerPoint Presentation</dc:title>
</cp:coreProperties>
</file>