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113-BE34-471D-BA23-32CD1505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592-2932-4389-BBD6-86BC10EC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CA5-18D1-4EAC-A0E3-B91E7E86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DE3-2AF5-4826-8ED7-58638130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F8E-0AB3-4F9F-8BA5-1DA9B141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AB4-3505-4AD4-AB24-E4396485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3B8-0B34-42FD-937E-F15CE5B4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F53-81AD-40F4-9662-DA4DD1B2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1C6-F351-4D8C-94F2-3CD336B4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D30-6BA0-4642-B1FD-3C50FD05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D3D-64DC-4580-8D72-4B3EA481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4150-70F5-46FB-8869-85201EC4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7210-A84C-4D57-A058-93F2379AC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218930oKHvfCUQyf_ph" descr=""/>
          <p:cNvPicPr/>
          <p:nvPr/>
        </p:nvPicPr>
        <p:blipFill>
          <a:blip r:embed="rId2"/>
          <a:stretch/>
        </p:blipFill>
        <p:spPr>
          <a:xfrm>
            <a:off x="228600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2057400" cy="89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لتُ إني أُحافِظ على طُرُقي لِئلا أَخطأُ وأحفَظُ فمي مُلجما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ا دامَ المُنافِقُ أمامي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6257861dvzHEdJlPs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0880"/>
            <a:ext cx="8839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رجتُ ساكناً صمَتُّ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            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بِمعزِلٍ عن الخير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فهاجَ وجعي توهَّجَ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       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لبي في داخلي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6257881GtFSRoCSIN_ph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34320" y="457200"/>
            <a:ext cx="175248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 هذيذي اتقدت فيَّ نارٌ فأطلقتَ لِسا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1940193eoCHDP_ph" descr=""/>
          <p:cNvPicPr/>
          <p:nvPr/>
        </p:nvPicPr>
        <p:blipFill>
          <a:blip r:embed="rId1"/>
          <a:stretch/>
        </p:blipFill>
        <p:spPr>
          <a:xfrm>
            <a:off x="33526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380880"/>
            <a:ext cx="25909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الآنَ ما الذي أرجوهُ أيها السيدُ إنما أنتَ أملي أنقِذني من جميعِ مَعاصيَّ ولا تجعلني للأحمقِ عاراً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5324937uKhisKVkwI_ph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91320" y="380880"/>
            <a:ext cx="2895480" cy="88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د خرِستُ لم أفتح فمي لأنكَ أنتَ فعلتَ إصرف عني ضربتَ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قد فنيتُ من بطشِ يدك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49165714WSZoyV_ph" descr=""/>
          <p:cNvPicPr/>
          <p:nvPr/>
        </p:nvPicPr>
        <p:blipFill>
          <a:blip r:embed="rId1"/>
          <a:stretch/>
        </p:blipFill>
        <p:spPr>
          <a:xfrm>
            <a:off x="-101520" y="0"/>
            <a:ext cx="61974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24480" y="380880"/>
            <a:ext cx="281952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إستمع صلاتي يا ربِ وأَصخْ لاستغاثتي ولا تصمُت عن دموعي فإني غريبٌ عندَك ونزيلٌ كجميعِ أبائي</a:t>
            </a:r>
            <a:r>
              <a:rPr b="1" lang="ar-SA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9:32:11Z</dcterms:created>
  <dc:creator>SUZANNE.MD</dc:creator>
  <dc:description/>
  <dc:language>en-US</dc:language>
  <cp:lastModifiedBy>USER</cp:lastModifiedBy>
  <dcterms:modified xsi:type="dcterms:W3CDTF">2003-01-28T15:11:25Z</dcterms:modified>
  <cp:revision>2</cp:revision>
  <dc:subject/>
  <dc:title>PowerPoint Presentation</dc:title>
</cp:coreProperties>
</file>