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C9E2-34EA-4EFB-ACD6-44F30EE2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7A59-C2A1-4E80-A67A-68C2B5AB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6BA8-1478-429C-AC00-978DDF60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B8B4-0444-4CAD-8532-80D9433B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A5E1-7A94-4DE0-851D-B66181D2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966B-5B94-40C9-B63A-A58FBEB5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E8E9-6A3E-4C74-9776-B04C4FB3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554D-6212-4EB6-9953-C822B1B0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9655-C621-47A9-9E19-5FC0318B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6E5E-5205-4507-B528-01303DE3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B01C-711B-4E22-87FE-C9B465EF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5312-B03F-4DAD-984D-2E05AA58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62B6-D283-4D26-B923-FA5C8742F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3498774VHyFuSjlJC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893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تعال بيننا أقِم عندنا وخذ من قلوبنا لك مسك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27240" y="3838680"/>
            <a:ext cx="736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ب لنا عيوناً ترنو إلي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واجعل حياتنا مُلكاً لدي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نعرف طعم الهناء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لا استجب منّا الدعاء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23498774VHyFuSjlJC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893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تعال بيننا أقِم عندنا وخذ من قلوبنا لك مسك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52560" y="3838680"/>
            <a:ext cx="759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مح الضغينة من صدورنا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ازرع كلامك في ضميرن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فنحصد حب العطا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ألا استجب منا الدعاء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3498774VHyFuSjlJC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893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تعال بيننا أقِم عندنا وخذ من قلوبنا لك مسك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41160" y="3838680"/>
            <a:ext cx="6849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حن جياع أنت خبزنا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نحن عطاش أنت ماؤن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فمنك يطيب الغذا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ألا استجب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نا الدعاء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00Z</dcterms:created>
  <dc:creator>USER</dc:creator>
  <dc:description/>
  <dc:language>en-US</dc:language>
  <cp:lastModifiedBy>USER</cp:lastModifiedBy>
  <dcterms:modified xsi:type="dcterms:W3CDTF">2002-10-30T18:51:19Z</dcterms:modified>
  <cp:revision>1</cp:revision>
  <dc:subject/>
  <dc:title>PowerPoint Presentation</dc:title>
</cp:coreProperties>
</file>