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BEE-DD55-4B50-8621-6D92A1B5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4D1-F2BB-4EB5-8184-57E24D54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C17-A371-420B-B889-8F775C06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C4C-6C84-40ED-8909-FE00243A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56A-C6DC-46F6-AA27-3AF012DD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770-8B2D-41D3-BBA3-496FF5BA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9E8-3863-4EC9-85BB-7FAEBAB1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B6E-D38F-48E6-99F0-CE691541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B64-877D-4AA6-ADEB-3E5230B9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A7A9-AB22-4C78-9B33-7702FB65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7B4-8D25-458B-96CD-2574B547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814-748F-4FD4-99F2-56DD9A17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2A9C-B91B-47CF-8040-D000A2BD7C0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292640"/>
            <a:ext cx="6400800" cy="218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خذ يا  ربّي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1905120"/>
            <a:ext cx="86108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نا على بابك ليلا و نها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صوتك يدعوني يا صديقي الوديع نعمتك تغمرني, قلبك يجذب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يدك تنشلني, فليحيى حبّ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خذ يا ربّي و اقبل منّي كلّ ذات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و افعل بها ما تشاء, هبني حبّك هبني روحك نعمتك وحدها تكفيني (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057400"/>
            <a:ext cx="861084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نا على بابك ليلا و نها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ضطرم حبّا و اليك أتو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نظراتك تلهمني يا صديقي الحبيب وجهك موطني فليحيى حبّ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خذ يا ربّي و اقبل منّي كلّ ذاتي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و افعل بها ما تشاء, هبني حبّك هبني روحك نعمتك وحدها تكفيني (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0920" y="2193840"/>
            <a:ext cx="7093080" cy="740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خذ يا ربّي و اقبل منّي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كلّ ذاتي و افعل بها ما تشا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هبني حبّك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هبني روحك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نعمتك وحدها تكفيني. (</a:t>
            </a: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3</a:t>
            </a: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4:17Z</dcterms:created>
  <dc:creator>Charbel Azar</dc:creator>
  <dc:description/>
  <dc:language>en-US</dc:language>
  <cp:lastModifiedBy>Personal</cp:lastModifiedBy>
  <dcterms:modified xsi:type="dcterms:W3CDTF">2008-04-26T08:27:32Z</dcterms:modified>
  <cp:revision>7</cp:revision>
  <dc:subject/>
  <dc:title>PowerPoint Presentation</dc:title>
</cp:coreProperties>
</file>