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366-5327-4CDC-8BAD-57BF11C8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B1C-CFB6-4CC2-AB39-3DBA2B86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D08-7E2C-4D90-8AEA-C6944563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F34-CB00-407C-BF88-A1FD2462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04D-AC4B-47C8-B6DB-47201ACE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663-E9EF-4870-A1FB-1924318C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385-B97F-47B7-9165-913ADD3D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7F1-2F8C-4999-BBB9-81301A0A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0E1-EDEC-4E13-A6A3-AF35312C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4BC-E0E7-4C6C-9E43-3E6E729D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90A-F2FF-4EFB-A90A-1BACD7F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CDB-DB32-4CAB-8AD5-3AA4DB1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BD95-4DB6-496C-A976-CAD7C0671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2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2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2:54:09Z</dcterms:created>
  <dc:creator>USER</dc:creator>
  <dc:description/>
  <dc:language>en-US</dc:language>
  <cp:lastModifiedBy>USER</cp:lastModifiedBy>
  <dcterms:modified xsi:type="dcterms:W3CDTF">2002-11-01T02:54:20Z</dcterms:modified>
  <cp:revision>1</cp:revision>
  <dc:subject/>
  <dc:title>PowerPoint Presentation</dc:title>
</cp:coreProperties>
</file>