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344-906F-4877-BD8E-8718EC91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B10-1057-4FA8-B6C5-4A72B29E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E69-63E6-4D28-BC2A-32976335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7A7-7257-471A-88E3-D6A13C2D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2337-8C8A-4131-B6DD-3244F6C9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A9C-C4D8-4832-8367-E7086B96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EA5-A86E-453B-A5EE-4C09EE26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7F3-0DF6-410D-A4CD-E8D4363A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53D-84E7-43C3-8696-AC047D0D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6AC-96E1-4BC1-8CA9-B64F9322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E50-CCF0-4C3D-901D-8EBCF8F8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BE2-729D-40F8-8C18-DFD31699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53A1-2A04-4A38-AB8D-091CBE9AA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33520"/>
            <a:ext cx="3787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هلمّ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املأ هيكلنا بالنو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املأ هيكلنا بالنو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بضياء وجه ال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920" y="5791320"/>
            <a:ext cx="9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لن نخاف    لن نخشى الظلمة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6480" y="0"/>
            <a:ext cx="4457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885240" y="0"/>
            <a:ext cx="6522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لن تقس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الدرو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نحوك تسافر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</a:rPr>
              <a:t>القلو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114920" y="5943600"/>
            <a:ext cx="1119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نورك ربّي يكفينا    ذا مكانٌ نلتقي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200" y="301680"/>
            <a:ext cx="45118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صوبك</a:t>
            </a: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مُدّت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أيدين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</a:rPr>
              <a:t>تناجيك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3:20:01Z</dcterms:created>
  <dc:creator>HANI SAFI</dc:creator>
  <dc:description/>
  <dc:language>en-US</dc:language>
  <cp:lastModifiedBy>HANI SAFI</cp:lastModifiedBy>
  <dcterms:modified xsi:type="dcterms:W3CDTF">2003-06-01T13:44:26Z</dcterms:modified>
  <cp:revision>1</cp:revision>
  <dc:subject/>
  <dc:title>Slide 1</dc:title>
</cp:coreProperties>
</file>