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38B-7E2B-4F35-BFEB-364448BB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5F3-0342-4A58-8EE4-45CD3F9E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6BB-44DA-4A47-9E66-C73AF2B3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988-D944-42C1-BBC5-08A5DF8A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247-CE48-41D0-87DF-36E069BD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F45-6CF6-44AD-A867-D79F8551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D01-FD3F-4A96-8DDA-1858E4B2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602-0E91-4AF2-B064-77B140F2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64E-9173-4283-A8D8-F7A30EDF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282-B5E6-42A2-AFAD-8024B4A0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E93-CD83-4C51-A71D-8651AB42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B53-AEB1-4F9D-895B-B025B7DF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63E6-6015-469F-A3E9-153A5BE6C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2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2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2:54:09Z</dcterms:created>
  <dc:creator>USER</dc:creator>
  <dc:description/>
  <dc:language>en-US</dc:language>
  <cp:lastModifiedBy>USER</cp:lastModifiedBy>
  <dcterms:modified xsi:type="dcterms:W3CDTF">2002-11-01T02:54:20Z</dcterms:modified>
  <cp:revision>1</cp:revision>
  <dc:subject/>
  <dc:title>PowerPoint Presentation</dc:title>
</cp:coreProperties>
</file>