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1B44-C5EB-406C-BF21-824D069A0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034C-6AAA-40FF-ACEF-DDE2FC4A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5339-D34E-41C2-BB82-01A4ABFAE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6647-40AE-4264-AF8C-DEF911BBE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6C0C-2995-4D8A-9BDC-35181E4DC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3276-8FC4-482E-A578-EFFDEF50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506C-302B-4E16-83DF-CADA68E1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F303-066E-4487-AB65-31F01814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4954-F50E-416F-8625-F59B4964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8C84-CFDD-4E15-9467-73F3EADD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1209-2C86-4A21-8319-75813032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212B-30BD-4648-82BB-F7D4CFEF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ACA6-C5E6-4344-89AF-FD389734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D314-370C-436E-B3D2-8E71A3F8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FAD0-0B6C-4A38-A359-E3BB5A9D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8053-E030-4791-A382-6A038E4A4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45D1-629B-4B64-A8CE-9B6DCE425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D448-E5B6-4021-B32F-E652DD95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0693-9B57-4255-ABE7-616E25C3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DB81-206E-4B57-B5FF-FE9CFBB0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DF82-D636-48C5-955C-ACC219DD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1199-3C93-40FB-94C3-A1D36E12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E5FC-CA75-460E-889E-6B0A6124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252F-CDE2-4314-AE60-D684F2CB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9301-37D4-4F82-A012-0170D29AD18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559D-0694-414B-9AEA-C56F2FCB9EB7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900" spc="-1" strike="noStrike">
                <a:solidFill>
                  <a:srgbClr val="ffffff"/>
                </a:solidFill>
                <a:latin typeface="Tahoma"/>
                <a:cs typeface="????Boutros Rokaa"/>
              </a:rPr>
              <a:t>ما أجمل أن نَجتمع معاً</a:t>
            </a:r>
            <a:endParaRPr b="0" lang="en-US" sz="1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03280" y="0"/>
            <a:ext cx="7740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ا أَجْمَلَ أَنْ نَجْتَمِعَ مَعاً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بالْحُبِّ يَقولُ الرَّبُّ لَنَا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ا اجْتَمَعَ باسْمِيَ اثنَانِ مَعاً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إِلاّ وَهُنَاكَ أَكُونُ أَنَ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5680" y="0"/>
            <a:ext cx="75834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َا رَبُّ تَعَالَ الآنَ هُنَا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نَدْعُوكَ تَعَالَ وَكُنْ مَعَنَا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ِنْ رُوحِكَ إِمْلأْنَا فَرَحاً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َسَلاماً لاَ يُعْطِيهِ غِنَىً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41320" y="0"/>
            <a:ext cx="73677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إِذَا كُنْتَ لَنَا عَوْناً وَسَنَد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فِي كُلِّ طَرِيقٍ نَسْلُكُهُ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َإِلَهاً لَيْسَ سِواهُ نَجِد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نُعْطِيهِ الْقَلْبَ نَمْلِكُهُ.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25680" y="0"/>
            <a:ext cx="75834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َا رَبُّ تَعَالَ الآنَ هُنَا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نَدْعُوكَ تَعَالَ وَكُنْ مَعَنَا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ِنْ رُوحِكَ إِمْلأْنَا فَرَحاً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َسَلاماً لاَ يُعْطِيهِ غِنَىً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06:33:39Z</dcterms:created>
  <dc:creator>Charbel Azar</dc:creator>
  <dc:description/>
  <dc:language>en-US</dc:language>
  <cp:lastModifiedBy>-</cp:lastModifiedBy>
  <dcterms:modified xsi:type="dcterms:W3CDTF">2002-12-29T16:03:14Z</dcterms:modified>
  <cp:revision>17</cp:revision>
  <dc:subject/>
  <dc:title>Slide 1</dc:title>
</cp:coreProperties>
</file>