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859-3099-497A-88AE-F4671A98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E8B-68D4-4043-82A8-852493CF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A70-9E0A-449A-A1E8-6AFBF665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F7D-CB7C-4C50-897B-E3CB667B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BC3-0EA8-4E40-A4A8-1E85B83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344-A8A5-4CE8-94AF-759238F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51C-5DFD-4095-9951-BBA1DF2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492-41F6-4509-B594-3B5C3004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309-4378-4660-B9C4-01321176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BC5-F68B-4E67-9C73-357547E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513-BD91-48E0-8831-44CF235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D58-B219-4152-B2DF-2BF1A9D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B6D1-BEF6-4B80-88BC-AFA9471558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49360"/>
            <a:ext cx="9144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ffff"/>
                </a:solidFill>
                <a:latin typeface="Arial"/>
                <a:cs typeface="????Boutros Rokaa"/>
              </a:rPr>
              <a:t>أنتم ملح الأر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9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ملحُ الأرض، فإذا فَسَدَ الملحُ فأيُّ شيءٍ يُمَلِّحُهُ، إنه لا يصلُحُ إلاّ لأن يُطرَحَ في خارجِ الدارِ فيدوسه النا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khbar MT"/>
              </a:rPr>
              <a:t>أنتُم نورُ العالَم، لا تَخفَى مدينةٌ على جبل، ولا يوقدُ سراجٌ فيوضعَ تحتَ المِكيال، بَلْ على المنارةِ ليُضيءَ لجميع الذينَ هُم في البي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94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يُضئ نورُكُم هكذا للناس لِيَروا أعمالَكُم الصالِحَة فيمجِّدوا أباكُم الذي في السماو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ف</cp:lastModifiedBy>
  <dcterms:modified xsi:type="dcterms:W3CDTF">2006-04-09T17:59:15Z</dcterms:modified>
  <cp:revision>5</cp:revision>
  <dc:subject/>
  <dc:title>Slide 1</dc:title>
</cp:coreProperties>
</file>