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26F-9EC8-41FD-8D02-A9FF2C0F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BA2-8D5D-4236-963A-EFC622A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09C-4814-48F3-AC96-145960A8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B61-FEED-4099-897B-277B74C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822E-A0F7-47C9-8C2F-3A24E751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6C98-D404-4124-B429-7FB94607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006-8A1A-4533-9ED4-FF350E7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40C4-7938-4865-9EA1-832D40D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93C-2ED5-48C3-A01D-7AC1D51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F5BC-7452-4C83-94F5-829A8D41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42C-3D59-47A6-8D82-06C7370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2E8-0A62-47EE-84C0-0E865269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2E65-2BDB-4B85-92CA-CC99FE1E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DE5-91F8-4A3A-861F-CD6CF3D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51F9-6964-4A8F-8062-B97B6F6D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E478-1AD1-460B-A686-D978A228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123C-E34B-4902-949B-1BE73A19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2464-C457-45FD-B1FF-ED7B43A1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AF45-21B2-4F7E-B07E-8CE936B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6E7D-CC81-45FA-82E3-13358B6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F0C4-B082-47DB-B0CD-5537D45A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3594-0EA5-4AE8-94A6-16A5710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320-1081-4CD3-96E5-B1C8A144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25C2-0EEC-4A38-ADF9-0CD2B771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74C0-CE57-4208-9E7B-5C2EA3D4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C72BC-6792-459A-8EF1-BE8F511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D7B5-D62D-4CFE-B031-205F0A3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5F8F-2109-4BC0-B2DF-DE07BF90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7CB4-A111-4B9D-BCD6-F4BEBDE3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60BD-BE90-44CE-A093-A1AE5306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F08-7917-411E-AAD6-C7EBE48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A5E-17D9-40CC-8B33-A9F7CC3D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B38-5232-4454-A941-A5CBAE73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95B-DD72-42F5-B2CC-747752EF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93A-B36A-4544-8317-5BF5742C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864-63B1-4B82-902A-B827465B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6F2A-4C8A-4529-9A3F-93567619AD1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A151-2CC2-4C51-B6F7-B8A152CD3EB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BEE-F300-42BE-ADDB-71F663BB53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48360" y="907920"/>
            <a:ext cx="3995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غنوا 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أبناء الل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08240" y="0"/>
            <a:ext cx="6143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نّوا يا أبناءَ الل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الـمسيح ق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لب الموت ملك الكو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ال سلطان الظل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40000" y="0"/>
            <a:ext cx="657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 الله رب الحيا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يّ إلى دهر الدهو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النور الذي لا يغ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عالوا وخذوا النور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16360" y="0"/>
            <a:ext cx="599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ام الربّ وطِئ الـموت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رحي أورشل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لُّ شيءٍ صار جديدا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د تبدّل القد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0"/>
            <a:ext cx="5427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لهُ حيٌّ بين شعب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عل مسكنَه معه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أحزانَ لا أوجاعَ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دموعَ بعد اليوم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دُ اللهِ قد تحقّق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مّ قولُ الأنب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نّا من قبل أمواتاً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صرنا الآنَ أحي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منا معه سنملك مع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س لـمُلكه انقض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ه سنحيا إلى الأبد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ن يطالنا الفناء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شعبُ الله ارفع رأس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ن إلهَك عظ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ين شوكتُك يا مو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غلبتُك يا جحي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0"/>
            <a:ext cx="6220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ُ الربِّ صار حيا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ضحى نصرُنا أك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يّا نفرح ونهل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ل الـملكوتِ الجدي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-</cp:lastModifiedBy>
  <dcterms:modified xsi:type="dcterms:W3CDTF">2003-04-20T07:36:29Z</dcterms:modified>
  <cp:revision>7</cp:revision>
  <dc:subject/>
  <dc:title>PowerPoint Presentation</dc:title>
</cp:coreProperties>
</file>