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CFB-BB15-4838-ADA8-119AA994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149-18F4-4309-AF91-BD74061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D61-2503-447A-9D4B-C15CA0FF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39F-1725-4799-AB1C-DC3AD99C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FD1-EB2F-4410-92AD-6982C4A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E47-7929-43C5-9AF7-5A337CF1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80B-F2B3-4BAE-84C2-47D80438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3D4-663C-41EB-A8A6-EF2D2FD5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6E6-D371-498A-ABD7-7B2CB2B7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E6B-2B72-49A6-980A-BB4E64EF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99F-7746-4D7E-A5BC-07339DD4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875-3BF4-4F8D-8847-1C609354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8E2A-8479-4CC5-A50A-C4A68BF2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271440"/>
            <a:ext cx="52578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ن كاس المحبِّي قربان الفِدا عَم يِدخُل لَقلبي عا طول المد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رَح شيل الأشواك مِن نَفسي العطشاني تا حتَّى تِلقاك ربِّي بالقرب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حبوب القمحِ الصارِت قربانِة يسوع قلوب العالَم زارِت سَكنِت بالضُّل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عنقود اللي جمَعتو من كَرم المحبِّي بِكِلمة حوَّلتو لَدَمَّك يا رَبّ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1:23Z</dcterms:created>
  <dc:creator>HANI SAFI</dc:creator>
  <dc:description/>
  <dc:language>en-US</dc:language>
  <cp:lastModifiedBy>HANI SAFI</cp:lastModifiedBy>
  <dcterms:modified xsi:type="dcterms:W3CDTF">2003-04-25T04:32:37Z</dcterms:modified>
  <cp:revision>1</cp:revision>
  <dc:subject/>
  <dc:title>Slide 1</dc:title>
</cp:coreProperties>
</file>