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37F-EFBE-471F-8D04-1A648097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608B-6867-4405-8319-D8F52587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2FA6-53F8-4952-9AC3-2B74431E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667-24E4-4B51-9C05-7CC5AF09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000-A8D2-4483-BB8E-626242D6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023-156C-4F23-A83C-C86B8B2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8A5-26AE-4300-9532-3573964F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02DB-786F-4F26-811F-D932EF73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1E3-53E0-4EEC-ADD5-390AD79F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836-3AFF-433A-8490-9675911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832-B0C9-4CA9-9464-60EBC7F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AE9-EBF6-4341-9680-A59F5C10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A0C-5FBB-4DBD-B5C4-255857C1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52880" y="0"/>
            <a:ext cx="3886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غفر ذنوب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جميعَ ذنوبِكِ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ذي يشفي أمراضَك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أمراضِكِ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829679hezBOeRZqC_ph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0"/>
            <a:ext cx="388620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كلُ ما في داخلي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بارك اسمَهُ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سمَهُ القدو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باركي يا نفسي الرب، باركي الربَ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ولا تنسَي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كلَ حسناتِه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0:41:19Z</dcterms:created>
  <dc:creator>USER</dc:creator>
  <dc:description/>
  <dc:language>en-US</dc:language>
  <cp:lastModifiedBy>USER</cp:lastModifiedBy>
  <dcterms:modified xsi:type="dcterms:W3CDTF">2003-01-20T01:08:37Z</dcterms:modified>
  <cp:revision>6</cp:revision>
  <dc:subject/>
  <dc:title>PowerPoint Presentation</dc:title>
</cp:coreProperties>
</file>