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5D72-6031-49B4-95D5-BC5B89B32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6462-0943-4D49-9118-5E5AAF213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6128-4D12-4B08-BF40-164DF21DC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CEDB-5366-4DE4-BCDD-6FE826B3D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4CD2A-91FB-4691-A2F6-1A739EF4C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3C69D-6B6C-4B34-B782-DBA35CF2A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69B3D-63FA-41A9-9CBB-5CD5B138D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1FFF6-2614-4971-B11A-33A9371AC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3E277-29BF-499F-9A93-3B4B143ED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48C86-B392-4E2A-B414-8F8CC873D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236C6-15A2-499F-A09E-EFBB9999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DAE9-9BF1-4FE1-B2EF-084828E6A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014CD-6C4E-4F25-8CF3-3AE31421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D072F-9D25-45AB-A7D9-7B0EF97D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13281-6424-48F2-A572-2230A8F9A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C023D-27AF-4E33-9B14-73ECCCEF4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FA0E3-2F4F-47D6-BD4B-1BAB80AE4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FF69-B21D-4491-8EE7-7585A4983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BB68-5E1F-4351-BD91-ADD84D521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CBD7-9B00-4FCF-A883-B34C724DE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BB04-644B-4B66-B02F-923DEF79E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E4D1-D0B9-4EF5-BC3A-B0FD8A00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87A1-5438-4DB6-B8F0-B664900A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6938-0A6D-4C08-9E4B-43F6FFBA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4306E-E69C-425A-9467-146D4DC06B6B}" type="slidenum">
              <a:rPr b="0" lang="ar-L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4335D-3907-4F88-B543-0C5F0CEAA1F1}" type="slidenum">
              <a:rPr b="0" lang="ar-L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48769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600" spc="-1" strike="noStrike">
                <a:solidFill>
                  <a:srgbClr val="ffff00"/>
                </a:solidFill>
                <a:latin typeface="Tahoma"/>
                <a:cs typeface="????Boutros Rokaa"/>
              </a:rPr>
              <a:t>طوبى 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600" spc="-1" strike="noStrike">
                <a:solidFill>
                  <a:srgbClr val="ffff00"/>
                </a:solidFill>
                <a:latin typeface="Tahoma"/>
                <a:cs typeface="????Boutros Rokaa"/>
              </a:rPr>
              <a:t>للساعين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68360" y="320760"/>
            <a:ext cx="792324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طوبى للسّاعينَ إلـى السلامِ،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فإنهم أبناءَ اللهِ يُدعَوْن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52280" y="1981080"/>
            <a:ext cx="792324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سلامُ اللهِ، يحفظ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قلوبَكم وأفكارَكم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بالـمسيحِ يسوع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السلامُ لكم جميعاً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نتمُ الذينَ في الـمسيح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8360" y="320760"/>
            <a:ext cx="792324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طوبى للسّاعينَ إلـى السلامِ،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فإنهم أبناءَ اللهِ يُدعَوْن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1676520"/>
            <a:ext cx="525780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Simplified Arabic"/>
                <a:cs typeface="Akhbar MT"/>
              </a:rPr>
              <a:t>ليصفح بعضكم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Simplified Arabic"/>
                <a:cs typeface="Akhbar MT"/>
              </a:rPr>
              <a:t>عن بعضٍ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Simplified Arabic"/>
                <a:cs typeface="Akhbar MT"/>
              </a:rPr>
              <a:t>كما صفحَ اللهُ عنكم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Simplified Arabic"/>
                <a:cs typeface="Akhbar MT"/>
              </a:rPr>
              <a:t>فـي الـمسيح.</a:t>
            </a:r>
            <a:r>
              <a:rPr b="1" lang="ar-SA" sz="8200" spc="-1" strike="noStrike">
                <a:solidFill>
                  <a:srgbClr val="000000"/>
                </a:solidFill>
                <a:latin typeface="Tahoma"/>
                <a:ea typeface="Akhbar MT"/>
              </a:rPr>
              <a:t> 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68360" y="320760"/>
            <a:ext cx="792324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طوبى للسّاعينَ إلـى السلامِ،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فإنهم أبناءَ اللهِ يُدعَوْن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89" name=""/>
          <p:cNvSpPr/>
          <p:nvPr/>
        </p:nvSpPr>
        <p:spPr>
          <a:xfrm>
            <a:off x="0" y="2048040"/>
            <a:ext cx="554508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800" spc="-1" strike="noStrike">
                <a:solidFill>
                  <a:srgbClr val="ffffff"/>
                </a:solidFill>
                <a:latin typeface="Tahoma"/>
                <a:cs typeface="Akhbar MT"/>
              </a:rPr>
              <a:t>إذهَبْ وصالِحْ أخاكَ ثمَّ عُدْ وقرِّبْ قربانَك</a:t>
            </a:r>
            <a:endParaRPr b="0" lang="en-US" sz="10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68360" y="320760"/>
            <a:ext cx="792324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طوبى للسّاعينَ إلـى السلامِ،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فإنهم أبناءَ اللهِ يُدعَوْن.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06:33:44Z</dcterms:created>
  <dc:creator>Charbel Azar</dc:creator>
  <dc:description/>
  <dc:language>en-US</dc:language>
  <cp:lastModifiedBy>Charbel Azar</cp:lastModifiedBy>
  <dcterms:modified xsi:type="dcterms:W3CDTF">2006-03-07T21:42:12Z</dcterms:modified>
  <cp:revision>11</cp:revision>
  <dc:subject/>
  <dc:title>PowerPoint Presentation</dc:title>
</cp:coreProperties>
</file>