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4BF-C057-4F28-9FA1-719C1AB9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560-8299-4D75-96F0-553E1E06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0BD-39C2-467A-88E5-26311D56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66F-2E49-427B-84B4-A6929618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B51-A993-4226-8385-610F271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91F-DCA0-4476-9B39-C5B9DAF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606-752E-479D-8ADE-4A763AC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75E-5BBF-4922-9366-CA63D90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16C-4F69-4BF0-8625-B2B4899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426-36B0-4AE6-A351-C9775DF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B5D-7B2B-48B2-9350-B846DF0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EB9-4C3D-46E4-BEB3-B7B0373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544-BA45-4C93-8098-B4A28F6C7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 اعتمدتم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في المسيح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قد لبستم المسي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280" y="0"/>
            <a:ext cx="370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ميعكم أبناء الله بالإيمان ب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ما تعلمون أن أجسادكم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ي هيكل الروح القد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جِّدوا اللهَ واحملوه في أجسادك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2:41:40Z</dcterms:created>
  <dc:creator>Charbel Azar</dc:creator>
  <dc:description/>
  <dc:language>en-US</dc:language>
  <cp:lastModifiedBy>-</cp:lastModifiedBy>
  <dcterms:modified xsi:type="dcterms:W3CDTF">2003-01-12T16:24:48Z</dcterms:modified>
  <cp:revision>5</cp:revision>
  <dc:subject/>
  <dc:title>نحن الذين اعتمدنا فيك أيّها المسيح، إحفظنا في ثوب ضيائك المجيد </dc:title>
</cp:coreProperties>
</file>