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1C2-9717-4866-8DD0-54DB6E14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E5F-ECB4-4512-9E1E-E5DA7EBA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029-88B6-424D-AA79-DAEA3777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039-7BB1-445F-AFA8-6BAE8D9C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087-924C-4D35-9434-5998891E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76B-C55C-4D12-988E-103D1EF8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744-774F-42A8-96B7-F77C142B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DC7-96C6-4628-A95C-A438920B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D40-54BA-4087-ABE1-E2652A1E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2E1-D17C-4C87-B0DB-5A4639A5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824-C77E-4BA1-AEBE-30A78CE8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0F74-E015-47A8-B1E7-F5F6E329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56D6-AAAE-4AD4-BE46-4A7D1A1523B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907920"/>
            <a:ext cx="64008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200"/>
            </a:b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????Boutros Rokaa"/>
              </a:rPr>
              <a:t>من لي بأن تكتَبَ أقوالي</a:t>
            </a:r>
            <a:br>
              <a:rPr sz="14200"/>
            </a:b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384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مَن لي بأن تُكتَب أقوالي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نْ تُنقَش في الصخرِ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لى الأبدِ إلى الأبدِ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155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إني كلّما تذكّرتُ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رتعتُ وأخذَ جسمي الارتعاش.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93600"/>
            <a:ext cx="9144000" cy="653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نِّي لَعالِمٌ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نَّ فاديَّ حيٌّ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اديَّ حيٌّ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403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ِي لَعالِمٌ أنَّ فاديَّ حيّ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اديَّ حيٌّ وسيقومُ آخر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لى التُراب وبعد ذل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لبَسُ هذه الأعضاءُ بجلد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3600"/>
            <a:ext cx="9144000" cy="1298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بجسدي أُعايِنُ اللهَ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لذي أنا أُعاينه بنفسي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عينايَ تريانه لا غيري.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4:51:38Z</dcterms:created>
  <dc:creator>-</dc:creator>
  <dc:description/>
  <dc:language>en-US</dc:language>
  <cp:lastModifiedBy>-</cp:lastModifiedBy>
  <dcterms:modified xsi:type="dcterms:W3CDTF">2003-01-14T15:12:57Z</dcterms:modified>
  <cp:revision>3</cp:revision>
  <dc:subject/>
  <dc:title>Slide 1</dc:title>
</cp:coreProperties>
</file>