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9B3-D909-4365-A9AC-B18BE01C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30E-8D70-4927-9DAE-C46EFFDC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CAFE-CC7C-43C7-8D7E-E33742A6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EA4-35A0-48FC-AF24-7C5885E8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305-29DD-4815-83F3-8C104DFE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218-09CD-4272-98E4-54BFC8B4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7CB-79AE-48B6-B64E-F0D9A96E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8DC-2282-4D33-B516-82B08141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D362-7627-4CB1-B952-D631C1AA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703-CBEB-4510-A507-F721DF99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121-843F-4314-90D1-1429A26B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80A-13CC-461C-BCFE-6C00B5AD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1C8B-0592-4761-848D-E63567C40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667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86200" y="41400"/>
            <a:ext cx="525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 السنين والحلم بقلبي يكبر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الساعات اتأمل فيك واسه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 الشمعات غفيا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النايات حزن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 بكاسك تسك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008502FOiXzyWBRd_ph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03960" y="120600"/>
            <a:ext cx="5619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ني محجو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داخل كاس وقرب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لكن موجو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 وبوجد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جودك خشوع وره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عطي سعادة ل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ينقلني لدنيي تان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667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86200" y="41400"/>
            <a:ext cx="525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 السنين والحلم بقلبي يكبر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الساعات اتأمل فيك واسه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 الشمعات غفيا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النايات حزن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 بكاسك تسك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00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471240" y="590400"/>
            <a:ext cx="1008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ة اتمنيت اسهر عندك سهرية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أنا والليل مع نجماتو المضو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جماتو نعسو وناموا- والليل اتغطى بحرامو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بقيت سهرانة عي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667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86200" y="41400"/>
            <a:ext cx="525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 السنين والحلم بقلبي يكبر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الساعات اتأمل فيك واسه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 الشمعات غفيا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النايات حزن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 بكاسك تسك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5006587ohtFiSbExQ_ph" descr=""/>
          <p:cNvPicPr/>
          <p:nvPr/>
        </p:nvPicPr>
        <p:blipFill>
          <a:blip r:embed="rId2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5880" y="0"/>
            <a:ext cx="289584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ركع ساع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غرق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بحر جفونك             صعبةالحيا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ربي وقاس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من دون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س بإيد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حمل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ادنية ح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وصل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شوف الآم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عيون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667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86200" y="41400"/>
            <a:ext cx="525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 السنين والحلم بقلبي يكبر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الساعات اتأمل فيك واسه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 الشمعات غفيا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النايات حزن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 بكاسك تسك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15:29Z</dcterms:modified>
  <cp:revision>9</cp:revision>
  <dc:subject/>
  <dc:title>PowerPoint Presentation</dc:title>
</cp:coreProperties>
</file>