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0D2-9679-4595-B082-49D5E7AA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CA1-A937-4FFF-BF6D-F65B26A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3FE-65CD-466E-AFE6-1E991266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576-761D-4D78-B57C-DC616AFB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33E-5ED4-4615-B975-677FC8F4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8BC-671A-4536-B6C1-E14DEF9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17C-8A97-4CDB-A055-52708EDE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824-6D12-42CA-A72A-2F343B5E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2BA-71ED-4D95-A8C1-1858123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AED-D269-4CC2-8E73-6BF3FBFA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293-E0CF-47C4-99A5-F9AE922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5BA-817B-4E4F-95A8-5C1321C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979-06E5-4853-9E0C-D1A426EE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3970hxweEnbIfO_th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0"/>
            <a:ext cx="5105520" cy="9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ركوا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جميع عبيد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واقفين في بيت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إرفعوا أيديكم إلى القد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اركوا الرب، باركوا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ليباركك الرب من صهي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نع السموات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11:42Z</dcterms:modified>
  <cp:revision>3</cp:revision>
  <dc:subject/>
  <dc:title>PowerPoint Presentation</dc:title>
</cp:coreProperties>
</file>