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05AA-8301-4F36-89E1-88AB877C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7506-1BC0-495B-B3FE-988DE2EA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E83-51B4-4E19-B403-A061AC1F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5E4-8CCC-4181-BBF4-9CA292B2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EC7-7CDB-4657-86D8-4FACCE3A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31A-78D6-4423-8BDB-36CDCF33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CA0-FD80-4E15-905F-02663525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DCF-9502-403E-9052-E84C1CA3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5AD-2ADE-46D0-B826-B5EA74FE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30F-E9C4-4698-8204-45E7D11A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EDB-AE48-42AC-B4DA-4DD7C2D9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7D62-88D2-4DC0-9979-F37B73F4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60CD-DA8D-4F8D-AB6E-1E2971A786E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طلبوا ملكوتَ الله وبـِرَهُ أولاً</a:t>
            </a:r>
            <a:br>
              <a:rPr sz="7400"/>
            </a:br>
            <a:r>
              <a:rPr b="1" i="1" lang="ar-SA" sz="7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كلُّ تلكَ الأشياءِ تُزادُ لكُم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7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للوا هللويا 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سألوا يُعطى لكُم، أُطلبوا تجدوا، إقرعوا يُفتَحُ البابُ لكُم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للوا هللويا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0:42:02Z</dcterms:created>
  <dc:creator>Charbel Azar</dc:creator>
  <dc:description/>
  <dc:language>en-US</dc:language>
  <cp:lastModifiedBy>Personal</cp:lastModifiedBy>
  <dcterms:modified xsi:type="dcterms:W3CDTF">2008-04-24T08:29:11Z</dcterms:modified>
  <cp:revision>43</cp:revision>
  <dc:subject/>
  <dc:title>Slide 1</dc:title>
</cp:coreProperties>
</file>