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1FA-2A0B-4E98-BE1C-9684F160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C22-4E8A-49F0-8460-B8DEC25B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464-044A-4E4F-9471-6A716473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D19-BCD9-4BA0-9097-4FC7F878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6CA-6036-4160-B4C7-166F3146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A58-97B9-43C3-8628-05F612C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1F6-B3EB-4F68-B355-548F2029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C04-11DB-49E4-B70E-41F525F0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C42-96BC-4D79-826D-59506EB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34A-F663-4ECA-B4F1-17DADE4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43D-9D4C-41F2-8789-40A55FA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44B-A11D-4763-A39C-01DB3A0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ABA7-EB95-4E99-AC89-DE0BA0D08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6000159" descr=""/>
          <p:cNvPicPr/>
          <p:nvPr/>
        </p:nvPicPr>
        <p:blipFill>
          <a:blip r:embed="rId2"/>
          <a:stretch/>
        </p:blipFill>
        <p:spPr>
          <a:xfrm>
            <a:off x="144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2200" y="214200"/>
            <a:ext cx="7495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لي بتجمعن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يي بتبقى مهما يص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منفرق بالأجن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له تجسد طفل صغ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خلص كل الناس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في عبد وما في ح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ة بالله تساوي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 الخالق زاح الش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دنا تخاوي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6000146" descr=""/>
          <p:cNvPicPr/>
          <p:nvPr/>
        </p:nvPicPr>
        <p:blipFill>
          <a:blip r:embed="rId1"/>
          <a:stretch/>
        </p:blipFill>
        <p:spPr>
          <a:xfrm>
            <a:off x="0" y="-11160"/>
            <a:ext cx="10287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7680" y="-57240"/>
            <a:ext cx="10348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هي اللي بتج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نيتنا زيحوا الم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ليها تزهر ألو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الخالق أعذب ص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ادي السلا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هر الخالق خلى الشمس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زل بخيوطها ألو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لب الإن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و بيدخل مثل الهم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1:24Z</dcterms:created>
  <dc:creator>USER</dc:creator>
  <dc:description/>
  <dc:language>en-US</dc:language>
  <cp:lastModifiedBy>USER</cp:lastModifiedBy>
  <dcterms:modified xsi:type="dcterms:W3CDTF">2002-10-30T15:34:48Z</dcterms:modified>
  <cp:revision>1</cp:revision>
  <dc:subject/>
  <dc:title>PowerPoint Presentation</dc:title>
</cp:coreProperties>
</file>