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C77-729E-4343-B018-D2EDFAA8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CA2-E350-4D43-A0CC-A9A2C73F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C6F-EBEE-47F4-8642-20C83BFD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E82-DE46-438E-A885-618917B8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77C-305B-4182-9AF3-806CF74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E905-8D05-4521-9FCC-02750710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E9E-B8D4-47DF-99E4-557DD89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D1A-5C7A-4463-8BF1-D79663D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74D-9B0D-411A-9996-353E0E3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883-9028-4B28-A2DA-A2AAB96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721-60AF-4102-92F5-58EB81F2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02F-E923-4443-A88E-C64FF1A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6DF-A073-4617-BC74-9BC7CC303C9D}" type="slidenum">
              <a:rPr b="0" lang="ar-L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2060640"/>
            <a:ext cx="5508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هو هو في الأمس واليوم هو البداية هو النهاية هو الألف والياء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11560" y="1989000"/>
            <a:ext cx="59324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ه المجد له الإكرام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له العزّة والقوّة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مدى الدهور آمي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      هللويا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8:29Z</dcterms:created>
  <dc:creator>Charbel Azar</dc:creator>
  <dc:description/>
  <dc:language>en-US</dc:language>
  <cp:lastModifiedBy>Charbel Azar</cp:lastModifiedBy>
  <dcterms:modified xsi:type="dcterms:W3CDTF">2002-07-03T09:06:12Z</dcterms:modified>
  <cp:revision>2</cp:revision>
  <dc:subject/>
  <dc:title>Slide 1</dc:title>
</cp:coreProperties>
</file>