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446-569D-4B84-945F-D0E08B7A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76A-E2F8-45C8-B2F5-1ED5D988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3A7-90A0-4A5C-8EA1-DD2AB89A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BEB-5DF8-4D08-8991-34588B20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A5D8-D8BB-46A7-87E0-5249D3F0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8C1-D452-4A4E-AD67-3941E96D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CB6-067C-4617-AA54-AAA3A71C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A01-F22B-4A1D-9F27-E126EE20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780-4A58-4FDE-9297-F3806C09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4AA-341D-4E5D-8D25-E1EA1EF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340-157F-42B2-8C34-1DD52EAD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102-73EC-4790-AEEE-78C34EC2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38F-9BAD-4605-ACC8-105B9BB8431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أنا ما بستحي في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ما بستحي ف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دّام الكلّ بغنّ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م قدّملك هالغنّي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تبتا ولحّنتلّك هي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رح غنيّها لكلّ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رقّة وحنّية واحساس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هالشبّ البستح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لو بستحي بين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كن ما بستحي ف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 إنت حب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ا في غيرك بالدني حب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 إنت نصي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شو في أحلى من هيكِ نص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لمّا بوقع بالمخاط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ين غيرك حدّي قر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 بشوفك يا ربّي ناط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ما بتتعب لا ما بتغيب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حدك ربّي السامع صوت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مّا بشرب مرّ الكاس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ا هالشبّ البستح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لو بستحي بين الناس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كن ما بستحي في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3-01-01T11:57:44Z</dcterms:modified>
  <cp:revision>13</cp:revision>
  <dc:subject/>
  <dc:title>Slide 1</dc:title>
</cp:coreProperties>
</file>