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D7D-2D32-4AAA-9AB8-9D0BD32F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A2F-42D8-4376-982E-BBF782A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580-B65E-4F27-85C6-60DE0E29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A91-3EBC-4D2D-8093-BDE7FF42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B4F-E9A1-414F-993F-FDB9AA12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402-F87A-4E18-814E-1604C7F0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5C5-07EE-45A8-9779-31F8F89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581-ECFA-479B-8F9A-2C1A7D8C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7D3-3490-4848-BDA0-C4CF2656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B9E-3CD4-4F75-8F62-1539B3B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24C-886A-4428-BED1-4325F55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3BB-473F-4B95-AC9F-42C9306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32E1-A20A-4D7D-99B0-0175FFC5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0774855IvlDAvDgBg_ph" descr=""/>
          <p:cNvPicPr/>
          <p:nvPr/>
        </p:nvPicPr>
        <p:blipFill>
          <a:blip r:embed="rId2"/>
          <a:stretch/>
        </p:blipFill>
        <p:spPr>
          <a:xfrm>
            <a:off x="-1219320" y="25560"/>
            <a:ext cx="6019920" cy="68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1066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0"/>
            <a:ext cx="3200400" cy="70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أرسلني يا ربّ أرسلني        وبروحك القدّوس أضرم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خراف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ذئابِ</a:t>
            </a:r>
            <a:r>
              <a:rPr b="1" lang="en-US" sz="4000" spc="-1" strike="noStrike">
                <a:solidFill>
                  <a:srgbClr val="000000"/>
                </a:solidFill>
                <a:latin typeface="Arabic Transparent"/>
                <a:ea typeface="Times New Roman (Arabic)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abic Transparent"/>
                <a:cs typeface="Times New Roman (Arabic)"/>
              </a:rPr>
              <a:t>بين المســاكين أرسـل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olyspiritsheep" descr=""/>
          <p:cNvPicPr/>
          <p:nvPr/>
        </p:nvPicPr>
        <p:blipFill>
          <a:blip r:embed="rId1"/>
          <a:stretch/>
        </p:blipFill>
        <p:spPr>
          <a:xfrm>
            <a:off x="-457200" y="0"/>
            <a:ext cx="62467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2200" y="304920"/>
            <a:ext cx="2743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خِراف تضيعُ أُرج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ين الذئـاب تثورُ أُخضِع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جدكَ القدّوسِ يا ملكاً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راعيـاً خُطاكَ أتبعُه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ed_gallery_spirits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رسلني نوراً يحمي التائهي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بزاً يُشبِعُ الجائعيــن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 حُبَّاً يغمُـرُ المُعوَزيـنَ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لني يا ربُّ أكرمـ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4TT" descr=""/>
          <p:cNvPicPr/>
          <p:nvPr/>
        </p:nvPicPr>
        <p:blipFill>
          <a:blip r:embed="rId1"/>
          <a:stretch/>
        </p:blipFill>
        <p:spPr>
          <a:xfrm>
            <a:off x="3240" y="0"/>
            <a:ext cx="563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38680" y="0"/>
            <a:ext cx="35053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زرعِ الحبَّ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قبلِ الصّلب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نحنُ إ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 نعكُسِ الربّ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رسـلني يا ربُّ أرسـلن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34:51Z</dcterms:created>
  <dc:creator>USER</dc:creator>
  <dc:description/>
  <dc:language>en-US</dc:language>
  <cp:lastModifiedBy>USER</cp:lastModifiedBy>
  <dcterms:modified xsi:type="dcterms:W3CDTF">2002-11-25T15:36:36Z</dcterms:modified>
  <cp:revision>2</cp:revision>
  <dc:subject/>
  <dc:title>PowerPoint Presentation</dc:title>
</cp:coreProperties>
</file>