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DC04-0E8C-4E8F-85F4-824333BB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579F-1492-4402-A7D0-86D20DDC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FBC8-82DF-4D95-B24A-A8D5BE2B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134-57E5-403E-9E9A-0886285F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AFE3-71F1-47F6-A6E8-6614BD26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B8FF-97AA-49B6-8ED7-DF5F4185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721B-F097-408E-AE1C-111AA1AC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7043-D117-4487-BE83-A59AA3D2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03C0-6D4C-41BC-A264-64896EF2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971F-A043-4740-9544-DC945EF0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CAC9-6625-4203-B90E-E0F190A4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A3B6-ECDB-4AF2-A4EE-A7894673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51F7-E675-4635-9206-6BECF2109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3962520" cy="70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تعالوا إلى مائدة الر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نستقِ من منبعِ الح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ها قد حان وقتُ اللق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صوتُ الرب ينادينا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04920"/>
            <a:ext cx="3962520" cy="90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من يأكل من خبزك يا سيد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يرث الحياة الأبد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ربَّنا، ربَّنا، أعطنا خبزكَ، دوماً أعطن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76197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3276720" cy="9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تعالوا إلى مائدة الر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نلجأ من وحشة الحر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في القربان ملك السلا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فيه ملء أمانين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304920"/>
            <a:ext cx="3962520" cy="90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من يأكل من خبزك يا سيد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يرث الحياة الأبد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ربَّنا، ربَّنا، أعطنا خبزكَ، دوماً أعطن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133720" y="0"/>
            <a:ext cx="76197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2514600" cy="83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تعالوا إلى مائدة الر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نهتدِ في ظلمةِ الدر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هو الرب آتٍ يجو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يُشبعنا ويَهدين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04920"/>
            <a:ext cx="3962520" cy="90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من يأكل من خبزك يا سيد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يرث الحياة الأبد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ربَّنا، ربَّنا، أعطنا خبزكَ، دوماً أعطن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62520" y="0"/>
            <a:ext cx="50925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3809880" cy="68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عالوا إلى وليمة الر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شرب من خمرة الح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أس الحياة طاب لن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اض من قلب فادين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304920"/>
            <a:ext cx="3962520" cy="90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من يأكل من خبزك يا سيد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يرث الحياة الأبد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ربَّنا، ربَّنا، أعطنا خبزكَ، دوماً أعطن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07:14:02Z</dcterms:created>
  <dc:creator>SUZANNE.MD</dc:creator>
  <dc:description/>
  <dc:language>en-US</dc:language>
  <cp:lastModifiedBy>HANI SAFI</cp:lastModifiedBy>
  <dcterms:modified xsi:type="dcterms:W3CDTF">2003-04-17T11:12:44Z</dcterms:modified>
  <cp:revision>2</cp:revision>
  <dc:subject/>
  <dc:title>PowerPoint Presentation</dc:title>
</cp:coreProperties>
</file>