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B88-E80B-4D63-9D6C-1380C5E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F2-CE4A-46B6-A218-06C91D1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07B-7116-4155-AA93-20434308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4F7-8482-49D0-9E0C-706D1986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9D4-7BD8-4D7A-B05A-73E37175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F2F4-523F-4976-B12A-B4F57FE1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FB3-330C-4027-B881-6198ED02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B60D-796E-4B14-A6C7-ACD32D0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8F8A-B147-4BF8-881E-406785D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3E2-DFC6-47DB-B227-F47F299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1B2-C10B-48E7-9E22-34EF7E1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F12-E645-4E65-B6C4-951A513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8E9-0F6A-4455-A892-7F44AB7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A8DA-526B-4D4A-944E-2C55B58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8DC5-F2D3-46AB-84B3-1A558102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61A0-8A7E-470A-B377-FD9F9311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C618-0B1F-48D6-AF0F-18AA0D51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098-61BE-4282-9A54-BFAB10B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A2B-3FAB-4F01-B9D7-E088FED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F86-A5E2-41DB-A21B-F09E8FA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0C0-A563-4D45-8384-A9A5A20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D4D-B78D-47E2-A7F5-CFA5B3E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A03-8B1A-4E89-8DFC-F96608C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510-57A8-4D1A-91C1-F0A5C499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57A-0719-483C-A1C4-D1A6206E94A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46DB-94E9-46A1-A524-178F37AD8A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0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مام كأس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176840" y="1739880"/>
            <a:ext cx="746244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1640" y="476280"/>
            <a:ext cx="62280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ــامَ كــأسِـ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ـهـتِـفُ بـالـدُعـاءِ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641680"/>
            <a:ext cx="5292720" cy="733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دعـو بـاسمِ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ُحـاوِرُ السمـاء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ستَجِـبْ لنـ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0800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811800" y="1879560"/>
            <a:ext cx="6732360" cy="316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6T10:41:01Z</dcterms:modified>
  <cp:revision>19</cp:revision>
  <dc:subject/>
  <dc:title>PowerPoint Presentation</dc:title>
</cp:coreProperties>
</file>