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D1B4-8324-4E4E-B8EC-4CF3E9440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7B70-0798-40CD-AEF4-6FE95458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18E1-20C5-46F0-ABC2-C1BA4AAD6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E169-755D-4C25-BEA0-A448BCA82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D953-B0B9-4D07-9620-C08FF5DC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AA17-48F0-4E82-AC37-AF1ABD13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7AEF-275F-4278-9905-FBDBD003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9208-32B3-4219-9F16-20CD11DF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EF6D-1E5B-4983-904F-3F654292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2ED4-551A-41B2-B21E-212A20C5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38E5-1068-4842-8FC3-DBB7439A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0EA6-040A-4588-860C-97170469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808F-E047-472A-8D47-BAD26CAA097D}" type="slidenum">
              <a:rPr b="0" lang="ar-L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284720" y="0"/>
            <a:ext cx="54100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 u="sng">
                <a:solidFill>
                  <a:srgbClr val="ffff00"/>
                </a:solidFill>
                <a:uFillTx/>
                <a:latin typeface="Tahoma"/>
                <a:cs typeface="Diwany6 Normal"/>
              </a:rPr>
              <a:t>نشيد الدخول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00"/>
                </a:solidFill>
                <a:latin typeface="Tahoma"/>
                <a:cs typeface="Tahoma"/>
              </a:rPr>
              <a:t>يا أول النب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4000" y="4437000"/>
            <a:ext cx="838836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khbar MT"/>
              </a:rPr>
              <a:t>يا أول النبع يا آخر الـمد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213000"/>
            <a:ext cx="9144000" cy="29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خالق الجمال والبحر والصد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76720" y="1773360"/>
            <a:ext cx="5867280" cy="27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كيولي عن حبك البعدو عم يرويني وحدو اللي رح يبق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76720" y="2060640"/>
            <a:ext cx="5867280" cy="27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مرّة بهالزمان دخلت عا قلبي وغمرني نورك ورحل النسيا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1916280"/>
            <a:ext cx="5003640" cy="27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ضحكِة عينيّي وصّل صداها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عند السما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فرح الجنّ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4000" y="4508640"/>
            <a:ext cx="8388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khbar MT"/>
              </a:rPr>
              <a:t>يا أول النبع يا آخر الـمد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2708280"/>
            <a:ext cx="9144000" cy="29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خالق الجمال والبحر والصد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276720" y="1773360"/>
            <a:ext cx="5867280" cy="27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كيولي عن حبك البعدو عم يرويني وحدو اللي رح يبق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4T19:09:52Z</dcterms:created>
  <dc:creator>Charbel Azar</dc:creator>
  <dc:description/>
  <dc:language>en-US</dc:language>
  <cp:lastModifiedBy>ف</cp:lastModifiedBy>
  <dcterms:modified xsi:type="dcterms:W3CDTF">2006-11-28T23:10:22Z</dcterms:modified>
  <cp:revision>8</cp:revision>
  <dc:subject/>
  <dc:title>Slide 1</dc:title>
</cp:coreProperties>
</file>