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EF3-2703-4A35-B45C-089A0384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B2F-7F8E-4D74-A459-498B88CF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733-7534-4C29-91A7-8A2B8AB0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A81-A7B9-434F-B364-18EAC12A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A3C-C0A8-4F79-AB8E-743AAC9D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9A9-92B5-40FB-BB3A-F9C8A49E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588-4EE1-4E89-8B1C-CE588D70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338-A63C-4C30-BB11-4B92BADD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C5F-6AD4-4179-B5FF-DFF25DAA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5E0-B115-491C-926F-E6F9AF6E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AA8-9603-483C-8D94-E292FF7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F68-3297-452D-A6C4-56E2977B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EF67-18E5-41DE-B0C6-BD64C4D52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40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05320" cy="9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من عُمـقِ آثامـي دعـوتْ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أنصِتْ الى صوتِ 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دعـــا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أنا غيرَ وجهِـك ما رجـوت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ecff"/>
                </a:solidFill>
                <a:latin typeface="Times New Roman"/>
                <a:cs typeface="Simplified Arabic"/>
              </a:rPr>
              <a:t>ملقاهُ مأدبــةُ رجــــا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76197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581280" cy="14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هبْ من حنانِك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قطرةً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تحـوّلُ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قفرُ وعو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و أعطِ عينيَ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دمعــةً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ي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وضها طفـلاً                                                                                                                                                                                                              أعـو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09480"/>
            <a:ext cx="3581280" cy="90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اذا استبـدَّ بيَ                            الخجلْ أو أبكمَ العارُ فمــ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بضاتُ حُبِّـك فلتـَزَلْ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	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تـى النهايــةِ في د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228600" y="0"/>
            <a:ext cx="3733920" cy="70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توبوا الى الرب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إنَ الملكوتَ قري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عـودوا الى الحبِّ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r>
              <a:rPr b="1" lang="ar-SA" sz="5400" spc="-1" strike="noStrike">
                <a:solidFill>
                  <a:srgbClr val="ff9933"/>
                </a:solidFill>
                <a:latin typeface="Times New Roman"/>
                <a:cs typeface="Simplified Arabic"/>
              </a:rPr>
              <a:t>فالخارجُ عنهُ غريـب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9:17:20Z</dcterms:created>
  <dc:creator>SUZANNE.MD</dc:creator>
  <dc:description/>
  <dc:language>en-US</dc:language>
  <cp:lastModifiedBy>HANI SAFI</cp:lastModifiedBy>
  <dcterms:modified xsi:type="dcterms:W3CDTF">2003-03-14T12:24:33Z</dcterms:modified>
  <cp:revision>4</cp:revision>
  <dc:subject/>
  <dc:title>PowerPoint Presentation</dc:title>
</cp:coreProperties>
</file>