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1D4C-72DC-45E0-96C4-E5E17165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840-83FA-4757-8CF7-8DD4F145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1C2-621A-4116-BEA7-51264C4F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518-1B86-4B47-A4CE-26AC0D94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519F-E29B-4CDB-A196-B6937584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B011-4E3F-44DB-94DE-511F2F31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59BF-7C8A-4FA2-9704-2136DF5F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E528-99EE-461C-B326-0DCD7730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DA01-F5A2-4F22-8597-C8506DD3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E50F-726A-4F9F-A5A1-A62576F9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F734-2335-4A0B-A22F-6A803C78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B601-3A94-4A80-BBDA-373213A6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2A64-2B2F-4A80-A81F-0EBC5567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E8BE-B556-4B9B-B75C-402D1F85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4603-153F-45B0-8C77-06FACDFB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E69A-221E-46C2-9B89-A173B68A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EBD0-E27F-496E-95E3-66080406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1B3D-9783-4C23-9DC5-80EE9BE6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07F-8702-4F1C-92C8-9B3E3602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3E1-A510-49FA-9490-A2DFAAC4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C3C-B344-450E-802B-FBD63539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968-E404-4398-A0C3-462E5E63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77B1-73F7-4EAF-B6CD-FB093070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C77E-B95C-48F2-87D7-D8368714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23A5-69A1-4125-8FCA-F688DEB95F1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F86F-07E5-41BB-87D5-ED9F137B3B5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87280" y="3573360"/>
            <a:ext cx="6477120" cy="184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ربي عظيم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052640"/>
            <a:ext cx="7880400" cy="396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 u="sng">
                <a:solidFill>
                  <a:srgbClr val="ffffff"/>
                </a:solidFill>
                <a:uFillTx/>
                <a:latin typeface="Tahoma"/>
                <a:cs typeface="AF_Diwani"/>
              </a:rPr>
              <a:t>نشيد المناولة: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68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ربي عظيمةٌ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كلُّ أعمالِكَ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يا إلهَنا القدير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91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عدلٌ وحقٌ كلُّ أحكامِك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أنتَ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مَلِكُ الدّهور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1424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ffffff"/>
                </a:solidFill>
                <a:latin typeface="Tahoma"/>
                <a:cs typeface="Akhbar MT"/>
              </a:rPr>
              <a:t>مَن لا يمجِّد اسمَك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ffffff"/>
                </a:solidFill>
                <a:latin typeface="Tahoma"/>
                <a:cs typeface="Akhbar MT"/>
              </a:rPr>
              <a:t>يا رب مَن لا يَخافُ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ffffff"/>
                </a:solidFill>
                <a:latin typeface="Tahoma"/>
                <a:cs typeface="Akhbar MT"/>
              </a:rPr>
              <a:t>قُدسَك يا ألله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1058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كلُّ الشّعوب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لَكَ سَتَنحني لأنَّ مَجْدَك سَيُرى. هللويا آمين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1:28:31Z</dcterms:created>
  <dc:creator>Charbel Azar</dc:creator>
  <dc:description/>
  <dc:language>en-US</dc:language>
  <cp:lastModifiedBy>-</cp:lastModifiedBy>
  <dcterms:modified xsi:type="dcterms:W3CDTF">2003-01-16T10:09:43Z</dcterms:modified>
  <cp:revision>5</cp:revision>
  <dc:subject/>
  <dc:title>Slide 1</dc:title>
</cp:coreProperties>
</file>