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288-6BB2-4820-A183-D7C5A690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6B4-6CC9-4288-BD29-6D8178C5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BF5-ADF9-40AF-B51C-93D79D21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F4C-6F10-4B8F-959B-686E1EEF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91C-12C7-43DF-A47D-5CAD7E3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DE0-6A22-4671-BCEA-C45C6EC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0F1-313F-4AE7-B930-AA17FF4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211-28B7-4C4E-91E9-1A0DFEF1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30A-62E9-42EB-B4C7-E3DB8C22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8EC-C7D6-4ECD-AF71-A84D67C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E63-EAD1-48A4-87F1-7602C1B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876-1380-4704-9A20-9AF6DC6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2579-C0B5-4C68-AED3-D5AB982F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920606cRVWn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71440"/>
            <a:ext cx="8915400" cy="11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حلوة السّم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شو بحبّ السم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يف بدّي أوصلا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تلاقى بِألله  وعيش بِحما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شبّه يا ابني بالمسيح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 إيمانك أوعى تز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حياتو لْصَلّى صحيـح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ابني احفظ الوصاي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جنّب فعل الخطاي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فّي كل النوايــ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الأسرا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إيمانــك لا تحتـا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ْْرا إنجيلك باسـتمرا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جماعـ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زرع الكلمة بشجـ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خْدوم الأخوة بوداعـ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53:37Z</dcterms:modified>
  <cp:revision>10</cp:revision>
  <dc:subject/>
  <dc:title>PowerPoint Presentation</dc:title>
</cp:coreProperties>
</file>