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FEE-F347-4C02-B7AE-F1570D6C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88B-6CE3-4941-B251-6D03B69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444-17C3-4F56-9A8E-7EFD0B9D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63C-EA68-499E-BD67-C78DB649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84F-C23F-440A-B24E-D0829B4E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736-57CF-4BD5-900A-BA0544D9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EB4-5E07-46F9-BEB4-45234437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EAA-6AD6-4D02-A53E-BAA7ED1B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60D-172F-43C5-B82A-85362268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9F0-5D52-4186-A98C-9345F4C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DE0-C679-482F-9902-9B92C343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3BE-288A-46F2-856E-BE05DB9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5D4-CD60-4E47-830F-02C02B85D9C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22960"/>
            <a:ext cx="4427640" cy="15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????Boutros Roka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33360"/>
            <a:ext cx="5105520" cy="833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َبْ من حنانِك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طرةً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تحوّلُ القفر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ود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56272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و أعطي ع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معة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حوضه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طفلاً أعود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3400" y="0"/>
            <a:ext cx="4800600" cy="1053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من عمقِ آثا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دَعوْ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َنصِت إلـ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صوتِ دُعا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1916280"/>
            <a:ext cx="5076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نا غيرَ وجهِ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ا رجَوْت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لقاه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مأدبةُ رجا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08360" y="1916280"/>
            <a:ext cx="53341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إذا استبدّ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بيَ الخجَل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و أبكمَ العارُ فم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0"/>
            <a:ext cx="5148360" cy="1033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بضاتُ حُبِّكَ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َلْتزَل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حتّى النهايةِ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في دم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12408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وبوا إلـى الربِّ إنّ الـملكوتَ ق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331164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ودوا إلى الحبِّ فالخارجُ عنه غريب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8:12Z</dcterms:created>
  <dc:creator>Charbel Azar</dc:creator>
  <dc:description/>
  <dc:language>en-US</dc:language>
  <cp:lastModifiedBy>-</cp:lastModifiedBy>
  <dcterms:modified xsi:type="dcterms:W3CDTF">2003-01-05T19:58:21Z</dcterms:modified>
  <cp:revision>5</cp:revision>
  <dc:subject/>
  <dc:title>PowerPoint Presentation</dc:title>
</cp:coreProperties>
</file>