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9C00-93F1-4558-AD2D-E1FA08345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14BF-764D-4641-AD91-C095E023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F391-38A1-4D91-892E-A24FE6273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E677-BC66-4469-BE18-3DB19E32D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F07C-9B89-450A-B178-7C7E45EC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1544-0B90-4C94-A053-7F566AA4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BC1C-BDFA-4569-9DD8-7DF6B239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DF5F-8554-496F-A348-92CD48CC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8E91-F0CE-4324-A225-B02E53B5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2AA9-4A0A-49E0-BB62-7312C912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E742-C4F5-4AA5-9B0B-20A273E8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92BF-0ABA-4AB4-A5E6-C870B1C9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CA52-65F1-425C-975A-6DDADC825B81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76720" y="0"/>
            <a:ext cx="5867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 u="sng">
                <a:solidFill>
                  <a:srgbClr val="ffff00"/>
                </a:solidFill>
                <a:uFillTx/>
                <a:latin typeface="Times New Roman"/>
                <a:cs typeface="Diwany6 Normal"/>
              </a:rPr>
              <a:t>نشيد الدخول: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0" lang="ar-SA" sz="8000" spc="-1" strike="noStrike">
                <a:solidFill>
                  <a:srgbClr val="ffff00"/>
                </a:solidFill>
                <a:latin typeface="Tahoma"/>
                <a:cs typeface="????Boutros Rokaa"/>
              </a:rPr>
              <a:t>ربي أنت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00"/>
                </a:solidFill>
                <a:latin typeface="Tahoma"/>
                <a:cs typeface="????Boutros Rokaa"/>
              </a:rPr>
              <a:t>طر يق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581280" y="2781360"/>
            <a:ext cx="556272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أنت طريق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في معاثر الحياة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أنت رفيق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عند ساعة الـممات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5280" y="1989000"/>
            <a:ext cx="550872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وحدَك دعوت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وحدكَ رجوت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غايةُ الـمنى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مصدرُ اله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635280" y="1989000"/>
            <a:ext cx="550872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نارٌ لقلب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أيضاً نسي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هديٌ لدربي أنتَ فجرِيَ الوسي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5280" y="1989000"/>
            <a:ext cx="550872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وحدَك دعوت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وحدكَ رجوت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غايةُ الـمنى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مصدرُ اله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360" y="350028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ahoma"/>
                <a:cs typeface="Akhbar MT"/>
              </a:rPr>
              <a:t>أُعضدِ الـموجعينَ ساعدِ البائسي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920" y="4005360"/>
            <a:ext cx="9144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ahoma"/>
                <a:cs typeface="Akhbar MT"/>
              </a:rPr>
              <a:t>أشبعِ الجائعينَ أرجِعِ الخاطئي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635280" y="1989000"/>
            <a:ext cx="550872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وحدَك دعوت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وحدكَ رجوت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غايةُ الـمنى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مصدرُ اله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1:01:34Z</dcterms:created>
  <dc:creator>Charbel Azar</dc:creator>
  <dc:description/>
  <dc:language>en-US</dc:language>
  <cp:lastModifiedBy>ف</cp:lastModifiedBy>
  <dcterms:modified xsi:type="dcterms:W3CDTF">2006-11-27T20:51:13Z</dcterms:modified>
  <cp:revision>4</cp:revision>
  <dc:subject/>
  <dc:title>PowerPoint Presentation</dc:title>
</cp:coreProperties>
</file>