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6FF-DA1B-423F-82DD-5190FFDF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809-9EEC-4A87-869C-6870796D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061-4D73-43FA-A786-9CC95772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BC7-EF1F-4F47-AA36-2E5C335A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614-0A2E-48C2-AD7A-35678B1F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469-CC07-4299-899C-E447A8C1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11A-200E-495C-B2FE-846E7E6F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044-A5EF-4337-81BF-505312C3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6A2-EE78-400D-8FBE-A0FE6280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3B7-1405-4744-958E-2756FCE3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374-4EAC-4F18-8E2A-83BEAFED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F7A-B280-464E-8982-6D54E3A9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FA50-B207-4995-8B0D-A0C4B88E9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45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91120" y="0"/>
            <a:ext cx="49528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ل أطرقُ بابَكَ بعد ضَياع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كُّل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و يصلُحُ أ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قتربَ إليك بذِ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ضيعتُ أنا فرحتي مني بجه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د كنتَ حبيبي وخلِّي أنت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بل أه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تركتُكَ لكني أعودُ فتَ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لا بيدي إلا الوعد ليَسْتُرَ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قلبي بأحشائي ينادي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ُغمر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َشتاقُ لحضنِ الآب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عطفُه يقبلُ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57400" y="456876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جمِّلني فقُبحي قد ذَهَبَ حتى الأحش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سَوادُ الليلِ تسرَّبَ فيَّ انتشرَ الد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شتاقُ لخالقٍ من عدمٍ يضعُ الأشي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ُغَيِّر قلبي ويُلبسني حللا بيض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HANI SAFI</cp:lastModifiedBy>
  <dcterms:modified xsi:type="dcterms:W3CDTF">2003-03-14T12:16:47Z</dcterms:modified>
  <cp:revision>8</cp:revision>
  <dc:subject/>
  <dc:title>PowerPoint Presentation</dc:title>
</cp:coreProperties>
</file>