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01F18-68D8-491F-9ED8-128265AB6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B8F24-767E-4868-A65F-DF43C16D5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95232-5856-4C6F-A2EF-2E477EF0E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FE78C-5E6F-4F45-8F50-41282A541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DD7D1-E901-4D10-896A-81556A344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2B30C-6DE8-4BF8-A0A8-43AB88A53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6EB7A-A870-47F8-AE8A-E20CB1417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01548-8F07-46C9-815D-0F0C73074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1255E-A114-4CAD-9D2F-7212D1D48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885AE-50B9-44FC-9121-B298C5897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EBC84-237F-491C-A3B3-27D61DA14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3F3DD-8F30-4A85-A619-00EA21871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3BEC6-F11D-4C17-8EFA-B99BE2EC5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9CE8A-466E-4124-99C3-DA716B57C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3290B-6056-4C0D-A117-0200977D5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C27E6-04CD-4665-B304-ACBBAE388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45535-DD6E-4083-93E7-4704EC855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B7CD4-17C6-4D1F-AA42-C328D5A3D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E36FB-1E82-42C4-AD47-45C327F04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949A6-1769-460A-9EA1-C70704F9D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E4F76-DFDC-422E-B776-5B8A97514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92C07-B2FD-4F94-9E98-0AA8C3E8A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F9937-E835-49AA-AE25-9A0D64567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D5B8A-722B-4541-89AD-6F5F62EEF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31D48-76A0-4B81-A2C9-5B9BFA46B97E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4A996-2D59-45B8-9652-C54D50EBBE39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83" name=""/>
          <p:cNvSpPr/>
          <p:nvPr/>
        </p:nvSpPr>
        <p:spPr>
          <a:xfrm>
            <a:off x="3995640" y="0"/>
            <a:ext cx="514836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000000"/>
                </a:solidFill>
                <a:latin typeface="Tahoma"/>
                <a:cs typeface="????Boutros Rokaa"/>
              </a:rPr>
              <a:t>حنانك يا رب الأكوان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in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3581280" y="2133720"/>
            <a:ext cx="5562720" cy="29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طرحتُ منايَ وآمالي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لديكَ وكلّ رجائي 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618000" y="2133720"/>
            <a:ext cx="5562360" cy="29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فأنتَ ملاذي ومآلي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إليكَ وفيكَ نجاتي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6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3618000" y="1844640"/>
            <a:ext cx="5562360" cy="2905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Tahoma"/>
                <a:cs typeface="Akhbar MT"/>
              </a:rPr>
              <a:t>حنانك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Tahoma"/>
                <a:cs typeface="Akhbar MT"/>
              </a:rPr>
              <a:t>يا ربّ الأكوانِ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Tahoma"/>
                <a:cs typeface="Akhbar MT"/>
              </a:rPr>
              <a:t>إليكَ رفعتُ صلاتي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546360" y="1844640"/>
            <a:ext cx="5562720" cy="2905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Tahoma"/>
                <a:cs typeface="Akhbar MT"/>
              </a:rPr>
              <a:t>أنا إن أحيا فبالإيمانِ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Tahoma"/>
                <a:cs typeface="Akhbar MT"/>
              </a:rPr>
              <a:t>يشرِّفُ معنى حياتي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6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3618000" y="1844640"/>
            <a:ext cx="5562360" cy="2905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Tahoma"/>
                <a:cs typeface="Akhbar MT"/>
              </a:rPr>
              <a:t>حنانك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Tahoma"/>
                <a:cs typeface="Akhbar MT"/>
              </a:rPr>
              <a:t>يا ربّ الأكوانِ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Tahoma"/>
                <a:cs typeface="Akhbar MT"/>
              </a:rPr>
              <a:t>إليكَ رفعتُ صلاتي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546360" y="1844640"/>
            <a:ext cx="5562720" cy="2905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Tahoma"/>
                <a:cs typeface="Akhbar MT"/>
              </a:rPr>
              <a:t>أنا إن أحيا فبالإيمانِ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Tahoma"/>
                <a:cs typeface="Akhbar MT"/>
              </a:rPr>
              <a:t>يشرِّفُ معنى حياتي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79280" y="2084400"/>
            <a:ext cx="4897440" cy="2905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سمعتُ نداءَكَ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يا ربّي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يجلجِلُ في أعماقي 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0" y="2060640"/>
            <a:ext cx="4897440" cy="2905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صدىً يتجاوبُ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في قلبي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مع النغم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الخفّاقِ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995640" y="1989000"/>
            <a:ext cx="5148360" cy="2905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00"/>
                </a:solidFill>
                <a:latin typeface="Tahoma"/>
                <a:cs typeface="Akhbar MT"/>
              </a:rPr>
              <a:t>فسرتُ بهَديكَ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00"/>
                </a:solidFill>
                <a:latin typeface="Tahoma"/>
                <a:cs typeface="Akhbar MT"/>
              </a:rPr>
              <a:t>في دربي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00"/>
                </a:solidFill>
                <a:latin typeface="Tahoma"/>
                <a:cs typeface="Akhbar MT"/>
              </a:rPr>
              <a:t>وبي ظمأُ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00"/>
                </a:solidFill>
                <a:latin typeface="Tahoma"/>
                <a:cs typeface="Akhbar MT"/>
              </a:rPr>
              <a:t>الـمشتاقِ 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581280" y="2060640"/>
            <a:ext cx="5562720" cy="2905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00"/>
                </a:solidFill>
                <a:latin typeface="Tahoma"/>
                <a:cs typeface="Akhbar MT"/>
              </a:rPr>
              <a:t>لـمنهَلِكَ الصافي العذب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00"/>
                </a:solidFill>
                <a:latin typeface="Tahoma"/>
                <a:cs typeface="Akhbar MT"/>
              </a:rPr>
              <a:t>أروّي به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00"/>
                </a:solidFill>
                <a:latin typeface="Tahoma"/>
                <a:cs typeface="Akhbar MT"/>
              </a:rPr>
              <a:t>أمنياتي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3618000" y="1844640"/>
            <a:ext cx="5562360" cy="2905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Tahoma"/>
                <a:cs typeface="Akhbar MT"/>
              </a:rPr>
              <a:t>حنانك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Tahoma"/>
                <a:cs typeface="Akhbar MT"/>
              </a:rPr>
              <a:t>يا ربّ الأكوانِ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Tahoma"/>
                <a:cs typeface="Akhbar MT"/>
              </a:rPr>
              <a:t>إليكَ رفعتُ صلاتي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546360" y="1844640"/>
            <a:ext cx="5562720" cy="2905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Tahoma"/>
                <a:cs typeface="Akhbar MT"/>
              </a:rPr>
              <a:t>أنا إن أحيا فبالإيمانِ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Tahoma"/>
                <a:cs typeface="Akhbar MT"/>
              </a:rPr>
              <a:t>يشرِّفُ معنى حياتي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763640" y="2133720"/>
            <a:ext cx="5562720" cy="29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يروّعني صخبُ البحرِ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وصوتُ قصيف الرعود 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116000" y="2133720"/>
            <a:ext cx="5562720" cy="29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فآنسُ منكَ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مع الفجرِ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بفيضِ الرضى والجود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3581280" y="2133720"/>
            <a:ext cx="5562720" cy="29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فيا مبدع الكونِ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مَن يدري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سواكَ بسرِ وجودي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780000" y="2205000"/>
            <a:ext cx="5059080" cy="2905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فكم فيك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يا ربُ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من سرٍ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وآياتٍ مذهلاتِ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3618000" y="1844640"/>
            <a:ext cx="5562360" cy="2905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Tahoma"/>
                <a:cs typeface="Akhbar MT"/>
              </a:rPr>
              <a:t>حنانك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Tahoma"/>
                <a:cs typeface="Akhbar MT"/>
              </a:rPr>
              <a:t>يا ربّ الأكوانِ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Tahoma"/>
                <a:cs typeface="Akhbar MT"/>
              </a:rPr>
              <a:t>إليكَ رفعتُ صلاتي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546360" y="1844640"/>
            <a:ext cx="5562720" cy="2905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Tahoma"/>
                <a:cs typeface="Akhbar MT"/>
              </a:rPr>
              <a:t>أنا إن أحيا فبالإيمانِ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Tahoma"/>
                <a:cs typeface="Akhbar MT"/>
              </a:rPr>
              <a:t>يشرِّفُ معنى حياتي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6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3581280" y="2060640"/>
            <a:ext cx="5562720" cy="2905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000000"/>
                </a:solidFill>
                <a:latin typeface="Tahoma"/>
                <a:cs typeface="Akhbar MT"/>
              </a:rPr>
              <a:t>إلهي إن أدعو فما لي سواكَ مجيب ندائي 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843280" y="1989000"/>
            <a:ext cx="6300720" cy="2905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000000"/>
                </a:solidFill>
                <a:latin typeface="Tahoma"/>
                <a:cs typeface="Akhbar MT"/>
              </a:rPr>
              <a:t>وحين أنوءُ بأثقالي فلي برضاكَ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000000"/>
                </a:solidFill>
                <a:latin typeface="Tahoma"/>
                <a:cs typeface="Akhbar MT"/>
              </a:rPr>
              <a:t>عزائي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6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8T21:01:34Z</dcterms:created>
  <dc:creator>Charbel Azar</dc:creator>
  <dc:description/>
  <dc:language>en-US</dc:language>
  <cp:lastModifiedBy>ف</cp:lastModifiedBy>
  <dcterms:modified xsi:type="dcterms:W3CDTF">2006-11-13T21:30:57Z</dcterms:modified>
  <cp:revision>11</cp:revision>
  <dc:subject/>
  <dc:title>PowerPoint Presentation</dc:title>
</cp:coreProperties>
</file>