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C0E-0E97-4A6A-8117-E8526E28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596-240A-4813-9670-557505DC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975-199B-4140-A243-85B32F9D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4AB-716B-495B-B082-C4AA33C7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6A0-B215-49BC-964A-BC19F21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37B-5ADC-4C40-A02D-75AB14C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236-7C46-4405-8F0B-A7C9CFD4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6CE-B6E3-49D1-A088-47C75176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9CD-6486-4065-B940-D3B5ED00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FB9-E66E-4071-ADE9-7CAD2A2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232-408A-4C08-B029-4525AE6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199-5E97-484F-BA43-09DD7ABC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F6E2-80A2-4EDE-93EB-11482494ACBA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356000" cy="10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000000"/>
                </a:solidFill>
                <a:uFillTx/>
                <a:latin typeface="Arial"/>
                <a:cs typeface="AF_Diwani"/>
              </a:rPr>
              <a:t>نشيد المناولة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ahoma"/>
                <a:cs typeface="Tahoma"/>
              </a:rPr>
              <a:t>ربي أنا ورقة بيضاء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63640" y="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66100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شراعُ وأنتَ الريح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89720"/>
            <a:ext cx="8893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رحلْ بي حيثما تشاء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414360"/>
            <a:ext cx="5292720" cy="10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إنّي اليراع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وأنتَ الفكر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cs typeface="Akhbar MT"/>
              </a:rPr>
              <a:t>هيّا اكتُبْ ب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cc00"/>
                </a:solidFill>
                <a:latin typeface="Arial"/>
                <a:ea typeface="Akhbar MT"/>
              </a:rPr>
              <a:t> كيف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8000" y="115920"/>
            <a:ext cx="6156360" cy="13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ea typeface="Akhbar MT"/>
              </a:rPr>
              <a:t>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1080" y="587520"/>
            <a:ext cx="8962920" cy="78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نّي القيثارُ وأنتَ اللح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هيّا اعزفْ بي قدر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1640" y="115920"/>
            <a:ext cx="6156360" cy="13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ربّي أنا ورقةٌ بيضاء أُرسُم علي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4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  <a:cs typeface="Akhbar MT"/>
              </a:rPr>
              <a:t>كلَّ ما تشا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20:21:46Z</dcterms:created>
  <dc:creator>Charbel Azar</dc:creator>
  <dc:description/>
  <dc:language>en-US</dc:language>
  <cp:lastModifiedBy>Charbel Azar</cp:lastModifiedBy>
  <dcterms:modified xsi:type="dcterms:W3CDTF">2002-07-05T13:17:24Z</dcterms:modified>
  <cp:revision>7</cp:revision>
  <dc:subject/>
  <dc:title>Slide 1</dc:title>
</cp:coreProperties>
</file>