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1A4B-2CD5-4B60-99A8-E0D30F12C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841D-033D-4AB9-9F7E-D1D2945D9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4AF2-B6A1-4266-90D7-A2DE7BA66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FA9C-23CD-4ECF-9012-531F15B44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885D-687C-4513-B548-AA0DB4AAA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C7E9-CDA8-42A2-A443-30941A07B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A6E6-09BA-45DA-AD5A-231B2863C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66C7-B8C6-46F6-8228-D07B45D46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C465-0362-4932-BF35-B8A5C7D64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D2C5-0B04-49C1-ACD5-9B423A7BF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9211-4443-4AF5-ABB1-DC5690360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F5DB-1724-4769-A7CA-05FCF05A2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2560F-0A08-453B-B6C3-28984E758E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1287866lcpLYmOAJB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238880" y="457200"/>
            <a:ext cx="160020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abic Transparent"/>
              </a:rPr>
              <a:t>كما يشتاقُ الأيّل إلى مجاري المياه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457200"/>
            <a:ext cx="1828800" cy="68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كذا نفسي تشتاق إليك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ا رب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11287869xQRiyRyaRq_ph" descr=""/>
          <p:cNvPicPr/>
          <p:nvPr/>
        </p:nvPicPr>
        <p:blipFill>
          <a:blip r:embed="rId1"/>
          <a:stretch/>
        </p:blipFill>
        <p:spPr>
          <a:xfrm>
            <a:off x="0" y="0"/>
            <a:ext cx="605484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248520" y="457200"/>
            <a:ext cx="2895480" cy="83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ccecff"/>
                </a:solidFill>
                <a:latin typeface="Times New Roman"/>
                <a:cs typeface="Arabic Transparent"/>
              </a:rPr>
              <a:t>ظمئت نفسي إلى الله الح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ccecff"/>
                </a:solidFill>
                <a:latin typeface="Times New Roman"/>
                <a:cs typeface="Arabic Transparent"/>
              </a:rPr>
              <a:t>متى آتي وأَحضَُر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ccecff"/>
                </a:solidFill>
                <a:latin typeface="Times New Roman"/>
                <a:cs typeface="Arabic Transparent"/>
              </a:rPr>
              <a:t>أمام الله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1507793AQtFtoRTjq_ph" descr=""/>
          <p:cNvPicPr/>
          <p:nvPr/>
        </p:nvPicPr>
        <p:blipFill>
          <a:blip r:embed="rId1"/>
          <a:stretch/>
        </p:blipFill>
        <p:spPr>
          <a:xfrm>
            <a:off x="0" y="0"/>
            <a:ext cx="43434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552920" y="149400"/>
            <a:ext cx="4562640" cy="9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قد كان لي دمعي خبزاً نهاراً وليلا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حين قيل لي كلَّ يوم أين إلهُ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لماذا تكتئبين يا نفس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سأعودُ أعترف له أنت خلاصُ وجهي وإله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11287866lcpLYmOAJB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238880" y="457200"/>
            <a:ext cx="160020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abic Transparent"/>
              </a:rPr>
              <a:t>كما يشتاقُ الأيّل إلى مجاري المياه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1828800" cy="68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كذا نفسي تشتاق إليك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ا رب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13385303cWwlWnYqMS_ph" descr=""/>
          <p:cNvPicPr/>
          <p:nvPr/>
        </p:nvPicPr>
        <p:blipFill>
          <a:blip r:embed="rId1"/>
          <a:stretch/>
        </p:blipFill>
        <p:spPr>
          <a:xfrm>
            <a:off x="4521240" y="0"/>
            <a:ext cx="924408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28600" y="304920"/>
            <a:ext cx="3809880" cy="60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ي النهار يأمرُ الربُ برحمته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في الليل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</a:rPr>
              <a:t>أ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نشد  صلاة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إله حياتي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2286622bSprOQQocd_ph" descr=""/>
          <p:cNvPicPr/>
          <p:nvPr/>
        </p:nvPicPr>
        <p:blipFill>
          <a:blip r:embed="rId1"/>
          <a:stretch/>
        </p:blipFill>
        <p:spPr>
          <a:xfrm>
            <a:off x="-2362320" y="-304920"/>
            <a:ext cx="762012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867280" y="270000"/>
            <a:ext cx="275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0" y="453960"/>
            <a:ext cx="4572000" cy="80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قول له لماذا نسيتني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أنت صخرت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لماذا تكتئبينَ يا نفس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سأعود أعترفُ له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نت خلاص وجهي وإلهي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11287866lcpLYmOAJB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7238880" y="457200"/>
            <a:ext cx="160020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abic Transparent"/>
              </a:rPr>
              <a:t>كما يشتاقُ الأيّل إلى مجاري المياه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457200"/>
            <a:ext cx="1828800" cy="68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كذا نفسي تشتاق إليك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ا رب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9T09:18:05Z</dcterms:created>
  <dc:creator>SUZANNE.MD</dc:creator>
  <dc:description/>
  <dc:language>en-US</dc:language>
  <cp:lastModifiedBy>USER</cp:lastModifiedBy>
  <dcterms:modified xsi:type="dcterms:W3CDTF">2003-01-22T11:23:52Z</dcterms:modified>
  <cp:revision>3</cp:revision>
  <dc:subject/>
  <dc:title>PowerPoint Presentation</dc:title>
</cp:coreProperties>
</file>