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152-5B00-43F1-A0E3-1CCA7639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BB5-7E86-4952-A4F5-CFDD842C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B00-268E-4AD6-BA8D-564BFC42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7F-6EBC-4B9F-9C92-33C88D61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B9F-BE36-431B-AD6E-90E3F32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711-8CBD-45EC-92DB-6181AD4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140-C68B-4C90-A9EA-3FBBC692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322-D8D0-432A-B40C-2AB767D7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71A-797B-4C61-BD8A-4D8B833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88D-CBDC-49F3-98F9-C9E6AA4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851-F723-435E-8319-1448E6F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FD8-ACF0-48C6-AD8B-F8E4733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DFC-6113-4DEC-B8E7-25C010A9D13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229360"/>
            <a:ext cx="594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عطش الأرو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60640" y="0"/>
            <a:ext cx="5283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ربُك يَهد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ينُك تَحم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ُك يُغنينا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63920" y="0"/>
            <a:ext cx="478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بزُك يُحي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مرُك يَرو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َعط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7:41:27Z</dcterms:created>
  <dc:creator>Charbel Azar</dc:creator>
  <dc:description/>
  <dc:language>en-US</dc:language>
  <cp:lastModifiedBy>ف</cp:lastModifiedBy>
  <dcterms:modified xsi:type="dcterms:W3CDTF">2006-04-24T22:50:29Z</dcterms:modified>
  <cp:revision>5</cp:revision>
  <dc:subject/>
  <dc:title>Slide 1</dc:title>
</cp:coreProperties>
</file>