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A6C-1CD0-4A09-B472-E384ABA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A13-CFF2-426D-918D-3A129A9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FE8-9AF9-48EF-918C-6FA1A243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059-4E64-4879-849F-839CACC7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66C-DEC7-4ED3-9E88-D92E279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306-FC1B-4B40-BE93-38A8F90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58D-337A-4E4A-8353-F3582546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0EB-F72A-4E36-84E9-F08E91F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9B3-5862-488A-A7CD-A5D8F8A4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82D-D6BD-45BE-BB56-121290EE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33A-AA9D-49F5-917B-D802EF38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3E2-592E-4708-8F39-72C6789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15F7-6C10-432E-9EB3-0AE62885E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16360" y="414360"/>
            <a:ext cx="4427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عني محج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داخل كاس وقربانة                   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   </a:t>
            </a: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لكن م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1400" y="858960"/>
            <a:ext cx="7739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والليل مع نجماتو المضو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ليل اتغطى بحرام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171360"/>
            <a:ext cx="456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رقا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صعبةالحيا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وقاسي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و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مل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يون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ف</cp:lastModifiedBy>
  <dcterms:modified xsi:type="dcterms:W3CDTF">2006-09-23T20:09:57Z</dcterms:modified>
  <cp:revision>10</cp:revision>
  <dc:subject/>
  <dc:title>PowerPoint Presentation</dc:title>
</cp:coreProperties>
</file>