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8CF-8820-48C8-9FB5-49FEE148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084-E787-4633-AABD-41E9D672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8F0-DC62-4169-A41D-4062F07C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B76-848D-4CA0-B116-E14E16DD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A82-27FB-4E51-A45D-DFFC623A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94E-51A1-4713-A35D-D2906216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903-21BF-45C0-9C99-88A037F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4FA-CDF3-45B2-B60D-4BCFAB8B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C0E-0B79-4D68-8C50-C34B814A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29D-AD22-44EE-91B3-898402F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53D-02CB-4582-9D52-AD4E700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D9A-5A13-413D-A16D-4E67988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56F-2F8C-4260-8FDB-AF072956A2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من كاس المحبّي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َحْ شيل الأشو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ن نفسي العطشاني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تَا حتى تلقاك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ربّي بالقربان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حبوب القمح لص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ة يسوع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لوب العالم زارت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سكنت بالضلو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وعنقود اللي جمع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رم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بكلمه حوَّلتو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لدمَّك يا ربي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من كاس المحبّ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قربان الفِدا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م يدخل لقلبي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عا طول المدى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4:42:14Z</dcterms:created>
  <dc:creator>-</dc:creator>
  <dc:description/>
  <dc:language>en-US</dc:language>
  <cp:lastModifiedBy>-</cp:lastModifiedBy>
  <dcterms:modified xsi:type="dcterms:W3CDTF">2003-04-19T14:45:09Z</dcterms:modified>
  <cp:revision>2</cp:revision>
  <dc:subject/>
  <dc:title>من كاس المحبّي قربان الفِدا عم يدخل لقلبي عا طول المدى</dc:title>
</cp:coreProperties>
</file>