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4A2B-50EA-418B-9F54-146E51B6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A9DF-09DF-4B4B-9A49-0592D495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426F-090A-4EDF-A7CF-0D6AE5F2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AAA4-30FF-477C-92CD-515BDC1F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42F0-6511-46CE-BC86-92CDCEBD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32B7-BD60-48FD-9154-E2FCFACB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AE7-FAC5-4D56-B8F5-22C79AB6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99DB-B520-45D0-A601-ADD45085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2329-D9DA-4898-B007-218232F6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6C3-D7EC-47DF-9EAC-35EAA078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7DBE-8266-406B-8D45-2C4A72CE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961C-5BD2-49BA-8C9F-42278E69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513D-F860-4F42-AF33-D8F4F5EAD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CHURCH" descr=""/>
          <p:cNvPicPr/>
          <p:nvPr/>
        </p:nvPicPr>
        <p:blipFill>
          <a:blip r:embed="rId1"/>
          <a:stretch/>
        </p:blipFill>
        <p:spPr>
          <a:xfrm>
            <a:off x="0" y="0"/>
            <a:ext cx="4530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80000" y="361800"/>
            <a:ext cx="6193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بتهجتْ نفسي بالقائلينَ لي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بيتِ الرَّبِّ نَنْطلِقُ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بيتِ الرَّبِّ نَنَطلِقُ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ترنيمِ الفرحِ ندخُلُ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ديارِ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قد وقفتْ أقدامُ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أبوابِكِ يا أورشليمُ،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يكِ صَعِد شعبُ الله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حَسَبَ دعوتِه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ليَحمد اسمَ الر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CH_123" descr=""/>
          <p:cNvPicPr/>
          <p:nvPr/>
        </p:nvPicPr>
        <p:blipFill>
          <a:blip r:embed="rId1"/>
          <a:stretch/>
        </p:blipFill>
        <p:spPr>
          <a:xfrm>
            <a:off x="0" y="0"/>
            <a:ext cx="44006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54480" y="501480"/>
            <a:ext cx="5307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بتهجتْ نف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لقائلينَ لي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بيتِ الرَّبِّ نَنْطلِقُ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بيتِ الرَّبِّ نَنَطلِقُ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ترنيمِ الفرحِ ندخُ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ديارِهِ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ناكَ نُصِبَ عرشٌ للحكم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رشُ الربِ بين شعبِهِ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نسألِ السلامَ للمؤمن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يَسعدِ الذينَ يُحبُّونَه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RND_384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34400" y="425520"/>
            <a:ext cx="5199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بتهجتْ نف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لقائلينَ لي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بيتِ الرَّبِّ نَنْطلِقُ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بيتِ الرَّبِّ نَنَطلِقُ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ترنيمِ الفرحِ ندخُل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ديارِهِ</a:t>
            </a:r>
            <a:br>
              <a:rPr sz="3600"/>
            </a:b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جل إخوتي وأخِلاَّئ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دعو بالسلامِ والبَرَكة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جلِ بيتِ الربِّ ألتمِس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خيرَ فلنباركِ اللهَ كلُّنا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3:11:16Z</dcterms:created>
  <dc:creator>USER</dc:creator>
  <dc:description/>
  <dc:language>en-US</dc:language>
  <cp:lastModifiedBy>USER</cp:lastModifiedBy>
  <dcterms:modified xsi:type="dcterms:W3CDTF">2003-01-18T09:21:47Z</dcterms:modified>
  <cp:revision>2</cp:revision>
  <dc:subject/>
  <dc:title>PowerPoint Presentation</dc:title>
</cp:coreProperties>
</file>