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760B-C547-4EAA-81E8-C5745CC2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D450-AA35-4FB2-A9BB-EF1BEDE4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080B-5B8B-405D-898C-2031119F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F8B0-408B-4BE8-A47B-0949688E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EF00-5D13-4F25-9FFD-61108CF9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B37F-48A1-472F-8FBD-DCE38BF4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19E6-63CB-43F9-A4E6-F5E61484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F84-BA5F-4458-8FC2-9D853383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120C-DEE3-4CA4-A13B-8B8CF6D5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6059-F5DE-49BD-9445-DB8C609A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1B4-0657-4BF6-A2E4-E8758C76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B3EC-9536-40BF-8380-A69F2127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54F0-9759-4019-9C6C-F94E563CEC5D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989000"/>
            <a:ext cx="9144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ترك كلّ شيءٍ واتبعن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وأنا أكون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نصيب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92360" y="1989000"/>
            <a:ext cx="59436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ترك كلّ شيءٍ تُعطَى كلَّ شيء واحمل الصليبَ تعا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2360" y="2060640"/>
            <a:ext cx="59436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تجد الراحةَ والهدو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ن يخيبَ ظنّكَ تعا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989000"/>
            <a:ext cx="9144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ترك كلّ شيءٍ واتبعن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وأنا أكون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نصيب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16000" y="1989000"/>
            <a:ext cx="59436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حيثما أقمت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قيمُ أ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ن يغيبَ وجهِيَ تعا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2060640"/>
            <a:ext cx="59436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نّي اختَرتُك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ي عون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العلى يدعوك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تعا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89000"/>
            <a:ext cx="9144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ترك كلّ شيءٍ واتبعن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وأنا أكون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نصيب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68360" y="2205000"/>
            <a:ext cx="536436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نظرتُ في عينيكَ وأحبَبتُ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عرفتُ ما في قلبكَ تعا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2276640"/>
            <a:ext cx="536436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أرضُكَ العطشَى للحُبِ والسلام تصرُخُ إليك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ahoma"/>
                <a:cs typeface="Akhbar MT"/>
              </a:rPr>
              <a:t>تعا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89000"/>
            <a:ext cx="9144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ترك كلّ شيءٍ واتبعن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وأنا أكون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نصيب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4T10:20:38Z</dcterms:created>
  <dc:creator>Charbel Azar</dc:creator>
  <dc:description/>
  <dc:language>en-US</dc:language>
  <cp:lastModifiedBy>ف</cp:lastModifiedBy>
  <dcterms:modified xsi:type="dcterms:W3CDTF">2007-03-13T18:27:16Z</dcterms:modified>
  <cp:revision>8</cp:revision>
  <dc:subject/>
  <dc:title>Slide 1</dc:title>
</cp:coreProperties>
</file>