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B21-8DF6-4340-BE31-7DD4F34F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68B-D859-46C6-AFC1-674D5768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D95-373A-48FD-8700-84C03890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3FC-A24F-4647-83F1-AD5E213B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667-B4ED-41D8-9494-E28D81DD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C60-3321-4BEA-A406-A478DCCB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4CA-FE9D-4A82-A1C6-9342F501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D6C-5AF3-4E1C-BF1B-2C4783AE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09D-9038-469B-B4C3-81853583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4DC-1105-4AF8-985C-11A8E69A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812-8DBD-4DA4-9199-9D314024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C0C-11AD-4A87-956F-9066ED01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8060-B407-47C5-8B17-830A12A56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92187KzkgEjNdws_ph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53352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رفعتُ إليكَ يديَ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املتين الجسدَ اقبلهُ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كأسَ تبار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ها الدم</a:t>
            </a:r>
            <a:r>
              <a:rPr b="0" lang="en-US" sz="1400" spc="-1" strike="noStrike">
                <a:solidFill>
                  <a:srgbClr val="ccff99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-masslg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3600" y="6858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304920"/>
            <a:ext cx="2819160" cy="67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ذا شعارُ فداء العالم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ه الفرحُ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فيه الحق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فيه سلامُ القل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092187KzkgEjNdws_ph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867280" y="53352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رفعتُ إليكَ يديَ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املتين الجسدَ اقبلهُ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كأسَ تبار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ها الدم</a:t>
            </a:r>
            <a:r>
              <a:rPr b="0" lang="en-US" sz="1400" spc="-1" strike="noStrike">
                <a:solidFill>
                  <a:srgbClr val="ccff99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51033993tZfahx_ph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0"/>
            <a:ext cx="3429000" cy="79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هذا جسدُكَ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هذا دمُكَ الطاهرُ فاغس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اغسل يا ربِّ خطايا العال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لتحيى بروحِكَ أنفُسُنا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092187KzkgEjNdws_ph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67280" y="533520"/>
            <a:ext cx="3276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لهي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رفعتُ إليكَ يديَ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املتين الجسدَ اقبلهُ</a:t>
            </a:r>
            <a:r>
              <a:rPr b="1" lang="ar-A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كأسَ تبار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فيها الدم</a:t>
            </a:r>
            <a:r>
              <a:rPr b="0" lang="en-US" sz="1400" spc="-1" strike="noStrike">
                <a:solidFill>
                  <a:srgbClr val="ccff99"/>
                </a:solidFill>
                <a:latin typeface="Times New Roman"/>
                <a:ea typeface="Times New Roman (Arabic)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2-11-19T10:45:14Z</dcterms:modified>
  <cp:revision>2</cp:revision>
  <dc:subject/>
  <dc:title>PowerPoint Presentation</dc:title>
</cp:coreProperties>
</file>