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80D-D796-4105-8088-133D03A9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24B-E646-497A-8F58-74BCC5E6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3C7-EDF4-4153-A8F3-8A0DB4A5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178-ADC2-42F7-B605-CBE5C661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3FF-C4C6-4725-B6B1-8AAA15B2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262-B1A1-4906-9517-4F3374CA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C29-A30A-4B80-A973-5450489B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6D0-1693-45BF-8CA9-30560775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208-062C-4150-A8C4-6BAE6A14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05A-BD7D-44B2-A197-587B3ED3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96A-3A91-41BF-8728-66D2CE87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593-B60A-4804-BC94-7869A7CD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4E1B-7151-4DE4-9861-DC9959DF0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04920"/>
            <a:ext cx="3200400" cy="9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ترحمُ شئتَ خلاصي بقيتَ في سرٍّ ما دام البق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إنني أحلمُ وسطَ حماسي أتوق لوجهِكَ بعد شق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0528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73392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َ تَرحمُ جئتَ تواسي وتسكُنُ فيّ وفيّ تطوف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الا استأصِلِ الشَّوكَ مني وأشعِ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صابيحَ حُبي فحُبّي ضعيف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2971800" cy="9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َ ترحَمُ تغفِرُ ذنبي ولا تنسى خيراً ولو كأسَ م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ني أُقرُّ بحُبكَ ربّي وهل غيرَ حُبكَ بابُ السماء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-142920"/>
            <a:ext cx="6400800" cy="700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590920" cy="10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 ترحمُ تُبريءُ نفسي وتَغسِلُ إثمي بِطولِ أناة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لأنك تعلمُ ضعفي ويأسي تُشَدِّدُ عَزمي فمنكَ الثبات</a:t>
            </a:r>
            <a:r>
              <a:rPr b="0" lang="ar-SA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67000" y="0"/>
            <a:ext cx="5877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0"/>
            <a:ext cx="2895480" cy="13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أنكَ ترحمُ جئتَ وضيعاً وأنت الإله القوي الأم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بوَعدِكَ أُدرك قلباً وديعاً فتملأُ قلبي إليكَ حني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04920"/>
            <a:ext cx="2057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طوبى للرحماءِ فإنهم يُرحَمو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18:45Z</dcterms:created>
  <dc:creator>SUZANNE.MD</dc:creator>
  <dc:description/>
  <dc:language>en-US</dc:language>
  <cp:lastModifiedBy>HANI SAFI</cp:lastModifiedBy>
  <dcterms:modified xsi:type="dcterms:W3CDTF">2003-03-14T12:26:44Z</dcterms:modified>
  <cp:revision>3</cp:revision>
  <dc:subject/>
  <dc:title>PowerPoint Presentation</dc:title>
</cp:coreProperties>
</file>