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A9C-1A4A-4E36-BD94-28722934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797-C54E-43B7-B1B1-B357107A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A6B-6B0C-434E-A541-59671568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2ED-0D19-491D-BB59-343F9E8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AC87-BC06-4307-9180-53CBD249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8A1A-78DF-4452-B2AB-F62CB11E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074B-FBE6-4F93-974F-6B27E691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AFC9-6B46-4371-8E50-A2B0A7E5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27E9-6B78-49D0-AA9E-CD787AD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09A6-0564-4DDF-89E8-74CD93C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590B-A75E-4203-A78C-81AF86A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249-6B06-458D-8CE5-5D553D45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380A-03BC-44E5-B975-8947377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1CE9-A6D8-44F9-AB72-FA94BA4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110B-FE99-45DD-9AD6-10E3344C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ACB6-E973-4F67-B2E7-72A61EB5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455D-75F4-4643-9383-70F52C11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540-D7E8-4C55-976D-048CE8EB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2F8-9BD3-4F64-86C3-0F0DC66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FBC-C35A-498F-910C-E4CCEDE1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5B8-CD98-4428-A4A3-9EC6EFAF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3E9-8CDB-41FC-A022-B5A5868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677-2AF2-453F-8623-9F8DCD7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94A-D24E-42CE-9C05-6DB9CB25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DAE0-AA55-40FA-BAD4-D8C44520FFC2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D9BB-835D-4BA1-AB35-72F5A4DFB25E}" type="slidenum">
              <a:rPr b="0" lang="ar-LB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62864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ختام:</a:t>
            </a:r>
            <a:br>
              <a:rPr sz="10600"/>
            </a:br>
            <a:br>
              <a:rPr sz="9600"/>
            </a:br>
            <a:r>
              <a:rPr b="0" lang="ar-SA" sz="6600" spc="-1" strike="noStrike">
                <a:solidFill>
                  <a:srgbClr val="ffffff"/>
                </a:solidFill>
                <a:latin typeface="Tahoma"/>
                <a:cs typeface="Ruqah2 Normal"/>
              </a:rPr>
              <a:t>هل يستطيع الرب ب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يصنعَ العجائب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جيبُ الطلبَ؟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قدّسَ ذا الجسدَ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ه يحلُّ للمدى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شغِّلَ مواه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قدِّساً عواطف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مجدِ مَن أحبَّن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 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 يستطيعُ الربُّ أن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كرِّساً لمجدِه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قدَّسوا للعملِ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وسْطِكُم عجائبي</a:t>
            </a:r>
            <a:endParaRPr b="0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9:50Z</dcterms:created>
  <dc:creator>Charbel Azar</dc:creator>
  <dc:description/>
  <dc:language>en-US</dc:language>
  <cp:lastModifiedBy>Charbel Azar</cp:lastModifiedBy>
  <dcterms:modified xsi:type="dcterms:W3CDTF">2002-11-18T09:53:44Z</dcterms:modified>
  <cp:revision>3</cp:revision>
  <dc:subject/>
  <dc:title>PowerPoint Presentation</dc:title>
</cp:coreProperties>
</file>