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6E0-4E05-4D67-83BB-F0C91C76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811-9E78-4F46-8F8F-E6782D3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444-0F02-4D38-9441-48F3AB6E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295-51E4-4E82-A98A-0479C02A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7B2-F555-4004-A130-18631122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EB99-4996-4DA1-A9B2-5A836C6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F594-1059-4F59-B1A6-4AE8D63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DDE8-4716-42EF-B3AD-1E3E20E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82E-C704-459D-A4BD-6B3D63F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3691-D9CE-49C3-9D7E-143F683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AAA8-87EB-4F7C-BD65-7D2CB95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DA1-1880-43EA-A199-4243010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9B78-4EA8-4FA2-8DCC-B6E44AD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77E5-537F-4294-8184-34C1FB4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71F-961D-4A81-90CD-0AD228EB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6C79-BEBA-41BB-84E0-8D529926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F3C-99F3-4E62-9B7F-CA5E80C0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215-3721-4BF2-8AF7-5F67D31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81D-0FCC-44E1-AA43-CB34720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B753-3FE9-4C13-8ADD-9A39DDF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048-4311-4999-AA69-531F78AB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AB5-8698-4A15-8DEB-7DDED9B1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0CC-4257-4F13-858C-7C5C847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25F-58EB-4D55-9818-700CD36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BCC-5C35-4B9F-9CAD-E4A01B692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A874-0D4D-4158-A2A0-AD804AE0A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لربّ فإنّهُ صالحٌ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الهة وربّ الأرباب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صانع المعجزات العظ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حده والسماوات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باسط الأرض على المياه ولصانع النيرات العظيمة وحده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نع الشمس لتسود في النهار والقمر والكواكب لتسود في الليل.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72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72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شقّ البحر الأحمر الى شطرين واقتاد شعبه في وسطه وفي البرية.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 الربّ ذكرنا في مذلّتنا</a:t>
            </a:r>
            <a:br>
              <a:rPr sz="7800"/>
            </a:br>
            <a:r>
              <a:rPr b="1" lang="ar-SA" sz="7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لَّصنا من أعدائنا.</a:t>
            </a:r>
            <a:endParaRPr b="1" lang="en-US" sz="7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لأن إلى الأبد رحمته هللوا للر بّ</a:t>
            </a: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ea typeface="Akhbar MT"/>
              </a:rPr>
              <a:t> </a:t>
            </a:r>
            <a:br>
              <a:rPr sz="80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ذي يرزق كلّ جسد طعامه</a:t>
            </a:r>
            <a:r>
              <a:rPr b="1" lang="ar-SA" sz="87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br>
              <a:rPr sz="8700"/>
            </a:br>
            <a:r>
              <a:rPr b="1" lang="ar-SA" sz="87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عترفوا لإله السماء سبّحوه ومجّدوه إلى الأبد.</a:t>
            </a:r>
            <a:endParaRPr b="1" lang="en-US" sz="8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Charbel Azar</cp:lastModifiedBy>
  <dcterms:modified xsi:type="dcterms:W3CDTF">2003-01-25T11:58:13Z</dcterms:modified>
  <cp:revision>1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