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A165-2C9F-4D69-A331-284B8F43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5FC5-113C-405D-A859-7CA6801C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F1FD-112B-4C72-A775-A5939715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A62A-8283-4759-BEBB-916C2B90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809C-C05E-4D5D-92B0-0FA27B63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6BAF-B6A5-4F62-905E-4E07BB97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B002-8213-44E9-BC16-5778B649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813E-0C0C-40F1-8FEE-92613058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A9F6-F638-4AC2-815F-9658A2A1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3AD9-C008-4F5A-BBEE-539A02AD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997C-9234-443D-BE00-A3DC01E7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480D-F55F-424B-81B2-EA2BEC28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86C4-9F57-492E-8E35-E80BFA701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ffany_UCCMontclair_Ascension" descr=""/>
          <p:cNvPicPr/>
          <p:nvPr/>
        </p:nvPicPr>
        <p:blipFill>
          <a:blip r:embed="rId1"/>
          <a:stretch/>
        </p:blipFill>
        <p:spPr>
          <a:xfrm>
            <a:off x="0" y="0"/>
            <a:ext cx="45147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37840" y="458640"/>
            <a:ext cx="4888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نّم هللويا ليسوع (×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رنّم هللويا (×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نّم هللويا ليسو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سبّح ومجد إسم الرب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ك حياتي يا يسو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طلبوا الربَّ تجدوه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تَ هو الرب الشافي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02:10Z</dcterms:created>
  <dc:creator>USER</dc:creator>
  <dc:description/>
  <dc:language>en-US</dc:language>
  <cp:lastModifiedBy>USER</cp:lastModifiedBy>
  <dcterms:modified xsi:type="dcterms:W3CDTF">2002-10-30T16:03:37Z</dcterms:modified>
  <cp:revision>1</cp:revision>
  <dc:subject/>
  <dc:title>PowerPoint Presentation</dc:title>
</cp:coreProperties>
</file>