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7C1-63A6-4A70-A975-26A3F976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390-825F-4437-B05E-CDE738CB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C08-F345-4206-9416-94E944A1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A43-4B36-4A04-A065-FFA0AE43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D7C-35AE-44CE-A009-A423E141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60D-7C3D-410C-BAA1-B94D910A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308-2ED4-43C0-AC1C-16DD8AA7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32A-3BCB-4031-B40B-1099B855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66A-F279-4004-856C-20218E33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07A-4E3B-490E-8FF4-61E3B7AA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91E-49F6-4C54-82B8-104AEA74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847-6FA6-4FA0-A6EB-38595E2C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259D-D278-42E5-98D1-564AAFBAD69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2" name=""/>
          <p:cNvSpPr/>
          <p:nvPr/>
        </p:nvSpPr>
        <p:spPr>
          <a:xfrm>
            <a:off x="4859280" y="3357720"/>
            <a:ext cx="428472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سيدي</a:t>
            </a:r>
            <a:br>
              <a:rPr sz="9600"/>
            </a:b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أعط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ا تعملوا للقوت الفاني بل اعملوا للقوت الباقي للحياة الأبدي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0" y="213372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 من هذا الخبزِ دائماً أبد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ا خبز الحياة، من يأتني لا يجُع أبدا ومن يؤمن بي لا يعطش أبد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0" y="213372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 من هذا الخبزِ دائماً أبد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2987640" y="1197000"/>
            <a:ext cx="6026040" cy="36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ا خبز الحياة، آباؤكم أكلوا المنّ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بريّة وماتو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98640" y="146160"/>
            <a:ext cx="8815680" cy="59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وذا الخبزُ النازل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السماء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أكُلَ منه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إنسانُ فلا يمو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5" name=""/>
          <p:cNvSpPr/>
          <p:nvPr/>
        </p:nvSpPr>
        <p:spPr>
          <a:xfrm>
            <a:off x="0" y="213372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 من هذا الخبزِ دائماً أبد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7" name=""/>
          <p:cNvSpPr/>
          <p:nvPr/>
        </p:nvSpPr>
        <p:spPr>
          <a:xfrm>
            <a:off x="3598920" y="20480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أكل جسدي وشرب دم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له الحياة الأبدي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9" name=""/>
          <p:cNvSpPr/>
          <p:nvPr/>
        </p:nvSpPr>
        <p:spPr>
          <a:xfrm>
            <a:off x="0" y="213372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 من هذا الخبزِ دائماً أبد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6-27T11:32:15Z</dcterms:modified>
  <cp:revision>13</cp:revision>
  <dc:subject/>
  <dc:title>PowerPoint Presentation</dc:title>
</cp:coreProperties>
</file>