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AAB-47B3-41C6-98E1-93151D8A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F72-D0F4-419B-88C0-129AD734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4A7-B9E8-4EAA-BF30-C11F0960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2E7-6617-4656-AC84-7B530753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FC7-5D6A-42E4-AE9B-F7D66A7D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2B5-8499-467E-B196-39FECA2A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DF2-E7A0-4F04-B057-876B4080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CA8-0BD7-425B-A2E6-C36C5E7B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525-E8C9-4774-A9CA-D1EAF40A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1DB-818B-43E2-A15A-E4D0EDBF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11C-E0D7-49E5-A55C-C56C1334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3C0-BDDC-4821-8AD0-2DFBFD94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B86E-BF50-4514-A54E-9A7856271A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4005360"/>
            <a:ext cx="4211640" cy="28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Ruqah2 Normal"/>
              </a:rPr>
              <a:t>قرعت باب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2000" y="0"/>
            <a:ext cx="586764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قرعت بابك بفرح فتحت لي, طلبت السّعادة بوفرة منحتني, قدّمت لك ذاتي بحنوّ قبلتني,  لا مثل لك يا الهي (</a:t>
            </a: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2</a:t>
            </a: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ما أعظم انحناءك عليّ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4a1b1a"/>
                </a:solidFill>
                <a:latin typeface="Arial"/>
              </a:rPr>
              <a:t>ما أعظم نزولك الى أعماقي, ما أعظم صوتك يشفي جراحي, لا مثل لك يا الهي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5651640" cy="9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لم يعرفني أحد مثلما عرفتني, لم يغمرني أحد مثلما غمرتني, لم يغفر لي أحد مثلما غفرت لي, لا مثل لك يا الهي (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ا أعظم انحناءك عليّ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ا أعظم نزولك الى أعماقي, ما أعظم صوتك يشفي جراحي, لا مثل لك يا الهي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24360" y="0"/>
            <a:ext cx="521964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في بعدي عنك غرقت في خطيئتي, اسرعت اليّ تابعت خطواتي, أعطيتني حبّك أنعشت حياتي, لا مثل لك يا الهي (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ا أعظم انحناءك عليّ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ا أعظم نزولك الى أعماقي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ا أعظم صوتك يشفي جراحي, لا مثل لك يا الهي (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8:41:36Z</dcterms:created>
  <dc:creator>Charbel Azar</dc:creator>
  <dc:description/>
  <dc:language>en-US</dc:language>
  <cp:lastModifiedBy>Personal</cp:lastModifiedBy>
  <dcterms:modified xsi:type="dcterms:W3CDTF">2008-04-21T22:26:04Z</dcterms:modified>
  <cp:revision>15</cp:revision>
  <dc:subject/>
  <dc:title>Slide 1</dc:title>
</cp:coreProperties>
</file>