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41B-D544-4FC1-9945-1D7F5F34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3D9-C263-4CE9-A3BD-4C878815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2E2-95CB-47DD-AA26-A6383594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BF1-25D3-48AB-AD80-0FF7A93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F87-5F7F-47C5-827F-16880BBF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9A4-4CAF-449E-AFCC-9AB08EC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776-BC8C-4938-856A-0C74D690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4EC-D8E5-4653-8E3E-4A0CAA83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84F-4A87-48DC-8EDE-15F2083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4C3-BF3C-4C8E-B806-B771207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CE6-53FE-4274-8DBB-1030D450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4F19-0F91-4808-8D44-2612E0E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D7B-6B24-4095-B5C1-7DE97D3E31A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292640"/>
            <a:ext cx="6400800" cy="21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خذ يا  ربّي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صوتك يدعوني يا صديقي الوديع نعمتك تغمرني, قلبك يجذب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يدك تنشلني,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نا على بابك ليلا و نها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أضطرم حبّا و اليك أتو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نظراتك تلهمني يا صديقي الحبيب وجهك موطني فليحيى حبّ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خذ يا ربّي و اقبل منّي كلّ ذاتي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و افعل بها ما تشاء, هبني حبّك هبني روحك نعمتك وحدها تكفيني (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193840"/>
            <a:ext cx="7093080" cy="740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خذ يا ربّي و اقبل منّي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كلّ ذاتي و افعل بها ما تش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حبّ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هبني روح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نعمتك وحدها تكفيني. (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3</a:t>
            </a:r>
            <a:r>
              <a:rPr b="1" lang="ar-SA" sz="6000" spc="-1" strike="noStrike">
                <a:solidFill>
                  <a:srgbClr val="4a1b1a"/>
                </a:solidFill>
                <a:latin typeface="Times New Roman"/>
              </a:rPr>
              <a:t>)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06:24:17Z</dcterms:created>
  <dc:creator>Charbel Azar</dc:creator>
  <dc:description/>
  <dc:language>en-US</dc:language>
  <cp:lastModifiedBy>Personal</cp:lastModifiedBy>
  <dcterms:modified xsi:type="dcterms:W3CDTF">2008-04-26T08:27:32Z</dcterms:modified>
  <cp:revision>7</cp:revision>
  <dc:subject/>
  <dc:title>PowerPoint Presentation</dc:title>
</cp:coreProperties>
</file>