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824-D170-4EEE-A118-6DC6DD09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5F5-8F33-400C-B2BE-F220629F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E40-3523-4B15-9735-3EB44518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BC5-57E1-447A-9B7E-A7887004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FC8-C5BF-471F-867C-91704E7D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8D2-88CB-4FAE-A005-8062224E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BE9-1BD9-4587-A0E2-04D8FBD8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E1B-ADA9-4FF3-8566-F6C5DA61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537-8BF1-4AF8-8C58-B674C57D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F68-CD5A-4732-9E6C-4281D5D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532-4D90-4CB0-9F68-6059CD5B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99A-07AD-490B-87C4-7837EF5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B616-322C-4017-8652-A72E19D4E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57600" y="571680"/>
            <a:ext cx="54864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990720"/>
            <a:ext cx="34448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ا أيها الشعبُ السعيد</a:t>
            </a:r>
            <a:r>
              <a:rPr b="1" lang="en-US" sz="4800" spc="-1" strike="noStrike">
                <a:solidFill>
                  <a:srgbClr val="ff9966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سُرّوا بذا الفِصحِ المج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هذا لكم عهدٌ جديد</a:t>
            </a:r>
            <a:r>
              <a:rPr b="1" lang="en-US" sz="4800" spc="-1" strike="noStrike">
                <a:solidFill>
                  <a:srgbClr val="ff9966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هللــويـــا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28600"/>
            <a:ext cx="23623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"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طوبى لِمَنْ لَم يُبصِروا   وآمنوا واستغفروا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يقولُ ربٌ ظافِرُ   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04920"/>
            <a:ext cx="22860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مدُ للهِ الغَفورْ         ذا فِصْحُنا عيدُ السرو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قى على مرِّ الدهور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0800" y="0"/>
            <a:ext cx="6523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438280" cy="9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ُشرى تَصيحُ المَريماتْ    فيها حياةُ الكائنا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بُ قامَ مِنَ الممات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5716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286000" cy="10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َلَكٌ من العَلْيا بشيرْ        قد دحرجَ الحَجَرَ الكبي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 قامَ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ولانا القديرْ                هللــويـ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04920"/>
            <a:ext cx="3657600" cy="91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َريمُ خَلّي النّحيبْ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قد قامَ فادينا الحبيب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العِزِّ والنّصرِ العجيبْ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5716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438280" cy="9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ذْ كانتِ الرُسلُ الكرامْ      من دونِ توما في التِئ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طاهُمُ الربُ السلامْ               هللــوي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368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32004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ذ بلّغوا توما الخَبرْ        فَلِقَوْلِهمْ ذا ما اعتبَ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تى له الفادي ظهرْ               هللــويـــا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195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057400" cy="11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ْ قالَ يا توما العنيدْ     انظرْ ودَعْ شَكاً يُبيد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ثبُت بإيمانٍ وطيدْ               هللوي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36920" y="0"/>
            <a:ext cx="66070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23623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 لم ترَ لا تعتقد        فكأنّ قولي لَمْ يُفِد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ني لِضَعفِكَ مُفْتَقِدْ 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266688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ما رأى توما المسيح    وشاهَدَ جِسمَ الذّبي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الَ إلهي!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للجريح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0:34:41Z</dcterms:created>
  <dc:creator>SUZANNE.MD</dc:creator>
  <dc:description/>
  <dc:language>en-US</dc:language>
  <cp:lastModifiedBy>HANI SAFI</cp:lastModifiedBy>
  <dcterms:modified xsi:type="dcterms:W3CDTF">2003-04-16T14:06:36Z</dcterms:modified>
  <cp:revision>1</cp:revision>
  <dc:subject/>
  <dc:title>PowerPoint Presentation</dc:title>
</cp:coreProperties>
</file>