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C8C-847D-41B7-9BC9-D38BCFE3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1A1-39C1-4A5B-B043-A1E1C94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BF9-F75E-4FC6-8A62-AE15B535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F5E-8339-4764-9CA7-F4DB1808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D05-2F4E-4AA6-91D8-6D78A46A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972-3F1A-4B04-B0EB-150DB54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BD0D-902C-43FF-B3D9-8C5352B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85D-326A-4FA9-9EA2-BA15B5E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B30-427B-4A5E-BD99-FFEB24C9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372-4BEF-42CE-B9A3-D4593A2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9B7-F038-43B3-84C1-DA482A3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CF6-F67A-4736-B0A5-6261BCE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53BB-E951-422C-B72F-42FBC033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431-DF4E-40D9-BF9F-0EE563E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47E-DA06-4872-957A-420BA55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425E-041F-4F9C-9ECA-11D89F1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66D-69D5-4C9D-A104-02CF34AD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887-F4EE-4806-9601-57C6BD2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5AF-E4B1-4359-BB45-9CC467A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469-4CA6-46CD-976A-C64221D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F5E-5107-4AB7-AFD0-BE5E229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941-58E5-4907-8101-5D84EEA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CED-3E0A-45D5-81B5-57F3F30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C0F-49BD-4DE7-BFD7-3E2BEA73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4648-26C3-4EA1-A85F-551EC704F96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4CD-AAA9-4DB5-8B4D-32A7E479D02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1052640"/>
            <a:ext cx="6483240" cy="480060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قلبي مستعد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2700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لْبي مُسْتَعِدٌّ يا ألله إنّي أُرَنِّمُ وَأُشيدُ، إسْتَيقِظ يا مَجْدي إسْتَيْقِظْ أَيُّها الْعودُ والكِنّارَةُ سَأَسْتَيْقِظُ سَحَراً.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36440"/>
            <a:ext cx="8244000" cy="11615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عْتَرِفُ لَكَ فِي الشّعوبِ أَيُّها الرَّبُ وَأُشيدُ لَكَ فِي الأُمَمْ، فَقَدْ عَظُمَتْ رَحْمَتُكَ وَحَقُكَ إلى الْغُيوم؛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36440"/>
            <a:ext cx="9144000" cy="14907240"/>
          </a:xfrm>
          <a:prstGeom prst="rect">
            <a:avLst/>
          </a:prstGeom>
          <a:noFill/>
          <a:ln w="0">
            <a:noFill/>
          </a:ln>
          <a:effectLst>
            <a:outerShdw dist="52300" dir="1536356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ْتَفِعْ على السّماواتِ يا ألله وَلْيَكُنْ مَجْدُكَ على جَميعِ الأرض لِكَيْ يَخْلُصَ أَوِدّاؤكَ وَخلِّصْ بيَمينِكَ واسْتَجِبْ ل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1:00Z</dcterms:created>
  <dc:creator>Charbel Azar</dc:creator>
  <dc:description/>
  <dc:language>en-US</dc:language>
  <cp:lastModifiedBy>-</cp:lastModifiedBy>
  <dcterms:modified xsi:type="dcterms:W3CDTF">2003-01-09T15:02:55Z</dcterms:modified>
  <cp:revision>7</cp:revision>
  <dc:subject/>
  <dc:title>Slide 1</dc:title>
</cp:coreProperties>
</file>