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587D-C119-43DD-A77B-4A31D0706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BEC9-4655-402B-AC1E-52876D4F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F0B6-3EE7-494B-A9FF-BBEEEE5E0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D7C8-9147-414A-8F14-DCAA47322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0F79-8BFF-4A98-98FF-ECAEDBB8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22C5-272C-4393-B0D3-5113DD64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5954-8DB7-4831-AC83-9CB27B40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184E-52E9-431E-819D-B7D1F105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89D2-7DD0-45E4-B812-7FDA8DA9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1149-18F3-4F03-B6B5-D838B611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75C3-5117-47AC-BA14-01BD2740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7A98-8D65-4612-B316-E0291456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1956-8449-454F-894F-E1B66AE7F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43600" y="3049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457200"/>
            <a:ext cx="2971800" cy="51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abic Transparent"/>
              </a:rPr>
              <a:t>إليك رفعتُ عينيَّ – يا ساكنَ السموات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abic Transparent"/>
              </a:rPr>
              <a:t>كما أن عيونَ العبيدِ إلى أيدي مواليهم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26214415eDIwaFNgfZ_ph" descr=""/>
          <p:cNvPicPr/>
          <p:nvPr/>
        </p:nvPicPr>
        <p:blipFill>
          <a:blip r:embed="rId1"/>
          <a:stretch/>
        </p:blipFill>
        <p:spPr>
          <a:xfrm>
            <a:off x="0" y="0"/>
            <a:ext cx="564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2148621aZKcNdfpQu_ph" descr=""/>
          <p:cNvPicPr/>
          <p:nvPr/>
        </p:nvPicPr>
        <p:blipFill>
          <a:blip r:embed="rId1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410080" y="228600"/>
            <a:ext cx="3505320" cy="82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كما أن عينيَّ الأَمَةِ إلى سيِّدَتِه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كذلك عيونُنا إلى الربِّ إلهِ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حتى يتحنَّنَ علينا – تحنَّنْ علينا يا ربّ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تحنَّنْ علينا فقد طالما امتلأنا هوانا</a:t>
            </a:r>
            <a:r>
              <a:rPr b="0" lang="ar-SA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5215561trgpRaNsdy_ph" descr=""/>
          <p:cNvPicPr/>
          <p:nvPr/>
        </p:nvPicPr>
        <p:blipFill>
          <a:blip r:embed="rId1"/>
          <a:stretch/>
        </p:blipFill>
        <p:spPr>
          <a:xfrm>
            <a:off x="0" y="1225440"/>
            <a:ext cx="9144000" cy="5632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8839080" cy="17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طالما امتلأت نفوسنا من هُزُءِ المترف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إهانَةِ المتكبرين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07:33:32Z</dcterms:created>
  <dc:creator>SUZANNE.MD</dc:creator>
  <dc:description/>
  <dc:language>en-US</dc:language>
  <cp:lastModifiedBy>USER</cp:lastModifiedBy>
  <dcterms:modified xsi:type="dcterms:W3CDTF">2003-01-28T15:07:06Z</dcterms:modified>
  <cp:revision>2</cp:revision>
  <dc:subject/>
  <dc:title>PowerPoint Presentation</dc:title>
</cp:coreProperties>
</file>