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8687-5962-4BE4-A22D-D19E7557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4B34-4129-4C2E-A44D-0B8742B1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6E12-69C7-4139-9FC0-62A97294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802B-CA56-401C-B650-B6441B9D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060A-FD29-4706-81FA-0B7D36FC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2A48-B78D-4B5D-9680-A98BC575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CB16-EE41-4EA4-B09A-F0606B4A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4350-157F-42A4-8837-29D1D20A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DBD2-FC1B-4D91-B8A1-DC886449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5D1D-C847-4ACA-97FD-BF1E2D46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F988-FAF2-4D2D-9819-90517DF8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7633-E911-4E54-B94B-8CCD59EC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F77F-0BAB-4CDA-8EF7-B10363F1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9417-2862-4E52-B198-E4366821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107D-D559-4159-9917-71354C3A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3C65-068B-4F90-AEDD-C7A583F9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DC96-960A-4834-BF18-CC314E50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C09A-311D-40FB-ACC0-B60340AB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2F94-008E-4DAD-9550-6549EF1D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414E-5DE3-49C0-9E4A-606F29F3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505A-2B38-45BA-8D45-E8098B54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987D-97F1-449C-8D3B-C1DA6699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0ADE-36BD-415A-B4E6-55A8B241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713A-48E1-44CB-A191-C29A4936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2860-FBD9-47FE-A4DD-E118CA8756BB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0047-3A24-4D9E-A24B-4828D755037B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743200" y="179712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 u="sng">
                <a:solidFill>
                  <a:srgbClr val="000000"/>
                </a:solidFill>
                <a:uFillTx/>
                <a:latin typeface="Times New Roman"/>
                <a:cs typeface="AF_Diwani"/>
              </a:rPr>
              <a:t>نشيد المناولة:</a:t>
            </a:r>
            <a:br>
              <a:rPr sz="10600"/>
            </a:br>
            <a:br>
              <a:rPr sz="9600"/>
            </a:br>
            <a:r>
              <a:rPr b="0" lang="ar-SA" sz="8000" spc="-1" strike="noStrike">
                <a:solidFill>
                  <a:srgbClr val="000000"/>
                </a:solidFill>
                <a:latin typeface="Tahoma"/>
                <a:cs typeface="Tahoma"/>
              </a:rPr>
              <a:t>من ذا الذ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58920" y="-387360"/>
            <a:ext cx="403236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3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0" spc="-1" strike="noStrike">
                <a:solidFill>
                  <a:srgbClr val="000000"/>
                </a:solidFill>
                <a:latin typeface="Monotype Corsiva"/>
                <a:cs typeface="Wasit4 Outline Reverse"/>
              </a:rPr>
              <a:t>؟</a:t>
            </a:r>
            <a:endParaRPr b="0" lang="en-US" sz="6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00400" y="1916280"/>
            <a:ext cx="59436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ن ذا الذ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فصلني عن حُبِّ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ن ذا الذ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ُبعدني عن دَرب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-60480"/>
            <a:ext cx="6804000" cy="71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َسَيفُ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م شِدة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م خَطرْ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لا حياةْ لا مماتْ لا بش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211640" y="1989000"/>
            <a:ext cx="493236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هل أخافُ الليلَ والبدرُ رقيبْ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م أداوي اليأسَ والحبُّ طبيبْ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221000"/>
            <a:ext cx="91440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ُرسَلٌ أنا ضاحكُ الـمُنى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581360"/>
            <a:ext cx="9144000" cy="28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يدي في غدي تُنبـِعُ السَنا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أَقطُفُ الورودْ من رُبى الخلودْ وأجودْ باله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00400" y="1916280"/>
            <a:ext cx="59436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ن ذا الذ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فصلني عن حُبِّ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ن ذا الذ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ُبعدني عن دَرب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0"/>
            <a:ext cx="6804000" cy="71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َسَيفُ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م شِدة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م خَطرْ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لا حياةْ لا مماتْ لا بش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963800"/>
            <a:ext cx="500364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طمحي القمم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قحمُ الألم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فمي ودم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َفتدي الأُمم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060640"/>
            <a:ext cx="493236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عزمتي وثابةٌ نحو العلى تستقي الارزاءَ منها للمل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2060640"/>
            <a:ext cx="464328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إن دعا الحبي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حملُ الصليبْ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أجيبْ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ها أ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00400" y="1916280"/>
            <a:ext cx="59436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ن ذا الذ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فصلني عن حُبِّ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ن ذا الذ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ُبعدني عن دَرب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-60480"/>
            <a:ext cx="6804000" cy="71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َسَيفُ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م شِدة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م خَطرْ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لا حياةْ لا مماتْ لا بش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32:52Z</dcterms:created>
  <dc:creator>Charbel Azar</dc:creator>
  <dc:description/>
  <dc:language>en-US</dc:language>
  <cp:lastModifiedBy>ف</cp:lastModifiedBy>
  <dcterms:modified xsi:type="dcterms:W3CDTF">2006-05-02T12:40:25Z</dcterms:modified>
  <cp:revision>11</cp:revision>
  <dc:subject/>
  <dc:title>PowerPoint Presentation</dc:title>
</cp:coreProperties>
</file>