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98D24-1AB4-41D2-8C33-A24BE7191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F3C4F-4E3F-4D02-9B95-9CD149F32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0A9FD-897B-4E6A-BA85-8C3841367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53930-7408-4034-AEF8-229A08218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14089-F08E-428B-BA40-6A7A9123C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A0D14-6049-43DD-97AB-9487D6780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2F80D-8A35-4832-A371-61E9C7C08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222B7-6EE8-4E9E-BDF0-75E4AE521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C0ACB-8671-46D0-92F7-C24793BD3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9E1C9-F027-46E8-A3C5-0FBECD3F2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AFAB6-CC8C-43D5-A27D-36507B278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43761-8725-48DA-802F-C055D9FE5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41AFF-DF18-430E-A289-D3F00B132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F82AD-2859-4848-80B9-E3FB5183B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F944C-15A4-4A93-98BA-63ECFA7AC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82B15-6BDF-4259-8632-457655A41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C52B7-5484-43DC-AE91-6C476B967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AB78B-1959-4DD5-8EAE-80BDC7BE8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27909-04B1-4096-B530-15D2C7167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993AD-627D-4467-91E2-D5428E964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13ECB-0AD1-4D2D-903E-37C6CF434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78B6D-4C4C-400E-8ACA-D91503CDC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2F827-D24A-41FF-8A54-A1B778F88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DF88B-AE46-4283-87D1-3AF6B3A95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L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23100-BB36-4AC2-A036-0C13DE1C2945}" type="slidenum">
              <a:rPr b="0" lang="ar-L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L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7CBF3-7EC1-4D77-9EDE-72A1B962554E}" type="slidenum">
              <a:rPr b="0" lang="ar-L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2743200" y="1797120"/>
            <a:ext cx="64008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600" spc="-1" strike="noStrike" u="sng">
                <a:solidFill>
                  <a:srgbClr val="000000"/>
                </a:solidFill>
                <a:uFillTx/>
                <a:latin typeface="Times New Roman"/>
                <a:cs typeface="AF_Diwani"/>
              </a:rPr>
              <a:t>نشيد الغفران:</a:t>
            </a:r>
            <a:br>
              <a:rPr sz="10600"/>
            </a:br>
            <a:br>
              <a:rPr sz="9600"/>
            </a:br>
            <a:r>
              <a:rPr b="0" lang="ar-SA" sz="8000" spc="-1" strike="noStrike">
                <a:solidFill>
                  <a:srgbClr val="000000"/>
                </a:solidFill>
                <a:latin typeface="Tahoma"/>
                <a:cs typeface="Tahoma"/>
              </a:rPr>
              <a:t>أللهم احفظني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600"/>
            </a:b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in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0" y="0"/>
            <a:ext cx="9180360" cy="17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000000"/>
                </a:solidFill>
                <a:latin typeface="Tahoma"/>
                <a:cs typeface="Akhbar MT"/>
              </a:rPr>
              <a:t>أللهم احفظني خلاصي في يديك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0" y="0"/>
            <a:ext cx="9180360" cy="17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000000"/>
                </a:solidFill>
                <a:latin typeface="Tahoma"/>
                <a:cs typeface="Akhbar MT"/>
              </a:rPr>
              <a:t>أللهم احفظني خلاصي في يديك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5003640" y="1916280"/>
            <a:ext cx="4140360" cy="29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000000"/>
                </a:solidFill>
                <a:latin typeface="Tahoma"/>
                <a:cs typeface="Akhbar MT"/>
              </a:rPr>
              <a:t>قلت للرب: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000000"/>
                </a:solidFill>
                <a:latin typeface="Tahoma"/>
                <a:cs typeface="Akhbar MT"/>
              </a:rPr>
              <a:t>إنك سيّدي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000000"/>
                </a:solidFill>
                <a:latin typeface="Tahoma"/>
                <a:cs typeface="Akhbar MT"/>
              </a:rPr>
              <a:t>وما عداك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000000"/>
                </a:solidFill>
                <a:latin typeface="Tahoma"/>
                <a:cs typeface="Akhbar MT"/>
              </a:rPr>
              <a:t>لا خيرَ لي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0" y="0"/>
            <a:ext cx="9180360" cy="17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000000"/>
                </a:solidFill>
                <a:latin typeface="Tahoma"/>
                <a:cs typeface="Akhbar MT"/>
              </a:rPr>
              <a:t>أللهم احفظني خلاصي في يديك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2060640"/>
            <a:ext cx="5943600" cy="29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جعلتُ الله دوماً نُصْبَ عينيَّ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عرفتُ الله دوماً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عن يميني لئلاّ أزِل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0" y="0"/>
            <a:ext cx="9180360" cy="17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000000"/>
                </a:solidFill>
                <a:latin typeface="Tahoma"/>
                <a:cs typeface="Akhbar MT"/>
              </a:rPr>
              <a:t>أللهم احفظني خلاصي في يديك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0" y="1963800"/>
            <a:ext cx="4932360" cy="29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لذلك فرح قلبي وابتهجت نفسي وجسدي أيضاً</a:t>
            </a:r>
            <a:endParaRPr b="0" lang="en-US" sz="8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يرقد على الدوام</a:t>
            </a:r>
            <a:endParaRPr b="0" lang="en-US" sz="8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0" y="0"/>
            <a:ext cx="9180360" cy="17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000000"/>
                </a:solidFill>
                <a:latin typeface="Tahoma"/>
                <a:cs typeface="Akhbar MT"/>
              </a:rPr>
              <a:t>أللهم احفظني خلاصي في يديك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3200400" y="2108160"/>
            <a:ext cx="5943600" cy="29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000000"/>
                </a:solidFill>
                <a:latin typeface="Tahoma"/>
                <a:cs typeface="Akhbar MT"/>
              </a:rPr>
              <a:t>تملأني فرحاً بلقياك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000000"/>
                </a:solidFill>
                <a:latin typeface="Tahoma"/>
                <a:cs typeface="Akhbar MT"/>
              </a:rPr>
              <a:t>وإلى يمينك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000000"/>
                </a:solidFill>
                <a:latin typeface="Tahoma"/>
                <a:cs typeface="Akhbar MT"/>
              </a:rPr>
              <a:t>نعيمي على الدوام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8T06:32:52Z</dcterms:created>
  <dc:creator>Charbel Azar</dc:creator>
  <dc:description/>
  <dc:language>en-US</dc:language>
  <cp:lastModifiedBy>Charbel Azar</cp:lastModifiedBy>
  <dcterms:modified xsi:type="dcterms:W3CDTF">2002-07-17T11:29:30Z</dcterms:modified>
  <cp:revision>4</cp:revision>
  <dc:subject/>
  <dc:title>PowerPoint Presentation</dc:title>
</cp:coreProperties>
</file>