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F8C4-F6BF-4270-B73C-D6BBE3948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FBC8-E141-4DE2-8749-10672914C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536D-9EAB-4D12-B52D-B4B27D995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99A9-E184-464F-9706-C6FE33C31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D251-F0D5-4080-8D67-85A0D4E52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CD1C-C227-42E2-948A-9680BDD4C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8C65-AC4A-425B-B644-1C9764792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842A-E927-40CA-A8EA-3B40AF22F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26C3-9C15-4075-8244-3A15ECD34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4923-7AB1-49C7-8F19-0FF43AE53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3003-D10D-433F-BAEB-45AD06056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7F20-26BB-4363-8C71-8375E9C17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FECA4-B6A5-4649-A95D-4F2D13461E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AP0248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CAP0249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1T03:57:49Z</dcterms:created>
  <dc:creator>USER</dc:creator>
  <dc:description/>
  <dc:language>en-US</dc:language>
  <cp:lastModifiedBy>USER</cp:lastModifiedBy>
  <dcterms:modified xsi:type="dcterms:W3CDTF">2002-11-01T03:57:57Z</dcterms:modified>
  <cp:revision>1</cp:revision>
  <dc:subject/>
  <dc:title>PowerPoint Presentation</dc:title>
</cp:coreProperties>
</file>