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E9F-D08C-4F01-8CD2-CDF4CA42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D7B-7378-4824-847D-37558D89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5AE-8070-4EBC-89FA-B263CE20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34C-510B-40E9-859B-AA9E54E2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6B4-93AC-4729-A0B5-6320CA2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A15-B620-48B4-80C4-C2C5A588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799-8B1F-4576-B32A-1C0C82BA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774-513A-4D21-B062-C8A6360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82D-F58D-47E0-8C42-AEB23ED8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6C0-1EAB-4F06-A797-C3751A1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1FA-5185-46E8-B625-1400D4A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11F-D80C-423A-BC4D-85EE78E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EE1-25F0-47B7-B983-5C32BE11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101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9280" y="149400"/>
            <a:ext cx="9411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ركي يا نفسي الربَّ ولا تنسَي كل حسنات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 يا نفسي الر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9720" y="2313000"/>
            <a:ext cx="576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غفر كلّ آثام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شفي جميع   أمراض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يُنَجّي من الحفرة حيات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الرحمة دوماً يكلّلُ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95720" y="5940360"/>
            <a:ext cx="13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ُشبعُ بالخيرِ عمرَكِ فيجدَِّد كالنَّسرِ شباب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ملأُ احتياجاتك باركي ربّك يا نفسي باركي  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9:33Z</dcterms:created>
  <dc:creator>USER</dc:creator>
  <dc:description/>
  <dc:language>en-US</dc:language>
  <cp:lastModifiedBy>USER</cp:lastModifiedBy>
  <dcterms:modified xsi:type="dcterms:W3CDTF">2002-10-30T15:43:48Z</dcterms:modified>
  <cp:revision>1</cp:revision>
  <dc:subject/>
  <dc:title>PowerPoint Presentation</dc:title>
</cp:coreProperties>
</file>