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F7F-12A0-4D11-9E01-05067E0A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0E6-7931-416C-85C8-8FB3F77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715-2B6D-4F67-9797-0318C70D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9F5-41BF-4A97-AC0C-F3670BC8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7CD-6C3E-4D71-8B54-12BFE785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208-0DCE-4268-8700-0D50575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8DD-EC69-42DC-9682-B2146D88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F78-F1C9-401D-864A-EE0B385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974-1C42-489B-B83C-630ACAE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205-CAD7-4DFA-856C-6B536EB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804-C5FE-4EBD-B53B-3761B8E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A5F-FB5B-4E1E-9667-B270CBB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C24-C891-4A37-87A4-8516EA94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568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كلمة نع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قدّام الله مزيّنة كلمة نع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خاتم ذهب وزهور ورفوف اليما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قولا سوا ونحب  (نعم)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ملا الدني ونحب  (نعم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حنا ربيع العمر (نحنا)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حكاية غرا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0:18Z</dcterms:created>
  <dc:creator>USER</dc:creator>
  <dc:description/>
  <dc:language>en-US</dc:language>
  <cp:lastModifiedBy>USER</cp:lastModifiedBy>
  <dcterms:modified xsi:type="dcterms:W3CDTF">2003-02-13T15:40:43Z</dcterms:modified>
  <cp:revision>1</cp:revision>
  <dc:subject/>
  <dc:title>PowerPoint Presentation</dc:title>
</cp:coreProperties>
</file>