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78A-D8F8-4D16-B044-76F405F6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09E-F415-4210-ADC6-E95D5004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BD0-C43D-4F9A-84A5-113FBDC4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5B1-0F3A-4100-8101-8BC15C83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093A-88D3-40C8-A190-EC18060C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198F-8C87-481A-8188-1B4E3A5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FC0-C122-4EFE-B9F2-A7BCDD28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5569-CDD9-4B5D-B9DF-323D3FB9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E90F-429B-4B61-9394-EC2D744C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8DD6-1FBB-4FF3-A54F-3D021E7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89C0-C7A2-46E0-8D90-06DD33D8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6F7-9456-4E0E-A95A-AE4F5D27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7794-AABF-4B88-9077-A6639B7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E1B-3E8C-447E-AAE7-2C470DF7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D871-E379-4DA5-B9FE-7CA490F1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D3A-EC0C-4150-B242-7DB052A0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6D5A-549A-41CC-9F94-5C14EADA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455-4D8A-4D83-9D03-F3B2A92B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EEC-F550-4DAC-81F8-1DAA1D2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276-5002-44EC-8B3A-7575A57A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6C0-7506-455E-AF52-6CEA9319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FB1-E4A6-4832-835D-9249C1B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3EC-A423-4592-9BBC-9116D26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645-D25F-48FC-8DF0-267C3D55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90B0-E010-4401-AD11-D53D4B896E9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4EE-93C0-46BC-B46E-216B72F8242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7280" y="3573360"/>
            <a:ext cx="647712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ي عظيم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052640"/>
            <a:ext cx="7880400" cy="396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ُّ أحكامِك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َ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َلِكُ الدّهور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1424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مَن لا يمجِّد اسمَك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يا رب مَن لا يَخافُ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ffffff"/>
                </a:solidFill>
                <a:latin typeface="Tahoma"/>
                <a:cs typeface="Akhbar MT"/>
              </a:rPr>
              <a:t>قُدسَك يا ألله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1058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شّعو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َكَ سَتَنحني لأنَّ مَجْدَك سَيُرى. هللويا آمين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1:28:31Z</dcterms:created>
  <dc:creator>Charbel Azar</dc:creator>
  <dc:description/>
  <dc:language>en-US</dc:language>
  <cp:lastModifiedBy>-</cp:lastModifiedBy>
  <dcterms:modified xsi:type="dcterms:W3CDTF">2003-01-16T10:09:43Z</dcterms:modified>
  <cp:revision>5</cp:revision>
  <dc:subject/>
  <dc:title>Slide 1</dc:title>
</cp:coreProperties>
</file>