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9A5-F77F-45EE-A7F7-050C29B6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A52-3248-4459-A8FF-87DD492A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97B-848A-4B77-9568-E61DE082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CB2-81E8-45FE-8C06-9476B307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AA0-C884-40DD-8585-BE4761E0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7E4-B51F-452D-97DA-80F388A1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E34-5245-4F43-BB7B-6565A7C3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AF9-4A80-4ED4-B2BE-56BDE906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319-7EF9-48A1-B276-7369304B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4A3-ED41-4B2A-A934-158061E4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249-E447-4DE7-B033-15B0A49D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910-9F78-45A0-8464-7A47F0B3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5631-BEC8-45A1-A226-87BFDD615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2293976XTGQR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5627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بتهجتْ نفسي بالقائلينَ لي إلى بيتِ الرَّبِّ نَنْطلِقُ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بيتِ الرَّبِّ نَنَطلِقُ  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 إلى ديارِهِ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582370xalGHMKHkU_ph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5234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6386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د وقفتْ أقدامُنا في أبوابِكِ يا أورشليمُ،</a:t>
            </a:r>
            <a:br>
              <a:rPr sz="3800"/>
            </a:b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ليكِ صَعِد شعبُ اللهِ حَسَبَ دعوتِهِ ليَحمدَ اسمَ الر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2293976XTGQR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5627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بتهجتْ نفسي بالقائلينَ لي إلى بيتِ الرَّبِّ نَنْطلِقُ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بيتِ الرَّبِّ نَنَطلِقُ  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 إلى ديارِهِ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1368130RjrjRHULen_ph" descr=""/>
          <p:cNvPicPr/>
          <p:nvPr/>
        </p:nvPicPr>
        <p:blipFill>
          <a:blip r:embed="rId2"/>
          <a:stretch/>
        </p:blipFill>
        <p:spPr>
          <a:xfrm>
            <a:off x="-213372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8520" y="380880"/>
            <a:ext cx="2895480" cy="72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ناكَ نُصِبَ عرشٌ للحكمِ عرشُ الربِ بين شعبِهِ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نسألِ السلامَ للمؤمنينَ ليَسعدِ الذينَ يُحبُّونَهُ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2293976XTGQR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5627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بتهجتْ نفسي بالقائلينَ لي إلى بيتِ الرَّبِّ نَنْطلِقُ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بيتِ الرَّبِّ نَنَطلِقُ  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 إلى ديارِهِ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38761956sSGxS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410080"/>
            <a:ext cx="8915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أجل إخوتي وأخِلاَّئي أدعو بالسلامِ والبَرَكة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جلِ بيتِ الربِّ ألتمِسُ الخيرَ فلنباركِ اللهَ كلُّن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2293976XTGQR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56272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بتهجتْ نفسي بالقائلينَ لي إلى بيتِ الرَّبِّ نَنْطلِقُ</a:t>
            </a:r>
            <a:br>
              <a:rPr sz="3800"/>
            </a:b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لى بيتِ الرَّبِّ نَنَطلِقُ  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 إلى ديارِهِ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3-02-08T06:32:14Z</dcterms:modified>
  <cp:revision>4</cp:revision>
  <dc:subject/>
  <dc:title>PowerPoint Presentation</dc:title>
</cp:coreProperties>
</file>