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037F-1357-4A66-B326-51BF5B0F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C70A-CD8B-4887-9038-4E3DE2C8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4E71-5E7F-489C-8BBA-35F58631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FD6-4CD5-4420-ABD9-BC6AD545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0AEC-4278-4BB4-9495-97F87F87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C246-144C-4FAE-8561-BA2DB8EC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7876-AE85-423A-9709-9940899C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BDA7-99FE-42BB-9667-BACA59A2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7A46-7D6B-496E-ADFF-58794219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34F2-9146-448C-BF35-29C20D5C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6DDA-FB1C-4335-95C2-03F9402D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E142-0D0C-418F-AB9E-2AAF41EB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B90B-85C2-4F3C-AC36-40C8DEE92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6675_wallpaper2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86200" y="41400"/>
            <a:ext cx="52578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قت السنين والحلم بقلبي يكبر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ضي الساعات اتأمل فيك واسه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دي الشمعات غفيان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صوت النايات حزنان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يوني بكاسك تسك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008502FOiXzyWBRd_ph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03960" y="120600"/>
            <a:ext cx="5619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ني محجو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داخل كاس وقربان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لكن موجو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قلبي وبوجدا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جودك خشوع ورهب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يعطي سعادة لقل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ينقلني لدنيي تان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6675_wallpaper2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86200" y="41400"/>
            <a:ext cx="52578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قت السنين والحلم بقلبي يكبر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ضي الساعات اتأمل فيك واسه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دي الشمعات غفيان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صوت النايات حزنان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يوني بكاسك تسك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7005_wallpaper2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471240" y="590400"/>
            <a:ext cx="1008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ة اتمنيت اسهر عندك سهرية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أنا والليل مع نجماتو المضو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جماتو نعسو وناموا- والليل اتغطى بحرامو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بقيت سهرانة عي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6675_wallpaper2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86200" y="41400"/>
            <a:ext cx="52578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قت السنين والحلم بقلبي يكبر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ضي الساعات اتأمل فيك واسه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دي الشمعات غفيان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صوت النايات حزنان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يوني بكاسك تسك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5006587ohtFiSbExQ_ph" descr=""/>
          <p:cNvPicPr/>
          <p:nvPr/>
        </p:nvPicPr>
        <p:blipFill>
          <a:blip r:embed="rId2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95880" y="0"/>
            <a:ext cx="289584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ركع ساع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غرق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بحر جفونك             صعبةالحيا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ربي وقاس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من دون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س بإيد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حمل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ادنية ح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وصل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شوف الآم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عيونك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6675_wallpaper2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86200" y="41400"/>
            <a:ext cx="52578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قت السنين والحلم بقلبي يكبر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ضي الساعات اتأمل فيك واسه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دي الشمعات غفيان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صوت النايات حزنان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يوني بكاسك تسك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USER</cp:lastModifiedBy>
  <dcterms:modified xsi:type="dcterms:W3CDTF">2002-10-31T14:15:29Z</dcterms:modified>
  <cp:revision>9</cp:revision>
  <dc:subject/>
  <dc:title>PowerPoint Presentation</dc:title>
</cp:coreProperties>
</file>