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B0E-5523-425E-A045-0C632D6D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968-8E12-4EF9-A462-6F2C7F7F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A31-E336-45B8-A1FA-9B77DB06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C5D-48B1-4D3F-AC69-E62650EF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EF5-5D01-41BE-BDC8-7D0E92E6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DEA-5ED5-44B8-A2C6-736C21EF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C25-45BE-4861-A645-2CA01500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D80-2ABC-42F2-BD77-E5FE68D4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556-0B32-414A-BA9B-0E5FA3A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AEB-77B3-47BC-9923-60553EEC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21C-0D55-4D0D-ACEC-F20136F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01C-CF1C-484E-B305-9027F60E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ADD4-A90A-4061-A8FB-D218C30DA2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2360" y="5516640"/>
            <a:ext cx="345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أنا حين أصلي</a:t>
            </a: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49228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وتصغي ل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72132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27280" y="603396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أنا حين أصل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549360"/>
            <a:ext cx="244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99cc"/>
                </a:solidFill>
                <a:latin typeface="Comic Sans MS"/>
              </a:rPr>
              <a:t>وتصغي 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292720" y="54936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عندك ألق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4724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أحمال السن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amond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15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15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5157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يرتاح قلب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1341360"/>
            <a:ext cx="32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ويعلو ب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4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76720" y="1341360"/>
            <a:ext cx="29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ينبض بسلام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852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بداخل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190600" cy="334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19640" y="551664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Comic Sans MS"/>
              </a:rPr>
              <a:t>أنا حين اصل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981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00"/>
                </a:solidFill>
                <a:latin typeface="Comic Sans MS"/>
              </a:rPr>
              <a:t>يزداد ث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8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81240" y="1405080"/>
            <a:ext cx="2981520" cy="404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32360" y="333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ترتفع ذات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566100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فوق ضعفا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708360" y="404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cc66"/>
                </a:solidFill>
                <a:latin typeface="Comic Sans MS"/>
              </a:rPr>
              <a:t>فيك ربي نج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4130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cc66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57340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cc66"/>
                </a:solidFill>
                <a:latin typeface="Comic Sans MS"/>
              </a:rPr>
              <a:t>خوف من الآ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10040" y="1405080"/>
            <a:ext cx="2923920" cy="4047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93080" y="4365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ل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8920" y="5589720"/>
            <a:ext cx="37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Comic Sans MS"/>
              </a:rPr>
              <a:t>خوف من الماض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0280"/>
            <a:ext cx="367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600" spc="-1" strike="noStrike">
                <a:solidFill>
                  <a:srgbClr val="000000"/>
                </a:solidFill>
                <a:latin typeface="Comic Sans MS"/>
              </a:rPr>
              <a:t>لسلامك آت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plit dir="in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40360" y="549360"/>
            <a:ext cx="29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66"/>
                </a:solidFill>
                <a:latin typeface="Comic Sans MS"/>
              </a:rPr>
              <a:t>أطمئن</a:t>
            </a: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3573360"/>
            <a:ext cx="35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600" spc="-1" strike="noStrike">
                <a:solidFill>
                  <a:srgbClr val="ff0000"/>
                </a:solidFill>
                <a:latin typeface="Comic Sans MS"/>
              </a:rPr>
              <a:t>حبك الأم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1773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ffff00"/>
                </a:solidFill>
                <a:latin typeface="Arial"/>
              </a:rPr>
              <a:t>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85080" y="3357720"/>
            <a:ext cx="10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ظ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940360" y="836640"/>
            <a:ext cx="25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6699"/>
                </a:solidFill>
                <a:latin typeface="Comic Sans MS"/>
              </a:rPr>
              <a:t>تلمس أعماق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429264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99cc"/>
                </a:solidFill>
                <a:latin typeface="Comic Sans MS"/>
              </a:rPr>
              <a:t>ربي المع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16360" y="476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فاعكس نور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5013360"/>
            <a:ext cx="46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6600" spc="-1" strike="noStrike">
                <a:solidFill>
                  <a:srgbClr val="ffff00"/>
                </a:solidFill>
                <a:latin typeface="Comic Sans MS"/>
              </a:rPr>
              <a:t>للآخر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84720" y="5516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ff"/>
                </a:solidFill>
                <a:latin typeface="Comic Sans MS"/>
                <a:cs typeface="Simplified Arabic Fixed"/>
              </a:rPr>
              <a:t>أنا حين أص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92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يزداد ث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40360" y="476280"/>
            <a:ext cx="23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ترتفع ذ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365720"/>
            <a:ext cx="29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فوق ضعف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96360" y="47628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67640" y="4046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في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134136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2852640"/>
            <a:ext cx="13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نج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808440" cy="5111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76720" y="907920"/>
            <a:ext cx="338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ff"/>
                </a:solidFill>
                <a:latin typeface="Comic Sans MS"/>
              </a:rPr>
              <a:t>خوف من الآ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2492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3860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ff"/>
                </a:solidFill>
                <a:latin typeface="Comic Sans MS"/>
              </a:rPr>
              <a:t>خوف من الماض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522936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000" spc="-1" strike="noStrike">
                <a:solidFill>
                  <a:srgbClr val="ff0000"/>
                </a:solidFill>
                <a:latin typeface="Comic Sans MS"/>
              </a:rPr>
              <a:t>لسلامك آت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4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3:53:08Z</dcterms:created>
  <dc:creator>Couvent</dc:creator>
  <dc:description/>
  <dc:language>en-US</dc:language>
  <cp:lastModifiedBy>Personal</cp:lastModifiedBy>
  <dcterms:modified xsi:type="dcterms:W3CDTF">2008-04-24T04:30:02Z</dcterms:modified>
  <cp:revision>10</cp:revision>
  <dc:subject/>
  <dc:title>Slide 1</dc:title>
</cp:coreProperties>
</file>