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265-CE57-40E1-B86A-BC223C0D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B63-71DE-4550-8AAD-241373D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571-784C-4ADA-87ED-769D51B9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D83-E024-4B57-A575-43340B5A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FE1-27F1-408F-9303-620A8B6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9A5-2924-497D-9853-4F7B8DF0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52F-1BB8-4288-9A0F-ACEA028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674-545F-4637-A82D-7E9766A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714-F483-469E-A3BF-C59BAD6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B33-9114-4A9E-9A35-5267640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E68-B80D-4A6E-81BD-7A777F8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6C9-97B7-4BAC-9518-90C524E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8B94-517B-4AA8-A153-864C83163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3787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هلم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بضياء وجه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920" y="5791320"/>
            <a:ext cx="9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ن نخاف    لن نخشى الظلمة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85240" y="0"/>
            <a:ext cx="6522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لن تقس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در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نحوك تسافر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قل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114920" y="5943600"/>
            <a:ext cx="111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نورك ربّي يكفينا    ذا مكانٌ نلتقي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00" y="301680"/>
            <a:ext cx="45118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صوبك</a:t>
            </a: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مُدّ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أيدين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تناجيك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3:20:01Z</dcterms:created>
  <dc:creator>HANI SAFI</dc:creator>
  <dc:description/>
  <dc:language>en-US</dc:language>
  <cp:lastModifiedBy>HANI SAFI</cp:lastModifiedBy>
  <dcterms:modified xsi:type="dcterms:W3CDTF">2003-06-01T13:44:26Z</dcterms:modified>
  <cp:revision>1</cp:revision>
  <dc:subject/>
  <dc:title>Slide 1</dc:title>
</cp:coreProperties>
</file>