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FC0-DAC5-46BE-B243-A6B31D70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98E-CBAF-4D95-881E-AF7DD9EF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3B2-8C7B-4805-90D9-32C6F620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5B2-55C3-4096-848D-E271D513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0FD-4FE4-47F6-9F7F-92224891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96B-48AE-4723-8777-B006343A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1A5-38FC-4876-8475-97AF02AF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0CE-B1C7-4E21-A8BB-07BB785A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996-55AA-46D0-A9CE-460E6905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7AB-ADE6-4F5E-AA8F-C3CE5061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C9F-6D4D-4A59-ABC0-F32C0D0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008-17AC-4812-B9B0-F2C7137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CDF-34E1-474E-AABB-A6B1AA5C7C6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361040"/>
            <a:ext cx="7093080" cy="24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رب إستعملني لسلام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4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رب، إستعملني لسلامِك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97964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فأضع الحب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حيثُ البُغض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والـمغفرة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حيثُ الإساءَة،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7944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والحقيقةَ حيثُ الضلال،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48000" y="247680"/>
            <a:ext cx="673236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9880" y="182736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ستعملني لسلامك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3:46Z</dcterms:created>
  <dc:creator>Charbel Azar</dc:creator>
  <dc:description/>
  <dc:language>en-US</dc:language>
  <cp:lastModifiedBy>ف</cp:lastModifiedBy>
  <dcterms:modified xsi:type="dcterms:W3CDTF">2006-04-01T18:17:07Z</dcterms:modified>
  <cp:revision>6</cp:revision>
  <dc:subject/>
  <dc:title>PowerPoint Presentation</dc:title>
</cp:coreProperties>
</file>