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936C-92E2-47C2-9FE6-DC939E85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A998-4E8D-41B9-BDDC-AB85D368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6253-F4CE-4EC6-BD44-7E5C9B7A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F6B3-C7B2-45AA-A554-F735B13F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21FC-8128-4D09-9553-CC7107BC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626E-078B-48BE-BD62-F20900D9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B2D0-24AE-4B2E-8986-4E107874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75E1-F0FA-45D6-8928-096938E5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5267-EF3B-4BFD-AEBF-80DE1C17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444D-C998-4FAD-91A8-4C63DAF6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FD21-1B13-4B97-ABCE-78012ADA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4CA7-A68B-42CF-B9B2-B02DADFC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1AFA-BEEC-4B80-8FF2-0387509B1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NGELS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00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456876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كلمة نع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ea typeface="Times New Roman (Arabic)"/>
              </a:rPr>
              <a:t> قدّام الله مزيّنة كلمة نعم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بخاتم ذهب وزهور ورفوف اليمام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 (Arabic)"/>
              </a:rPr>
              <a:t>    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نقولا سوا ونحب  (نعم)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 (Arabic)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 (Arabic)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 (Arabic)"/>
              </a:rPr>
              <a:t>   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تملا الدني ونحب  (نعم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نحنا ربيع العمر (نحنا) 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 (Arabic)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 (Arabic)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 (Arabic)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 (Arabic)"/>
              </a:rPr>
              <a:t>	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 (Arabic)"/>
              </a:rPr>
              <a:t>وحكاية غرام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3T15:40:18Z</dcterms:created>
  <dc:creator>USER</dc:creator>
  <dc:description/>
  <dc:language>en-US</dc:language>
  <cp:lastModifiedBy>USER</cp:lastModifiedBy>
  <dcterms:modified xsi:type="dcterms:W3CDTF">2003-02-13T15:40:43Z</dcterms:modified>
  <cp:revision>1</cp:revision>
  <dc:subject/>
  <dc:title>PowerPoint Presentation</dc:title>
</cp:coreProperties>
</file>