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50E-0F67-48D7-8E59-1E1D9D3D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06-0510-4A74-A29E-74F3E1A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D33-F207-4265-B777-78DAD737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12A-6458-49C5-91FE-1F8C3448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CC7-7E01-48A3-A1C9-39CD32E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C28-04B8-4C1A-A950-333659A2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635-D3AB-4A9B-A895-A72F7E29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540-505A-4480-918E-F489F969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36D-B764-432B-BE9D-FC45F76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384-91FB-433F-A37F-0562EDB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1BA-FD2D-40FE-887C-E914DBFD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094-9655-4FFF-B9E3-F11F386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B79-396E-475A-BD15-71F2F3E4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825310RTEFHjwk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7760" y="0"/>
            <a:ext cx="8445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ومرة بها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لزمان دخلت ع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غمرني نورك ورحل النسي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ضحكت عيني ووصل صداه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لعند السما، لفرح الج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4_PG8028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56480" y="0"/>
            <a:ext cx="593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البحر والص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مكن ألف 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تركتك ونسيت العه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بعيد الخوف ياخذ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ما يبقى حدى ح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ضل حبك ناط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risttheTwoThievesZo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985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2640" y="4756320"/>
            <a:ext cx="86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عطريق الشوك رافقني صلي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صار ألم الأرض ممزوج بعذا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جرحك غمر الكون، والدني كل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5:21Z</dcterms:modified>
  <cp:revision>6</cp:revision>
  <dc:subject/>
  <dc:title>PowerPoint Presentation</dc:title>
</cp:coreProperties>
</file>