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614-6C1A-4226-AF32-68BE3FA2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3D7-DFD4-4645-98A5-184EF15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E0B-9CD1-4AE4-9C66-9BAC4B95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64D-355F-418F-8917-FFC71A92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C5D-03A0-4E14-BA5D-430780E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F68-6B1F-45C6-900D-6CCA76B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30C-A3AF-48D2-B8F0-EE8046A9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EE4-7313-4F40-BED8-E510561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413-7EFE-4108-A88C-8B2A8BE0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944-0953-4A73-A982-B7FE147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9A1-7EAC-458B-BE8C-DDDB7AC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C9B-964B-4290-ACD1-E43E983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379-1995-47FD-B74B-0E690781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104891EainVAqxUG_ph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0"/>
            <a:ext cx="685800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في ذي الحياة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يا ربُّ يبقى أو يدوم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يُعطي العزاء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أيضاً شفاءً للهمو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من غيرك يا منقذي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ربي رجائي سيدي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يبقى وأنت لي الصديق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أمسي ويومي وغدي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708879FlmVuqGpXX_ph" descr=""/>
          <p:cNvPicPr/>
          <p:nvPr/>
        </p:nvPicPr>
        <p:blipFill>
          <a:blip r:embed="rId1"/>
          <a:stretch/>
        </p:blipFill>
        <p:spPr>
          <a:xfrm>
            <a:off x="-53352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0"/>
            <a:ext cx="3429000" cy="10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خالقي          يسمع صوتي ويجيب 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عارفاً كل الأنين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غيرك يبقى قر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منقذي         ربي رجائي سيدي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بقى وأنت لي الصديق       أمسي ويومي وغ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13207ziWiaDmYSk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533520"/>
            <a:ext cx="4191120" cy="80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ربي يسو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شفي جروحي يا طبيب 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(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ا فاحصاً عمق الضلوع      مسيحي يا أغلى حب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في ذي الحياة    يا ربُّ يبقى أو يدوم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غيرك يُعطي العزاء     أيضاً شفاءً للهم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13T04:16:45Z</dcterms:modified>
  <cp:revision>4</cp:revision>
  <dc:subject/>
  <dc:title>PowerPoint Presentation</dc:title>
</cp:coreProperties>
</file>