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4FF6-4545-4E7B-8F4B-72B1DF67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BC40-E007-4E04-977E-39403C48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D87-B5E1-4839-947E-746A56ED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636F-5AC1-4FF1-9B05-7E67F650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7DF2-AF8B-429D-AA54-BF7D3DB1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8FDD-2375-44BC-BCFA-D6566911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EE9D-7661-48A6-86AB-F3D7DA6F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2862-2C49-4B35-BBB1-D143BC15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CF74-6219-4AAC-8FAF-039313A2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D9E-0135-49CD-A93E-866F3728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D63B-0873-4F52-B1B2-0D09195F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B3C1-FD27-4B71-A3A8-D2350B3D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A3AE-72BE-4394-B273-C65F5A618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8945877cEaAGZliKr_ph" descr=""/>
          <p:cNvPicPr/>
          <p:nvPr/>
        </p:nvPicPr>
        <p:blipFill>
          <a:blip r:embed="rId2"/>
          <a:stretch/>
        </p:blipFill>
        <p:spPr>
          <a:xfrm>
            <a:off x="0" y="0"/>
            <a:ext cx="5572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35960" y="44280"/>
            <a:ext cx="4296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ثلِ الإبنِ الشاطِ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رح إرجَع يا 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دَك يا هالناطِ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عدروب المح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ا قدِّملك 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مثلِ الإبن الشاط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عندك يخل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دربي يا 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7997209garmnR_ph" descr=""/>
          <p:cNvPicPr/>
          <p:nvPr/>
        </p:nvPicPr>
        <p:blipFill>
          <a:blip r:embed="rId2"/>
          <a:stretch/>
        </p:blipFill>
        <p:spPr>
          <a:xfrm>
            <a:off x="0" y="0"/>
            <a:ext cx="56307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12800" y="44280"/>
            <a:ext cx="3916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ما بَدّي الولا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ولا لِبس الخوات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َدي قلب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يا ربي يا حبي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ما بَدّي الولا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ولا لِبس الخوات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َدي قلب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يا ربي يا حبي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يا حبي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4:12:43Z</dcterms:modified>
  <cp:revision>7</cp:revision>
  <dc:subject/>
  <dc:title>PowerPoint Presentation</dc:title>
</cp:coreProperties>
</file>