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50F-0216-4D20-8FD0-6C96303B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3B3-FF1B-41CF-BCEA-9772848C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E8B-525C-448E-B313-C7C50286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D4F-6D50-4C0B-BD3D-BD596AB2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B40-15AA-4996-BCDE-0D240828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E02-AC97-44FC-99C9-88BB908C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800-0270-4EE7-B47F-142C0847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E7F-E05D-4C0B-85DA-3BF1BA60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FFF-4E0E-406A-8526-699FC240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024-9560-4B62-8C9A-D5767514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735-B335-4110-8F81-F7E2B5D5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308-D9D2-422E-848C-DD765A90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59D6-E098-4B1B-B1E7-B77E69A5F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0104891EainVAqxUG_ph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0"/>
            <a:ext cx="6858000" cy="78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من غيرك في ذي الحياة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يا ربُّ يبقى أو يدوم (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Times New Roman (Arabic)"/>
              </a:rPr>
              <a:t>2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Times New Roman (Arabic)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من غيرك يُعطي العزاء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Times New Roman (Arabic)"/>
              </a:rPr>
              <a:t>أيضاً شفاءً للهموم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Arabic Transparent"/>
              </a:rPr>
              <a:t>من غيرك يا منقذي  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cs typeface="Arabic Transparent"/>
              </a:rPr>
              <a:t>ربي رجائي سيدي (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Arabic Transparent"/>
              </a:rPr>
              <a:t>2</a:t>
            </a:r>
            <a:r>
              <a:rPr b="1" lang="ar-SA" sz="3800" spc="-1" strike="noStrike">
                <a:solidFill>
                  <a:srgbClr val="ffcc99"/>
                </a:solidFill>
                <a:latin typeface="Arabic Transparent"/>
                <a:ea typeface="Arabic Transparent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Times New Roman"/>
                <a:cs typeface="Times New Roman (Arabic)"/>
              </a:rPr>
              <a:t>يبقى وأنت لي الصديق     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cc99"/>
                </a:solidFill>
                <a:latin typeface="Times New Roman"/>
                <a:cs typeface="Times New Roman (Arabic)"/>
              </a:rPr>
              <a:t>أمسي ويومي وغدي</a:t>
            </a: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1708879FlmVuqGpXX_ph" descr=""/>
          <p:cNvPicPr/>
          <p:nvPr/>
        </p:nvPicPr>
        <p:blipFill>
          <a:blip r:embed="rId1"/>
          <a:stretch/>
        </p:blipFill>
        <p:spPr>
          <a:xfrm>
            <a:off x="-53352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0"/>
            <a:ext cx="3429000" cy="10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غيرك يا خالقي          يسمع صوتي ويجيب (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عارفاً كل الأنين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 غيرك يبقى قري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غيرك يا منقذي         ربي رجائي سيدي(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بقى وأنت لي الصديق       أمسي ويومي وغ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13207ziWiaDmYSk_ph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533520"/>
            <a:ext cx="4191120" cy="80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غيرك ربي يسوع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شفي جروحي يا طبيب 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(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2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يا فاحصاً عمق الضلوع      مسيحي يا أغلى حبيب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ن غيرك في ذي الحياة    يا ربُّ يبقى أو يدوم (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من غيرك يُعطي العزاء     أيضاً شفاءً للهمو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3-02-13T04:16:45Z</dcterms:modified>
  <cp:revision>4</cp:revision>
  <dc:subject/>
  <dc:title>PowerPoint Presentation</dc:title>
</cp:coreProperties>
</file>