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BDE-7CFC-4FC8-A1A5-8720A650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C97-A3FE-4CDB-A6AF-90C13DC2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063-0BA8-40C6-B851-7A9D6A31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159-CC25-4D11-9FA1-157C9CB6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B00-2D18-4C54-88B1-89F0EAF5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917-3037-435F-861A-4FEA7173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0EB-BC35-4F8D-891E-D9ECFA6E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63F-D203-4928-8FBD-946BD174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613-C1AC-4206-A978-9EF458F3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B5E-6031-4B35-88EC-0B9DAD66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79F-1A52-4592-85D8-38203D6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57C-AE65-43A1-944D-ACDE40F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1082-D3D8-4E6F-BC19-197C3B809A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أنتم الذين اعتمدتم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في المسيح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قد لبستم المسي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35280" y="0"/>
            <a:ext cx="3708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جميعكم أبناء الله بالإيمان ب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9144000" cy="16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ما تعلمون أن أجسادكم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هي هيكل الروح القد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جِّدوا اللهَ واحملوه في أجسادك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نحن الذين اعتمدنا فيك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يّها المسيح، إحفظنا في ثوب ضيائك المجي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2:41:40Z</dcterms:created>
  <dc:creator>Charbel Azar</dc:creator>
  <dc:description/>
  <dc:language>en-US</dc:language>
  <cp:lastModifiedBy>-</cp:lastModifiedBy>
  <dcterms:modified xsi:type="dcterms:W3CDTF">2003-01-12T16:24:48Z</dcterms:modified>
  <cp:revision>5</cp:revision>
  <dc:subject/>
  <dc:title>نحن الذين اعتمدنا فيك أيّها المسيح، إحفظنا في ثوب ضيائك المجيد </dc:title>
</cp:coreProperties>
</file>