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C50-5893-4806-87A7-C09BC20E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BCE-71C6-49F1-B276-C1714A1C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1FE-5C2D-4B48-84AB-60E3827B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BD7-00E9-4DAB-977D-EEEBB5F7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3A9-7180-48D7-A259-508A4E76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896-2542-4603-A165-CA162A11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8BF-8AB5-4AD5-904F-821E6F78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DEF-6B38-49A5-AB9A-A7A7542B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B04-F340-4E98-83D7-DF22D3BB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06FD-C4F6-4F5E-A9B6-7C24155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174-3C92-42DD-B5E6-0C14B09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6149-89A2-4369-A387-110B9F9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983E-3ABA-42C4-9C73-B51BB3240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ey02" descr=""/>
          <p:cNvPicPr/>
          <p:nvPr/>
        </p:nvPicPr>
        <p:blipFill>
          <a:blip r:embed="rId2"/>
          <a:stretch/>
        </p:blipFill>
        <p:spPr>
          <a:xfrm>
            <a:off x="0" y="0"/>
            <a:ext cx="551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469040" y="701640"/>
            <a:ext cx="566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ُطْلبوا ملكوتَ اللهِ وبرَّهُ أول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لُ تلك الأشياءِ تُزاد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سألوا يُعطَى لك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ُطلُبوا تَجِدو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إِقرعوا يُفتَحُ البابُ ل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هللويا هللويا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5:50Z</dcterms:created>
  <dc:creator>USER</dc:creator>
  <dc:description/>
  <dc:language>en-US</dc:language>
  <cp:lastModifiedBy>USER</cp:lastModifiedBy>
  <dcterms:modified xsi:type="dcterms:W3CDTF">2003-01-20T01:09:43Z</dcterms:modified>
  <cp:revision>2</cp:revision>
  <dc:subject/>
  <dc:title>PowerPoint Presentation</dc:title>
</cp:coreProperties>
</file>