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000-B473-4B3B-9DCF-4394067E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890-C3AB-4EA8-AC8C-5813891F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17D-A4D9-44AD-B215-4670B3A8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52F-1CCE-491B-8835-83D828DD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F85-DCA6-4160-8B09-BE309339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949-63B6-4876-82D5-0890F87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EEB-36F9-4AD3-AEDA-446BABD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636-ABF8-40C7-ABE5-1FF8BF1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26D-F629-44D3-B6A9-EA1ADF6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879-C394-4AE4-936D-4652918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8FA-5454-48F8-89A2-E3A1C5B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CB5-F64B-41DA-879A-7F3CB2F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F200-13EC-4E59-9D66-A71B2D727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691135lGdOucJlFy_t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343400"/>
            <a:ext cx="914400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الشمس الغابت عنّا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هالنور اللي ضاع منّ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خلّيك بدالن عنا إنتَ الشمس الما ب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ّا يا يسوع لا 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5165XyvNDoekpU_ph" descr=""/>
          <p:cNvPicPr/>
          <p:nvPr/>
        </p:nvPicPr>
        <p:blipFill>
          <a:blip r:embed="rId1"/>
          <a:stretch/>
        </p:blipFill>
        <p:spPr>
          <a:xfrm>
            <a:off x="32004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00400" cy="10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سوع علّمني حِبّ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اهديني عَ در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طول خليني بقربك يسوع يا أحلى نص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715297pOlRBJDxOQ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57150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ور صُبحك وع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بنهارَك رحنا وج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ا ما عا دروب مش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لدَربَك دربِ الصليب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17:37Z</dcterms:created>
  <dc:creator>SUZANNE.MD</dc:creator>
  <dc:description/>
  <dc:language>en-US</dc:language>
  <cp:lastModifiedBy>SUZANNE.MD</cp:lastModifiedBy>
  <dcterms:modified xsi:type="dcterms:W3CDTF">2003-03-18T06:39:54Z</dcterms:modified>
  <cp:revision>1</cp:revision>
  <dc:subject/>
  <dc:title>PowerPoint Presentation</dc:title>
</cp:coreProperties>
</file>