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207-9193-425C-9E25-DB612256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45E-5C92-4934-AC32-95CE216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8AD-0802-4C3E-B4BB-7E06E24B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C93-69B0-4CEF-AEDA-17E48349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96EF-9B34-426A-A250-B3D7B649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37DF-C5CC-40AB-8353-572AC275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FAE9-2614-46F2-AEDC-8B1CEE7D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3582-E5A5-4B47-9B50-C0471D7D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3148-AE00-43B6-8932-90FE3775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A4DA-3FA4-4B8D-8D90-0B7E0AB5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6F1B-C6C6-492A-B375-7DFEF52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FE3-C0FF-4BC2-9808-13EC99CA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F5AF-8AB6-4715-96C1-B51B41EB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42F5-E08E-448C-B554-5B57824E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7621-223A-4512-BC97-0966E794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38C0-5396-4716-AC1F-793318DC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FD1F-309F-4E1A-9EB4-D0D9AD01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E40-57D8-479D-9107-E13E962E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809-5A6E-4618-94FD-2213DF1E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00C-0B39-4EB2-BAD4-043FE182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F77-7145-462C-A6C9-488D7F12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88E-D3BB-4A1F-B3A2-7D6C230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F302-2D45-4027-B01D-B85A7F9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E41-1AE6-4939-BCB4-FB89FE1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7726-0D1F-45AB-AC79-53C867D6ABD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FACA-2E65-46F0-A17E-CC6F37F6F1E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2000" y="1052640"/>
            <a:ext cx="6483240" cy="4800600"/>
          </a:xfrm>
          <a:prstGeom prst="rect">
            <a:avLst/>
          </a:prstGeom>
          <a:noFill/>
          <a:ln w="0">
            <a:noFill/>
          </a:ln>
          <a:effectLst>
            <a:outerShdw dist="99192" dir="1858194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قلبي مستعد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27000"/>
            <a:ext cx="9144000" cy="13261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لْبي مُسْتَعِدٌّ يا ألله إنّي أُرَنِّمُ وَأُشيدُ، إسْتَيقِظ يا مَجْدي إسْتَيْقِظْ أَيُّها الْعودُ والكِنّارَةُ سَأَسْتَيْقِظُ سَحَراً.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36440"/>
            <a:ext cx="8244000" cy="11615400"/>
          </a:xfrm>
          <a:prstGeom prst="rect">
            <a:avLst/>
          </a:prstGeom>
          <a:noFill/>
          <a:ln w="0">
            <a:noFill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عْتَرِفُ لَكَ فِي الشّعوبِ أَيُّها الرَّبُ وَأُشيدُ لَكَ فِي الأُمَمْ، فَقَدْ عَظُمَتْ رَحْمَتُكَ وَحَقُكَ إلى الْغُيوم؛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36440"/>
            <a:ext cx="9144000" cy="14907240"/>
          </a:xfrm>
          <a:prstGeom prst="rect">
            <a:avLst/>
          </a:prstGeom>
          <a:noFill/>
          <a:ln w="0">
            <a:noFill/>
          </a:ln>
          <a:effectLst>
            <a:outerShdw dist="52300" dir="1536356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ْتَفِعْ على السّماواتِ يا ألله وَلْيَكُنْ مَجْدُكَ على جَميعِ الأرض لِكَيْ يَخْلُصَ أَوِدّاؤكَ وَخلِّصْ بيَمينِكَ واسْتَجِبْ ل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1:21:00Z</dcterms:created>
  <dc:creator>Charbel Azar</dc:creator>
  <dc:description/>
  <dc:language>en-US</dc:language>
  <cp:lastModifiedBy>-</cp:lastModifiedBy>
  <dcterms:modified xsi:type="dcterms:W3CDTF">2003-01-09T15:02:55Z</dcterms:modified>
  <cp:revision>7</cp:revision>
  <dc:subject/>
  <dc:title>Slide 1</dc:title>
</cp:coreProperties>
</file>