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2E95-E870-4802-BB84-1999FA5D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90A-24D9-4D27-A90F-B2D00516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456-D7D9-447E-BE1F-191BC834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ED79-50A9-4CDF-A911-0576E61E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7684-1C04-43E8-A015-4575AE0A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EEA4-9486-40CB-9BC2-492A22B8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C9B5-58FF-4B97-9A72-B5B94C62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E140-2A26-47D1-B4BC-4A5C9E5B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AD0-44BB-4BA7-B906-58797C1E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741-3CAA-47A0-B8BE-E1C1C27E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9530-E281-4D11-A7CC-CC5255AF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960-3C09-464E-AAF2-88ECCC2C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A025-57B8-4317-AFB9-6C9AF309C1D5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يف بدي خاف من العتم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نت اللي بتعطيني النور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ش ممكن أرفض هالنعم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لي بتغمر كل الـمعمور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ش ممكن أبداً يا رب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رافق أوقاتي الصعب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غامرني بكل محب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حوّل أحزاني زهور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نت الكلمه وراح بتضل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بدايـــه والنهايــ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نغمه بترفرف وتهل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يسمعها الرايح والجاي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دايماً راح تبقى يا رب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أمل تنوّرلي درب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غلى عطية محب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حبّك وبروحك مسحور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نجيلك صدق وحقيق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ادة حياة جديد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ها بتجدّد الروح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ا بفكر إني وحيد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حدك يا ربي بتقبلن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الخطايا بتحررن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بإمي العدرا بتجمعن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طريق السماوات بزور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9:52:31Z</dcterms:created>
  <dc:creator>Charbel Azar</dc:creator>
  <dc:description/>
  <dc:language>en-US</dc:language>
  <cp:lastModifiedBy>Charbel Azar</cp:lastModifiedBy>
  <dcterms:modified xsi:type="dcterms:W3CDTF">2002-07-03T11:05:52Z</dcterms:modified>
  <cp:revision>2</cp:revision>
  <dc:subject/>
  <dc:title>PowerPoint Presentation</dc:title>
</cp:coreProperties>
</file>