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6B3-2EF9-4977-B5CA-87533B98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608-6F04-4258-85F9-06A7D76E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3AD7-752D-4B51-BC8D-0E573C61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BDEC-88C5-4D37-AD08-446D44F5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5081-700F-44DD-A89A-D6540011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E01B-58B9-4674-AF50-30079FCF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F543-C2B4-45C0-ACC2-7D6220B3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270-D444-4890-A23E-676B2904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B840-5542-4D24-ADB7-A1ECFF6D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6A9C-A8C7-4912-97CF-7DC879B2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7896-2923-4AB8-B1E9-BF63D0C9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1E3E-2289-4425-8E29-BDC96A18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46C1-A334-4F07-A68A-5632AC6448D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Tahoma"/>
                <a:cs typeface="????Boutros Rokaa"/>
              </a:rPr>
              <a:t>أنا ما بستحي فيك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ا ما بستحي في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قدّام الكلّ بغنّي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م قدّملك هالغنّيه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تبتا ولحّنتلّك هيّ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 رح غنيّها لكلّ الناس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رقّة وحنّية واحساس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ا هالشبّ البستح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لو بستحي بين الناس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كن ما بستحي في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 إنت حبي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ا في غيرك بالدني حبيب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 إنت نصي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شو في أحلى من هيكِ نصيب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 لمّا بوقع بالمخاطر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ين غيرك حدّي قريب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 بشوفك يا ربّي ناطر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ما بتتعب لا ما بتغيب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حدك ربّي السامع صوت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َمّا بشرب مرّ الكاس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ا هالشبّ البستح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لو بستحي بين الناس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كن ما بستحي في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-</cp:lastModifiedBy>
  <dcterms:modified xsi:type="dcterms:W3CDTF">2003-01-01T11:57:44Z</dcterms:modified>
  <cp:revision>13</cp:revision>
  <dc:subject/>
  <dc:title>Slide 1</dc:title>
</cp:coreProperties>
</file>