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CB6-86E8-4A88-809E-7F2B5FA3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16A-EA44-4C92-8AF5-95386DDF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FD2-26DA-4A5A-9F95-E099B05D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EC5-0E36-4691-8913-E957F919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CEAF-1C37-4B7F-9CF4-1966A764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F136-FF54-46B7-8D37-B87AD02A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4160-7235-415C-9355-45EE08B1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2D15-D15B-49E5-8F91-FEF4473E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4131-91EB-41B0-ABC8-AFB39702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4390-297A-42D7-ADF9-7583D23A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3B14-283E-4C20-84E9-6615DB98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FF8-EB4C-493A-A707-CF5EA0C6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BE06-08B6-488F-8654-246668AA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95D8-1C10-411A-97F0-C577C4C1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D098-99D3-4C85-A2D4-E7BA64AB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E32E-13CA-4B68-9DC5-D58CFC0F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BF5D-4C48-41A8-9EB4-D8D4AC85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0A5-BDF4-4B45-ACF9-0E9855C7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16E-7D78-4681-9C3D-3E6015D8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0B3-08D0-4C12-8676-33BD3159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F5C-2C2C-456A-8B46-B55C217E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339-EABB-4977-9D4A-EA1A0462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7BD-E900-4253-82E8-C97D6E52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2185-DBDA-462C-80DC-110B83EE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0FEB-2433-4037-A424-01592DC1E92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8A2E-810C-4091-A133-1B9CAB369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15920"/>
            <a:ext cx="6084720" cy="22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سهران كل اللي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5508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هران كلّ الل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م صلّيل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نجوم تغف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شمع حدّي يدو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95640" y="0"/>
            <a:ext cx="5148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سوع حلم الكون خدني بإيد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ا درب إلـمَ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جَّك المحبوب</a:t>
            </a:r>
            <a:r>
              <a:rPr b="1" lang="ar-LB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2708280"/>
            <a:ext cx="9144000" cy="263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مشي وفتّش عالطريق مْنَين لِجبال إطلع إقطَع الوديان</a:t>
            </a:r>
            <a:r>
              <a:rPr b="1" lang="ar-LB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773360"/>
            <a:ext cx="9144000" cy="29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شمس أو بالبحر إنت وَي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3429000"/>
            <a:ext cx="9144000" cy="278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مّا بزهره معطرة البست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5508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هران كلّ الل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م صلّيل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نجوم تغف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شمع حدّي يدو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9:09:52Z</dcterms:created>
  <dc:creator>Charbel Azar</dc:creator>
  <dc:description/>
  <dc:language>en-US</dc:language>
  <cp:lastModifiedBy>ف</cp:lastModifiedBy>
  <dcterms:modified xsi:type="dcterms:W3CDTF">2006-04-11T09:52:50Z</dcterms:modified>
  <cp:revision>6</cp:revision>
  <dc:subject/>
  <dc:title>Slide 1</dc:title>
</cp:coreProperties>
</file>