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47FA-4F23-4AE8-853C-6B05869DD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F708-AB33-4721-9EAB-C492A383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BB98-8FB4-470E-8C33-D82F3CE4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FD4E-8BC3-499E-B860-5E9A8BC8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F82F-E294-4764-BA0B-8C4E83A7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F4E7-9B0D-4E9D-A0E2-35EA3753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3618-B5BA-4592-A3A1-757E0837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BC1D-EB30-42AE-9E9B-DB59C536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6CC3-7EE9-4932-B10A-38073BC7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287C-283D-4191-BC88-E511A551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F94B-51A2-40F3-AA23-249A2EB5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7F53-3194-4137-A3AE-B6C69D6E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19A3-9428-416A-B3EA-DAE2FC99768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151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130000"/>
              </a:lnSpc>
              <a:spcBef>
                <a:spcPts val="35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200" spc="-1" strike="noStrike">
                <a:solidFill>
                  <a:srgbClr val="ffffff"/>
                </a:solidFill>
                <a:latin typeface="Arial"/>
                <a:cs typeface="????Boutros Rokaa"/>
              </a:rPr>
              <a:t>إني حبة القمح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11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إِنّي حَبَّةُ القَمْحِ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ذُقْتُ الْمَوْتَ كَيْ أَحْيَا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قَلْبي مِن طَعْنِ الرُّمْحِ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أَسْقَى حُبَّهُ الدُّنْيَا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قُوتاً رُوحياً حَيّا.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ِلرُّسْلِ قَالَ الرَّبُ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ِمْ أَنْتُمْ مَحْزونون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ا تَأْسَوْا لا تَغْتَمّو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ا سُلْطَانَ فِي الدُّنْيَ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َغْلِبُ الْمُحِبّينَ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-17136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11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بالمجدِ يَومِي آتٍ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طَالِعٌ مِن بَحْرِ النّورِ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فِي خَفْقِ نَصْرٍ حَيّ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يَعْلو هاماتِ الدّهور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إِذ إِنّي نُورٌ مِن نُور.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8T19:30:44Z</dcterms:created>
  <dc:creator>Charbel Azar</dc:creator>
  <dc:description/>
  <dc:language>en-US</dc:language>
  <cp:lastModifiedBy>-</cp:lastModifiedBy>
  <dcterms:modified xsi:type="dcterms:W3CDTF">2003-01-17T08:42:37Z</dcterms:modified>
  <cp:revision>6</cp:revision>
  <dc:subject/>
  <dc:title>Slide 1</dc:title>
</cp:coreProperties>
</file>