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5B59-3DA4-4BF2-86DC-EBD15DCE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C460-BC4F-45AB-9713-E6F5C4C1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AB53-DBD6-42A7-95B0-8F73A774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D302-79E7-4362-B526-58323C16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2A49-AC1D-4639-B555-5085D74F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BA4B-B7AF-4ECC-A587-3836BC54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87CC-07FF-4EE2-B449-40061FEB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F5E1-8096-4D7C-8AB4-1B6BA398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09DB-AD3F-48DA-8316-83E1ADDC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676F-BE0F-4BB2-9D2A-2AB93DC3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B641-56DA-4AD3-A0CC-70199ECA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2F4A-DB34-4A4F-A447-365F7665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9FE8-7660-49C7-8CF5-8B2524FD9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4720" y="642960"/>
            <a:ext cx="811224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سنين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لحلم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قلب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يكبر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ساع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تأمل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ي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سه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شمعا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فيان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ناي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حزنان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كاس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سك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716360" y="414360"/>
            <a:ext cx="4427640" cy="9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51515"/>
                </a:solidFill>
                <a:latin typeface="Times New Roman"/>
                <a:cs typeface="Arabic Transparent"/>
              </a:rPr>
              <a:t>عني محج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51515"/>
                </a:solidFill>
                <a:latin typeface="Times New Roman"/>
                <a:ea typeface="Arabic Transparent"/>
              </a:rPr>
              <a:t> داخل كاس وقربانة                   </a:t>
            </a:r>
            <a:r>
              <a:rPr b="1" lang="en-US" sz="4400" spc="-1" strike="noStrike">
                <a:solidFill>
                  <a:srgbClr val="151515"/>
                </a:solidFill>
                <a:latin typeface="Times New Roman"/>
                <a:ea typeface="Arabic Transparent"/>
              </a:rPr>
              <a:t>    </a:t>
            </a:r>
            <a:r>
              <a:rPr b="1" lang="ar-SA" sz="4400" spc="-1" strike="noStrike">
                <a:solidFill>
                  <a:srgbClr val="151515"/>
                </a:solidFill>
                <a:latin typeface="Times New Roman"/>
                <a:cs typeface="Arabic Transparent"/>
              </a:rPr>
              <a:t>لكن موجو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51515"/>
                </a:solidFill>
                <a:latin typeface="Times New Roman"/>
                <a:ea typeface="Arabic Transparent"/>
              </a:rPr>
              <a:t> بقلبي وبوجدان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51515"/>
                </a:solidFill>
                <a:latin typeface="Times New Roman"/>
                <a:cs typeface="Arabic Transparent"/>
              </a:rPr>
              <a:t>وجودك خشوع ورهب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51515"/>
                </a:solidFill>
                <a:latin typeface="Times New Roman"/>
                <a:cs typeface="Arabic Transparent"/>
              </a:rPr>
              <a:t>بيعطي سعادة لقلب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51515"/>
                </a:solidFill>
                <a:latin typeface="Times New Roman"/>
                <a:cs typeface="Times New Roman"/>
              </a:rPr>
              <a:t>بينقلني لدنيي تاني</a:t>
            </a:r>
            <a:r>
              <a:rPr b="1" lang="en-US" sz="4400" spc="-1" strike="noStrike">
                <a:solidFill>
                  <a:srgbClr val="151515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04720" y="642960"/>
            <a:ext cx="811224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سنين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لحلم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قلب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يكبر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ساع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تأمل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ي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سه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شمعا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فيان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ناي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حزنان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كاس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سك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71400" y="858960"/>
            <a:ext cx="773928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ة اتمنيت اسهر عندك سهرية                      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ا والليل مع نجماتو المضوي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جماتو نعسو وناموا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لليل اتغطى بحرام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بقيت سهرانة عي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04720" y="642960"/>
            <a:ext cx="811224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سنين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لحلم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قلب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يكبر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ساع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تأمل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ي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سه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شمعا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فيان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ناي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حزنان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كاس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سك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427640" y="171360"/>
            <a:ext cx="456408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ركع ساع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رقا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بحر جفونك صعبةالحياة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بي وقاسية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دون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س بإيدي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حمل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ادنية ح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وصلن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شوف الآمان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بعيون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4720" y="642960"/>
            <a:ext cx="811224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رق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سنين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لحلم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قلب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يكبر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ضي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ساع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تأمل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ي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سه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د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شمعا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فيان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صو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نايات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حزنان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يوني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كاس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سك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ف</cp:lastModifiedBy>
  <dcterms:modified xsi:type="dcterms:W3CDTF">2006-09-23T20:09:57Z</dcterms:modified>
  <cp:revision>10</cp:revision>
  <dc:subject/>
  <dc:title>PowerPoint Presentation</dc:title>
</cp:coreProperties>
</file>