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3DB-7509-4B83-8D6D-B64B2D94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9C2-39A7-424D-8D64-D2999BF3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0DA-8851-4335-AC5C-86125EF6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158-4EDD-47CF-846E-89B98008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08C-24B3-4CB2-9C07-B3A49985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592-E680-4080-BC3F-85804B83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2B6-9447-4CD9-8637-CF5B25BA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B93-6759-4476-88FF-6F9AA97E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C9B-59AD-4C72-BE7E-B7CC64A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D72-525D-4552-81DB-1B0C6F4D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2C0-7112-44C1-8ED4-94FCE3D2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6A1-B1D5-4A9F-B799-E8633CCD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03D9-26D2-4863-B05D-2EDDF06C8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205891gyyyQAlXVQ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90440" y="0"/>
            <a:ext cx="902952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رفعت عيني إلى الجبال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من حيث يأتي عوني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معونتي من عند الربّ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صانعِ السما والأرض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لا يدع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رجلك تَزِِل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ينعس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ي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ر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يحفظك، الرب ستر 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لا تؤذيك الشمس ف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نها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ial"/>
              </a:rPr>
              <a:t> ولا القمر في اللي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حفظك الرب من كل سوءٍ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rial"/>
              </a:rPr>
              <a:t>،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يحفظ الربُّ نفسك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يحفظ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ial"/>
              </a:rPr>
              <a:t>الربُّ ذهابَك وإيابَك، من الآن وإلى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الأب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1-20T00:56:00Z</dcterms:modified>
  <cp:revision>9</cp:revision>
  <dc:subject/>
  <dc:title>PowerPoint Presentation</dc:title>
</cp:coreProperties>
</file>