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B230-C58A-4BC6-89F9-3154B122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870-BC3F-4D49-BED8-A1DB8A9B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349D-FDBE-4F13-A0B6-5EF039FD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90C9-CFF8-4270-A3D2-7F8B6ABB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108E-47E4-4778-AC09-D25CBA98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43A5-2F65-4021-ACA8-69FCF927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4EA5-0003-44DB-BF9E-54E4E940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0A48-4670-4594-A582-D59CAA52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9CD0-C562-4B95-985B-9B30145D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2252-49C3-42D8-9BA2-2AF59F1F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825-E05D-4C1A-8197-9837977C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971C-0797-4D40-8EFD-C8119721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FCCC-B459-4D73-A909-D1950BA87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894622lnkCImSXrf_ph" descr=""/>
          <p:cNvPicPr/>
          <p:nvPr/>
        </p:nvPicPr>
        <p:blipFill>
          <a:blip r:embed="rId1"/>
          <a:stretch/>
        </p:blipFill>
        <p:spPr>
          <a:xfrm>
            <a:off x="-45720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0"/>
            <a:ext cx="3962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ا سيّدي خطئتُ إلي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من غُربتي أعدْتَن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 (Arabic)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إلي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2057400"/>
            <a:ext cx="4343400" cy="66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حبُّك ناداني أفاقَ غَفْوَ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نانُكَ ناداني أذاب </a:t>
            </a:r>
            <a:r>
              <a:rPr b="1" lang="ar-SA" sz="3600" spc="-1" strike="noStrike">
                <a:solidFill>
                  <a:srgbClr val="000000"/>
                </a:solidFill>
                <a:latin typeface="Arabic Transparent"/>
                <a:cs typeface="Arabic Transparent"/>
              </a:rPr>
              <a:t>قسو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امَكَ أسجدُ لمجدِك أخشَع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ِن غُرْبَتي دَعَوتني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يا سيّدي لبَّيْكَ لبَّيْك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7111219eXbTqlfTt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457200" y="0"/>
            <a:ext cx="8686800" cy="88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abic Transparent"/>
              </a:rPr>
              <a:t>يا سيّدي خطئتُ إليك 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ن غُربتي أعدْتَني  إلي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عفوَكَ إلهي لِما فعلتُهُ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دمعةٍ وآهِ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abic Transparent"/>
              </a:rPr>
              <a:t> أنا سألْتُهُ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لِعدلِكَ أسجدُ لحُكْمِكَ أخشعُ (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  <a:ea typeface="Arabic Transparen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rabic Transparent"/>
              </a:rPr>
              <a:t>مِن غُرْبَتي دَعَوتني إليك  يا سيّدي لبَّيْكَ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لبَّيْك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0054977" descr=""/>
          <p:cNvPicPr/>
          <p:nvPr/>
        </p:nvPicPr>
        <p:blipFill>
          <a:blip r:embed="rId1"/>
          <a:stretch/>
        </p:blipFill>
        <p:spPr>
          <a:xfrm>
            <a:off x="-295200" y="0"/>
            <a:ext cx="48672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343400" y="0"/>
            <a:ext cx="4800600" cy="10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ا سيّدي خطئتُ إليك</a:t>
            </a:r>
            <a:r>
              <a:rPr b="1" lang="ar-SA" sz="38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من غُربتي أعدْتَني  إلي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يّها الحبيبُ الغفورُ نِعْمَ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بقُربِكَ تَطيبُ صلاتي نَغْمَتي(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 لِحبِّكَ أسجدُ بقربِكَ أخشعُ (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ِن غُرْبَتي دَعَوتني إلي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يا سيّدي لبَّيْكَ لبَّيْكْ 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6:07:29Z</dcterms:created>
  <dc:creator>USER</dc:creator>
  <dc:description/>
  <dc:language>en-US</dc:language>
  <cp:lastModifiedBy>USER</cp:lastModifiedBy>
  <dcterms:modified xsi:type="dcterms:W3CDTF">2002-11-12T16:09:48Z</dcterms:modified>
  <cp:revision>1</cp:revision>
  <dc:subject/>
  <dc:title>PowerPoint Presentation</dc:title>
</cp:coreProperties>
</file>