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F0B-2010-4F93-B816-480C63E9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5D0-40E1-4F1A-89BB-70143568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6E9-426E-4AFF-B3A6-CDDFA733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BEE-9CDA-47AD-A11D-C5727A21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45E-13B2-4ED3-9F3F-4884568D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233-FDC4-4339-BE64-9BADE1D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F51-72D3-49E3-B91C-C37F891F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E4D-0F76-4C44-B037-9E861B0E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5E9-BB14-421A-9126-E5CFCDA2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4BD-EB94-44CE-9067-32B1911F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984-6E5E-442E-800E-EFF62CF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B3C-053A-4EE4-B9D4-6F9B346A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F67E-9A5D-45E6-88F3-BF8AABA09A29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2360" y="0"/>
            <a:ext cx="421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دَعُوا الأَطفالَ يَأتُونَ إِلَيَّ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لاَ تَمْنَعُوهُمْ فَلأَمْثالِ هَؤلاء مَلَكُوتُ الله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15:22:30Z</dcterms:created>
  <dc:creator>Charbel Azar</dc:creator>
  <dc:description/>
  <dc:language>en-US</dc:language>
  <cp:lastModifiedBy>Charbel Azar</cp:lastModifiedBy>
  <dcterms:modified xsi:type="dcterms:W3CDTF">2003-03-14T21:16:18Z</dcterms:modified>
  <cp:revision>4</cp:revision>
  <dc:subject/>
  <dc:title>PowerPoint Presentation</dc:title>
</cp:coreProperties>
</file>