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499-4497-4AB2-B8A0-2728865B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806-D436-41AA-BD28-085417A1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D30-F738-46CF-BEE0-F414B6F2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C8C-F320-4AC9-8CD3-C9D81764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79F-5902-4DA9-A041-93204644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33F-3BFD-4A4A-9A7F-E59CF377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E5A-50EB-45CB-92D7-0D19AC1E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95C-DF98-4680-9AD0-459BB1BF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192-808A-44A4-8C62-F44651C8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C2D-8F5A-4A59-A28D-A5609869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C8E-455B-4464-AC5C-1B809804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65C-E884-4C13-B2C4-61958C9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F8B8-0D6B-4325-B6B0-0D43D9A86C9B}" type="slidenum">
              <a:rPr b="0" lang="ar-L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0"/>
            <a:ext cx="5410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00"/>
                </a:solidFill>
                <a:uFillTx/>
                <a:latin typeface="Tahoma"/>
                <a:cs typeface="Diwany6 Normal"/>
              </a:rPr>
              <a:t>نشيد الدخول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Tahoma"/>
                <a:cs typeface="Tahoma"/>
              </a:rPr>
              <a:t>يا أول النب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4437000"/>
            <a:ext cx="83883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يا أول النبع يا آخر الـم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21300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لق الجمال والبحر والص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76720" y="1773360"/>
            <a:ext cx="58672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كيولي عن حبك البعدو عم يرويني وحدو اللي رح يبق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76720" y="2060640"/>
            <a:ext cx="586728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رّة بهالزمان دخلت عا قلبي وغمرني نورك ورحل النسيا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916280"/>
            <a:ext cx="50036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ضحكِة عينيّي وصّل صداها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عند السم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فرح الجنّ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4508640"/>
            <a:ext cx="8388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يا أول النبع يا آخر الـم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708280"/>
            <a:ext cx="9144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لق الجمال والبحر والصد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76720" y="1773360"/>
            <a:ext cx="586728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كيولي عن حبك البعدو عم يرويني وحدو اللي رح يبق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9:09:52Z</dcterms:created>
  <dc:creator>Charbel Azar</dc:creator>
  <dc:description/>
  <dc:language>en-US</dc:language>
  <cp:lastModifiedBy>ف</cp:lastModifiedBy>
  <dcterms:modified xsi:type="dcterms:W3CDTF">2006-11-28T23:10:22Z</dcterms:modified>
  <cp:revision>8</cp:revision>
  <dc:subject/>
  <dc:title>Slide 1</dc:title>
</cp:coreProperties>
</file>