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950-A98F-4E36-83B8-24A0E424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9EC-0818-4456-AD98-8EAB49BB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7C9-A81F-45DE-970B-11414613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2E6-888C-4E46-8750-13E1F439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9CC5-DB63-4646-A34C-66ED7F57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21FC-357C-4407-8692-718CAA36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D9C9-2033-4E44-85F0-8C4301FE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2C38-15E5-4AB6-B51A-DBCF83FF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4E9B-0CC8-4910-AB30-BD82C115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49A2-98DC-4487-B173-AE36A911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4655-B28F-4424-9C06-A39100D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FEE-5692-4A5A-9CB0-4C48C15A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7A08-A9DA-44B2-9939-96D3C2CC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D1E6-2B13-46AF-8EF7-3B8BD83F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CA7F-8817-4496-AA91-686C42F0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6DFC-F55B-4221-B240-328323A6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2C51-09B2-4C8F-AAA6-99AA7961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492-CED3-4977-B5F0-9573102B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D29-4D06-4DCE-B3EE-5E1C35FD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A1F-ADD4-4A2A-90B7-60604184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92A-DA5B-4AFD-AD8C-B32063B9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4A0-FC4B-4425-A2E7-E30ABC8D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F61-6D10-4ACC-A85C-84FE6D0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F56-117E-467F-8603-656426D6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03AE-0FB5-44DD-B067-6F89B27C003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19B4-2EA7-4443-BE22-EAA29D9BC15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هو عظيم حب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خالق الأكوا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جابل الإنسا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رّفني درب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خلقتني من العد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لأتني من النع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غفرت ذن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م وكم يا جابلي أشكر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فخت فيّ روح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قشت فيّ رسم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شفت لي عن اسم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خالقي أحبّ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3-01-29T16:46:04Z</dcterms:modified>
  <cp:revision>18</cp:revision>
  <dc:subject/>
  <dc:title>Slide 1</dc:title>
</cp:coreProperties>
</file>