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E3F-BF1D-4BEA-9455-5C47ED13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6AD-B4A1-4927-AFB6-568B7E85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50B4-7BEE-4309-BD23-35AF69C0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CC4-6EBC-42E3-B9F8-1EAC643D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2BA-8ECE-4748-88B7-45ECA3A7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551-6D48-4A16-8697-D737DC57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CDD-ECE2-4ECA-A6C2-E800319A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BBC6-6A89-4714-B13C-64721B24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74D-FC3B-4BCD-ABFB-C66C2940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650-674B-4FFC-8C32-0A13C69E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4E20-D3BF-4A1A-88E0-47C74B0F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02E-6DFF-485B-90BE-73A66DAF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6C51-69B3-402A-BA55-DC06D3D88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20574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يا إلهـي يا إلهـي   لا رجاء لي سو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تـاق قلبي تـاق لبّي أن أفوز برض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723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276720" cy="103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  <a:cs typeface="Arabic Transparent"/>
              </a:rPr>
              <a:t>ملْ روحك اشتياقي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  <a:ea typeface="Arabic Transparent"/>
              </a:rPr>
              <a:t>	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  <a:cs typeface="Arabic Transparent"/>
              </a:rPr>
              <a:t>هبه لي واستر خطا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  <a:ea typeface="Arabic Transparent"/>
              </a:rPr>
              <a:t> يرتوي منه غليلي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  <a:ea typeface="Arabic Transparent"/>
              </a:rPr>
              <a:t>	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فيك لا غيرُ رجــاي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20574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يا إلهـي يا إلهـي   لا رجاء لي سو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تـاق قلبي تـاق لبّي أن أفوز برض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57200"/>
            <a:ext cx="3200400" cy="88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نت ربي    نورُ قلبي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أنت حصنُ أتقي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املأن يا رب قلبي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روحَ قدسٍ من عُل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04920"/>
            <a:ext cx="20574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يا إلهـي يا إلهـي   لا رجاء لي سو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تـاق قلبي تـاق لبّي أن أفوز برض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2514600" cy="9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لبي املأ روحَ حبٍ روحَ برٍ وسل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َ إيمانٍ وصبرٍ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وحَ لطفٍ ووئ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06600" y="380880"/>
            <a:ext cx="6508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20574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يا إلهـي يا إلهـي   لا رجاء لي سو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تـاق قلبي تـاق لبّي أن أفوز برض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2514600" cy="10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ملءُ روحك حياتي     ملءُ روحكَ الوديع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ملءُ روحك </a:t>
            </a:r>
            <a:r>
              <a:rPr b="1" lang="en-US" sz="48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امْنَحَنّي   </a:t>
            </a:r>
            <a:r>
              <a:rPr b="1" lang="en-US" sz="48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يسوع   يا سميع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04920"/>
            <a:ext cx="20574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يا إلهـي يا إلهـي   لا رجاء لي سو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تـاق قلبي تـاق لبّي أن أفوز برض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08:53:20Z</dcterms:created>
  <dc:creator>SUZANNE.MD</dc:creator>
  <dc:description/>
  <dc:language>en-US</dc:language>
  <cp:lastModifiedBy>HANI SAFI</cp:lastModifiedBy>
  <dcterms:modified xsi:type="dcterms:W3CDTF">2003-05-22T04:56:50Z</dcterms:modified>
  <cp:revision>3</cp:revision>
  <dc:subject/>
  <dc:title>PowerPoint Presentation</dc:title>
</cp:coreProperties>
</file>