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398-7AC2-49F2-845F-E5BDF7AD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82C-CAD1-4BC2-B712-EDF818D4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E79-F956-48DD-A3D4-DADB25B5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1DC-4297-41F1-BC1A-CF0F36C8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835-1484-482C-9B00-2FDA455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935-20AD-48CB-A64E-136CF4E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6AF-9AB6-4B06-AED0-85AF129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65F-7311-4C88-A690-F55E5D3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302-CDBA-4AF3-A1DC-06D5A523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9A1-46BD-448F-BC4F-4D048DA0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D3F-5028-4591-B869-5E6516B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E1B-7906-4629-ACDB-56193A9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241A-30EF-4062-BBF6-CC916FD45D7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طلبوا ملكوتَ الله وبـِرَهُ أولاً</a:t>
            </a:r>
            <a:br>
              <a:rPr sz="7400"/>
            </a:b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كلُّ تلكَ الأشياءِ تُزادُ لكُم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سألوا يُعطى لكُم، أُطلبوا تجدوا، إقرعوا يُفتَحُ البابُ لكُم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2:02Z</dcterms:created>
  <dc:creator>Charbel Azar</dc:creator>
  <dc:description/>
  <dc:language>en-US</dc:language>
  <cp:lastModifiedBy>Personal</cp:lastModifiedBy>
  <dcterms:modified xsi:type="dcterms:W3CDTF">2008-04-24T08:29:11Z</dcterms:modified>
  <cp:revision>43</cp:revision>
  <dc:subject/>
  <dc:title>Slide 1</dc:title>
</cp:coreProperties>
</file>