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EB7-F61D-4A32-9B2E-9D264052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4FF-EAD7-46E3-9960-628B0FC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420-7558-4BE7-BF01-64FAE45E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C82-6BEA-43B6-B7C0-7FD96C58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65C-BA51-4E7D-B7C8-75004E67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CD9-C52F-46C6-A22F-CC13F27F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88F-C7E8-4B69-A82D-BC0D2522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D34-CF74-4161-A4F7-757BCF1E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C86-DDFA-4F52-91E2-D90FCCD4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D38-5E5F-4465-88F4-3752AD7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E5F-4D7E-475E-872A-833BA303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D77-26BD-4AEE-B190-2F94059A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0F4E-722F-4501-8431-3D867F7B3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7219758DxrZZt_ph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م الذينَ اعتَمَدتُم في المسيحْ قد لبِستُمُ المسي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998066guZQrOLuC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04920"/>
            <a:ext cx="243864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ميعُكم أبناءُ اللهِ بالإيمانِ بيسوعَ المسي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P-KAF0059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781680" y="457200"/>
            <a:ext cx="1981440" cy="85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Times New Roman"/>
                <a:cs typeface="Arabic Transparent"/>
              </a:rPr>
              <a:t>أما تعلمونَ أنَّ أجسادّكُم هي هَيكَلُ الروحِ القد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52242359KjXGwQ_ph" descr=""/>
          <p:cNvPicPr/>
          <p:nvPr/>
        </p:nvPicPr>
        <p:blipFill>
          <a:blip r:embed="rId1"/>
          <a:stretch/>
        </p:blipFill>
        <p:spPr>
          <a:xfrm>
            <a:off x="0" y="0"/>
            <a:ext cx="50068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1066680"/>
            <a:ext cx="335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جّدوا اللهَ واحملوهُ في أجسادكم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19:48Z</dcterms:created>
  <dc:creator>SUZANNE.MD</dc:creator>
  <dc:description/>
  <dc:language>en-US</dc:language>
  <cp:lastModifiedBy>USER</cp:lastModifiedBy>
  <dcterms:modified xsi:type="dcterms:W3CDTF">2003-01-07T16:16:12Z</dcterms:modified>
  <cp:revision>2</cp:revision>
  <dc:subject/>
  <dc:title>PowerPoint Presentation</dc:title>
</cp:coreProperties>
</file>