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9C3-3E9E-4B97-BC0C-2216C2A5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616-8179-476E-BA20-70FE8C91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66A-A8B9-49FA-B483-F7C67904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872-B8F2-43C9-8EA2-AAFE5D58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E27-8F5F-47EE-B058-4FDF6CD2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F3BB-3BDB-43AA-9DE0-E9FCBE12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36C-581D-4060-A1F1-9B64C26B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97F-91B6-42D2-A7F3-B934FF0B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CE2-8AB3-42BA-B212-A6D7B143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6D5-8EBE-4623-A147-B3A7B313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E6C-8FF6-4A46-974A-49857CF8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220-89C9-410E-9EAC-D0E7376C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484A-7796-4031-ACAE-4B509FFB3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6000159" descr=""/>
          <p:cNvPicPr/>
          <p:nvPr/>
        </p:nvPicPr>
        <p:blipFill>
          <a:blip r:embed="rId2"/>
          <a:stretch/>
        </p:blipFill>
        <p:spPr>
          <a:xfrm>
            <a:off x="1440" y="0"/>
            <a:ext cx="4570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02200" y="214200"/>
            <a:ext cx="74959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ضووا  الدني شموع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لوا بخش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مة الله معن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ي اللي بتجمعنا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خوه بيسو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خيي بتبقى مهما يص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منفرق بالأجنا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له تجسد طفل صغ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وخلص كل الناس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في عبد وما في ح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خوة بالله تساوينا</a:t>
            </a:r>
            <a:br>
              <a:rPr sz="32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 الخالق زاح الش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دنا تخاوين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16000146" descr=""/>
          <p:cNvPicPr/>
          <p:nvPr/>
        </p:nvPicPr>
        <p:blipFill>
          <a:blip r:embed="rId1"/>
          <a:stretch/>
        </p:blipFill>
        <p:spPr>
          <a:xfrm>
            <a:off x="0" y="-11160"/>
            <a:ext cx="1028700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7680" y="-57240"/>
            <a:ext cx="10348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ضووا  الدني شمو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لوا بخشو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مة الله معن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هي اللي بتجمعن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خوه بيسو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دنيتنا زيحوا الموت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خليها تزهر ألوا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 الخالق أعذب صوت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نادي السلام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طهر الخالق خلى الشمس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غزل بخيوطها ألو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لب الإنسا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و بيدخل مثل الهم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31:24Z</dcterms:created>
  <dc:creator>USER</dc:creator>
  <dc:description/>
  <dc:language>en-US</dc:language>
  <cp:lastModifiedBy>USER</cp:lastModifiedBy>
  <dcterms:modified xsi:type="dcterms:W3CDTF">2002-10-30T15:34:48Z</dcterms:modified>
  <cp:revision>1</cp:revision>
  <dc:subject/>
  <dc:title>PowerPoint Presentation</dc:title>
</cp:coreProperties>
</file>