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76B-3893-48AA-A595-BB02F4B0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9BD-8253-4182-96E2-F5DEB9A3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D91-85C9-4F82-AA0C-0A2DFA5F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CAF-4B25-48B5-B2DB-A8E99983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053-E1D2-42DC-B785-6B9A20A7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177-156B-4562-AEDF-FE92AB74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0D3-4D98-4A78-A2DE-5E570DDD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43B-7028-4EEB-997C-FDADD087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D34-06D5-4078-8BBF-9D7BF0E6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EED-C606-4C7D-909E-38D4BA53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A4D-4059-44E8-8A0D-DC197ACC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C8C-68D6-4F97-A1FA-3D7768EC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2EE6-DBB3-4FA2-A773-02DAB42C2A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4005360"/>
            <a:ext cx="4211640" cy="28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Ruqah2 Normal"/>
              </a:rPr>
              <a:t>في استقبال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35280" y="0"/>
            <a:ext cx="536436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في استقبالك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يا ملكَ</a:t>
            </a: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المجد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لَبسَتِ البيعة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بهى حُلاها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1" lang="ar-SA" sz="8800" spc="-1" strike="noStrike">
                <a:solidFill>
                  <a:srgbClr val="000000"/>
                </a:solidFill>
                <a:latin typeface="Simplified Arabic"/>
                <a:ea typeface="Akhbar M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0"/>
            <a:ext cx="4356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لأنكَ آت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حَسَبَ الوع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هللويا.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525636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Arial"/>
                <a:cs typeface="Akhbar MT"/>
              </a:rPr>
              <a:t>تنهضُ بالشوقِ إلـى الـمواعيد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788000" y="0"/>
            <a:ext cx="4356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 تسمعُ كلماتِكَ الشهيّة تدعوها لتصعَدَ إلـى العيد.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5280" y="0"/>
            <a:ext cx="536436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في استقبالك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000000"/>
                </a:solidFill>
                <a:latin typeface="Arial"/>
                <a:cs typeface="Akhbar MT"/>
              </a:rPr>
              <a:t>يا ملكَ</a:t>
            </a: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المجد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لَبسَتِ البيعة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بهى حُلاها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1" lang="ar-SA" sz="8800" spc="-1" strike="noStrike">
                <a:solidFill>
                  <a:srgbClr val="000000"/>
                </a:solidFill>
                <a:latin typeface="Simplified Arabic"/>
                <a:ea typeface="Akhbar M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0"/>
            <a:ext cx="435600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لأنكَ آت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حَسَبَ الوع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هللويا.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076640"/>
            <a:ext cx="9144000" cy="203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ُصغي إلى صوتِكَ الحبيب فتذكُرُ أنّك آتٍ حقا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716280"/>
            <a:ext cx="874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نّ تجلّيكَ فيها قريب هللوي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360" y="-27000"/>
            <a:ext cx="5435640" cy="675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فرحِ والحبِ تسجُدُ لكَ يا كلمةَ الخلاصِ والحياة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51134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تهتِفُ عند ذكرِ اسمِ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532800" y="1984320"/>
            <a:ext cx="6560280" cy="274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1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8:41:36Z</dcterms:created>
  <dc:creator>Charbel Azar</dc:creator>
  <dc:description/>
  <dc:language>en-US</dc:language>
  <cp:lastModifiedBy>ف</cp:lastModifiedBy>
  <dcterms:modified xsi:type="dcterms:W3CDTF">2006-11-13T21:20:29Z</dcterms:modified>
  <cp:revision>13</cp:revision>
  <dc:subject/>
  <dc:title>Slide 1</dc:title>
</cp:coreProperties>
</file>