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2B9-3BDA-45DC-9106-C83BED0B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2A49-2BF3-44E9-8E1D-22ED867F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1EB-7A8A-4EBE-BDB3-B9AAC606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DE5-CB00-4CAD-BACF-892652A6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9EC-14C1-4C77-A042-1B0C653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F1A-0F19-4554-9117-E47BDD41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33C-13C8-4CB4-A069-FF46D6DE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974-A626-4C7E-B9B2-E650A11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1F0-5AC8-463A-A530-27E7164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7BB-60D3-418A-A634-E1671C8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F59-A602-44D1-AA65-D8F79C4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CDC-64AC-4524-B6B0-288F319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252-9639-48DF-9525-EE14B3DF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89800" y="380880"/>
            <a:ext cx="728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ذ دخلـتُ قدسَكَ ورأيـت عرش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ل من هم حولك يُنشـدون مجدَ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خجلتني صورتي وصرختُ وي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ل نظــيري ينفـعُ لســيـدي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360" y="380880"/>
            <a:ext cx="715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ام طهرِ عرشَكَ أُدرك نجاس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أنا يا سيدي كي تجيب طلب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ُسَّ ربي شفتاي بلهيب جمـر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أصـير لائـقـاً لخـدمـتـ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02200" y="304920"/>
            <a:ext cx="825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مجدٍ سيدي أي فخرٍ بل يز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ي بهجة هنا لأنني بك سع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هما أسعى سيد لن أفي الحب الفر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بســرورٍ ســيدي أُطـيـعـ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2040" y="45687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منيتي سيدي أرسلني حيثما تريد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فكل ما في يدي لسيدي ربي المج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ا تكن إرادتي بل ما أنت لي تريـ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يكـن مجـد اسـمـك رسـالتي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05:13:23Z</dcterms:created>
  <dc:creator>HANI SAFI</dc:creator>
  <dc:description/>
  <dc:language>en-US</dc:language>
  <cp:lastModifiedBy>HANI SAFI</cp:lastModifiedBy>
  <dcterms:modified xsi:type="dcterms:W3CDTF">2003-04-12T05:18:14Z</dcterms:modified>
  <cp:revision>1</cp:revision>
  <dc:subject/>
  <dc:title>Slide 1</dc:title>
</cp:coreProperties>
</file>