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E96-04BC-4495-9AF8-7AA426F6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10C-2628-49F1-82DC-F57F5BC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C71-74CC-4640-B2B0-2B088013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C50-F1B9-4F2D-B6BF-251AA68A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52D-053E-45B0-B575-37CB9A32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D59-C026-4970-BC7F-0FF7687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0BA-4943-40A9-90E1-58002036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183-93E1-4ABE-855D-44EEAEE8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7EB-ED39-470A-92DC-C0DC707C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8ED-AFEB-420D-9801-CB03782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879-E8ED-4C65-85BA-509544B9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4CA-BD0D-4E14-9649-3AF0A7EE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60E8-D5AE-4313-AA2D-E59F7E7E5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2901341hwAoAJDEMV_ph" descr=""/>
          <p:cNvPicPr/>
          <p:nvPr/>
        </p:nvPicPr>
        <p:blipFill>
          <a:blip r:embed="rId1"/>
          <a:stretch/>
        </p:blipFill>
        <p:spPr>
          <a:xfrm>
            <a:off x="3581280" y="0"/>
            <a:ext cx="6195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9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ا تَخَفْ دَعَوْتُكَ  باسمِكَ وَ أنتَ لي إذا اجتزتَ في المياه فأكونُ مع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إن عَبَرتَ في الأنهارْ لا تَغمُرُكَ وإن سِرْتَ في النارْ لا تلذَعُك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Arabic Transparent"/>
              </a:rPr>
              <a:t>لأني أنا الربُّ فاديك جبيلُكَ في البطنِ صنيعُ كلِّ شي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لأني أنا الربُّ فاديك فإني قد أحبَبْتُكَ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by900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85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ل تنسى المرأة رضيعَها فلا ترحمُ طفلَها إذا نسيَتِ النساء فأنا لا أنسا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ها أنا نقَشْتُكَ على كفَّيَّ وأنتَ أمامَ عينيَّ في كلِّ حي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خلاصي إلى الأبدِ أمانتي  مدى الد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Arabic Transparent"/>
              </a:rPr>
              <a:t>حيٌّ أنا يقولُ الرب من يَثِقُ بي لا يَخز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8f8f8"/>
                </a:solidFill>
                <a:latin typeface="Times New Roman"/>
                <a:cs typeface="Times New Roman"/>
              </a:rPr>
              <a:t>حيٌّ أنا يقولُ الرب من يَثِقُ بي لا يَخزى</a:t>
            </a:r>
            <a:r>
              <a:rPr b="0" lang="ar-SA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holiday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96252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abic Transparent"/>
                <a:cs typeface="Arabic Transparent"/>
              </a:rPr>
              <a:t>قد محوتُ كالسَّحابِ معاصِيَكَ وكالغَمامِ خطاياكَ إرجَعْ إليَّ فإني افتَدَيْتُكَ ولن أنساك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محوتُ كالسَّحابِ معاصِيَكَ وكالغَمامِ خطاياكَ إرجَعْ إليَّ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فإني افتَدَيْتُكَ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8:27:28Z</dcterms:created>
  <dc:creator>SUZANNE.MD</dc:creator>
  <dc:description/>
  <dc:language>en-US</dc:language>
  <cp:lastModifiedBy>USER</cp:lastModifiedBy>
  <dcterms:modified xsi:type="dcterms:W3CDTF">2003-02-20T13:46:35Z</dcterms:modified>
  <cp:revision>2</cp:revision>
  <dc:subject/>
  <dc:title>PowerPoint Presentation</dc:title>
</cp:coreProperties>
</file>