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397F-EFCD-462D-BD61-7B104B0EF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B8FE-61D9-4B44-A5DE-BC59D442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B916-2BAB-44B2-85AC-35CC6DC42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4A4B-6915-48AB-A70F-295B6822C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A9A0-1E11-4480-8610-28E86514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2C81-BCCD-4B45-B926-5B571AF7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ABF9-5A25-4F00-B0B1-604CC35D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9EE4-541E-4BDA-863A-91F31B5E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8AFF-C302-436A-B70C-A39F0A95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9CBC-C78D-454F-B723-495C3F13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82D1-2ADA-4AC7-A776-264416DB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F630-185B-4CE4-AA9D-DB6CDA0B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FE36-5A93-4763-B482-89FC271D9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M500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75120" y="457200"/>
            <a:ext cx="7791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مع كل السـماوات              تنـشـد مجــد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مع كل ســحابة               تنشــر لطفــ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مع كل الـنـيرات               ترفـع ســبح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                مع كل المخلوق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47640" y="57913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سـأهتف إلهي  يا ما أجمـلـك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ما أعظم اسمك في الأرض كلها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إلهي ياما أجملك ما أعظم اسمك  ما أبهاك في خلائق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M101218" descr=""/>
          <p:cNvPicPr/>
          <p:nvPr/>
        </p:nvPicPr>
        <p:blipFill>
          <a:blip r:embed="rId1"/>
          <a:stretch/>
        </p:blipFill>
        <p:spPr>
          <a:xfrm>
            <a:off x="0" y="-219240"/>
            <a:ext cx="9144000" cy="7077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908840" y="5832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1598400" y="5913360"/>
            <a:ext cx="1169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سـأهتف إلهي  يا ما أجمـلـك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ما أعظم اسمك في الأرض كلها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إلهي يا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ما أجملك ما أعظم اسمك  ما أبهاك في خلائق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8480" y="838080"/>
            <a:ext cx="9303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السهول والجبال             مع كل الرياحيـ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من أعلى التـلال              مع همسة النسي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ع نغمة الشـلال               وطهر الياسـم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مع زهـر البسا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ين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U152" descr=""/>
          <p:cNvPicPr/>
          <p:nvPr/>
        </p:nvPicPr>
        <p:blipFill>
          <a:blip r:embed="rId1"/>
          <a:stretch/>
        </p:blipFill>
        <p:spPr>
          <a:xfrm>
            <a:off x="0" y="-298440"/>
            <a:ext cx="9144000" cy="7156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43000" y="48164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55960" y="552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1276200" y="5715000"/>
            <a:ext cx="11696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سـأهتف إلهي  يا ما أجمـلـك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ما أعظم اسمك في الأرض كلها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إلهي يا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ما أجملك ما أعظم اسمك  ما أبهاك في خلائق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16560" y="2590920"/>
            <a:ext cx="1015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ع مياه البحــار  وامـتـداد المحيط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ع خرير الأنهـا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انسكاب الينابـيع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ع كـرم الأمطار والثـلج والجـلي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كـلهـيـب نــار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7681351fPakcuKDUb_ph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ع كـل كيــان  ينبـض بالحيـاة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ع عصفور الجنائن  يغنـي للسـما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ع كـل إنســانٍ يشـع بالرجـا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                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  بصــرخة حنـان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7913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سـأهتف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      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إلهي 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  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يا ما أجمـلـك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ما أعظم اسمك في الأرض كلها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إلهي يا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ما أجملك ما أعظم اسمك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ما أبهاك في خلائقك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02:10Z</dcterms:created>
  <dc:creator>USER</dc:creator>
  <dc:description/>
  <dc:language>en-US</dc:language>
  <cp:lastModifiedBy>USER</cp:lastModifiedBy>
  <dcterms:modified xsi:type="dcterms:W3CDTF">2002-10-30T16:09:04Z</dcterms:modified>
  <cp:revision>3</cp:revision>
  <dc:subject/>
  <dc:title>PowerPoint Presentation</dc:title>
</cp:coreProperties>
</file>