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97F-0D1D-45CC-8F99-B9648C45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899-D9F4-4C92-ADAD-9BCC0ED3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EA1-043B-4A20-AC8D-136F66C5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4A6-4872-43A7-8F3E-5A0569AA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016-891C-4CE2-A298-35CD42AB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935-BA71-4B6D-A871-5DBFC25D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2AF-4DAD-4027-9690-B054B741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4DD-4DEB-4B8F-8CC1-96B7D1A6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C60-519A-4A62-9A7D-D4D6A665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E9B-21A1-4D94-8103-9FCC934E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1E5-4D95-4D42-9537-165310BB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373-9DD0-4A19-84BC-1CC34E60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4331-8A5F-4B70-B1BE-A60207A05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7680" y="25560"/>
            <a:ext cx="628632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743200" cy="83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ك حملتَ العالم وأعطيتَهُ الحيا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آتي إلي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تذوق للأبد من فيض سلامِك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54400" y="0"/>
            <a:ext cx="4989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3962160" cy="83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أني أريد الارتواء من عذوبةِ مياهِ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آتي إ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أني صرتُ مستعداً لترتاحَ في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2514600" cy="83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ك تشفي المريض وتستقبلُ الضال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آتي إليك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أني أؤمن بك وبمشيئ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آتي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26668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هديك فرحي وحزني لأجل حصاد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تي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ك حبيبُ نفسي ورفيقي ومل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تي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2666880" cy="84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هديك فرحي وحزني لأجل حصّادي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آتي إليك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نك حبيبُ نفسي ورفيقي ومل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آتي إلي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40120" y="0"/>
            <a:ext cx="5303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80880"/>
            <a:ext cx="3505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ي أحبكَ آتي إلي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171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81080" y="54100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55:04Z</dcterms:created>
  <dc:creator>SUZANNE.MD</dc:creator>
  <dc:description/>
  <dc:language>en-US</dc:language>
  <cp:lastModifiedBy>HANI SAFI</cp:lastModifiedBy>
  <dcterms:modified xsi:type="dcterms:W3CDTF">2003-05-22T17:00:41Z</dcterms:modified>
  <cp:revision>3</cp:revision>
  <dc:subject/>
  <dc:title>PowerPoint Presentation</dc:title>
</cp:coreProperties>
</file>