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143-6807-4D32-8673-71F41557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0FC-587D-4EE9-9139-AA47C814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69F-4BED-411A-A69D-E37484D7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293-1337-4A9B-8B65-A95DD8EC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12DA-329B-448E-8F4A-CE899EDE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4CE7-0A08-4CB6-A7CE-52D2F388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BA27-8B39-46F8-AAE1-E1184C0D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0E3B-2DF1-43F3-B522-CF8BF932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9A0F-67C7-4293-A96A-08011B3B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B98B-24E4-46B8-B76B-28022D1E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1370-6F97-4404-835B-7768B17E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4E9-DEF2-4C7C-81CA-20EBE710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447A-19B5-4950-BC95-469A201F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DD89-1CCB-47A7-9F52-995C7E46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2689-A403-4749-B97B-42314A49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A48F-B4B3-4732-9CF8-7E41C138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789F-C7B3-4E78-A68D-C4572EB3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8B6-B60B-4697-8711-446E9DC6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8084-5737-4B99-95FD-A58BFE26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4D1-AB23-490C-9477-2818D69E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6B5-966C-449B-92A5-A79FA17C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8C1-CF00-4135-8CF1-366B274B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AF5-EB85-4B3A-9987-FB8BDD1E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69F-F813-4ED7-A090-D97E7700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6DB4-691E-4832-8585-CFD91F92722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076D-ABD9-42FC-9E39-796E8F4CB58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95640" y="4005360"/>
            <a:ext cx="514836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قلباً فادي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قلباً فاد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كلَّ العباد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عب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السع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طوبى لـم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بغي رض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8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ُرضي جلالَ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َ يسوع المجيد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73280" y="210816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عودُ إن رأى جمالَ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مِن هذه الدنيا سَعيد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قلباً فاد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كلَّ العباد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عب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السع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طوبى لـم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بغي رض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4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كنزي خيري حظِّي حياتي مجدي أي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بحرَ الصلاح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62360" y="217980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تاقَت نفسي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ليكَ تأتي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َبها م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حِلمِك السماح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قلباً فاد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كلَّ العباد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عب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السع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طوبى لـم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بغي رض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1280" y="191628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إقبَلني في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قلبك الزاهي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يا مُنقِذي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كي أستريح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1844640"/>
            <a:ext cx="5580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واملك أنتَ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في قلبي الواهي واجعلْهُ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بالحبِ جريح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قلباً فاد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كلَّ العباد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عب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السع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طوبى لـم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بغي رض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01:34Z</dcterms:created>
  <dc:creator>Charbel Azar</dc:creator>
  <dc:description/>
  <dc:language>en-US</dc:language>
  <cp:lastModifiedBy>-</cp:lastModifiedBy>
  <dcterms:modified xsi:type="dcterms:W3CDTF">2003-01-08T07:34:51Z</dcterms:modified>
  <cp:revision>5</cp:revision>
  <dc:subject/>
  <dc:title>PowerPoint Presentation</dc:title>
</cp:coreProperties>
</file>