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8D5-80EC-4D64-B9A3-E5A8BF83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FBE-52D8-4688-A8D9-3D6805EC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37E-1793-4B36-89B4-5E9AB9B5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D1E-E86A-4084-BD81-13256043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F92-A9AF-497A-BE18-AE85853C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A2F0-CE09-49DC-9A63-7985CE3F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A487-652B-4B1F-BDDB-CFC08E34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126-DE25-48D2-A6F6-4F245423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531-54F7-475C-82AB-79183DAF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F05A-3401-4BB2-A402-422FE592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C6E-F656-4266-9B89-DD2DEE73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540-225D-4BFC-813F-9231CF74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F203-855A-438C-8060-C7E65C24646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229360"/>
            <a:ext cx="594036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Ruqah2 Normal"/>
              </a:rPr>
              <a:t>يا عطش الأروا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5280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60640" y="0"/>
            <a:ext cx="5283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بُّكَ يكف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دربُك يَهد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عينُك تَحم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نورُك يُغنينا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5280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63920" y="0"/>
            <a:ext cx="4780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خبزُك يُحي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خمرُك يَرو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بُّك يَعط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نوراً وحياة.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5280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7:41:27Z</dcterms:created>
  <dc:creator>Charbel Azar</dc:creator>
  <dc:description/>
  <dc:language>en-US</dc:language>
  <cp:lastModifiedBy>ف</cp:lastModifiedBy>
  <dcterms:modified xsi:type="dcterms:W3CDTF">2006-04-24T22:50:29Z</dcterms:modified>
  <cp:revision>5</cp:revision>
  <dc:subject/>
  <dc:title>Slide 1</dc:title>
</cp:coreProperties>
</file>