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84E-7A82-4A53-92E9-E3C03045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B0A-8B65-414A-BCCC-1BBCC047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E2B-003D-49A7-B108-AB5F15A1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5FD-1146-4449-A5FC-C6B3490C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610-D7E9-47C5-AD28-2EF49D74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65D-018F-4BDC-980D-A403EDA1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37A8-82DA-4F69-A5C1-30F3BB0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965A-C943-434A-A8D7-321900D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D90A-7B5E-4AD0-AB73-B824578A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9618-309B-4D97-B3B1-FE434C15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7B92-FF46-4D0D-92B3-4E788C7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5B5-FB5A-41D8-91D1-42EFD41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21A-597D-47AE-BFFF-E9F6AF7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9053-F002-4E0B-B645-51322C3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C677-3367-4EAB-808E-2FCD7ED8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9217-2CC3-4EA6-A4F4-B656742F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2692-BE09-4A3B-8DB8-2A8E597A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DA1-493C-4B8A-882E-6D1E25C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13D-5964-4494-A141-EFDCE60D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7FA-8D92-4307-B893-4A03D92E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1E5-0284-49A9-86FF-0573EA3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523-7810-40E4-864A-3F99F92E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5E7-C984-4EE5-9686-31F4012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649-A66B-4509-B3A3-3D31ADC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3D7-7EE8-4F97-A444-FCDE63D747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0EF-0783-4292-B608-786F917E54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95640" y="4005360"/>
            <a:ext cx="514836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قلباً فاد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3280" y="210816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4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حرَ الصلا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2360" y="217980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يكَ تأتي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ِلمِك السما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1280" y="191628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إقبَلني ف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قلبك الزاه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يا مُنقِذي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كي أستريح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1844640"/>
            <a:ext cx="558000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واملك أنتَ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في قلبي الواهي واجعلْهُ</a:t>
            </a:r>
            <a:br>
              <a:rPr sz="9600"/>
            </a:br>
            <a:r>
              <a:rPr b="1" lang="ar-SA" sz="9600" spc="-1" strike="noStrike">
                <a:solidFill>
                  <a:srgbClr val="000000"/>
                </a:solidFill>
                <a:latin typeface="Tahoma"/>
                <a:cs typeface="Akhbar MT"/>
              </a:rPr>
              <a:t>بالحبِ جريح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81280" y="2133720"/>
            <a:ext cx="5562720" cy="29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ا قلباً فاد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كلَّ العباد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060640"/>
            <a:ext cx="5562720" cy="29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إنَّ العب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لكَ السعاد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طوبى لـم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ahoma"/>
                <a:cs typeface="Akhbar MT"/>
              </a:rPr>
              <a:t>يبغي رضا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1:01:34Z</dcterms:created>
  <dc:creator>Charbel Azar</dc:creator>
  <dc:description/>
  <dc:language>en-US</dc:language>
  <cp:lastModifiedBy>-</cp:lastModifiedBy>
  <dcterms:modified xsi:type="dcterms:W3CDTF">2003-01-08T07:34:51Z</dcterms:modified>
  <cp:revision>5</cp:revision>
  <dc:subject/>
  <dc:title>PowerPoint Presentation</dc:title>
</cp:coreProperties>
</file>