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905-4027-4DF7-9D4F-6F27529B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893-1F3B-4DC1-A642-E484BF75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E7C-E5C3-4FC8-8825-705C5DD0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588-0EB9-40DC-A17F-BA2DAF4C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EFD-B504-48D6-9300-16F3C948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165-4D85-4B3E-8C89-A8B06D98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D0E-23ED-4403-8744-E38C9928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80E-7313-48C1-8F8D-F5C40626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ADE-5CC3-43FC-9089-E33ECFE7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E5E-5B87-4326-B68F-90B2D042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E28-DDA6-46E5-98EB-DF08DECA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2F3-AF2C-454F-B519-13B760A6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1ADC-5C2D-4C0D-827E-0967BFA6F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962520" cy="70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تعالوا إلى مائدة ال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نستقِ من منبعِ الح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ها قد حان وقتُ اللق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صوتُ الرب ينادينا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276720" cy="9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تعالوا إلى مائدة ال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نلجأ من وحشة الح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قربان ملك الس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ه ملء أماني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14600" cy="83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تعالوا إلى مائدة ال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هتدِ في ظلمةِ الد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هو الرب آتٍ ي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يُشبعنا ويَهدي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092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809880" cy="68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عالوا إلى وليمة الر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شرب من خمرة الح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أس الحياة طاب لن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اض من قلب فادي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04920"/>
            <a:ext cx="3962520" cy="90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ن يأكل من خبزك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ث الحياة الأبد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ربَّنا، ربَّنا، أعطنا خبزكَ، دوماً أعط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7:14:02Z</dcterms:created>
  <dc:creator>SUZANNE.MD</dc:creator>
  <dc:description/>
  <dc:language>en-US</dc:language>
  <cp:lastModifiedBy>HANI SAFI</cp:lastModifiedBy>
  <dcterms:modified xsi:type="dcterms:W3CDTF">2003-04-17T11:12:44Z</dcterms:modified>
  <cp:revision>2</cp:revision>
  <dc:subject/>
  <dc:title>PowerPoint Presentation</dc:title>
</cp:coreProperties>
</file>