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0001-20FE-4C8A-B576-F843A80E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4AC3-0925-474F-A68F-E3BCCEFD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36CF-B13C-4FEA-85F4-7967F9770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24CA-F137-44F9-9829-904BA5CF9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263B-9952-46C3-9C56-1429A61C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0474-D6D6-46B7-9FC1-A869F842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C0FC-6750-40AC-8A54-EA313E58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81BF-6D2A-4F20-8902-544091DB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5D42-51A4-480F-80D6-375284F6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DFF2-3DEB-447E-97FA-47FDC4A6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6738-1140-4C81-9E1C-1494B376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B6F7-929B-451E-BFD5-A2FCE77D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49A8-0C7B-478F-A7EC-965CA580D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0774855IvlDAvDgBg_ph" descr=""/>
          <p:cNvPicPr/>
          <p:nvPr/>
        </p:nvPicPr>
        <p:blipFill>
          <a:blip r:embed="rId2"/>
          <a:stretch/>
        </p:blipFill>
        <p:spPr>
          <a:xfrm>
            <a:off x="-1219320" y="25560"/>
            <a:ext cx="6019920" cy="684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34120" y="1066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0"/>
            <a:ext cx="3200400" cy="70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abic Transparent"/>
                <a:cs typeface="Times New Roman (Arabic)"/>
              </a:rPr>
              <a:t>أرسلني يا ربّ أرسلني        وبروحك القدّوس أضرم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abic Transparent"/>
                <a:cs typeface="Times New Roman (Arabic)"/>
              </a:rPr>
              <a:t>بين الخرافِ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abic Transparent"/>
                <a:cs typeface="Times New Roman (Arabic)"/>
              </a:rPr>
              <a:t>بين الذئابِ</a:t>
            </a:r>
            <a:r>
              <a:rPr b="1" lang="en-US" sz="40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abic Transparent"/>
                <a:cs typeface="Times New Roman (Arabic)"/>
              </a:rPr>
              <a:t>بين المســاكين أرسـلن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holyspiritsheep" descr=""/>
          <p:cNvPicPr/>
          <p:nvPr/>
        </p:nvPicPr>
        <p:blipFill>
          <a:blip r:embed="rId1"/>
          <a:stretch/>
        </p:blipFill>
        <p:spPr>
          <a:xfrm>
            <a:off x="-457200" y="0"/>
            <a:ext cx="62467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172200" y="304920"/>
            <a:ext cx="2743200" cy="9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ين الخِراف تضيعُ أُرجِعه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ين الذئـاب تثورُ أُخضِعه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مجدكَ القدّوسِ يا ملكاً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راعيـاً خُطاكَ أتبعُهـ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med_gallery_spirits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5241960"/>
            <a:ext cx="914400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رسلني نوراً يحمي التائهينَ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خبزاً يُشبِعُ الجائعيــن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 حُبَّاً يغمُـرُ المُعوَزيـنَ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رسلني يا ربُّ أكرمـن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L4TT" descr=""/>
          <p:cNvPicPr/>
          <p:nvPr/>
        </p:nvPicPr>
        <p:blipFill>
          <a:blip r:embed="rId1"/>
          <a:stretch/>
        </p:blipFill>
        <p:spPr>
          <a:xfrm>
            <a:off x="3240" y="0"/>
            <a:ext cx="56354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638680" y="0"/>
            <a:ext cx="3505320" cy="72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نحنُ إ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 نزرعِ الحبَّ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نحنُ إ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 نقبلِ الصّلبَ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نحنُ إ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 نعكُسِ الربّ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رسـلني يا ربُّ أرسـلن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5:34:51Z</dcterms:created>
  <dc:creator>USER</dc:creator>
  <dc:description/>
  <dc:language>en-US</dc:language>
  <cp:lastModifiedBy>USER</cp:lastModifiedBy>
  <dcterms:modified xsi:type="dcterms:W3CDTF">2002-11-25T15:36:36Z</dcterms:modified>
  <cp:revision>2</cp:revision>
  <dc:subject/>
  <dc:title>PowerPoint Presentation</dc:title>
</cp:coreProperties>
</file>