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319-A0CA-40BE-A71D-E00916CA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03AD-3D0F-4188-AC8B-DC4938F6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BC7-A0F1-465F-B0ED-7C53EA34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A4CA-3F1A-4605-8393-0718C2FF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FD7-F92A-4F24-BF48-9FA6D30F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934-1D00-47DF-99D9-01E7278A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656D-A375-4BFD-BAE5-BD5BE1B2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D4B-0346-4E25-8583-0004076C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9219-CFCD-4C5E-960E-D3E7976F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6EC-E452-4BFE-AFAB-972FF0CD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BDB-4542-49E5-B655-15EB7FFA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33D7-5F2E-4542-B7EE-D59B9FFE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7ABB-F75D-4C42-88D8-CB0950D56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501422dASCxiXjMA_ph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876920" cy="90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33"/>
                </a:solidFill>
                <a:latin typeface="Arabic Transparent"/>
                <a:cs typeface="Simplified Arabic"/>
              </a:rPr>
              <a:t>لولاك... من كانَ يحملْ همّي يا يسو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33"/>
                </a:solidFill>
                <a:latin typeface="Arabic Transparent"/>
                <a:cs typeface="Simplified Arabic"/>
              </a:rPr>
              <a:t>لولاك... كنتُ قضيتُ كلَّ عمري بالدمو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33"/>
                </a:solidFill>
                <a:latin typeface="Arabic Transparent"/>
                <a:cs typeface="Simplified Arabic"/>
              </a:rPr>
              <a:t>طريقي كانت ضَيَاع نصيبي كان الجحي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33"/>
                </a:solidFill>
                <a:latin typeface="Arabic Transparent"/>
                <a:cs typeface="Simplified Arabic"/>
              </a:rPr>
              <a:t>وكم لبستُ من قناع لأُخْفِي جرحيَ الأليم</a:t>
            </a:r>
            <a:r>
              <a:rPr b="0" lang="ar-SA" sz="2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5324937uKhisKVkwI_ph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4572000" cy="89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لولاك... من كان يمشي دربَ الجلج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لولاك... من كان سوف يحملُ الصل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جلد كان لي... الصلب كان لي... الموت كان ل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رتضيتَ أنت تأخذَ مكاني يا يسو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لكي تكون لي الحياة أتيتَ يا يسوع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7464747OSrAOXwLFa_ph" descr=""/>
          <p:cNvPicPr/>
          <p:nvPr/>
        </p:nvPicPr>
        <p:blipFill>
          <a:blip r:embed="rId1"/>
          <a:stretch/>
        </p:blipFill>
        <p:spPr>
          <a:xfrm>
            <a:off x="3724200" y="0"/>
            <a:ext cx="54198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342900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Simplified Arabic"/>
              </a:rPr>
              <a:t>أحبك... أحبك...أحبك... حبيبي يا يسو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Simplified Arabic"/>
              </a:rPr>
              <a:t>شكرا لك...مجداً لك ... لك السجودُ وحدك يا يسوع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0:01:37Z</dcterms:created>
  <dc:creator>SUZANNE.MD</dc:creator>
  <dc:description/>
  <dc:language>en-US</dc:language>
  <cp:lastModifiedBy>SUZANNE.MD</cp:lastModifiedBy>
  <dcterms:modified xsi:type="dcterms:W3CDTF">2003-03-16T10:14:02Z</dcterms:modified>
  <cp:revision>1</cp:revision>
  <dc:subject/>
  <dc:title>PowerPoint Presentation</dc:title>
</cp:coreProperties>
</file>