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CDE-A689-42CA-BC80-9E569371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899-4155-4E84-91C0-C9634E27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9DF-6508-4053-91D9-27AF565C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973-5124-4D2F-B715-A9C8AE0E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CDE-F683-4F9E-BB8B-8889F92C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4D7-E789-4387-A2D8-80B4966A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A78-A815-4D56-A0E7-5323E11C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9E7-9A2B-4080-88E1-07307E1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36E-FAD2-4B94-A5E4-23AFA889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F14-4267-431F-B6F2-45DE775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A10C-461B-403B-A11C-0DDDF946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7FF-3F75-4E0A-8C21-7216F864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A558-483A-4367-A956-9C76B97AD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722210dRDTugoGhX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380880"/>
            <a:ext cx="32004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إلهي قد نقيتُ         اليومَ في الماءِ الطَ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صطفاني الحبُّ فيكَ  مُرسلاً كلَّ الدُّ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340044ekIzaANufR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304920"/>
            <a:ext cx="2895480" cy="10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نذَرتُ أن أحبَّ الأكملَ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نذرتُ عِشقَ فادينا الحب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نذرتُ أن أُضحّي جسَدي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ساكباً للدمّ في الكأسِ الرهيب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1722210dRDTugoGhX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38680" y="380880"/>
            <a:ext cx="32004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إلهي قد نقيتُ         اليومَ في الماءِ الطَ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صطفاني الحبُّ فيكَ  مُرسلاً كلَّ الدُّ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548786bKuLjeoRng_ph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19920" y="0"/>
            <a:ext cx="2895480" cy="86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ستمعني أيها الكونُ الخشوع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سماءُ إسمعيني واشهَد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ملاكَ اللهِ خُذِ القَسَمَ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حوَ عرشِ المُتعالِ الأبد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1722210dRDTugoGhX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38680" y="380880"/>
            <a:ext cx="32004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إلهي قد نقيتُ         اليومَ في الماءِ الطَ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صطفاني الحبُّ فيكَ  مُرسلاً كلَّ الدُّ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56:26Z</dcterms:created>
  <dc:creator>SUZANNE.MD</dc:creator>
  <dc:description/>
  <dc:language>en-US</dc:language>
  <cp:lastModifiedBy>USER</cp:lastModifiedBy>
  <dcterms:modified xsi:type="dcterms:W3CDTF">2003-01-10T12:58:23Z</dcterms:modified>
  <cp:revision>2</cp:revision>
  <dc:subject/>
  <dc:title>PowerPoint Presentation</dc:title>
</cp:coreProperties>
</file>