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E18-A3F9-47CC-8A40-8DAA9626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5D6-D578-4E53-9412-D89CFFA4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BDE-688A-44FF-BBCD-7C87EC89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86D-DDB3-4285-B847-C07F52D6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4EE-BAFC-4D53-ABFE-00AC9984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E3E-9E0F-48C2-98A4-31215842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CC0-34CD-4D04-8B58-1E0D4BD2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127-9F47-4171-A680-FB903EF7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DB7-E671-4281-8C47-777BACAA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7D0-F8B5-46E0-83CF-2369C821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19A-6AB9-4B9F-B0D7-A4A19B6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F98-9824-4184-9F2D-C98DB7FD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FC77-6C15-43FD-BD43-28CB107FF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57880" cy="7086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34280" y="0"/>
            <a:ext cx="270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21320" y="0"/>
            <a:ext cx="482436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02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28:13Z</dcterms:created>
  <dc:creator>SUZANNE.MD</dc:creator>
  <dc:description/>
  <dc:language>en-US</dc:language>
  <cp:lastModifiedBy>HANI SAFI</cp:lastModifiedBy>
  <dcterms:modified xsi:type="dcterms:W3CDTF">2003-03-23T14:04:47Z</dcterms:modified>
  <cp:revision>2</cp:revision>
  <dc:subject/>
  <dc:title>PowerPoint Presentation</dc:title>
</cp:coreProperties>
</file>