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5224-3D4F-4CC4-8D1D-7442EFAD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6E18-AF5D-4F86-86D4-F39B94F3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DABB-1C10-481B-BD4D-9838F80F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8B3C-6E5C-49C4-8C52-FEBB8EE08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944C-11F6-490E-82BB-7F93DBED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297E-A63B-4BD4-9846-22C45C3A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FCE9-D68D-4B80-90F4-487873EB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74E1-9180-4BAB-BD79-A4649F99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B72D-F6CF-4533-A10E-E43689ED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EF1F-4975-4180-9927-DCAF8046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67AE-7FEC-4F9E-87ED-BD5E82B2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3DB2-C479-417C-A8DD-3199D3C5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98AC-25C1-433D-9604-EDDFA498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4D28-0CD5-44E0-BF89-7B4B231B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DCB6-1223-4B88-AE0D-1AB7D853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D389-017E-4DA6-A37B-B174BD192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E335-350F-4CC2-AE05-6A916AF3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92BA-D6DF-42B6-9628-A9EEC8F3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BE74-2BED-437F-9ADE-B8BAB19C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C1FB-0A4A-41CC-951D-47A27593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0153-5230-40E3-9E9B-5C4C0EB1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88C2-8C1B-4F20-97E6-69884ED2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D2F0-C015-4FE7-B154-2521DEA8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003E-D138-4412-953C-66A54037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DFB2-E2C7-4054-940D-BC15CE00FCBC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3FD0-0E0F-4F9B-881C-91515F2DA737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4952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 u="sng">
                <a:solidFill>
                  <a:srgbClr val="ffffff"/>
                </a:solidFill>
                <a:uFillTx/>
                <a:latin typeface="Times New Roman"/>
                <a:cs typeface="AF_Diwani"/>
              </a:rPr>
              <a:t>نشيد الدخول:</a:t>
            </a:r>
            <a:br>
              <a:rPr sz="7200"/>
            </a:br>
            <a:r>
              <a:rPr b="0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نح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ساهرون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260280"/>
            <a:ext cx="876312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نحن ساهرون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ومصابيحُنا مشتعل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920" y="293760"/>
            <a:ext cx="8747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imes New Roman"/>
                <a:cs typeface="Akhbar MT"/>
              </a:rPr>
              <a:t>ننتظرُ عودتَ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imes New Roman"/>
                <a:cs typeface="Akhbar MT"/>
              </a:rPr>
              <a:t>أيها الربُّ يسوع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5280" y="404640"/>
            <a:ext cx="792468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كما يومضُ البرق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فـي أفُقٍ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ويتألّقُ فـي آخر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86200" y="981000"/>
            <a:ext cx="5257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هكذا، مجيءُ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ربِّنا يكون.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60280"/>
            <a:ext cx="876312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نحن ساهرون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ومصابيحُنا مشتعل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8000" y="366840"/>
            <a:ext cx="8746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imes New Roman"/>
                <a:cs typeface="Akhbar MT"/>
              </a:rPr>
              <a:t>ننتظرُ عودتَ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imes New Roman"/>
                <a:cs typeface="Akhbar MT"/>
              </a:rPr>
              <a:t>أيها الربُّ يسوع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114800" y="1916280"/>
            <a:ext cx="456084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لِنفرحنَّ به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كما فرِحَ بن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لأنّه سيُفرحُن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ببهاءِ ضيائِه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60280"/>
            <a:ext cx="876312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نحن ساهرون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ومصابيحُنا مشتعل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920" y="293760"/>
            <a:ext cx="8747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imes New Roman"/>
                <a:cs typeface="Akhbar MT"/>
              </a:rPr>
              <a:t>ننتظرُ عودتَ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imes New Roman"/>
                <a:cs typeface="Akhbar MT"/>
              </a:rPr>
              <a:t>أيها الربُّ يسوع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57:59Z</dcterms:created>
  <dc:creator>Charbel Azar</dc:creator>
  <dc:description/>
  <dc:language>en-US</dc:language>
  <cp:lastModifiedBy>Charbel Azar</cp:lastModifiedBy>
  <dcterms:modified xsi:type="dcterms:W3CDTF">2002-07-15T07:47:34Z</dcterms:modified>
  <cp:revision>4</cp:revision>
  <dc:subject/>
  <dc:title>PowerPoint Presentation</dc:title>
</cp:coreProperties>
</file>