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354-AC5B-434A-96FD-926FA8CA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3C2-5A26-4106-9D2C-D1F8DD8C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43A8-7EF2-442C-BF7D-5F7DEA89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E34-721F-4EC1-95C3-2B50E2D4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B8F-6053-40D8-B02B-5D26D0EF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842-0C54-46A7-974F-3E4AAB2F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2DA-705B-4CB8-A9B6-ADF9E154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82A-C3D6-43A9-96D3-AC802442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0D1-A0A8-45A3-ABAE-C8FCA008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45F-D0FE-400F-B360-25426DF3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EC0-1FDC-4696-86DD-093FE950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40D-B048-4470-9A3F-E7F11CDE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572A-C68D-4A23-818E-0B45C2F4ECCE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 u="sng">
                <a:solidFill>
                  <a:srgbClr val="ffff00"/>
                </a:solidFill>
                <a:uFillTx/>
                <a:latin typeface="Times New Roman"/>
                <a:cs typeface="Diwany6 Normal"/>
              </a:rPr>
              <a:t>نشيد الدخول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ar-SA" sz="8000" spc="-1" strike="noStrike">
                <a:solidFill>
                  <a:srgbClr val="ffff00"/>
                </a:solidFill>
                <a:latin typeface="Tahoma"/>
                <a:cs typeface="????Boutros Rokaa"/>
              </a:rPr>
              <a:t>ربي أن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00"/>
                </a:solidFill>
                <a:latin typeface="Tahoma"/>
                <a:cs typeface="????Boutros Rokaa"/>
              </a:rPr>
              <a:t>طر يق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81280" y="2781360"/>
            <a:ext cx="5562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أنت طريق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في معاثر الحيا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ربّي أنت رفيق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عند ساعة الـمما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35280" y="1989000"/>
            <a:ext cx="5508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َك دع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كَ رج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غايةُ الـمن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درُ ا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35280" y="1989000"/>
            <a:ext cx="5508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نارٌ لقلب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أيضاً نس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هديٌ لدربي أنتَ فجرِيَ الوسي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35280" y="1989000"/>
            <a:ext cx="5508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َك دع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كَ رج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غايةُ الـمن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درُ ا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60" y="3500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ahoma"/>
                <a:cs typeface="Akhbar MT"/>
              </a:rPr>
              <a:t>أُعضدِ الـموجعينَ ساعدِ البائسي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400536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ahoma"/>
                <a:cs typeface="Akhbar MT"/>
              </a:rPr>
              <a:t>أشبعِ الجائعينَ أرجِعِ الخاطئي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35280" y="1989000"/>
            <a:ext cx="55087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َك دع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وحدكَ رجو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غايةُ الـمن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درُ ا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01:34Z</dcterms:created>
  <dc:creator>Charbel Azar</dc:creator>
  <dc:description/>
  <dc:language>en-US</dc:language>
  <cp:lastModifiedBy>ف</cp:lastModifiedBy>
  <dcterms:modified xsi:type="dcterms:W3CDTF">2006-11-27T20:51:13Z</dcterms:modified>
  <cp:revision>4</cp:revision>
  <dc:subject/>
  <dc:title>PowerPoint Presentation</dc:title>
</cp:coreProperties>
</file>