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168-6A92-4950-A6EF-35C70CC5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2AF-CE05-4D41-8A57-67FB0A03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557-9E79-48FE-BD5F-790F2D63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7C7-4282-4878-9428-884F6FC3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F6C-5970-419D-B60A-331D8CDD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FEB-CEEB-4778-BBE4-68994728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B16-8215-43F9-A60E-A6D14E9E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700-5860-4B01-9BCA-D4FD898F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974-9037-452A-9D0E-0EF08755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17F-1D00-45B6-9A56-F52ACFC8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950-01C2-4357-875D-C8547D7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8B2-DF84-412C-93CD-74AE2101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16A3-F99A-42E2-8F6E-9B743CD89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4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91120" y="0"/>
            <a:ext cx="49528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ل أطرقُ بابَكَ بعد ضَياع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كُّلي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و يصلُحُ أ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قتربَ إليك بذِ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ضيعتُ أنا فرحتي مني بجه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 كنتَ حبيبي وخلِّي أنت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بل أه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تركتُكَ لكني أعودُ فتَرحم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لا بيدي إلا الوعد ليَسْتُرَ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قلبي بأحشائي ينادي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أُغمر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َشتاقُ لحضنِ الآب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عطفُه يقبلُ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7400" y="456876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مِّلني فقُبحي قد ذَهَبَ حتى الأحش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سَوادُ الليلِ تسرَّبَ فيَّ انتشرَ الد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شتاقُ لخالقٍ من عدمٍ يضعُ الأشي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يُغَيِّر قلبي ويُلبسني حللا بيض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HANI SAFI</cp:lastModifiedBy>
  <dcterms:modified xsi:type="dcterms:W3CDTF">2003-03-14T12:16:47Z</dcterms:modified>
  <cp:revision>8</cp:revision>
  <dc:subject/>
  <dc:title>PowerPoint Presentation</dc:title>
</cp:coreProperties>
</file>