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E5C-F19E-4CD6-950D-A7E6DCD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BF2-2AFC-43D6-81D9-3CC9CFB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246-74B6-4766-A030-F360A5F5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2D1-D72E-48BE-AC43-50E96B7B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ED1-312C-4B39-80F0-B6A461D9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888-FC7C-4355-AA35-8FFA090E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AE1-B6B5-400B-88F5-1E06181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B57-7E42-4527-927C-A63F076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0E4-4EA6-41E5-A378-30CE63CB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B8E-A26B-4EB9-B49F-93E301D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38D-05B7-4FA7-BC26-E9434AC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A65-2CB9-4EA0-823D-25DDAF7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612F-47A1-4F19-B866-465CF392B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4114800" cy="86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فلنُوَقِّرْ باحتِرامٍ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سرَّ فادينا الصم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ولْيَزُلْ شَرعٌ قديمٌ  عندما السِّرُ استَج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أَقنعَ الإيمانُ حِساً  كانَ بالنقصِ جَح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14800" cy="11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وَلْيَكُ الآبُ مجيداً والذي منه اتَّلَ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ثمَّ روحٌ بانبثاقٍ  منهما قبلَ الأب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فلنُوَقِّرْ باحتِرامٍ  سرَّ ثالوثٍ أحد. آمين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717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12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: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أرسلتَ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هم من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السماء خبزا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ش: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يحتوي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لَّ لذة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لهمَّ يا مَن تركتَ لنا ذِكرَ آلامِكَ في السرِّ العجيب، هَبْنا أن تكرِّمَ سرَّ جسدك ودمِك المقدس حتى نشعر دائماً في نفوسنا بثمرة فدائك. أنت الحي المالك إلى دهر الداهرين.                         ش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آم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581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َكَ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اسمُه القد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يسوع المسيح، الإلهُ الحق والإنسانُ الح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809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سم يسوع</a:t>
            </a: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قلبه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يسوع في سر القربان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روح القدس المُعزي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335268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ت والدةُ الله   المعظمة، مريمُ     الفائقةُ القداسة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لحبل بها   المقدس، المنزه     عن كل عي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نتقالها    المجيد إلى الس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سم مريم العذراء، والأمِّ مع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4114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قديس يوسف خِطّيبُها العف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له في ملائكته وقديسي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4:55:45Z</dcterms:created>
  <dc:creator>HANI SAFI</dc:creator>
  <dc:description/>
  <dc:language>en-US</dc:language>
  <cp:lastModifiedBy>HANI SAFI</cp:lastModifiedBy>
  <dcterms:modified xsi:type="dcterms:W3CDTF">2003-06-06T15:20:15Z</dcterms:modified>
  <cp:revision>1</cp:revision>
  <dc:subject/>
  <dc:title>Slide 1</dc:title>
</cp:coreProperties>
</file>