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A63-B342-4600-944B-9465BCDE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59A-C3B0-4899-ADF8-B6841148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F07-7486-48A4-9102-E7681EFA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684-B0A4-4342-88CF-CA48142F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2A1-0AFE-4D8C-922B-4D1CB02A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C1D-3DAD-43F2-9E08-A4615E56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9BF-056B-4026-926C-FE50710A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3D4-8312-489B-9D99-85520809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E32-9C5D-4E23-BFC1-8492CBEA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6A1-2B2F-436B-9AF7-03F4374C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FEB-8A9D-4DB3-A032-6D7437D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7C3-2D0D-42A4-8B6A-06D485E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BC7-1181-4A7A-A28D-3DA2986CD7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Arial"/>
                <a:cs typeface="????Boutros Rokaa"/>
              </a:rPr>
              <a:t>من كاس المحبّي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رَحْ شيل الأشواك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ن نفسي العطشاني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تَا حتى تلقاك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القربان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حبوب القمح لصارت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ة يسوع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لوب العالم زارت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سكنت بالضلو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وعنقود اللي جمعتو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رم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بكلمه حوَّلتو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لدمَّك يا ربي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4:42:14Z</dcterms:created>
  <dc:creator>-</dc:creator>
  <dc:description/>
  <dc:language>en-US</dc:language>
  <cp:lastModifiedBy>-</cp:lastModifiedBy>
  <dcterms:modified xsi:type="dcterms:W3CDTF">2003-04-19T14:45:09Z</dcterms:modified>
  <cp:revision>2</cp:revision>
  <dc:subject/>
  <dc:title>من كاس المحبّي قربان الفِدا عم يدخل لقلبي عا طول المدى</dc:title>
</cp:coreProperties>
</file>