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5A4-C1B8-4B84-AC30-152CDEC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8B5-DA62-444A-A499-5DA6005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CE6-B652-4DE7-ABB9-D6294F59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513-DBAC-4E24-92DF-DE3FA7F1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402-EE58-4F50-80DA-7C6921A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7CF-24CC-4C73-976B-D2004A5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28D-A3A3-45F2-BB68-F072106F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931-D218-40DB-A4E1-F065C25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6FB-9B5D-473E-9719-FE9C3CDE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8A2-DA03-4E75-AE5F-3A8B1F8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2D5-75FE-46E7-9EF2-3D0C13A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74A-1B1B-4C5C-BED6-6F528BD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7D8D-084B-4A88-B6ED-0FB1764166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0080"/>
            <a:ext cx="9144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لإخوةِ السّلامُ والمحبَّةُ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إيمان مِنَ اللهِ الآب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ربِ يسوع المسيحْ.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فليَكُن إلهُ السّلام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معكم أجمعين. آمين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29:03Z</dcterms:created>
  <dc:creator>Charbel Azar</dc:creator>
  <dc:description/>
  <dc:language>en-US</dc:language>
  <cp:lastModifiedBy>-</cp:lastModifiedBy>
  <dcterms:modified xsi:type="dcterms:W3CDTF">2003-04-18T11:49:51Z</dcterms:modified>
  <cp:revision>4</cp:revision>
  <dc:subject/>
  <dc:title>للإخوةِ السّلامُ والمحبَّةُ والإيمان مِنَ اللهِ الآبِ والربِ يسوعَ المسيحْ. فليَكُن إلهُ السّلامِ معكم أجمعين. آمين.</dc:title>
</cp:coreProperties>
</file>