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456C-E457-46CE-978C-82CB7433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731-7EB9-4742-BE75-A329262C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48E-FC74-48F7-9552-0795F2C9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0C9-3D2D-412E-B9A1-F8269E5F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538-5234-44D3-BA35-50B10253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B5A-CF73-4CC8-A970-0A2FCF77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EA9-8E28-446D-A57D-09296BEC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595-2A88-424E-B8E9-327C2E8B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AEE-6DB5-4CE7-9E05-3A037412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EC2-DE50-4DEA-B4DA-A6316DDC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D437-B075-41F8-8D97-14F9775C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031-B2E6-4512-AABA-EE39EF87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A5FE-0681-4A65-9296-3118E7001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36666_ph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74600"/>
            <a:ext cx="883944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مراحمِ الرب أُغني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ن حقِّهِ يُخبرُ فم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زال مخاوفي مني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منحني سعادة أبد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ه ذراعُ القدرةِ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له يمينُ العزَّة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سمهُ ربُّ النعمةِ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مَن قد أعطاني الحر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وك الأرضِ يسجدون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له بخشوعٍ يخضع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َن غيرُهُ غلبَ المَنون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يسوعُ فادي البشر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َن في السماءِ يعادِلُهُ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مَن على الأرضِ يشابِهُه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ـهابَتـُهُ تكلـِّلــــــُهُ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إبنُ الأحضان الأز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18:01Z</dcterms:modified>
  <cp:revision>10</cp:revision>
  <dc:subject/>
  <dc:title>PowerPoint Presentation</dc:title>
</cp:coreProperties>
</file>