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8A1-45D7-485D-8FAB-A581C90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3BA-7DD2-483D-B2BB-27E3500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1A1-D90B-4C9E-8ACF-F0EBDE23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93C-1C32-4359-B8AB-5B36661C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9A4-7203-43B4-9685-989D1FF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3B8-8D55-4D47-BC3B-0ACA160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7B7-1183-4281-BA08-435D5115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B57-D840-4D0F-A878-5BE1D112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326-5B6E-4D0E-8316-BCA08205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F0B-090C-40D9-B570-F013B92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552-1950-4CDC-9FEA-2B0EA43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4A3-5658-4197-82A4-691CB03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D798-AD73-445B-8FB5-CF4791716155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24000" y="-3873240"/>
            <a:ext cx="4572000" cy="147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يُضئ نورُكم للناس فيمجّدوا أباكُمُ الذ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95640" y="-1097280"/>
            <a:ext cx="4643280" cy="90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يكونَّنَ عليكم لأحدٍ دين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لاّ حُبُّ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عضِكُم لبعض</a:t>
            </a:r>
            <a:r>
              <a:rPr b="1" lang="ar-LB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438120"/>
            <a:ext cx="9144000" cy="75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هبوا في الأرض كلِّها وأَعلنوا</a:t>
            </a:r>
            <a:r>
              <a:rPr b="1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بشارةَ إلى الخلقِ أجمَعين</a:t>
            </a:r>
            <a:r>
              <a:rPr b="1" lang="ar-LB" sz="82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20:33:17Z</dcterms:created>
  <dc:creator>Charbel Azar</dc:creator>
  <dc:description/>
  <dc:language>en-US</dc:language>
  <cp:lastModifiedBy>Charbel Azar</cp:lastModifiedBy>
  <dcterms:modified xsi:type="dcterms:W3CDTF">2006-03-07T21:56:07Z</dcterms:modified>
  <cp:revision>5</cp:revision>
  <dc:subject/>
  <dc:title>Slide 1</dc:title>
</cp:coreProperties>
</file>