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93C-A191-4835-912B-A2B151E7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0B8-411B-4C12-BE80-AB1DA30B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013-7639-4258-A9BC-96CB989A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F63-F6CE-465D-A6A6-C0F184C7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F2D-F1D5-47F4-A0E4-37AC0214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59F-5E29-45DF-9824-502B5C14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DA0-86E3-4047-8DC0-C276526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99C-E287-401C-B7B0-3D92CA0A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6A0-6562-45B8-A7B5-79C4F407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7DE-6659-4543-9766-235644BB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530-699F-4402-9936-423A0C2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D35-BA54-4130-B578-F42F451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F07-5BC1-4D62-85EE-808D8DAE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74600"/>
            <a:ext cx="88394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راحمِ الرب أُغني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 حقِّهِ يُخبرُ فم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زال مخاوفي مني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منحني سعادة أبد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 ذراعُ القدرةِ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 يمينُ العزَّة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سمهُ ربُّ النعمةِ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َن قد أعطاني الح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وك الأرضِ يسجدون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له بخشوعٍ يخضع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غيرُهُ غلبَ المَنون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يسوعُ فادي البش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في السماءِ يعادِلُهُ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مَن على الأرضِ يشابِهُ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هابَتـُهُ تكلـِّلــــــُهُ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إبنُ الأحضان الأز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8:01Z</dcterms:modified>
  <cp:revision>10</cp:revision>
  <dc:subject/>
  <dc:title>PowerPoint Presentation</dc:title>
</cp:coreProperties>
</file>