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F5D1-0CB7-430E-B8A0-AB195E4A9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88C6-7736-4164-BA49-3C2CA98B4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B922-70FE-4EAB-8457-D29FD0F1E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9E80-6690-4924-8F06-28C7F422C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83A0-C5B6-4EE3-939D-B74E44300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44AC-55F3-4EA1-B4E0-1748E1F61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F723-ACC7-4E4C-B68B-BE663A1C4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7E03-CCD4-44A7-A331-054DE195F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19AA-093E-4107-BDC8-A2FE9A0B4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7E66-EC16-4668-A3C3-5E92E446E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3B73-5131-46D6-9166-3F2F3741E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AA48-5ABD-4E4E-AF22-0D479508E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E1349-A93A-4EBE-807D-8372DF9D2469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03280" y="2060640"/>
            <a:ext cx="6477120" cy="481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900" spc="-1" strike="noStrike">
                <a:solidFill>
                  <a:srgbClr val="ffffff"/>
                </a:solidFill>
                <a:latin typeface="Tahoma"/>
                <a:cs typeface="????Boutros Rokaa"/>
              </a:rPr>
              <a:t>إلى الله صوتي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11880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إلـى اللهِ صَوْتِي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فَأَصْرُخُ إِلَى اللهِ صَوْتِي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فَيَصِيخُ لِي...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يَدِي في اللَّيْلِ انْبَسَطَتْ وَلَمْ تَكِلّ. 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11880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قَدْ أَبَتْ نَفْسِي أَنْ تَتَعَزَّى،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أَذْكُرُ الْمَاضِي فَأَقْلَقُ،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أَتَأَمَّلُ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فَيُغْشَى عَلَى رُوحِي...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-76320"/>
            <a:ext cx="9144000" cy="1356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فَكَّرْتُ فِي الأَيَّامِ القَدِيمَةِ،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فِي السِّنِينِ الدَّهْرِيَّة.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أَذْكُرُ تَرْنِيمِي فِي اللَّيْل،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أَتَأَمَّلُ بقَلْبي وَرُوحِي يَبْحَثُ.</a:t>
            </a:r>
            <a:r>
              <a:rPr b="1" lang="ar-LB" sz="8500" spc="-1" strike="noStrike">
                <a:solidFill>
                  <a:srgbClr val="ffffff"/>
                </a:solidFill>
                <a:latin typeface="Tahoma"/>
                <a:ea typeface="Akhbar MT"/>
              </a:rPr>
              <a:t> 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1330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أَمَدَى الدُّهُورِ يُقْصِي السَّيِّدُ؟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وَلا يَعُودُ يَرْضَى مِنْ بَعْدُ،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أَعَلَى الدَّوَامِ انْقَضَتْ رَحْمَتُهُ،</a:t>
            </a:r>
            <a:r>
              <a:rPr b="1" lang="ar-LB" sz="8500" spc="-1" strike="noStrike">
                <a:solidFill>
                  <a:srgbClr val="ffffff"/>
                </a:solidFill>
                <a:latin typeface="Tahoma"/>
                <a:ea typeface="Akhbar MT"/>
              </a:rPr>
              <a:t> 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8512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وَانْقَطَعَتْ كَلِمَتُهُ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إِلِى جِيلٍ فَجِيل،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أَتُرَى نَسِيَ اللهُ،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أَمْ حَبَسَ عَلى الغَضَبِ أَحَشَاءَهُ.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5T06:55:47Z</dcterms:created>
  <dc:creator>-</dc:creator>
  <dc:description/>
  <dc:language>en-US</dc:language>
  <cp:lastModifiedBy>-</cp:lastModifiedBy>
  <dcterms:modified xsi:type="dcterms:W3CDTF">2003-04-18T11:22:21Z</dcterms:modified>
  <cp:revision>3</cp:revision>
  <dc:subject/>
  <dc:title>Slide 1</dc:title>
</cp:coreProperties>
</file>