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25D-FC00-4F0B-9B08-19FA5240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380-AA07-4DAF-818D-6AC147E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77B-589E-48DB-A6F2-50CEB993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949-886E-4773-9181-AA25E9BF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EEF-9B71-497A-A829-F8024722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E60-D686-46C8-998C-C5BD90F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DF0-8B0B-4184-A294-D4E5EC11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66A-C0A2-4969-B5E5-D69F4B3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9D8-4873-4CF2-92D5-EC60333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1CF-4B38-42DB-B587-6B946E9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4FF-C5F4-473F-AC57-B6BB21F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1FC-43B0-4926-AFFD-EA50EE9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BB5-F2F3-4E67-B970-EE425EDA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7:49Z</dcterms:created>
  <dc:creator>USER</dc:creator>
  <dc:description/>
  <dc:language>en-US</dc:language>
  <cp:lastModifiedBy>USER</cp:lastModifiedBy>
  <dcterms:modified xsi:type="dcterms:W3CDTF">2002-11-01T03:57:57Z</dcterms:modified>
  <cp:revision>1</cp:revision>
  <dc:subject/>
  <dc:title>PowerPoint Presentation</dc:title>
</cp:coreProperties>
</file>