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DE7-3F6F-4E91-9FEF-A54F9B7C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F5B-F81D-41A7-AC3F-CDC5DFFE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61A-9613-4FBC-BBB1-9AB6E4C4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90C-0FF4-4B9B-A8E7-61756617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962-5CFF-486B-B8E1-299BF0AB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AE7-E457-4308-9230-C3FF15E5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1EB-FE31-4B89-BC3F-D89E7982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06B-E45C-4A7C-8225-80992F05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4D0-A5AC-4866-9A04-5DAE35E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064-2959-41DB-9B00-EC63CDB7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ABA-87B7-4901-B9B5-8240352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BA8-5999-49B4-8779-D43BBDD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2389-419F-4ADE-941B-49332C557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7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44640" y="144360"/>
            <a:ext cx="4752720" cy="67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30000">
                <a:solidFill>
                  <a:srgbClr val="ff0000"/>
                </a:solidFill>
                <a:latin typeface="Arial"/>
                <a:ea typeface="Simplified Arabic Fixe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ياتي لحظ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ساعة ت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 يوم واحد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فر من ي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كي أحب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الأرض ياا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عندي إل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8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04400" y="434880"/>
            <a:ext cx="5034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حبك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نفسي اليك عطش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يوم واح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ن ملجأي الأ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جعلني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ني بابتس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1080" y="228600"/>
            <a:ext cx="50299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ا هم ان بد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ستقبلي غيو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صلي للغ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ا لا لن استط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حفظ طهار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ظللني بالقداس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6" descr=""/>
          <p:cNvPicPr/>
          <p:nvPr/>
        </p:nvPicPr>
        <p:blipFill>
          <a:blip r:embed="rId2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4708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رجوك خلني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وجهك أضي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 أصغي إ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 الدنيا الع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ب لي حنان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نعمة الطفو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h12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48600" y="457200"/>
            <a:ext cx="5029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ظل عرش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خشى ما ليس أن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لا تخيفن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غياهب الظ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لا هيأت لي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ذاالقلب مكا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فقط هذا اليو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5:51:04Z</dcterms:created>
  <dc:creator>USER</dc:creator>
  <dc:description/>
  <dc:language>en-US</dc:language>
  <cp:lastModifiedBy>USER</cp:lastModifiedBy>
  <dcterms:modified xsi:type="dcterms:W3CDTF">2003-02-09T02:37:57Z</dcterms:modified>
  <cp:revision>2</cp:revision>
  <dc:subject/>
  <dc:title>PowerPoint Presentation</dc:title>
</cp:coreProperties>
</file>