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5A6-2D5D-46CE-80D2-A04C5B2D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F51-D410-46BC-9270-D9DF3C6F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91C-7832-4FA2-AEEE-59DAEF4B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394-8F85-4467-BDE8-49D679FC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B365-405B-43CE-BE84-E25F96C2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D96F-CF64-4B53-A0A5-268F09B0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D06A-4701-40DA-B70F-FD7A23F7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F11D-9631-43C0-B4D1-11582663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C13C-74E4-42F0-AAB4-A054D6D7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037A-1A65-4601-8818-A23B2F6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EA1-D5FE-47C9-8412-DDFF317B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5EB-667B-45FA-95DF-016C998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8F95-05F8-4276-8624-3323FA4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4753-94AD-4897-B7BA-B81C7AB8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4E8D-70E1-4DF9-947D-B8C90979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270A-B706-4E36-A3CF-8FE215B9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E34B-3769-4FD2-A9BA-6D8906AE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DF3-D082-404D-885E-AC00BC92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A59-AA55-4363-98C1-3026BBB3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BBF-779C-460E-88CD-6D844E2B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AB6-6A90-42D5-963A-25B84039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0AF-1CD9-4A51-B718-83B888DD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076-A3CA-469E-9BEF-86AC806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5EB-1349-4088-94C3-DFE9771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495B-0B01-4254-9D5C-77A9EDC8CE0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990E-3325-4B6B-BB05-A800CBC1291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5740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صو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لى الر بِ أصرخ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سكبُ أمامَهُ شكوايَ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بُثُّ لديهِ ضيق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003640"/>
            <a:ext cx="9144000" cy="36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ندما يُغشى على روحي فـيَّ </a:t>
            </a:r>
            <a:endParaRPr b="0" lang="en-US" sz="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1981080"/>
            <a:ext cx="57913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بادَ عنّي كلُّ ملجأ، ليسَ من يسألُ عن نفس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81080"/>
            <a:ext cx="60199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رختُ إليكَ ياربّي. قلتُ أنتَ مُعتَصَمي. أنتَ حظّ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أرضِ الأحياء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6:11Z</dcterms:created>
  <dc:creator>Charbel Azar</dc:creator>
  <dc:description/>
  <dc:language>en-US</dc:language>
  <cp:lastModifiedBy>Charbel Azar</cp:lastModifiedBy>
  <dcterms:modified xsi:type="dcterms:W3CDTF">2003-02-13T13:30:50Z</dcterms:modified>
  <cp:revision>8</cp:revision>
  <dc:subject/>
  <dc:title>PowerPoint Presentation</dc:title>
</cp:coreProperties>
</file>