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8D2-4C1D-435E-A98E-10B33C8C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696-AE1E-4625-ABDD-7513CA6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63BA-5290-47C9-A4F5-153C30C1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541E-2CA6-4067-AE9E-DDB9B7EB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D2C-D462-414F-8EA5-B735B60D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152-5E76-4A87-BE0B-06C9EA81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3C5-D928-452E-BA5F-99E41A87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9ED-DC85-430B-9143-EF8C94E8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49E-2CCA-49AE-ACE7-0871AB9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C9E-5026-4F14-8558-4020A38C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83B-B346-4549-A23F-28B2533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AEF-CF31-4A42-A5DD-7D4E86A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9274-D97F-4CDB-AB63-F93EEB778A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361040"/>
            <a:ext cx="7093080" cy="24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رب إستعملني لسلا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43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رب، إستعملني لسلامِكَ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9796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فأضع الحب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بُغض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والـمغفرة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Tahoma"/>
                <a:cs typeface="Akhbar MT"/>
              </a:rPr>
              <a:t>حيثُ الإساءَة، 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7944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والحقيقةَ حيثُ الضلال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48000" y="247680"/>
            <a:ext cx="673236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9880" y="1827360"/>
            <a:ext cx="7923240" cy="28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ستعملني لسلامك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43:46Z</dcterms:created>
  <dc:creator>Charbel Azar</dc:creator>
  <dc:description/>
  <dc:language>en-US</dc:language>
  <cp:lastModifiedBy>ف</cp:lastModifiedBy>
  <dcterms:modified xsi:type="dcterms:W3CDTF">2006-04-01T18:17:07Z</dcterms:modified>
  <cp:revision>6</cp:revision>
  <dc:subject/>
  <dc:title>PowerPoint Presentation</dc:title>
</cp:coreProperties>
</file>