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46F-0ABF-4E72-BA86-21354527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737-E82E-4F21-A082-A7A2A2A3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649-1338-40E9-BA9A-7D5BA06D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6A4-AA82-4A27-BC0E-C1ACE823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4FB-7021-4767-93FF-6AE9CC86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AA8-DA43-4973-8A27-F67CD176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056-4F1F-44F4-B9F2-46620012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861-805F-4E1E-B3ED-2286D561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0F0-D475-4CB0-9655-CD00459D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F9B-74A2-4FCC-B47D-65558B3C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D75-0E27-4DEF-90F5-0E2A836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385-2838-40E9-94E3-329CAA46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9276-8DB7-44E0-973B-548044F41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271440"/>
            <a:ext cx="52578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ن كاس المحبِّي قربان الفِدا عَم يِدخُل لَقلبي عا طول المدى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َح شيل الأشواك مِن نَفسي العطشاني تا حتَّى تِلقاك ربِّي بالقرب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بوب القمحِ الصارِت قربانِة يسوع قلوب العالَم زارِت سَكنِت بالضُّل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نقود اللي جمَعتو من كَرم المحبِّي بِكِلمة حوَّلتو لَدَمَّك يا رَبّ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31:23Z</dcterms:created>
  <dc:creator>HANI SAFI</dc:creator>
  <dc:description/>
  <dc:language>en-US</dc:language>
  <cp:lastModifiedBy>HANI SAFI</cp:lastModifiedBy>
  <dcterms:modified xsi:type="dcterms:W3CDTF">2003-04-25T04:32:37Z</dcterms:modified>
  <cp:revision>1</cp:revision>
  <dc:subject/>
  <dc:title>Slide 1</dc:title>
</cp:coreProperties>
</file>