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098-4737-4534-B7F6-6EBB1357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CFC-7250-4B84-9BF9-98828D35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F8F-082F-49C2-9F45-69C5D6D5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9FB-2198-4882-85DE-F6ACAE1B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DC2-2BD9-424D-B3AB-17FF7BEB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7AF-F4EF-46B6-A7B0-89AC748A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E1F-EBC0-4757-A705-A7E77E11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52B-A411-42CF-8E58-03746F24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921-F42A-44A8-B8D2-435C2002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4D5-CC86-47F1-8BDC-C149341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970-BAD1-4476-9209-5C7CFAEE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811-B9B9-4175-9757-B646BA6C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E16-048E-483C-BAC3-B23BC7AC3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7240" y="3838680"/>
            <a:ext cx="736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ب لنا عيوناً ترنو إل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واجعل حياتنا مُلكاً لدي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نعرف طعم الهناء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لا استجب منّا الدعاء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52560" y="3838680"/>
            <a:ext cx="75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مح الضغينة من صدورن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ازرع كلامك في ضمير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فنحصد حب العط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ألا استجب منا الدعا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498774VHyFuSjlJ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89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تعال بيننا أقِم عندنا وخذ من قلوبنا لك مس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41160" y="3838680"/>
            <a:ext cx="684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حن جياع أنت خبزنا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نحن عطاش أنت ماؤن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منك يطيب الغذا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ألا استجب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 الدعا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00Z</dcterms:created>
  <dc:creator>USER</dc:creator>
  <dc:description/>
  <dc:language>en-US</dc:language>
  <cp:lastModifiedBy>USER</cp:lastModifiedBy>
  <dcterms:modified xsi:type="dcterms:W3CDTF">2002-10-30T18:51:19Z</dcterms:modified>
  <cp:revision>1</cp:revision>
  <dc:subject/>
  <dc:title>PowerPoint Presentation</dc:title>
</cp:coreProperties>
</file>