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CE5-A6C0-4F51-B0D3-7E18576D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A3A-2BBB-40FD-AFCE-A829A2E0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F66-3239-4921-8F71-35D66BEF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987-FF9A-4B80-95D5-B3AF1F61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440-64A2-4FE9-B4E4-024D64E1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94E-40B9-47C9-AB17-05A5B8C9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892-88FF-444D-9210-DD9A76D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A55-6CD9-4BAD-9E89-1AF7E46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A35-C018-4357-84C0-E67DED4F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5A6-F657-432A-B63D-D030DF25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814-DBFC-49B4-B934-A653710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B41-6411-4EDB-A913-FCF8F90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6A57-E30B-4FC6-88A2-CB11A664E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67280" y="0"/>
            <a:ext cx="3276720" cy="7623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ما يومض البرق في أف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يتألق في آخر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ما يومض البرق  في أفق ويتألق في آخر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ذا مجيء ربنا يكون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2142490iRObjPIbaO_ph" descr=""/>
          <p:cNvPicPr/>
          <p:nvPr/>
        </p:nvPicPr>
        <p:blipFill>
          <a:blip r:embed="rId1"/>
          <a:stretch/>
        </p:blipFill>
        <p:spPr>
          <a:xfrm>
            <a:off x="-15238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3540849iDISSw_ph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24480" y="685800"/>
            <a:ext cx="281952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كنا آتٍ بمجدٍ عظيم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كنا آتٍ بمجدٍ عظيم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نضئ مصابيح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نخرج إلي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962215RfQtwEcBQb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296640" cy="6816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236232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فرحن به كما فرح ب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فرحن به كما فرح بنا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أنه سيفرحنا ببهاء ضيائ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5:12Z</dcterms:created>
  <dc:creator>USER</dc:creator>
  <dc:description/>
  <dc:language>en-US</dc:language>
  <cp:lastModifiedBy>USER</cp:lastModifiedBy>
  <dcterms:modified xsi:type="dcterms:W3CDTF">2002-12-11T02:11:46Z</dcterms:modified>
  <cp:revision>2</cp:revision>
  <dc:subject/>
  <dc:title>PowerPoint Presentation</dc:title>
</cp:coreProperties>
</file>