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17A-DE11-4CF5-B3CE-847AF162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B89-87AD-4B8B-9454-3B5DEB8F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16CE-AC7A-4C16-BABE-321A6DED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D23-6B2A-4278-A78B-09DF0E00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DF95-EE04-497A-9995-E10DF1D2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46B7-0D81-4E30-B6E5-551E4B4C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B677-7EB3-45B7-88C4-D35D86ED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6A72-1D0F-4E9E-8BBF-78B8267A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23BD-32DC-4C1B-A58F-EADC4B70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8669-92AA-4DB7-921A-3AC36EB0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1A93-07EA-4ADC-96BD-BF726D51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A763-BAC0-4D5E-A36A-48B78D97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52BD-3AB5-4C71-AB21-E95A1D99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A832-40B3-4A3D-B80F-8FF6366F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ABE8-B673-4A78-BD61-1E4D7ED9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8DBC-340E-4D89-9271-2C092BFA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22A8-B7BB-459A-B2CC-91F0018C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16FA-1C8F-40A9-B659-2198FD5A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5EA7-134C-44A4-997B-163E7CAB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B01-770D-4616-AF4D-E3EB5DE6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DEC-5FB9-4A2F-9C84-956F2C51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6237-1406-4C2A-B640-F2766AA4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1BB-8939-4FE5-BC33-C2F4E302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7EF-108F-49C0-85B8-DC898DC6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F0C5-4743-4F64-8E05-5131AB0761C1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C378-F835-456F-8792-859485C48CB2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495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 u="sng">
                <a:solidFill>
                  <a:srgbClr val="ffffff"/>
                </a:solidFill>
                <a:uFillTx/>
                <a:latin typeface="Times New Roman"/>
                <a:cs typeface="AF_Diwani"/>
              </a:rPr>
              <a:t>نشيد الدخول:</a:t>
            </a:r>
            <a:br>
              <a:rPr sz="7200"/>
            </a:br>
            <a:r>
              <a:rPr b="0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نح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ساهرون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60280"/>
            <a:ext cx="87631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نحن ساهرون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ومصابيحُنا مشتعل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293760"/>
            <a:ext cx="874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ننتظرُ عودتَ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أيها الربُّ يسوع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404640"/>
            <a:ext cx="79246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كما يومضُ البرق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فـي أفُقٍ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ويتألّقُ فـي آخ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86200" y="981000"/>
            <a:ext cx="5257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كذا، مجيءُ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ربِّنا يكون.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60280"/>
            <a:ext cx="87631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نحن ساهرون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ومصابيحُنا مشتعل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366840"/>
            <a:ext cx="8746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ننتظرُ عودتَ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أيها الربُّ يسوع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114800" y="1916280"/>
            <a:ext cx="456084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لِنفرحنَّ به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كما فرِحَ ب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لأنّه سيُفرحُ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ببهاءِ ضيائِه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60280"/>
            <a:ext cx="876312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نحن ساهرون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ahoma"/>
                <a:cs typeface="Akhbar MT"/>
              </a:rPr>
              <a:t>ومصابيحُنا مشتعل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920" y="293760"/>
            <a:ext cx="874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ننتظرُ عودتَ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cc00"/>
                </a:solidFill>
                <a:latin typeface="Times New Roman"/>
                <a:cs typeface="Akhbar MT"/>
              </a:rPr>
              <a:t>أيها الربُّ يسوع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57:59Z</dcterms:created>
  <dc:creator>Charbel Azar</dc:creator>
  <dc:description/>
  <dc:language>en-US</dc:language>
  <cp:lastModifiedBy>Charbel Azar</cp:lastModifiedBy>
  <dcterms:modified xsi:type="dcterms:W3CDTF">2002-07-15T07:47:34Z</dcterms:modified>
  <cp:revision>4</cp:revision>
  <dc:subject/>
  <dc:title>PowerPoint Presentation</dc:title>
</cp:coreProperties>
</file>