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D9F-FDD1-444D-A795-7B3D1620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6D6-BFC8-49DF-8B12-A3272381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045-DAB5-4F0A-AA3D-6E7235B2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87C-DFEA-47C0-BBF9-A6779F2C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83A-1C3A-4ED8-BEAE-404D278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DE2-43D6-4550-B4EA-BB9BDE15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5DB-E5FE-4ACE-BA27-6BC28C03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FB5-07F7-40B6-8196-B92E8B2F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985-18AC-4A75-949E-A3AE9017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EB2-189B-443F-97A3-8971AC15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DF0-71F5-4BC2-BB7F-D9346B15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7C7-BEC1-4FDD-AB07-D95CE074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8962-7D96-4AFF-AFF1-EE55BFD0AB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272200"/>
            <a:ext cx="91440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أعظمك يا إلهي الملك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03960" y="-3240"/>
            <a:ext cx="8258040" cy="69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رَبُّ صَالِح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لجمِيع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مَرَاحِمُهُ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لى كُلِّ صَنَائِعِهِ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66360" y="0"/>
            <a:ext cx="7085880" cy="69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رَبُّ أمِين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كُلِّ أقوالِه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بَارٌ في جَمِيع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َعمَال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055160" y="44280"/>
            <a:ext cx="6217200" cy="733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ألرَبُّ قَرِيبٌ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ِنْ جَميع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دُعَاتِه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504440" y="230040"/>
            <a:ext cx="723672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ُعَظِّمُ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إلهي المَلكْ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ُبارِك اسم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دى الدَهرِ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إلى الأبد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0:41:19Z</dcterms:created>
  <dc:creator>Charbel Azar</dc:creator>
  <dc:description/>
  <dc:language>en-US</dc:language>
  <cp:lastModifiedBy>-</cp:lastModifiedBy>
  <dcterms:modified xsi:type="dcterms:W3CDTF">2003-01-14T17:18:59Z</dcterms:modified>
  <cp:revision>10</cp:revision>
  <dc:subject/>
  <dc:title>Slide 1</dc:title>
</cp:coreProperties>
</file>