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9A9-241A-4AFB-8A19-9D9473CE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419-D26B-4E06-BEDF-0674ADA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E60-B818-4E73-A553-96DB0EE9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C9C-EAE8-45D4-88BF-4CD1979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A68-B4A9-4050-AE4F-D6CDB5D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F79-87AE-435D-BA9A-8D5DE57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015-00CF-44EA-B7CC-B036ED3C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BE1-66E2-44A7-8C9F-775EA88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372-97E2-4C40-B904-F00F10D7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D17-E89E-4C8F-9BE6-5E3FD9A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9DE-1847-4BF0-81C4-DF09D8F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E3A-4856-4313-A197-D65420A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AD68-DD77-4BE9-AD51-78DB0A5E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scension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37840" y="458640"/>
            <a:ext cx="4888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نّم هللويا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بّح ومجد إسم الرب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 حياتي يا يس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طلبوا الربَّ تجدو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هو الرب الشا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3:37Z</dcterms:modified>
  <cp:revision>1</cp:revision>
  <dc:subject/>
  <dc:title>PowerPoint Presentation</dc:title>
</cp:coreProperties>
</file>