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C50-A7B9-4092-B939-7D312063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D37-ABD2-4BB9-ACA2-65899DBF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215-CE49-4496-92C0-2C336FEC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0E8-053C-4299-9943-D202B041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BA9-CFE4-4F16-B113-25977BC2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693-37F6-4F5F-B24D-224517C8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179-1CD5-4834-8B0F-3B3C870E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B1D-07BC-4141-9D2E-61165862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407-2E4C-4847-B65D-53459900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840-5779-4CF8-95A3-EE9BE59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357-3D0D-49D5-BDAA-FCB0996A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8B1-2C54-46D6-805D-4C451AE6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3FE4-75A4-4508-B439-CA3D7F6368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4005360"/>
            <a:ext cx="421164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Ruqah2 Normal"/>
              </a:rPr>
              <a:t>قرعت باب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2000" y="0"/>
            <a:ext cx="5867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قرعت بابك بفرح فتحت لي, طلبت السّعادة بوفرة منحتني, قدّمت لك ذاتي بحنوّ قبلتني,  لا مثل لك يا الهي (</a:t>
            </a: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2</a:t>
            </a: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ما أعظم انحناءك عليّ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ما أعظم نزولك الى أعماقي, ما أعظم صوتك يشفي جراحي, لا مثل لك يا الهي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6516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لم يعرفني أحد مثلما عرفتني, لم يغمرني أحد مثلما غمرتني, لم يغفر لي أحد مثلما غفرت لي, لا مثل لك يا الهي (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ا أعظم انحناءك عليّ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ا أعظم نزولك الى أعماقي, ما أعظم صوتك يشفي جراحي, لا مثل لك يا اله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24360" y="0"/>
            <a:ext cx="5219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في بعدي عنك غرقت في خطيئتي, اسرعت اليّ تابعت خطواتي, أعطيتني حبّك أنعشت حياتي, لا مثل لك يا الهي (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انحناءك عليّ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نزولك الى أعماقي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صوتك يشفي جراحي, لا مثل لك يا الهي (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8:41:36Z</dcterms:created>
  <dc:creator>Charbel Azar</dc:creator>
  <dc:description/>
  <dc:language>en-US</dc:language>
  <cp:lastModifiedBy>Personal</cp:lastModifiedBy>
  <dcterms:modified xsi:type="dcterms:W3CDTF">2008-04-21T22:26:04Z</dcterms:modified>
  <cp:revision>15</cp:revision>
  <dc:subject/>
  <dc:title>Slide 1</dc:title>
</cp:coreProperties>
</file>