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A388-15DA-46DE-AEFC-4588D6234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AA14-D8D1-4FB8-A52F-411F540EC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06D0-5FF5-4C8A-AFB5-0F22245EB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AA41-2F93-41BA-90C1-715B6D7E4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5C57-FD75-4106-9E86-C39250DC1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23AF-B0E1-49D4-8078-4C5CC65E4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AAB1-F792-4741-A0ED-A73F29E9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2323-FC4F-4735-9C22-45C7918ED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86B3-A4C7-4293-A9FC-C59915DFD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6C7A-CB21-4BAF-8188-6E9E4F31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4868-7A34-4842-8651-D041F40C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C65F-7A8F-41E8-9E7B-3E0CA0C8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272D3-F124-4A7C-A0D1-53580281EF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OLND_80" descr=""/>
          <p:cNvPicPr/>
          <p:nvPr/>
        </p:nvPicPr>
        <p:blipFill>
          <a:blip r:embed="rId2"/>
          <a:stretch/>
        </p:blipFill>
        <p:spPr>
          <a:xfrm>
            <a:off x="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86400" y="304920"/>
            <a:ext cx="3429000" cy="105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كل مَرَّة لمّا مْنِتْلاقى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     مْنِتمنّى تِسْكُن عِنّا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وبالقَلِبْ لَفْتيِ حِرَّاقة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      تَضّلَّك دايماً مع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إنتَ الحُبّ المالو حْدود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بيمَلّي هالأرض وعود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حُبّك بالقَلِبْ موجود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هوني السَّما بْتُغمُرْنا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OLND_80" descr=""/>
          <p:cNvPicPr/>
          <p:nvPr/>
        </p:nvPicPr>
        <p:blipFill>
          <a:blip r:embed="rId2"/>
          <a:stretch/>
        </p:blipFill>
        <p:spPr>
          <a:xfrm>
            <a:off x="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486400" y="304920"/>
            <a:ext cx="3429000" cy="105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Arabic Transparent"/>
              </a:rPr>
              <a:t>إنت الـ خبَّرِتْ إنَّك            لمّا تْنَيْن بجَمْعِتْهُم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Arabic Transparent"/>
              </a:rPr>
              <a:t>بيتلاقو يغنّو إسمَك            بتجي وبتقعد معهم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Arabic Transparent"/>
              </a:rPr>
              <a:t>خلِّينا معك عاطول           لـَ لَحْظَة ما تتركنـا 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 خلِّينا معك عاطول           لـَ لَحْظَة ما تتركنـا حُبّك بالقَلِبْ موجود          هوني السَّما بْتُغمُرْ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OLND_80" descr=""/>
          <p:cNvPicPr/>
          <p:nvPr/>
        </p:nvPicPr>
        <p:blipFill>
          <a:blip r:embed="rId2"/>
          <a:stretch/>
        </p:blipFill>
        <p:spPr>
          <a:xfrm>
            <a:off x="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486400" y="304920"/>
            <a:ext cx="3429000" cy="105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كل مَرَّة لمّا مْنِتْلاقى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     مْنِتمنّى تِسْكُن عِنّا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وبالقَلِبْ لَفْتيِ حِرَّاقة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      تَضّلَّك دايماً مع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إنتَ الحُبّ المالو حْدود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بيمَلّي هالأرض وعود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حُبّك بالقَلِبْ موجود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هوني السَّما بْتُغمُرْنا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OLND_80" descr=""/>
          <p:cNvPicPr/>
          <p:nvPr/>
        </p:nvPicPr>
        <p:blipFill>
          <a:blip r:embed="rId2"/>
          <a:stretch/>
        </p:blipFill>
        <p:spPr>
          <a:xfrm>
            <a:off x="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486400" y="304920"/>
            <a:ext cx="3429000" cy="110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Arabic Transparent"/>
              </a:rPr>
              <a:t>إنتَ الـ قِلْتِلنا تنضلّ         بالمحَبّة مرتبطين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Arabic Transparent"/>
              </a:rPr>
              <a:t>حتّى النور علينا يْهِلّ       وحَولَكْ نِبقى مِتِّحدين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Arabic Transparent"/>
              </a:rPr>
              <a:t>بالوِحدِة بدَّك نعيش         وغير الـ بدَّكْ ما بَدْنا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Arabic Transparent"/>
              </a:rPr>
              <a:t>بالوِحدِة بدَّك نعيش         وغير الـ بدَّكْ ما بَدْ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Arabic Transparent"/>
              </a:rPr>
              <a:t>حُبَّك بالقَلِبْ موجود        هوني السَّما بْتُغمُرْ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OLND_80" descr=""/>
          <p:cNvPicPr/>
          <p:nvPr/>
        </p:nvPicPr>
        <p:blipFill>
          <a:blip r:embed="rId2"/>
          <a:stretch/>
        </p:blipFill>
        <p:spPr>
          <a:xfrm>
            <a:off x="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486400" y="304920"/>
            <a:ext cx="3429000" cy="105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كل مَرَّة لمّا مْنِتْلاقى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     مْنِتمنّى تِسْكُن عِنّا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وبالقَلِبْ لَفْتيِ حِرَّاقة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      تَضّلَّك دايماً مع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إنتَ الحُبّ المالو حْدود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بيمَلّي هالأرض وعود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حُبّك بالقَلِبْ موجود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هوني السَّما بْتُغمُرْنا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1T13:59:33Z</dcterms:created>
  <dc:creator>USER</dc:creator>
  <dc:description/>
  <dc:language>en-US</dc:language>
  <cp:lastModifiedBy>USER</cp:lastModifiedBy>
  <dcterms:modified xsi:type="dcterms:W3CDTF">2002-10-31T13:59:57Z</dcterms:modified>
  <cp:revision>1</cp:revision>
  <dc:subject/>
  <dc:title>PowerPoint Presentation</dc:title>
</cp:coreProperties>
</file>