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40E-2ED1-47B6-AB43-FC4A75D1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448-8EC2-4232-88F8-6A635B41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2D0-2199-4BCA-9125-38B1660C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262-9098-48C1-8B3A-524AB317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F668-ECE5-4307-95E3-29D7BF0F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2D82-F315-4841-B6F0-53197E85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1F5C-58E0-454A-8D21-85F0DAD3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E6DC-97DB-4A72-BBAF-64166873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013F-336A-4943-9921-C35CC0C4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DDD4-D29E-4A62-A1D2-CB6B72BE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BE8D-CD8D-488B-A48C-1C6D39C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E14-25D7-45D0-AC0D-5373B75D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7EB2-2D91-436A-BE38-B09964F7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DD95-CCEC-4317-B4B9-433EC43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3279-E1F6-4321-BE95-9EF5DBC4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1A55-CC17-4F18-B915-654E3893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40DF-D520-40FD-8BB0-61A11AFD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B26-96C5-437B-9E2A-AC5EB587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818-620E-4308-842F-CD072243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15A-FC38-47DD-937E-31A301D0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7F9-F2C3-407A-A329-C34EBC88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E51-A581-4E60-A7DB-28DF7DB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FF1-02AF-42FC-9A14-7536F462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D03-63AB-4303-A59E-038DEDC5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2AE1-B7BE-4039-A4BE-3BD15A59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68B4-2282-40DF-B4DC-B552C20A7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80060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ا جميعَ الشعوبِ صَفِّقوا بالأَكُف إهتفوا للهِ بصوتِ الترنيمِ اهتفوا لله بصوتِ الترنيمِ فإن الربَ صالحٌ قدوسٌ ملكٌ عظيمٌ عظيمٌ على جميعِ الأ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274320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حيٌ المسيحُ ربُنا حيٌ رجانا وميراثُنا عن يمينِ الله في الأعالي يسوعُ المسيحُ الفادي أشيدوا للهِ أشيدوا أشيدوا لملِكِنا أشيدو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1440"/>
            <a:ext cx="647712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236232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فإن الربَّ هوَ ملكُ الأرضِ كلّها أشيدوا بصوتِ ترنيمٍ مَلَكَ اللهُ على الأممِ اللهُ العليّ ملِكٌ مدى الده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43:23Z</dcterms:created>
  <dc:creator>HANI SAFI</dc:creator>
  <dc:description/>
  <dc:language>en-US</dc:language>
  <cp:lastModifiedBy>HANI SAFI</cp:lastModifiedBy>
  <dcterms:modified xsi:type="dcterms:W3CDTF">2003-05-30T08:57:57Z</dcterms:modified>
  <cp:revision>2</cp:revision>
  <dc:subject/>
  <dc:title>Slide 1</dc:title>
</cp:coreProperties>
</file>