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B8D-AC8E-4084-B73C-BC90E5B8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A8D-F8CD-4AB1-B826-46048E56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6C2-E1C3-4B51-A40E-E33A73D9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795-366B-434F-B069-8E114B13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69E-7AAB-4D21-B5D6-8ACDA028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E3F-F174-4C62-ACAD-276D8C9D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76F-7BDD-4C06-B918-AA3729F9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93A-B083-46EE-A88D-058B99C7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1B6-88BC-4C1C-BA8F-7ACADE9E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37F-AA95-4225-B8A8-0ABC739A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5C9-8D63-49FC-88FE-C126949D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909-7366-4A10-ADB2-2356316B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1B22-E9D6-4B9E-A7CB-419F31E4E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733920" cy="10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يا يسوع صوتك اسمعنا وحواليك                                     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تجمَّعنا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     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     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و عطول بضَّلَك معنا وبحُبك بتجمعنا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نَقَّيت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12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تلميذ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يا ريتَك بتنقينا      هالعمر بقربَك لذيذ 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         بقربك ربي خلّينا وحدَك إنتَ بتكفي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562360" cy="815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886200" cy="10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آخر ليـل سهـرة مع يسوع وصّى تلاميذو وصية  وقلبو الأصفـى من الينبوع فاض محبـة وحنيّة    يـا تلاميـذي بــدّي الحب يهّب بهالعالم كلّـو ويلـّي مـا في عنـدو قلب حطُّولو قلب محلّو  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محبــة حقيقي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4572000" cy="9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يا يسوع مثل ما وصيت نحنا الحب رسالتنـا كرمالــك تركنا أهل وبيت وجينا لعندك كليتنـا مـن قلبــك عمنغرف حب ومن روحك عمتسقي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لما نـارك فينــا تهـّب وبالمحبـة تمليّنــ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ويـن مـا بدّك ودّين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6:10:45Z</dcterms:created>
  <dc:creator>SUZANNE.MD</dc:creator>
  <dc:description/>
  <dc:language>en-US</dc:language>
  <cp:lastModifiedBy>HANI SAFI</cp:lastModifiedBy>
  <dcterms:modified xsi:type="dcterms:W3CDTF">2003-04-16T13:39:56Z</dcterms:modified>
  <cp:revision>2</cp:revision>
  <dc:subject/>
  <dc:title>PowerPoint Presentation</dc:title>
</cp:coreProperties>
</file>