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F4B-647E-46F6-9F36-49958D75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022-6BB2-4328-8CF6-CB3ADF4C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133-66D1-421C-A1F5-A3CB0102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F49-B095-43B9-84CF-74D4F666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6BC-CF1C-414B-86B7-99E14385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62A-F4EC-458B-B838-4C9E338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817-CD31-4AA9-AB59-8FFB23D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A86-D9F4-4710-BF29-661141FA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812-048A-466C-A695-96FE8994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2A6-A543-44C8-9889-55FFBF2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096-296E-4350-9076-F114104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339-8C5A-43CF-969D-60C2B2C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3769-A78F-44A3-ABCF-0776C867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055188" descr=""/>
          <p:cNvPicPr/>
          <p:nvPr/>
        </p:nvPicPr>
        <p:blipFill>
          <a:blip r:embed="rId1"/>
          <a:stretch/>
        </p:blipFill>
        <p:spPr>
          <a:xfrm>
            <a:off x="0" y="0"/>
            <a:ext cx="5443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1320" y="0"/>
            <a:ext cx="5531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عالوا ولا تقفوا يائس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*تعالوا إلى الرب يا خاطئ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فقلب يسوع رحيم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فور يرحب بالتائ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يمحو جميع الذن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34529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88480" y="247680"/>
            <a:ext cx="520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إلى الرب يا مثقل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أعباءِ هذه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الوا ولا تقفوا يائسين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فعند يسوع النج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562720"/>
            <a:ext cx="426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عود إليك رحي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جل الخر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بذلت دماء فأن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بيب الشف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13760" y="2514600"/>
            <a:ext cx="530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يُرَنَّمُ باسمك عند الشر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وعند الضحى والغر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أنت الإله الغفور الرح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كل أثيمٍ يت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فيا رب أنت لكل خر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02:10Z</dcterms:created>
  <dc:creator>USER</dc:creator>
  <dc:description/>
  <dc:language>en-US</dc:language>
  <cp:lastModifiedBy>USER</cp:lastModifiedBy>
  <dcterms:modified xsi:type="dcterms:W3CDTF">2002-10-30T16:05:47Z</dcterms:modified>
  <cp:revision>2</cp:revision>
  <dc:subject/>
  <dc:title>PowerPoint Presentation</dc:title>
</cp:coreProperties>
</file>