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36B-C90C-4B90-8A44-8608BAD3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BE0-B3B4-4287-B759-0109D95B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BDB-1111-428F-AB32-C7F7CD24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AB6-92A4-4C01-B8D8-C18EDEFA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74B-B21F-4382-98ED-5BEBBC2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AAD-CB48-4379-A962-71A79A05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EDA-2A78-4718-AB70-FFB552AE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CCF-CE96-4F0C-9981-DF48BDA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735-3A89-4D29-8CA2-73480469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E7B-9B15-4EAF-9F6A-981B866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421-1067-433C-BA83-836DBAD3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161-65CB-4815-8053-5BFD569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541B-9B2F-4BCB-AAC4-1B344357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51070cXNiyMwIs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120" y="0"/>
            <a:ext cx="613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َجمَلَ أن نَجْتَمِعَ م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بِالحُبِّ يَقولُ الربُّ ل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ما اجتَمعَ باسمي اثنانِ مع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اّ وهُنَاكَ أكونُ أن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19920" y="1981080"/>
            <a:ext cx="5061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 تعال الآن هنا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نَدْعوكَ تعالَ 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ِنْ روحِكَ املأنا فرحاً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سَلاماً لايعطيهِ غِنَا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67160" y="4572000"/>
            <a:ext cx="499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 أنت لنا عونٌ وسَنَد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في كُلِّ طريقٍ نَسْلُكُهُ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َصديقٌ ليسَ سواه نج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نُعطيهِ القَلْبَ نملّكُهُ  (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931661wAIAZzQGt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84840" y="0"/>
            <a:ext cx="2781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ربُّ ه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دَوماً مَعَ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ما أجمَلُ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أسعَد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نُكَلّمه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سَيَسْمعُ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َيَبقى لن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نا ومَعَن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5562720"/>
            <a:ext cx="644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تعال الآن هنا    نَدْعوكَ تعال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ُنْ مَعَ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ْ روحِكَ املأنا فرحاً     وسَلاماً لايعطيهِ غِنَا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6:08Z</dcterms:created>
  <dc:creator>USER</dc:creator>
  <dc:description/>
  <dc:language>en-US</dc:language>
  <cp:lastModifiedBy>USER</cp:lastModifiedBy>
  <dcterms:modified xsi:type="dcterms:W3CDTF">2002-10-30T15:38:51Z</dcterms:modified>
  <cp:revision>1</cp:revision>
  <dc:subject/>
  <dc:title>PowerPoint Presentation</dc:title>
</cp:coreProperties>
</file>