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40C-2118-48D0-A049-7DDB2B21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5A7-6C84-441E-A239-B149AFC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A6B-C035-4A97-B7ED-01269A49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820-CEF9-4DDC-93D8-AA59183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537-6A0E-4620-AACF-D281B0EC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FB9-08D1-401A-BCC8-7A461DB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0EC-525C-4D62-91A9-DAF8B8BA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52D-2DA5-45E6-B3F4-0D805D17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5FB-63CB-44DD-96C7-63621891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17A-B213-40C4-A938-558A0C38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1CF-E573-44C0-9539-89A2A73F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27B-7FB8-41E7-BE66-2BA4A82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A77-EC9B-4256-BBE7-260B3F4C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657600" y="571680"/>
            <a:ext cx="54864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990720"/>
            <a:ext cx="34448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يا أيها الشعبُ السع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سُرّوا بذا الفِصحِ الم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ذا لكم عهدٌ جديد</a:t>
            </a:r>
            <a:r>
              <a:rPr b="1" lang="en-US" sz="4800" spc="-1" strike="noStrike">
                <a:solidFill>
                  <a:srgbClr val="ff9966"/>
                </a:solidFill>
                <a:latin typeface="Times New Roman"/>
                <a:ea typeface="Arabic Transparent"/>
              </a:rPr>
              <a:t>                 </a:t>
            </a:r>
            <a:r>
              <a:rPr b="1" lang="ar-SA" sz="4800" spc="-1" strike="noStrike">
                <a:solidFill>
                  <a:srgbClr val="ff9966"/>
                </a:solidFill>
                <a:latin typeface="Times New Roman"/>
                <a:cs typeface="Arabic Transparent"/>
              </a:rPr>
              <a:t>هللــويـــا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"</a:t>
            </a: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طوبى لِمَنْ لَم يُبصِروا   وآمنوا واستغفروا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يقولُ ربٌ ظافِرُ  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304920"/>
            <a:ext cx="2286000" cy="11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مدُ للهِ الغَفورْ         ذا فِصْحُنا عيدُ السر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قى على مرِّ الدهور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0800" y="0"/>
            <a:ext cx="65232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438280" cy="9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ُشرى تَصيحُ المَريماتْ    فيها حياةُ الكائنات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ربُ قامَ مِنَ الممات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2286000" cy="10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َلَكٌ من العَلْيا بشيرْ        قد دحرجَ الحَجَرَ الكبير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ذ قامَ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ولانا القديرْ                هللــويـ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04920"/>
            <a:ext cx="365760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َريمُ خَلّي النّحيبْ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  </a:t>
            </a:r>
            <a:r>
              <a:rPr b="1" lang="ar-SA" sz="48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 قد قامَ فادينا الحبيب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العِزِّ والنّصرِ العجيبْ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5716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438280" cy="9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ذْ كانتِ الرُسلُ الكرامْ      من دونِ توما في التِئ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عطاهُمُ الربُ السلامْ               هللــ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3680" y="0"/>
            <a:ext cx="5440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304920"/>
            <a:ext cx="3200400" cy="10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ذ بلّغوا توما الخَبرْ        فَلِقَوْلِهمْ ذا ما اعتبَ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تى له الفادي ظهرْ               هللــويـــا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0492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2057400" cy="11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دْ قالَ يا توما العنيدْ     انظرْ ودَعْ شَكاً يُبيد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ثبُت بإيمانٍ وطيدْ               هللويـ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36920" y="0"/>
            <a:ext cx="6607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23623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ن لم ترَ لا تعتقد        فكأنّ قولي لَمْ يُفِ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إني لِضَعفِكَ مُفْتَقِدْ 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228600"/>
            <a:ext cx="266688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لما رأى توما المسيح    وشاهَدَ جِسمَ الذّب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قالَ إلهي! 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للجريح               هللــويـــ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10:34:41Z</dcterms:created>
  <dc:creator>SUZANNE.MD</dc:creator>
  <dc:description/>
  <dc:language>en-US</dc:language>
  <cp:lastModifiedBy>HANI SAFI</cp:lastModifiedBy>
  <dcterms:modified xsi:type="dcterms:W3CDTF">2003-04-16T14:06:36Z</dcterms:modified>
  <cp:revision>1</cp:revision>
  <dc:subject/>
  <dc:title>PowerPoint Presentation</dc:title>
</cp:coreProperties>
</file>