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2789-3A46-4428-B74D-B7AD7CBC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3A43-2E5F-49C8-8447-5CD3BA67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D5B4-1F38-475B-AD8F-540A9D05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50BD-7969-463C-9C8A-B623FAC8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008-551F-4EF4-9C1C-AD0E029C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88A1-F0FF-4091-BF72-71467FD1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ABEE-D81B-4D6C-B0D2-6CCDF098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66DF-A9C5-4211-9D93-E9B34BC3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9D8B-F128-4A74-B617-9C94492B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2372-C9BC-4E22-A446-5938A137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83F0-1DC9-417C-A444-CF810DFF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9105-E583-4144-AE35-8CB8AF77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12BF-BA01-45D8-9847-96D6BC601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1906207kQXBgfdFwz_ph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0"/>
            <a:ext cx="8915400" cy="32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َن أنا لأصيرَ من شعبِك   من دُعيَ عليه اسم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جباً هل دعوتني أنا   لأكونَ ملكاً ل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6257786BKgRhTuZiB_ph" descr=""/>
          <p:cNvPicPr/>
          <p:nvPr/>
        </p:nvPicPr>
        <p:blipFill>
          <a:blip r:embed="rId1"/>
          <a:stretch/>
        </p:blipFill>
        <p:spPr>
          <a:xfrm>
            <a:off x="18288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1752480" cy="86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 لغريبٍ لضالٍ أثيمٍ أن ينتمي للمل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َّرفتني كم أنَّك رحيم إذ غرزتني في كرمتِك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932178NoJBjYGUoI_ph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00800" y="457200"/>
            <a:ext cx="274320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باركٌ إسم الرب مباركٌ إسم الرب كل ما في باطني يقول مباركٌ إسم الرب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149828KifBGNXze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400800" y="304920"/>
            <a:ext cx="2743200" cy="63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أظهرتَ لي عظيمَ رحمتكَ بسفكِ دماءِ الح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حُبُّكَ يفوقُ كلَّ خيالٍ وأعلنتَ لنا سرّ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ristwithchild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00800" y="228600"/>
            <a:ext cx="251460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مجداً لكَ قد انشقَّ الحجاب وأعلنتَ لنا سرّك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آنَ أصرخُ يا آب الآب  مجداً </a:t>
            </a:r>
            <a:r>
              <a:rPr b="1" lang="ar-SA" sz="4000" spc="-1" strike="noStrike">
                <a:solidFill>
                  <a:srgbClr val="ffcc66"/>
                </a:solidFill>
                <a:latin typeface="Times New Roman"/>
              </a:rPr>
              <a:t>فقد</a:t>
            </a:r>
            <a:r>
              <a:rPr b="1" lang="ar-SA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صرتُ ل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932178NoJBjYGUoI_ph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00800" y="457200"/>
            <a:ext cx="274320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باركٌ إسم الرب مباركٌ إسم الرب كل ما في باطني يقول مباركٌ إسم الرب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07:22:08Z</dcterms:created>
  <dc:creator>SUZANNE.MD</dc:creator>
  <dc:description/>
  <dc:language>en-US</dc:language>
  <cp:lastModifiedBy>USER</cp:lastModifiedBy>
  <dcterms:modified xsi:type="dcterms:W3CDTF">2003-02-08T07:41:51Z</dcterms:modified>
  <cp:revision>5</cp:revision>
  <dc:subject/>
  <dc:title>PowerPoint Presentation</dc:title>
</cp:coreProperties>
</file>