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0BF-890A-4E0F-9748-A5A4537C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5368-2751-474B-9C37-254AED2F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7515-F04E-4081-A7D9-556BC8C3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340-3A93-405C-A8A7-1CBE6F6E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BA8A-BAE4-45AE-8F52-E2E018DA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B817-AF1A-4317-96CE-16196733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0987-3279-4CE8-80B6-D65F138C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EA95-A326-4E88-91C4-4167035F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9E8-3D96-43F1-B3CF-1FA9F172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7C27-D3E0-4B80-9F85-DA54EE1A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F7C2-7418-4550-8FEA-E1063997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A5BA-AA53-4D1C-A982-0E66CEFA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D26C-6FFB-4911-A561-651295B014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4537080" cy="67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َا أَعْظَمَ مَجْد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ا إِيليَّ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ـِعَجَائِبـِ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مَنْ لَهُ فَخْرٌ كَفَخْرِكَ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56000" y="4076640"/>
            <a:ext cx="4788000" cy="228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ما أعظم </a:t>
            </a:r>
            <a:br>
              <a:rPr sz="9600"/>
            </a:b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مجدك يا إيلي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067280" y="0"/>
            <a:ext cx="5076720" cy="67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نْتَ الَّذِي أَقَمْتَ مَيْتاً مِنَ الْمَوْت، وَمِنَ الْجَحِيمِ بكَلامِ الْعَلِي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0" y="0"/>
            <a:ext cx="4537080" cy="67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َا أَعْظَمَ مَجْد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ا إِيليَّ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ـِعَجَائِبـِ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مَنْ لَهُ فَخْرٌ كَفَخْرِكَ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5084640"/>
            <a:ext cx="8064720" cy="15721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184720"/>
            <a:ext cx="7848360" cy="141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خُطِفْتَ في عَاصِفَةٍ مِنَ النَّار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723960" y="5157720"/>
            <a:ext cx="10461600" cy="134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مَركَبَةِ خَيْلٍ نَارِيَّةٍ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5157720"/>
            <a:ext cx="5327640" cy="141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طُوبَى لِمَن عَايَنكَ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794960" y="5327640"/>
            <a:ext cx="12645360" cy="134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لِمَنْ حَازَ فَخْرَ مَصَافَاتِكَ.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0" y="0"/>
            <a:ext cx="4537080" cy="67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َا أَعْظَمَ مَجْد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ا إِيليَّ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ـِعَجَائِبـِ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مَنْ لَهُ فَخْرٌ كَفَخْرِكَ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20:07:21Z</dcterms:created>
  <dc:creator>Charbel Azar</dc:creator>
  <dc:description/>
  <dc:language>en-US</dc:language>
  <cp:lastModifiedBy>-</cp:lastModifiedBy>
  <dcterms:modified xsi:type="dcterms:W3CDTF">2002-12-20T08:21:02Z</dcterms:modified>
  <cp:revision>23</cp:revision>
  <dc:subject/>
  <dc:title>Slide 1</dc:title>
</cp:coreProperties>
</file>