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C88-3975-4171-8C4C-D8BDBA65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448-81DD-43F0-998A-DBDC5A2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1E2-8502-4893-86E4-BDE798F6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799-B42B-45C5-8791-D7F13752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201-4FE7-458E-9729-ED0DC8CA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AC9-5B82-4C43-82FF-30F33400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0C2-FF71-4F39-86E7-5A1026DE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A19-F79D-40F5-9EAF-063862B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AA1-D1F5-4A75-BA7F-77C3661F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1E1-B970-466C-BB5B-BF6B9FB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018-743B-4CE8-A0C2-F778749B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0BA-7BAB-4AAC-81A2-57A17E0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F529-BF96-4C4C-AEE1-BA87F4728091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-3873240"/>
            <a:ext cx="4572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يُضئ نورُكم للناس فيمجّدوا أباكُمُ الذ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-1097280"/>
            <a:ext cx="4643280" cy="90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يكونَّنَ عليكم لأحدٍ دين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لاّ حُبّ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عضِكُم لبعض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33:17Z</dcterms:created>
  <dc:creator>Charbel Azar</dc:creator>
  <dc:description/>
  <dc:language>en-US</dc:language>
  <cp:lastModifiedBy>Charbel Azar</cp:lastModifiedBy>
  <dcterms:modified xsi:type="dcterms:W3CDTF">2006-03-07T21:56:07Z</dcterms:modified>
  <cp:revision>5</cp:revision>
  <dc:subject/>
  <dc:title>Slide 1</dc:title>
</cp:coreProperties>
</file>