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FB5-17EA-4884-9822-55044CA7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90E-779E-4DF9-85B2-5DEECA90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E93-4387-4CC0-98FB-7C463800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21E-BA2F-4741-A0FB-911F572A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043-689C-4A46-9076-88BFEF24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5DF-EB20-4128-B239-5BA737C4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B7D-C35B-472A-9AE8-4FD82C48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74C-0D50-4177-932A-A0E84CEA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088-D118-46E6-B4E4-1D8490F3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20D-BE54-4AD4-95F8-C85EA21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7AE-A607-4067-A1D4-0F2EB4B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D40-ACC0-4486-B3D6-F0F8D40E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E4FB-337C-4B54-8897-41D211DB7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يسوع صوتك اسمعنا وحواليك                              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	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تجمَّ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لو عطول بضَّلَك معنا وبحُبك بتجمعنا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نَقَّيت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12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تلميذ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يا ريتَك بتنقينا      هالعمر بقربَك لذيذ 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ea typeface="Simplified Arabic"/>
              </a:rPr>
              <a:t>           بقربك ربي خلّينا وحدَك إنتَ بتكفين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562360" cy="8153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886200" cy="10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آخر ليـل سهـرة مع يسوع وصّى تلاميذو وصية  وقلبو الأصفـى من الينبوع فاض محبـة وحنيّة    يـا تلاميـذي بــدّي الحب يهّب بهالعالم كلّـو ويلـّي مـا في عنـدو قلب حطُّولو قلب محلّو    </a:t>
            </a: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محبــة حقيقيـ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57200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يا يسوع مثل ما وصيت نحنا الحب رسالتنـا كرمالــك تركنا أهل وبيت وجينا لعندك كليتنـا مـن قلبــك عمنغرف حب ومن روحك عمتسق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لما نـارك فينــا تهـّب وبالمحبـة تمليّن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Simplified Arabic"/>
              </a:rPr>
              <a:t>ويـن مـا بدّك ودّين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6:10:45Z</dcterms:created>
  <dc:creator>SUZANNE.MD</dc:creator>
  <dc:description/>
  <dc:language>en-US</dc:language>
  <cp:lastModifiedBy>HANI SAFI</cp:lastModifiedBy>
  <dcterms:modified xsi:type="dcterms:W3CDTF">2003-04-16T13:39:56Z</dcterms:modified>
  <cp:revision>2</cp:revision>
  <dc:subject/>
  <dc:title>PowerPoint Presentation</dc:title>
</cp:coreProperties>
</file>