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84BD-58E7-491A-B25D-A71A70260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0C3D-95B9-40A1-9244-6DDC5EDCC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2543-250B-41DA-AEA4-1D5E807B1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EFDE-8C08-49D4-9219-E177FC3FA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9688-5643-4E53-9FEA-6E598F4B6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7487-38E4-438F-B1A8-020BDA15F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F35A-751E-41CB-9BBD-A6FBAE352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21C6-702E-4936-9B08-1AA2875A0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8398-C1CB-4F5B-99ED-5D7595F1B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44A3-D300-4A17-B55D-C3F138A7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EF8A-3FA3-465E-BB5A-5B8C31E1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BCF6-123A-49EF-B12B-E72B6D10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2DC2D-5CD0-4B37-B9B3-322DEE67DD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8185442zVehBggLgs_ph" descr=""/>
          <p:cNvPicPr/>
          <p:nvPr/>
        </p:nvPicPr>
        <p:blipFill>
          <a:blip r:embed="rId1"/>
          <a:stretch/>
        </p:blipFill>
        <p:spPr>
          <a:xfrm>
            <a:off x="0" y="0"/>
            <a:ext cx="56944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715000" y="1066680"/>
            <a:ext cx="3429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Times New Roman"/>
                <a:cs typeface="Times New Roman"/>
              </a:rPr>
              <a:t>رنّمي أيتها السمواتُ وابتهجي أيتها الأرضُ واندفعي بالترنيمِ أيتها الجبال</a:t>
            </a:r>
            <a:r>
              <a:rPr b="0" lang="ar-SA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3327652EflRjcdJyE_ph" descr=""/>
          <p:cNvPicPr/>
          <p:nvPr/>
        </p:nvPicPr>
        <p:blipFill>
          <a:blip r:embed="rId1"/>
          <a:stretch/>
        </p:blipFill>
        <p:spPr>
          <a:xfrm>
            <a:off x="0" y="0"/>
            <a:ext cx="49528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257800" y="380880"/>
            <a:ext cx="35053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لأنه قد ولد لنا وُلدٌ أُعطِيَ لنا ابنٌ فصارتِ الرئاسةُ على كتِفِهِ  دُعِيَ اسمُهُ عجيباً م</a:t>
            </a: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ش</a:t>
            </a: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يراً إلهاً جباراً أبا الأبدِ رئيسَ السلامِ</a:t>
            </a:r>
            <a:r>
              <a:rPr b="0" lang="ar-SA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513843cCRujYBHua_ph" descr=""/>
          <p:cNvPicPr/>
          <p:nvPr/>
        </p:nvPicPr>
        <p:blipFill>
          <a:blip r:embed="rId1"/>
          <a:stretch/>
        </p:blipFill>
        <p:spPr>
          <a:xfrm>
            <a:off x="0" y="0"/>
            <a:ext cx="5877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019920" y="304920"/>
            <a:ext cx="3124080" cy="65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إلهُنا الذي انتظرناهُ وافانا      وهو يُخَلِّصُن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الربُّ الذي انتظرناهُ قد أتانا    فلنبتهج ونفرح بخلاصِهِ</a:t>
            </a:r>
            <a:r>
              <a:rPr b="0" lang="ar-SA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049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2286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NBRSO017" descr=""/>
          <p:cNvPicPr/>
          <p:nvPr/>
        </p:nvPicPr>
        <p:blipFill>
          <a:blip r:embed="rId1"/>
          <a:stretch/>
        </p:blipFill>
        <p:spPr>
          <a:xfrm>
            <a:off x="0" y="0"/>
            <a:ext cx="3733920" cy="4952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809880" y="228600"/>
            <a:ext cx="5334120" cy="70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هلموا نستقي المياهَ من ينابيعِ الخلاصِ          هلموا نستق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إعترفوا للرب     نعترف للر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أدعوا باسمِه       ندعو باسمِ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أخبروا في الشعوبِ بأعمالِه               </a:t>
            </a:r>
            <a:r>
              <a:rPr b="1" lang="ar-SA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ar-SA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               نُـخـبــِـــر</a:t>
            </a:r>
            <a:r>
              <a:rPr b="0" lang="ar-SA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5548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أشيدوا له فقد أتى عظائم رنموا يا سما السموات رنمي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23548985bBMXFMRStl_ph" descr=""/>
          <p:cNvPicPr/>
          <p:nvPr/>
        </p:nvPicPr>
        <p:blipFill>
          <a:blip r:embed="rId1"/>
          <a:stretch/>
        </p:blipFill>
        <p:spPr>
          <a:xfrm>
            <a:off x="0" y="1211400"/>
            <a:ext cx="9144000" cy="5646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إهتفي ورنّمي يا ساكِنَةَ صهيون فإن قدوسَ إسرائيلَ في وسَطِكِ عظيم</a:t>
            </a:r>
            <a:r>
              <a:rPr b="0" lang="ar-SA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3T07:09:10Z</dcterms:created>
  <dc:creator>SUZANNE.MD</dc:creator>
  <dc:description/>
  <dc:language>en-US</dc:language>
  <cp:lastModifiedBy>USER</cp:lastModifiedBy>
  <dcterms:modified xsi:type="dcterms:W3CDTF">2002-12-23T19:51:14Z</dcterms:modified>
  <cp:revision>2</cp:revision>
  <dc:subject/>
  <dc:title>PowerPoint Presentation</dc:title>
</cp:coreProperties>
</file>