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0AD-4249-40E0-B4CE-5862AFD0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8D9-A0EC-4621-9C63-1FA9078B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F34-8D97-4791-A134-37878EAE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747-4E9D-4EFD-B848-42AAA1AC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5D2-B96A-470D-9628-5A819FAE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43D-5AD9-4A87-9127-6F2A4DE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6B9-06A9-47C2-ADD0-A677F85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731-70DF-446D-A5C4-849CDA0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6C8-2237-445D-AD8F-15BF4CA6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570-5D35-409E-9F73-FF8A1773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930-2C25-4FA5-8396-B5997FD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3CF-B3AB-4289-9E82-8C16493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5758-77DD-417C-82B9-7037BD18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4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4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4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4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4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3:53:08Z</dcterms:created>
  <dc:creator>USER</dc:creator>
  <dc:description/>
  <dc:language>en-US</dc:language>
  <cp:lastModifiedBy>USER</cp:lastModifiedBy>
  <dcterms:modified xsi:type="dcterms:W3CDTF">2002-11-01T03:53:44Z</dcterms:modified>
  <cp:revision>1</cp:revision>
  <dc:subject/>
  <dc:title>PowerPoint Presentation</dc:title>
</cp:coreProperties>
</file>