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1B287-2CEA-4D4E-B4FD-77B679195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DEB3D-07FB-4840-B43A-E64DDE5B6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6F06B-F697-41E3-A88D-B9ADAC848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0B3C8-7E18-4AC9-B00D-36E9D7748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AC729-EDE7-4EA5-AEC5-7333AD9BE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0696D-7D63-4470-9038-6E96BE7C1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54867-5816-49FF-8C86-4509DAC38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5DFDD-CB70-4C77-935C-055F9BF86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C5F78-946F-4EB2-8A12-DA237CE89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67DD9-2E18-4C53-8899-1BAA63E38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724D5-8985-4B84-9267-42B6D1C97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8B67B-05F9-42D2-BFBC-E4263A6C2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2B7A5-3180-4546-A8D8-440669D792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11501422dASCxiXjMA_ph" descr=""/>
          <p:cNvPicPr/>
          <p:nvPr/>
        </p:nvPicPr>
        <p:blipFill>
          <a:blip r:embed="rId1"/>
          <a:stretch/>
        </p:blipFill>
        <p:spPr>
          <a:xfrm>
            <a:off x="4952880" y="0"/>
            <a:ext cx="41911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0"/>
            <a:ext cx="4876920" cy="902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9933"/>
                </a:solidFill>
                <a:latin typeface="Arabic Transparent"/>
                <a:cs typeface="Simplified Arabic"/>
              </a:rPr>
              <a:t>لولاك... من كانَ يحملْ همّي يا يسو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9933"/>
                </a:solidFill>
                <a:latin typeface="Arabic Transparent"/>
                <a:cs typeface="Simplified Arabic"/>
              </a:rPr>
              <a:t>لولاك... كنتُ قضيتُ كلَّ عمري بالدمو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9933"/>
                </a:solidFill>
                <a:latin typeface="Arabic Transparent"/>
                <a:cs typeface="Simplified Arabic"/>
              </a:rPr>
              <a:t>طريقي كانت ضَيَاع نصيبي كان الجحي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9933"/>
                </a:solidFill>
                <a:latin typeface="Arabic Transparent"/>
                <a:cs typeface="Simplified Arabic"/>
              </a:rPr>
              <a:t>وكم لبستُ من قناع لأُخْفِي جرحيَ الأليم</a:t>
            </a:r>
            <a:r>
              <a:rPr b="0" lang="ar-SA" sz="2400" spc="-1" strike="noStrike">
                <a:solidFill>
                  <a:srgbClr val="ff9933"/>
                </a:solidFill>
                <a:latin typeface="Times New Roman"/>
                <a:ea typeface="Simplified Arabic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15324937uKhisKVkwI_ph" descr="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0"/>
            <a:ext cx="4572000" cy="89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Times New Roman"/>
                <a:cs typeface="Simplified Arabic"/>
              </a:rPr>
              <a:t>لولاك... من كان يمشي دربَ الجلجل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Times New Roman"/>
                <a:cs typeface="Simplified Arabic"/>
              </a:rPr>
              <a:t>لولاك... من كان سوف يحملُ الصلي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Times New Roman"/>
                <a:cs typeface="Simplified Arabic"/>
              </a:rPr>
              <a:t>الجلد كان لي... الصلب كان لي... الموت كان لي</a:t>
            </a:r>
            <a:r>
              <a:rPr b="0" lang="ar-SA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Times New Roman"/>
                <a:cs typeface="Simplified Arabic"/>
              </a:rPr>
              <a:t>ارتضيتَ أنت تأخذَ مكاني يا يسو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Times New Roman"/>
                <a:cs typeface="Simplified Arabic"/>
              </a:rPr>
              <a:t>لكي تكون لي الحياة أتيتَ يا يسوع</a:t>
            </a:r>
            <a:r>
              <a:rPr b="0" lang="ar-SA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27464747OSrAOXwLFa_ph" descr=""/>
          <p:cNvPicPr/>
          <p:nvPr/>
        </p:nvPicPr>
        <p:blipFill>
          <a:blip r:embed="rId1"/>
          <a:stretch/>
        </p:blipFill>
        <p:spPr>
          <a:xfrm>
            <a:off x="3724200" y="0"/>
            <a:ext cx="54198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228600"/>
            <a:ext cx="3429000" cy="83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eaeaea"/>
                </a:solidFill>
                <a:latin typeface="Times New Roman"/>
                <a:cs typeface="Simplified Arabic"/>
              </a:rPr>
              <a:t>أحبك... أحبك...أحبك... حبيبي يا يسوع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eaeaea"/>
                </a:solidFill>
                <a:latin typeface="Times New Roman"/>
                <a:cs typeface="Simplified Arabic"/>
              </a:rPr>
              <a:t>شكرا لك...مجداً لك ... لك السجودُ وحدك يا يسوع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0:01:37Z</dcterms:created>
  <dc:creator>SUZANNE.MD</dc:creator>
  <dc:description/>
  <dc:language>en-US</dc:language>
  <cp:lastModifiedBy>SUZANNE.MD</cp:lastModifiedBy>
  <dcterms:modified xsi:type="dcterms:W3CDTF">2003-03-16T10:14:02Z</dcterms:modified>
  <cp:revision>1</cp:revision>
  <dc:subject/>
  <dc:title>PowerPoint Presentation</dc:title>
</cp:coreProperties>
</file>