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8D6-C704-4254-AB28-FFBE3FB1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E59-C947-4F0E-A316-CF06149B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BCB-4086-45B9-B0D5-9BDB83E5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A9A-EE74-4DC3-B4C2-0516C385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D674-F629-4AEE-91F7-34E1AB15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915E-CB41-4CD8-9C06-C58A54E6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EDAF-EC4F-40A0-BD7F-3CDB9950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C42-9B80-46E5-82EB-C1A403F8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2B9-31BB-4D3C-8E84-B0D4CB2D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4BB9-5E62-4CF9-ADD8-6F35E35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EA54-C4A3-4B32-81EC-38E3E94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C1D-1E28-4179-A956-8912647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F711-22B4-4EAD-9C49-711920D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71BB-FECD-4C7E-BFA0-05737B6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C37C-7644-428D-B31F-30B78AD9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990B-721B-4DF5-87C0-BAC2FF49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A551-4DE6-49D0-8707-389C0135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F771-081D-4965-ACD3-7FE2CEAF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1D8F-B69F-43A8-8E2E-79DEB1C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1736-83D1-4F7A-A680-0143623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1889-1C2C-406D-ACCF-3C536A40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8E1E-A8A3-42D2-9EF4-3C004370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5EC-30D9-4C96-B00B-1E4AA26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8739-6867-42C5-8FFF-9508E5CF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47E6-80ED-41FD-854A-91BE7081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CB9C-EA24-4D6A-8D09-37E3B75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CCC1-D215-4050-AC98-3701A977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BCE3-CC61-4BE4-BCF9-7BE10F7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1BEA-B3D3-40BD-B751-808762D5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43FB-AAB6-4096-89E7-DB8380A6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0D1-11E3-4C66-8330-AB5DF79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9D8-947A-4298-98BF-7E2CC302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A9D-1EC1-4A41-9262-A563F2D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4BB-A16A-4C1C-AC57-088C8842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8A5-2DEF-47AE-A4BC-88E36228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9CD-1510-4451-86CE-FDEB9F4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D7D8-3318-499F-B93B-8C2E5AEB022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5683-AE7E-4C40-8FDC-8C23E1F530C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7D74-C3BD-4FCA-92BA-7D6E76673F9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797360"/>
            <a:ext cx="9144000" cy="20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إلهي رفعت إليك يد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9880" y="0"/>
            <a:ext cx="79232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ـداءِ العالـ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الحق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0"/>
            <a:ext cx="75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هذا جسدُكَ هذا دمُكَ الطاهر فاغسلْ، فاغسلْ يا ربّ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خطايا العالم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لْتَحْيَ بروحِكَ أَنْفُسُن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216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836640"/>
            <a:ext cx="45720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فعتُ إليكَ يدي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ف</cp:lastModifiedBy>
  <dcterms:modified xsi:type="dcterms:W3CDTF">2006-08-01T19:00:06Z</dcterms:modified>
  <cp:revision>10</cp:revision>
  <dc:subject/>
  <dc:title>PowerPoint Presentation</dc:title>
</cp:coreProperties>
</file>