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26AB-C8E4-4C06-8561-9D8422FC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55F-7FD3-4780-A4D5-6CC5E549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0B9-F079-4D87-9C64-96E52848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CA9-391E-4F76-808D-CFB607BD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7D7C-8504-40F8-B92D-644707A2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4E81-4838-46A9-89CF-D9EE7E81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EFC7-5970-458A-A15B-625B563E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3B13-CFCB-408D-85A6-63AE993D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3597-B635-4D0D-9767-95E10325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0D6F-152B-4C1D-AD24-5F35544C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2CA2-F2F3-4F3B-8B2F-7A7A280A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E1F-ADBD-4C38-8731-79B02686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6B30-B378-4EDC-B10E-C3B9B97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A74D-BAA7-4805-873B-798A752F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7E3C-8D6A-4011-A872-6E393152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D491-D222-4F95-8339-64611114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A64F-CE3F-47E6-BD48-158981FF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678-6386-4BE9-A9F4-F39816BB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A18-CF29-4520-931F-236BCC2D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AF1-AD30-4CB4-AA9B-3316625D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8A3-47FD-4ACE-9846-92565A5F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6BA-E7B5-41CB-81F9-A6030B8E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B24-8B37-4C8D-A240-7345C84C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601-0C2A-4EB2-917C-9B294D38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202D-A32D-45D6-B755-453443ED9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0201-C816-403F-9401-E7529A696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80060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يا جميعَ الشعوبِ صَفِّقوا بالأَكُف إهتفوا للهِ بصوتِ الترنيمِ اهتفوا لله بصوتِ الترنيمِ فإن الربَ صالحٌ قدوسٌ ملكٌ عظيمٌ عظيمٌ على جميعِ الأ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274320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حيٌ المسيحُ ربُنا حيٌ رجانا وميراثُنا عن يمينِ الله في الأعالي يسوعُ المسيحُ الفادي أشيدوا للهِ أشيدوا أشيدوا لملِكِنا أشيدو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1440"/>
            <a:ext cx="647712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2362320" cy="11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فإن الربَّ هوَ ملكُ الأرضِ كلّها أشيدوا بصوتِ ترنيمٍ مَلَكَ اللهُ على الأممِ اللهُ العليّ ملِكٌ مدى الده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43:23Z</dcterms:created>
  <dc:creator>HANI SAFI</dc:creator>
  <dc:description/>
  <dc:language>en-US</dc:language>
  <cp:lastModifiedBy>HANI SAFI</cp:lastModifiedBy>
  <dcterms:modified xsi:type="dcterms:W3CDTF">2003-05-30T08:57:57Z</dcterms:modified>
  <cp:revision>2</cp:revision>
  <dc:subject/>
  <dc:title>Slide 1</dc:title>
</cp:coreProperties>
</file>