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BA06-B40F-44A1-992E-D049F65A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7672-B8DA-4D51-8B72-26006129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82D1-ADB1-402E-8D6F-25D36B51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EE89-A9B2-4BE1-9D5D-5ADBA45B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AC7E-3936-446D-8EE2-3314FDD0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E747-8861-44C7-BC08-ABBFC5F8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28CE-5EDD-4710-BD41-CA8DC914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9D90-39E1-4D64-8505-7EC5AB80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57FD-B586-4954-BA84-B90E11EF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03FB-4392-48C5-9E91-A6DFE33F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6612-97C3-425E-BEF2-555EA422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B3A7-1E78-4912-A7AE-2896E008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EBBC-FFD5-4DB2-B8DD-552C9189A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1655656cTnMqWhHxj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5520" y="762120"/>
            <a:ext cx="3581280" cy="76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نحن ساهرون ومصابيحنا مشتعلة، ننتظر عودتك أيها الرب يسوع (</a:t>
            </a: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2</a:t>
            </a: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)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67280" y="0"/>
            <a:ext cx="3276720" cy="7623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ما يومض البرق في أف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يتألق في آخر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ما يومض البرق  في أفق ويتألق في آخر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كذا مجيء ربنا يكون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2142490iRObjPIbaO_ph" descr=""/>
          <p:cNvPicPr/>
          <p:nvPr/>
        </p:nvPicPr>
        <p:blipFill>
          <a:blip r:embed="rId1"/>
          <a:stretch/>
        </p:blipFill>
        <p:spPr>
          <a:xfrm>
            <a:off x="-152388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1655656cTnMqWhHxj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05520" y="762120"/>
            <a:ext cx="3581280" cy="76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نحن ساهرون ومصابيحنا مشتعلة، ننتظر عودتك أيها الرب يسوع (</a:t>
            </a: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2</a:t>
            </a: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)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33540849iDISSw_ph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324480" y="685800"/>
            <a:ext cx="2819520" cy="64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كنا آتٍ بمجدٍ عظيم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كنا آتٍ بمجدٍ عظيم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نضئ مصابيح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نخرج إلي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31655656cTnMqWhHxj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105520" y="762120"/>
            <a:ext cx="3581280" cy="76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نحن ساهرون ومصابيحنا مشتعلة، ننتظر عودتك أيها الرب يسوع (</a:t>
            </a: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2</a:t>
            </a: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)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31962215RfQtwEcBQb_ph" descr=""/>
          <p:cNvPicPr/>
          <p:nvPr/>
        </p:nvPicPr>
        <p:blipFill>
          <a:blip r:embed="rId1"/>
          <a:stretch/>
        </p:blipFill>
        <p:spPr>
          <a:xfrm>
            <a:off x="2438280" y="0"/>
            <a:ext cx="9296640" cy="6816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80880"/>
            <a:ext cx="2362320" cy="73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نفرحن به كما فرح بنا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نفرحن به كما فرح بنا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أنه سيفرحنا ببهاء ضيائ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31655656cTnMqWhHxj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105520" y="762120"/>
            <a:ext cx="3581280" cy="76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نحن ساهرون ومصابيحنا مشتعلة، ننتظر عودتك أيها الرب يسوع (</a:t>
            </a: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2</a:t>
            </a:r>
            <a:r>
              <a:rPr b="1" lang="ar-SA" sz="44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)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20:55:12Z</dcterms:created>
  <dc:creator>USER</dc:creator>
  <dc:description/>
  <dc:language>en-US</dc:language>
  <cp:lastModifiedBy>USER</cp:lastModifiedBy>
  <dcterms:modified xsi:type="dcterms:W3CDTF">2002-12-11T02:11:46Z</dcterms:modified>
  <cp:revision>2</cp:revision>
  <dc:subject/>
  <dc:title>PowerPoint Presentation</dc:title>
</cp:coreProperties>
</file>