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5A5-F08B-47EA-A9BE-2A27F9C1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131-BC2B-4802-9454-3FB9838B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56C-CC71-4561-A8B4-49E25F1C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A24-13F9-42DA-86C8-07A70798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8C0-71FF-4303-BFE3-918A856B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B77-E6B1-450E-8983-C92B340D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F7A-5482-4A8A-8230-79F4CB67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132-0056-4CD4-B377-7EA47958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663-AEF7-4709-82A6-79676425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94F-17D9-48AF-805D-59F5520A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A23-43A4-4E7C-8091-6E9DA039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BC8-D256-4590-B6DE-AE62D90F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854C-B116-4B5F-BA79-D8A38B70BA3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0"/>
            <a:ext cx="428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9600"/>
            </a:br>
            <a:br>
              <a:rPr sz="8800"/>
            </a:br>
            <a:r>
              <a:rPr b="0" lang="ar-SA" sz="72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عالم جائ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200" y="1903320"/>
            <a:ext cx="5545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جائع وخُبزُ السماء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ُبزُ الحياة خُبزُ سلامِ الأرضِ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200" y="1903320"/>
            <a:ext cx="55454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فخذوا عن مائدتي الخبزَ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ليأكلَ العالمْ.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3635280" y="136440"/>
            <a:ext cx="550872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ُ الرجاءْ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8" name=""/>
          <p:cNvSpPr/>
          <p:nvPr/>
        </p:nvSpPr>
        <p:spPr>
          <a:xfrm>
            <a:off x="-2319480" y="212760"/>
            <a:ext cx="13675680" cy="177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عُريان والأرضُ غنيّة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0" name=""/>
          <p:cNvSpPr/>
          <p:nvPr/>
        </p:nvSpPr>
        <p:spPr>
          <a:xfrm>
            <a:off x="0" y="4175280"/>
            <a:ext cx="9144000" cy="527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ahoma"/>
                <a:cs typeface="Akhbar MT"/>
              </a:rPr>
              <a:t>لكنَّ الإنسانْ سرقوا منهُ الثوبَ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ahoma"/>
                <a:cs typeface="Akhbar MT"/>
              </a:rPr>
              <a:t>سرقوا الحب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6000" y="61920"/>
            <a:ext cx="4572000" cy="1298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خذوا ثوبيَ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ثوبَ الحقِ ليَلبَسَ العالَمْ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3635280" y="136440"/>
            <a:ext cx="5508720" cy="1161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ُ الرجاءْ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5:08Z</dcterms:created>
  <dc:creator>Charbel Azar</dc:creator>
  <dc:description/>
  <dc:language>en-US</dc:language>
  <cp:lastModifiedBy>-</cp:lastModifiedBy>
  <dcterms:modified xsi:type="dcterms:W3CDTF">2003-01-29T08:49:16Z</dcterms:modified>
  <cp:revision>13</cp:revision>
  <dc:subject/>
  <dc:title>PowerPoint Presentation</dc:title>
</cp:coreProperties>
</file>