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7FB-CAA3-4A3F-8479-4867036F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800-FC41-4B20-97AF-D090EFB7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3DB-8C62-44BF-AF62-BFF6F4F6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C96-0744-44A4-B213-C1F53B89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350-FCE7-46FD-8C9F-B42C59BD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E0A-0EA5-498A-BFBF-38B33072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032-5589-48B1-9554-6EE1D7CC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A79-DEAC-4199-B0CA-F5AA220E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3DC-3951-4348-88BC-BEA95834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BD9-F9CB-48AD-A768-9AFAA75A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90D-DE6D-40CC-AB8E-2BE20BCD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FA9-4F24-4F35-B3E1-BF05B374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03D7-1176-44A9-9EED-D403D9000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4290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9880"/>
            <a:ext cx="289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ماذا أفعَلُ يا إلهي، حتى تنسى ما فعلت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4924715GRMuZrvGAj_ph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3200400" cy="114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ودتي إلى حُضنِكَ الدافىء عَودةَ المُشرّدِ نحو الوط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ّي يا سفينتي ويا مرفأي فيكَ السكينَةُ فيكَ السَّكن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4290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09880"/>
            <a:ext cx="289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ماذا أفعَلُ يا إلهي، حتى تنسى ما فعلت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5488241REkwlfkALI_ph" descr=""/>
          <p:cNvPicPr/>
          <p:nvPr/>
        </p:nvPicPr>
        <p:blipFill>
          <a:blip r:embed="rId1"/>
          <a:stretch/>
        </p:blipFill>
        <p:spPr>
          <a:xfrm>
            <a:off x="0" y="-214200"/>
            <a:ext cx="9677520" cy="7711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ّي فقير فقير إليكْ إنّي غنيّ غنيّ ب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شوَتي نعيمي في راحَتَيك لأني شريكٌ بكل ما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4290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09880"/>
            <a:ext cx="289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ماذا أفعَلُ يا إلهي، حتى تنسى ما فعلت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12:48Z</dcterms:created>
  <dc:creator>SUZANNE.MD</dc:creator>
  <dc:description/>
  <dc:language>en-US</dc:language>
  <cp:lastModifiedBy>USER</cp:lastModifiedBy>
  <dcterms:modified xsi:type="dcterms:W3CDTF">2003-03-03T07:35:21Z</dcterms:modified>
  <cp:revision>2</cp:revision>
  <dc:subject/>
  <dc:title>PowerPoint Presentation</dc:title>
</cp:coreProperties>
</file>