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BD20-EA81-484B-868F-CDBF4B58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69A0-2007-4884-86BA-B2351200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A053-90D5-4DEF-8334-91D889A3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0886-B889-4E31-80B2-7D8FFB2C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BE40-A899-4D17-97C8-0ED98AA1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AF16-D1E0-40A2-85C9-1F45B44E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68AD-74F0-463E-8403-D91FDE8A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857C-502A-4EA7-A701-4E89D595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32C5-89C0-4724-B0C6-CCC6886E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8DAF-5D97-46AF-A45F-CA1E672D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3578-66AD-4A07-B606-E53CEBE7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654F-32B8-4788-A1D1-3CC07FF3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568E-B8AE-4669-A649-DAB0AC9A3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4604796CaxKVtagsg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29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ل يستطيع الرب بي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 يصنع العجائ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ن طلبت تكريسي هل يستجيب الطل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4815000"/>
            <a:ext cx="4572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 نعم نعم يقول ربن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قدّسوا للعم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غداً سأعمل بك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ي وسطكم في وسطكم عجائب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4604796CaxKVtagsg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0" y="4815000"/>
            <a:ext cx="4572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 نعم نعم يقول ربن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قدّسوا للعم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غداً سأعمل بك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ي وسطكم في وسطكم عجائب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5240" y="0"/>
            <a:ext cx="72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ل يستطيع الرب أن يقّدس ذا الجس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95280" y="609480"/>
            <a:ext cx="58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ع ضعفه وإثمه به يحلّ للمد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24604796CaxKVtagsg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0" y="4815000"/>
            <a:ext cx="4572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 نعم نعم يقول ربن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قدّسوا للعم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غداً سأعمل بك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ي وسطكم في وسطكم عجائب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27640" y="0"/>
            <a:ext cx="70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ل يستطيع الرب أن يشغل مواهب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615600" y="609480"/>
            <a:ext cx="64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دّساً عواطفي لمجد من أحبن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4604796CaxKVtagsg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0" y="4815000"/>
            <a:ext cx="4572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 نعم نعم يقول ربن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قدّسوا للعم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غداً سأعمل بك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ي وسطكم في وسطكم عجائب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40160" y="0"/>
            <a:ext cx="756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ل يستطيع الرب أن يبارك في خدمت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456840" y="609480"/>
            <a:ext cx="57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كرّساً لمجده كلّي له بجملت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02:10Z</dcterms:created>
  <dc:creator>USER</dc:creator>
  <dc:description/>
  <dc:language>en-US</dc:language>
  <cp:lastModifiedBy>USER</cp:lastModifiedBy>
  <dcterms:modified xsi:type="dcterms:W3CDTF">2002-10-30T16:10:40Z</dcterms:modified>
  <cp:revision>4</cp:revision>
  <dc:subject/>
  <dc:title>PowerPoint Presentation</dc:title>
</cp:coreProperties>
</file>