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96AF-8519-4127-8598-B5D269948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C52A-76D8-48D0-92C5-52F9D0C1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942A-8B91-42AB-81AA-20B43F3CA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ED4B-FA62-43B7-8BE9-9D1463593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203B-156E-4446-9E2E-59BE6AD9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0D81-3305-4ED8-9990-DFF0FE33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62F6-37AC-406A-BBB6-D0D574E2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9A94-5324-4ADB-B904-0A1A376C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DBF9-F549-4556-9700-A771145A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86E2-6888-465A-8C0E-809CCE8A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0654-B152-411B-8E3D-DE109F7F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F63F-CBDF-4275-BBBF-1FB18CEE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4664-B7BC-4959-B732-C4797510269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0"/>
            <a:ext cx="4537080" cy="678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َا أَعْظَمَ مَجْدَ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َا إِيليَّا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ـِعَجَائِبـِ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َمَنْ لَهُ فَخْرٌ كَفَخْرِكَ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56000" y="4076640"/>
            <a:ext cx="4788000" cy="228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????Boutros Rokaa"/>
              </a:rPr>
              <a:t>ما أعظم </a:t>
            </a:r>
            <a:br>
              <a:rPr sz="9600"/>
            </a:b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????Boutros Rokaa"/>
              </a:rPr>
              <a:t>مجدك يا إيلي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067280" y="0"/>
            <a:ext cx="5076720" cy="678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َنْتَ الَّذِي أَقَمْتَ مَيْتاً مِنَ الْمَوْت، وَمِنَ الْجَحِيمِ بكَلامِ الْعَلِيّ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0" y="0"/>
            <a:ext cx="4537080" cy="678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َا أَعْظَمَ مَجْدَ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َا إِيليَّا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ـِعَجَائِبـِ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َمَنْ لَهُ فَخْرٌ كَفَخْرِكَ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9640" y="5084640"/>
            <a:ext cx="8064720" cy="157212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184720"/>
            <a:ext cx="7848360" cy="141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َخُطِفْتَ في عَاصِفَةٍ مِنَ النَّار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723960" y="5157720"/>
            <a:ext cx="10461600" cy="134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مَركَبَةِ خَيْلٍ نَارِيَّةٍ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63640" y="5157720"/>
            <a:ext cx="5327640" cy="141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طُوبَى لِمَن عَايَنكَ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794960" y="5327640"/>
            <a:ext cx="12645360" cy="134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َلِمَنْ حَازَ فَخْرَ مَصَافَاتِكَ.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0" y="0"/>
            <a:ext cx="4537080" cy="678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َا أَعْظَمَ مَجْدَ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َا إِيليَّا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ـِعَجَائِبـِك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َمَنْ لَهُ فَخْرٌ كَفَخْرِكَ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0T20:07:21Z</dcterms:created>
  <dc:creator>Charbel Azar</dc:creator>
  <dc:description/>
  <dc:language>en-US</dc:language>
  <cp:lastModifiedBy>-</cp:lastModifiedBy>
  <dcterms:modified xsi:type="dcterms:W3CDTF">2002-12-20T08:21:02Z</dcterms:modified>
  <cp:revision>23</cp:revision>
  <dc:subject/>
  <dc:title>Slide 1</dc:title>
</cp:coreProperties>
</file>