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D90-665C-437F-A2A3-61A96FB9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DF4-232C-4E0E-BD45-6E8C1582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E2E-E1BD-42CF-A40D-A709DE27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4F3-5555-4261-9821-FD7550A9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5CE-C733-43E5-9434-EA017A40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3A9-1A8C-4EFC-82F6-027E7991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BC9-F59E-41F9-A332-AB5120BA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2F2-D5F0-4328-8BE6-E0220CFE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DCF-EA70-41C7-BED1-4331D854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DF9-10D8-4E90-B3AD-AF50F1F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E30-0145-4BA3-8DA9-DC9459D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2DA-F788-4FE8-93FD-38B3263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8F5-B364-4AE9-9E24-88823A991DA3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تُعطَى كلَّ شيء واحمل الصليب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جد الراحةَ والهدو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خيبَ ظنّك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يثما أقمت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قيمُ أ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غيبَ وجهِي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ي اختَرتُ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ي عون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العلى يدعو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68360" y="2205000"/>
            <a:ext cx="5364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ظرتُ في عينيكَ وأحبَبتُ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رفتُ ما في قلبكَ 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5364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رضُكَ العطشَى للحُبِ والسلام تصرُخُ إلي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0:20:38Z</dcterms:created>
  <dc:creator>Charbel Azar</dc:creator>
  <dc:description/>
  <dc:language>en-US</dc:language>
  <cp:lastModifiedBy>ف</cp:lastModifiedBy>
  <dcterms:modified xsi:type="dcterms:W3CDTF">2007-03-13T18:27:16Z</dcterms:modified>
  <cp:revision>8</cp:revision>
  <dc:subject/>
  <dc:title>Slide 1</dc:title>
</cp:coreProperties>
</file>