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E52-2E55-42EE-A9E2-17386FFB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886-73F6-4EAE-B5CB-C833DB0C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E95-E8A3-47E7-9E83-FDEC9588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38A-91DE-43FB-979E-B0301C3D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45A0-DD7D-4AB8-A79C-F1EC071F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4DE8-54A0-4596-A333-59DCCD1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F00-DAB9-4C9B-A2BD-80A7A224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B155-E6F4-47BA-8709-4FE39CE3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A079-BD82-42C1-BEE3-5C0FDE0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0082-99D0-40B3-82E1-3AAA5B55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BEA9-5856-45FC-98D0-05F305A7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45E-C0D6-4137-98EA-35BDBF8E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DF9F-0980-471E-AA36-DCB14918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0A0D-006D-49B5-8596-C24CF02D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B1ED-6575-453F-A338-C00E4D89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45AF-6C80-48D4-BD07-5BF82266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A523-6F85-41DF-B164-8EFD15C1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6FC-2B49-4F96-9A2E-8727916F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6D1-ABF1-4F9C-B6A6-73B8EE91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AA7-C48C-4F99-9F23-B7BE027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BCB-F42A-4EBD-AE37-2B29E653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52A-ADE6-4D2A-A298-E8FBAB8D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CD4-E6B3-4796-A211-155781E9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E13-AE35-4388-9644-A20F66C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D0C1-3360-4070-93F0-529CC26F0FE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0580-CE83-4A46-B023-25AC029D489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كم هو عظيم حب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خالق الأكوا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جابل الإنسا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رّفني درب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خلقتني من العد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لأتني من النع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غفرت ذن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م وكم يا جابلي أشكر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فخت فيّ روح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نقشت فيّ رسم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شفت لي عن اسم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خالقي أحبّ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عظيم حبك</a:t>
            </a:r>
            <a:br>
              <a:rPr sz="13100"/>
            </a:b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كم هو رحيم قلبك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3-01-29T16:46:04Z</dcterms:modified>
  <cp:revision>18</cp:revision>
  <dc:subject/>
  <dc:title>Slide 1</dc:title>
</cp:coreProperties>
</file>