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4EE-0A92-4202-8F23-9418BBC1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113-AEAF-466C-A1E7-23989BE8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6CF-147C-4622-B56E-58C7F08D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506-4EF3-4AA6-873F-6378C94D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A17-D830-4D35-BDBB-25C94D0C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31E-7A21-470F-A1D0-467B064A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24F-2EDF-4902-A143-081C1408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2DE-2935-4991-B5B3-91E5A1E8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A9C-ECE8-4D07-8617-F0002689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D8A-C284-4B2E-97C3-A78D8F86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302-70D2-47A0-BDA8-333717C3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499-A8C0-4956-99BB-02909433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8D67-4B54-4EEC-ABF0-700200D11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67520" y="349200"/>
            <a:ext cx="457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ّا بْكَرِّسْلَكْ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َّ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وهبتي وكل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صير شهادة ع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كرسلك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لحظة من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غنيها قوة ح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10200" y="349200"/>
            <a:ext cx="540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رتّلك يوميِّ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َشِّر فيك اللي حْوالَي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اللي بيتغيَّر في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بيولد فرح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الوزنة البين إيديّ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كبر وبقدّملك هي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عمة العندي بتز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67520" y="349200"/>
            <a:ext cx="457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ّا بْكَرِّسْلَكْ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َّ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وهبتي وكل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صير شهادة ع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كرسلك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لحظة من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غنيها قوة ح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85800" y="349200"/>
            <a:ext cx="5181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قدّملَك كل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بتركلَك مطرح ب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اللي بيتغيّر في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بيولد فرح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صلّي كل دقيق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بِرفَع صَوتي للحقيق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عمة العندي بتز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(لما بكرسلك ذاتي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3-02-08T06:50:25Z</dcterms:modified>
  <cp:revision>12</cp:revision>
  <dc:subject/>
  <dc:title>PowerPoint Presentation</dc:title>
</cp:coreProperties>
</file>