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B2D-7991-47A7-91F4-6D15DE46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309-A151-496A-919A-9E13B261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386-5902-4A97-809E-51461C2A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7EA-D5BB-4B7A-8BAA-1C39A010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E7AC-A662-4557-87E2-13E407D9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07E-354D-45E8-B974-DB363BC9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516-A24E-4C84-9F6D-CE704437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544-D453-45DC-8838-205D042D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9B4-2E5C-4D4C-AAE0-7AD44E77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ECC-E3F3-43BD-802B-95441C76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5CD-81A3-40A8-886C-97F42701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1D3-ED79-495A-BC13-2B0D3F02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E39F-A610-46A2-9660-D2390090D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329983RCXWwpZVvi_ph" descr=""/>
          <p:cNvPicPr/>
          <p:nvPr/>
        </p:nvPicPr>
        <p:blipFill>
          <a:blip r:embed="rId2"/>
          <a:stretch/>
        </p:blipFill>
        <p:spPr>
          <a:xfrm>
            <a:off x="0" y="0"/>
            <a:ext cx="3867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86200" y="361800"/>
            <a:ext cx="525780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َوكَّلنا على اللهِ وهوَ ملجانَا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َوكَّلنا على اللهِ لا نَخَافُ السُو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ُّ نجّانا من شَدائِدنا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نُقبِلْ إِلَيْهِ وَلْنَسمَعْ لَه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وتُ الَربِّ ناعِمٌ يدخُلُ في الأَعماقْ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َعْمُ الربِّ لَذيذٌ أشهى مِن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َسَلْ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ِيرُ الربِّ طَيّبٌ حِمْلُ الرَبِّ خَفيفْ</a:t>
            </a:r>
            <a:br>
              <a:rPr sz="3600"/>
            </a:b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َلْبُ الربِّ وديعٌ طوبىَ لِمَنْ يَهواه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18:17Z</dcterms:created>
  <dc:creator>USER</dc:creator>
  <dc:description/>
  <dc:language>en-US</dc:language>
  <cp:lastModifiedBy>USER</cp:lastModifiedBy>
  <dcterms:modified xsi:type="dcterms:W3CDTF">2002-10-30T16:20:03Z</dcterms:modified>
  <cp:revision>2</cp:revision>
  <dc:subject/>
  <dc:title>PowerPoint Presentation</dc:title>
</cp:coreProperties>
</file>