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260-9470-4739-B89D-9BB5803F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1C2-47D3-40DB-880B-278162B0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C8F-F722-4415-BD58-8B781F34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4B0-EBE7-4AE4-88BA-F4007A39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4C0-CB79-4872-9957-6AFF7D85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846-9726-4BE8-99D9-2E1F0ED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B84-C631-44BC-9641-13F3734D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269-845C-4AD3-ADEA-E7A2F58C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7EA-2216-44EF-B94C-2FE61CB3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CD4-E4B9-4DC5-9963-21FC1668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719-E87C-4C19-9002-4445DBF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266-3742-4165-9BAE-91AE2EC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95BC-1398-4AF5-A7D4-A19A7FBE2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839130pPYJDRksSW_ph" descr=""/>
          <p:cNvPicPr/>
          <p:nvPr/>
        </p:nvPicPr>
        <p:blipFill>
          <a:blip r:embed="rId1"/>
          <a:stretch/>
        </p:blipFill>
        <p:spPr>
          <a:xfrm>
            <a:off x="0" y="-228600"/>
            <a:ext cx="655308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3080" y="380880"/>
            <a:ext cx="2590920" cy="71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رنموا للرب ترنيما جديد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أحسنوا العزف مع الهتا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فرحين مرن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275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533520"/>
            <a:ext cx="30481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إعترفوا له بالكنارة وبعشاري الأوت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شيدوا له، رنّم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إن التسبيح يجمُلُ بالمستقي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95687_ph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53080" y="0"/>
            <a:ext cx="2590920" cy="9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لرب يحب البرَّ والعدلَ، ومن محبته امتلأتِ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ه تبتهجُ قلوبنا وعيوننا، فهو نُصرَتُنا وملجا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عليه توكل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09:46:17Z</dcterms:created>
  <dc:creator>SUZANNE.MD</dc:creator>
  <dc:description/>
  <dc:language>en-US</dc:language>
  <cp:lastModifiedBy>SUZANNE.MD</cp:lastModifiedBy>
  <dcterms:modified xsi:type="dcterms:W3CDTF">2002-12-09T06:42:17Z</dcterms:modified>
  <cp:revision>3</cp:revision>
  <dc:subject/>
  <dc:title>PowerPoint Presentation</dc:title>
</cp:coreProperties>
</file>