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226-A282-4C00-95E9-94B751A6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499-86AD-460F-A071-A1BAD59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6DD-AF19-4B91-81CF-5144363E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6F9-B318-45F8-965F-CCB7FD0F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DBE-79D5-40DD-95C7-3E52E809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13D-6DC4-41B4-8B72-BBB36384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BF8-7F64-4687-AC08-3F3B2C5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452-D0D3-4E1A-A5B8-6A74AA8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9FE-73E0-4CC1-8F12-198DBEAE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B45-52F9-481A-84A0-51E346D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902-5E63-49CF-A0B8-70513F9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AD0-AAF9-46FC-84F3-C0D016F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084-AB3D-499A-BD97-21C6AE594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18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1219320"/>
            <a:ext cx="46479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 الربُّ إلي؟ فيَجْبُرَ قلبي الكس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ثم يُكَفكِفُ الدموعْ عن وجهِ ذا الخاطي الكبير؟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3124080" cy="10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 ينظُرُ الفادي المسيحْ إلى مَن روحُهُ جريح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هلْ مَن يُقَوِّم الكسيحْ ويُنعشُ المَيتَ الطريحْ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85800"/>
            <a:ext cx="4572000" cy="74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يُنِقذُ الربُّ الشعوبْ ويَفتَديها مِن ذُنو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ff"/>
                </a:solidFill>
                <a:latin typeface="Times New Roman"/>
                <a:cs typeface="Arabic Transparent"/>
              </a:rPr>
              <a:t>هل مِن نَجاةٍ في الصليبْ تَحمي البَعيدَ والقَريب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24360" y="0"/>
            <a:ext cx="611964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80880"/>
            <a:ext cx="297180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هلا أتى الروحُ القُدُسْ مُقَدِّساً ذا الجَسَدَ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ع ضَعفهِ وإثمهِ بهِ يحلُّ لِلمدى؟</a:t>
            </a:r>
            <a:r>
              <a:rPr b="0" lang="ar-SA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299120" y="0"/>
            <a:ext cx="48448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228600"/>
            <a:ext cx="3886200" cy="10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نعم نعم نعم يُجيبنا الإنج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آياتُهُ هيَ الدل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ليسَ الطبيبُ للسل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بل للسقيم بل للسقيمِ والعليل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0:24:23Z</dcterms:created>
  <dc:creator>SUZANNE.MD</dc:creator>
  <dc:description/>
  <dc:language>en-US</dc:language>
  <cp:lastModifiedBy>HANI SAFI</cp:lastModifiedBy>
  <dcterms:modified xsi:type="dcterms:W3CDTF">2003-03-17T14:27:39Z</dcterms:modified>
  <cp:revision>2</cp:revision>
  <dc:subject/>
  <dc:title>PowerPoint Presentation</dc:title>
</cp:coreProperties>
</file>