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CD2-08E6-4208-BD12-036C8124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1DD-289A-4019-ABA7-2E85BFB4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829-B917-4E14-9604-54F5EFA7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F5F-DE5F-42B8-A41C-CD12A729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D19-E83A-409C-BFBB-3E6B1DBA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8C6-1AD3-4D6F-95CF-9116BAE1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680-7380-4977-AAD4-22E8CA61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DEF-595B-4145-8F75-C089EDD4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C79-B7E0-4BB0-9AB3-878F63FA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C9A-E271-4757-B02D-4DE95E4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8C3-275E-498D-9A8C-43D288D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4CC-A0C7-44C7-8285-548F75D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4F06-7E42-49F4-AEF6-B0E13550A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81320" y="0"/>
            <a:ext cx="5062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4114800" cy="86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فلنُوَقِّرْ باحتِرامٍ 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سرَّ فادينا الصم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ولْيَزُلْ شَرعٌ قديمٌ  عندما السِّرُ استَجَد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Arial"/>
              </a:rPr>
              <a:t>أَقنعَ الإيمانُ حِساً  كانَ بالنقصِ جَحَد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14800" cy="11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وَلْيَكُ الآبُ مجيداً والذي منه اتَّلَد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ثمَّ روحٌ بانبثاقٍ  منهما قبلَ الأبد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فلنُوَقِّرْ باحتِرامٍ  سرَّ ثالوثٍ أحد. آمين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71760" y="0"/>
            <a:ext cx="5772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1240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ك: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أرسلتَ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لهم من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السماء خبزا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(هللويا)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ش: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يحتوي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كلَّ لذة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(هللويا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724280"/>
            <a:ext cx="9144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ك: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لهمَّ يا مَن تركتَ لنا ذِكرَ آلامِكَ في السرِّ العجيب، هَبْنا أن تكرِّمَ سرَّ جسدك ودمِك المقدس حتى نشعر دائماً في نفوسنا بثمرة فدائك. أنت الحي المالك إلى دهر الداهرين.                         ش: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آم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228600"/>
            <a:ext cx="3581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َكَ ال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ك اسمُه القدو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بارك يسوع المسيح، الإلهُ الحق والإنسانُ الح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80988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سم يسوع</a:t>
            </a: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قلبه الأق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يسوع في سر القربان الأقد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روح القدس المُعزي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0"/>
            <a:ext cx="3352680" cy="11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ت والدةُ الله   المعظمة، مريمُ     الفائقةُ القداسة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لحبل بها   المقدس، المنزه     عن كل عي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نتقالها    المجيد إلى السم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99"/>
                </a:solidFill>
                <a:latin typeface="Arial"/>
              </a:rPr>
              <a:t>تبارك اسم مريم العذراء، والأمِّ مع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228600"/>
            <a:ext cx="4114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قديس يوسف خِطّيبُها العفي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Arial"/>
              </a:rPr>
              <a:t>تبارك الله في ملائكته وقديسي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14:55:45Z</dcterms:created>
  <dc:creator>HANI SAFI</dc:creator>
  <dc:description/>
  <dc:language>en-US</dc:language>
  <cp:lastModifiedBy>HANI SAFI</cp:lastModifiedBy>
  <dcterms:modified xsi:type="dcterms:W3CDTF">2003-06-06T15:20:15Z</dcterms:modified>
  <cp:revision>1</cp:revision>
  <dc:subject/>
  <dc:title>Slide 1</dc:title>
</cp:coreProperties>
</file>