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CAC-4222-415A-B9BC-5689F300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73B-9AB8-4EE2-8333-7A12881C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E82-A235-4543-9FD1-1E00C3AB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57E-8875-4E08-822D-657CBF41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047-76FE-435A-B265-F443B775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E4E-DD82-48DA-85A1-A440535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6F5-84AF-493A-8040-0B51C35E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B7C-99BD-4B29-B938-A80268E4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924-E145-46FF-B495-5F72B256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A53-EF80-4CAF-A3BD-BA69BAA5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071-16C3-44C9-A5A9-95943017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20E-E1E0-4B3D-8B69-B13486E7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183D-C76E-4935-B945-7E5867276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8920606cRVWnM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71440"/>
            <a:ext cx="8915400" cy="11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حلوة السّم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شو بحبّ السم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يف بدّي أوصلاّ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إتلاقى بِألله  وعيش بِحما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شبّه يا ابني بالمسيح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 إيمانك أوعى تز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حياتو لْصَلّى صحيـح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ابني احفظ الوصاي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جنّب فعل الخطاي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فّي كل النوايــ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الأسرار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بإيمانــك لا تحتـا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ْْرا إنجيلك باسـتمرا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ارك ياابني بجماعـ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زرع الكلمة بشجـ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خْدوم الأخوة بوداعـ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وصــل عالسّــمــ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2-10-30T16:53:37Z</dcterms:modified>
  <cp:revision>10</cp:revision>
  <dc:subject/>
  <dc:title>PowerPoint Presentation</dc:title>
</cp:coreProperties>
</file>