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C7BC-C0B9-4A8E-9E37-C2CB547F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E929-B9B2-4A6D-86FE-7912ED77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60E2-1D1C-4BCB-9DF8-C0E5C358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3FC-7BAE-4E52-A74E-03649A0D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13EF-6B2C-4130-9226-C95D7292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1AB1-CB81-48FB-AEA7-635EF176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F306-25CC-49AC-B7EC-E76D23E7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2E66-0EFD-4F99-BB7C-C6759593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690F-C050-4274-A9BA-6E3BD0E1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3A14-E3B7-471E-9478-31E6FBCB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F376-D4DF-4BFC-8C87-1C541644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925-31B5-4D5D-A3FF-AA2A953F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2711-4641-4BC8-AE7E-EE506986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FE2A-3D56-4713-8A0D-52C74E34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155A-DEDD-4CDE-9A26-F5C376D9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D6CC-F1F9-4129-90AD-13865E49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3F80-D69A-404E-B13C-103CA289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ADF2-D243-409F-B64E-50B90A9A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4EA-899F-40A3-AA75-BE43E205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E4C-5A23-41ED-B588-482DDE0D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BA0-91EB-446F-8F38-A6844882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96A0-DD63-48A2-BF85-DC85C750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0468-792F-4626-8BBA-87FEA545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7902-8E15-4A14-99C0-B7EA064B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BD2F-E1BA-4010-AEB8-AE9A593888A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C0BC-642C-426F-A179-6959200D5F9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292640"/>
            <a:ext cx="6400800" cy="218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Tahoma"/>
                <a:cs typeface="????Boutros Rokaa"/>
              </a:rPr>
              <a:t>إيماني ساطع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200"/>
            </a:b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0"/>
            <a:ext cx="8686800" cy="104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ساطع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بحر 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الشمس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ea typeface="Akhbar MT"/>
              </a:rPr>
              <a:t>   الـمدى و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32000" y="304920"/>
            <a:ext cx="6012000" cy="1054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ا بيتكسَّر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لا بيتعب إ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29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إنتَ اللي ما بتنساني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1905120"/>
            <a:ext cx="861084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هما تأخر جايي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ا بيضيع اللي جايي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ا غفله بيوصَل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ن قلب</a:t>
            </a:r>
            <a:r>
              <a:rPr b="1" lang="ar-LB" sz="83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ضوّ من خَلف الغيم،</a:t>
            </a:r>
            <a:r>
              <a:rPr b="1" lang="ar-SA" sz="83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2057400"/>
            <a:ext cx="861084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ما حدا بيعرف</a:t>
            </a:r>
            <a:endParaRPr b="0" lang="en-US" sz="9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َللي جايي</a:t>
            </a:r>
            <a:endParaRPr b="0" lang="en-US" sz="99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يف بيبقى جايي. </a:t>
            </a:r>
            <a:endParaRPr b="0" lang="en-US" sz="9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0"/>
            <a:ext cx="8686800" cy="104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ساطع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بحر 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الشمس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ea typeface="Akhbar MT"/>
              </a:rPr>
              <a:t>   الـمدى و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32000" y="304920"/>
            <a:ext cx="6012000" cy="1054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ا بيتكسَّر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لا بيتعب إيماني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329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5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إنتَ اللي ما بتنساني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52280"/>
            <a:ext cx="8915400" cy="868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00"/>
                </a:solidFill>
                <a:latin typeface="Times New Roman"/>
                <a:cs typeface="Akhbar MT"/>
              </a:rPr>
              <a:t>أنا إيماني الفرح الوسيع ومن خلف العواصف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00"/>
                </a:solidFill>
                <a:latin typeface="Times New Roman"/>
                <a:cs typeface="Akhbar MT"/>
              </a:rPr>
              <a:t>جايي الربيع</a:t>
            </a:r>
            <a:r>
              <a:rPr b="1" lang="ar-LB" sz="9400" spc="-1" strike="noStrike">
                <a:solidFill>
                  <a:srgbClr val="ffff00"/>
                </a:solidFill>
                <a:latin typeface="Times New Roman"/>
                <a:ea typeface="Akhbar MT"/>
              </a:rPr>
              <a:t> 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8240" y="4319640"/>
            <a:ext cx="8610480" cy="475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00"/>
                </a:solidFill>
                <a:latin typeface="Times New Roman"/>
                <a:cs typeface="Akhbar MT"/>
              </a:rPr>
              <a:t>إذا كبـرت أحزاني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00"/>
                </a:solidFill>
                <a:latin typeface="Times New Roman"/>
                <a:cs typeface="Akhbar MT"/>
              </a:rPr>
              <a:t>ونسيني العمر التاني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329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5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نتَ اللي ما بتنساني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24:17Z</dcterms:created>
  <dc:creator>Charbel Azar</dc:creator>
  <dc:description/>
  <dc:language>en-US</dc:language>
  <cp:lastModifiedBy>-</cp:lastModifiedBy>
  <dcterms:modified xsi:type="dcterms:W3CDTF">2003-01-29T09:43:57Z</dcterms:modified>
  <cp:revision>6</cp:revision>
  <dc:subject/>
  <dc:title>PowerPoint Presentation</dc:title>
</cp:coreProperties>
</file>