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8526-A09D-4420-9D7A-967FB5D8B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C9A4-01DD-47F9-8F91-577F7C786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E8C7-EC78-4768-9BD5-D4008F0F2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6D42-710E-457B-B1C5-12488BEE9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CDCF-E8CA-4B40-8E50-CAAF1F945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7F21-C055-4B3F-AA38-F6D05D745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39E0-DABC-43AF-ABE2-15607350E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2918-866F-490B-9B7C-485F5474A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0ABD-A1FF-41AE-9074-04C9ABCF8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3CE7-D37E-410A-B67B-CF2F41F4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52DF-562E-41F7-8F0B-DF653029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B3BF-FD8F-4807-8829-BCA2DF29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78ECC-94D1-4D57-96A8-C6FE8A42E1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62560" y="0"/>
            <a:ext cx="37814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5334120" cy="89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معنا هو اللـه ، فاعلموا أيها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الأمم وانهزموا ، لأن الله معنا</a:t>
            </a:r>
            <a:r>
              <a:rPr b="0" lang="ar-SA" sz="40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 </a:t>
            </a: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إسمعوا الى أقصى الأرض 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أيها الأقوياء انهزموا 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لأنكم وإن قويتم ، أيضا ستغلبون </a:t>
            </a:r>
            <a:r>
              <a:rPr b="1" lang="ar-SA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..</a:t>
            </a:r>
            <a:r>
              <a:rPr b="0" lang="ar-SA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وأي مشورة عقدتم يبددها الرب </a:t>
            </a:r>
            <a:r>
              <a:rPr b="1" lang="ar-SA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..</a:t>
            </a:r>
            <a:r>
              <a:rPr b="0" lang="ar-SA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وأي قول قلتموه لا يثبت فيكم 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257800" y="0"/>
            <a:ext cx="72388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5257800" cy="91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لا نخاف خوفكم ولا نضطرب ..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إنما نقدس الرب إلهنا ونحبه ..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إذا توكلت عليه كان لي</a:t>
            </a: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قداسة..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فسأتوكل عليه وأخلص به ..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هأنذا والأبناء الذين أعطانيهم اللـه ..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يها الشعب السالك في الظلمة ، أبصر نورا عظيما ..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4876920" cy="76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نـحن السالكين في بقعة الـموت وظلاله يشرقُ علينا نورا ..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لأنه قد ولد لنا ولدٌ ، وأعطي لنا إبنٌ ..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صارت رئاسته على كتفه ..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لا حــد لسلامه ...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يدعى اسـمه رسول الـمشورة العظيمة ..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876920" y="0"/>
            <a:ext cx="426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638680" y="0"/>
            <a:ext cx="39052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228600"/>
            <a:ext cx="5638680" cy="85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مشيراً عـجيبـاً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إلهاً قوياً مسلَّطاً ، رئيس السلام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أبا الدهر الآتـي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المجـد للآب والإبـن والروح القدس ، لأن اللـه معنا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الآن وكل أوان والى دهر الداهرين ، آمين ، لأن اللـه معنا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معنا هو اللـه ، فاعلموا أيها الأمم وانهزموا ، لأن اللـه معنا</a:t>
            </a:r>
            <a:r>
              <a:rPr b="1" i="1" lang="ar-SA" sz="36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.</a:t>
            </a:r>
            <a:r>
              <a:rPr b="0" i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2T07:42:55Z</dcterms:created>
  <dc:creator>SUZANNE.MD</dc:creator>
  <dc:description/>
  <dc:language>en-US</dc:language>
  <cp:lastModifiedBy>HANI SAFI</cp:lastModifiedBy>
  <dcterms:modified xsi:type="dcterms:W3CDTF">2003-03-14T12:30:32Z</dcterms:modified>
  <cp:revision>2</cp:revision>
  <dc:subject/>
  <dc:title>PowerPoint Presentation</dc:title>
</cp:coreProperties>
</file>