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940-9821-4039-8012-135BEEB9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911-8CDF-4050-92D8-009430B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9A1-E2BA-4A61-90BA-0A7AA9AC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229-84F1-4477-95D2-DA5EA56F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9F9-3F4E-4B66-A140-F73DC680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B1F-B374-46E2-A278-A1FF8259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083-35AD-4E7B-9268-4388A385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581-76C3-46FE-B76A-CD26CAF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672-7781-48C6-A25A-39F9EBE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50E-A2EE-4784-8CE7-2255C5A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4D4-F66C-48C7-9F81-FE3B4B2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B24-2529-4715-A920-35D0706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F65-B44D-4EE1-A4FF-257C8F17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691135lGdOucJlFy_t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343400"/>
            <a:ext cx="914400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الشمس الغابت عنّا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هالنور اللي ضاع منّ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خلّيك بدالن عنا إنتَ الشمس الما ب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ّا يا يسوع لا تغ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5165XyvNDoekpU_ph" descr=""/>
          <p:cNvPicPr/>
          <p:nvPr/>
        </p:nvPicPr>
        <p:blipFill>
          <a:blip r:embed="rId1"/>
          <a:stretch/>
        </p:blipFill>
        <p:spPr>
          <a:xfrm>
            <a:off x="320040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200400" cy="10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سوع علّمني حِبَّ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ربِّ اهديني عَ درب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طول خليني بقربك يسوع يا أحلى نص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0715297pOlRBJDxOQ_ph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571500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عنور صُبحك وع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بنهارَك رحنا وج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يا ما عا دروب مشينا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الدَربَك دربِ الصليب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نّا يا يسوع لا تغيب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17:37Z</dcterms:created>
  <dc:creator>SUZANNE.MD</dc:creator>
  <dc:description/>
  <dc:language>en-US</dc:language>
  <cp:lastModifiedBy>SUZANNE.MD</cp:lastModifiedBy>
  <dcterms:modified xsi:type="dcterms:W3CDTF">2003-03-18T06:39:54Z</dcterms:modified>
  <cp:revision>1</cp:revision>
  <dc:subject/>
  <dc:title>PowerPoint Presentation</dc:title>
</cp:coreProperties>
</file>