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786-F759-4E53-930D-42939723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8734-693D-4878-9D41-C219F8DF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FDD-916E-42A3-ADA7-9C907074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45AE-2326-43F5-BA2F-6FF204D3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307-6E6F-4D3D-995A-9A89F40A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8F72-BDC8-4A3C-9096-405C44AB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10D-F743-4B93-9574-51F420DF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21F-65F3-48C9-87BE-96748E13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C2C-8F46-4E93-8FD0-801C1B45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668-727C-470E-9A91-5AB97467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FA8-FC00-465C-82B9-C8CC6C3E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E3F-C6DE-4A2E-9DF4-9A246CF3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B7C1-E439-4DC5-9E20-03B4C0DCE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003640" cy="21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نتم الذين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بالمسيح اعتمدتم.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المسيح قد لبستم. هللويا..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Arial"/>
                <a:cs typeface="Akhbar MT"/>
              </a:rPr>
              <a:t>بإعتمادك يا ربّ في نهر الأردن ظهر السجود للثالوث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6000" y="216000"/>
            <a:ext cx="4572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Arial"/>
                <a:cs typeface="Akhbar MT"/>
              </a:rPr>
              <a:t>فإنَّ صوتِ الآب كان يشهدُ لكَ مسمّياً إيّاكَ ابناً محبو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Arial"/>
                <a:cs typeface="Akhbar MT"/>
              </a:rPr>
              <a:t>والروح بهيئةِ حمامة يؤكّدُ حقيقةَ الكلم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Arial"/>
                <a:cs typeface="Akhbar MT"/>
              </a:rPr>
              <a:t>فيا من ظَهَرَ وأنَار العالم أيها المسيحُ الإله، يا ربّ المجدُ لك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3:13:41Z</dcterms:created>
  <dc:creator>Charbel Azar</dc:creator>
  <dc:description/>
  <dc:language>en-US</dc:language>
  <cp:lastModifiedBy>Charbel Azar</cp:lastModifiedBy>
  <dcterms:modified xsi:type="dcterms:W3CDTF">2003-01-05T13:26:49Z</dcterms:modified>
  <cp:revision>5</cp:revision>
  <dc:subject/>
  <dc:title>أنتم الذين بالمسيح اعتمدتم. المسيح قد لبستم. هللويا...</dc:title>
</cp:coreProperties>
</file>