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398F-10D5-451E-BD0D-48B04805B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911B-4775-486A-B7E5-42C99D33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0D69-5DDB-4E88-8EEC-28009514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F7AB-A722-45BC-AE32-E297831B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C270-B9EE-4091-BA73-E280D427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3808-40A5-4897-A2AF-6985D9B2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2BA3-6866-4F75-A31D-F7163E2F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B9FE-16D5-4488-87EA-D5DD2B01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CFC9-8A6A-411C-962B-0562DFF1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9C82-3EA1-4DCA-AB28-796CF484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D7BF-5DF3-486C-BF06-B41374E7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1B67-F55E-4C4E-87B9-9E1F795A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008E-FD38-4F3A-815B-78FFBEF7D0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349360"/>
            <a:ext cx="9144000" cy="22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0" spc="-1" strike="noStrike">
                <a:solidFill>
                  <a:srgbClr val="ffffff"/>
                </a:solidFill>
                <a:latin typeface="Arial"/>
                <a:cs typeface="????Boutros Rokaa"/>
              </a:rPr>
              <a:t>أنتم ملح الأرض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931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أنتُم ملحُ الأرض، فإذا فَسَدَ الملحُ فأيُّ شيءٍ يُمَلِّحُهُ، إنه لا يصلُحُ إلاّ لأن يُطرَحَ في خارجِ الدارِ فيدوسه النا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777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  <a:cs typeface="Akhbar MT"/>
              </a:rPr>
              <a:t>أنتُم نورُ العالَم، لا تَخفَى مدينةٌ على جبل، ولا يوقدُ سراجٌ فيوضعَ تحتَ المِكيال، بَلْ على المنارةِ ليُضيءَ لجميع الذينَ هُم في البي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941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ليُضئ نورُكُم هكذا للناس لِيَروا أعمالَكُم الصالِحَة فيمجِّدوا أباكُم الذي في السماوا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20:21:46Z</dcterms:created>
  <dc:creator>Charbel Azar</dc:creator>
  <dc:description/>
  <dc:language>en-US</dc:language>
  <cp:lastModifiedBy>ف</cp:lastModifiedBy>
  <dcterms:modified xsi:type="dcterms:W3CDTF">2006-04-09T17:59:15Z</dcterms:modified>
  <cp:revision>5</cp:revision>
  <dc:subject/>
  <dc:title>Slide 1</dc:title>
</cp:coreProperties>
</file>