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E960-FD42-4FB2-8B13-BFFA47C1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C88B-AB8A-404F-9A3E-C14CC21D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26C6-5F59-4DD5-AA20-F9FE27344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B811-B017-446D-A8E4-4FFF9342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8AAC-96A0-4AE7-965E-50A51C7CF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714E-7CA3-484E-BD35-DF929F91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6B0B-560C-4975-838E-1E5928C9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01CF-1760-4407-9203-F83B53F4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A3B5-3C06-4196-A359-425A36DD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87A9-FBDB-42F2-86D8-74DC2E1C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6BB5-1D8B-4F40-8EBB-851BAEA1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07E0-6CD3-4D50-B26A-57A7DFCA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BE63-7C97-4A09-AF38-A242F878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7949-0F45-44EB-96E1-B7641EE0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00EC-5577-4DF6-8BCB-930402F8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1921-FB03-4559-88AF-F474198EA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0FB9-6137-4DEB-9EC4-418A2D9E5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51B5-C670-4A84-A128-8EEEABF2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1792-E2FC-41E9-89F5-CF8DB1B2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9E23-56C4-4167-A0ED-5C5510B4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C336-11D6-4435-B992-DC960C89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8ACB-6F10-49A9-B6D1-A63F7011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988D-5F6D-44B4-A832-0C795EA8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1A39-D826-4736-8666-2D7384C4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A86B-04D3-4658-ACF7-C62C88CD8E4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5907-2BC2-446E-973D-324B2B730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115920"/>
            <a:ext cx="6084720" cy="227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????Boutros Rokaa"/>
              </a:rPr>
              <a:t>سهران كل اللي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0"/>
            <a:ext cx="5508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هران كلّ اللي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م صلّيل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ِنجوم تغف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شمع حدّي يدو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995640" y="0"/>
            <a:ext cx="5148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سوع حلم الكون خدني بإيد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ا درب إلـمَ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جَّك المحبوب</a:t>
            </a:r>
            <a:r>
              <a:rPr b="1" lang="ar-LB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2708280"/>
            <a:ext cx="9144000" cy="263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مشي وفتّش عالطريق مْنَين لِجبال إطلع إقطَع الوديان</a:t>
            </a:r>
            <a:r>
              <a:rPr b="1" lang="ar-LB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1773360"/>
            <a:ext cx="9144000" cy="299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الشمس أو بالبحر إنت وَي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3429000"/>
            <a:ext cx="9144000" cy="278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مّا بزهره معطرة البستا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0"/>
            <a:ext cx="5508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هران كلّ اللي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م صلّيل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ِنجوم تغف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شمع حدّي يدو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77724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4T19:09:52Z</dcterms:created>
  <dc:creator>Charbel Azar</dc:creator>
  <dc:description/>
  <dc:language>en-US</dc:language>
  <cp:lastModifiedBy>ف</cp:lastModifiedBy>
  <dcterms:modified xsi:type="dcterms:W3CDTF">2006-04-11T09:52:50Z</dcterms:modified>
  <cp:revision>6</cp:revision>
  <dc:subject/>
  <dc:title>Slide 1</dc:title>
</cp:coreProperties>
</file>