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5B31-8A42-49A9-90A6-119198BAD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5C6E-6CE3-4E21-AE78-E9F0A7E3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090C-6683-4248-944C-C17B84DE3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C3A5-5ED2-42CF-9BE3-3EDFAC562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41E3-EF47-4ACE-87AB-BDCC05A2D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9581-D51E-478F-B749-4FABCFC2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260E-261B-4B72-B192-00B284E1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CD7B-0ACD-4D49-906E-FBD9714F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C980-9C36-4CED-9BB6-0283172C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CFA8-1DB6-44BF-869F-655CA12D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7A9F-EBD0-42E0-A1DD-665F799B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98E9-EAD9-49FE-9E2F-3E3D626C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594B-5BFD-4979-A50F-F05D5C4E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02D3-8D0C-4C0D-A377-9AF3A205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A755-AB16-443C-882B-6D981373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BD05-5161-497F-A985-F0E057C3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9EB4-2CBF-4FB7-A23F-6ECF7AAC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1BD2-7F5F-4792-989A-633C5060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3F41-112F-4F8B-93D2-4C7EA5DB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906C-E607-4C66-9774-0E2C5F1C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FD0A-6ACC-4F14-8FB1-CAB4C24C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A043-AC6A-447F-8D01-70C6C748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A6AC-969E-45F6-909C-CED1EDCB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27A8-4B41-4DF7-A679-F06E3EE8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0AD9-53BD-402B-A362-8F81CB796A0C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072C-CC38-45DA-AD61-0E4E13B27827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057400"/>
            <a:ext cx="5105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  <a:cs typeface="????Boutros Rokaa"/>
              </a:rPr>
              <a:t>بصوت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  <a:cs typeface="????Boutros Rokaa"/>
              </a:rPr>
              <a:t>إلى الر بِ أصرخُ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48320" y="1905120"/>
            <a:ext cx="44956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صوتي إلـى الربِ أصرخُ، بصوتي إلـى الربِ أتضرَّعُ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5257800"/>
            <a:ext cx="91440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أسكبُ أمامَهُ شكوايَ 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675320"/>
            <a:ext cx="9144000" cy="427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بُثُّ لديهِ ضيقي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003640"/>
            <a:ext cx="9144000" cy="362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9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ندما يُغشى على روحي فـيَّ </a:t>
            </a:r>
            <a:endParaRPr b="0" lang="en-US" sz="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648320" y="1905120"/>
            <a:ext cx="44956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صوتي إلـى الربِ أصرخُ، بصوتي إلـى الربِ أتضرَّعُ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89" name=""/>
          <p:cNvSpPr/>
          <p:nvPr/>
        </p:nvSpPr>
        <p:spPr>
          <a:xfrm>
            <a:off x="0" y="1981080"/>
            <a:ext cx="579132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د بادَ عنّي كلُّ ملجأ، ليسَ من يسألُ عن نفسي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48320" y="1905120"/>
            <a:ext cx="44956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صوتي إلـى الربِ أصرخُ، بصوتي إلـى الربِ أتضرَّعُ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981080"/>
            <a:ext cx="601992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صرختُ إليكَ ياربّي. قلتُ أنتَ مُعتَصَمي. أنتَ حظّي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أرضِ الأحياء.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648320" y="1905120"/>
            <a:ext cx="44956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صوتي إلـى الربِ أصرخُ، بصوتي إلـى الربِ أتضرَّعُ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6:11Z</dcterms:created>
  <dc:creator>Charbel Azar</dc:creator>
  <dc:description/>
  <dc:language>en-US</dc:language>
  <cp:lastModifiedBy>Charbel Azar</cp:lastModifiedBy>
  <dcterms:modified xsi:type="dcterms:W3CDTF">2003-02-13T13:30:50Z</dcterms:modified>
  <cp:revision>8</cp:revision>
  <dc:subject/>
  <dc:title>PowerPoint Presentation</dc:title>
</cp:coreProperties>
</file>