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213-51BD-4E1D-9C86-45787B19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4FF-5BBA-4905-842D-4F23C53A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A12-CBC4-450C-90FC-7D995D8E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314-AEC6-4A86-888E-771107D2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1DF-E7EF-4C7C-8274-D3C9048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426-C41E-4D30-92D9-FA97FBFD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02C-35DF-41FE-B86E-1599137C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3FE-B0B7-4499-AD82-2FE60390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7CE-4EFD-46A3-9CE6-B04158A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375-2B06-498F-B3C7-9828696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F93-2C93-4622-9CB0-CE07E45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DBB-F281-42E7-95B2-CF04F0E5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44FF-61F9-44AC-9027-6C81F73BC5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30000"/>
              </a:lnSpc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Arial"/>
                <a:cs typeface="????Boutros Rokaa"/>
              </a:rPr>
              <a:t>إني حبة القمح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إِنّي حَبَّةُ القَمْح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ذُقْتُ الْمَوْتَ كَيْ أَحْيَ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قَلْبي مِن طَعْنِ الرُّمْح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أَسْقَى حُبَّهُ الدُّنْيَ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قُوتاً رُوحياً حَيّا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ِلرُّسْلِ قَالَ الرَّبُ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ِمْ أَنْتُمْ مَحْزونو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أْسَوْا لا تَغْتَمّو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سُلْطَانَ فِي الدُّنْي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َغْلِبُ الْمُحِبّين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-17136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11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بالمجدِ يَومِي آتٍ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طَالِعٌ مِن بَحْرِ النّورِ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فِي خَفْقِ نَصْرٍ حَيّ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يَعْلو هاماتِ الدّهور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Arial"/>
                <a:cs typeface="Akhbar MT"/>
              </a:rPr>
              <a:t>إِذ إِنّي نُورٌ مِن نُور.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9:30:44Z</dcterms:created>
  <dc:creator>Charbel Azar</dc:creator>
  <dc:description/>
  <dc:language>en-US</dc:language>
  <cp:lastModifiedBy>-</cp:lastModifiedBy>
  <dcterms:modified xsi:type="dcterms:W3CDTF">2003-01-17T08:42:37Z</dcterms:modified>
  <cp:revision>6</cp:revision>
  <dc:subject/>
  <dc:title>Slide 1</dc:title>
</cp:coreProperties>
</file>