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332-DC1E-4842-954A-9B96D1CE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85F-80E1-4CF2-8468-B9621656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2EA-D863-4F04-B0EF-C9226F27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4F0-6FEE-426D-B10A-9542F519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395-DBE9-417A-96B4-958EAAF8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A8B-FE1D-4F4D-809E-CBCC0B6F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8B6-8C45-45E1-AFAB-AE79E3C2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16E-F525-451E-9026-3973718C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DB3-DADD-4287-9CC4-F6BDEFB3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5F2-A7A4-4F51-8561-965D64A3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D86-50F0-4285-9C68-2F9C4C39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9C3-0F86-4CFE-A9F1-79E00A1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459-9717-4886-8B4D-2ECEEFA23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0056642" descr=""/>
          <p:cNvPicPr/>
          <p:nvPr/>
        </p:nvPicPr>
        <p:blipFill>
          <a:blip r:embed="rId1"/>
          <a:stretch/>
        </p:blipFill>
        <p:spPr>
          <a:xfrm>
            <a:off x="88920" y="0"/>
            <a:ext cx="6159600" cy="7467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934320" y="1066680"/>
            <a:ext cx="1600200" cy="618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ني الشِّراع وأنت الري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ا ارحل بي حيثما تشا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8759276TYylZkDPE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Simplified Arabic"/>
              </a:rPr>
              <a:t>إني اليراع وأنت الفكر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هيا اكتب بي كيفما تشاء</a:t>
            </a:r>
            <a:r>
              <a:rPr b="0" lang="ar-SA" sz="4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8759592UQcUqtBtCr_ph" descr=""/>
          <p:cNvPicPr/>
          <p:nvPr/>
        </p:nvPicPr>
        <p:blipFill>
          <a:blip r:embed="rId1"/>
          <a:stretch/>
        </p:blipFill>
        <p:spPr>
          <a:xfrm>
            <a:off x="-228600" y="0"/>
            <a:ext cx="931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609480"/>
            <a:ext cx="61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49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ني الغيثار وأنت اللح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هيا اعزف بي قدر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120828BWPsejpKHE_ph" descr=""/>
          <p:cNvPicPr/>
          <p:nvPr/>
        </p:nvPicPr>
        <p:blipFill>
          <a:blip r:embed="rId1"/>
          <a:stretch/>
        </p:blipFill>
        <p:spPr>
          <a:xfrm>
            <a:off x="-533520" y="-57240"/>
            <a:ext cx="9677520" cy="691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43800" y="117360"/>
            <a:ext cx="169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ورقةٌ بيضاء أرسم عليه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كل ما تشا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65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1311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ربي</a:t>
            </a:r>
            <a:r>
              <a:rPr b="1" lang="en-US" sz="40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نا ورقةٌ بيضاء أرسم عليها كل ما تش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938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1:04:53Z</dcterms:created>
  <dc:creator>USER</dc:creator>
  <dc:description/>
  <dc:language>en-US</dc:language>
  <cp:lastModifiedBy>USER</cp:lastModifiedBy>
  <dcterms:modified xsi:type="dcterms:W3CDTF">2003-02-21T03:21:33Z</dcterms:modified>
  <cp:revision>4</cp:revision>
  <dc:subject/>
  <dc:title>PowerPoint Presentation</dc:title>
</cp:coreProperties>
</file>