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96F-4488-4BE1-8135-E01AF335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605-4B9A-421F-9666-582C8EF1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1DE-9814-4518-962F-5E63F121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348-5F96-4A6E-883A-D898F2A8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116-3BD8-454E-B6A6-3D98FD61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6C5-BBED-452B-AD4F-73FA5282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330-B01D-48AE-BBF5-3DDAC619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2A6-8E57-4A14-9C4D-1175A3FA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EC3-70B9-40FE-AA10-AD99041D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343-89D4-4C95-894B-8A9F9A81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2E1-8733-4B48-A593-8261068C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032-E51D-4CC4-AB79-FF2E99C6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4283-6981-4D41-A982-9EC402BDB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839130pPYJDRksSW_ph" descr=""/>
          <p:cNvPicPr/>
          <p:nvPr/>
        </p:nvPicPr>
        <p:blipFill>
          <a:blip r:embed="rId1"/>
          <a:stretch/>
        </p:blipFill>
        <p:spPr>
          <a:xfrm>
            <a:off x="0" y="-228600"/>
            <a:ext cx="6553080" cy="739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53080" y="380880"/>
            <a:ext cx="2590920" cy="71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abic Transparent"/>
              </a:rPr>
              <a:t>رنموا للرب ترنيما جديد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abic Transparent"/>
              </a:rPr>
              <a:t>أحسنوا العزف مع الهتا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abic Transparent"/>
              </a:rPr>
              <a:t>فرحين مرن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L275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533520"/>
            <a:ext cx="304812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إعترفوا له بالكنارة وبعشاري الأوتا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شيدوا له، رنّم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إن التسبيح يجمُلُ بالمستقي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95687_ph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53080" y="0"/>
            <a:ext cx="2590920" cy="9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لرب يحب البرَّ والعدلَ، ومن محبته امتلأتِ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به تبتهجُ قلوبنا وعيوننا، فهو نُصرَتُنا وملجا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عليه توكل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09:46:17Z</dcterms:created>
  <dc:creator>SUZANNE.MD</dc:creator>
  <dc:description/>
  <dc:language>en-US</dc:language>
  <cp:lastModifiedBy>SUZANNE.MD</cp:lastModifiedBy>
  <dcterms:modified xsi:type="dcterms:W3CDTF">2002-12-09T06:42:17Z</dcterms:modified>
  <cp:revision>3</cp:revision>
  <dc:subject/>
  <dc:title>PowerPoint Presentation</dc:title>
</cp:coreProperties>
</file>