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8FF-C651-46EB-AA73-7C686327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203-1967-4618-88B5-718CC1EF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45E-220E-481E-9648-050CFADD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55F-6316-4CDF-A011-F8383C1C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2B1-3AFE-4ECD-A631-46533850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C85-AD59-4FAA-8337-44D8A680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2F5-68A2-4FBC-9264-E31CB7C0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E53-A86D-419B-82E9-D07E70A9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69D-0A2F-4C5D-B10C-133B5FE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11F-8B90-4690-9C41-27F9237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23A-369A-486D-925E-9E98F9B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281-A1BF-4B0F-B99B-5C34CC9D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D8C7-2D8F-455C-BC97-71ABBB7215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27220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أعظمك يا إلهي الملك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03960" y="-3240"/>
            <a:ext cx="8258040" cy="69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رَبُّ صَالِح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لجمِيع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مَرَاحِمُهُ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لى كُلِّ صَنَائِعِهِ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66360" y="0"/>
            <a:ext cx="7085880" cy="69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رَبُّ أمِين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كُلِّ أقوالِه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بَارٌ في جَمِيع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مَال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055160" y="44280"/>
            <a:ext cx="6217200" cy="73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لرَبُّ قَرِيبٌ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ِنْ جَميع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دُعَاتِه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0:41:19Z</dcterms:created>
  <dc:creator>Charbel Azar</dc:creator>
  <dc:description/>
  <dc:language>en-US</dc:language>
  <cp:lastModifiedBy>-</cp:lastModifiedBy>
  <dcterms:modified xsi:type="dcterms:W3CDTF">2003-01-14T17:18:59Z</dcterms:modified>
  <cp:revision>10</cp:revision>
  <dc:subject/>
  <dc:title>Slide 1</dc:title>
</cp:coreProperties>
</file>