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356EB-C767-435E-BD71-F046516F6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8EA59-FF21-44A1-BD81-C4A8187CA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A6CF3-CE6C-4125-9481-4492D98FF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0CE7C-EB8C-4E5A-912E-F22D28770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F0CB7-BADA-4D76-B996-5488CAE33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14B0E-A93E-4753-8EAC-92D2976C9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2BB64-5CA1-4D5F-AC20-91776C585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1E051-1041-4812-AF77-6785CF7A9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54A9F-D3A3-4B2C-A2F5-D1F41B42E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31CE1-AB21-4F6F-9E63-C187C06CA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5BBE9-B5CC-412C-82A5-709E9D4F8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7FC50-4173-4D56-988F-86B48FEE3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77B0E-4793-47CE-B860-08D168383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AC3D3-94E4-4547-9442-69B57E0A8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E86FE-6D19-44C9-9C51-45DE59471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D16B4-3554-4DE9-A000-6EA26A53E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4925A-88DC-4DE5-B141-21645D7DE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E49D9-D611-42A2-8D49-C57EC9956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52DF8-919B-4FFC-9EDA-ACC692C9E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C8C1F-E779-4893-BA8E-D96CA9E2A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951D2-EFEB-4CE5-A85B-43F102CF0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A84A3-8511-4217-8DA9-4CB857A78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913F0-7A8B-46CB-A6F6-FB2A5F597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CBEDD-6A72-45CC-B055-F7D78893C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6E1A2-4FDA-402D-92A1-968903882A9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BC9B5-E9DB-430C-A865-660A02D2967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b5f03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 u="sng">
                <a:solidFill>
                  <a:srgbClr val="ffffff"/>
                </a:solidFill>
                <a:uFillTx/>
                <a:latin typeface="Times New Roman"/>
                <a:cs typeface="????Boutros Rokaa"/>
              </a:rPr>
              <a:t>لأن إلى الأبد رحمته هللوا للر بّ</a:t>
            </a:r>
            <a:r>
              <a:rPr b="0" lang="ar-SA" sz="8000" spc="-1" strike="noStrike" u="sng">
                <a:solidFill>
                  <a:srgbClr val="ffffff"/>
                </a:solidFill>
                <a:uFillTx/>
                <a:latin typeface="Times New Roman"/>
                <a:ea typeface="Akhbar MT"/>
              </a:rPr>
              <a:t> 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اعترفوا للربّ فإنّهُ صالحٌ.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اعترفوا لإله الالهة وربّ الأرباب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لصانع المعجزات العظام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وحده والسماوات.</a:t>
            </a:r>
            <a:endParaRPr b="1" lang="en-US" sz="80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p:transition spd="slow"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b5f03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 u="sng">
                <a:solidFill>
                  <a:srgbClr val="ffffff"/>
                </a:solidFill>
                <a:uFillTx/>
                <a:latin typeface="Times New Roman"/>
                <a:cs typeface="????Boutros Rokaa"/>
              </a:rPr>
              <a:t>لأن إلى الأبد رحمته هللوا للر بّ</a:t>
            </a:r>
            <a:r>
              <a:rPr b="0" lang="ar-SA" sz="8000" spc="-1" strike="noStrike" u="sng">
                <a:solidFill>
                  <a:srgbClr val="ffffff"/>
                </a:solidFill>
                <a:uFillTx/>
                <a:latin typeface="Times New Roman"/>
                <a:ea typeface="Akhbar MT"/>
              </a:rPr>
              <a:t> 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لباسط الأرض على المياه ولصانع النيرات العظيمة وحده.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صنع الشمس لتسود في النهار والقمر والكواكب لتسود في الليل.</a:t>
            </a:r>
            <a:endParaRPr b="1" lang="en-US" sz="80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b5f03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7200" spc="-1" strike="noStrike" u="sng">
                <a:solidFill>
                  <a:srgbClr val="ffffff"/>
                </a:solidFill>
                <a:uFillTx/>
                <a:latin typeface="Times New Roman"/>
                <a:cs typeface="????Boutros Rokaa"/>
              </a:rPr>
              <a:t>لأن إلى الأبد رحمته هللوا للر بّ</a:t>
            </a:r>
            <a:r>
              <a:rPr b="0" lang="ar-SA" sz="7200" spc="-1" strike="noStrike" u="sng">
                <a:solidFill>
                  <a:srgbClr val="ffffff"/>
                </a:solidFill>
                <a:uFillTx/>
                <a:latin typeface="Times New Roman"/>
                <a:ea typeface="Akhbar MT"/>
              </a:rPr>
              <a:t> </a:t>
            </a:r>
            <a:br>
              <a:rPr sz="7200"/>
            </a:br>
            <a:r>
              <a:rPr b="1" lang="ar-SA" sz="7800" spc="-1" strike="noStrike">
                <a:solidFill>
                  <a:srgbClr val="ffffff"/>
                </a:solidFill>
                <a:latin typeface="Times New Roman"/>
                <a:cs typeface="Akhbar MT"/>
              </a:rPr>
              <a:t>الذي شقّ البحر الأحمر الى شطرين واقتاد شعبه في وسطه وفي البرية.</a:t>
            </a:r>
            <a:br>
              <a:rPr sz="7800"/>
            </a:br>
            <a:r>
              <a:rPr b="1" lang="ar-SA" sz="7800" spc="-1" strike="noStrike">
                <a:solidFill>
                  <a:srgbClr val="ffffff"/>
                </a:solidFill>
                <a:latin typeface="Times New Roman"/>
                <a:cs typeface="Akhbar MT"/>
              </a:rPr>
              <a:t>لأن الربّ ذكرنا في مذلّتنا</a:t>
            </a:r>
            <a:br>
              <a:rPr sz="7800"/>
            </a:br>
            <a:r>
              <a:rPr b="1" lang="ar-SA" sz="7800" spc="-1" strike="noStrike">
                <a:solidFill>
                  <a:srgbClr val="ffffff"/>
                </a:solidFill>
                <a:latin typeface="Times New Roman"/>
                <a:cs typeface="Akhbar MT"/>
              </a:rPr>
              <a:t>وخلَّصنا من أعدائنا.</a:t>
            </a:r>
            <a:endParaRPr b="1" lang="en-US" sz="78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b5f03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 u="sng">
                <a:solidFill>
                  <a:srgbClr val="ffffff"/>
                </a:solidFill>
                <a:uFillTx/>
                <a:latin typeface="Times New Roman"/>
                <a:cs typeface="????Boutros Rokaa"/>
              </a:rPr>
              <a:t>لأن إلى الأبد رحمته هللوا للر بّ</a:t>
            </a:r>
            <a:r>
              <a:rPr b="0" lang="ar-SA" sz="8000" spc="-1" strike="noStrike" u="sng">
                <a:solidFill>
                  <a:srgbClr val="ffffff"/>
                </a:solidFill>
                <a:uFillTx/>
                <a:latin typeface="Times New Roman"/>
                <a:ea typeface="Akhbar MT"/>
              </a:rPr>
              <a:t> </a:t>
            </a:r>
            <a:br>
              <a:rPr sz="8000"/>
            </a:br>
            <a:r>
              <a:rPr b="1" lang="ar-SA" sz="8700" spc="-1" strike="noStrike">
                <a:solidFill>
                  <a:srgbClr val="ffffff"/>
                </a:solidFill>
                <a:latin typeface="Times New Roman"/>
                <a:cs typeface="Akhbar MT"/>
              </a:rPr>
              <a:t>الذي يرزق كلّ جسد طعامه</a:t>
            </a:r>
            <a:r>
              <a:rPr b="1" lang="ar-SA" sz="8700" spc="-1" strike="noStrike">
                <a:solidFill>
                  <a:srgbClr val="ffffff"/>
                </a:solidFill>
                <a:latin typeface="Times New Roman"/>
                <a:ea typeface="Akhbar MT"/>
              </a:rPr>
              <a:t>	</a:t>
            </a:r>
            <a:br>
              <a:rPr sz="8700"/>
            </a:br>
            <a:r>
              <a:rPr b="1" lang="ar-SA" sz="8700" spc="-1" strike="noStrike">
                <a:solidFill>
                  <a:srgbClr val="ffffff"/>
                </a:solidFill>
                <a:latin typeface="Times New Roman"/>
                <a:cs typeface="Akhbar MT"/>
              </a:rPr>
              <a:t>اعترفوا لإله السماء سبّحوه ومجّدوه إلى الأبد.</a:t>
            </a:r>
            <a:endParaRPr b="1" lang="en-US" sz="87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5T11:55:33Z</dcterms:created>
  <dc:creator>Charbel Azar</dc:creator>
  <dc:description/>
  <dc:language>en-US</dc:language>
  <cp:lastModifiedBy>Charbel Azar</cp:lastModifiedBy>
  <dcterms:modified xsi:type="dcterms:W3CDTF">2003-01-25T11:58:13Z</dcterms:modified>
  <cp:revision>1</cp:revision>
  <dc:subject/>
  <dc:title>لأن إلى الأبد رحمته هللوا للر بّ  اعترفوا للربّ فإنّهُ صالحٌ. اعترفوا لإله الالهة وربّ الأرباب لصانع المعجزات العظام وحده والسماوات.</dc:title>
</cp:coreProperties>
</file>