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911B-1307-446F-8D18-CC270967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822A-3F9B-4A17-B96D-1DB6D0E0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58E-4116-4B4F-8EDC-50AAAC5B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41E-3B59-408F-A2FD-A5319F17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60E-F270-49BC-8E2E-672DE0FF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3EF-3F1E-43AC-8868-194275D7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14F-585E-49E9-B8BB-46CE8452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7A9-5AA0-409F-B044-9333999D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A76-8E10-4910-B1BA-A67C7A4B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430-3D8B-4513-8782-2E3DC909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C35C-2CE3-4737-A200-B066F161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F28-55A2-4A0A-BD3E-F0D86DB0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652E-5680-47DB-8022-44EC498D9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20828BWPsejpKHE_ph" descr=""/>
          <p:cNvPicPr/>
          <p:nvPr/>
        </p:nvPicPr>
        <p:blipFill>
          <a:blip r:embed="rId1"/>
          <a:stretch/>
        </p:blipFill>
        <p:spPr>
          <a:xfrm>
            <a:off x="-533520" y="-57240"/>
            <a:ext cx="967752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43800" y="117360"/>
            <a:ext cx="169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رقةٌ بيضاء أرسم عل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 ما تش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65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520"/>
            <a:ext cx="1311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</a:t>
            </a:r>
            <a:r>
              <a:rPr b="1" lang="en-US" sz="40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ورقةٌ بيضاء أرسم عليها كل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93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056642" descr=""/>
          <p:cNvPicPr/>
          <p:nvPr/>
        </p:nvPicPr>
        <p:blipFill>
          <a:blip r:embed="rId1"/>
          <a:stretch/>
        </p:blipFill>
        <p:spPr>
          <a:xfrm>
            <a:off x="88920" y="0"/>
            <a:ext cx="6159600" cy="7467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934320" y="1066680"/>
            <a:ext cx="1600200" cy="6188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ني الشِّراع وأنت الري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يا ارحل بي حيثما تشا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120828BWPsejpKHE_ph" descr=""/>
          <p:cNvPicPr/>
          <p:nvPr/>
        </p:nvPicPr>
        <p:blipFill>
          <a:blip r:embed="rId1"/>
          <a:stretch/>
        </p:blipFill>
        <p:spPr>
          <a:xfrm>
            <a:off x="-533520" y="-57240"/>
            <a:ext cx="9677520" cy="6915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43800" y="117360"/>
            <a:ext cx="169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رقةٌ بيضاء أرسم عل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 ما تش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65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3520"/>
            <a:ext cx="1311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</a:t>
            </a:r>
            <a:r>
              <a:rPr b="1" lang="en-US" sz="40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ورقةٌ بيضاء أرسم عليها كل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93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8759276TYylZkDPE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286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Simplified Arabic"/>
              </a:rPr>
              <a:t>إني اليراع وأنت الفكر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هيا اكتب بي كيفما تشاء</a:t>
            </a:r>
            <a:r>
              <a:rPr b="0" lang="ar-SA" sz="40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120828BWPsejpKHE_ph" descr=""/>
          <p:cNvPicPr/>
          <p:nvPr/>
        </p:nvPicPr>
        <p:blipFill>
          <a:blip r:embed="rId1"/>
          <a:stretch/>
        </p:blipFill>
        <p:spPr>
          <a:xfrm>
            <a:off x="-533520" y="-57240"/>
            <a:ext cx="9677520" cy="6915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43800" y="117360"/>
            <a:ext cx="169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رقةٌ بيضاء أرسم عل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 ما تش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565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3520"/>
            <a:ext cx="1311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</a:t>
            </a:r>
            <a:r>
              <a:rPr b="1" lang="en-US" sz="40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ورقةٌ بيضاء أرسم عليها كل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793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8759592UQcUqtBtCr_ph" descr=""/>
          <p:cNvPicPr/>
          <p:nvPr/>
        </p:nvPicPr>
        <p:blipFill>
          <a:blip r:embed="rId1"/>
          <a:stretch/>
        </p:blipFill>
        <p:spPr>
          <a:xfrm>
            <a:off x="-228600" y="0"/>
            <a:ext cx="931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52480" y="609480"/>
            <a:ext cx="615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0492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ني الغيثار وأنت اللح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يا اعزف بي قدر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120828BWPsejpKHE_ph" descr=""/>
          <p:cNvPicPr/>
          <p:nvPr/>
        </p:nvPicPr>
        <p:blipFill>
          <a:blip r:embed="rId1"/>
          <a:stretch/>
        </p:blipFill>
        <p:spPr>
          <a:xfrm>
            <a:off x="-533520" y="-57240"/>
            <a:ext cx="9677520" cy="6915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43800" y="117360"/>
            <a:ext cx="169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رقةٌ بيضاء أرسم عل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 ما تش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65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33520"/>
            <a:ext cx="1311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</a:t>
            </a:r>
            <a:r>
              <a:rPr b="1" lang="en-US" sz="40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ورقةٌ بيضاء أرسم عليها كل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93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1:04:53Z</dcterms:created>
  <dc:creator>USER</dc:creator>
  <dc:description/>
  <dc:language>en-US</dc:language>
  <cp:lastModifiedBy>USER</cp:lastModifiedBy>
  <dcterms:modified xsi:type="dcterms:W3CDTF">2003-02-21T03:21:33Z</dcterms:modified>
  <cp:revision>4</cp:revision>
  <dc:subject/>
  <dc:title>PowerPoint Presentation</dc:title>
</cp:coreProperties>
</file>