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BC35-5E42-4190-8E51-FAC70FBC4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8E78-4A17-4FC6-BD7E-3FD7EB85A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14C4-B7DF-4EF6-89B4-016AC7228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E974-0F98-4D33-A8BB-9B7FF496C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B915-977E-45D7-A41F-3A2CCDC61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08AD-0792-471E-8704-747B71041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D53F-BFA3-4E15-86AB-FD6A88E59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4634-6359-4254-9FF8-9829F9B34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38A1-977D-446F-AA7F-75C72846D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75EC-FA3E-49DA-B715-EF8671A5B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3F01-CC66-484D-9C2D-5F5D7F2EB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86E3-1F8A-42B2-A0AB-150DC61DC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0321D-6DC4-4087-BC73-61B53C43BCF7}" type="slidenum">
              <a:rPr b="0" lang="ar-L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كيف بدي خاف من العتمه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إنت اللي بتعطيني النور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ش ممكن أرفض هالنعمه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لي بتغمر كل الـمعمور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ش ممكن أبداً يا ربي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ا مرافق أوقاتي الصعبه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غامرني بكل محبه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محوّل أحزاني زهور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كنت الكلمه وراح بتضل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بدايـــه والنهايــه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نغمه بترفرف وتهل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يسمعها الرايح والجايي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دايماً راح تبقى يا ربي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بالأمل تنوّرلي دربي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ا أغلى عطية محبه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بحبّك وبروحك مسحور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نجيلك صدق وحقيقه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لادة حياة جديده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يها بتجدّد الروح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ما بفكر إني وحيده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حدك يا ربي بتقبلني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ن الخطايا بتحررني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بإمي العدرا بتجمعني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طريق السماوات بزور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5T19:52:31Z</dcterms:created>
  <dc:creator>Charbel Azar</dc:creator>
  <dc:description/>
  <dc:language>en-US</dc:language>
  <cp:lastModifiedBy>Charbel Azar</cp:lastModifiedBy>
  <dcterms:modified xsi:type="dcterms:W3CDTF">2002-07-03T11:05:52Z</dcterms:modified>
  <cp:revision>2</cp:revision>
  <dc:subject/>
  <dc:title>PowerPoint Presentation</dc:title>
</cp:coreProperties>
</file>