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CDB3-6E1A-4238-AB1C-BE26DE90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7EED-F31F-48DA-BEED-2571F4F4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6600-E646-4BA7-95B2-64D56A2F7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C7A3-7D40-4491-90FB-5FB85833C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E768-D3B5-4B37-963A-FDBFBCA6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3B79-1386-4FCC-9FCC-DD4407A7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2D55-853A-44DC-B8FD-948C361D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2D7C-50D7-419F-81F8-64E0B4B2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34B3-CBAD-424A-B6F7-B50E81E3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ADE6-9C64-4461-8C1C-3DB7B823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BAD3-CE09-475D-B146-93646673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8D14-79E7-43B2-B6F3-4544BE5F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1D2D-D175-4D9A-B2ED-BD5325C36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6SIME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098360" y="5867280"/>
            <a:ext cx="1134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abic Transparent"/>
              </a:rPr>
              <a:t>الآن حسب َ قولِكَ تُطلقُ عبدَكَ يا سيدي بسلام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513843cCRujYBHua_ph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638680" y="0"/>
            <a:ext cx="3276720" cy="77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abic Transparent"/>
              </a:rPr>
              <a:t> فقد رأت عينايَ خلاصَك الذي أعدَدته أمام الأم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abic Transparent"/>
              </a:rPr>
              <a:t>نوراً لكل الشعوب أُضي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abic Transparent"/>
              </a:rPr>
              <a:t>ومجداً لشعبِك</a:t>
            </a:r>
            <a:r>
              <a:rPr b="1" lang="ar-SA" sz="4000" spc="-1" strike="noStrike">
                <a:solidFill>
                  <a:srgbClr val="000000"/>
                </a:solidFill>
                <a:latin typeface="Arabic Transparent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Arabic Transparent"/>
              </a:rPr>
              <a:t>إسرائيل</a:t>
            </a:r>
            <a:r>
              <a:rPr b="0" lang="ar-SA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6SIME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098360" y="5867280"/>
            <a:ext cx="1134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abic Transparent"/>
              </a:rPr>
              <a:t>الآن حسب َ قولِكَ تُطلقُ عبدَكَ يا سيدي بسلام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NBRSO022" descr=""/>
          <p:cNvPicPr/>
          <p:nvPr/>
        </p:nvPicPr>
        <p:blipFill>
          <a:blip r:embed="rId1"/>
          <a:stretch/>
        </p:blipFill>
        <p:spPr>
          <a:xfrm>
            <a:off x="0" y="0"/>
            <a:ext cx="5668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715000" y="0"/>
            <a:ext cx="3048120" cy="79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المجد للآب الذي أَحبنا ولابنه الذي بموتِهِ خلّص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المجد للروح الساكنِ في قلوبِنا الآن وإلى أبدِ الآبدين</a:t>
            </a:r>
            <a:r>
              <a:rPr b="0" lang="ar-SA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a6SIME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1098360" y="5867280"/>
            <a:ext cx="1134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abic Transparent"/>
              </a:rPr>
              <a:t>الآن حسب َ قولِكَ تُطلقُ عبدَكَ يا سيدي بسلام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07:11:34Z</dcterms:created>
  <dc:creator>SUZANNE.MD</dc:creator>
  <dc:description/>
  <dc:language>en-US</dc:language>
  <cp:lastModifiedBy>USER</cp:lastModifiedBy>
  <dcterms:modified xsi:type="dcterms:W3CDTF">2003-02-21T03:03:19Z</dcterms:modified>
  <cp:revision>3</cp:revision>
  <dc:subject/>
  <dc:title>PowerPoint Presentation</dc:title>
</cp:coreProperties>
</file>