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A3D8-33FB-494F-BE17-2E773A4D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929C-6EA0-4F42-B893-A49BDA29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D419-85B0-491C-8588-582C4F9E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FE42-0D0F-48DD-9268-BE1039F8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0F24-9F2C-4FCE-93D3-EAD44DB0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D525-8279-4FD5-894C-749220C4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4955-883B-45EE-B5CF-C83EDF42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FD4D-42F1-4FA3-AFBA-6D272E37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BB17-7D16-4E0E-867F-10EEDCE4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CF4D-7F01-40BB-98D4-E7A1BC36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3E44-9777-4690-8FD6-AE30279A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1955-565D-4E39-9CE7-9CADD0F3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E482-2AE3-495A-B90F-6CE12AB81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h01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67520" y="349200"/>
            <a:ext cx="457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ّا بْكَرِّسْلَكْ ذ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تغيَّر كل حاج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وهبتي وكل حي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صير شهادة عن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ا بكرسلك ذ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تغير كل حاج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ل لحظة من حي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غنيها قوة حب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h01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10200" y="349200"/>
            <a:ext cx="540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ا برتّلك يوميِّ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بَشِّر فيك اللي حْوالَي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شو اللي بيتغيَّر فيي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قلبي بيولد فرح جد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ا الوزنة البين إيديّ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كبر وبقدّملك هي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نعمة العندي بتز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h01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67520" y="349200"/>
            <a:ext cx="457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ّا بْكَرِّسْلَكْ ذ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تغيَّر كل حاج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وهبتي وكل حي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صير شهادة عن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ا بكرسلك ذ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تغير كل حاج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كل لحظة من حيات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تغنيها قوة حب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h01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285800" y="349200"/>
            <a:ext cx="51811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ا بقدّملَك كل ح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بتركلَك مطرح بقل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شو اللي بيتغيّر فيي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بقلبي بيولد فرح جد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ما بصلّي كل دقيق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بِرفَع صَوتي للحقيق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نعمة العندي بتز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(لما بكرسلك ذاتي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USER</cp:lastModifiedBy>
  <dcterms:modified xsi:type="dcterms:W3CDTF">2003-02-08T06:50:25Z</dcterms:modified>
  <cp:revision>12</cp:revision>
  <dc:subject/>
  <dc:title>PowerPoint Presentation</dc:title>
</cp:coreProperties>
</file>