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387-4F96-44F6-BD37-76E5CF6D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A6B-D0C3-48F2-B71E-4C25C0A2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A36-6D8E-470B-9D15-E6AD5D71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3F0-8039-4A5C-BAF9-527E67F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B57-9852-452B-9DE1-1DF63F9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B28-6855-4013-851A-310D1FB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339-8A34-4278-9266-54A6227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8DB-FDAA-47F0-A551-67E49F40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BF7-8852-48E8-9BAB-98C2AEA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B0A-4281-4B0C-AD12-E5430E9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A1F-8279-4357-8789-183DA35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F47-67C9-4BD6-844F-2E4D0E0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BEEE-43F3-4115-88A7-E414A3A362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6500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2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طنا ربِّ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أْلأَتْ كُلُّ هَضْبَةٍ فَوْقَ لُبْنَان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ُصَلِّي، وَهَامَ كُلُّ فَض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سَامَى مَجَامِرا جَبَلُ الأَطْياب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َافْتَحْ، يَا رَبِّ، بَابَ السَّم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 رُدَّ الأَهْوَالَ أَقْبَلْنَ يَضْرِبْن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َجُدْ لاتَ مَا خَلاكَ يَجُود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، جَلَّتْ يُمْنَاكَ لا تَعْرِفُ القَبْض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َمَنْ مِنْكَ، رَبِّ لا يَسْتَزِيدُ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َمَا غَـبَّتِ الْحَسَاسِينُ مِنْ م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رَنَتْ حُلْوَةً إِلَيْكَ بشُكْر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عَالَتْ إِلَيْكَ فِي لَفْتَةِ الصُّبْح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َلاةً مِنْ زَقْزَقَاتٍ وَزَهْرِ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مِّعَتْ، رَبِّيَ، الْخَلِيقَةُ فِي صَوْت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نَاجِي، وَسَبَّحَتْ تَتَغَنّ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َمَلَّتْ، فِي رِفْعَةِ الرَّأْسِ وَالطَّرْف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ثـُوّاً مِنْ رُكْبَتَيْنِ وَوَهْ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أَنَا أَسْتَجِيرُ بالرَّحْمَةِ الأُول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نُورِ الأَنْوَارِ، بالْيُنْب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تَقَبَّلْ، رَبِّي، قَرَابينَ حُبّ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رَجَاءٍ، وَذِلَّةٍ، وَدُم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رأَّفْ يَا أيُّهَا السَّعَةُ الكُبْر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َرَأَّفْ باللاّئِذِ الْمُحْتَاج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انْصُرِ الْقَابسِينَ مِنْ فَيْضِكَ النُّور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ِلَى الْكَوْكَبِ الضَّلُولِ الدَّاجِ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9:04:28Z</dcterms:created>
  <dc:creator>Charbel Azar</dc:creator>
  <dc:description/>
  <dc:language>en-US</dc:language>
  <cp:lastModifiedBy>ف</cp:lastModifiedBy>
  <dcterms:modified xsi:type="dcterms:W3CDTF">2006-09-13T18:08:42Z</dcterms:modified>
  <cp:revision>10</cp:revision>
  <dc:subject/>
  <dc:title>Slide 1</dc:title>
</cp:coreProperties>
</file>