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735B-5855-490A-9A22-252D4ECB9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4DA2-9876-43BC-BE5D-A7C109EC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BCE1-931E-4761-AC1B-689D8561E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E271-B99B-4E2D-B141-9E19ED5E9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78270-DB38-4149-9DED-8FEB9DF1C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8D705-1618-48D8-B98B-4CE6200D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7F40-DC90-45F9-AF70-11801F8A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7E094-3B49-4958-B1A4-A265D4E4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57E97-55EA-4FF3-97FC-DD3DC593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7C8E-A7A5-4745-9D46-2B257C99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E02B-983A-4960-AC6C-FF2CEEB4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63E1-0D21-491C-A45F-F64348BD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18AAE-F0E0-4ADC-9805-1949180D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E6D5-DB4A-4519-AD98-D238D90F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901E-931A-489D-B9E8-4F4AD30F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467B-735F-4AE0-BA70-A858659FC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0B2F-7E2D-4348-9BBD-EE42B04D1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B388-3767-4068-972C-8B102443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B577-AEF9-49C0-A2A4-EB5D7B77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6D2D-3E7B-4888-AD12-29C02D75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54BD-01DC-40D0-8769-41027065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3511-CECA-4470-A5FC-CA8E64B0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012E-CCC2-4569-8F8D-AAD750DB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C801-39A6-423B-8394-671383C5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C3C0-E478-4C1D-89BE-4E2815483C84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5D33-A16B-413C-857A-5B0560E53A12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160720" y="0"/>
            <a:ext cx="5867280" cy="443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900"/>
            </a:br>
            <a:r>
              <a:rPr b="0" lang="ar-SA" sz="10600" spc="-1" strike="noStrike">
                <a:solidFill>
                  <a:srgbClr val="ffffff"/>
                </a:solidFill>
                <a:latin typeface="Tahoma"/>
                <a:cs typeface="????Boutros Rokaa"/>
              </a:rPr>
              <a:t>هللي يا محبّة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11280" y="5013360"/>
            <a:ext cx="7993080" cy="157212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869000"/>
            <a:ext cx="9144000" cy="198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هلّلي يا محبّة رنّم يا رجاء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-2824560" y="4941720"/>
            <a:ext cx="14811120" cy="167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في لقاءِ الأحبّة في يوم السّم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98440" y="5079960"/>
            <a:ext cx="724284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cc00"/>
                </a:solidFill>
                <a:latin typeface="Tahoma"/>
                <a:cs typeface="Akhbar MT"/>
              </a:rPr>
              <a:t>هلّلي يا محبّة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00720" y="3952800"/>
            <a:ext cx="495288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900" spc="-1" strike="noStrike">
                <a:solidFill>
                  <a:srgbClr val="ffffff"/>
                </a:solidFill>
                <a:latin typeface="Tahoma"/>
                <a:cs typeface="Akhbar MT"/>
              </a:rPr>
              <a:t>فرحُنا بخور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8000" y="2971800"/>
            <a:ext cx="590544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حنانُنا نبيذ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إيمانُنا قربان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124000" y="4365720"/>
            <a:ext cx="495324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900" spc="-1" strike="noStrike">
                <a:solidFill>
                  <a:srgbClr val="000000"/>
                </a:solidFill>
                <a:latin typeface="Tahoma"/>
                <a:cs typeface="Akhbar MT"/>
              </a:rPr>
              <a:t>لقاؤنا صلاة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rcRect l="53145" t="0" r="0" b="45810"/>
          <a:stretch/>
        </p:blipFill>
        <p:spPr>
          <a:xfrm>
            <a:off x="4859280" y="0"/>
            <a:ext cx="4284720" cy="3716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rcRect l="0" t="0" r="46860" b="45810"/>
          <a:stretch/>
        </p:blipFill>
        <p:spPr>
          <a:xfrm>
            <a:off x="0" y="0"/>
            <a:ext cx="4859280" cy="3716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rcRect l="0" t="54190" r="49220" b="0"/>
          <a:stretch/>
        </p:blipFill>
        <p:spPr>
          <a:xfrm>
            <a:off x="0" y="3716280"/>
            <a:ext cx="4643280" cy="3141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rcRect l="50784" t="54196" r="0" b="0"/>
          <a:stretch/>
        </p:blipFill>
        <p:spPr>
          <a:xfrm>
            <a:off x="4643280" y="3716280"/>
            <a:ext cx="4500720" cy="3141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711840" y="620640"/>
            <a:ext cx="2432160" cy="155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فرحُنا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68360" y="0"/>
            <a:ext cx="262764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حنانُنا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16360" y="3933720"/>
            <a:ext cx="2735280" cy="185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إيمانُنا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7640" y="3573360"/>
            <a:ext cx="341964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قاؤنا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2924280"/>
            <a:ext cx="4610160" cy="302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داسُنا محبّة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11280" y="5013360"/>
            <a:ext cx="7993080" cy="157212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869000"/>
            <a:ext cx="9144000" cy="198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هلّلي يا محبّة رنّم يا رجاء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2824560" y="4941720"/>
            <a:ext cx="14811120" cy="167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في لقاءِ الأحبّة في يوم السّم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98440" y="5079960"/>
            <a:ext cx="724284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cc00"/>
                </a:solidFill>
                <a:latin typeface="Tahoma"/>
                <a:cs typeface="Akhbar MT"/>
              </a:rPr>
              <a:t>هلّلي يا محبّة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9640" y="4941720"/>
            <a:ext cx="7993080" cy="171828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36360" y="4941720"/>
            <a:ext cx="9180360" cy="191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الأرضُ تهلِّل والسماءُ تبارك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816440"/>
            <a:ext cx="91440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ما أجملَ أن يجتَمعَ الإخو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تحت سقفٍ واحدٍ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5213520"/>
            <a:ext cx="711540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ما أجملَ أن يجتَمعَ الإخو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1280" y="5013360"/>
            <a:ext cx="7993080" cy="157212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869000"/>
            <a:ext cx="9144000" cy="198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هلّلي يا محبّة رنّم يا رجاء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2824560" y="4941720"/>
            <a:ext cx="14811120" cy="167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في لقاءِ الأحبّة في يوم السّم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98440" y="5079960"/>
            <a:ext cx="724284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cc00"/>
                </a:solidFill>
                <a:latin typeface="Tahoma"/>
                <a:cs typeface="Akhbar MT"/>
              </a:rPr>
              <a:t>هلّلي يا محبّة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59:11Z</dcterms:created>
  <dc:creator>Charbel Azar</dc:creator>
  <dc:description/>
  <dc:language>en-US</dc:language>
  <cp:lastModifiedBy>-</cp:lastModifiedBy>
  <dcterms:modified xsi:type="dcterms:W3CDTF">2003-01-16T16:23:58Z</dcterms:modified>
  <cp:revision>9</cp:revision>
  <dc:subject/>
  <dc:title>PowerPoint Presentation</dc:title>
</cp:coreProperties>
</file>