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3B4-A975-4090-8A50-09878E18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B89-88C1-4512-86EA-B0736A4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35D-6ACD-44B3-9E98-51995F5D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9B7-5E25-4811-B27F-6A1F64FE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837D-DDBD-4EB3-90EC-8F7D61B5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09A-92C4-4A02-B9C6-03C7BE1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C8F6-D911-4F8D-80F0-434ED749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37E-B1F1-4A33-8230-081A5E8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8C36-51FF-44DC-8104-2C803C63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DF13-8E28-4EB2-AACA-BE472CFD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A9FA-2B04-4BFF-931A-D39BD8A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7B6-B8A6-472A-A5EB-5DFBE4C6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FA14-FA00-449A-AAA8-0BADF59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0276-7278-41AF-A5E2-367CE9A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2F7D-B3B0-42F2-BE4A-6044B5A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D1BC-59CB-4623-9A10-C8DCAD29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514-3C53-4E9F-8AA4-FA0E7AB1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564-FDB7-49DB-98FB-2300560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986-BE2E-4D70-973A-E422506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BC3-72F0-4B23-8610-0E660481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31F-8C3C-4910-A2C2-8C93337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A27-6BD8-4E1A-94B7-5F51A33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66C-0091-4DB5-8F40-8C8226B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487-38C7-41C4-8015-3903ACF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3E41-4045-484B-BC55-48A0C7156D2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EB56-4FAC-43BA-B7E9-94A5983B1B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جمل أن نَجتمع معاً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جْمَلَ أَنْ نَجْتَمِعَ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ْحُبِّ يَقولُ الرَّبُّ ل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اجْتَمَعَ باسْمِيَ اثنَانِ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اّ وَهُنَاكَ أَكُونُ أَنَ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41320" y="0"/>
            <a:ext cx="736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ذَا كُنْتَ لَنَا عَوْناً وَسَنَ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كُلِّ طَرِيقٍ نَسْلُكُهُ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إِلَهاً لَيْسَ سِواهُ نَجِ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ُعْطِيهِ الْقَلْبَ نَمْلِكُهُ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29T16:03:14Z</dcterms:modified>
  <cp:revision>17</cp:revision>
  <dc:subject/>
  <dc:title>Slide 1</dc:title>
</cp:coreProperties>
</file>