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EFBD-3FEC-4DAD-B6B7-A6F4B46E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092F-B13B-485E-8603-1F1CCAA1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65BF-7170-4843-A70A-54BBD047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324A-D09D-480F-A36D-8371A22E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ADFC-DC3A-4982-94E2-954E3F27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6352-94EB-4021-B2CC-C4C936F1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1B7C-44B5-4919-8415-A8275506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CCC1-8B12-486C-8177-E5CD3A6C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5E91-8BBF-472B-A957-3E241556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B5A1-B4E1-4058-985B-0F69D5E9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8A6E-66E2-4673-B6DA-06F204CE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1AE2-8ED9-4657-ACE3-23769812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80B3-45E1-46C3-89DD-EB233C401E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88000" y="4005360"/>
            <a:ext cx="4211640" cy="28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Tahoma"/>
                <a:cs typeface="Ruqah2 Normal"/>
              </a:rPr>
              <a:t>في استقبال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635280" y="0"/>
            <a:ext cx="536436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000000"/>
                </a:solidFill>
                <a:latin typeface="Arial"/>
                <a:cs typeface="Akhbar MT"/>
              </a:rPr>
              <a:t>في استقبالك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000000"/>
                </a:solidFill>
                <a:latin typeface="Arial"/>
                <a:cs typeface="Akhbar MT"/>
              </a:rPr>
              <a:t>يا ملكَ</a:t>
            </a:r>
            <a:r>
              <a:rPr b="1" lang="ar-SA" sz="8800" spc="-1" strike="noStrike">
                <a:solidFill>
                  <a:srgbClr val="000000"/>
                </a:solidFill>
                <a:latin typeface="Arial"/>
                <a:ea typeface="Akhbar MT"/>
              </a:rPr>
              <a:t> المجد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لَبسَتِ البيعة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أبهى حُلاها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r>
              <a:rPr b="1" lang="ar-SA" sz="8800" spc="-1" strike="noStrike">
                <a:solidFill>
                  <a:srgbClr val="000000"/>
                </a:solidFill>
                <a:latin typeface="Simplified Arabic"/>
                <a:ea typeface="Akhbar MT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0"/>
            <a:ext cx="435600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لأنكَ آت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حَسَبَ الوعد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هللويا.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525636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Arial"/>
                <a:cs typeface="Akhbar MT"/>
              </a:rPr>
              <a:t>تنهضُ بالشوقِ إلـى الـمواعيد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788000" y="0"/>
            <a:ext cx="435600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 تسمعُ كلماتِكَ الشهيّة تدعوها لتصعَدَ إلـى العيد.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35280" y="0"/>
            <a:ext cx="536436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000000"/>
                </a:solidFill>
                <a:latin typeface="Arial"/>
                <a:cs typeface="Akhbar MT"/>
              </a:rPr>
              <a:t>في استقبالك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000000"/>
                </a:solidFill>
                <a:latin typeface="Arial"/>
                <a:cs typeface="Akhbar MT"/>
              </a:rPr>
              <a:t>يا ملكَ</a:t>
            </a:r>
            <a:r>
              <a:rPr b="1" lang="ar-SA" sz="8800" spc="-1" strike="noStrike">
                <a:solidFill>
                  <a:srgbClr val="000000"/>
                </a:solidFill>
                <a:latin typeface="Arial"/>
                <a:ea typeface="Akhbar MT"/>
              </a:rPr>
              <a:t> المجد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لَبسَتِ البيعة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أبهى حُلاها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r>
              <a:rPr b="1" lang="ar-SA" sz="8800" spc="-1" strike="noStrike">
                <a:solidFill>
                  <a:srgbClr val="000000"/>
                </a:solidFill>
                <a:latin typeface="Simplified Arabic"/>
                <a:ea typeface="Akhbar MT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84720" y="0"/>
            <a:ext cx="435600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لأنكَ آت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حَسَبَ الوعد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هللويا.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076640"/>
            <a:ext cx="9144000" cy="203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ُصغي إلى صوتِكَ الحبيب فتذكُرُ أنّك آتٍ حقا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3716280"/>
            <a:ext cx="874872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أنّ تجلّيكَ فيها قريب هللوي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92360" y="-27000"/>
            <a:ext cx="543564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الفرحِ والحبِ تسجُدُ لكَ يا كلمةَ الخلاصِ والحياة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51134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تهتِفُ عند ذكرِ اسمِك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532800" y="1984320"/>
            <a:ext cx="656028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4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لويا</a:t>
            </a:r>
            <a:endParaRPr b="0" lang="en-US" sz="1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8:41:36Z</dcterms:created>
  <dc:creator>Charbel Azar</dc:creator>
  <dc:description/>
  <dc:language>en-US</dc:language>
  <cp:lastModifiedBy>ف</cp:lastModifiedBy>
  <dcterms:modified xsi:type="dcterms:W3CDTF">2006-11-13T21:20:29Z</dcterms:modified>
  <cp:revision>13</cp:revision>
  <dc:subject/>
  <dc:title>Slide 1</dc:title>
</cp:coreProperties>
</file>