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E15-F956-4437-9860-6064D641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064-7E74-4B6F-843A-F8066E8C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A57-5C93-47CA-BC3B-419EC903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341-16A7-4885-AF07-6629B526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D20-6CAA-4775-BF44-8B53A602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B1E-9BA6-4276-8665-A4FE90D1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5C3-FCBA-4046-B78E-B6B6A292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16A-3F88-4807-B732-0390C5EC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7D5-32CF-41C4-8903-64E62C80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F8E-1927-404E-8A80-82AC92FF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239-60C4-4FD8-BA3A-5448C300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A25-9D46-4520-91B4-C712BC0A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EC5A-BE4C-476C-A8E2-02667BBB95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أبو دقوشتو</a:t>
            </a:r>
            <a:br>
              <a:rPr sz="8800"/>
            </a:br>
            <a:r>
              <a:rPr b="1" i="1" lang="ar-SA" sz="8800" spc="-1" strike="noStrike">
                <a:solidFill>
                  <a:srgbClr val="ffffff"/>
                </a:solidFill>
                <a:latin typeface="Arial"/>
                <a:ea typeface="Akhbar MT"/>
              </a:rPr>
              <a:t>(ترتيلة كان يرددها</a:t>
            </a:r>
            <a:br>
              <a:rPr sz="8800"/>
            </a:br>
            <a:r>
              <a:rPr b="1" i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ار شربل في قداسه)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Traditional Arabic"/>
              </a:rPr>
              <a:t>أَبُو دْقُوشْتُو، هُا برُخْ دِبْحاُ دَمْرَعِه لُخْ لْهُنُا قَبِل، دَحْلُفَي مِيتْ واتحاسِه بِ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أبَ الحقّ، ها هوّذا ، ابنكَ الحبيب، ذبيحةً ترضيك فاقبله، لأنه ماتَ لأجلي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14036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ff"/>
                </a:solidFill>
                <a:latin typeface="Arial"/>
                <a:cs typeface="Traditional Arabic"/>
              </a:rPr>
              <a:t>هاُ قُوربُنا، سَبْ مِنْ إِيدَيْ، وِاتْراعُا لي، ولاُ تِتدْخَر لي حْطُهِا دسِعْرِتْ قْدُمْ رَبُوتُخ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50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خذ هذا القربان من يديّ، وارضَ عنّي، ولا تذكر لي خطايايَ التي فعلتها أمام عظمتك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0" y="0"/>
            <a:ext cx="4211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ff"/>
                </a:solidFill>
                <a:latin typeface="Arial"/>
                <a:cs typeface="Traditional Arabic"/>
              </a:rPr>
              <a:t>هُا دْمه أَشِيدْ عَلْ غُغُولتُو مِتُلْ فُورْقُنْ وْبُعِه حْلُفَي قَبِل بُاعوتْ مِتُولُتِه كْمُو لي حَوْبِه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493236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ذا دمه المسفوك على الجلجلة لأجل خلاصي.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إنه يتوسّل من أجلي، فاقبل توسّله، بسببه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كْمُو لُخْ رَحْمِه إن تُقِلْ آت، حْنُنُخْ نُتَعْ تُبْ مِنْ طُورِه دَتْقِيلِينْ لُخْ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بقدر ما عندي من خطايا، عندك انت من المراحم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إن وزنتها، يرجح حنانك على ثقل الجبا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حُورْ بَحْطُهِهْ وْحُورْ بَعْلُتُو دَحْلُيْفَيْهُونْ. وْسَغِي رَابُو عِلْتُا وْدِبْحُو مِنْ حَوْبوتو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انظر الخطايا وانظر ما حصل عنها من توب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التوبة والضحية تتخطّان الخطايا بكثي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مِتُلْ دَحْطِيتْ صِصِا ورومحُو سْبَلْ حَبِيبُخْ وسُفْقِينْ حَشَوْ دَنْرَعُونُخْ وَبْهونْ إيحِه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لأنّني خطئتُ احتمل  ابنك المسامير والحرب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في آلامه ما يرضيك وأحيا بها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ff"/>
                </a:solidFill>
                <a:latin typeface="Arial"/>
                <a:cs typeface="Traditional Arabic"/>
              </a:rPr>
              <a:t>شوبحو لابو دْشَدَر لَبْرِه مِتُلُتَنْ وْسِغِدْتو لَبْرُو، دبزقيفوتِه حَرَرْ خولُو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جدُ للآب الذي أرسل ابنه من أجل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السجود للابن الذي بصلبه حرّرنا جميعا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0" y="0"/>
            <a:ext cx="410364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4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َوْدي لروحو دْبِه إشتَمْلي رُزْ فورقونَنْ. بريخ دَبْحوبِه أَحِي لْخُلَنْ ولِه تِشْبوحتو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الشكر للروح الذي به تمّ سرّ خلاصنا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مبارك من يحبّه احيانا جميعاً. فله المج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1:36:41Z</dcterms:created>
  <dc:creator>Charbel Azar</dc:creator>
  <dc:description/>
  <dc:language>en-US</dc:language>
  <cp:lastModifiedBy>ف</cp:lastModifiedBy>
  <dcterms:modified xsi:type="dcterms:W3CDTF">2007-07-10T19:57:56Z</dcterms:modified>
  <cp:revision>4</cp:revision>
  <dc:subject/>
  <dc:title>أَبُو دْقُوشْتُو، هُا برُخْ دِبْحاُ دَمْرَعي لُخْ لْهُنُا قَبِل، دَحْلُفَي مِيتْ واتحاسِي بِه</dc:title>
</cp:coreProperties>
</file>