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FFFD-EDB5-46E2-B5AC-4F065464D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3E70-7A29-4F6B-94C4-C39701F0E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CE82-413A-4956-BC7A-17F4E266A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CBF2-8D92-4BC0-829C-55E7F9D15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E9FD-DBB9-44D4-BDC4-B5D2AF4B5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12F3-3279-4132-A002-C61219AC5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6AD8-1FB0-48F9-90C4-50B9B2CAA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EF73-95DD-491A-BC08-D3391AD45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4194-CFF5-4AB2-8064-706B91D1A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F9B6-925B-49DE-8585-701A3E7B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68AC-CAD2-4AA7-B9CC-467F4BCF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4AC3-4531-4E0A-85F5-79E31774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EC905-D0A5-4FE2-89E9-7B4F21E7E0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9205891gyyyQAlXVQ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190440" y="0"/>
            <a:ext cx="9029520" cy="86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  <a:cs typeface="Arial"/>
              </a:rPr>
              <a:t>رفعت عيني إلى الجبال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cs typeface="Arial"/>
              </a:rPr>
              <a:t>من حيث يأتي عوني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  <a:cs typeface="Arial"/>
              </a:rPr>
              <a:t>معونتي من عند الربّ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cs typeface="Arial"/>
              </a:rPr>
              <a:t>صانعِ السما والأرض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  <a:cs typeface="Arial"/>
              </a:rPr>
              <a:t>لا يدع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رجلك تَزِِل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لا ينعس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لا ينا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الر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cs typeface="Arial"/>
              </a:rPr>
              <a:t>ب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cs typeface="Arial"/>
              </a:rPr>
              <a:t>يحفظك، الرب ستر ل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لا تؤذيك الشمس في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النها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ولا القمر في اللي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يحفظك الرب من كل سوءٍ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cs typeface="Arial"/>
              </a:rPr>
              <a:t>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يحفظ الربُّ نفسك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 (Arabic)"/>
                <a:cs typeface="Times New Roman (Arabic)"/>
              </a:rPr>
              <a:t>يحفظ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الربُّ ذهابَك وإيابَك، من الآن وإلى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 (Arabic)"/>
                <a:cs typeface="Times New Roman (Arabic)"/>
              </a:rPr>
              <a:t>الأب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6:24:44Z</dcterms:created>
  <dc:creator>USER</dc:creator>
  <dc:description/>
  <dc:language>en-US</dc:language>
  <cp:lastModifiedBy>USER</cp:lastModifiedBy>
  <dcterms:modified xsi:type="dcterms:W3CDTF">2003-01-20T00:56:00Z</dcterms:modified>
  <cp:revision>9</cp:revision>
  <dc:subject/>
  <dc:title>PowerPoint Presentation</dc:title>
</cp:coreProperties>
</file>