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1A1-A717-4112-9F5E-165472EA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0A3-1BB9-49DA-9B87-BF7F9E70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A27-5207-480B-8572-CB06ACBE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BB2-0B36-4E54-8FEE-4ED93347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5F1-4B8A-4AFE-86CA-A162094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BF2-8587-4A0C-8608-FC0A42CA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621-1EED-4E92-8914-AC8EA40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A91-BF6F-4625-B96D-4719A90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327-096C-4ED4-959F-6A43AC7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3AE-B860-4299-8ED5-FF1D4AE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C49-5507-46CB-A3DC-7F6E825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895-211D-4AB5-BCC2-97A4159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261-1A01-41EE-9651-D06C9D7F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CHURCH" descr=""/>
          <p:cNvPicPr/>
          <p:nvPr/>
        </p:nvPicPr>
        <p:blipFill>
          <a:blip r:embed="rId1"/>
          <a:stretch/>
        </p:blipFill>
        <p:spPr>
          <a:xfrm>
            <a:off x="0" y="0"/>
            <a:ext cx="4530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361800"/>
            <a:ext cx="61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 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د وقفتْ أقدامُ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أبوابِكِ يا أورشليمُ،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يكِ صَعِد شعبُ الل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حَسَبَ دعو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يَحمد اسمَ الر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CH_123" descr=""/>
          <p:cNvPicPr/>
          <p:nvPr/>
        </p:nvPicPr>
        <p:blipFill>
          <a:blip r:embed="rId1"/>
          <a:stretch/>
        </p:blipFill>
        <p:spPr>
          <a:xfrm>
            <a:off x="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54480" y="501480"/>
            <a:ext cx="530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ناكَ نُصِبَ عرشٌ للحكم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رشُ الربِ بين شعبِهِ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نسألِ السلامَ للمؤمن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يَسعدِ الذينَ يُحبُّونَه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RND_38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34400" y="425520"/>
            <a:ext cx="5199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بتهجتْ 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لقائلينَ لي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ْ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بيتِ الرَّبِّ نَنَطلِقُ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بترنيمِ الفرحِ ندخُل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لى ديارِهِ</a:t>
            </a:r>
            <a:br>
              <a:rPr sz="3600"/>
            </a:b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 إخوتي وأخِلاَّئ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دعو بالسلامِ والبَرَكة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جلِ بيتِ الربِّ ألتمِس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خيرَ فلنباركِ اللهَ كلُّن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11:16Z</dcterms:created>
  <dc:creator>USER</dc:creator>
  <dc:description/>
  <dc:language>en-US</dc:language>
  <cp:lastModifiedBy>USER</cp:lastModifiedBy>
  <dcterms:modified xsi:type="dcterms:W3CDTF">2003-01-18T09:21:47Z</dcterms:modified>
  <cp:revision>2</cp:revision>
  <dc:subject/>
  <dc:title>PowerPoint Presentation</dc:title>
</cp:coreProperties>
</file>