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8FFE-C0DD-4F3B-AC57-59FB7461D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63F2-BFB7-4BAB-86CF-E62206AD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6ABD-D4D1-4D7B-B98C-5B2EEC8EF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78A5-0F4A-4575-82FD-DBBE818AB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28B0-8B8D-489F-A775-C2B04C363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25AB-3404-47D6-BFD4-8297309F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B4BB-8A8F-4F3E-AAFF-2B28C9FD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9D48-FA20-4FA0-B8BA-DD718CF2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7856-A12E-42EE-AEAE-7F26F807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368D-BB65-49E2-9B15-1EE7A960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81AD-7635-452F-B8C1-0EA033BA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CE08-E57C-402E-9130-DEA8DC3D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12F0-4BA3-472C-902C-9D2D5727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E9F7-89C0-418C-B46A-178A1D35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50F2-5474-4149-AC21-F16EC4A8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15B6-84DB-43A8-9E31-2D5452EB9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C819-A93F-41D4-B6C9-E7EEB76AE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03D6-8135-4D8C-8AB4-DE1AF0E3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33F2-0853-431B-8051-FE90B1EE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7CDD-7FEB-4470-A7F9-65A4A13D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D5B9-8B21-4371-9B3D-A754BA68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9477-9C64-4C1D-9F14-34D6CACD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1FCD-5D54-48B9-9345-04C7ED87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474D-57D0-4801-845F-6BE18C55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A495-8845-4E5E-B36F-08C34786B54C}" type="slidenum">
              <a:rPr b="0" lang="ar-LB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DF43-3BC1-4003-B14F-87DD3ACC1BFF}" type="slidenum">
              <a:rPr b="0" lang="ar-LB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32000" y="162864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 u="sng">
                <a:solidFill>
                  <a:srgbClr val="ffffff"/>
                </a:solidFill>
                <a:uFillTx/>
                <a:latin typeface="Times New Roman"/>
                <a:cs typeface="AF_Diwani"/>
              </a:rPr>
              <a:t>نشيد الختام:</a:t>
            </a:r>
            <a:br>
              <a:rPr sz="10600"/>
            </a:br>
            <a:br>
              <a:rPr sz="9600"/>
            </a:br>
            <a:r>
              <a:rPr b="0" lang="ar-SA" sz="6600" spc="-1" strike="noStrike">
                <a:solidFill>
                  <a:srgbClr val="ffffff"/>
                </a:solidFill>
                <a:latin typeface="Tahoma"/>
                <a:cs typeface="Ruqah2 Normal"/>
              </a:rPr>
              <a:t>هل يستطيع الرب بي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ل يستطيعُ الربُّ بي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 يصنعَ العجائبَ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إن طلبتُ تكريسي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ل يستجيبُ الطلبَ؟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380880"/>
            <a:ext cx="9144000" cy="79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عم نعم، نعم يقولُ ربُّنا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قدَّسوا للعملِ 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غداً سأعملُ بكم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وسْطِكم عجائبي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ل يستطيعُ الربُّ أن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قدّسَ ذا الجسدَ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ع ضعفِهِ وإثمِهِ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ه يحلُّ للمدى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380880"/>
            <a:ext cx="9144000" cy="79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عم نعم، نعم يقولُ ربُّنا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قدَّسوا للعملِ 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غداً سأعملُ بكم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وسْطِكُم عجائبي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ل يستطيعُ الربُّ أن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شغِّلَ مواهبي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قدِّساً عواطفي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مجدِ مَن أحبَّني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80880"/>
            <a:ext cx="9144000" cy="79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عم نعم، نعم يقولُ ربُّنا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قدَّسوا للعملِ 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غداً سأعملُ بكم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وسْطِكُم عجائبي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ل يستطيعُ الربُّ أن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باركَ في خدمَتي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كرِّساً لمجدِهِ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لّي له بجُملتي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380880"/>
            <a:ext cx="9144000" cy="79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عم نعم، نعم يقولُ ربُّنا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قدَّسوا للعملِ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غداً سأعملُ بكم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وسْطِكُم عجائبي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39:50Z</dcterms:created>
  <dc:creator>Charbel Azar</dc:creator>
  <dc:description/>
  <dc:language>en-US</dc:language>
  <cp:lastModifiedBy>Charbel Azar</cp:lastModifiedBy>
  <dcterms:modified xsi:type="dcterms:W3CDTF">2002-11-18T09:53:44Z</dcterms:modified>
  <cp:revision>3</cp:revision>
  <dc:subject/>
  <dc:title>PowerPoint Presentation</dc:title>
</cp:coreProperties>
</file>