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178-AA82-4C20-B24A-94ACB8D1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0EC-F930-4095-8564-E5EC8268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BB3-58BA-4B35-9317-03B3D439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C9F-E54D-4B39-99A3-6743AE52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A81-87CF-4F96-A988-BDD871A5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6A9-B19E-4746-9BAD-A8575200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BC5-8A5D-4C4B-ADE2-C0BFE04B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CB0-D369-4F15-9543-2BCD5ED4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B96-9457-4989-A966-4D20DA04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AAF-E9E9-4B46-80F3-D202261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47E-F4D7-486B-A7E9-647987EB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953-6846-40B5-AA15-B3FBBF78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38C9-AFDF-4665-9FEA-88895032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18320" y="174600"/>
            <a:ext cx="730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حسبي أن أكون خادم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ي بيتك طول أيام حيا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نذ صبائي قلبي يهفو إلي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ليس أحد سواك يملأ فراغ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حنين يشدني إليك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نعمتك تكتنفني فعندك هدو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قلب وصفو الأفك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أمامك ندرك حقيقة الوجو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بفيض حبك أدخل في بي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بخشيتك أسجد في هيكل قدس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محبتك أطيب من الحيا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ك تسبح شفتا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05:23:12Z</dcterms:created>
  <dc:creator>HANI SAFI</dc:creator>
  <dc:description/>
  <dc:language>en-US</dc:language>
  <cp:lastModifiedBy>HANI SAFI</cp:lastModifiedBy>
  <dcterms:modified xsi:type="dcterms:W3CDTF">2003-04-12T05:23:40Z</dcterms:modified>
  <cp:revision>1</cp:revision>
  <dc:subject/>
  <dc:title>Slide 1</dc:title>
</cp:coreProperties>
</file>