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CA3C-B6DB-4103-AB8F-D4711E5C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185-3097-40A8-BC75-44BAE4A3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76B6-BB35-43B3-B6B6-913CC8A2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21C8-C8FB-4360-9541-E7830EDB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01AF-83BF-4F6D-A11E-99035010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038B-7E48-4F4D-B837-0BA82BB2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BFCB-C47A-4AAC-A73D-63B97558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09E-3558-4AF1-B122-185FFC2B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0FAF-B983-4F3D-8F3C-6F8E898C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05D-33A0-4F37-9C2E-279B6173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3DD-02CB-4BDC-AF53-5F975D6D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1B7-7398-4DA3-9233-951CC0BC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0C38-2B05-4C2D-89FB-FB75CA223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0358eocWgsHZvH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895356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  </a:t>
            </a:r>
            <a:r>
              <a:rPr b="1" lang="ar-SA" sz="3600" spc="-1" strike="noStrike">
                <a:solidFill>
                  <a:srgbClr val="ffff00"/>
                </a:solidFill>
                <a:latin typeface="Simplified Arabic"/>
                <a:cs typeface="Times New Roman"/>
              </a:rPr>
              <a:t>أنتم ملحُ الأرض، فإذا فَسَدَ الملحُ فأيُّ شيء يُملِّحهُ. </a:t>
            </a:r>
            <a:r>
              <a:rPr b="1" lang="en-US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00"/>
                </a:solidFill>
                <a:latin typeface="Simplified Arabic"/>
                <a:cs typeface="Times New Roman"/>
              </a:rPr>
              <a:t>إنـَّـهُ لا يَصلُـحُ</a:t>
            </a:r>
            <a:r>
              <a:rPr b="1" lang="en-US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Simplified Arabic"/>
                <a:cs typeface="Times New Roman"/>
              </a:rPr>
              <a:t>إلاَّ لأنْ يُطرَحَ في خارجِ الدارِ فيدوسَه الناسْ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     </a:t>
            </a:r>
            <a:r>
              <a:rPr b="1" lang="ar-SA" sz="3600" spc="-1" strike="noStrike">
                <a:solidFill>
                  <a:srgbClr val="ffff00"/>
                </a:solidFill>
                <a:latin typeface="Simplified Arabic"/>
                <a:cs typeface="Times New Roman"/>
              </a:rPr>
              <a:t>أنتم نورُ العالم، لا تَخفى مدينةٌ على جبلٍ، ولا يوقدُ سراجٌ </a:t>
            </a:r>
            <a:r>
              <a:rPr b="1" lang="en-US" sz="3600" spc="-1" strike="noStrike">
                <a:solidFill>
                  <a:srgbClr val="ffff00"/>
                </a:solidFill>
                <a:latin typeface="Simplified Arabic"/>
                <a:ea typeface="Times New Roman"/>
              </a:rPr>
              <a:t>   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فيوضــعَ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تحتَ المكيالْ، بلْ على المنارةِ ليضيءَ لجميعِ الذينَ همْ</a:t>
            </a: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Times New Roman"/>
              </a:rPr>
              <a:t>في  البيــت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86400" y="0"/>
            <a:ext cx="3200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 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لِيُضىءْ نورُكم هكذا للناسْ، 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ليَروا أعمالكُــمُ الصالحــة 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فيُمجّـدو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"/>
              </a:rPr>
              <a:t>أباكـــُــمُ الـــذي فــــي السمــاواتْ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50528335egXdII_ph" descr=""/>
          <p:cNvPicPr/>
          <p:nvPr/>
        </p:nvPicPr>
        <p:blipFill>
          <a:blip r:embed="rId1"/>
          <a:stretch/>
        </p:blipFill>
        <p:spPr>
          <a:xfrm>
            <a:off x="0" y="0"/>
            <a:ext cx="539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5:37:19Z</dcterms:created>
  <dc:creator>USER</dc:creator>
  <dc:description/>
  <dc:language>en-US</dc:language>
  <cp:lastModifiedBy>USER</cp:lastModifiedBy>
  <dcterms:modified xsi:type="dcterms:W3CDTF">2003-02-10T15:44:14Z</dcterms:modified>
  <cp:revision>1</cp:revision>
  <dc:subject/>
  <dc:title>PowerPoint Presentation</dc:title>
</cp:coreProperties>
</file>