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D2A-885C-4185-89BA-44C5256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FE1-899D-4DC2-A49C-E4D85F3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35B-C1A7-4B11-9BA0-43208365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196-0954-4473-ADE7-E80FB7F4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089-E93C-42F2-B746-C0CE0A5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1DB-2416-46B6-B5E2-9661F763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15A-91C9-4C5E-B149-ED624619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713-1C10-4030-93F9-842E5CB5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D78-C5A6-4F01-A042-F5B22D2E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1D1-B84E-40A3-BD61-82B45EC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AB7-1D8F-4AA6-B457-801A4547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7CE-C557-46DA-813F-FD680A63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B914-3AA7-41B6-B2C6-606917009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9600"/>
            </a:br>
            <a:br>
              <a:rPr sz="9600"/>
            </a:b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Tahoma"/>
              </a:rPr>
              <a:t>قادي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ب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10:03Z</dcterms:created>
  <dc:creator>Charbel Azar</dc:creator>
  <dc:description/>
  <dc:language>en-US</dc:language>
  <cp:lastModifiedBy>Charbel Azar</cp:lastModifiedBy>
  <dcterms:modified xsi:type="dcterms:W3CDTF">2002-02-08T21:10:14Z</dcterms:modified>
  <cp:revision>1</cp:revision>
  <dc:subject/>
  <dc:title>PowerPoint Presentation</dc:title>
</cp:coreProperties>
</file>