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D98B-796E-415B-A80E-28AF68F8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5380-803B-4B41-B771-5E56C831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7DAB-2F47-401A-BC9F-56384B34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1A8B-0DCC-44D6-9586-BB8447DA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9C25-ED58-4EE1-BCAA-E9983ABF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898E-05CD-473B-A54A-A48C389E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6E28-691D-49F8-BFEC-58765629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42C1-7DAE-49FF-95AC-1F37D366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BC12-04AF-46CE-A092-1F76CEA7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4BF1-C5EE-4DAA-9EA6-C10FCA1A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8ED4-87EB-45FB-ABC8-606AD09A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9E3A-F48D-441C-8331-B2F39CC6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5786-E530-4372-9789-0B65C8D45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oliday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962520"/>
            <a:ext cx="86868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Arabic Transparent"/>
                <a:cs typeface="Arabic Transparent"/>
              </a:rPr>
              <a:t>قد محوتُ كالسَّحابِ معاصِيَكَ وكالغَمامِ خطاياكَ إرجَعْ إليَّ فإني افتَدَيْتُكَ ولن أنساك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قد محوتُ كالسَّحابِ معاصِيَكَ وكالغَمامِ خطاياكَ إرجَعْ إليَّ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فإني افتَدَيْتُكَ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2901341hwAoAJDEMV_ph" descr=""/>
          <p:cNvPicPr/>
          <p:nvPr/>
        </p:nvPicPr>
        <p:blipFill>
          <a:blip r:embed="rId1"/>
          <a:stretch/>
        </p:blipFill>
        <p:spPr>
          <a:xfrm>
            <a:off x="3581280" y="0"/>
            <a:ext cx="61959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581280" cy="93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لا تَخَفْ دَعَوْتُكَ  باسمِكَ وَ أنتَ لي إذا اجتزتَ في المياه فأكونُ مع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إن عَبَرتَ في الأنهارْ لا تَغمُرُكَ وإن سِرْتَ في النارْ لا تلذَعُ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لأني أنا الربُّ فاديك جبيلُكَ في البطنِ صنيعُ كلِّ شي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Times New Roman"/>
              </a:rPr>
              <a:t>لأني أنا الربُّ فاديك فإني قد أحبَبْتُكَ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holiday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962520"/>
            <a:ext cx="86868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Arabic Transparent"/>
                <a:cs typeface="Arabic Transparent"/>
              </a:rPr>
              <a:t>قد محوتُ كالسَّحابِ معاصِيَكَ وكالغَمامِ خطاياكَ إرجَعْ إليَّ فإني افتَدَيْتُكَ ولن أنساك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قد محوتُ كالسَّحابِ معاصِيَكَ وكالغَمامِ خطاياكَ إرجَعْ إليَّ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فإني افتَدَيْتُكَ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aby900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4572000" cy="85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8f8f8"/>
                </a:solidFill>
                <a:latin typeface="Times New Roman"/>
                <a:cs typeface="Arabic Transparent"/>
              </a:rPr>
              <a:t>هل تنسى المرأة رضيعَها فلا ترحمُ طفلَها إذا نسيَتِ النساء فأنا لا أنسا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8f8f8"/>
                </a:solidFill>
                <a:latin typeface="Times New Roman"/>
                <a:cs typeface="Arabic Transparent"/>
              </a:rPr>
              <a:t>ها أنا نقَشْتُكَ على كفَّيَّ وأنتَ أمامَ عينيَّ في كلِّ حي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8f8f8"/>
                </a:solidFill>
                <a:latin typeface="Times New Roman"/>
                <a:cs typeface="Arabic Transparent"/>
              </a:rPr>
              <a:t>حيٌّ أنا يقولُ الرب خلاصي إلى الأبدِ أمانتي  مدى الده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8f8f8"/>
                </a:solidFill>
                <a:latin typeface="Times New Roman"/>
                <a:cs typeface="Arabic Transparent"/>
              </a:rPr>
              <a:t>حيٌّ أنا يقولُ الرب من يَثِقُ بي لا يَخز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8f8f8"/>
                </a:solidFill>
                <a:latin typeface="Times New Roman"/>
                <a:cs typeface="Times New Roman"/>
              </a:rPr>
              <a:t>حيٌّ أنا يقولُ الرب من يَثِقُ بي لا يَخزى</a:t>
            </a:r>
            <a:r>
              <a:rPr b="0" lang="ar-SA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holiday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962520"/>
            <a:ext cx="86868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Arabic Transparent"/>
                <a:cs typeface="Arabic Transparent"/>
              </a:rPr>
              <a:t>قد محوتُ كالسَّحابِ معاصِيَكَ وكالغَمامِ خطاياكَ إرجَعْ إليَّ فإني افتَدَيْتُكَ ولن أنساك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قد محوتُ كالسَّحابِ معاصِيَكَ وكالغَمامِ خطاياكَ إرجَعْ إليَّ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فإني افتَدَيْتُكَ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8:27:28Z</dcterms:created>
  <dc:creator>SUZANNE.MD</dc:creator>
  <dc:description/>
  <dc:language>en-US</dc:language>
  <cp:lastModifiedBy>USER</cp:lastModifiedBy>
  <dcterms:modified xsi:type="dcterms:W3CDTF">2003-02-20T13:46:35Z</dcterms:modified>
  <cp:revision>2</cp:revision>
  <dc:subject/>
  <dc:title>PowerPoint Presentation</dc:title>
</cp:coreProperties>
</file>