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603-9444-4FF7-B85A-9BE0BBB4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E63-2AEE-4C07-B456-5303A79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BA7-78C0-4F06-BA9E-F24801DF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3F5-F60C-4E2A-B96C-1F5B71AA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89B-2092-4F9F-83AB-C5C3E459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C7A-A1AA-4563-8557-5C853A65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34C-4851-47E8-BAD4-B20B64E4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875-D84D-407F-80B0-DA43A7FF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C9A-2CC5-40FC-88D1-C0E9300E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D9F-7638-4DF3-A281-0629577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927-5C78-4D2D-A1AE-3308B194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451-CED6-4263-B140-DB64722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D0D-6D11-456E-81BB-07972925B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28760" y="3618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شكر ربي أنا الإنس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 صورة الله خلق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ا نعماتو السما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مزروعة في كل م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ذكر محبته الغني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بتعيشنا بأ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32800" y="2286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عايش بالخط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سلم حالي للنس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نقصني شوية إرا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تفة محبة وإي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عطيني توبة حقيق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دخل بقلبي الحن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32800" y="3618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فرح وبهلل لعياد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نت يا رب الأكو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بلني واحد من أولا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محبتك أنا جوع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عبة اتخلى عن در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ح تبقى بقلبي دف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1:12Z</dcterms:modified>
  <cp:revision>2</cp:revision>
  <dc:subject/>
  <dc:title>PowerPoint Presentation</dc:title>
</cp:coreProperties>
</file>