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0FCE-9ED2-4188-8C03-1D3582657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D4D4-07F9-4F6A-8193-9BFB1128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F22A-CBC3-4663-8CC1-2134B10D6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2DD6-0FEB-4EC6-9B92-C241D0129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D1A3-BEC5-4FB9-AA9A-F50CA1EDE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EABEA-0591-41E9-B01C-8DDC7366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FE83-6763-4C5E-BBC6-5DA7C7AA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4E6E-EFB0-479E-AB52-42DF181E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F24A-874A-4BD7-8CA1-D2CB5C74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C779-4ACB-4027-814D-E08BE9DD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4996-29A6-4BC9-99D1-C6720EC6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D5B0-6975-47BC-AC9E-D7F2690E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3B2A-A697-46A8-903E-E7CB79CA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CB2D-CCE5-4FDE-807B-0AEA57D5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612D-4307-4ADB-9CAA-622947DF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B4C1-02F3-4DE3-A868-7CEEB6531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1B39-2122-4090-840A-5280DEAF7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0235-D245-4C6F-B985-BBBB6C2D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7E42-F1B1-4876-AFD5-B98BA71E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E8BB-3F94-4CA0-8198-146D02A3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C7F1-05DF-41AE-BFC8-B0932081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8B64-6B50-472D-95E9-96B7D9D8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C50B-4FB6-43EE-91C6-8A3A83CD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1AA2-657C-4968-8955-B8A2BB65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60ED-9B6F-4C71-A359-55E00DF7BE5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10FF-05DC-4811-B436-7577F589AEC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83" name=""/>
          <p:cNvSpPr/>
          <p:nvPr/>
        </p:nvSpPr>
        <p:spPr>
          <a:xfrm>
            <a:off x="3995640" y="0"/>
            <a:ext cx="5148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0000"/>
                </a:solidFill>
                <a:latin typeface="Tahoma"/>
                <a:cs typeface="????Boutros Rokaa"/>
              </a:rPr>
              <a:t>حنانك يا رب الأكوان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581280" y="2133720"/>
            <a:ext cx="556272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طرحتُ منايَ وآمال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لديكَ وكلّ رجائي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18000" y="2133720"/>
            <a:ext cx="556236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أنتَ ملاذي ومآل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إليكَ وفيكَ نجات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18000" y="1844640"/>
            <a:ext cx="556236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حنان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ا ربّ الأكوان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إليكَ رفعتُ صلات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46360" y="1844640"/>
            <a:ext cx="556272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نا إن أحيا فبالإيمان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شرِّفُ معنى حيات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618000" y="1844640"/>
            <a:ext cx="556236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حنان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ا ربّ الأكوان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إليكَ رفعتُ صلات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46360" y="1844640"/>
            <a:ext cx="556272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نا إن أحيا فبالإيمان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شرِّفُ معنى حيات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9280" y="2084400"/>
            <a:ext cx="489744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سمعتُ نداءَكَ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ا ربّ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جلجِلُ في أعماقي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060640"/>
            <a:ext cx="489744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صدىً يتجاوب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في قلب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مع النغم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خفّاقِ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995640" y="1989000"/>
            <a:ext cx="514836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00"/>
                </a:solidFill>
                <a:latin typeface="Tahoma"/>
                <a:cs typeface="Akhbar MT"/>
              </a:rPr>
              <a:t>فسرتُ بهَديكَ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00"/>
                </a:solidFill>
                <a:latin typeface="Tahoma"/>
                <a:cs typeface="Akhbar MT"/>
              </a:rPr>
              <a:t>في درب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00"/>
                </a:solidFill>
                <a:latin typeface="Tahoma"/>
                <a:cs typeface="Akhbar MT"/>
              </a:rPr>
              <a:t>وبي ظمأُ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00"/>
                </a:solidFill>
                <a:latin typeface="Tahoma"/>
                <a:cs typeface="Akhbar MT"/>
              </a:rPr>
              <a:t>الـمشتاقِ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2060640"/>
            <a:ext cx="556272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00"/>
                </a:solidFill>
                <a:latin typeface="Tahoma"/>
                <a:cs typeface="Akhbar MT"/>
              </a:rPr>
              <a:t>لـمنهَلِكَ الصافي العذب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00"/>
                </a:solidFill>
                <a:latin typeface="Tahoma"/>
                <a:cs typeface="Akhbar MT"/>
              </a:rPr>
              <a:t>أروّي به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00"/>
                </a:solidFill>
                <a:latin typeface="Tahoma"/>
                <a:cs typeface="Akhbar MT"/>
              </a:rPr>
              <a:t>أمنيات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618000" y="1844640"/>
            <a:ext cx="556236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حنان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ا ربّ الأكوان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إليكَ رفعتُ صلات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46360" y="1844640"/>
            <a:ext cx="556272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نا إن أحيا فبالإيمان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شرِّفُ معنى حيات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63640" y="2133720"/>
            <a:ext cx="556272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روّعني صخبُ البحر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صوتُ قصيف الرعود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16000" y="2133720"/>
            <a:ext cx="556272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آنسُ منكَ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مع الفجر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فيضِ الرضى والجود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581280" y="2133720"/>
            <a:ext cx="556272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فيا مبدع الكونِ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مَن يدر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سواكَ بسرِ وجودي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80000" y="2205000"/>
            <a:ext cx="505908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فكم في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ا رب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من سرٍ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آياتٍ مذهلاتِ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618000" y="1844640"/>
            <a:ext cx="556236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حنان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ا ربّ الأكوان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إليكَ رفعتُ صلات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46360" y="1844640"/>
            <a:ext cx="556272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نا إن أحيا فبالإيمان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شرِّفُ معنى حيات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581280" y="2060640"/>
            <a:ext cx="556272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Tahoma"/>
                <a:cs typeface="Akhbar MT"/>
              </a:rPr>
              <a:t>إلهي إن أدعو فما لي سواكَ مجيب ندائي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1989000"/>
            <a:ext cx="630072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وحين أنوءُ بأثقالي فلي برضاك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عزائ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1:01:34Z</dcterms:created>
  <dc:creator>Charbel Azar</dc:creator>
  <dc:description/>
  <dc:language>en-US</dc:language>
  <cp:lastModifiedBy>ف</cp:lastModifiedBy>
  <dcterms:modified xsi:type="dcterms:W3CDTF">2006-11-13T21:30:57Z</dcterms:modified>
  <cp:revision>11</cp:revision>
  <dc:subject/>
  <dc:title>PowerPoint Presentation</dc:title>
</cp:coreProperties>
</file>