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EAF-3407-4E8E-B97F-C97BA554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425-BC0A-49ED-A569-5AC41F55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EC4-B47C-4D3A-9C4A-A5FC9E44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1E1-8D36-41F1-81A2-408D99F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017-0F0A-4EB2-97C9-09AA83F4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AD3-5178-41A4-B565-E1BD1E5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039-183A-4886-B2C5-3CE8D3C8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E0E-1FAC-4DF3-950F-BC67740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FEFF-4968-443E-8112-FBFB6E84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9C4-C842-466E-8857-06A165B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766-7E73-4084-92A1-E6359AC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703-843B-421D-A86A-38A0CB9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1FD-B6BD-4080-96E6-29C35211083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437000"/>
            <a:ext cx="5486400" cy="242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200" spc="-1" strike="noStrike">
                <a:solidFill>
                  <a:srgbClr val="000000"/>
                </a:solidFill>
                <a:latin typeface="Tahoma"/>
                <a:cs typeface="Ruqah2 Normal"/>
              </a:rPr>
              <a:t>لتقم صلاتي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840" y="5524560"/>
            <a:ext cx="9074160" cy="142524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73720"/>
            <a:ext cx="91440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ربِّ إليكَ صرختُ، أسْرِعْ إل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221440"/>
            <a:ext cx="80136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صِخْ لصوتي حينَ أصرُخُ إليك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415120"/>
            <a:ext cx="813744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68324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370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جعلْ يا ربِّ حارساً لفمي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5148360"/>
            <a:ext cx="60022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قيباً على بابِ شفتيَّ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95640" y="2060640"/>
            <a:ext cx="4648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ُقَمْ صلاتي كالبخورِ أمامَك ورفعُ كفيَّ كتقدمةِ الـمساء. 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415120"/>
            <a:ext cx="9144000" cy="149868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75440"/>
            <a:ext cx="89917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تُمل قلبي إلى أمر السوء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516640"/>
            <a:ext cx="8991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انغماس في جرائم النفاق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07080"/>
            <a:ext cx="8991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الرجال الفاعلين الإث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91080"/>
            <a:ext cx="91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اشى لي أن آكل من مستلذاتهم</a:t>
            </a:r>
            <a:endParaRPr b="0" lang="en-US" sz="8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5:29Z</dcterms:created>
  <dc:creator>Charbel Azar</dc:creator>
  <dc:description/>
  <dc:language>en-US</dc:language>
  <cp:lastModifiedBy>-</cp:lastModifiedBy>
  <dcterms:modified xsi:type="dcterms:W3CDTF">2002-12-21T12:03:15Z</dcterms:modified>
  <cp:revision>6</cp:revision>
  <dc:subject/>
  <dc:title>PowerPoint Presentation</dc:title>
</cp:coreProperties>
</file>