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C15A-5DD4-45B5-9BBC-F6F67825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C450-4E15-44B5-8952-4EB73231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0EE-E205-4BB1-9790-82652306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103D-D5BA-400C-991F-F2C648CE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4719-5F12-4C61-ACBD-0110CB67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882-3C4D-4BEA-A3C2-0B6930B7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73E-1004-4BBC-83C9-D388ED45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3BE4-D5F1-42F0-BBC5-0AD1A7A8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7E3-FB0D-4C3B-B80A-F9B9F151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ED00-963B-4F1F-9810-091D7FE8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008-E3FD-4C4B-A59A-F385554B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0CC-9EE6-4155-8341-7869F224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9432-24A1-467E-9B9F-2726CEEC9FB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2" name=""/>
          <p:cNvSpPr/>
          <p:nvPr/>
        </p:nvSpPr>
        <p:spPr>
          <a:xfrm>
            <a:off x="4859280" y="3357720"/>
            <a:ext cx="4284720" cy="24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سيدي</a:t>
            </a:r>
            <a:br>
              <a:rPr sz="9600"/>
            </a:b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أعط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ا تعملوا للقوت الفاني بل اعملوا للقوت الباقي للحياة الأبدي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6" name=""/>
          <p:cNvSpPr/>
          <p:nvPr/>
        </p:nvSpPr>
        <p:spPr>
          <a:xfrm>
            <a:off x="0" y="2133720"/>
            <a:ext cx="4356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 من هذا الخبزِ دائماً أبدا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8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ا خبز الحياة، من يأتني لا يجُع أبدا ومن يؤمن بي لا يعطش أبد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0" name=""/>
          <p:cNvSpPr/>
          <p:nvPr/>
        </p:nvSpPr>
        <p:spPr>
          <a:xfrm>
            <a:off x="0" y="2133720"/>
            <a:ext cx="4356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 من هذا الخبزِ دائماً أبد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2" name=""/>
          <p:cNvSpPr/>
          <p:nvPr/>
        </p:nvSpPr>
        <p:spPr>
          <a:xfrm>
            <a:off x="2987640" y="1197000"/>
            <a:ext cx="6026040" cy="36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ا خبز الحياة، آباؤكم أكلوا المنّ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البريّة وماتو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98640" y="146160"/>
            <a:ext cx="8815680" cy="594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وذا الخبزُ النازل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السماء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يأكُلَ منه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إنسانُ فلا يمو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5" name=""/>
          <p:cNvSpPr/>
          <p:nvPr/>
        </p:nvSpPr>
        <p:spPr>
          <a:xfrm>
            <a:off x="0" y="2133720"/>
            <a:ext cx="4356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 من هذا الخبزِ دائماً أبد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7" name=""/>
          <p:cNvSpPr/>
          <p:nvPr/>
        </p:nvSpPr>
        <p:spPr>
          <a:xfrm>
            <a:off x="3598920" y="204804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أكل جسدي وشرب دم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له الحياة الأبدي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9" name=""/>
          <p:cNvSpPr/>
          <p:nvPr/>
        </p:nvSpPr>
        <p:spPr>
          <a:xfrm>
            <a:off x="0" y="2133720"/>
            <a:ext cx="4356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 من هذا الخبزِ دائماً أبد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6-06-27T11:32:15Z</dcterms:modified>
  <cp:revision>13</cp:revision>
  <dc:subject/>
  <dc:title>PowerPoint Presentation</dc:title>
</cp:coreProperties>
</file>