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077-F762-4F1B-AF2A-12E3EE9C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366-E2F8-462C-AD30-3052080D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9E4-57AF-4636-A382-7D4CF978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558-1E7E-472D-83B2-8CF4297B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A14-4036-470E-952D-DB3B7FB1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281-7B23-47D6-941C-574B5363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870-C82E-46BE-973A-6FD159EC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186-F9F2-41A5-BBC9-A092F4D7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383-8F2F-48CB-98D5-6E6742D6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13A-C3AB-49B6-854F-9DE174D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686-36AF-4CFB-8928-66EAC733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620-17C8-4788-92CC-C9281794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E39D-D322-4114-8E88-D76562DF2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825310RTEFHjwkP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7760" y="0"/>
            <a:ext cx="8445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ومرة بها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لزمان دخلت عقل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غمرني نورك ورحل النسي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ضحكت عيني ووصل صداه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 (Arabic)"/>
                <a:ea typeface="Times New Roman (Arabic)"/>
              </a:rPr>
              <a:t> لعند السما، لفرح الج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54_PG8028" descr=""/>
          <p:cNvPicPr/>
          <p:nvPr/>
        </p:nvPicPr>
        <p:blipFill>
          <a:blip r:embed="rId2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56480" y="0"/>
            <a:ext cx="5938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البحر والصد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يمكن ألف 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تركتك ونسيت العه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وبعيد الخوف ياخذ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ial"/>
              </a:rPr>
              <a:t>وما يبقى حدى حد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ial"/>
              </a:rPr>
              <a:t> يضل حبك ناط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risttheTwoThievesZo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5985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يا أول النبع، يا آخر الم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يا خالق الجمال والبحر والصد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حكيولي عن حبك (يا يسو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بعدو عم يروي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حدو اللي رح يبق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72640" y="4756320"/>
            <a:ext cx="864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وعطريق الشوك رافقني صلي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ea typeface="Arial"/>
              </a:rPr>
              <a:t> وصار ألم الأرض ممزوج بعذا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ial"/>
              </a:rPr>
              <a:t>جرحك غمر الكون، والدني كل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35:21Z</dcterms:modified>
  <cp:revision>6</cp:revision>
  <dc:subject/>
  <dc:title>PowerPoint Presentation</dc:title>
</cp:coreProperties>
</file>