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410-538B-4262-9D0C-AC7CD2F6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FA2-38B8-435C-9307-3EC60E66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55A-B48B-4EB1-BF1B-973D8666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2D8-B9DC-49B7-BA73-EA1BC79B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452-7FE4-46D1-B7BA-7F6F2FA5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CB5-8F58-4005-8C42-B1940CBE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4AD-4F35-4CC6-A49C-508D5A6D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A28-00A1-4946-A716-7B8C712E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92A-42C0-42DB-A7E4-8D3D02BF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3A6-6785-4330-81BC-AA2175C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C67-8209-4BD5-83A8-B20DC6A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162-27ED-4643-A35C-2B0E0315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B923-3A4C-4B58-A6A7-0C926497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582370xalGHMKHkU_ph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5234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6386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وقفتْ أقدامُنا في أبوابِكِ يا أورشليمُ،</a:t>
            </a:r>
            <a:br>
              <a:rPr sz="3800"/>
            </a:b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ليكِ صَعِد شعبُ اللهِ حَسَبَ دعوتِهِ ليَحمدَ اسمَ الر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1368130RjrjRHULen_ph" descr=""/>
          <p:cNvPicPr/>
          <p:nvPr/>
        </p:nvPicPr>
        <p:blipFill>
          <a:blip r:embed="rId2"/>
          <a:stretch/>
        </p:blipFill>
        <p:spPr>
          <a:xfrm>
            <a:off x="-21337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380880"/>
            <a:ext cx="2895480" cy="72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ناكَ نُصِبَ عرشٌ للحكمِ عرشُ الربِ بين شعبِهِ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نسألِ السلامَ للمؤمنينَ ليَسعدِ الذينَ يُحبُّونَه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8761956sSGxS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410080"/>
            <a:ext cx="8915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جل إخوتي وأخِلاَّئي أدعو بالسلامِ والبَرَكة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ِ بيتِ الربِّ ألتمِسُ الخيرَ فلنباركِ اللهَ كلُّ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2-08T06:32:14Z</dcterms:modified>
  <cp:revision>4</cp:revision>
  <dc:subject/>
  <dc:title>PowerPoint Presentation</dc:title>
</cp:coreProperties>
</file>