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BD1-BF2B-4730-9E04-0914E860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3373-FC3A-419C-9636-57C13D7B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28D-5924-4E52-B84A-E13FBE47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F077-7485-4EA6-AAFC-36824C0A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826-71F9-4CD1-B465-DD72A532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B4A4-CBAC-4C08-9EE6-5F5BEA39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825C-B75E-4F0F-BE6F-1CA28588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9D16-E98D-4D33-9B3C-1F6CF1B3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BBC8-DCA7-4AA0-8B33-A341F0FE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5FE-0F27-44E9-9999-02BA2E57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199B-7895-4FE5-A294-DEA5E2AB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43DC-33B3-47F6-A3DB-D8834152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2CA3-1243-4C06-86E5-D7AAE2B6B3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Arial"/>
                <a:cs typeface="????Boutros Rokaa"/>
              </a:rPr>
              <a:t>أبو دقوشتو</a:t>
            </a:r>
            <a:br>
              <a:rPr sz="8800"/>
            </a:br>
            <a:r>
              <a:rPr b="1" i="1" lang="ar-SA" sz="8800" spc="-1" strike="noStrike">
                <a:solidFill>
                  <a:srgbClr val="ffffff"/>
                </a:solidFill>
                <a:latin typeface="Arial"/>
                <a:ea typeface="Akhbar MT"/>
              </a:rPr>
              <a:t>(ترتيلة كان يرددها</a:t>
            </a:r>
            <a:br>
              <a:rPr sz="8800"/>
            </a:br>
            <a:r>
              <a:rPr b="1" i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مار شربل في قداسه)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Traditional Arabic"/>
              </a:rPr>
              <a:t>أَبُو دْقُوشْتُو، هُا برُخْ دِبْحاُ دَمْرَعِه لُخْ لْهُنُا قَبِل، دَحْلُفَي مِيتْ واتحاسِه بِ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أبَ الحقّ، ها هوّذا ، ابنكَ الحبيب، ذبيحةً ترضيك فاقبله، لأنه ماتَ لأجلي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3280" y="0"/>
            <a:ext cx="414036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ffffff"/>
                </a:solidFill>
                <a:latin typeface="Arial"/>
                <a:cs typeface="Traditional Arabic"/>
              </a:rPr>
              <a:t>هاُ قُوربُنا، سَبْ مِنْ إِيدَيْ، وِاتْراعُا لي، ولاُ تِتدْخَر لي حْطُهِا دسِعْرِتْ قْدُمْ رَبُوتُخ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50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خذ هذا القربان من يديّ، وارضَ عنّي، ولا تذكر لي خطايايَ التي فعلتها أمام عظمتك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32000" y="0"/>
            <a:ext cx="4211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ُا دْمه أَشِيدْ عَلْ غُغُولتُو مِتُلْ فُورْقُنْ وْبُعِه حْلُفَي قَبِل بُاعوتْ مِتُولُتِه كْمُو لي حَوْبِه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493236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هذا دمه المسفوك على الجلجلة لأجل خلاصي.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إنه يتوسّل من أجلي، فاقبل توسّله، بسببه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0000" y="0"/>
            <a:ext cx="41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400" spc="-1" strike="noStrike">
                <a:solidFill>
                  <a:srgbClr val="ffffff"/>
                </a:solidFill>
                <a:latin typeface="Arial"/>
                <a:cs typeface="Traditional Arabic"/>
              </a:rPr>
              <a:t>كْمُو لُخْ رَحْمِه إن تُقِلْ آت، حْنُنُخْ نُتَعْ تُبْ مِنْ طُورِه دَتْقِيلِينْ لُخْ.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بقدر ما عندي من خطايا، عندك انت من المراحم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فإن وزنتها، يرجح حنانك على ثقل الجبا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0" y="0"/>
            <a:ext cx="41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400" spc="-1" strike="noStrike">
                <a:solidFill>
                  <a:srgbClr val="ffffff"/>
                </a:solidFill>
                <a:latin typeface="Arial"/>
                <a:cs typeface="Traditional Arabic"/>
              </a:rPr>
              <a:t>حُورْ بَحْطُهِهْ وْحُورْ بَعْلُتُو دَحْلُيْفَيْهُونْ. وْسَغِي رَابُو عِلْتُا وْدِبْحُو مِنْ حَوْبوتو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انظر الخطايا وانظر ما حصل عنها من توبة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فالتوبة والضحية تتخطّان الخطايا بكثي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0000" y="0"/>
            <a:ext cx="41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ِتُلْ دَحْطِيتْ صِصِا ورومحُو سْبَلْ حَبِيبُخْ وسُفْقِينْ حَشَوْ دَنْرَعُونُخْ وَبْهونْ إيحِه.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فلأنّني خطئتُ احتمل  ابنك المسامير والحربة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ففي آلامه ما يرضيك وأحيا بها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0" y="0"/>
            <a:ext cx="41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ffffff"/>
                </a:solidFill>
                <a:latin typeface="Arial"/>
                <a:cs typeface="Traditional Arabic"/>
              </a:rPr>
              <a:t>شوبحو لابو دْشَدَر لَبْرِه مِتُلُتَنْ وْسِغِدْتو لَبْرُو، دبزقيفوتِه حَرَرْ خولُو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جدُ للآب الذي أرسل ابنه من أجل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والسجود للابن الذي بصلبه حرّرنا جميعا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0000" y="0"/>
            <a:ext cx="41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َوْدي لروحو دْبِه إشتَمْلي رُزْ فورقونَنْ. بريخ دَبْحوبِه أَحِي لْخُلَنْ ولِه تِشْبوحتو.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والشكر للروح الذي به تمّ سرّ خلاصنا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مبارك من يحبّه احيانا جميعاً. فله المج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1:36:41Z</dcterms:created>
  <dc:creator>Charbel Azar</dc:creator>
  <dc:description/>
  <dc:language>en-US</dc:language>
  <cp:lastModifiedBy>ف</cp:lastModifiedBy>
  <dcterms:modified xsi:type="dcterms:W3CDTF">2007-07-10T19:57:56Z</dcterms:modified>
  <cp:revision>4</cp:revision>
  <dc:subject/>
  <dc:title>أَبُو دْقُوشْتُو، هُا برُخْ دِبْحاُ دَمْرَعي لُخْ لْهُنُا قَبِل، دَحْلُفَي مِيتْ واتحاسِي بِه</dc:title>
</cp:coreProperties>
</file>