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E3B-74D2-48B5-B833-B788653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B1F-0C65-4A0A-A48A-BF9FD4CA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F3A-CF14-4D0E-B89A-31361C08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CC3-0E05-412F-9ECB-78FD2CC0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E5E-3C17-4D1F-A943-D2968B4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CBE-B7F7-42A5-96EB-7327329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986-F2B5-41FF-8A9D-AC4B20A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3DD-0785-443C-9DBE-D5CFD7B3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604-253B-4152-85AA-713D3BF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509-B535-4415-BCDC-CE57981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0E7-3AB9-4645-B81D-10EAA7E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154-A3BF-417D-A851-3BF6764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BD5F-0ADD-44F7-95AA-534C4355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894622lnkCImSXrf_ph" descr=""/>
          <p:cNvPicPr/>
          <p:nvPr/>
        </p:nvPicPr>
        <p:blipFill>
          <a:blip r:embed="rId1"/>
          <a:stretch/>
        </p:blipFill>
        <p:spPr>
          <a:xfrm>
            <a:off x="-457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057400"/>
            <a:ext cx="434340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بُّك ناداني أفاقَ غَفْو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نانُكَ ناداني أذاب </a:t>
            </a: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قس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امَكَ أسجدُ لمجدِك أخشَع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86868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سيّدي خطئتُ إليك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ن غُربتي أعدْتَني 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عفوَكَ إلهي لِما فعلتُهُ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دمعةٍ وآهِ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 أنا سألْتُهُ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ِعدلِكَ أسجدُ لحُكْمِكَ أخشعُ (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 غُرْبَتي دَعَوتني إليك  يا سيّدي لبَّيْكَ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بَّيْ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4977" descr=""/>
          <p:cNvPicPr/>
          <p:nvPr/>
        </p:nvPicPr>
        <p:blipFill>
          <a:blip r:embed="rId1"/>
          <a:stretch/>
        </p:blipFill>
        <p:spPr>
          <a:xfrm>
            <a:off x="-2952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0"/>
            <a:ext cx="4800600" cy="10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 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ّها الحبيبُ الغفورُ نِعْم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قُربِكَ تَطيبُ صلاتي نَغْمَتي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 لِحبِّكَ أسجدُ بقربِكَ أخشعُ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09:48Z</dcterms:modified>
  <cp:revision>1</cp:revision>
  <dc:subject/>
  <dc:title>PowerPoint Presentation</dc:title>
</cp:coreProperties>
</file>