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877-DBAC-4F89-9A88-5ADCE7EA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FCA-22CB-47A2-9BA3-0A9C33E8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98F-5C3F-4946-8BE6-FBCD40FF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CD8-5AA3-45DF-A4FF-C8FB8718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01F7-B294-4C36-9F31-1D6F925C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F785-DB28-4B19-B0B4-6D2A7DE6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F81B-8CDD-4F70-AF21-C5AF57BE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5AB7-776F-49DA-9ABB-F78809C2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5ED9-5782-4E48-A470-353B60BB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F551-1E14-4C9D-BD3F-A2E858CE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78EC-31B7-446A-A95B-8128E15E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3AA-B816-452C-A89F-91EA64AF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0DC1-4D2E-49C5-8ED3-3ACF7689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B02A-01C5-4670-AC28-75BE31E0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6D18-E42D-48E9-9901-D37CAF0A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7F4B-5AF0-4F87-B6FD-8FF1DDB6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D7A0-A07A-4600-A0B1-0DCA3CDB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436-6126-47F7-92EC-9C6DA924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798-DA35-41B7-9269-B9671C98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E2A0-2701-478F-AE3F-08C847AA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9B6-9C9D-4A68-BB75-0532BA0D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617-3ECF-4D19-AEB9-67452F47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1E8-E2F5-416E-B622-C66354CC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420-FBE9-4D57-9D0A-007FD0BC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9A5C-9CAB-4CE9-8BDA-49BCEDEEF7E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DAE3-02AD-41BF-A911-DD12D0B1831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05740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حتّى متى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تّى متى سأظلّ واقفا أسير في مكاني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525780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</a:rPr>
              <a:t>حتّى متى سأبقى هكذ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75320"/>
            <a:ext cx="9144000" cy="42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فلا في ا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م من مرّة نويت و لم أفعل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388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كم من مرّة وعدت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ea typeface="????Boutros Rokaa"/>
              </a:rPr>
              <a:t> و لم أف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 أعود,  أعود اليك فأراك لم تغفل, تحنو عليّ تماما مثل الأب (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ea typeface="Akhbar MT"/>
              </a:rPr>
              <a:t>3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ea typeface="Akhbar MT"/>
              </a:rPr>
              <a:t>)  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تّى متى سأظلّ واقفا أسير في مكاني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25780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</a:rPr>
              <a:t>حتّى متى سأبقى هكذ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675320"/>
            <a:ext cx="9144000" cy="42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فلا في ا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م من مرّة نويت و لم أفعل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2388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كم من مرّة وعدت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ea typeface="????Boutros Rokaa"/>
              </a:rPr>
              <a:t> و لم أف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 أعود,  أعود اليك فأراك لم تغفل, تحنو عليّ تماما مثل الأب (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ea typeface="Akhbar MT"/>
              </a:rPr>
              <a:t>2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ea typeface="Akhbar MT"/>
              </a:rPr>
              <a:t>)  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981080"/>
            <a:ext cx="60199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ريد أن أدخل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الى أعماقك فأسبح نهر حبّك  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828800"/>
            <a:ext cx="449568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ريد أن أسكن بقرب قلبك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2" name=""/>
          <p:cNvSpPr/>
          <p:nvPr/>
        </p:nvSpPr>
        <p:spPr>
          <a:xfrm>
            <a:off x="0" y="1981080"/>
            <a:ext cx="57913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أنفق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 العمر لك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6:11Z</dcterms:created>
  <dc:creator>Charbel Azar</dc:creator>
  <dc:description/>
  <dc:language>en-US</dc:language>
  <cp:lastModifiedBy>Personal</cp:lastModifiedBy>
  <dcterms:modified xsi:type="dcterms:W3CDTF">2008-04-26T08:06:01Z</dcterms:modified>
  <cp:revision>9</cp:revision>
  <dc:subject/>
  <dc:title>PowerPoint Presentation</dc:title>
</cp:coreProperties>
</file>