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95C5-181B-47C1-A91D-ACB3454FF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FA5A-5771-4AC0-A796-984FD9935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58AE-0FF3-4989-BA88-89770F29C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328E-E779-4CC0-8143-17A0F64DA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FD6F-C114-4BE8-A7B8-9A312182D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6366-C3B4-45F6-BD1F-7FB2AB0C3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5F0F-004C-4951-ADC9-92254B622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C9CA-638A-4CB3-8A80-595862E8D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497D-BFC8-485C-9C08-987137B7F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1A25-F5C9-4929-9867-40210D148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7AC4-EEAB-425E-9B5C-C565A2ED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1835-DD91-47A9-B15B-9E7466809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5DD03-322F-4119-9E84-7E27F9BFBE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NGEL24" descr=""/>
          <p:cNvPicPr/>
          <p:nvPr/>
        </p:nvPicPr>
        <p:blipFill>
          <a:blip r:embed="rId2"/>
          <a:stretch/>
        </p:blipFill>
        <p:spPr>
          <a:xfrm>
            <a:off x="0" y="1108080"/>
            <a:ext cx="4654440" cy="4641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028760" y="361800"/>
            <a:ext cx="54522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ن كل قلبي عم صليل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بقدملك حالي بخشو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ن كل قلبي بهدي ح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تمجد اسمك يسو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بشكر ربي أنا الإنسا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عا صورة الله خلقا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عا نعماتو السماو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لمزروعة في كل مكا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بذكر محبته الغنية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لبتعيشنا بأما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ANGEL24" descr=""/>
          <p:cNvPicPr/>
          <p:nvPr/>
        </p:nvPicPr>
        <p:blipFill>
          <a:blip r:embed="rId2"/>
          <a:stretch/>
        </p:blipFill>
        <p:spPr>
          <a:xfrm>
            <a:off x="0" y="1108080"/>
            <a:ext cx="4654440" cy="4641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132800" y="228600"/>
            <a:ext cx="54522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ن كل قلبي عم صليل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بقدملك حالي بخشو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ن كل قلبي بهدي ح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تمجد اسمك يسو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نا العايش بالخط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بسلم حالي للنسيا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بتنقصني شوية إراد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نتفة محبة وإيما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عطيني توبة حقيق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بدخل بقلبي الحنا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ANGEL24" descr=""/>
          <p:cNvPicPr/>
          <p:nvPr/>
        </p:nvPicPr>
        <p:blipFill>
          <a:blip r:embed="rId2"/>
          <a:stretch/>
        </p:blipFill>
        <p:spPr>
          <a:xfrm>
            <a:off x="0" y="1108080"/>
            <a:ext cx="4654440" cy="4641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132800" y="361800"/>
            <a:ext cx="54522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ن كل قلبي عم صليل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بقدملك حالي بخشو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ن كل قلبي بهدي ح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تمجد اسمك يسو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بفرح وبهلل لعيادك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إنت يا رب الأكوا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قبلني واحد من أولاد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بمحبتك أنا جوعا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صعبة اتخلى عن درب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رح تبقى بقلبي دفيا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1T13:59:33Z</dcterms:created>
  <dc:creator>USER</dc:creator>
  <dc:description/>
  <dc:language>en-US</dc:language>
  <cp:lastModifiedBy>USER</cp:lastModifiedBy>
  <dcterms:modified xsi:type="dcterms:W3CDTF">2002-10-31T14:01:12Z</dcterms:modified>
  <cp:revision>2</cp:revision>
  <dc:subject/>
  <dc:title>PowerPoint Presentation</dc:title>
</cp:coreProperties>
</file>