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F73-7981-4186-BFDB-F9E62C07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EEB-F1FA-424F-891F-C3CD21D1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581-F641-4782-82AA-5E7347C8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EEB-F77A-4BBE-AC3F-D96A71DF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350-40C9-4C2C-96C9-A92FF401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906-BA7B-434A-87DF-DB749729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238-8819-4909-AA91-E56AF369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6FF-B2FB-4789-A1E4-640A4B0D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E5B-2A1D-4FD6-A5F3-D17DB953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54A-A22C-4313-BEC8-00E94248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AAA-5EFB-4954-B35C-BEFE1415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60A-5F48-441F-B21B-609CE687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AEAB-9F5B-47E8-8F5F-48D482222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18320" y="174600"/>
            <a:ext cx="7308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حسبي أن أكون خادم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ي بيتك طول أيام حيا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ذ صبائي قلبي يهفو إلي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ليس أحد سواك يملأ فراغ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حنين يشدني إليك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نعمتك تكتنفني فعندك هدو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قلب وصفو الأفك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أمامك ندرك حقيقة الوجو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بفيض حبك أدخل في بيت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بخشيتك أسجد في هيكل قدس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محبتك أطيب من الحيا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ك تسبح شفتا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5:23:12Z</dcterms:created>
  <dc:creator>HANI SAFI</dc:creator>
  <dc:description/>
  <dc:language>en-US</dc:language>
  <cp:lastModifiedBy>HANI SAFI</cp:lastModifiedBy>
  <dcterms:modified xsi:type="dcterms:W3CDTF">2003-04-12T05:23:40Z</dcterms:modified>
  <cp:revision>1</cp:revision>
  <dc:subject/>
  <dc:title>Slide 1</dc:title>
</cp:coreProperties>
</file>