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615-B86A-41A6-A9EF-2042E08A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565-53F1-423F-9ABC-A2DE8D0F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1BA-3CDF-47D3-BF3C-76EC66CD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95F-CEAC-4A46-AB63-F150A11E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4B4-118E-4687-8A15-35413086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AE7-63D1-442C-9A73-AB95472C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32C-9566-43B9-9D3D-98C56E2B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378-97A4-42FE-8783-340FC79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AD1-371E-4490-A878-9026709F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B89-54F3-47FF-BBD7-DEBB3A9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55F-18DC-47C9-9C8E-E552818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C67-88A6-4A94-B684-AB043403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DD52-35C8-4C49-BB5A-B3705BB13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685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04920"/>
            <a:ext cx="2819160" cy="67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ا شعارُ فداء العال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ه الفرحُ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الحق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سلامُ القل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1033993tZfahx_ph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0"/>
            <a:ext cx="3429000" cy="79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جسدُكَ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دمُكَ الطاهرُ فاغس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اغسل يا ربِّ خطايا العال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لتحيى بروحِكَ أنفُسُنا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5:14Z</dcterms:modified>
  <cp:revision>2</cp:revision>
  <dc:subject/>
  <dc:title>PowerPoint Presentation</dc:title>
</cp:coreProperties>
</file>