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9DE-5D7E-4AD7-8FF1-22A6A804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1EC-A402-4CBF-83E8-FED20ABC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952-0882-43D1-8A8A-7371124C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D31-F732-42A1-A60B-7742F864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6CB-6448-4D19-9C64-4DDA4614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A13-04EC-4D08-B716-84FB22E1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9D0-D630-45BA-8DA8-C8574A05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48CD-4D0A-4C28-9253-078FE28F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3AD-8762-4C22-8383-CD588700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001-1178-45D6-AE01-D9639A59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3FC-9C52-4E66-8EE6-01D8B4E3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75E-A918-4BAA-B8A5-2D759809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BD2B-5026-498B-9FCA-E081F5EFB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218930oKHvfCUQyf_ph" descr=""/>
          <p:cNvPicPr/>
          <p:nvPr/>
        </p:nvPicPr>
        <p:blipFill>
          <a:blip r:embed="rId2"/>
          <a:stretch/>
        </p:blipFill>
        <p:spPr>
          <a:xfrm>
            <a:off x="228600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2057400" cy="89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لتُ إني أُحافِظ على طُرُقي لِئلا أَخطأُ وأحفَظُ فمي مُلجم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ا دامَ المُنافِقُ أمامي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6257861dvzHEdJlP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8839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رجتُ ساكناً صمَتُّ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          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بِمعزِلٍ عن الخير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هاجَ وجعي توهَّجَ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 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لبي في داخلي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257881GtFSRoCSIN_ph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34320" y="457200"/>
            <a:ext cx="17524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هذيذي اتقدت فيَّ نارٌ فأطلقتَ لِسا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1940193eoCHDP_ph" descr=""/>
          <p:cNvPicPr/>
          <p:nvPr/>
        </p:nvPicPr>
        <p:blipFill>
          <a:blip r:embed="rId1"/>
          <a:stretch/>
        </p:blipFill>
        <p:spPr>
          <a:xfrm>
            <a:off x="33526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380880"/>
            <a:ext cx="25909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لآنَ ما الذي أرجوهُ أيها السيدُ إنما أنتَ أملي أنقِذني من جميعِ مَعاصيَّ ولا تجعلني للأحمقِ عاراً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5324937uKhisKVkwI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91320" y="380880"/>
            <a:ext cx="2895480" cy="88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د خرِستُ لم أفتح فمي لأنكَ أنتَ فعلتَ إصرف عني ضربتَ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قد فنيتُ من بطشِ يدك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49165714WSZoyV_ph" descr=""/>
          <p:cNvPicPr/>
          <p:nvPr/>
        </p:nvPicPr>
        <p:blipFill>
          <a:blip r:embed="rId1"/>
          <a:stretch/>
        </p:blipFill>
        <p:spPr>
          <a:xfrm>
            <a:off x="-101520" y="0"/>
            <a:ext cx="61974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24480" y="380880"/>
            <a:ext cx="281952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ستمع صلاتي يا ربِ وأَصخْ لاستغاثتي ولا تصمُت عن دموعي فإني غريبٌ عندَك ونزيلٌ كجميعِ أبائي</a:t>
            </a:r>
            <a:r>
              <a:rPr b="1" lang="ar-S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9:32:11Z</dcterms:created>
  <dc:creator>SUZANNE.MD</dc:creator>
  <dc:description/>
  <dc:language>en-US</dc:language>
  <cp:lastModifiedBy>USER</cp:lastModifiedBy>
  <dcterms:modified xsi:type="dcterms:W3CDTF">2003-01-28T15:11:25Z</dcterms:modified>
  <cp:revision>2</cp:revision>
  <dc:subject/>
  <dc:title>PowerPoint Presentation</dc:title>
</cp:coreProperties>
</file>