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B7A-2B3F-445C-9E6F-91352CE8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8CC-3406-418E-B067-9A718AC8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67A-4ABF-4A41-AA91-8B7E7E2E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692-C62F-44A2-922A-E4E22CC6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16B-4585-460A-9A2B-50C733BF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2CE-BE4E-432A-B09B-B5298586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32F-C6C8-4BDC-815E-6835D318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FB3-D5F3-4619-81D0-324367AA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080-94BD-40D4-913A-03E5FFE7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289-357F-40A5-9D1A-CFAC8FCE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DE6-7367-4F19-81D9-333F8834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78F-C1F5-4F63-903A-F2EC25BF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FD50-F62D-4AB9-8334-FA3DDF59D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6SIM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098360" y="5867280"/>
            <a:ext cx="11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الآن حسب َ قولِكَ تُطلقُ عبدَكَ يا سيدي بسل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13843cCRujYBHua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0"/>
            <a:ext cx="3276720" cy="77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 فقد رأت عينايَ خلاصَك الذي أعدَدته أمام الأم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نوراً لكل الشعوب أُضي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ومجداً لشعبِك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إسرائيل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6SIM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098360" y="5867280"/>
            <a:ext cx="11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الآن حسب َ قولِكَ تُطلقُ عبدَكَ يا سيدي بسل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22" descr=""/>
          <p:cNvPicPr/>
          <p:nvPr/>
        </p:nvPicPr>
        <p:blipFill>
          <a:blip r:embed="rId1"/>
          <a:stretch/>
        </p:blipFill>
        <p:spPr>
          <a:xfrm>
            <a:off x="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0"/>
            <a:ext cx="304812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المجد للآب الذي أَحبنا ولابنه الذي بموتِهِ خلّص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مجد للروح الساكنِ في قلوبِنا الآن وإلى أبدِ الآبدين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6SIM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098360" y="5867280"/>
            <a:ext cx="11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الآن حسب َ قولِكَ تُطلقُ عبدَكَ يا سيدي بسل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7:11:34Z</dcterms:created>
  <dc:creator>SUZANNE.MD</dc:creator>
  <dc:description/>
  <dc:language>en-US</dc:language>
  <cp:lastModifiedBy>USER</cp:lastModifiedBy>
  <dcterms:modified xsi:type="dcterms:W3CDTF">2003-02-21T03:03:19Z</dcterms:modified>
  <cp:revision>3</cp:revision>
  <dc:subject/>
  <dc:title>PowerPoint Presentation</dc:title>
</cp:coreProperties>
</file>