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CCD-BE6F-4AE7-AF91-AB5F7919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0AF-83F7-471C-A581-D2E3E70E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BBB-175D-4289-A1B7-EE8D49CD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16E-8D16-4309-AEC5-8D2FCAC0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DE43-67E2-4407-A47A-97F2CCFC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05A3-AEED-42B2-A8A6-B4BBE1EA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1E0D-5E92-45D6-9AC1-C895DC5C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6579-1445-499E-93D6-079DB818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008E-6C44-4790-A726-98EEDE2F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9E9A-F33B-4528-8BC7-8F4B42E6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DFA9-5564-43A4-B13B-B787B6C6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5A1-7758-4DDB-8BD7-2D4729B3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2F0C-0090-4887-8E71-92BF047D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8C6C-124B-459C-8D11-E44C0D59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A342-2903-4D25-BCA1-CF81493B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6800-4FA3-4A3A-9155-C8C5E1E9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E66B-66CE-4738-993F-22EBF5EA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DF5-1F61-4326-864B-A35EE25F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49B-1FB7-4A67-9A28-505BEACD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715-2A9D-4B7E-B15B-C314D8DB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1E4-2EE6-44BE-9E8C-5BC81301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131-0080-4F32-BCFF-996D9D31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8F7-51A9-4A02-B0C3-0BA176D8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B63-6F80-4B1F-9398-A27E0B55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7F41-1DF5-4C5A-A3BC-83FDD9146C4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F94F-6BE4-4B8C-9A51-8AFC6267FEA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586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900"/>
            </a:br>
            <a:r>
              <a:rPr b="0" lang="ar-SA" sz="18900" spc="-1" strike="noStrike">
                <a:solidFill>
                  <a:srgbClr val="ffffff"/>
                </a:solidFill>
                <a:latin typeface="Times New Roman"/>
                <a:cs typeface="????Boutros Rokaa"/>
              </a:rPr>
              <a:t>أومن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38088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cc00"/>
                </a:solidFill>
                <a:latin typeface="Tahoma"/>
                <a:cs typeface="Akhbar MT"/>
              </a:rPr>
              <a:t>أومن أن خلفَ الحبات الوادعات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cc00"/>
                </a:solidFill>
                <a:latin typeface="Tahoma"/>
                <a:cs typeface="Akhbar MT"/>
              </a:rPr>
              <a:t>تزهو جنات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380880"/>
            <a:ext cx="861048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ليل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عاتي الأمواج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علو سراج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0" y="1981080"/>
            <a:ext cx="4572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أومن أنّ القلبَ الـملقى فـي الأحزان يلقى الحنا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19240"/>
            <a:ext cx="380988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كلّي إيمان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يمان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04804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ريح الهوجاءِ.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شفا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تتلو الصلاه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124080" y="181944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ْ في صمتِ الكونِ الـمقفلِ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َن يصغي ل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0"/>
            <a:ext cx="7620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نّي إذ ترنو عيناي</a:t>
            </a:r>
            <a:r>
              <a:rPr b="1" lang="ar-LB" sz="82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لسماء تصفو الأضواء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ألحا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19240"/>
            <a:ext cx="380988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كلّي إيمان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يمان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9:56Z</dcterms:created>
  <dc:creator>Charbel Azar</dc:creator>
  <dc:description/>
  <dc:language>en-US</dc:language>
  <cp:lastModifiedBy>-</cp:lastModifiedBy>
  <dcterms:modified xsi:type="dcterms:W3CDTF">2002-12-21T12:21:34Z</dcterms:modified>
  <cp:revision>6</cp:revision>
  <dc:subject/>
  <dc:title>PowerPoint Presentation</dc:title>
</cp:coreProperties>
</file>