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AB5-64D1-4DD8-BB69-2A67398C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77D-BD77-4D4B-9390-BCF33719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7BE-0683-4B61-9CB4-7FFEED2C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376-D4A4-4B2A-984C-B0889D89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405C-740E-4F5E-9CBE-80153E39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C9BD-012E-4274-9A83-57CE6CF6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6D13-DF1E-4DE8-95A5-4193275B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B7C5-F8B3-4CF0-B17C-4A5067E5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0537-2884-4602-ABAD-8413258E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74A7-807B-4CDC-A9DC-5E0CF922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4FE6-FACA-4BA3-BF0D-7E5D0F37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CD59-6624-4217-A7CC-4FFC9608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22D2-B715-4B95-8D33-36EA204A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4CAD-48CB-4649-918A-24EB12BE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DAB0-6873-40BA-87FE-7BE91EF6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8D7C-8C21-4C1D-A7BF-97C0BF8B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FB7C-1B91-4273-B716-1B444B8C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F427A-C5C6-44B9-AA18-7D2EA916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C29BC-128C-4B33-8F2E-B7E2F463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161B1-0946-4A40-9FA5-056DBDAB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1774D-6FE6-472E-A5A0-C4987177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1A039-B615-4C8B-B758-C0FDB973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F178-0D74-4C33-9892-85AFA98C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86D1C-CBCE-430D-9D88-88547515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DFC4A-7F07-49BB-AC4F-D875B373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2522F-FCF3-4E1F-89CF-406A8571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60D78-AB15-4238-AFF9-2979772C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FBC9C-6E19-444F-8DF8-E98C3455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98344-8EB9-43D8-B5FC-1DDC43B2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47D4B-51F7-4C35-955E-D853F79B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F25-57F4-4A11-89FD-F15C47F3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098D-0B23-4D04-B3C9-CC247B6A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52D-C821-4219-BB52-070704C2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2F4-23D4-4786-9F40-DEC3459C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E39-133D-4A15-99DA-E52CB01B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853-8E0C-4608-B2CC-BF106F8C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E865-9D4C-428F-A398-29B2213AA2A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8959-CF75-44AA-A3B3-5735EEF7C26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245F-DCFC-4954-B09E-AEE9E86E809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797360"/>
            <a:ext cx="9144000" cy="206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إلهي رفعت إليك يدي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2160" y="198108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فعتُ إليكَ يد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9880" y="0"/>
            <a:ext cx="79232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ذا شعارُ فـداءِ العالـ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يه الفرحُ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فيه الحق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فيه سلامُ القلب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2160" y="198108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فعتُ إليكَ يد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8000" y="0"/>
            <a:ext cx="75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هذا جسدُكَ هذا دمُكَ الطاهر فاغسلْ، فاغسلْ يا ربِّ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خطايا العالم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لْتَحْيَ بروحِكَ أَنْفُسُ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2160" y="198108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فعتُ إليكَ يد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51280" y="836640"/>
            <a:ext cx="457200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رفعتُ إليكَ يدي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8-01T19:00:06Z</dcterms:modified>
  <cp:revision>10</cp:revision>
  <dc:subject/>
  <dc:title>PowerPoint Presentation</dc:title>
</cp:coreProperties>
</file>