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7BB-2335-4A5A-A6B7-AA33D6D4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73F-CC34-4EED-B925-21873D4C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7A2-E6F9-4E26-BC33-3D901917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7E4-F482-4E3F-91E1-587227E3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6E8-BD1E-417B-AB81-1A7915D0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4BA-9FCC-4A9E-BF17-8BA3FD95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847-6F3B-4E88-B856-B1B1B6A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275-EDCB-49C9-B98A-97C3CFA9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0E3-8AF3-4895-AF37-35ECBCE6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662-5687-4F17-8B28-C1262EE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BE0-F902-4289-8D19-27E89A6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E59-0E3B-43A5-89F2-26AABAD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4B33-CC72-46DA-A79B-80EED9652C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0080"/>
            <a:ext cx="9144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لإخوةِ السّلامُ والمحبَّةُ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والإيمان مِنَ اللهِ الآب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والربِ يسوع المسيحْ.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فليَكُن إلهُ السّلام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معكم أجمعين. آمين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20:29:03Z</dcterms:created>
  <dc:creator>Charbel Azar</dc:creator>
  <dc:description/>
  <dc:language>en-US</dc:language>
  <cp:lastModifiedBy>-</cp:lastModifiedBy>
  <dcterms:modified xsi:type="dcterms:W3CDTF">2003-04-18T11:49:51Z</dcterms:modified>
  <cp:revision>4</cp:revision>
  <dc:subject/>
  <dc:title>للإخوةِ السّلامُ والمحبَّةُ والإيمان مِنَ اللهِ الآبِ والربِ يسوعَ المسيحْ. فليَكُن إلهُ السّلامِ معكم أجمعين. آمين.</dc:title>
</cp:coreProperties>
</file>