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1812-9B50-4B01-978F-B9017B1BB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9383-4A82-43E2-9A2F-910EF14F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73F2-1083-40F9-B6E4-08CB1FF08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357C-F337-46E1-A27B-BE5C319AF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BF4F-D7A0-47A6-BD8A-4054D6E1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AD38-F761-4020-8916-B8D0EEF0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4D0E-117D-464B-AD9B-9482F260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2C54-E847-40C4-A42F-936E40F3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27CD-F528-45F2-BC01-50AAD18C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31A1-2FF0-4634-9366-02A948ED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7058-5288-46BD-8CC0-CD21C258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5FAF-AC95-4938-A08F-E23138BC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54D4-6D77-4AA6-A897-F8BBC23BC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1906207kQXBgfdFwz_ph" descr="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0"/>
            <a:ext cx="8915400" cy="32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َن أنا لأصيرَ من شعبِك   من دُعيَ عليه اسم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عجباً هل دعوتني أنا   لأكونَ ملكاً ل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6257786BKgRhTuZiB_ph" descr=""/>
          <p:cNvPicPr/>
          <p:nvPr/>
        </p:nvPicPr>
        <p:blipFill>
          <a:blip r:embed="rId1"/>
          <a:stretch/>
        </p:blipFill>
        <p:spPr>
          <a:xfrm>
            <a:off x="182880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1752480" cy="86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ل لغريبٍ لضالٍ أثيمٍ أن ينتمي للمل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عَّرفتني كم أنَّك رحيم إذ غرزتني في كرمتِك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932178NoJBjYGUoI_ph" descr=""/>
          <p:cNvPicPr/>
          <p:nvPr/>
        </p:nvPicPr>
        <p:blipFill>
          <a:blip r:embed="rId1"/>
          <a:stretch/>
        </p:blipFill>
        <p:spPr>
          <a:xfrm>
            <a:off x="0" y="0"/>
            <a:ext cx="62485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400800" y="457200"/>
            <a:ext cx="274320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باركٌ إسم الرب مباركٌ إسم الرب كل ما في باطني يقول مباركٌ إسم الرب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149828KifBGNXzeC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400800" y="304920"/>
            <a:ext cx="2743200" cy="63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أظهرتَ لي عظيمَ رحمتكَ بسفكِ دماءِ الح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حُبُّكَ يفوقُ كلَّ خيالٍ وأعلنتَ لنا سرّ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ristwithchild" descr=""/>
          <p:cNvPicPr/>
          <p:nvPr/>
        </p:nvPicPr>
        <p:blipFill>
          <a:blip r:embed="rId1"/>
          <a:stretch/>
        </p:blipFill>
        <p:spPr>
          <a:xfrm>
            <a:off x="0" y="0"/>
            <a:ext cx="62485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400800" y="228600"/>
            <a:ext cx="2514600" cy="65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مجداً لكَ قد انشقَّ الحجاب وأعلنتَ لنا سرّك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الآنَ أصرخُ يا آب الآب  مجداً </a:t>
            </a:r>
            <a:r>
              <a:rPr b="1" lang="ar-SA" sz="4000" spc="-1" strike="noStrike">
                <a:solidFill>
                  <a:srgbClr val="ffcc66"/>
                </a:solidFill>
                <a:latin typeface="Times New Roman"/>
              </a:rPr>
              <a:t>فقد</a:t>
            </a:r>
            <a:r>
              <a:rPr b="1" lang="ar-SA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صرتُ لكَ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932178NoJBjYGUoI_ph" descr=""/>
          <p:cNvPicPr/>
          <p:nvPr/>
        </p:nvPicPr>
        <p:blipFill>
          <a:blip r:embed="rId1"/>
          <a:stretch/>
        </p:blipFill>
        <p:spPr>
          <a:xfrm>
            <a:off x="0" y="0"/>
            <a:ext cx="62485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400800" y="457200"/>
            <a:ext cx="274320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باركٌ إسم الرب مباركٌ إسم الرب كل ما في باطني يقول مباركٌ إسم الرب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07:22:08Z</dcterms:created>
  <dc:creator>SUZANNE.MD</dc:creator>
  <dc:description/>
  <dc:language>en-US</dc:language>
  <cp:lastModifiedBy>USER</cp:lastModifiedBy>
  <dcterms:modified xsi:type="dcterms:W3CDTF">2003-02-08T07:41:51Z</dcterms:modified>
  <cp:revision>5</cp:revision>
  <dc:subject/>
  <dc:title>PowerPoint Presentation</dc:title>
</cp:coreProperties>
</file>