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574-93AD-48DC-B0FD-27C66CF9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F3A-CCA1-4FBC-838E-C0A3018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F7E-93BB-4626-A6C1-D74716DC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DF7-BE6A-4EAE-B610-3054BF11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359-052E-4E0B-B729-38379C6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592-DBA9-4849-A458-FB50FC00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BAE-1C13-41A3-8E54-C5911BA6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FFC-C18B-44D4-84D4-DF0B8E99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9C6-3940-4D11-A6FD-0E968565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D7E-2614-44D5-A4C3-86CD4519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770-A36A-4432-B059-EC3DB4F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FFD-D2BD-4EDC-B8F0-4B55BE7E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275B-7639-49EE-8A09-5A530AB983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2360" y="5516640"/>
            <a:ext cx="345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أنا حين أصلي</a:t>
            </a: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49228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وتصغي ل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372132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27280" y="603396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أنا حين أصل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549360"/>
            <a:ext cx="244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99cc"/>
                </a:solidFill>
                <a:latin typeface="Comic Sans MS"/>
              </a:rPr>
              <a:t>وتصغي 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292720" y="54936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عندك ألق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4724280"/>
            <a:ext cx="33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أحمال السني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diamond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15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15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115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71640" y="515772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يرتاح قلب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1341360"/>
            <a:ext cx="32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ويعلو ب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4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076720" y="1341360"/>
            <a:ext cx="29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ينبض بسلام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285264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بداخل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zoom dir="in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2190600" cy="3343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19640" y="551664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000000"/>
                </a:solidFill>
                <a:latin typeface="Comic Sans MS"/>
              </a:rPr>
              <a:t>أنا حين اصل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981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00"/>
                </a:solidFill>
                <a:latin typeface="Comic Sans MS"/>
              </a:rPr>
              <a:t>يزداد ث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wheel spokes="8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81240" y="1405080"/>
            <a:ext cx="2981520" cy="404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32360" y="333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ترتفع ذات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566100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فوق ضعفا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708360" y="404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cc66"/>
                </a:solidFill>
                <a:latin typeface="Comic Sans MS"/>
              </a:rPr>
              <a:t>فيك ربي نج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141300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cc66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3640" y="57340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cc66"/>
                </a:solidFill>
                <a:latin typeface="Comic Sans MS"/>
              </a:rPr>
              <a:t>خوف من الآ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lus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15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1155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115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10040" y="1405080"/>
            <a:ext cx="2923920" cy="404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093080" y="4365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00"/>
                </a:solidFill>
                <a:latin typeface="Comic Sans MS"/>
              </a:rPr>
              <a:t>ل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8920" y="5589720"/>
            <a:ext cx="37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00"/>
                </a:solidFill>
                <a:latin typeface="Comic Sans MS"/>
              </a:rPr>
              <a:t>خوف من الماض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0280"/>
            <a:ext cx="36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600" spc="-1" strike="noStrike">
                <a:solidFill>
                  <a:srgbClr val="000000"/>
                </a:solidFill>
                <a:latin typeface="Comic Sans MS"/>
              </a:rPr>
              <a:t>لسلامك آت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40360" y="54936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66"/>
                </a:solidFill>
                <a:latin typeface="Comic Sans MS"/>
              </a:rPr>
              <a:t>أطمئن</a:t>
            </a:r>
            <a:r>
              <a:rPr b="0" lang="ar-LB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3573360"/>
            <a:ext cx="352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600" spc="-1" strike="noStrike">
                <a:solidFill>
                  <a:srgbClr val="ff0000"/>
                </a:solidFill>
                <a:latin typeface="Comic Sans MS"/>
              </a:rPr>
              <a:t>حبك الأم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1773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000" spc="-1" strike="noStrike">
                <a:solidFill>
                  <a:srgbClr val="ffff00"/>
                </a:solidFill>
                <a:latin typeface="Arial"/>
              </a:rPr>
              <a:t>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5080" y="3357720"/>
            <a:ext cx="10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ff00"/>
                </a:solidFill>
                <a:latin typeface="Comic Sans MS"/>
              </a:rPr>
              <a:t>ظ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lus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940360" y="836640"/>
            <a:ext cx="25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6699"/>
                </a:solidFill>
                <a:latin typeface="Comic Sans MS"/>
              </a:rPr>
              <a:t>تلمس أعماق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4292640"/>
            <a:ext cx="37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ff99cc"/>
                </a:solidFill>
                <a:latin typeface="Comic Sans MS"/>
              </a:rPr>
              <a:t>ربي المع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716360" y="476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فاعكس نور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5013360"/>
            <a:ext cx="46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6600" spc="-1" strike="noStrike">
                <a:solidFill>
                  <a:srgbClr val="ffff00"/>
                </a:solidFill>
                <a:latin typeface="Comic Sans MS"/>
              </a:rPr>
              <a:t>للآخ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84720" y="551664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0000ff"/>
                </a:solidFill>
                <a:latin typeface="Comic Sans MS"/>
                <a:cs typeface="Simplified Arabic Fixed"/>
              </a:rPr>
              <a:t>أنا حين أص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692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يزداد ثب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40360" y="476280"/>
            <a:ext cx="23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ترتفع ذ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365720"/>
            <a:ext cx="29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0000"/>
                </a:solidFill>
                <a:latin typeface="Comic Sans MS"/>
              </a:rPr>
              <a:t>فوق ضعف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96360" y="47628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67640" y="4046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في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134136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رب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2852640"/>
            <a:ext cx="13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400" spc="-1" strike="noStrike">
                <a:solidFill>
                  <a:srgbClr val="ffff66"/>
                </a:solidFill>
                <a:latin typeface="Comic Sans MS"/>
              </a:rPr>
              <a:t>نجات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808440" cy="5111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92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92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76720" y="907920"/>
            <a:ext cx="338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ff"/>
                </a:solidFill>
                <a:latin typeface="Comic Sans MS"/>
              </a:rPr>
              <a:t>خوف من الآت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2492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3860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4800" spc="-1" strike="noStrike">
                <a:solidFill>
                  <a:srgbClr val="0000ff"/>
                </a:solidFill>
                <a:latin typeface="Comic Sans MS"/>
              </a:rPr>
              <a:t>خوف من الماض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522936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6000" spc="-1" strike="noStrike">
                <a:solidFill>
                  <a:srgbClr val="ff0000"/>
                </a:solidFill>
                <a:latin typeface="Comic Sans MS"/>
              </a:rPr>
              <a:t>لسلامك آت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5400" spc="-1" strike="noStrike">
                <a:solidFill>
                  <a:srgbClr val="ff0000"/>
                </a:solidFill>
                <a:latin typeface="Comic Sans MS"/>
              </a:rPr>
              <a:t>ل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4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3:53:08Z</dcterms:created>
  <dc:creator>Couvent</dc:creator>
  <dc:description/>
  <dc:language>en-US</dc:language>
  <cp:lastModifiedBy>Personal</cp:lastModifiedBy>
  <dcterms:modified xsi:type="dcterms:W3CDTF">2008-04-24T04:30:02Z</dcterms:modified>
  <cp:revision>10</cp:revision>
  <dc:subject/>
  <dc:title>Slide 1</dc:title>
</cp:coreProperties>
</file>