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F5E-C1BB-49A8-A722-0DAAD9C9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B22B-119C-4491-96EC-3ADEE210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804-B5EB-4A3D-806A-4F3266CF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F8C-CB74-4910-AB28-03EA0985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622-EEFF-4D77-9CC6-18C501CB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BC4-5F4E-4B39-9EE4-FE2EFF47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554-056E-4402-B61D-123741B6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E6F-1B35-4FA0-AE7F-C08E4650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EFB-24B4-4298-BB11-F30AEEEC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967-21AB-49B8-B62B-684C1EB3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868-B605-4B8F-B81D-AFEB86D3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AB0-E42D-46E2-B5C4-1F615F75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A8EB-A397-4EE7-8801-D87062C70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4924715GRMuZrvGAj_ph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3200400" cy="114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ودتي إلى حُضنِكَ الدافىء عَودةَ المُشرّدِ نحو الوط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ّي يا سفينتي ويا مرفأي فيكَ السكينَةُ فيكَ السَّكن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5488241REkwlfkALI_ph" descr=""/>
          <p:cNvPicPr/>
          <p:nvPr/>
        </p:nvPicPr>
        <p:blipFill>
          <a:blip r:embed="rId1"/>
          <a:stretch/>
        </p:blipFill>
        <p:spPr>
          <a:xfrm>
            <a:off x="0" y="-214200"/>
            <a:ext cx="9677520" cy="7711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87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ّي فقير فقير إليكْ إنّي غنيّ غنيّ ب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شوَتي نعيمي في راحَتَيك لأني شريكٌ بكل ما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2286622bSprOQQocd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4290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09880"/>
            <a:ext cx="289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abic Transparent"/>
              </a:rPr>
              <a:t>ماذا أفعَلُ يا إلهي، حتى تنسى ما فعلتُ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12:48Z</dcterms:created>
  <dc:creator>SUZANNE.MD</dc:creator>
  <dc:description/>
  <dc:language>en-US</dc:language>
  <cp:lastModifiedBy>USER</cp:lastModifiedBy>
  <dcterms:modified xsi:type="dcterms:W3CDTF">2003-03-03T07:35:21Z</dcterms:modified>
  <cp:revision>2</cp:revision>
  <dc:subject/>
  <dc:title>PowerPoint Presentation</dc:title>
</cp:coreProperties>
</file>