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42F-F97B-4E40-98FD-24BFC64E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CC7-37BD-40EC-9C0C-8466CCA3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A23-9B0A-4E95-A25B-27B89A23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F1E-9BB6-417D-B03E-F68859E4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B8ED-F13A-4409-B59A-C42B8899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3A6E-99CF-48BE-89D3-0BF9FF17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2BE0-1DC6-42C3-89DA-07ED15D0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D6A5-4AFF-4B94-85A6-CE1454D1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2388-D357-49CC-8736-68EF7553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3637-4FF6-42E3-AD2E-E8A664DF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29D2-5FE9-43FA-AA9F-CDB4D0D4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067-8237-41B6-AFB9-9BF11F10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D1F3-6CC3-450D-9255-F75EEF3F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4226-826D-4C0A-B53E-C12235EB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54D3-5373-401D-9867-0AAD2999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93F8-59E1-48C0-9D5F-DC311504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8A85-F2D4-4547-9726-06299E90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80A-730C-4392-9FC7-B60083E6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917-5797-4928-A790-854A1EEF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FF3-0D49-4FC6-B43A-5ECF84DD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6E1-0649-45C9-ABE0-BEA601AC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9F8-9823-4ACC-B0FC-38BD4C2D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41F-1CD8-4EB0-86B2-33DEEB68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921-8F35-4FDC-9D07-42733671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E447-8856-40EE-ACF0-CD7E17DA3929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4147-2197-4C5C-BBE4-8666DC490574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43200" y="179712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الغفران:</a:t>
            </a:r>
            <a:br>
              <a:rPr sz="10600"/>
            </a:br>
            <a:br>
              <a:rPr sz="9600"/>
            </a:b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Tahoma"/>
              </a:rPr>
              <a:t>أللهم احفظ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03640" y="1916280"/>
            <a:ext cx="414036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قلت للرب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إنك سيّد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وما عدا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لا خيرَ ل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06064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جعلتُ الله دوماً نُصْبَ عيني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رفتُ الله دوما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ن يميني لئلاّ أزِل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963800"/>
            <a:ext cx="493236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ذلك فرح قلبي وابتهجت نفسي وجسدي أيضاً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رقد على الدوا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00400" y="210816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تملأني فرحاً بلقي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إلى يمي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نعيمي على الدوام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32:52Z</dcterms:created>
  <dc:creator>Charbel Azar</dc:creator>
  <dc:description/>
  <dc:language>en-US</dc:language>
  <cp:lastModifiedBy>Charbel Azar</cp:lastModifiedBy>
  <dcterms:modified xsi:type="dcterms:W3CDTF">2002-07-17T11:29:30Z</dcterms:modified>
  <cp:revision>4</cp:revision>
  <dc:subject/>
  <dc:title>PowerPoint Presentation</dc:title>
</cp:coreProperties>
</file>