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FAE-A8D8-4FCC-BDF5-822AF42A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2A8-ABBF-4FF9-879F-F4D03AB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9A1-2023-4C23-97C7-C778D9BE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E2F-3E31-4090-A50C-F4E894D7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563-0ACE-41C0-8E0F-6924A384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2D8-374E-4E1B-A653-0C3703D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BF2-68A8-405F-9CFE-FDD4B010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997-35E5-408D-9799-C88941CD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1C6-D674-447A-BF4C-7EEF223C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E2A-5F25-446A-83A1-4E9545FA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3CF-193E-4311-A8D0-307A4AA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E40-B79B-4913-B6E4-3ACF96F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5CCC-5DAD-451A-B376-816A6D7DE9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437000"/>
            <a:ext cx="5486400" cy="242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200" spc="-1" strike="noStrike">
                <a:solidFill>
                  <a:srgbClr val="000000"/>
                </a:solidFill>
                <a:latin typeface="Tahoma"/>
                <a:cs typeface="Ruqah2 Normal"/>
              </a:rPr>
              <a:t>لتقم صلات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840" y="5524560"/>
            <a:ext cx="9074160" cy="14252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73720"/>
            <a:ext cx="91440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ربِّ إليكَ صرختُ، أسْرِعْ إل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221440"/>
            <a:ext cx="80136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ِخْ لصوتي حينَ أصرُخُ إليك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415120"/>
            <a:ext cx="813744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370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جعلْ يا ربِّ حارساً لفم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148360"/>
            <a:ext cx="60022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قيباً على بابِ شفت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415120"/>
            <a:ext cx="914400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75440"/>
            <a:ext cx="89917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ُمل قلبي إلى أمر السوء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516640"/>
            <a:ext cx="8991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انغماس في جرائم النفاق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07080"/>
            <a:ext cx="8991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الرجال الفاعلين الإث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91080"/>
            <a:ext cx="914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شى لي أن آكل من مستلذاته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5:29Z</dcterms:created>
  <dc:creator>Charbel Azar</dc:creator>
  <dc:description/>
  <dc:language>en-US</dc:language>
  <cp:lastModifiedBy>-</cp:lastModifiedBy>
  <dcterms:modified xsi:type="dcterms:W3CDTF">2002-12-21T12:03:15Z</dcterms:modified>
  <cp:revision>6</cp:revision>
  <dc:subject/>
  <dc:title>PowerPoint Presentation</dc:title>
</cp:coreProperties>
</file>