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B8E-E662-4A17-86FA-5720C236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370-7D39-4A57-B82D-E023AF69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FFF-6371-4402-98D4-C1D28701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1D0-2900-4E69-AD5A-3F999B79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8FA-5D7B-46F7-8ED0-C152E36A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767-AF80-49E5-B98D-4466B427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311-CC78-49BA-A1F0-BC6D8577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C51-16C3-416F-BA91-BB509140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5B7-14E1-422A-BCBC-5B4FB747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842-05E6-4C7E-AFF3-9F94AFC0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3D9-C7AC-40CF-BC52-DB2DDC7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5D6-1A33-4667-A98D-9FCCD29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058C-6793-4BB7-BC7F-B53AA1FB3E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0"/>
            <a:ext cx="428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9600"/>
            </a:br>
            <a:br>
              <a:rPr sz="8800"/>
            </a:br>
            <a:r>
              <a:rPr b="0" lang="ar-SA" sz="72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عالم جائ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200" y="1903320"/>
            <a:ext cx="5545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جائع وخُبزُ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ُبزُ الحياة خُبزُ سلامِ الأرضِ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1903320"/>
            <a:ext cx="5545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فخذوا عن مائدتي الخبزَ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ليأكلَ العالمْ.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635280" y="136440"/>
            <a:ext cx="55087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ُ الرجاءْ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-2319480" y="212760"/>
            <a:ext cx="13675680" cy="177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عُريان والأرضُ غنيّة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417528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ahoma"/>
                <a:cs typeface="Akhbar MT"/>
              </a:rPr>
              <a:t>لكنَّ الإنسانْ سرقوا منهُ الثوبَ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ahoma"/>
                <a:cs typeface="Akhbar MT"/>
              </a:rPr>
              <a:t>سرقوا الحب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6000" y="61920"/>
            <a:ext cx="4572000" cy="129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خذوا ثوبيَ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ثوبَ الحقِ ليَلبَسَ العالَمْ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635280" y="136440"/>
            <a:ext cx="55087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ُ الرجاءْ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-</cp:lastModifiedBy>
  <dcterms:modified xsi:type="dcterms:W3CDTF">2003-01-29T08:49:16Z</dcterms:modified>
  <cp:revision>13</cp:revision>
  <dc:subject/>
  <dc:title>PowerPoint Presentation</dc:title>
</cp:coreProperties>
</file>