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708-5FA5-49F7-B549-0990CE63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2F3-C77A-4B59-B11D-A6B8CA30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1A0-ADA0-4513-9D58-1B7E06CD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6DA-587B-4420-A446-FC7158DC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7EED-09B6-49AD-BB23-B4B5DB66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3FBF-5A91-4AEE-9241-33AD7781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2BD8-6170-4323-80C1-19A870AA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3383-738A-49A8-B9C9-87B1111B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11CA-55BA-430D-89F9-18E2BDE1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63FE-3F61-449F-94B9-0FDAECF5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BD57-64A5-4382-A4BB-0DD8D486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F8E-67EF-4160-9E54-DCBF5CFF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9BD2-4F49-4896-85FE-E78CDAD9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44B2-0E79-47A7-B439-E0C23B9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A5DA-F049-4988-9D29-01FA207E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E8E0-840A-4AD0-BB7F-16211D4E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91B4-595F-4EA7-8626-FF404F8D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7B4-21FB-405F-B007-292EA520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A11-DC14-439C-94E8-46088A13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C4B-853F-4E33-B030-05259CEE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F5E-224F-47B9-9866-3573FD4F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487-3467-4AE2-AB59-411B1245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B54-30F0-45D0-A715-B23FF32D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EF6-C211-4F9C-8C7E-DE89B9CE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18DE-5544-4810-B720-601C17A0BA2B}" type="slidenum">
              <a:rPr b="0" lang="ar-LB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0A39-6CBD-4F4D-862D-88861D38CE27}" type="slidenum">
              <a:rPr b="0" lang="ar-LB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63640" y="4724280"/>
            <a:ext cx="738036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عطني يا رب قلب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ِنِي يَا رَبُّ قَلْب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بْنِي أَنْ أَخْتَارَ حُبّّ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قَلْبَ يَسُوع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غَبُ أَنْ أَتْبَعَ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20960" y="0"/>
            <a:ext cx="6288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لْبُكَ يَا رَبُّ رَاح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ُوَ غِنَايَ هُوَ عُذُوب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جْذِبْنِي إِلَيْك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حْدَكَ أَنْتَ سَعَادَت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جْهُكَ يَا رَبُّ مَوْط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لْبُكَ يَا رَبُّ مَسْك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لُمَّ وَوَحِّدْنِي ب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اجْعَلْنِي أَحْيَا لأَجْلِ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ِنِي يَا رَبُّ قَلْب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بْنِي أَنْ أَخْتَارَ حُبّّ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قَلْبَ يَسُوع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غَبُ أَنْ أَتْبَعَ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جْهُكَ يَا رَبُّ مَوْط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لْبُكَ يَا رَبُّ مَسْك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لُمَّ وَوَحِّدْنِي ب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اجْعَلْنِي أَحْيَا لأَجْلِ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ِنِي يَا رَبُّ قَلْب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بْنِي أَنْ أَخْتَارَ حُبّّ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قَلْبَ يَسُوع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غَبُ أَنْ أَتْبَعَ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Charbel Azar</cp:lastModifiedBy>
  <dcterms:modified xsi:type="dcterms:W3CDTF">2006-03-07T21:38:22Z</dcterms:modified>
  <cp:revision>20</cp:revision>
  <dc:subject/>
  <dc:title>Slide 1</dc:title>
</cp:coreProperties>
</file>