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D51-87D4-4298-85E6-C21AC6B4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EDF-0830-4E8D-83B9-99FEFCB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0AA-3506-406A-9CCC-6A88D613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F2E-7955-4FE9-8869-F9A56F69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F4C-4C09-4C4D-9005-1BDBF5A2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A5C1-8B43-42CD-B188-7FDAD61E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94B2-880A-49B0-AA85-DDD27FE1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0AE0-4547-4227-85B7-5914C0E1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AA33-5899-443B-9475-FEA2043F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F44-AD9C-4090-92AD-D3C0CF45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C529-2AA1-4B05-91F6-4B97F301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A7A-67E4-4AF5-8CBF-CE27604E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4F3-8F86-4B6E-B7F7-A2BAE682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080-A5A5-4649-A8FB-ABAF151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663A-7302-42FB-9E04-0442B4EF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795E-E333-4310-814C-D273CD19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76D-343C-4A9F-9B8B-DF596299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9C1-CD45-4323-98D0-05FA9855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D72-4FEA-4171-A6AB-3851D6F8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966-74D7-40B2-8887-73A46FD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AED-9762-415F-84F1-76751DB0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317-89C1-4213-9432-0872DE14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5AF-55AA-47B9-A32A-503CA67D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7DA-2BFB-404C-90C3-CEAF9B8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EC1F-AABD-473D-83BB-5960A3EFD4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5961-056C-49CD-B1E7-8D2C29C513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292640"/>
            <a:ext cx="6400800" cy="21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يماني ساطع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000" y="304920"/>
            <a:ext cx="6012000" cy="105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بيتكسَّ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بيتعب 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وّ من خَلف الغيم،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32000" y="304920"/>
            <a:ext cx="6012000" cy="105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بيتكسَّ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بيتعب 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2280"/>
            <a:ext cx="8915400" cy="868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00"/>
                </a:solidFill>
                <a:latin typeface="Times New Roman"/>
                <a:cs typeface="Akhbar MT"/>
              </a:rPr>
              <a:t>أنا إيماني الفرح الوسيع ومن خلف العواصف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00"/>
                </a:solidFill>
                <a:latin typeface="Times New Roman"/>
                <a:cs typeface="Akhbar MT"/>
              </a:rPr>
              <a:t>جايي الربيع</a:t>
            </a:r>
            <a:r>
              <a:rPr b="1" lang="ar-LB" sz="9400" spc="-1" strike="noStrike">
                <a:solidFill>
                  <a:srgbClr val="ffff00"/>
                </a:solidFill>
                <a:latin typeface="Times New Roman"/>
                <a:ea typeface="Akhbar MT"/>
              </a:rPr>
              <a:t> 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8240" y="4319640"/>
            <a:ext cx="8610480" cy="47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imes New Roman"/>
                <a:cs typeface="Akhbar MT"/>
              </a:rPr>
              <a:t>إذا كبـرت أحزان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نسيني العمر التاني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4:17Z</dcterms:created>
  <dc:creator>Charbel Azar</dc:creator>
  <dc:description/>
  <dc:language>en-US</dc:language>
  <cp:lastModifiedBy>-</cp:lastModifiedBy>
  <dcterms:modified xsi:type="dcterms:W3CDTF">2003-01-29T09:43:57Z</dcterms:modified>
  <cp:revision>6</cp:revision>
  <dc:subject/>
  <dc:title>PowerPoint Presentation</dc:title>
</cp:coreProperties>
</file>