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EFF-9084-4893-8F57-E0332BD1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4673-5D33-4F80-8D03-6233103A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37B-626E-4038-BD67-19C21736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857-0C25-4EE6-975F-BE9314A3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74F-1347-46B8-B50A-BA517FB9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73F-1669-495E-957F-1F14B4A6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020-1576-4D91-A491-5A46E7EE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989-E489-4D6B-B84D-109421AB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703-26B0-44A4-BDDE-61538D00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260-9823-4F1F-951A-61B22544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B5C-34A8-4F1D-9542-6AE7A46C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F38-4250-4347-BCF9-7CAB5DB9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10E1-1DAE-48C8-8E0C-003B276F2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إنت الـ خبَّرِتْ إنَّك            لمّا تْنَيْن بجَمْعِتْهُم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يتلاقو يغنّو إسمَك            بتجي وبتقعد معهم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خلِّينا معك عاطول           لـَ لَحْظَة ما تتركنـا 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Arabic Transparent"/>
              </a:rPr>
              <a:t> خلِّينا معك عاطول           لـَ لَحْظَة ما تتركنـا حُبّك بالقَلِبْ موجود          هوني السَّما بْتُغمُر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86400" y="304920"/>
            <a:ext cx="3429000" cy="11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إنتَ الـ قِلْتِلنا تنضلّ         بالمحَبّة مرتبطين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حتّى النور علينا يْهِلّ       وحَولَكْ نِبقى مِتِّحدين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الوِحدِة بدَّك نعيش         وغير الـ بدَّكْ ما بَدْنا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بالوِحدِة بدَّك نعيش         وغير الـ بدَّكْ ما بَد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Arabic Transparent"/>
              </a:rPr>
              <a:t>حُبَّك بالقَلِبْ موجود        هوني السَّما بْتُغمُرْ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OLND_80" descr=""/>
          <p:cNvPicPr/>
          <p:nvPr/>
        </p:nvPicPr>
        <p:blipFill>
          <a:blip r:embed="rId2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6400" y="304920"/>
            <a:ext cx="342900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كل مَرَّة لمّا مْنِتْلاقى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مْنِتمنّى تِسْكُن عِنّا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وبالقَلِبْ لَفْتيِ حِرَّاقة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      تَضّلَّك دايماً م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إنتَ الحُبّ المالو حْدود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بيمَلّي هالأرض وعود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cs typeface="Times New Roman"/>
              </a:rPr>
              <a:t>حُبّك بالقَلِبْ موجود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  <a:ea typeface="Times New Roman"/>
              </a:rPr>
              <a:t> هوني السَّما بْتُغمُرْن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3:59:33Z</dcterms:created>
  <dc:creator>USER</dc:creator>
  <dc:description/>
  <dc:language>en-US</dc:language>
  <cp:lastModifiedBy>USER</cp:lastModifiedBy>
  <dcterms:modified xsi:type="dcterms:W3CDTF">2002-10-31T13:59:57Z</dcterms:modified>
  <cp:revision>1</cp:revision>
  <dc:subject/>
  <dc:title>PowerPoint Presentation</dc:title>
</cp:coreProperties>
</file>