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570B-91E7-4A1C-B658-B944CBF8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9A88-3CBA-435D-A14E-4431C3D6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C201-1839-4F20-A2F1-C6F83852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F162-B1F5-4F36-8C88-6CC6561C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979-A0F1-4565-8586-E3501290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9616-3487-49E9-96C5-1E090A91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000E-CE06-429C-8F69-3B3874CA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4871-515E-425D-9CBD-D7843F7F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F68B-A0E6-4A7C-A6B1-C0D17B33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1FB5-84BC-4903-86FF-7E827960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AAC8-7C6B-45D5-9D30-F0299F99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94B0-A9D2-4DFA-8AFF-7EBE94B5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91C9-61DA-4ADB-BCAA-D1281B02F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y02" descr=""/>
          <p:cNvPicPr/>
          <p:nvPr/>
        </p:nvPicPr>
        <p:blipFill>
          <a:blip r:embed="rId2"/>
          <a:stretch/>
        </p:blipFill>
        <p:spPr>
          <a:xfrm>
            <a:off x="0" y="0"/>
            <a:ext cx="5511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69040" y="701640"/>
            <a:ext cx="5664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ُطْلبوا ملكوتَ اللهِ وبرَّهُ أول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كلُ تلك الأشياءِ تُزادُ ل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هللويا هللوي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إِسألوا يُعطَى لكم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ُطلُبوا تَجِدو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إِقرعوا يُفتَحُ البابُ ل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هللويا هللويا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55:50Z</dcterms:created>
  <dc:creator>USER</dc:creator>
  <dc:description/>
  <dc:language>en-US</dc:language>
  <cp:lastModifiedBy>USER</cp:lastModifiedBy>
  <dcterms:modified xsi:type="dcterms:W3CDTF">2003-01-20T01:09:43Z</dcterms:modified>
  <cp:revision>2</cp:revision>
  <dc:subject/>
  <dc:title>PowerPoint Presentation</dc:title>
</cp:coreProperties>
</file>