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F693-B932-4533-AAA2-459B7BE96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8CE4-2FD6-4BD6-B281-10263D2D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CA9F-4076-44F1-AA4A-8B86BC034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72EE-9002-4987-9A7C-6F37F2A23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8F1B-5435-4C83-A9D3-C355CB67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4C03-3C2A-465B-A294-DD78526B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80D3-D206-4FDB-A473-88E094F3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69BF-7D60-474B-A48C-6617217E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21A4-C997-4AAA-B56E-C5748826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767F-E692-4ECE-91D1-70445987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D43F-4FB1-4B0E-8642-F6AE71FA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890D-BD2E-4799-9B9E-8AFBE029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6E62-E667-47AC-BFE2-1EC17C8134F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322960"/>
            <a:ext cx="4427640" cy="153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????Boutros Rokaa"/>
              </a:rPr>
              <a:t>توبوا إلى الر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312408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وبوا إلـى الربِّ إنّ الـملكوتَ قريب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331164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ودوا إلى الحبِّ فالخارجُ عنه غريب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333360"/>
            <a:ext cx="5105520" cy="833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َبْ من حنانِك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000000"/>
                </a:solidFill>
                <a:latin typeface="Times New Roman"/>
                <a:cs typeface="Akhbar MT"/>
              </a:rPr>
              <a:t>قطرةً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تحوّلُ القفرُ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عود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5562720" cy="1053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أو أعطي عي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دمعة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في حوضه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طفلاً أعود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312408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وبوا إلـى الربِّ إنّ الـملكوتَ قريب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331164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ودوا إلى الحبِّ فالخارجُ عنه غريب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343400" y="0"/>
            <a:ext cx="4800600" cy="1053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من عمقِ آثام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دَعوْت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أَنصِت إلـى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صوتِ دُعا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1916280"/>
            <a:ext cx="507672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نا غيرَ وجهِ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ما رجَوْت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ملقاهُ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مأدبةُ رجا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312408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وبوا إلـى الربِّ إنّ الـملكوتَ قريب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331164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ودوا إلى الحبِّ فالخارجُ عنه غريب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708360" y="1916280"/>
            <a:ext cx="533412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وإذا استبدَّ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بيَ الخجَل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و أبكمَ العارُ فم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95640" y="0"/>
            <a:ext cx="5148360" cy="1033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نبضاتُ حُبِّكَ</a:t>
            </a:r>
            <a:br>
              <a:rPr sz="8000"/>
            </a:b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فَلْتزَل</a:t>
            </a:r>
            <a:br>
              <a:rPr sz="8000"/>
            </a:b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حتّى النهايةِ</a:t>
            </a:r>
            <a:br>
              <a:rPr sz="8000"/>
            </a:b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في دم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312408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وبوا إلـى الربِّ إنّ الـملكوتَ قريب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331164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ودوا إلى الحبِّ فالخارجُ عنه غريب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48:12Z</dcterms:created>
  <dc:creator>Charbel Azar</dc:creator>
  <dc:description/>
  <dc:language>en-US</dc:language>
  <cp:lastModifiedBy>-</cp:lastModifiedBy>
  <dcterms:modified xsi:type="dcterms:W3CDTF">2003-01-05T19:58:21Z</dcterms:modified>
  <cp:revision>5</cp:revision>
  <dc:subject/>
  <dc:title>PowerPoint Presentation</dc:title>
</cp:coreProperties>
</file>