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1ED0-8AB4-4A5A-8010-6C1ED16E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E695-378B-4D2B-8708-8A319886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ACDE-AFD4-4F9E-B9ED-2F28EACD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FA4C-4979-4697-93C6-2AF57E73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B8B9-5852-48E6-9D74-29BF918A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849E-D087-4D68-9A7C-68BEC478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15AC-A488-49EB-8690-4DFD944C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FC36-F56C-402A-BB89-280BA74C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0F60-743D-469A-B177-70939D35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4C91-8E8E-4634-950E-6CD93F60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27DC-9801-4F98-9D9D-113E9B72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6ECB-40F1-4580-8DEC-885B6A2C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D5B7-B353-488D-94DF-F2A21146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F241-8845-464F-BC6C-D4986A77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AC62-7069-4928-9917-9C7A0F67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57DC-D3B8-4214-A5AB-543A5F24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1F3C-DC30-4B6D-9BE0-0C8E063F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AEC5-CBC9-4883-A9D2-17AC3C5D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B54-FC04-4414-892D-84F4ED5C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310-FDEB-4954-85C1-736183BB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6B2-BEA4-4E70-8E19-4DDBB900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92CC-83BC-4099-9CF8-42691654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1A7-6410-445B-887C-C9A07EE4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E63B-14D2-4FD2-AC2A-A1BB0EA3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4D1A-BFC1-4B43-895E-F298FE6B54C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6D72-AD88-44CE-AEB8-A7A6D662782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5410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000"/>
            </a:b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أمام كأس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2060640"/>
            <a:ext cx="5472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مامَ كأسِك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تَنحني الرؤوسُ... تخفِقُ القلوبُ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ea typeface="Akhbar MT"/>
              </a:rPr>
              <a:t> تتمتمُ الشفاهُ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176840" y="1739880"/>
            <a:ext cx="746244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تحلمُ العيون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بنورِكَ المُضيءْ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1640" y="476280"/>
            <a:ext cx="622800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مــامَ كــأسِــك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نـهـتِـفُ بـالـدُعـاءِ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2641680"/>
            <a:ext cx="5292720" cy="733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ندعـو بـاسمِـك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نُحـاوِرُ السمـاء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فاستَجِـبْ لنـ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-108000" y="2060640"/>
            <a:ext cx="5472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مامَ كأسِك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تَنحني الرؤوسُ... تخفِقُ القلوبُ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ea typeface="Akhbar MT"/>
              </a:rPr>
              <a:t> تتمتمُ الشفاهُ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811800" y="1879560"/>
            <a:ext cx="6732360" cy="316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تحلمُ العيون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بنورِكَ المُضيء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6-05-16T10:41:01Z</dcterms:modified>
  <cp:revision>19</cp:revision>
  <dc:subject/>
  <dc:title>PowerPoint Presentation</dc:title>
</cp:coreProperties>
</file>