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FE8-FD0B-490F-BBC3-74A6D754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939-8BE8-4AF1-A05F-6236298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E6B-6046-4418-BD1D-052ABBD4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3C1-0E1F-424E-A095-32A2177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C1B-D9E5-461D-8B09-A7A6ED3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BCF-E1BA-4F4D-AB15-11223AFF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D6F-6CB6-4905-A9DD-E33DCE1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BF1-9882-4E3D-A34B-ECA488DD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6DC-72E0-403B-B7B0-8AF925C9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F16-B8F4-429C-8032-022CF85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867-B812-46A0-BD9A-8336459F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EAD-8F1B-47F6-9683-069B999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925-7F36-4A60-88F0-C1314C97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429000" cy="9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غنّوا يـا أبنـاءَ اللهِ</a:t>
            </a:r>
            <a:r>
              <a:rPr b="1" lang="en-US" sz="42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يسـوع المسيح قـ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غلبَ الموتَ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لكُ الكون زال سلطانُ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ظلام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بنُ اللـهِ رب الحيـاةِ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حيٌّ الى دهرِ الدهـــور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ن النـورِ الذي لا يغرُب تعالَوا وخذوا النو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73040"/>
                <a:tab algn="l" pos="909720"/>
                <a:tab algn="l" pos="174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505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امَ الربُ وطىءَ الموتَ إِفرحــي أورشليـم       كلُّ شيءٍ صار جديداً قدّ تبدَل القديم            اللهً حيٌّ بين شعبهِ جعل مسكنه معهم لا أحزان لا أوجاعَ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ا دموع بعـد الي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589284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04920"/>
            <a:ext cx="40384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وعدُ اللـه قد تحقق تم قول الأنبيـاء   كنّا من قبل أمواتاً فصِرنا الآن أحياء قمنا مَعَهُ سنملك معهُ ليس لملكِه انقض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هُ سنحيا الى الابد 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لن يطالنـــا  الفنـ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7543800" cy="73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886200" cy="11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شعب الله إرفع رأسك إنّ إلهك عظيم             أين شوكتك يا موتُ وغلبتك يا جحيم موتُ الربِ صار حياةً أضحى نصرُنا  أكيد هيّا نفرَح ونهلّـل </a:t>
            </a:r>
            <a:r>
              <a:rPr b="1" lang="ar-SA" sz="42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أهلَ الملكوت الجديــد</a:t>
            </a:r>
            <a:r>
              <a:rPr b="0" lang="ar-SA" sz="42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11:46Z</dcterms:created>
  <dc:creator>SUZANNE.MD</dc:creator>
  <dc:description/>
  <dc:language>en-US</dc:language>
  <cp:lastModifiedBy>HANI SAFI</cp:lastModifiedBy>
  <dcterms:modified xsi:type="dcterms:W3CDTF">2003-04-16T13:55:35Z</dcterms:modified>
  <cp:revision>2</cp:revision>
  <dc:subject/>
  <dc:title>PowerPoint Presentation</dc:title>
</cp:coreProperties>
</file>