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C84-1D73-4EE8-8447-2B38A0F2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457-C126-4CF9-8539-8F87E0EC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2B81-B335-47BE-850D-EF11F074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0533-C7CA-42B9-935C-DC3CBC2E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E2E-35CD-4C39-AB96-602FDAC1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BA56-3593-41DB-AF6C-C1C074EF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4CE6-3DB7-4C9F-AE29-331865E0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E76-BECA-4EA8-8D81-21DEA21C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CE6C-9FC0-4D9E-A484-5F9FED66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D5D-B4C2-42CC-A7F5-3A11B323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314-B408-4D22-A281-23DB27E9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39F-9F5E-4256-B5AD-42267D2C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205C-C777-40D8-9C23-69B2C72EC5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4210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0" spc="-1" strike="noStrike">
                <a:solidFill>
                  <a:srgbClr val="000000"/>
                </a:solidFill>
                <a:latin typeface="Arial"/>
                <a:cs typeface="????Boutros Rokaa"/>
              </a:rPr>
              <a:t>محبسة العجايب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39640" y="189000"/>
            <a:ext cx="82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محبسة العجايب يا باب السما، يا أمل كل تايب ندمان ارتمى،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عَ أرضِك يحكيها بدموعو يسقيها أسرارو يعطيها وهمومو يسلّما،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محبسة العجايب يا باب السم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39640" y="100080"/>
            <a:ext cx="8028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عا مدبحِك شربل يوميّي صلاّ، يوميّي كان يحمل همّ الناس كِلاّ، وبعدو لْهَلَّق معنا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نحكي معو ويسمعنا،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بصلاتو يرفعنا تَ نوصل للسم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3640" y="163080"/>
            <a:ext cx="845964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محبسة العجايب يا باب السما، يا أمل كل تايب ندمان ارتمى،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عَ أرضِك يحكيها بدموعو يسقيها أسرارو يعطيها وهمومو يسلّما،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محبسة العجايب يا باب السم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68360" y="188640"/>
            <a:ext cx="7920000" cy="633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Akhbar MT"/>
              </a:rPr>
              <a:t>يا شامخه عا تلّي وعينِك عالبشر، يا رَمز التجلّي وربّنا اللي انتصر، رهبانِك قدّسوكيِ</a:t>
            </a:r>
            <a:br>
              <a:rPr sz="6000"/>
            </a:b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Akhbar MT"/>
              </a:rPr>
              <a:t>توب النُّور لبّسوكِ،</a:t>
            </a:r>
            <a:br>
              <a:rPr sz="6000"/>
            </a:b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Akhbar MT"/>
              </a:rPr>
              <a:t>للعمر كرّسوكيِ طريقنا للسما </a:t>
            </a: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محبسة العجايب يا باب السم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94920" y="20160"/>
            <a:ext cx="838836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محبسة العجايب يا باب السما، يا أمل كل تايب ندمان ارتمى،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عَ أرضِك يحكيها بدموعو يسقيها أسرارو يعطيها وهمومو يسلّما،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محبسة العجايب يا باب السم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07:19:29Z</dcterms:created>
  <dc:creator>Charbel Azar</dc:creator>
  <dc:description/>
  <dc:language>en-US</dc:language>
  <cp:lastModifiedBy>ف</cp:lastModifiedBy>
  <dcterms:modified xsi:type="dcterms:W3CDTF">2007-07-13T16:00:50Z</dcterms:modified>
  <cp:revision>5</cp:revision>
  <dc:subject/>
  <dc:title>Slide 1</dc:title>
</cp:coreProperties>
</file>