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B19-9917-4D82-A0CB-A765C1A2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DBA-E6CD-4357-A360-B8408CA4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462-92A6-4AC0-A970-A6367ED2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97F-32E1-4D0C-B0DE-B85E3D50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A0E-5BE1-4D7E-BAA6-9BDA6D83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817-CF3D-4049-A547-3254F868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6B2-7CB7-4E74-A73C-6147774D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7F8-8CD3-4CC7-A454-F579D9DE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904-EE7B-4818-9175-FF4CBFCE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372-F450-435E-9501-8C91B2EF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3EF-65CC-4649-AB3D-402F2645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B25-55BE-48A0-AC7C-2F8C0FD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7332-87A7-4E23-A3E2-963F46DBE6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360" y="5229360"/>
            <a:ext cx="4895640" cy="30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دير عناي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3860640"/>
            <a:ext cx="651672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دير عنايا الـمشهور شربل ضوَّى سراج الن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06400" y="4702320"/>
            <a:ext cx="9362880" cy="176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بيعه بكلّ الـمعمو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تصلّي وبتتمنّ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4116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71520"/>
            <a:ext cx="9144000" cy="328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يا راهب عَ هالتلِّ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بمحبـِسْتَك عَم بتصلِّي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0040"/>
            <a:ext cx="884556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من قَلب الفادي تملِّ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حبّه وطُهر وتتهنّى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-1306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5435640" y="189000"/>
            <a:ext cx="370836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هالأرض اللي حبّي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22920" y="0"/>
            <a:ext cx="43210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ن دم قلبك روَّي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618840"/>
            <a:ext cx="9144000" cy="33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1000"/>
            <a:ext cx="370836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لحتا زرعتا وساويتا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18360" y="371520"/>
            <a:ext cx="5160960" cy="24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رابا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 تتغنَّى</a:t>
            </a:r>
            <a:r>
              <a:rPr b="0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7482" t="3795" r="0" b="3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1805040" y="468360"/>
            <a:ext cx="8902440" cy="57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نسان كامل خيّ الك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جبول محبّه عَ الحِ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خلِّينا نحنا والك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الأخُوِّه نتكنَّى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47680"/>
            <a:ext cx="5796000" cy="63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1" name=""/>
          <p:cNvSpPr/>
          <p:nvPr/>
        </p:nvSpPr>
        <p:spPr>
          <a:xfrm>
            <a:off x="3514680" y="-2622960"/>
            <a:ext cx="5594400" cy="1135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قدِّيس كِلَّك لألل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حيَّرت الدنيي كِلاّ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عَن أرضَك لا تتخلّ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قديس الـمِن عِنَّا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-716040"/>
            <a:ext cx="5796000" cy="63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539640" y="3141720"/>
            <a:ext cx="651672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بنان هالأرزة الخضرا عندو شربل والعدرا</a:t>
            </a:r>
            <a:r>
              <a:rPr b="0" lang="ar-SA" sz="7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342800" y="3429000"/>
            <a:ext cx="9518400" cy="19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يا شربل منَّك نظر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عا لبنان وطمنّا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1060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142920" y="3138480"/>
            <a:ext cx="651672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دير عنايا الـمشهور شربل ضوَّى سراج الن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538280" y="3379680"/>
            <a:ext cx="10382400" cy="19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بيعه بكلّ الـمعمو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تصلّي وبتتمنّ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916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7:17:35Z</dcterms:created>
  <dc:creator>Charbel Azar</dc:creator>
  <dc:description/>
  <dc:language>en-US</dc:language>
  <cp:lastModifiedBy>ف</cp:lastModifiedBy>
  <dcterms:modified xsi:type="dcterms:W3CDTF">2007-07-13T15:31:59Z</dcterms:modified>
  <cp:revision>13</cp:revision>
  <dc:subject/>
  <dc:title>Slide 1</dc:title>
</cp:coreProperties>
</file>