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917A-633B-4D7A-A9D2-AA00FFC63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7F03-BE84-4880-ACA0-0170C15B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87AC-DD92-4321-8BE1-D582D4684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917F-B442-4C1C-BD77-88A7CB5B8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B7D2-BA76-4305-8819-E6537E49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51A6-2978-41E5-A8B1-933B2D43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2B1B-1306-42F3-917E-5CD96850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F0DC-42AA-4134-8AEC-A61AFD81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C98C-CEBA-403A-A034-B9CAC189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9FAC-76C4-4B23-88C4-A0DE626B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E7FC-4864-46F8-8812-0DAA9F66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0376-66E2-4D35-8220-69579BE3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56F7-27FC-4DC0-9085-9C23D95B4AE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140360" y="5229360"/>
            <a:ext cx="4895640" cy="30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ffffff"/>
                </a:solidFill>
                <a:latin typeface="Tahoma"/>
                <a:cs typeface="????Boutros Rokaa"/>
              </a:rPr>
              <a:t>من دير عنايا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4" name=""/>
          <p:cNvSpPr/>
          <p:nvPr/>
        </p:nvSpPr>
        <p:spPr>
          <a:xfrm>
            <a:off x="0" y="3860640"/>
            <a:ext cx="6516720" cy="371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دير عنايا الـمشهور شربل ضوَّى سراج النو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1706400" y="4702320"/>
            <a:ext cx="9362880" cy="176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5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بيعه بكلّ الـمعمو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5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تصلّي وبتتمنّ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241160"/>
            <a:ext cx="651672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شربل صلّي عنّا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371520"/>
            <a:ext cx="9144000" cy="328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يا راهب عَ هالتلِّ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7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بمحبـِسْتَك عَم بتصلِّي</a:t>
            </a:r>
            <a:r>
              <a:rPr b="0" lang="ar-SA" sz="80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00040"/>
            <a:ext cx="8845560" cy="316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5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من قَلب الفادي تملِّ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5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حبّه وطُهر وتتهنّى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-130680"/>
            <a:ext cx="651672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شربل صلّي عنّا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2" name=""/>
          <p:cNvSpPr/>
          <p:nvPr/>
        </p:nvSpPr>
        <p:spPr>
          <a:xfrm>
            <a:off x="5435640" y="189000"/>
            <a:ext cx="3708360" cy="448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هالأرض اللي حبّيت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22920" y="0"/>
            <a:ext cx="432108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من دم قلبك روَّيت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-618840"/>
            <a:ext cx="9144000" cy="33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شربل صلّي عنّا</a:t>
            </a:r>
            <a:r>
              <a:rPr b="1" lang="en-US" sz="106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51000"/>
            <a:ext cx="3708360" cy="448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لحتا زرعتا وساويتا</a:t>
            </a:r>
            <a:r>
              <a:rPr b="0" lang="ar-SA" sz="80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918360" y="371520"/>
            <a:ext cx="5160960" cy="24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ترابات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7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عم تتغنَّى</a:t>
            </a:r>
            <a:r>
              <a:rPr b="0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7482" t="3795" r="0" b="379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8" name=""/>
          <p:cNvSpPr/>
          <p:nvPr/>
        </p:nvSpPr>
        <p:spPr>
          <a:xfrm>
            <a:off x="1805040" y="468360"/>
            <a:ext cx="8902440" cy="572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إنسان كامل خيّ الكل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مجبول محبّه عَ الحِل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خلِّينا نحنا والكل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بالأخُوِّه نتكنَّى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8000" y="247680"/>
            <a:ext cx="5796000" cy="639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شربل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صلّي عنّا</a:t>
            </a:r>
            <a:r>
              <a:rPr b="1" lang="en-US" sz="106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61" name=""/>
          <p:cNvSpPr/>
          <p:nvPr/>
        </p:nvSpPr>
        <p:spPr>
          <a:xfrm>
            <a:off x="3514680" y="-2622960"/>
            <a:ext cx="5594400" cy="1135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قدِّيس كِلَّك لألل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حيَّرت الدنيي كِلاّ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عَن أرضَك لا تتخلّ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يا قديس الـمِن عِنَّا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48000" y="-716040"/>
            <a:ext cx="5796000" cy="639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شربل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صلّي عنّا</a:t>
            </a:r>
            <a:r>
              <a:rPr b="1" lang="en-US" sz="106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64" name=""/>
          <p:cNvSpPr/>
          <p:nvPr/>
        </p:nvSpPr>
        <p:spPr>
          <a:xfrm>
            <a:off x="539640" y="3141720"/>
            <a:ext cx="6516720" cy="305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Arial"/>
                <a:cs typeface="Akhbar MT"/>
              </a:rPr>
              <a:t>لبنان هالأرزة الخضرا عندو شربل والعدرا</a:t>
            </a:r>
            <a:r>
              <a:rPr b="0" lang="ar-SA" sz="72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1342800" y="3429000"/>
            <a:ext cx="9518400" cy="194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5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يا شربل منَّك نظر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5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عا لبنان وطمنّا</a:t>
            </a:r>
            <a:r>
              <a:rPr b="0" lang="ar-SA" sz="80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3106080"/>
            <a:ext cx="651672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شربل صلّي عنّا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68" name=""/>
          <p:cNvSpPr/>
          <p:nvPr/>
        </p:nvSpPr>
        <p:spPr>
          <a:xfrm>
            <a:off x="142920" y="3138480"/>
            <a:ext cx="6516720" cy="371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دير عنايا الـمشهور شربل ضوَّى سراج النو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538280" y="3379680"/>
            <a:ext cx="10382400" cy="194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5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بيعه بكلّ الـمعمو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5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تصلّي وبتتمنّ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091680"/>
            <a:ext cx="651672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شربل صلّي عنّا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7:17:35Z</dcterms:created>
  <dc:creator>Charbel Azar</dc:creator>
  <dc:description/>
  <dc:language>en-US</dc:language>
  <cp:lastModifiedBy>ف</cp:lastModifiedBy>
  <dcterms:modified xsi:type="dcterms:W3CDTF">2007-07-13T15:31:59Z</dcterms:modified>
  <cp:revision>13</cp:revision>
  <dc:subject/>
  <dc:title>Slide 1</dc:title>
</cp:coreProperties>
</file>