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92C-B417-4850-8CDE-01A71026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E84-7A86-4950-8F39-44ACC670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F2F-621B-46E2-93FD-17D30F7C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97A-DDB0-4F25-850C-11168022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94D-631C-48BD-B885-68F99960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6BD-5E82-4702-B95D-05416863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7CA-281C-48D5-9192-F00E705B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A52-BC0E-436E-97F8-D99E8E10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F98-5C54-4CE7-981A-F940F0F9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566-80E3-41DB-B3B5-23A9C1FC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E25-FE2B-4212-B02C-3221E882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4A8-BFF0-4258-A801-AA9492A9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5EB0-4AC1-4136-94EE-D8E2BF2E01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0" spc="-1" strike="noStrike">
                <a:solidFill>
                  <a:srgbClr val="000000"/>
                </a:solidFill>
                <a:latin typeface="Arial"/>
                <a:cs typeface="????Boutros Rokaa"/>
              </a:rPr>
              <a:t>محبسة العجايب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، يا أمل كل تايب ندمان ارتمى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َ أرضِك يحكيها بدموعو يسقيها أسرارو يعطيها وهمومو يسلّم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9640" y="100080"/>
            <a:ext cx="8028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ا مدبحِك شربل يوميّي صلاّ، يوميّي كان يحمل همّ الناس كِلاّ، وبعدو لْهَلَّق معنا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نحكي معو ويسمعن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بصلاتو يرفعنا تَ نوصل ل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3640" y="163080"/>
            <a:ext cx="845964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، يا أمل كل تايب ندمان ارتمى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َ أرضِك يحكيها بدموعو يسقيها أسرارو يعطيها وهمومو يسلّم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7920000" cy="633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khbar MT"/>
              </a:rPr>
              <a:t>يا شامخه عا تلّي وعينِك عالبشر، يا رَمز التجلّي وربّنا اللي انتصر، رهبانِك قدّسوكيِ</a:t>
            </a:r>
            <a:br>
              <a:rPr sz="6000"/>
            </a:b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khbar MT"/>
              </a:rPr>
              <a:t>توب النُّور لبّسوكِ،</a:t>
            </a:r>
            <a:br>
              <a:rPr sz="6000"/>
            </a:b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khbar MT"/>
              </a:rPr>
              <a:t>للعمر كرّسوكيِ طريقنا للسما </a:t>
            </a: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94920" y="20160"/>
            <a:ext cx="838836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، يا أمل كل تايب ندمان ارتمى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عَ أرضِك يحكيها بدموعو يسقيها أسرارو يعطيها وهمومو يسلّما،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Akhbar MT"/>
              </a:rPr>
              <a:t>محبسة العجايب يا باب الس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7:19:29Z</dcterms:created>
  <dc:creator>Charbel Azar</dc:creator>
  <dc:description/>
  <dc:language>en-US</dc:language>
  <cp:lastModifiedBy>ف</cp:lastModifiedBy>
  <dcterms:modified xsi:type="dcterms:W3CDTF">2007-07-13T16:00:50Z</dcterms:modified>
  <cp:revision>5</cp:revision>
  <dc:subject/>
  <dc:title>Slide 1</dc:title>
</cp:coreProperties>
</file>