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  <p:sldId id="313" r:id="rId67"/>
    <p:sldId id="314" r:id="rId68"/>
    <p:sldId id="315" r:id="rId69"/>
    <p:sldId id="316" r:id="rId70"/>
    <p:sldId id="317" r:id="rId71"/>
    <p:sldId id="318" r:id="rId72"/>
    <p:sldId id="319" r:id="rId73"/>
    <p:sldId id="320" r:id="rId74"/>
    <p:sldId id="321" r:id="rId75"/>
    <p:sldId id="322" r:id="rId76"/>
    <p:sldId id="323" r:id="rId77"/>
    <p:sldId id="324" r:id="rId78"/>
    <p:sldId id="325" r:id="rId79"/>
    <p:sldId id="326" r:id="rId80"/>
    <p:sldId id="327" r:id="rId81"/>
    <p:sldId id="328" r:id="rId82"/>
    <p:sldId id="329" r:id="rId83"/>
    <p:sldId id="330" r:id="rId84"/>
    <p:sldId id="331" r:id="rId85"/>
    <p:sldId id="332" r:id="rId86"/>
    <p:sldId id="333" r:id="rId87"/>
    <p:sldId id="334" r:id="rId8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slide" Target="slides/slide58.xml"/><Relationship Id="rId68" Type="http://schemas.openxmlformats.org/officeDocument/2006/relationships/slide" Target="slides/slide59.xml"/><Relationship Id="rId69" Type="http://schemas.openxmlformats.org/officeDocument/2006/relationships/slide" Target="slides/slide60.xml"/><Relationship Id="rId70" Type="http://schemas.openxmlformats.org/officeDocument/2006/relationships/slide" Target="slides/slide61.xml"/><Relationship Id="rId71" Type="http://schemas.openxmlformats.org/officeDocument/2006/relationships/slide" Target="slides/slide62.xml"/><Relationship Id="rId72" Type="http://schemas.openxmlformats.org/officeDocument/2006/relationships/slide" Target="slides/slide63.xml"/><Relationship Id="rId73" Type="http://schemas.openxmlformats.org/officeDocument/2006/relationships/slide" Target="slides/slide64.xml"/><Relationship Id="rId74" Type="http://schemas.openxmlformats.org/officeDocument/2006/relationships/slide" Target="slides/slide65.xml"/><Relationship Id="rId75" Type="http://schemas.openxmlformats.org/officeDocument/2006/relationships/slide" Target="slides/slide66.xml"/><Relationship Id="rId76" Type="http://schemas.openxmlformats.org/officeDocument/2006/relationships/slide" Target="slides/slide67.xml"/><Relationship Id="rId77" Type="http://schemas.openxmlformats.org/officeDocument/2006/relationships/slide" Target="slides/slide68.xml"/><Relationship Id="rId78" Type="http://schemas.openxmlformats.org/officeDocument/2006/relationships/slide" Target="slides/slide69.xml"/><Relationship Id="rId79" Type="http://schemas.openxmlformats.org/officeDocument/2006/relationships/slide" Target="slides/slide70.xml"/><Relationship Id="rId80" Type="http://schemas.openxmlformats.org/officeDocument/2006/relationships/slide" Target="slides/slide71.xml"/><Relationship Id="rId81" Type="http://schemas.openxmlformats.org/officeDocument/2006/relationships/slide" Target="slides/slide72.xml"/><Relationship Id="rId82" Type="http://schemas.openxmlformats.org/officeDocument/2006/relationships/slide" Target="slides/slide73.xml"/><Relationship Id="rId83" Type="http://schemas.openxmlformats.org/officeDocument/2006/relationships/slide" Target="slides/slide74.xml"/><Relationship Id="rId84" Type="http://schemas.openxmlformats.org/officeDocument/2006/relationships/slide" Target="slides/slide75.xml"/><Relationship Id="rId85" Type="http://schemas.openxmlformats.org/officeDocument/2006/relationships/slide" Target="slides/slide76.xml"/><Relationship Id="rId86" Type="http://schemas.openxmlformats.org/officeDocument/2006/relationships/slide" Target="slides/slide77.xml"/><Relationship Id="rId87" Type="http://schemas.openxmlformats.org/officeDocument/2006/relationships/slide" Target="slides/slide78.xml"/><Relationship Id="rId88" Type="http://schemas.openxmlformats.org/officeDocument/2006/relationships/slide" Target="slides/slide79.xml"/><Relationship Id="rId8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7170-C044-4186-99A3-07E9E43B9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D1FC-87D0-4B65-8E2F-9491656BD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B8DF-CE9A-45C6-A687-700426D48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1332-08D3-4AE6-9EBE-E75E9E327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67FB3-C9C3-4F19-ABD7-22F6EB40C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140CE-F800-4ECC-A178-6A7E68931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625AD-8255-4F99-A369-1AC78F042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15253-019D-4ADD-B471-59456C2CF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84284-3714-4582-9A52-22A9DB641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4351F-BCE0-4648-A557-091FEAD1F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F6639-10D3-4F45-887E-D9ABBA77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61FE-AA4E-4947-A84A-8A4BEFB6D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AB21F-2BA7-4755-B08F-60C74F9B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A8350-E716-4CB6-9246-DC60C491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F84DB-45EE-4E14-8179-C549B6B11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F7E8C-8120-4C8B-8A32-9DFB3856E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38174-DB75-4B6B-9DB7-77D84D66F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0DFF7-E14C-41C1-AF71-A4F92E744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426CD-787E-4740-BFC0-8CABD5092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8849A-B3BA-4FBF-8086-907B31DC4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84B31-C3A7-4520-ABA8-37454CC1D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3298D-C8B0-4021-A249-7FEBDCB08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7856-3E28-476B-864A-9105731A9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0DE38-9636-411A-9F92-1ABF5CD83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2EEAA-DB27-469D-99E4-DBC7CF7D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EEA30-C801-4195-8F48-7FDAE083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71C0A-E987-41A4-ADD9-715D01C9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4726A-6C43-4718-9F9A-31C9908C2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11EE5-0B81-46AD-A269-5CC931CF6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5172B-B910-42B3-B344-2C36E7FB5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70F3F-0134-4F10-9CB4-C6FC3C8B1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F6F21-1EB2-4C58-AAE0-7E2C84061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7BD8A-E5BD-4202-8797-5EF005BAE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F342-F50C-4902-ACC1-9414610B4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4176B-2F7B-41E4-8F7D-803906AD9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8F33D-D99A-4244-95FC-4C6BB6399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0823F-1A18-4A65-AE6C-8AB474313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FD97B-5BDD-4712-8830-8EF22256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B8DB5-04EC-48C8-A394-B4179987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11202-AEE9-41DB-9AED-4F2E08A7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FC9D2-4CBF-4A92-9537-E844DFCFB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8842F-6940-4387-B4E2-39FEB6258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D81C4-52B4-4BB1-B1DC-A1766024D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85E8A-BD2B-45D4-B187-6ED2F6E66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C8C5-F553-4013-9F39-FE5598198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88404-9132-466F-B394-4A34352BA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94DE1-332B-4132-98AC-F14C91CA6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98426-F168-45CA-B129-9A62C0075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EFB63-5B29-4A9B-9B68-90D3A6BFC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9BEEF-4F00-499C-87E2-BC8A587A8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22530-34C8-4334-A2E0-4F2B7C1A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11A97-BE6C-4903-9439-A0D60312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989EB-6433-457D-A90D-CD9D12A1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F85E1-BE45-4A6B-82AC-5D4C80071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B0031-3978-447C-8558-8CD440622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E413-D898-4D07-A9F3-77108C491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D68F8-D3B5-4A5B-A6C2-30ADDE07A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F31A24-EBEB-49F5-978B-0FB86A525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A05D7-7911-4990-B8C8-450F91A7F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F143C-E735-4102-8AAC-27675F007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DA27E-6119-4B9D-B254-2D7418F6E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216A2-AC6A-4FB4-B841-AD5BFCC20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F7323-9EAA-41BD-8F81-F89939D4D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F268F-CA64-49BE-BF02-6C9A9E38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704A9-CD58-4756-A3DA-B7957B3B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5CF77E-2806-4122-8E64-CB111283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B36E-2D70-45BF-BCD8-88BF35B0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01747-CC2F-4282-A473-8EDE20893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57FBE-2517-4B85-824E-482F1A2B6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5E18D2-6ECB-455E-B3F0-60744B6BE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042CF-6161-4332-A0B6-7378635E3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5C6F7F-FA6A-414D-BA1D-B92F07A6D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87817-53CB-485C-9B72-6B85D5450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4CD30F-8219-4C4E-AEB7-276B01717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4DCCB-78BB-4D4F-95B4-505E595D9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17125-0B0E-4838-BE7B-A035B7C4B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A593A2-CDA3-42B8-A208-8767C064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670A-51D3-4221-B9A8-FE9C2AC7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C4C09A-FF96-4A30-AB22-44CFCA9E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05E6E-167F-4EAD-BEC7-E4795125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314290-3BC6-4AC6-9652-881FB19D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82FC5B-DFCE-45D3-B19E-D89EC83DF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BF0B89-C81B-444B-991D-3E92BB307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501BAC-7FC6-47A1-BDBA-5C8C468AB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0BC2D3-6D19-4C02-BF3E-8ACF7FC7D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90999-E68C-4596-B66A-5AFA1622B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460BB7-6F8F-4DDD-861E-D8EC812B5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41AC85-93C7-4C74-8137-5BAB02B28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9915-6784-4E78-AC55-3EF37A2E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5A1687-C38D-4AAB-99E6-E2A44E1F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0B1583-6050-4630-AAB9-AD1E346A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9F62EE-EA70-4D14-9F80-09CEC92F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8887B-5F0B-4FB4-9B2D-DECFE6F1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CF9808-EF4F-47D3-AA9F-AACE6EAA9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785D70-09D5-4B5B-A6C1-F5ABA9757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75DC83-C8D8-43F2-A297-BAC7E1D41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DE64A-AF16-4602-ADBE-0AC25D7A538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79EF6-FAA0-4825-835B-0BFB720F06D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82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84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9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7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ftr" idx="8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Num" idx="9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28234-3BA3-4D94-8F5E-088D1820F8B2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88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90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dt" idx="10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ftr" idx="11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5B355-2FC4-47BF-885D-1747C9029F7E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F09A1-046F-4C0C-96B7-4F5A6DDCBC6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4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AB667-58B9-45A1-A1C5-1DCE36CAE50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4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C9DFD-9589-4D03-BC27-E1E1DE455D8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A6A1-8C46-4E89-BC34-BFD2FFBE966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0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76320" y="0"/>
            <a:ext cx="8991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ahoma"/>
                <a:cs typeface="Akhbar MT"/>
              </a:rPr>
              <a:t>صَوتُكَ العَذْبُ حَفَّ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ahoma"/>
                <a:cs typeface="Akhbar MT"/>
              </a:rPr>
              <a:t>في قَلْبهِ: ”كُنْ طاهِرْ‍“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ahoma"/>
                <a:cs typeface="Akhbar MT"/>
              </a:rPr>
              <a:t>طَيْفُكَ الحُلْوُ شَفَّ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ahoma"/>
                <a:cs typeface="Akhbar MT"/>
              </a:rPr>
              <a:t>في حُلْمِ الْمُضْنَى السَّاهِرْ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76320" y="44280"/>
            <a:ext cx="8991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ahoma"/>
                <a:cs typeface="Akhbar MT"/>
              </a:rPr>
              <a:t>يا طبيباً دَواهُ:</a:t>
            </a:r>
            <a:endParaRPr b="0" lang="en-US" sz="8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8200" spc="-1" strike="noStrike">
                <a:solidFill>
                  <a:srgbClr val="000000"/>
                </a:solidFill>
                <a:latin typeface="Tahoma"/>
                <a:ea typeface="Akhbar MT"/>
              </a:rPr>
              <a:t>”</a:t>
            </a:r>
            <a:r>
              <a:rPr b="1" lang="ar-SA" sz="8200" spc="-1" strike="noStrike">
                <a:solidFill>
                  <a:srgbClr val="000000"/>
                </a:solidFill>
                <a:latin typeface="Tahoma"/>
                <a:cs typeface="Akhbar MT"/>
              </a:rPr>
              <a:t>قد شئتُ، فكُنْ طاهِرْ!“</a:t>
            </a:r>
            <a:endParaRPr b="0" lang="en-US" sz="8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ahoma"/>
                <a:cs typeface="Akhbar MT"/>
              </a:rPr>
              <a:t>لا نُريدُ سِواهُ</a:t>
            </a:r>
            <a:endParaRPr b="0" lang="en-US" sz="8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ahoma"/>
                <a:cs typeface="Akhbar MT"/>
              </a:rPr>
              <a:t>في حُلْمِ الْمُضْنى السَّاهِر</a:t>
            </a:r>
            <a:endParaRPr b="0" lang="en-US" sz="8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76320" y="0"/>
            <a:ext cx="8991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ahoma"/>
                <a:cs typeface="Akhbar MT"/>
              </a:rPr>
              <a:t>رَبِّ يَا مَنْ تَقَبَّلْ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ahoma"/>
                <a:cs typeface="Akhbar MT"/>
              </a:rPr>
              <a:t>قِدْماً خِدْمَةَ  الأَبْرَارْ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ahoma"/>
                <a:cs typeface="Akhbar MT"/>
              </a:rPr>
              <a:t>يَا حَنُونُ تَقَبَّلْ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ahoma"/>
                <a:cs typeface="Akhbar MT"/>
              </a:rPr>
              <a:t>وَاسْتَجِبْنَا كَالأَبْرَارْ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-181080" y="907920"/>
            <a:ext cx="9361440" cy="506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Arial"/>
              </a:rPr>
              <a:t>هللويا وهللويا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Arial"/>
              </a:rPr>
              <a:t>       جئت إلى هذا العالم للدينونة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Arial"/>
              </a:rPr>
              <a:t>     ليبصر الذين لا يبصرون . هللويا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304920" y="179280"/>
            <a:ext cx="8610480" cy="60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04920" y="457200"/>
            <a:ext cx="838188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0" y="247680"/>
            <a:ext cx="9144000" cy="81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khbar MT"/>
                <a:cs typeface="Akhbar MT"/>
              </a:rPr>
              <a:t>هللويا وهللويا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khbar MT"/>
                <a:ea typeface="Akhbar MT"/>
              </a:rPr>
              <a:t> يَا رَبِّ إِنْ شِئتَ،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khbar MT"/>
                <a:cs typeface="Akhbar MT"/>
              </a:rPr>
              <a:t>فَأَنْتَ قَادِرٌ أَنْ تُطَهِّرَنِي.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khbar MT"/>
                <a:ea typeface="Akhbar MT"/>
              </a:rPr>
              <a:t> هللويا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0" y="5084640"/>
            <a:ext cx="9516960" cy="1729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-10008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لِلْمَسِيحِ يَسُوع</a:t>
            </a:r>
            <a:r>
              <a:rPr b="1" lang="ar-SA" sz="8000" spc="-1" strike="noStrike">
                <a:solidFill>
                  <a:srgbClr val="ffffff"/>
                </a:solidFill>
                <a:latin typeface="Tahoma"/>
                <a:ea typeface="Akhbar MT"/>
              </a:rPr>
              <a:t>	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أَلتَّسْبيحُ وَالْبَرَكَات.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مِنْ أَجْلِ كَلامِهِ الْحَيِّ لَنَا.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0" y="4428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900" spc="-1" strike="noStrike">
                <a:solidFill>
                  <a:srgbClr val="ffff00"/>
                </a:solidFill>
                <a:latin typeface="Tahoma"/>
                <a:cs typeface="Akhbar MT"/>
              </a:rPr>
              <a:t>خَاطَبَ الرَّبُ شَعْبَهُ</a:t>
            </a:r>
            <a:br>
              <a:rPr sz="9900"/>
            </a:br>
            <a:r>
              <a:rPr b="1" lang="ar-SA" sz="9900" spc="-1" strike="noStrike">
                <a:solidFill>
                  <a:srgbClr val="ffff00"/>
                </a:solidFill>
                <a:latin typeface="Tahoma"/>
                <a:cs typeface="Akhbar MT"/>
              </a:rPr>
              <a:t>هَلِّلُويا</a:t>
            </a:r>
            <a:br>
              <a:rPr sz="9900"/>
            </a:br>
            <a:r>
              <a:rPr b="1" lang="ar-SA" sz="9900" spc="-1" strike="noStrike">
                <a:solidFill>
                  <a:srgbClr val="ffff00"/>
                </a:solidFill>
                <a:latin typeface="Tahoma"/>
                <a:cs typeface="Akhbar MT"/>
              </a:rPr>
              <a:t>وَكَلامُ الرَّبِ حِكْمَةٌ</a:t>
            </a:r>
            <a:br>
              <a:rPr sz="9900"/>
            </a:br>
            <a:r>
              <a:rPr b="1" lang="ar-SA" sz="9900" spc="-1" strike="noStrike">
                <a:solidFill>
                  <a:srgbClr val="ffff00"/>
                </a:solidFill>
                <a:latin typeface="Tahoma"/>
                <a:cs typeface="Akhbar MT"/>
              </a:rPr>
              <a:t>هَلِّلُويا</a:t>
            </a: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ahoma"/>
                <a:cs typeface="Akhbar MT"/>
              </a:rPr>
              <a:t>هللويا، قال الربُّ إنّني الخبزُ المحيي، الآتي من حِضنِ الآبِ قوتاً للعالَم، قبلَني، حِضنُ العذراءِ الأمِّ النقيّ العذراءِ مريم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380880" y="0"/>
            <a:ext cx="8763120" cy="51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ألمجدُ للهِ فـي الأعالي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وعلى الأرضِ السلام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والرجاءُ الصالحُ لبني البشر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ahoma"/>
                <a:cs typeface="Akhbar MT"/>
              </a:rPr>
              <a:t>مثلَ حبّةِ القمحِ في الأرضِ الخَصبة، صِرتُ فوقَ الـمذبحِ قوتاً للبيعة، هللويا</a:t>
            </a:r>
            <a:br>
              <a:rPr sz="7200"/>
            </a:br>
            <a:r>
              <a:rPr b="1" lang="ar-SA" sz="7200" spc="-1" strike="noStrike">
                <a:solidFill>
                  <a:srgbClr val="ffff00"/>
                </a:solidFill>
                <a:latin typeface="Tahoma"/>
                <a:cs typeface="Akhbar MT"/>
              </a:rPr>
              <a:t>وَخُبزَ حياة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76320" y="-27000"/>
            <a:ext cx="8991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للويا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ِوالدةِ اللهِ الأمِّ العذراء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أنبياءِ والرُّسْلِ والشُّهداء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الخُدّام الكَهَنة جَوْقِ الأَبرار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كُـلِّ أولادِ البيعَة نُحيـي التَّذكار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0" y="115920"/>
            <a:ext cx="8964720" cy="1054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khbar MT"/>
                <a:cs typeface="Akhbar MT"/>
              </a:rPr>
              <a:t>ك: إِيتِ لْوُتْ مَدْبحِهْ دَلُهُ وَلْوُتْ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khbar MT"/>
                <a:ea typeface="Akhbar MT"/>
              </a:rPr>
              <a:t>     ألُهُ دَمْحَدِ طَلْيُوتْ وِانُ بْسُوغُ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khbar MT"/>
                <a:ea typeface="Akhbar MT"/>
              </a:rPr>
              <a:t>     دْطيْبُوتُخْ إِعُولْ لْبَيْتُخْ وِسْغُودْ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khbar MT"/>
                <a:ea typeface="Akhbar MT"/>
              </a:rPr>
              <a:t>     بْهَيْكْلُ دْقُودْشُخ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0" y="41400"/>
            <a:ext cx="8964720" cy="135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khbar MT"/>
                <a:cs typeface="Akhbar MT"/>
              </a:rPr>
              <a:t>ش: بْدِحِلْتُخْ مُرْيُ دَبَرَيْنْ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khbar MT"/>
                <a:ea typeface="Akhbar MT"/>
              </a:rPr>
              <a:t>      وَبْزَدِيقُوتُخْ أَلِفَيْنْ .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khbar MT"/>
                <a:cs typeface="Akhbar MT"/>
              </a:rPr>
              <a:t>ك: صَلَوْ عْلَيْ مِطُولْ مُرَنْ .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khbar MT"/>
                <a:cs typeface="Akhbar MT"/>
              </a:rPr>
              <a:t>ش: أَلُـهُ نْقَبلْ قُورْبُنُخْ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khbar MT"/>
                <a:ea typeface="Akhbar MT"/>
              </a:rPr>
              <a:t>      ونِتْرَحَامْ عْلَيْن بَصْلُوتُخ.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ahoma"/>
                <a:cs typeface="Akhbar MT"/>
              </a:rPr>
              <a:t>هللويا، قال الربُّ إنّني الخبزُ المحيي، الآتي من حِضنِ الآبِ قوتاً للعالَم، قبلَني، حِضنُ العذراءِ الأمِّ النقيّ العذراءِ مريم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ahoma"/>
                <a:cs typeface="Akhbar MT"/>
              </a:rPr>
              <a:t>مثلَ حبّةِ القمحِ في الأرضِ الخَصبة، صِرتُ فوقَ الـمذبحِ قوتاً للبيعة، هللويا</a:t>
            </a:r>
            <a:br>
              <a:rPr sz="7200"/>
            </a:br>
            <a:r>
              <a:rPr b="1" lang="ar-SA" sz="7200" spc="-1" strike="noStrike">
                <a:solidFill>
                  <a:srgbClr val="ffff00"/>
                </a:solidFill>
                <a:latin typeface="Tahoma"/>
                <a:cs typeface="Akhbar MT"/>
              </a:rPr>
              <a:t>وَخُبزَ حياة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76320" y="-27000"/>
            <a:ext cx="8991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للويا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ِوالدةِ اللهِ الأمِّ العذراء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أنبياءِ والرُّسْلِ والشُّهداء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الخُدّام الكَهَنة جَوْقِ الأَبرار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كُـلِّ أولادِ البيعَة نُحيـي التَّذكار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ألمجد للآب والابن</a:t>
            </a:r>
            <a:endParaRPr b="0" lang="en-US" sz="9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والرّوح القدس</a:t>
            </a:r>
            <a:endParaRPr b="0" lang="en-US" sz="9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من الآن وإلـى الأبد.</a:t>
            </a:r>
            <a:endParaRPr b="0" lang="en-US" sz="9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500" spc="-1" strike="noStrike">
                <a:solidFill>
                  <a:srgbClr val="ffffff"/>
                </a:solidFill>
                <a:latin typeface="Tahoma"/>
                <a:cs typeface="Akhbar MT"/>
              </a:rPr>
              <a:t>آمين.</a:t>
            </a:r>
            <a:endParaRPr b="0" lang="en-US" sz="9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-209880" y="5315040"/>
            <a:ext cx="2637360" cy="1355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7200" spc="-1" strike="noStrike">
                <a:solidFill>
                  <a:srgbClr val="ffffff"/>
                </a:solidFill>
                <a:latin typeface="Times New Roman"/>
                <a:cs typeface="AL-Mohanad Bold"/>
              </a:rPr>
              <a:t>جلوس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539640" y="0"/>
            <a:ext cx="82821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ألمجدُ للآب والابنِ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الروحِ القدس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منذ الأزَلِ</a:t>
            </a:r>
            <a:br>
              <a:rPr sz="9000"/>
            </a:b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إلى أبد الآبدين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أيها الآب إل‍هُ السّلام وسيّدُ الآمان هَبْ لنا جميعاً وأهّلنا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ن نعانقَ بعضُنا بعضاً،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‍ي نسمةٍ من مَحبّتِكَ لا تنقطِعْ بقُبْلَةٍ لا غِشَّ ف‍يها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نرفعَ ال‍مجدَ والشّكرَ إل‍يك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إل‍ى إبنِكَ الوحيد،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روحِكَ القدّوس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آن وإل‍ى الأبد.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ea typeface="Akhbar MT"/>
              </a:rPr>
              <a:t>+ آميــن.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ألسّلامُ لك يا مذب‍حَ الله؛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لسّلامُ للأسرارِ ال‍مقدّسة ال‍موضوعةِ عل‍يك؛ ألسّلامُ لكَ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خادمَ الرّوح القدس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أمامَكَ يا ربُّ نن‍حن‍ي لنقبلَ مِنكَ الب‍ركةَ وال‍معونةَ لِضعفِنا لأنكَ للجميع ال‍ملجأ وال‍معين وإل‍يكَ نرفعُ ال‍مجدَ وإل‍ى ابنِكَ الوحيد وروحِكَ القدوس الآن وإل‍ى الأبد.  + آميـن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يا ربُّ أضِئ بوجهِكَ عل‍ينا الآنَ وخلِّصنا من كلّ شرّ وامْحُ جميعَ مخالفاتِنا فنرفعَ ال‍مجدَ والشّكرَ إل‍يك وإل‍ى إبنِك الوحيد، وروحِك القدّوس الآن وإل‍ى الأبد. + آميــن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مَحبةُ اللهِ الآب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نعمةُ الابن الوحيد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imes New Roman"/>
                <a:ea typeface="Akhbar MT"/>
              </a:rPr>
              <a:t> وَشركة وحلولُ الروحِ القدس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ع جميعِكُم يا إخوت‍ي إل‍ى الأبد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ea typeface="Akhbar MT"/>
              </a:rPr>
              <a:t>+ ومع روحك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351200" y="0"/>
            <a:ext cx="2094840" cy="114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6000" spc="-1" strike="noStrike">
                <a:solidFill>
                  <a:srgbClr val="ffffff"/>
                </a:solidFill>
                <a:latin typeface="Times New Roman"/>
                <a:cs typeface="AL-Mohanad Bold"/>
              </a:rPr>
              <a:t>وقوف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6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لتكنْ أفكارُنا وعقولُنا وقلوبُنا مرتفعةً إل‍ى العل‍ى.</a:t>
            </a:r>
            <a:endParaRPr b="0" lang="en-US" sz="8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600" spc="-1" strike="noStrike">
                <a:solidFill>
                  <a:srgbClr val="ffffff"/>
                </a:solidFill>
                <a:latin typeface="Times New Roman"/>
                <a:ea typeface="Akhbar MT"/>
              </a:rPr>
              <a:t>+ إن‍ها لديك يا الله.</a:t>
            </a:r>
            <a:endParaRPr b="0" lang="en-US" sz="8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6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لنشكرِ الربَّ مت‍هيّب‍ين ونسجُدْ ل‍هُ خاشعين.</a:t>
            </a:r>
            <a:endParaRPr b="0" lang="en-US" sz="8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600" spc="-1" strike="noStrike">
                <a:solidFill>
                  <a:srgbClr val="ffffff"/>
                </a:solidFill>
                <a:latin typeface="Times New Roman"/>
                <a:ea typeface="Akhbar MT"/>
              </a:rPr>
              <a:t>+ إن‍ه لحقٌ وواجب.</a:t>
            </a:r>
            <a:endParaRPr b="0" lang="en-US" sz="8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حقاً إن‍هُ لواجبٌ ولائقٌ أنْ نُ‍مجِّدَكَ ونعظِّمَكَ، يَا خالقَ جَميعِ الب‍رايَا. إنّا ن‍ُمَجِّدُكَ مَعَ ال‍ملائِكَة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أَصواتِ التّسب‍يحِ هاتفين وقائل‍ين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ea typeface="Akhbar MT"/>
              </a:rPr>
              <a:t>+ نذكرُ موتَك، يا ربّ،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نعترفُ بقيامتِك، وننتظرُ مجيئـَك الثان‍ي، ونطلبُ مِنكَ الرّحمةَ والحنان، ونسألُكَ مغفرةَ الخطايا. فَلْتَشمَل مراحمُك كُلّنا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0" y="10008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ف‍يما ن‍حنُ نذكرُ يا ربُّ مجيئـَكَ الخلاصيّ ومجيئـَك الثـّان‍ي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نقدِّمُ لكَ التّسب‍يح، مُبت‍هل‍ينَ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لاّ تُسَلِّمَنا بسبب خطايانا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وم تدينُ الأب‍رارَ والخطأة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وب‍هذا أوصاهم وحضّهم قائلاً: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كلّ مرّةٍ تكمّلون هذه الأسرار، تذكرون موت‍ي وقيامت‍ي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حتّى مجيئي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10008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َل ترأّف بـِنا وارحَمْنا وأشِحْ بوجهِكَ عَن خطايانا واعضُدْنا. لِ‍هذا، تَضرَعُ إل‍يكَ ب‍يعتُك ورعيّتُكَ وَبكَ وَمَعكَ إل‍ى أب‍يكَ وهي تقول: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10008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imes New Roman"/>
                <a:ea typeface="Akhbar MT"/>
              </a:rPr>
              <a:t>+ إرحمنا، أيّها الآب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ضّابط الكلّ،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رحمنـا.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84360" y="2276640"/>
            <a:ext cx="36716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0" y="10008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ن‍حنُ أيضاً، يا ربُّ، أبناءَك الخطأة، ف‍ِيما نقبلُ نِعَمكَ، نشكرُكَ عَن‍ها ومن أجل‍ِها كلِّ‍ها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0" y="10008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ea typeface="Akhbar MT"/>
              </a:rPr>
              <a:t>+ إيّاك نسب‍ح. إيّاك ن‍مجّد.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يّاك نبارك. لك نسجد.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ك نعترف ومنك نطلب: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اشفق أللّهمّ عل‍ينا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ارحمنا واستجب لنا.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ا أرهب‍ها ساعةً أحبّائي ين‍حدر ف‍يها الرّوح الحيّ القدّوس ويحلّ عل‍ى هذا القربان ال‍موضوعِ لتقديسنا فلنقف مصل‍ّين خاشعين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إرحَمنا اللهمَّ إرحَمنا</a:t>
            </a:r>
            <a:br>
              <a:rPr sz="9000"/>
            </a:b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أَرسِلْ عل‍ينا وعل‍ى هذه القراب‍ين روحَك القدّوس فَ‍يعْضُدَنا وَيُسامِحَنا.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76320" y="0"/>
            <a:ext cx="8991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اديشات ألوهـو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اديشات حايلتونـو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اديشات لومويوتـو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تراحـام علين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إستجبنا يا ربّ. (</a:t>
            </a:r>
            <a:r>
              <a:rPr b="1" lang="ar-SA" sz="6600" spc="-1" strike="noStrike">
                <a:solidFill>
                  <a:srgbClr val="ffffff"/>
                </a:solidFill>
                <a:latin typeface="Times New Roman"/>
                <a:ea typeface="Akhbar MT"/>
              </a:rPr>
              <a:t>3</a:t>
            </a:r>
            <a:r>
              <a:rPr b="1" lang="ar-SA" sz="6600" spc="-1" strike="noStrike">
                <a:solidFill>
                  <a:srgbClr val="ffffff"/>
                </a:solidFill>
                <a:latin typeface="Times New Roman"/>
                <a:ea typeface="Akhbar MT"/>
              </a:rPr>
              <a:t>)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ل‍يأتِ روحُكَ الحيُّ القدُّوس ويَحلَّ عَل‍ينا وعل‍ى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ذا القربان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8532720" cy="5877000"/>
          </a:xfrm>
          <a:prstGeom prst="rect">
            <a:avLst/>
          </a:prstGeom>
          <a:noFill/>
          <a:ln w="0">
            <a:noFill/>
          </a:ln>
          <a:effectLst>
            <a:outerShdw dist="76320" dir="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ff"/>
                </a:solidFill>
                <a:latin typeface="Arial"/>
                <a:cs typeface="AL-Mohanad Bold"/>
              </a:rPr>
              <a:t>كيرياليسون</a:t>
            </a:r>
            <a:br>
              <a:rPr sz="8000"/>
            </a:br>
            <a:r>
              <a:rPr b="0" lang="ar-SA" sz="8000" spc="-1" strike="noStrike">
                <a:solidFill>
                  <a:srgbClr val="ffffff"/>
                </a:solidFill>
                <a:latin typeface="Arial"/>
                <a:cs typeface="AL-Mohanad Bold"/>
              </a:rPr>
              <a:t>كــيـريــالــيـسـون</a:t>
            </a:r>
            <a:br>
              <a:rPr sz="8000"/>
            </a:br>
            <a:r>
              <a:rPr b="0" lang="ar-SA" sz="8000" spc="-1" strike="noStrike">
                <a:solidFill>
                  <a:srgbClr val="ffffff"/>
                </a:solidFill>
                <a:latin typeface="Arial"/>
                <a:cs typeface="AL-Mohanad Bold"/>
              </a:rPr>
              <a:t>كــيــريــــالــــيــــســــو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ف‍يجعلَ ب‍حلولِ‍ه هذا الخبزَ جَسدَ ال‍مسيحِ إل‍هِنا.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ea typeface="Akhbar MT"/>
              </a:rPr>
              <a:t>+ آمين.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ويَجعلَ مَزيجَ هَذهِ الكأسِ دَمَ ال‍مسيح إل‍هِنا. 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ea typeface="Akhbar MT"/>
              </a:rPr>
              <a:t>+ آمين.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فتكونَ هذه الأسرار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تنقيةِ نُفوسِ ال‍مشتركينَ ف‍يها وأجسادهم من كلِّ خطيئة، وللحياة الأبدية.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ea typeface="Akhbar MT"/>
              </a:rPr>
              <a:t>+ آمين.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-242640" y="5564160"/>
            <a:ext cx="2431800" cy="124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6600" spc="-1" strike="noStrike">
                <a:solidFill>
                  <a:srgbClr val="ffffff"/>
                </a:solidFill>
                <a:latin typeface="Times New Roman"/>
                <a:cs typeface="AL-Mohanad Bold"/>
              </a:rPr>
              <a:t>جلوس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إجعل يا ربّ ذكراً صالحاً لآبائنا وإخوتِنا ومعلّ‍مينا وجميعِ ال‍موتى ال‍مؤمن‍ين الراقدين هُنا وف‍ي كل مكان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غفِرْ لنا ول‍هم الخطايا والزَّلات لأنّ‍ه ما من أحد من دون خطيئة إلاّ ربُّنا وإل‍هنا ومخلّصنا يسوع ال‍مسيح الذي بواسطتِ‍ه نرجو أن ننالَ ال‍مراحمَ وغفرانَ الخطايا لنا ول‍هم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ea typeface="Akhbar MT"/>
              </a:rPr>
              <a:t>+ أَرِحْ أللّهمَّ الـموتى واغفِرْ خطايانا الّتي اقترفناها بمعرفة وبغير معرفة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0" y="4428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سامِحْنا أللهمَّ واغفِرْ لَنا ول‍هم ف‍يتمجَّدَ بنا وبكلّ شيء إسْمُك ال‍مبارك، مع اسمِ ربِّنا يسوعَ ال‍مسيح وروحِك الحيِّ القدّوس الآن وإل‍ى الأبد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0" y="0"/>
            <a:ext cx="9144000" cy="6237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imes New Roman"/>
                <a:ea typeface="Akhbar MT"/>
              </a:rPr>
              <a:t>+ كما كان وهو الآن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كذا يكون إل‍ى الأبد.</a:t>
            </a:r>
            <a:br>
              <a:rPr sz="9600"/>
            </a:br>
            <a:r>
              <a:rPr b="1" lang="ar-SA" sz="9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آمين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-303480" y="5394240"/>
            <a:ext cx="2637360" cy="146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7200" spc="-1" strike="noStrike">
                <a:solidFill>
                  <a:srgbClr val="ffffff"/>
                </a:solidFill>
                <a:latin typeface="Times New Roman"/>
                <a:cs typeface="AL-Mohanad Bold"/>
              </a:rPr>
              <a:t>جلوس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ea typeface="Akhbar MT"/>
              </a:rPr>
              <a:t>+ يا قرباناً شهيّاً قُرِّبَ عنّا؛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ذبيحاً غافراً قَرَّب ذاته لأبيه؛ يا حملاً صار لنفسه حَبراً مقرِّباً؛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047360" y="-243000"/>
            <a:ext cx="2288520" cy="124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6600" spc="-1" strike="noStrike">
                <a:solidFill>
                  <a:srgbClr val="ffffff"/>
                </a:solidFill>
                <a:latin typeface="Times New Roman"/>
                <a:cs typeface="AL-Mohanad Bold"/>
              </a:rPr>
              <a:t>وقوف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ِتكُنْ يا ربّ طِلْبتُنا بمراحمِكَ بَخُوراً فَنُقرِّبَها بكَ لأبيك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كَ المجدُ إلَى الأبد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0" y="10008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نضرعُ إل‍يكَ أللّهمَّ الآب معزِّيَنا ف‍ي ضعفِنا ومشجِّعَنا: نقِّنا مِن كُلِّ خَطيئة واقبلْ مِنّا هذا القربان فن‍هتفَ إل‍يكَ بنسمَةٍ وَاحدة وَنُصلِّي قائل‍ين: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َبانا الذي في السَّماوات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يَتَقَدَّس اسمُكَ، لِيَأتِ ملكوتُكَ لِتَكُن مشيئَتُكَ، كما في السَّماء كذلك على الأرض. أَعطِنا خبزنا كفافَ يومِنا واغفِرْ لنا ذنوبَنا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خطايانا كما نحنُ نغفِر لِمَنْ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ea typeface="Akhbar MT"/>
              </a:rPr>
              <a:t>	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ea typeface="Akhbar MT"/>
              </a:rPr>
              <a:t>	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ea typeface="Akhbar MT"/>
              </a:rPr>
              <a:t>  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ea typeface="Akhbar MT"/>
              </a:rPr>
              <a:t>	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لا تُدخِلنا في التجارب لكن نَجِّنا من الشرِّير لأنَّ لَكَ الـمُلكَ والقوَّةَ والمجد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لى أبد الآبدين. آمين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076720" y="1628640"/>
            <a:ext cx="324180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خطِئَ إلينا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5363640" y="2708280"/>
            <a:ext cx="27370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250" autoRev="1" fill="hold"/>
                                        <p:tgtEl>
                                          <p:spTgt spid="5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250" autoRev="1" fill="hold"/>
                                        <p:tgtEl>
                                          <p:spTgt spid="5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0" y="10008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لا تُدْخِلْنَا يا ربّ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‍ي امت‍حانِ التجارب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أننا لا قوةَ لنا عل‍يها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ل نَجِّنا من كلِّ شرّ 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0" y="10008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أنّ لكَ ال‍ملكوتَ والقدرةَ وال‍مجد ولابنِك الوحيد ولروحِك الحيّ القدوس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آن وإل‍ى الأبد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  <a:ea typeface="Akhbar MT"/>
              </a:rPr>
              <a:t>+ آمين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0" y="10008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ألسّلامُ لجميعكم. 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imes New Roman"/>
                <a:ea typeface="Akhbar MT"/>
              </a:rPr>
              <a:t>+ ومع روحك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1403280" y="-168120"/>
            <a:ext cx="5940360" cy="1225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رجع صوت بعيد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يا ابن داود ارحمني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لحظ طرف سعيد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ابصر نعمة الابن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حنوا رؤوسكم أمام الله الرّؤوف وأمام مذب‍حه الغافر وأمام جسد مخلّصنا ودمه ال‍محيي ل‍من يتناولُ‍ه واقبلوا الب‍ركةَ من الرّبّ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بارِكْ يا ربُّ السّاجدينَ لك ال‍من‍حن‍ينَ أمامك الضّارعينَ إل‍يك وأهّل‍هُم ل‍مراحِمِك وغفرانِ خطاياهُم لأنّك كثيرُ ال‍مراحم وعل‍ى كلِّ شيءٍ قدير.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نرفع ال‍مجدَ والشّكر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ل‍يكَ وإل‍ى ابنِكَ الوحيد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روحِكَ القدّوس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آن وإل‍ى الأبد.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ea typeface="Akhbar MT"/>
              </a:rPr>
              <a:t>+ آمين.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نعمةُ الثالوثِ الأقدسِ الأزل‍يّ ال‍متساوي ف‍ي الجوهر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عكم يا إخوت‍ي إل‍ى الأبد.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ea typeface="Akhbar MT"/>
              </a:rPr>
              <a:t>+ ومع روحك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‍ينظُرْ كلُّ واحد مِنّا إل‍ى الله بت‍هيّبٍ وخشوع ول‍يسألـ‍ْهُ الرّحمةَ والحنان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الأقداس للقدّيسين</a:t>
            </a:r>
            <a:br>
              <a:rPr sz="9800"/>
            </a:br>
            <a:r>
              <a:rPr b="1" lang="ar-SA" sz="9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الكمال والنّقاوة</a:t>
            </a:r>
            <a:br>
              <a:rPr sz="9800"/>
            </a:br>
            <a:r>
              <a:rPr b="1" lang="ar-SA" sz="9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القداسة.</a:t>
            </a:r>
            <a:endParaRPr b="0" lang="en-US" sz="9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ea typeface="Akhbar MT"/>
              </a:rPr>
              <a:t>+ آبٌ واحدٌ قدّوس إبنٌ واحدٌ قدّوس روحٌ واحدٌ قدّوس. تبارك اسم الربّ لأن‍ه واحدٌ ف‍ي السّماء وعل‍ى الأرض ل‍ه ال‍مجد إل‍ى الأبد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هّلنا، أيّها الربّ الإله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ن تتقدَّسَ أجسادُنا بجسدِكَ القدّوس وتتنقّى نفوسُنا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دمِكَ الغفور،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187280" y="5013360"/>
            <a:ext cx="4248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059280" y="3141720"/>
            <a:ext cx="54734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ليكُن تناولُنا لِمغفرةِ خطايانا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للحياة الجديدة. يا ربّنا وإلهنا لك المجد إلى الأبد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900000" y="38160"/>
            <a:ext cx="6588360" cy="1058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شعبك الراجي يضرع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يا ابن داود ارحمني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صوتك العذب يسمع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ابصر نعمة الابن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76320" y="0"/>
            <a:ext cx="8991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ahoma"/>
                <a:cs typeface="Akhbar MT"/>
              </a:rPr>
              <a:t>رَبِّ يَا مَنْ تَقَبَّلْ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ahoma"/>
                <a:cs typeface="Akhbar MT"/>
              </a:rPr>
              <a:t>قِدْماً خِدْمَةَ  الأَبْرَارْ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ahoma"/>
                <a:cs typeface="Akhbar MT"/>
              </a:rPr>
              <a:t>يَا حَنُونُ تَقَبَّلْ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ahoma"/>
                <a:cs typeface="Akhbar MT"/>
              </a:rPr>
              <a:t>وَاسْتَجِبْنَا كَالأَبْرَارْ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09:20:04Z</dcterms:created>
  <dc:creator>-</dc:creator>
  <dc:description/>
  <dc:language>en-US</dc:language>
  <cp:lastModifiedBy>ف</cp:lastModifiedBy>
  <dcterms:modified xsi:type="dcterms:W3CDTF">2006-09-15T19:53:37Z</dcterms:modified>
  <cp:revision>804</cp:revision>
  <dc:subject/>
  <dc:title>Slide 1</dc:title>
</cp:coreProperties>
</file>