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  <p:sldId id="325" r:id="rId79"/>
    <p:sldId id="326" r:id="rId80"/>
    <p:sldId id="327" r:id="rId81"/>
    <p:sldId id="328" r:id="rId82"/>
    <p:sldId id="329" r:id="rId83"/>
    <p:sldId id="330" r:id="rId84"/>
    <p:sldId id="331" r:id="rId85"/>
    <p:sldId id="332" r:id="rId86"/>
    <p:sldId id="333" r:id="rId87"/>
    <p:sldId id="334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slide" Target="slides/slide70.xml"/><Relationship Id="rId80" Type="http://schemas.openxmlformats.org/officeDocument/2006/relationships/slide" Target="slides/slide71.xml"/><Relationship Id="rId81" Type="http://schemas.openxmlformats.org/officeDocument/2006/relationships/slide" Target="slides/slide72.xml"/><Relationship Id="rId82" Type="http://schemas.openxmlformats.org/officeDocument/2006/relationships/slide" Target="slides/slide73.xml"/><Relationship Id="rId83" Type="http://schemas.openxmlformats.org/officeDocument/2006/relationships/slide" Target="slides/slide74.xml"/><Relationship Id="rId84" Type="http://schemas.openxmlformats.org/officeDocument/2006/relationships/slide" Target="slides/slide75.xml"/><Relationship Id="rId85" Type="http://schemas.openxmlformats.org/officeDocument/2006/relationships/slide" Target="slides/slide76.xml"/><Relationship Id="rId86" Type="http://schemas.openxmlformats.org/officeDocument/2006/relationships/slide" Target="slides/slide77.xml"/><Relationship Id="rId87" Type="http://schemas.openxmlformats.org/officeDocument/2006/relationships/slide" Target="slides/slide78.xml"/><Relationship Id="rId88" Type="http://schemas.openxmlformats.org/officeDocument/2006/relationships/slide" Target="slides/slide79.xml"/><Relationship Id="rId8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35BA-72AC-4FF7-A394-825340E7C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67BA-4E85-406D-81D7-0F89C224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8563-A9AB-4209-838B-6AD00D010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FAD6-E744-47C7-B6C6-B0885E020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1C8A-7112-4ABD-B832-FA43EE56D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3B5D-917A-4779-8BF7-83EEEC16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797E-E276-48BE-B33E-14AC74FB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4E1A-1DE2-4855-9E82-29FD7E93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7B2B-C2E4-4B67-857F-1471F3AB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18EF-4190-4C0A-B271-FC230B94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4EC1-3FBC-430D-BB24-2A50A3F4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FCE7-A368-476E-98C5-88016E98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23F4-66BE-4703-BBE3-BC8765ED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88DD-95FC-4179-8F27-F56A2AC5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292F-41C8-4535-A681-3786300B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5ACE-029E-4599-9FC6-8E21CB02E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2EB2-190E-46EC-ADDA-7FDD44DBF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BE699-FA39-44C9-BF31-6BF23697A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BCF16-9554-4C00-8155-0A864321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C98AD-678B-48F2-9A50-A3288782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07F2F-AFD5-4A19-BA8B-BA43AE18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89377-C989-46C1-8965-791122A4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D170-66A3-45B4-A5DD-EB752501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FB208-F476-4AEC-819B-0CFD600B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33B5D-8AE8-4E72-A7E5-1626AF3E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0CCDB-3E31-4AFC-81E8-1D4A9AC1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67FA1-9CDC-4CCB-93AE-B597443E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2B124-79ED-414C-AC3D-F11981F5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0102D-2635-45B4-B8B4-285C2ED2C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173D1-D01B-48D1-B6DD-D12C8A95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CF80A-B273-483F-964F-0B855F3DB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E27F8-E91F-4127-8A81-C48690E9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69EA6-F373-4745-8145-9330B122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D7D9-2D37-47D5-AB57-3BBCD752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7B36D-8A93-4892-9A5F-C3F1A5B1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2FF8C-71D9-41DC-BD68-362319E6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27972-C6D4-4A59-9FDC-7095AA61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30152-B60F-43DB-AEEF-319F2263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6D2C5-D8E0-471D-8E9B-DC25ECCC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B4451-F308-4D19-AD39-0CC602AA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12A4B-FAD0-4464-BB9B-BB7BF4F3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BBF0D-14B8-4ECC-9111-D0EB3F165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5449F-3F4E-4ED8-A32A-740B19C78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143A1-393C-4B4D-B27E-05207A765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D53E-D1FB-4DF3-8F9F-FF508811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43E1D-41F8-4A2E-80FD-DF9A5937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BACF4-44A0-4221-807A-2FAF9D2C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C01E9-6771-4561-AE51-95B04E23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7BE11-F83B-4FA5-B387-A62023FD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FB580-E1E1-43FC-9EEA-A852E4A2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3FE99-DD4C-4CFD-85E4-BEED39B7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4CCED-D04E-4011-8536-F3B7B1C8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C4969-3DDA-40FA-843E-A78040BE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69293-52F2-4895-8182-C9592DC9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0B9D7-FF62-441C-AD01-9981359F2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0E19-C352-44BB-AC16-0C0461BF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F606F-EA8E-4A4A-BE13-FAA590D60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17882-5E44-4FBB-85ED-AC264D9FA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2A5C9-3B4F-43D8-9647-0283CD11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49E95-F2C1-4850-A431-447B127D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A10EC-A638-42E2-87C9-43FE7FC7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6570E-B90C-433F-8A41-35175085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F6DFF-E24E-491C-BECD-06515908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95ACF-EA8F-4B77-A3C8-2B15E85F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2DB50-4806-4665-BA27-07056A73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A5C1F-92D5-49F3-9C5B-494A9A09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1879-A664-4EFF-9DD1-30AB446E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52FBC-0D60-478E-9F53-C0569A79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22C56-2593-454A-902D-D40A8593B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68A50-78D5-447C-BA6C-988B4E756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20980-F8CD-4BDD-86F1-2C4D4BD2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36722-7F4E-4BD4-9432-5182A281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EE823-86E5-453E-965F-BB7F6C0D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E9D61-FAA5-4A5D-BC99-2DA79215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A108D-21FC-4CC0-9F66-4FCAF93C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AAB95-5F7A-4FCA-8FE4-BAE63E56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F3220-B240-4B95-83F7-39030A1D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3A06-96A8-45BB-970A-0FD7D251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E6E7A-B987-495B-B7CD-79BCB555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BB1EB-83F5-4161-8EF2-CAA0BB27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3BB24-B42B-42B5-8CA9-D0BE3877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0AEF5-5C1B-4D2B-B9B2-687257B29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12167-A1DF-4C16-ADC8-DBC91CE8F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41310-5BBD-4D69-BE5C-135D33B32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B66AE-3CFB-4114-8731-1520EB04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13E32-03CE-4893-B9B2-764D7C77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664E7-2266-4446-B21D-2B263CF7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15CF0-677B-4975-8E6D-F1F5CCE2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E65E-BE63-44C2-8F05-2FF45112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D99F8-5494-4559-B57F-E4B579D9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828D7-20E7-4BF0-A1E1-30A71B0C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82F87-8860-43C0-A292-880404C6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D8253-892A-41D8-865D-C020F3E1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EF56B-8AE0-44EF-90C6-624D7071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B9598-EA95-4A34-9F52-7D5D2B31E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4FF16-DDA5-441C-99B2-EB7B4E38B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41F1-91D6-4E12-B3C7-93A8E6DAA06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295C-A208-4812-8FC5-38F7D182A05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82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84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80FE-79B7-4A58-91E7-F6B955C478F3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8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9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BBB4-1527-4ED2-8978-6CEF60F54D13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491B-E384-4F5D-AF7C-88686137163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94C5-C6E5-4539-B285-63B72022249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7FCC-C8C4-4BE9-962E-469C0842375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CA4F-C816-4F19-8F75-021EB41C1E3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0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76320" y="0"/>
            <a:ext cx="8991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صَوتُكَ العَذْبُ حَفَّ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في قَلْبهِ: ”كُنْ طاهِرْ‍“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طَيْفُكَ الحُلْوُ شَفَّ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في حُلْمِ الْمُضْنَى السَّاهِرْ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76320" y="44280"/>
            <a:ext cx="8991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ahoma"/>
                <a:cs typeface="Akhbar MT"/>
              </a:rPr>
              <a:t>يا طبيباً دَواهُ:</a:t>
            </a:r>
            <a:endParaRPr b="0" lang="en-US" sz="8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8200" spc="-1" strike="noStrike">
                <a:solidFill>
                  <a:srgbClr val="000000"/>
                </a:solidFill>
                <a:latin typeface="Tahoma"/>
                <a:ea typeface="Akhbar MT"/>
              </a:rPr>
              <a:t>”</a:t>
            </a:r>
            <a:r>
              <a:rPr b="1" lang="ar-SA" sz="8200" spc="-1" strike="noStrike">
                <a:solidFill>
                  <a:srgbClr val="000000"/>
                </a:solidFill>
                <a:latin typeface="Tahoma"/>
                <a:cs typeface="Akhbar MT"/>
              </a:rPr>
              <a:t>قد شئتُ، فكُنْ طاهِرْ!“</a:t>
            </a:r>
            <a:endParaRPr b="0" lang="en-US" sz="8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ahoma"/>
                <a:cs typeface="Akhbar MT"/>
              </a:rPr>
              <a:t>لا نُريدُ سِواهُ</a:t>
            </a:r>
            <a:endParaRPr b="0" lang="en-US" sz="8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ahoma"/>
                <a:cs typeface="Akhbar MT"/>
              </a:rPr>
              <a:t>في حُلْمِ الْمُضْنى السَّاهِر</a:t>
            </a:r>
            <a:endParaRPr b="0" lang="en-US" sz="8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76320" y="0"/>
            <a:ext cx="8991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رَبِّ يَا مَنْ تَقَبَّلْ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قِدْماً خِدْمَةَ  الأَبْرَارْ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يَا حَنُونُ تَقَبَّلْ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وَاسْتَجِبْنَا كَالأَبْرَارْ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-181080" y="907920"/>
            <a:ext cx="9361440" cy="506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هللويا وهللويا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       جئت إلى هذا العالم للدينونة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     ليبصر الذين لا يبصرون . هللويا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304920" y="179280"/>
            <a:ext cx="8610480" cy="60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04920" y="457200"/>
            <a:ext cx="838188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247680"/>
            <a:ext cx="9144000" cy="81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khbar MT"/>
                <a:cs typeface="Akhbar MT"/>
              </a:rPr>
              <a:t>هللويا وهللويا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khbar MT"/>
                <a:ea typeface="Akhbar MT"/>
              </a:rPr>
              <a:t> يَا رَبِّ إِنْ شِئتَ،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khbar MT"/>
                <a:cs typeface="Akhbar MT"/>
              </a:rPr>
              <a:t>فَأَنْتَ قَادِرٌ أَنْ تُطَهِّرَنِي.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khbar MT"/>
                <a:ea typeface="Akhbar MT"/>
              </a:rPr>
              <a:t> هللويا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5084640"/>
            <a:ext cx="9516960" cy="172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-1000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ِلْمَسِيحِ يَسُوع</a:t>
            </a:r>
            <a:r>
              <a:rPr b="1" lang="ar-SA" sz="8000" spc="-1" strike="noStrike">
                <a:solidFill>
                  <a:srgbClr val="ffffff"/>
                </a:solidFill>
                <a:latin typeface="Tahoma"/>
                <a:ea typeface="Akhbar MT"/>
              </a:rPr>
              <a:t>	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أَلتَّسْبيحُ وَالْبَرَكَات.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ِنْ أَجْلِ كَلامِهِ الْحَيِّ لَنَا.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442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900" spc="-1" strike="noStrike">
                <a:solidFill>
                  <a:srgbClr val="ffff00"/>
                </a:solidFill>
                <a:latin typeface="Tahoma"/>
                <a:cs typeface="Akhbar MT"/>
              </a:rPr>
              <a:t>خَاطَبَ الرَّبُ شَعْبَهُ</a:t>
            </a:r>
            <a:br>
              <a:rPr sz="9900"/>
            </a:br>
            <a:r>
              <a:rPr b="1" lang="ar-SA" sz="9900" spc="-1" strike="noStrike">
                <a:solidFill>
                  <a:srgbClr val="ffff00"/>
                </a:solidFill>
                <a:latin typeface="Tahoma"/>
                <a:cs typeface="Akhbar MT"/>
              </a:rPr>
              <a:t>هَلِّلُويا</a:t>
            </a:r>
            <a:br>
              <a:rPr sz="9900"/>
            </a:br>
            <a:r>
              <a:rPr b="1" lang="ar-SA" sz="9900" spc="-1" strike="noStrike">
                <a:solidFill>
                  <a:srgbClr val="ffff00"/>
                </a:solidFill>
                <a:latin typeface="Tahoma"/>
                <a:cs typeface="Akhbar MT"/>
              </a:rPr>
              <a:t>وَكَلامُ الرَّبِ حِكْمَةٌ</a:t>
            </a:r>
            <a:br>
              <a:rPr sz="9900"/>
            </a:br>
            <a:r>
              <a:rPr b="1" lang="ar-SA" sz="9900" spc="-1" strike="noStrike">
                <a:solidFill>
                  <a:srgbClr val="ffff00"/>
                </a:solidFill>
                <a:latin typeface="Tahoma"/>
                <a:cs typeface="Akhbar MT"/>
              </a:rPr>
              <a:t>هَلِّلُويا</a:t>
            </a: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ahoma"/>
                <a:cs typeface="Akhbar MT"/>
              </a:rPr>
              <a:t>هللويا، قال الربُّ إنّني الخبزُ المحيي، الآتي من حِضنِ الآبِ قوتاً للعالَم، قبلَني، حِضنُ العذراءِ الأمِّ النقيّ العذراءِ مري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380880" y="0"/>
            <a:ext cx="8763120" cy="51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لمجدُ للهِ فـي الأعالي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وعلى الأرضِ السلا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والرجاءُ الصالحُ لبني البشر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ahoma"/>
                <a:cs typeface="Akhbar MT"/>
              </a:rPr>
              <a:t>مثلَ حبّةِ القمحِ في الأرضِ الخَصبة، صِرتُ فوقَ الـمذبحِ قوتاً للبيعة، هللويا</a:t>
            </a:r>
            <a:br>
              <a:rPr sz="7200"/>
            </a:br>
            <a:r>
              <a:rPr b="1" lang="ar-SA" sz="7200" spc="-1" strike="noStrike">
                <a:solidFill>
                  <a:srgbClr val="ffff00"/>
                </a:solidFill>
                <a:latin typeface="Tahoma"/>
                <a:cs typeface="Akhbar MT"/>
              </a:rPr>
              <a:t>وَخُبزَ حياة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76320" y="-27000"/>
            <a:ext cx="8991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للويا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ِوالدةِ اللهِ الأمِّ العذراء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أنبياءِ والرُّسْلِ والشُّهداء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خُدّام الكَهَنة جَوْقِ الأَبرار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ُـلِّ أولادِ البيعَة نُحيـي التَّذكار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0" y="115920"/>
            <a:ext cx="8964720" cy="1054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khbar MT"/>
                <a:cs typeface="Akhbar MT"/>
              </a:rPr>
              <a:t>ك: إِيتِ لْوُتْ مَدْبحِهْ دَلُهُ وَلْوُتْ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khbar MT"/>
                <a:ea typeface="Akhbar MT"/>
              </a:rPr>
              <a:t>     ألُهُ دَمْحَدِ طَلْيُوتْ وِانُ بْسُوغُ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khbar MT"/>
                <a:ea typeface="Akhbar MT"/>
              </a:rPr>
              <a:t>     دْطيْبُوتُخْ إِعُولْ لْبَيْتُخْ وِسْغُودْ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khbar MT"/>
                <a:ea typeface="Akhbar MT"/>
              </a:rPr>
              <a:t>     بْهَيْكْلُ دْقُودْشُخ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0" y="41400"/>
            <a:ext cx="8964720" cy="135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khbar MT"/>
                <a:cs typeface="Akhbar MT"/>
              </a:rPr>
              <a:t>ش: بْدِحِلْتُخْ مُرْيُ دَبَرَيْنْ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khbar MT"/>
                <a:ea typeface="Akhbar MT"/>
              </a:rPr>
              <a:t>      وَبْزَدِيقُوتُخْ أَلِفَيْنْ 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khbar MT"/>
                <a:cs typeface="Akhbar MT"/>
              </a:rPr>
              <a:t>ك: صَلَوْ عْلَيْ مِطُولْ مُرَنْ 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khbar MT"/>
                <a:cs typeface="Akhbar MT"/>
              </a:rPr>
              <a:t>ش: أَلُـهُ نْقَبلْ قُورْبُنُخْ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khbar MT"/>
                <a:ea typeface="Akhbar MT"/>
              </a:rPr>
              <a:t>      ونِتْرَحَامْ عْلَيْن بَصْلُوتُخ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ahoma"/>
                <a:cs typeface="Akhbar MT"/>
              </a:rPr>
              <a:t>هللويا، قال الربُّ إنّني الخبزُ المحيي، الآتي من حِضنِ الآبِ قوتاً للعالَم، قبلَني، حِضنُ العذراءِ الأمِّ النقيّ العذراءِ مري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ahoma"/>
                <a:cs typeface="Akhbar MT"/>
              </a:rPr>
              <a:t>مثلَ حبّةِ القمحِ في الأرضِ الخَصبة، صِرتُ فوقَ الـمذبحِ قوتاً للبيعة، هللويا</a:t>
            </a:r>
            <a:br>
              <a:rPr sz="7200"/>
            </a:br>
            <a:r>
              <a:rPr b="1" lang="ar-SA" sz="7200" spc="-1" strike="noStrike">
                <a:solidFill>
                  <a:srgbClr val="ffff00"/>
                </a:solidFill>
                <a:latin typeface="Tahoma"/>
                <a:cs typeface="Akhbar MT"/>
              </a:rPr>
              <a:t>وَخُبزَ حياة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76320" y="-27000"/>
            <a:ext cx="8991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للويا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ِوالدةِ اللهِ الأمِّ العذراء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أنبياءِ والرُّسْلِ والشُّهداء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خُدّام الكَهَنة جَوْقِ الأَبرار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ُـلِّ أولادِ البيعَة نُحيـي التَّذكار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ألمجد للآب والابن</a:t>
            </a:r>
            <a:endParaRPr b="0" lang="en-US" sz="9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والرّوح القدس</a:t>
            </a:r>
            <a:endParaRPr b="0" lang="en-US" sz="9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من الآن وإلـى الأبد.</a:t>
            </a:r>
            <a:endParaRPr b="0" lang="en-US" sz="9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500" spc="-1" strike="noStrike">
                <a:solidFill>
                  <a:srgbClr val="ffffff"/>
                </a:solidFill>
                <a:latin typeface="Tahoma"/>
                <a:cs typeface="Akhbar MT"/>
              </a:rPr>
              <a:t>آمين.</a:t>
            </a:r>
            <a:endParaRPr b="0" lang="en-US" sz="9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-209880" y="5315040"/>
            <a:ext cx="2637360" cy="135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72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جلوس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539640" y="0"/>
            <a:ext cx="82821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لمجدُ للآب والابنِ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لروحِ القدس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نذ الأزَلِ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إلى أبد الآبدين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أيها الآب إل‍هُ السّلام وسيّدُ الآمان هَبْ لنا جميعاً وأهّلنا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 نعانقَ بعضُنا بعضاً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‍ي نسمةٍ من مَحبّتِكَ لا تنقطِعْ بقُبْلَةٍ لا غِشَّ ف‍يها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نرفعَ ال‍مجدَ والشّكرَ إل‍يك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إل‍ى إبنِكَ الوحيد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روحِكَ القدّوس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آن وإل‍ى الأبد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آميــن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ألسّلامُ لك يا مذب‍حَ الله؛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لسّلامُ للأسرارِ ال‍مقدّسة ال‍موضوعةِ عل‍يك؛ ألسّلامُ لكَ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خادمَ الرّوح القدس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أمامَكَ يا ربُّ نن‍حن‍ي لنقبلَ مِنكَ الب‍ركةَ وال‍معونةَ لِضعفِنا لأنكَ للجميع ال‍ملجأ وال‍معين وإل‍يكَ نرفعُ ال‍مجدَ وإل‍ى ابنِكَ الوحيد وروحِكَ القدوس الآن وإل‍ى الأبد.  + آميـن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يا ربُّ أضِئ بوجهِكَ عل‍ينا الآنَ وخلِّصنا من كلّ شرّ وامْحُ جميعَ مخالفاتِنا فنرفعَ ال‍مجدَ والشّكرَ إل‍يك وإل‍ى إبنِك الوحيد، وروحِك القدّوس الآن وإل‍ى الأبد. + آميــن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مَحبةُ اللهِ الآب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نعمةُ الابن الوحيد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 وَشركة وحلولُ الروحِ القدس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ع جميعِكُم يا إخوت‍ي إل‍ى الأبد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ومع روحك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351200" y="0"/>
            <a:ext cx="2094840" cy="114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60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وقو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لتكنْ أفكارُنا وعقولُنا وقلوبُنا مرتفعةً إل‍ى العل‍ى.</a:t>
            </a:r>
            <a:endParaRPr b="0" lang="en-US" sz="8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6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إن‍ها لديك يا الله.</a:t>
            </a:r>
            <a:endParaRPr b="0" lang="en-US" sz="8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لنشكرِ الربَّ مت‍هيّب‍ين ونسجُدْ ل‍هُ خاشعين.</a:t>
            </a:r>
            <a:endParaRPr b="0" lang="en-US" sz="8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6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إن‍ه لحقٌ وواجب.</a:t>
            </a:r>
            <a:endParaRPr b="0" lang="en-US" sz="8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حقاً إن‍هُ لواجبٌ ولائقٌ أنْ نُ‍مجِّدَكَ ونعظِّمَكَ، يَا خالقَ جَميعِ الب‍رايَا. إنّا ن‍ُمَجِّدُكَ مَعَ ال‍ملائِكَة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أَصواتِ التّسب‍يحِ هاتفين وقائل‍ين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نذكرُ موتَك، يا ربّ،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نعترفُ بقيامتِك، وننتظرُ مجيئـَك الثان‍ي، ونطلبُ مِنكَ الرّحمةَ والحنان، ونسألُكَ مغفرةَ الخطايا. فَلْتَشمَل مراحمُك كُلّنا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1000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ف‍يما ن‍حنُ نذكرُ يا ربُّ مجيئـَكَ الخلاصيّ ومجيئـَك الثـّان‍ي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قدِّمُ لكَ التّسب‍يح، مُبت‍هل‍ينَ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لاّ تُسَلِّمَنا بسبب خطايانا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وم تدينُ الأب‍رارَ والخطأة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وب‍هذا أوصاهم وحضّهم قائلاً: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لّ مرّةٍ تكمّلون هذه الأسرار، تذكرون موت‍ي وقيامت‍ي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تّى مجيئي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1000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َل ترأّف بـِنا وارحَمْنا وأشِحْ بوجهِكَ عَن خطايانا واعضُدْنا. لِ‍هذا، تَضرَعُ إل‍يكَ ب‍يعتُك ورعيّتُكَ وَبكَ وَمَعكَ إل‍ى أب‍يكَ وهي تقول: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1000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إرحمنا، أيّها الآب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ضّابط الكلّ،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رحمنـا.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84360" y="2276640"/>
            <a:ext cx="36716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1000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ن‍حنُ أيضاً، يا ربُّ، أبناءَك الخطأة، ف‍ِيما نقبلُ نِعَمكَ، نشكرُكَ عَن‍ها ومن أجل‍ِها كلِّ‍ها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0" y="1000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إيّاك نسب‍ح. إيّاك ن‍مجّد.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يّاك نبارك. لك نسجد.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ك نعترف ومنك نطلب: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اشفق أللّهمّ عل‍ينا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رحمنا واستجب لنا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ا أرهب‍ها ساعةً أحبّائي ين‍حدر ف‍يها الرّوح الحيّ القدّوس ويحلّ عل‍ى هذا القربان ال‍موضوعِ لتقديسنا فلنقف مصل‍ّين خاشعين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إرحَمنا اللهمَّ إرحَمنا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أَرسِلْ عل‍ينا وعل‍ى هذه القراب‍ين روحَك القدّوس فَ‍يعْضُدَنا وَيُسامِحَنا.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76320" y="0"/>
            <a:ext cx="8991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اديشات ألوهـو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اديشات حايلتونـو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اديشات لومويوتـو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تراحـام علين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إستجبنا يا ربّ. (</a:t>
            </a: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3</a:t>
            </a: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)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ل‍يأتِ روحُكَ الحيُّ القدُّوس ويَحلَّ عَل‍ينا وعل‍ى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ذا القربان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8532720" cy="5877000"/>
          </a:xfrm>
          <a:prstGeom prst="rect">
            <a:avLst/>
          </a:prstGeom>
          <a:noFill/>
          <a:ln w="0">
            <a:noFill/>
          </a:ln>
          <a:effectLst>
            <a:outerShdw dist="76320" dir="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Arial"/>
                <a:cs typeface="AL-Mohanad Bold"/>
              </a:rPr>
              <a:t>كيرياليسون</a:t>
            </a:r>
            <a:br>
              <a:rPr sz="8000"/>
            </a:br>
            <a:r>
              <a:rPr b="0" lang="ar-SA" sz="8000" spc="-1" strike="noStrike">
                <a:solidFill>
                  <a:srgbClr val="ffffff"/>
                </a:solidFill>
                <a:latin typeface="Arial"/>
                <a:cs typeface="AL-Mohanad Bold"/>
              </a:rPr>
              <a:t>كــيـريــالــيـسـون</a:t>
            </a:r>
            <a:br>
              <a:rPr sz="8000"/>
            </a:br>
            <a:r>
              <a:rPr b="0" lang="ar-SA" sz="8000" spc="-1" strike="noStrike">
                <a:solidFill>
                  <a:srgbClr val="ffffff"/>
                </a:solidFill>
                <a:latin typeface="Arial"/>
                <a:cs typeface="AL-Mohanad Bold"/>
              </a:rPr>
              <a:t>كــيــريــــالــــيــــســــو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ف‍يجعلَ ب‍حلولِ‍ه هذا الخبزَ جَسدَ ال‍مسيحِ إل‍هِنا.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آمين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ويَجعلَ مَزيجَ هَذهِ الكأسِ دَمَ ال‍مسيح إل‍هِنا. 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آمين.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فتكونَ هذه الأسرار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تنقيةِ نُفوسِ ال‍مشتركينَ ف‍يها وأجسادهم من كلِّ خطيئة، وللحياة الأبدية.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آمين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-242640" y="5564160"/>
            <a:ext cx="2431800" cy="124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66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جلوس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إجعل يا ربّ ذكراً صالحاً لآبائنا وإخوتِنا ومعلّ‍مينا وجميعِ ال‍موتى ال‍مؤمن‍ين الراقدين هُنا وف‍ي كل مكان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غفِرْ لنا ول‍هم الخطايا والزَّلات لأنّ‍ه ما من أحد من دون خطيئة إلاّ ربُّنا وإل‍هنا ومخلّصنا يسوع ال‍مسيح الذي بواسطتِ‍ه نرجو أن ننالَ ال‍مراحمَ وغفرانَ الخطايا لنا ول‍هم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أَرِحْ أللّهمَّ الـموتى واغفِرْ خطايانا الّتي اقترفناها بمعرفة وبغير معرفة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442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سامِحْنا أللهمَّ واغفِرْ لَنا ول‍هم ف‍يتمجَّدَ بنا وبكلّ شيء إسْمُك ال‍مبارك، مع اسمِ ربِّنا يسوعَ ال‍مسيح وروحِك الحيِّ القدّوس الآن وإل‍ى الأبد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0" y="0"/>
            <a:ext cx="9144000" cy="623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كما كان وهو الآن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كذا يكون إل‍ى الأبد.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آمين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-303480" y="5394240"/>
            <a:ext cx="2637360" cy="146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72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جلوس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يا قرباناً شهيّاً قُرِّبَ عنّا؛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ذبيحاً غافراً قَرَّب ذاته لأبيه؛ يا حملاً صار لنفسه حَبراً مقرِّباً؛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047360" y="-243000"/>
            <a:ext cx="2288520" cy="124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66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وقوف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ِتكُنْ يا ربّ طِلْبتُنا بمراحمِكَ بَخُوراً فَنُقرِّبَها بكَ لأبيك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كَ المجدُ إلَى الأبد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0" y="1000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نضرعُ إل‍يكَ أللّهمَّ الآب معزِّيَنا ف‍ي ضعفِنا ومشجِّعَنا: نقِّنا مِن كُلِّ خَطيئة واقبلْ مِنّا هذا القربان فن‍هتفَ إل‍يكَ بنسمَةٍ وَاحدة وَنُصلِّي قائل‍ين: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َبانا الذي في السَّماوات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يَتَقَدَّس اسمُكَ، لِيَأتِ ملكوتُكَ لِتَكُن مشيئَتُكَ، كما في السَّماء كذلك على الأرض. أَعطِنا خبزنا كفافَ يومِنا واغفِرْ لنا ذنوبَنا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خطايانا كما نحنُ نغفِر لِمَنْ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	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	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 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	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لا تُدخِلنا في التجارب لكن نَجِّنا من الشرِّير لأنَّ لَكَ الـمُلكَ والقوَّةَ والمجد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لى أبد الآبدين. آمين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76720" y="1628640"/>
            <a:ext cx="32418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خطِئَ إلينا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5363640" y="2708280"/>
            <a:ext cx="2737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5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250" autoRev="1" fill="hold"/>
                                        <p:tgtEl>
                                          <p:spTgt spid="5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1000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لا تُدْخِلْنَا يا ربّ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‍ي امت‍حانِ التجارب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أننا لا قوةَ لنا عل‍يها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ل نَجِّنا من كلِّ شرّ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0" y="1000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أنّ لكَ ال‍ملكوتَ والقدرةَ وال‍مجد ولابنِك الوحيد ولروحِك الحيّ القدوس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آن وإل‍ى الأبد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آمين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0" y="1000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ألسّلامُ لجميعكم. 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ومع روحك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1403280" y="-168120"/>
            <a:ext cx="5940360" cy="1225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رجع صوت بعيد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يا ابن داود ارحمني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لحظ طرف سعيد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ابصر نعمة الابن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حنوا رؤوسكم أمام الله الرّؤوف وأمام مذب‍حه الغافر وأمام جسد مخلّصنا ودمه ال‍محيي ل‍من يتناولُ‍ه واقبلوا الب‍ركةَ من الرّبّ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بارِكْ يا ربُّ السّاجدينَ لك ال‍من‍حن‍ينَ أمامك الضّارعينَ إل‍يك وأهّل‍هُم ل‍مراحِمِك وغفرانِ خطاياهُم لأنّك كثيرُ ال‍مراحم وعل‍ى كلِّ شيءٍ قدير.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نرفع ال‍مجدَ والشّكر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ل‍يكَ وإل‍ى ابنِكَ الوحيد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روحِكَ القدّوس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آن وإل‍ى الأبد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آمين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نعمةُ الثالوثِ الأقدسِ الأزل‍يّ ال‍متساوي ف‍ي الجوهر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عكم يا إخوت‍ي إل‍ى الأبد.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ومع روحك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‍ينظُرْ كلُّ واحد مِنّا إل‍ى الله بت‍هيّبٍ وخشوع ول‍يسألـ‍ْهُ الرّحمةَ والحنان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الأقداس للقدّيسين</a:t>
            </a:r>
            <a:br>
              <a:rPr sz="9800"/>
            </a:br>
            <a:r>
              <a:rPr b="1" lang="ar-SA" sz="9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الكمال والنّقاوة</a:t>
            </a:r>
            <a:br>
              <a:rPr sz="9800"/>
            </a:br>
            <a:r>
              <a:rPr b="1" lang="ar-SA" sz="9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قداسة.</a:t>
            </a:r>
            <a:endParaRPr b="0" lang="en-US" sz="9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آبٌ واحدٌ قدّوس إبنٌ واحدٌ قدّوس روحٌ واحدٌ قدّوس. تبارك اسم الربّ لأن‍ه واحدٌ ف‍ي السّماء وعل‍ى الأرض ل‍ه ال‍مجد إل‍ى الأبد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هّلنا، أيّها الربّ الإله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 تتقدَّسَ أجسادُنا بجسدِكَ القدّوس وتتنقّى نفوسُنا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دمِكَ الغفور،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187280" y="5013360"/>
            <a:ext cx="4248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059280" y="3141720"/>
            <a:ext cx="54734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ليكُن تناولُنا لِمغفرةِ خطايانا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للحياة الجديدة. يا ربّنا وإلهنا لك المجد إلى الأبد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900000" y="38160"/>
            <a:ext cx="6588360" cy="1058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شعبك الراجي يضرع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يا ابن داود ارحمني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صوتك العذب يسمع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ابصر نعمة الابن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320" y="0"/>
            <a:ext cx="8991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رَبِّ يَا مَنْ تَقَبَّلْ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قِدْماً خِدْمَةَ  الأَبْرَارْ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يَا حَنُونُ تَقَبَّلْ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وَاسْتَجِبْنَا كَالأَبْرَارْ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09:20:04Z</dcterms:created>
  <dc:creator>-</dc:creator>
  <dc:description/>
  <dc:language>en-US</dc:language>
  <cp:lastModifiedBy>ف</cp:lastModifiedBy>
  <dcterms:modified xsi:type="dcterms:W3CDTF">2006-09-15T19:53:37Z</dcterms:modified>
  <cp:revision>804</cp:revision>
  <dc:subject/>
  <dc:title>Slide 1</dc:title>
</cp:coreProperties>
</file>