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D6C-E15D-493E-8D0B-FBC109C5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57B-1EC5-48A9-BE7F-3E0AE42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6C8-3F67-486C-9114-7770B12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C85-CAF2-431C-A8D5-090C3A8A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0A3D-3156-4BDF-AFE4-BFECF5AE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D227-903F-485A-B8C0-66EB504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CF7F-03E2-40B3-BACF-D7FC799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F877-1946-475A-B718-F81644D8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219-542E-42E2-BF18-4F31838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9E62-CA2A-4FA8-8C8F-5900A34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BF2F-F912-47D4-B6EC-74AAC10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F4B-C4AF-4824-BAA1-8C2C3D68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F62-E6A1-4D55-90BF-4077C2F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948F-7C18-4E4D-94AE-6FDC7F19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7CC-1985-4389-BC0E-27182074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E7E-513A-4D89-A85C-948461DA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F597-3B3B-4983-AE3D-CDE8EA1F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5041-627F-4EBD-A61D-3886C007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827D-0323-47AA-81D6-BDCFC38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207E-07B4-4A7E-A04A-0078C75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D8BC-408E-4BCE-A748-C42AD4DE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17EC-0635-491D-B2D3-45230D0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812-A0B0-495E-ADFA-70A29958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A86D5-DE1F-4B4B-BF1E-57F6CDD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9AC9-F37B-4233-832B-9F0D8B6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34C7-1620-49A7-AFEA-CD3D480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8718-9CB4-4C5C-BB93-27A9827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88945-DED7-4CA3-83F6-5CEF64F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9BB6-E986-444A-9A7D-D7E17B6F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5895-BE67-4CA4-8D13-D74EB4E9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AA65-E923-4764-A181-55EF5CAD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2868-DF42-4B08-B0F4-74A9804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5E90-A0E1-42F5-8A10-7D1DA9E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E2C-F32D-472F-B57C-7970BB71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6AE0-9CF5-49B6-B3DA-5BC1249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97D4-FD46-435C-9F9C-A75BB23D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5FBE-D8D7-4221-9613-AF538D2F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BE66-65B4-43B3-A105-53C2D4E8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7F2E-5C07-4E16-B49B-1BB8DDF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4414-E4EA-42CF-81B1-97197B8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0503-AF5F-4449-B795-51FDC84E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ED37-7264-47EC-871D-0BFC9939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701A-76F4-49CF-988E-34151A40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1062-0C75-4D73-B601-9EA69755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30C-7B5F-4627-A14A-FEE149A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47DE-A958-43C8-BF48-C5B50BA5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C607-E3FE-4EEF-9E6C-106F66D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5976-A8EB-425E-B202-393F8ED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03C3-D13F-4AB2-92B4-96584CF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C8DC6-5562-4251-9566-14B6D6F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4D38-1AAF-4848-BF43-E3270FF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3AC3-E88F-47E1-8C2E-AF8FB98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0BCC-409D-432B-BBFA-73D1C32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B369-5A0D-4853-9D4D-52B21B2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BE39-D0B9-4034-992B-848BFD46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08E-A32C-43B3-8F0B-7C4432FD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5FFE-4ED0-42E4-A54D-DD68A852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24F5B-3313-400E-826A-A498BD58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3E2B-60E4-440F-8B73-6C5E979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8689-244B-43CD-A502-697C29E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7F57-4828-4A91-8D35-4F3D117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9067-E251-4042-ABD4-2BE59E9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050E-71F7-4B7E-A9DF-2C48A1F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CB2D-CF74-45EB-A504-C6BC2456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A0B60-BF1D-485B-9B4B-DED94009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9FBE-CFF5-4308-9235-93C82CC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7B6-789A-4DBC-BF48-A72ED43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88D27-ABCA-48A1-ACE7-007C2EA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A1B8-31B4-4E55-B0AD-40C6D5DA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48B8E-158A-4359-B5BF-BF2757E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FCCA-E81D-46A2-A1E3-238B082D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7577-766B-41D6-9D0F-E5906E7E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72BE-1907-4481-98CA-D78F116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F63D-FC5C-4C78-9D29-F567A20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8EAA3-551E-41F4-91BC-C8358FA8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8090-5C7C-4FFE-A45F-EF7D83F9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C3B6-CAB7-4A75-80FB-DE88663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17B-CF27-4297-924F-75CA5FB8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57CD-B2C7-49CF-BC3A-6858901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44CB4-9A64-48AB-AE0D-957E183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EB5C-0DC3-4349-8FA3-22D7451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924F-4E39-4ABE-B788-54016DF4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30974-F012-4882-A4F9-100DE21A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D5B8-BEB5-4B9A-B5B5-B37DE940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5F43A-D8E9-4432-834B-CC742E0F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0DB5-65B7-4997-9252-24572E55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767D-DD99-4109-AB9F-F18F419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5DF1-75F6-4B1A-A8A4-D0963B4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016-576C-4863-91FB-BF309DE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D5E8-A560-4390-A716-C73F1F1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9A777-F745-456D-B143-4908510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EA6D-A61A-4781-9EAD-61F1E47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ECAA8-CF9B-44BF-8722-98254E8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4BA5-2BF9-4FAF-8D3F-294E80F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E7F0-4267-4BB0-A5BE-DBFA7AF4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72E8-9FA9-481D-ACC2-015A0198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3A46-40F8-46CC-905E-E6734BEDA8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075-7D19-4055-BFAA-3ED9BEAF6B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10F-0A53-4307-9BA5-003DBA15D53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DDC6-769D-46A3-8637-07A63C706D4F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F32-72A3-411C-98FF-61ADEEB0AC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1BE-8ED9-4177-AFAE-F9B61EE485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8D81-D790-473B-AE65-7F671A8659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A3E-5EDE-45E7-B1D8-C8CB815EA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صَوتُكَ العَذْبُ ح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قَلْبهِ: ”كُنْ طاهِرْ‍“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طَيْفُكَ الحُلْوُ ش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َى السَّاهِ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4428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يا طبيباً دَواهُ: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8200" spc="-1" strike="noStrike">
                <a:solidFill>
                  <a:srgbClr val="000000"/>
                </a:solidFill>
                <a:latin typeface="Tahoma"/>
                <a:ea typeface="Akhbar MT"/>
              </a:rPr>
              <a:t>”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قد شئتُ، فكُنْ طاهِرْ!“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لا نُريدُ سِواهُ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ى السَّاهِر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1080" y="907920"/>
            <a:ext cx="936144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لويا وهللويا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  جئت إلى هذا العالم للدينون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ليبصر الذين لا يبصرون . هللوي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79280"/>
            <a:ext cx="86104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457200"/>
            <a:ext cx="8381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47680"/>
            <a:ext cx="9144000" cy="81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هللويا و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يَا رَبِّ إِنْ شِئتَ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فَأَنْتَ قَادِرٌ أَنْ تُطَهِّرَنِي.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084640"/>
            <a:ext cx="9516960" cy="17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لْمَسِيحِ يَسُوع</a:t>
            </a:r>
            <a:r>
              <a:rPr b="1" lang="ar-SA" sz="80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تَّسْبيحُ وَالْبَرَكَات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أَجْلِ كَلامِهِ الْحَيِّ لَنَ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خَاطَبَ الرَّبُ شَعْبَهُ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وَكَلامُ الرَّبِ حِكْمَةٌ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0"/>
            <a:ext cx="87631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أعال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ِ السلا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115920"/>
            <a:ext cx="8964720" cy="105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khbar MT"/>
                <a:cs typeface="Akhbar MT"/>
              </a:rPr>
              <a:t>ك: إِيتِ لْوُتْ مَدْبحِهْ دَلُهُ وَلْوُت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ألُهُ دَمْحَدِ طَلْيُوتْ وِانُ بْسُوغُ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دْطيْبُوتُخْ إِعُولْ لْبَيْتُخْ وِسْغُود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بْهَيْكْلُ دْقُودْشُخ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1400"/>
            <a:ext cx="896472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بْدِحِلْتُخْ مُرْيُ دَبَرَيْن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َبْزَدِيقُوتُخْ أَلِفَيْ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ك: صَلَوْ عْلَيْ مِطُولْ مُرَ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أَلُـهُ نْقَبلْ قُورْبُنُخ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نِتْرَحَامْ عْلَيْن بَصْلُوتُخ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لمجد للآب والابن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الرّوح القدس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ن الآن وإلـى الأبد.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آمين.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209880" y="5315040"/>
            <a:ext cx="26373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9640" y="0"/>
            <a:ext cx="82821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 والابنِ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أزَلِ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لى أبد الآبد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يها الآب إل‍هُ السّلام وسيّدُ الآمان هَبْ لنا جميعاً وأهّل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نعانقَ بعضُنا بعض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نسمةٍ من مَحبّتِكَ لا تنقطِعْ بقُبْلَةٍ لا غِشَّ ف‍يه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نرفعَ ال‍مجدَ والشّكرَ إل‍ي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ل‍ى إبنِكَ الوحيد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ــ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ك يا مذب‍حَ الله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سّلامُ للأسرارِ ال‍مقدّسة ال‍موضوعةِ عل‍يك؛ ألسّلامُ ل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دمَ الرّوح القدس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مامَكَ يا ربُّ نن‍حن‍ي لنقبلَ مِنكَ الب‍ركةَ وال‍معونةَ لِضعفِنا لأنكَ للجميع ال‍ملجأ وال‍معين وإل‍يكَ نرفعُ ال‍مجدَ وإل‍ى ابنِكَ الوحيد وروحِكَ القدوس الآن وإل‍ى الأبد.  + آمي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يا ربُّ أضِئ بوجهِكَ عل‍ينا الآنَ وخلِّصنا من كلّ شرّ وامْحُ جميعَ مخالفاتِنا فنرفعَ ال‍مجدَ والشّكرَ إل‍يك وإل‍ى إبنِك الوحيد، وروحِك القدّوس الآن وإل‍ى الأبد. + آميـ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مَحبةُ اللهِ الآ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مةُ الابن الوحيد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 وَشركة وحلولُ الروحِ القدس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جميعِكُم يا إخوت‍ي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0" y="0"/>
            <a:ext cx="2094840" cy="11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تكنْ أفكارُنا وعقولُنا وقلوبُنا مرتفعةً إل‍ى العل‍ى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ا لديك يا الله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نشكرِ الربَّ مت‍هيّب‍ين ونسجُدْ ل‍هُ خاشعين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 لحقٌ وواجب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حقاً إن‍هُ لواجبٌ ولائقٌ أنْ نُ‍مجِّدَكَ ونعظِّمَكَ، يَا خالقَ جَميعِ الب‍رايَا. إنّا ن‍ُمَجِّدُكَ مَعَ ال‍ملائِكَ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أَصواتِ التّسب‍يحِ هاتفين وقائل‍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نذكرُ موتَك، يا ربّ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ترفُ بقيامتِك، وننتظرُ مجيئـَك الثان‍ي، ونطلبُ مِنكَ الرّحمةَ والحنان، ونسألُكَ مغفرةَ الخطايا. فَلْتَشمَل مراحمُك كُلّنا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ما ن‍حنُ نذكرُ يا ربُّ مجيئـَكَ الخلاصيّ ومجيئـَك الثـّان‍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قدِّمُ لكَ التّسب‍يح، مُبت‍هل‍ين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اّ تُسَلِّمَنا بسبب خطايا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وم تدينُ الأب‍رارَ والخطأة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ب‍هذا أوصاهم وحضّهم قائلاً: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 مرّةٍ تكمّلون هذه الأسرار، تذكرون موت‍ي وقيامت‍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جيئي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ل ترأّف بـِنا وارحَمْنا وأشِحْ بوجهِكَ عَن خطايانا واعضُدْنا. لِ‍هذا، تَضرَعُ إل‍يكَ ب‍يعتُك ورعيّتُكَ وَبكَ وَمَعكَ إل‍ى أب‍يكَ وهي تقول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رحمنا، أيّها الآ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ّابط الكلّ،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حمنـا.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2276640"/>
            <a:ext cx="3671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‍حنُ أيضاً، يا ربُّ، أبناءَك الخطأة، ف‍ِيما نقبلُ نِعَمكَ، نشكرُكَ عَن‍ها ومن أجل‍ِها كلِّ‍ها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يّاك نسب‍ح. إيّاك ن‍مجّ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 نبارك. لك نسج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 نعترف ومنك نطلب: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شفق أللّهمّ عل‍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رحمنا واستجب لنا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رهب‍ها ساعةً أحبّائي ين‍حدر ف‍يها الرّوح الحيّ القدّوس ويحلّ عل‍ى هذا القربان ال‍موضوعِ لتقديسنا فلنقف مصل‍ّين خاشع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رحَمنا اللهمَّ إرحَمنا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َرسِلْ عل‍ينا وعل‍ى هذه القراب‍ين روحَك القدّوس فَ‍يعْضُدَنا وَيُسامِحَنا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ألوه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حايلتون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لومويوت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تراحـام عل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ستجبنا يا ربّ. (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)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‍يأتِ روحُكَ الحيُّ القدُّوس ويَحلَّ عَل‍ينا وعل‍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ذا القرب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587700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يرياليس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ريــالــيـسـ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ـريــــالــــيــــســ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جعلَ ب‍حلولِ‍ه هذا الخبزَ جَسدَ ال‍مسيحِ إل‍هِن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يَجعلَ مَزيجَ هَذهِ الكأسِ دَمَ ال‍مسيح إل‍هِنا.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تكونَ هذه الأسرار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تنقيةِ نُفوسِ ال‍مشتركينَ ف‍يها وأجسادهم من كلِّ خطيئة، وللحياة الأبدية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42640" y="5564160"/>
            <a:ext cx="243180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جعل يا ربّ ذكراً صالحاً لآبائنا وإخوتِنا ومعلّ‍مينا وجميعِ ال‍موتى ال‍مؤمن‍ين الراقدين هُنا وف‍ي كل مكا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غفِرْ لنا ول‍هم الخطايا والزَّلات لأنّ‍ه ما من أحد من دون خطيئة إلاّ ربُّنا وإل‍هنا ومخلّصنا يسوع ال‍مسيح الذي بواسطتِ‍ه نرجو أن ننالَ ال‍مراحمَ وغفرانَ الخطايا لنا ول‍ه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أَرِحْ أللّهمَّ الـموتى واغفِرْ خطايانا الّتي اقترفناها بمعرفة وبغير معرف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سامِحْنا أللهمَّ واغفِرْ لَنا ول‍هم ف‍يتمجَّدَ بنا وبكلّ شيء إسْمُك ال‍مبارك، مع اسمِ ربِّنا يسوعَ ال‍مسيح وروحِك الحيِّ القدّوس الآن و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كما كان وهو الآ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كون إل‍ى الأبد.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آمين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03480" y="5394240"/>
            <a:ext cx="26373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يا قرباناً شهيّاً قُرِّبَ عنّا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ذبيحاً غافراً قَرَّب ذاته لأبيه؛ يا حملاً صار لنفسه حَبراً مقرِّباً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47360" y="-243000"/>
            <a:ext cx="228852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كُنْ يا ربّ طِلْبتُنا بمراحمِكَ بَخُوراً فَنُقرِّبَها بكَ لأبي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 إلَى الأبد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ضرعُ إل‍يكَ أللّهمَّ الآب معزِّيَنا ف‍ي ضعفِنا ومشجِّعَنا: نقِّنا مِن كُلِّ خَطيئة واقبلْ مِنّا هذا القربان فن‍هتفَ إل‍يكَ بنسمَةٍ وَاحدة وَنُصلِّي قائل‍ين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بانا الذي في السَّماوا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َتَقَدَّس اسمُكَ، لِيَأتِ ملكوتُكَ لِتَكُن مشيئَتُكَ، كما في السَّماء كذلك على الأرض. أَعطِنا خبزنا كفافَ يومِنا واغفِرْ لنا ذنوبَن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طايانا كما نحنُ نغفِر لِمَنْ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 تُدخِلنا في التجارب لكن نَجِّنا من الشرِّير لأنَّ لَكَ الـمُلكَ والقوَّةَ والمجد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أبد الآبدين. آمي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628640"/>
            <a:ext cx="32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طِئَ إلين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363640" y="2708280"/>
            <a:ext cx="27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ا تُدْخِلْنَا يا رب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امت‍حانِ التجارب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نا لا قوةَ لنا عل‍يه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ل نَجِّنا من كلِّ شرّ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 لكَ ال‍ملكوتَ والقدرةَ وال‍مجد ولابنِك الوحيد ولروحِك الحيّ القدوس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جميعكم. 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03280" y="-168120"/>
            <a:ext cx="5940360" cy="12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رجع صوت ب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لحظ طرف س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حنوا رؤوسكم أمام الله الرّؤوف وأمام مذب‍حه الغافر وأمام جسد مخلّصنا ودمه ال‍محيي ل‍من يتناولُ‍ه واقبلوا الب‍ركةَ من الرّبّ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بارِكْ يا ربُّ السّاجدينَ لك ال‍من‍حن‍ينَ أمامك الضّارعينَ إل‍يك وأهّل‍هُم ل‍مراحِمِك وغفرانِ خطاياهُم لأنّك كثيرُ ال‍مراحم وعل‍ى كلِّ شيءٍ قدير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رفع ال‍مجدَ والشّكر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‍يكَ وإل‍ى ابنِكَ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عمةُ الثالوثِ الأقدسِ الأزل‍يّ ال‍متساوي ف‍ي الجوهر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كم يا إخوت‍ي إل‍ى الأبد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‍ينظُرْ كلُّ واحد مِنّا إل‍ى الله بت‍هيّبٍ وخشوع ول‍يسألـ‍ْهُ الرّحمةَ والحن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الأقداس للقدّيسين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كمال والنّقاوة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قداسة.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بٌ واحدٌ قدّوس إبنٌ واحدٌ قدّوس روحٌ واحدٌ قدّوس. تبارك اسم الربّ لأن‍ه واحدٌ ف‍ي السّماء وعل‍ى الأرض ل‍ه ال‍مجد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ّلنا، أيّها الربّ الإ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تتقدَّسَ أجسادُنا بجسدِكَ القدّوس وتتنقّى نفوسُ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دمِكَ الغفور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5013360"/>
            <a:ext cx="4248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3141720"/>
            <a:ext cx="54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كُن تناولُنا لِمغفرةِ خطايانا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لحياة الجديدة. يا ربّنا وإلهنا لك المجد إل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0000" y="38160"/>
            <a:ext cx="6588360" cy="105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شعبك الراجي يضرع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صوتك العذب يسم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20:04Z</dcterms:created>
  <dc:creator>-</dc:creator>
  <dc:description/>
  <dc:language>en-US</dc:language>
  <cp:lastModifiedBy>ف</cp:lastModifiedBy>
  <dcterms:modified xsi:type="dcterms:W3CDTF">2006-09-15T19:53:37Z</dcterms:modified>
  <cp:revision>804</cp:revision>
  <dc:subject/>
  <dc:title>Slide 1</dc:title>
</cp:coreProperties>
</file>