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0A06-5F4D-4A74-86A8-CB97B13E8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06AB-E85C-4CEF-AA0F-330067C7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A45D-5A8F-40C3-B96F-3D9DCEC5C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8948-945C-40B1-B43C-05F2D087B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F7E2C-6C5E-4A7E-8F0E-E718F7B0B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B1927-A3D6-4FE2-A0B5-FD894CEE9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743C2-9B03-470E-B6CE-BE163B01C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9DF92-9B0A-4846-B4FD-C815EE3B7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733C5-0C34-4096-9C37-4389FD655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E6F7E-C029-4224-884D-51EB2B7D6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1666C-2557-474B-B994-71C35C31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A53C-22F2-4135-810D-38229A885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CC0E4-48AF-4A81-BF93-2F023BDC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45E39-8CD3-4342-8FBF-3F651F48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5570B-999E-414D-9317-420BDED9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90B11-F811-447D-B4D8-C1AC6C751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1A404-3F9D-4C5A-96C7-CCB32BB08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593E-A6C1-472F-8ED7-B48298FE9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B7C0-B5A0-4B6E-9111-1BE8E6F6C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3C1E-90BF-4C4E-A017-82A558C46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06D5-D2DC-4690-AF49-3D4B4E2E2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93BC-23A4-43C7-9D64-D8D3D420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4EC2-590C-4B62-A1AF-3D0E84F2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314E-89EA-45AD-A6E6-A4322E6D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7966D-3A45-4D9C-9E28-6AEDE58EDA5A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F65BF-AA2A-4839-B3FA-577FB04994ED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200" spc="-1" strike="noStrike">
                <a:solidFill>
                  <a:srgbClr val="ffffff"/>
                </a:solidFill>
                <a:latin typeface="Tahoma"/>
                <a:cs typeface="????Boutros Rokaa"/>
              </a:rPr>
              <a:t>زياح مار الياس</a:t>
            </a:r>
            <a:endParaRPr b="0" lang="en-US" sz="14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52280" y="0"/>
            <a:ext cx="8991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يا مَار الياس نَذِيرَ الحَاكِمِينْ، بَشِيرَ الرجاءِ إلى العالَمِينْ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إِليكَ تَهِفُّ القُلُوبْ،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متى ضايَقَتْنا الكُرُوبْ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800" spc="-1" strike="noStrike">
                <a:solidFill>
                  <a:srgbClr val="ffffff"/>
                </a:solidFill>
                <a:latin typeface="Tahoma"/>
                <a:cs typeface="Akhbar MT"/>
              </a:rPr>
              <a:t>تَشَفَّعْ إلى الربِّ</a:t>
            </a:r>
            <a:br>
              <a:rPr sz="10800"/>
            </a:br>
            <a:r>
              <a:rPr b="1" lang="ar-SA" sz="10800" spc="-1" strike="noStrike">
                <a:solidFill>
                  <a:srgbClr val="ffffff"/>
                </a:solidFill>
                <a:latin typeface="Tahoma"/>
                <a:cs typeface="Akhbar MT"/>
              </a:rPr>
              <a:t>من أجلنا، يُسَدِّدْ خُطَانا وَيَرْأَفْ بـِنَا.</a:t>
            </a:r>
            <a:endParaRPr b="0" lang="en-US" sz="10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لَهِيبُ المَحَبَّةِ في قَلْبـِكَ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َذَابَ الحَواجِزَ مِنْ دَرْبـِكَ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لُهَاثُ النَسِيمِ على جَنْبـِكَ، أفاضَ الرجاءَ على كَرْبـِكَ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52280" y="0"/>
            <a:ext cx="8991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إِيمانُكَ الحَيُّ هَزَّ السماءْ، فَجَاوَبَتِ النارُ حَرَّ الدُّعاءْ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إيمانُكَ الحَيُّ قالَ وَشَاءْ: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على الأرضِ لا كانَ غَيمٌ وماءْ!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52280" y="0"/>
            <a:ext cx="8991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إيمانُكَ الحَيُّ قالَ: اسْكُبي،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يا أرضُ بَعْدَ الظَّماءِ اشْرَبي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وإيمانُكَ الحَيُّ لَمْ يَكْذِبِ،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أعادَ إلى الجِسْمِ رُوحَ الصَّبي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52280" y="0"/>
            <a:ext cx="89917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إِلَيكَ أَيا سَاكِنَ السَّمواتْ،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تَحِنُّ لَواعِجُنا الظَّامِئـَاتْ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بـِجَاهِ نَبيِّكَ، هَبْنَا الثـَّباتْ،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Tahoma"/>
                <a:cs typeface="Akhbar MT"/>
              </a:rPr>
              <a:t>على سُبُلِ البرِّ حتَّى الـمَمَاتْ.</a:t>
            </a:r>
            <a:endParaRPr b="0" lang="en-US" sz="8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06:33:39Z</dcterms:created>
  <dc:creator>Charbel Azar</dc:creator>
  <dc:description/>
  <dc:language>en-US</dc:language>
  <cp:lastModifiedBy>-</cp:lastModifiedBy>
  <dcterms:modified xsi:type="dcterms:W3CDTF">2002-12-13T12:00:07Z</dcterms:modified>
  <cp:revision>14</cp:revision>
  <dc:subject/>
  <dc:title>Slide 1</dc:title>
</cp:coreProperties>
</file>