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7.jpeg" ContentType="image/jpeg"/>
  <Override PartName="/ppt/media/image28.png" ContentType="image/png"/>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E05F5-7121-4336-BA62-B1BB19D4C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0FB45-3E85-4212-8739-26CA23E06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0B5B4-73FF-4ACB-8777-ECC9DC850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9E38A-7FEE-47FA-AF96-CA316113D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517A9-A68C-487A-9582-50E7E1D57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0DE01-E4A9-4EA8-953B-767F94E6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A31C-A956-44B8-886D-1C06E488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69C29-4F8A-44FB-AF54-75483DFD9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27A10-EDE0-4333-B602-0FDF2C85D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44602-B9E9-46BE-80A2-376FCF9E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85141-E534-4E60-92E1-85782B64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EB15-CFC8-4F49-A977-8FAF7C002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8A57-A588-4332-8261-ABBB891D0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9994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وبحُ لرحميك مشيحُ مَلكنْ بر آلهُ سْغيد من خُولُ</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آتو ملكن وات آلُهن ريش دحيين وسَبْرَن ربُ</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مجد لمراحمك أيها المسيح ملكنا وابن الله المعبود من الجميع</a:t>
            </a:r>
            <a:r>
              <a:rPr b="1" lang="en-US" sz="3600" spc="-1" strike="noStrike">
                <a:solidFill>
                  <a:srgbClr val="000000"/>
                </a:solidFill>
                <a:latin typeface="Simplified Arabic"/>
              </a:rPr>
              <a:t> </a:t>
            </a:r>
            <a:r>
              <a:rPr b="1" lang="ar-SA" sz="3600" spc="-1" strike="noStrike">
                <a:solidFill>
                  <a:srgbClr val="000000"/>
                </a:solidFill>
                <a:latin typeface="Simplified Arabic"/>
              </a:rPr>
              <a:t>أنت ملكنا وأنت إلهنا رأس حياتنا ورجاؤنا الكبير</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شررْ ترْعه حسنْ مُوخله رمرم قرنه وريم ريش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رخْ لبْنه ونطرْ يلْده شاينْ كُهنه وسْحوفْ سنه</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ثبت أبوابها حصن مغاليقها عظم شأنها وارفع رأسها</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رك أبناءها واحفظ أولادها أمن كهنتها وحطم أعداء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0"/>
            <a:ext cx="9144000" cy="9714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بارك الذي نشر في الكون آياتك، أطيب من الطيب، وأشهى من الميرون، وأذكى من الريحان، فتألب حولك المؤمنون من أنحاء قورش، وأرجاء لبنان، وآفاق سوريا وكيليكيا، يتتلمذون لك هناك في الجبل العالي على القمم الساجدة، يدعون باسمك، يقتدون بك، ويسبحون إله المحبة، يتغنون بآيات الفداء.</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إليك يا رب ، نضرع على هذا البخور: بمحبتك لآبائنا، وبصلاة صفيك مارون، إملأ فراغ حياتنا بملْ حياتك، أعطنا أن نرى أنفسنا فيك يا أكرم ينبوع وأصفى. إرفع شأن بيعتك، رد إليك الأبعدين واحفظ بصليبك الأقربين. إكسر شوكة الخطيئة لاش من بيننا الحروب وانزع الانقسام والخصام. وطد الأمن والسلام في المسكونة قاطبة. وليملك حبك بين أبناء كنيستك. ولتعط الأرض غلتها فيشبع من خيرها البائسون. وليجد الراحة الأبدية أمواتنا المؤمنون ومعهم نرفع المجد والحمد إليك وإلى أبيك وروحك القدوس، إلى الأبد.</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4191120" y="0"/>
            <a:ext cx="4647960" cy="94683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زُهد على الوجه النح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بسمة السيف على الكُفر س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كاشِف الليل لمَن ضلّ السب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اسحُ العلة من قلب العليل</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قلبك الصافي سك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جراحات الفد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صيّر اليبس رطيب</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من ينابيع العطاء</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إدّرك لبنان في الداجي الظليل</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99"/>
                </a:solidFill>
                <a:latin typeface="Times New Roman"/>
              </a:rPr>
              <a:t>ضيع الدرب وخلاه الدليل</a:t>
            </a:r>
            <a:endParaRPr b="0" lang="en-US" sz="3600" spc="-1" strike="noStrike">
              <a:solidFill>
                <a:srgbClr val="000000"/>
              </a:solidFill>
              <a:latin typeface="Times New Roman"/>
            </a:endParaRPr>
          </a:p>
        </p:txBody>
      </p:sp>
      <p:pic>
        <p:nvPicPr>
          <p:cNvPr id="54" name="stmaroun" descr=""/>
          <p:cNvPicPr/>
          <p:nvPr/>
        </p:nvPicPr>
        <p:blipFill>
          <a:blip r:embed="rId1"/>
          <a:stretch/>
        </p:blipFill>
        <p:spPr>
          <a:xfrm>
            <a:off x="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9372600" cy="8909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تذكر يا رب الصلوات والعطور التي قربها إليك كاهنك القديس مارون. واقبل بها صلواتنا وعطورنا نقربها إليك في ذكراه المجيدة. أفض حبك وسلامك على بيعتك في الأقطار الأربعة. تحنن علينا واغفر خطايانا. وارحم أمواتنا. ثم أدخلنا ملكوتك فنسبحك مع أبينا القديس مارون، وجميع آبائنا القديسين، ونرفع إليك المجد إلى الأبد.</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شعب: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قديشات آلوهو قديشات حيلتونو قديشات لومويوتُا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جوقة:  إتراحام علين (</a:t>
            </a:r>
            <a:r>
              <a:rPr b="1" lang="ar-SA" sz="3200" spc="-1" strike="noStrike">
                <a:solidFill>
                  <a:srgbClr val="000000"/>
                </a:solidFill>
                <a:latin typeface="Times New Roman"/>
              </a:rPr>
              <a:t>3</a:t>
            </a:r>
            <a:r>
              <a:rPr b="1" lang="ar-SA" sz="3200" spc="-1" strike="noStrike">
                <a:solidFill>
                  <a:srgbClr val="000000"/>
                </a:solidFill>
                <a:latin typeface="Times New Roman"/>
              </a:rPr>
              <a:t> مر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أيها الرب القدوس الذي لا يموت، قدس أفكارنا، ونق ضمائرنا فنسبحك تسبيح نقيا ونصغي إلى كتبك المقدسة. لك المجد إلى الأبد.</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ar-SA" sz="3200" spc="-1" strike="noStrike">
                <a:solidFill>
                  <a:srgbClr val="000000"/>
                </a:solidFill>
                <a:latin typeface="Times New Roman"/>
              </a:rPr>
              <a:t>الشعب: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105872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مزامير القراءا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جلو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ي ذكرى القديسين تزهو بيعة اللـــه</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جـواق المؤمني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تشدو ملء الأفــواه</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لتيجـان الرف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 مجد الأرضييـ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دون أفراح البيع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ـي تذكار القديسي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للمسيح الغفور نحن ننشد التقديس</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هدينا درب النور  فيك مارون القديس</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قاريء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من رسالة القديس بولس الرسول ... يقرأ في هذا اليوم أمام أبينا الكاهن، وبارك يا سي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30276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مجد لسيد بولس الذي بشر في أربعة أقطار العالم.  فلتكن صلاته سوراً لهذه الرعية ولسكانها المؤمنين الى الأبد.</a:t>
            </a:r>
            <a:endParaRPr b="0" lang="en-US" sz="36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0"/>
            <a:ext cx="9144000" cy="996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cs typeface="Times New Roman"/>
              </a:rPr>
              <a:t>يا أخوتي – أما أنت فقد استقريت في تَعليمي وسيرَتي ومَقاصِدي وإيماني وصَبري ومحَبَّتي وثَباتي واَحتِمالي الاَضطِهادَ والعَذابَ وما أصابَني في أنطاكِيَةَ وأيقونِيَّةَ ولِسترَةَ. وكمْ مِنِ اَضطهادٍ عانَيتُ وأنقَذَني الرَّبُّ مِنها كُلِّها. فكُلُّ مَنْ أرادَ أنْ يَحيا في المَسيحِ يَسوعَ حياةَ التَّقوى أصابَهُ الاضطِهادُ. أمَّا الأشرارُ والدَّجّالونَ فيَزدادونَ شَرُا وهُم خادِعونَ مَخدوعونَ. فاَثبُتْ أنتَ على ما تَعَلَّمْتَهُ عِلمَ اليَقينِ عارِفًا عَمَّن أخذتَهُ. فأنتَ مُنذُ طُفولَتِكَ عَرَفْتَ الكُتُبَ المُقَدَّسةَ القادِرَةَ على أنْ تُزَوِّدَكَ بِالحِكمَةِ التي تَهدي إلى الخَلاصِ في الإيمانِ بِالمَسيحِ يَسوعَ. الكِتابُ كُلُّهُ مِنْ وَحيِ الله، يُفيدُ في التَّعليمِ والتَّفنيدِ والتَّقويمِ والتَّأديبِ في البِرِّ، ليكونَ رَجُلُ الله كامِلاً مُستَعِدُا لِكلِّ عَمَلٍ صالِحِ. والتسبيح لله دائما وبارك يا سيد.</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85453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هللويـــا وهللويــــا.  مجد لبنان أعطي له ومجد الرب أشرق عليه، . هللويـــا.</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يضع الكاهن بخوراً) أمام بشارة مخلصنا، المبشرة بالحياة لنفوسنا، يقدم البخور،الى مراحمك يا رب نصلي.</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من إنجيل ربنا يسوع المسيح للقديس ....... الذي بشر العالم بالحياة.  فلنصغ الى بشارة الحياة والخلاص لنفوسنا.     (يبخر الإنجيل ثلاثاً)</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04920"/>
            <a:ext cx="9144000" cy="329868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ونوا في السكوت، أيها السامعون، لأن الإنجيل المقدس يتلى الآن عليكم.   فاسمعوا ومجدوا واشكروا كلمة الله الحي</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533520"/>
            <a:ext cx="8229600" cy="9236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أجابهما يسوع وقال: قد أتت الساعة التي يمجد فيها ابن البشر، الحق الحق أقول لكم: إن حبة الحنطة التي تقع في الأرض، إن لم تمت فإنها تبقى وحدها، وإن ماتت أتت بثمر كثير. من أحب نفسه فإنه يهلكها، ومن أبغض نفسه في هذا العالم فإنه يحفظها للحياة الأبدية. إن كان أحد يخدمني فليتبعني، وحيث أكون أنا فهناك يكون خادمي. إن كان أحد يخدمني يكرمه أبي</a:t>
            </a:r>
            <a:r>
              <a:rPr b="1" lang="ar-SA" sz="4000" spc="-1" strike="noStrike">
                <a:solidFill>
                  <a:srgbClr val="000000"/>
                </a:solidFill>
                <a:latin typeface="Times New Roman"/>
                <a:ea typeface="Times New Roman"/>
              </a:rPr>
              <a:t>. </a:t>
            </a:r>
            <a:r>
              <a:rPr b="1" lang="ar-SA" sz="4000" spc="-1" strike="noStrike">
                <a:solidFill>
                  <a:srgbClr val="000000"/>
                </a:solidFill>
                <a:latin typeface="Times New Roman"/>
                <a:cs typeface="Simplified Arabic"/>
              </a:rPr>
              <a:t>الآن نفسي قد اضطربت، ماذ أقول؟ يا أبت نجني من هذه الساعة! ولكن لأجل هذا بلغت</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6240" y="0"/>
            <a:ext cx="7391520" cy="895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إلى هذه الساعة. يا أبت مجد اسمك! فجاء صوت من السماء أن مجدته وسأمجده أيضا. فسمع الجمع الذي كان واقفا فقالوا: إنما كان رعد، وقال آخرون: قد كلمه ملاك. أجاب يسوع وقال: ليس من أجلي كان هذا الصوت، ولكن من أجلكم. حقا والأمان لجميعكم</a:t>
            </a:r>
            <a:r>
              <a:rPr b="1" lang="ar-SA" sz="4000" spc="-1" strike="noStrike">
                <a:solidFill>
                  <a:srgbClr val="000000"/>
                </a:solidFill>
                <a:latin typeface="Times New Roman"/>
                <a:ea typeface="Times New Roman"/>
              </a:rPr>
              <a:t>.</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a:t>
            </a:r>
            <a:r>
              <a:rPr b="1" lang="ar-SA" sz="3600" spc="-1" strike="noStrike">
                <a:solidFill>
                  <a:srgbClr val="000000"/>
                </a:solidFill>
                <a:latin typeface="Times New Roman"/>
                <a:cs typeface="Simplified Arabic"/>
              </a:rPr>
              <a:t>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لمسيح يسوع التسبيح والبركات، من أجل كلامه الحي لنا للمسيح يسوع التسبيح والبركات.</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ظة ثم قانون الإيما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457200"/>
            <a:ext cx="8763120" cy="5340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اقيمت برْعُ عيدتْ قُودشُ بْطوفسُ دلعل دْهي 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حوبُ غْمرتُ بْرحْم نصبْتُ بْطوفْسُ مْخرْتُ بْحشُ قْنيْ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وأقمت في الأرض بيعة مقدسة تشبه العليا التي في الملكوت</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بالحب غمرتها بالرحمة نصبتها بالرمز اخترتها والآلام اقتنيته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0"/>
            <a:ext cx="8458200" cy="85395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مـــا قبــل النافــــور</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ت لووت مذبحه دالوهو ولووث ألوهو دمحده طلبوت وانا بسوغو دطيبوتوخ اعول لبيتخ واسغود بهيكلو دقودشوخ.</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cs typeface="Simplified Arabic"/>
              </a:rPr>
              <a:t>أجيء الى مذبح الله والى الله الذي يبهج شبابي، بكثرة نعمتك أدخل بيتك وأسجد في قدس هيكلك.</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دِحلتْخُ مْرُيْاُ دَبَريْن وَبْزُديقوتُخْ أَلِف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بمخافتك يا رب، دبرني وببرك علمني.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علي مطول مر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صلّو لأجلي إكراماً للرب.</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أَلوهو نْقَبل قورْبونُخْ ونِتْرحَمِ عْلَين بَصْلوتُخ.</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بل الرب قربانك ورحمنا بصلات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77810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هللويا</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قال الرب: انني الخبز المحيي الآتي من حضن الآب قوتا للعالم قبلني حضن العذراء الأم النقي.العذراء مريم، مثل حبة القمح في الأرض الخصبة صرت فوق المذبح قوتا للبيعة هللويا وخبز حياة.</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Simplified Arabic"/>
              </a:rPr>
              <a:t>إنُنـــــُا لحمُـــا رْحيــِا   إِمَر مُــرَ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دْمِـــن رَومُالعُومقُا نِعْتِتْ دنيحِا بيعُلْمُ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شَلحَــن أَبُــــا مِلثُـــا رلاُ بِسْــــرُ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خْ دَلفـــِرْدْنُو دْحِطِـا بَسيمتُـــ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بِلتَن كَرسُه دْمَريَم أَخ أَرعُــــا طُبت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هُا مزَيْحَنْليه بيدَيهُون كُهنِا عَـلْ مَدِبْحُـــــا</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هللويـــــا قَــبِـــل قُرْبُن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9144000" cy="8798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أيها   الرب  الإله  العظيم ، يا  من  قبلت قرابين الاولين، إقبل  ما  حمل إليك عبيدك هؤلاء من قرابين، حبا  لك ولاسمك القدوس،  أجزل عليهم بركاتك الروحية،  وبدل عطاياهم الزائلة، هب</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لهم الحياة والملكوت.</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ن.</a:t>
            </a:r>
            <a:endParaRPr b="0" lang="en-US" sz="3200" spc="-1" strike="noStrike">
              <a:solidFill>
                <a:srgbClr val="000000"/>
              </a:solidFill>
              <a:latin typeface="Times New Roman"/>
            </a:endParaRPr>
          </a:p>
          <a:p>
            <a:pPr algn="just"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كاهن : لذكر ربنا و إلهنا و مخلصنا يسوع المسيح وكل تدبيره الخلاصي من اجلنا، نذكر، على هذا القربان الموضوع أمامنا، جميع الذين حسنوا لدى الله من آدم حتى  اليوم وخاصة الطوباوية والدة الله مريم، ومار مارون ومار شربل والطوباوية رفقا، والطوباوي الحرديني … أذكر اللهم، آباءنا وأخوتنا الأحياء والأموات، أبناء البيعة المقدسة، (خاصة من  يقدم  عنهم هذا  القربان).  واذكر  جميع المشتركين معنا اليوم في هذا القربان.</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ـ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1111"/>
        </a:solidFill>
      </p:bgPr>
    </p:bg>
    <p:spTree>
      <p:nvGrpSpPr>
        <p:cNvPr id="1" name=""/>
        <p:cNvGrpSpPr/>
        <p:nvPr/>
      </p:nvGrpSpPr>
      <p:grpSpPr>
        <a:xfrm>
          <a:off x="0" y="0"/>
          <a:ext cx="0" cy="0"/>
          <a:chOff x="0" y="0"/>
          <a:chExt cx="0" cy="0"/>
        </a:xfrm>
      </p:grpSpPr>
      <p:pic>
        <p:nvPicPr>
          <p:cNvPr id="66" name="CARPV008" descr=""/>
          <p:cNvPicPr/>
          <p:nvPr/>
        </p:nvPicPr>
        <p:blipFill>
          <a:blip r:embed="rId1"/>
          <a:stretch/>
        </p:blipFill>
        <p:spPr>
          <a:xfrm>
            <a:off x="0" y="0"/>
            <a:ext cx="4191120" cy="6858000"/>
          </a:xfrm>
          <a:prstGeom prst="rect">
            <a:avLst/>
          </a:prstGeom>
          <a:ln w="0">
            <a:noFill/>
          </a:ln>
        </p:spPr>
      </p:pic>
      <p:sp>
        <p:nvSpPr>
          <p:cNvPr id="67" name=""/>
          <p:cNvSpPr/>
          <p:nvPr/>
        </p:nvSpPr>
        <p:spPr>
          <a:xfrm>
            <a:off x="4114800" y="0"/>
            <a:ext cx="5029200" cy="88250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والدةِ اللهِ الأمِ العذراءْ، الأنبياءِ والرسلِ والشهداءْ، والخدّامُ الكهنة جوقِ الأبرارْ، كلِ أولادِ البيعة نُحيي التذكار</a:t>
            </a:r>
            <a:r>
              <a:rPr b="1" lang="ar-SA" sz="3200" spc="-1" strike="noStrike">
                <a:solidFill>
                  <a:srgbClr val="ffcc99"/>
                </a:solidFill>
                <a:latin typeface="Times New Roman"/>
                <a:ea typeface="Times New Roman"/>
              </a:rPr>
              <a:t>.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هللويـــــــ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لِمَريـم يُلـدَت أَلوهُا نهِا دُوخْرُنُ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نْبِيّاِ شليحِا وسوهدِا وكينِا وكوهنـا</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لكوُلهُتن يَلدِا دعيدِتُا مِن دُور لدور </a:t>
            </a:r>
            <a:endParaRPr b="0" lang="en-US" sz="3200" spc="-1" strike="noStrike">
              <a:solidFill>
                <a:srgbClr val="000000"/>
              </a:solidFill>
              <a:latin typeface="Times New Roman"/>
            </a:endParaRPr>
          </a:p>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وعدَمُـا لِعُلَــم عُلميــن.</a:t>
            </a:r>
            <a:endParaRPr b="0" lang="en-US" sz="3200" spc="-1" strike="noStrike">
              <a:solidFill>
                <a:srgbClr val="000000"/>
              </a:solidFill>
              <a:latin typeface="Times New Roman"/>
            </a:endParaRPr>
          </a:p>
          <a:p>
            <a:pPr algn="ct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99"/>
                </a:solidFill>
                <a:latin typeface="Times New Roman"/>
                <a:cs typeface="Simplified Arabic"/>
              </a:rPr>
              <a:t>آميــن وآميــن</a:t>
            </a:r>
            <a:r>
              <a:rPr b="1" lang="ar-SA" sz="3200" spc="-1" strike="noStrike">
                <a:solidFill>
                  <a:srgbClr val="ffcc99"/>
                </a:solidFill>
                <a:latin typeface="Times New Roman"/>
                <a:ea typeface="Times New Roman"/>
              </a:rPr>
              <a:t>.</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8763120" cy="84168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ea typeface="Simplified Arabic"/>
              </a:rPr>
              <a:t>"رتبة السل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جلوس</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مجد للآب والإبن والروح القدس، من الآن و الى الابد.</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ـن.</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الرحيم القدوس، يا من أعددت لنا - بواسطة ابنك الوحيد - هذه الوليمة الروحانية، إقبل قربان هذه الذبيحة، وإمنحنا  موهبة  روحك القدوس، وأهلنا  أن نعطي  بعضنا  بعضا  السلام، بقلب نقي  ومحبة  إلـهية، فنرفع إليك المجد والشكر والى ابنك الوحيد وروحك القدوس، الآن والى لابد.</a:t>
            </a:r>
            <a:endParaRPr b="0" lang="en-US" sz="3200" spc="-1" strike="noStrike">
              <a:solidFill>
                <a:srgbClr val="000000"/>
              </a:solidFill>
              <a:latin typeface="Times New Roman"/>
            </a:endParaRPr>
          </a:p>
          <a:p>
            <a:pPr algn="just"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ــن</a:t>
            </a:r>
            <a:r>
              <a:rPr b="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السلام  لك  يا مذبح الله ، السلام للأسرار المقدسة الموضوعة عليك، السلام لك يا خادم  الروح ال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69" name=""/>
          <p:cNvSpPr/>
          <p:nvPr/>
        </p:nvSpPr>
        <p:spPr>
          <a:xfrm>
            <a:off x="4572000" y="0"/>
            <a:ext cx="43434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لكاهن :</a:t>
            </a:r>
            <a:r>
              <a:rPr b="0" lang="ar-SA" sz="2400" spc="-1" strike="noStrike">
                <a:solidFill>
                  <a:srgbClr val="000000"/>
                </a:solidFill>
                <a:latin typeface="Times New Roman"/>
                <a:ea typeface="Simplified Arabic"/>
              </a:rPr>
              <a:t>	</a:t>
            </a:r>
            <a:r>
              <a:rPr b="0" lang="ar-SA" sz="2400" spc="-1" strike="noStrike">
                <a:solidFill>
                  <a:srgbClr val="000000"/>
                </a:solidFill>
                <a:latin typeface="Times New Roman"/>
                <a:ea typeface="Simplified Arabic"/>
              </a:rPr>
              <a:t> </a:t>
            </a:r>
            <a:r>
              <a:rPr b="1" lang="ar-SA" sz="3600" spc="-1" strike="noStrike">
                <a:solidFill>
                  <a:srgbClr val="ffffff"/>
                </a:solidFill>
                <a:latin typeface="Times New Roman"/>
                <a:cs typeface="Simplified Arabic"/>
              </a:rPr>
              <a:t>الشماس :</a:t>
            </a:r>
            <a:r>
              <a:rPr b="1" lang="ar-SA"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ليعط كل واحد منا السلام قريبه بمحبة وأمانة ترضي ا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جوقة  :   إن أعطى ملوك الأرض عمالهم فإن ما يعطونهم من الخير ما لا يدوم إلا قليلاً أما ملكنا البهي فروحه قد أعطى رسله لكي يثبت معهم ويرعاهم إلى الأبد. آمين</a:t>
            </a:r>
            <a:endParaRPr b="0" lang="en-US" sz="3600" spc="-1" strike="noStrike">
              <a:solidFill>
                <a:srgbClr val="000000"/>
              </a:solidFill>
              <a:latin typeface="Times New Roman"/>
            </a:endParaRPr>
          </a:p>
        </p:txBody>
      </p:sp>
      <p:pic>
        <p:nvPicPr>
          <p:cNvPr id="70" name="14924715GRMuZrvGAj_ph" descr=""/>
          <p:cNvPicPr/>
          <p:nvPr/>
        </p:nvPicPr>
        <p:blipFill>
          <a:blip r:embed="rId1"/>
          <a:stretch/>
        </p:blipFill>
        <p:spPr>
          <a:xfrm>
            <a:off x="-436680" y="0"/>
            <a:ext cx="48103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228600"/>
            <a:ext cx="8839080" cy="8083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 :  فليكن، يا رب، سلامك وأمانك وحبك الصادق ومراحمك الالـهية، معنا وبيننا،  جميع أيام حياتنا، فنرفع اليك المجد والشكر، الان و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جد أمامك ،  يا  ملك الملوك ورب الارباب، و نبتهــل إليـــك أن تنظر إلينـا راحماً، فتـؤهلنـا للـدنو مـن مذبحك المقدس، بنقاوة القلب و قداسـة النفـس و الجسد، فنرفع اليك المجد و الشكر الآن و الى الابد.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آميــــــ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8534520" cy="77223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صلاة  الافخارستيا</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وقوف</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محبة الله الآب + ونعمة الابن الوحيد + وشركة وحلول الروح القدس  + مع جميعكم يا إخوتي الى الأبد.</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     لتكن أفكارنا و عقولنا و قلوبنا مرتفعة الى العلى.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ا لديك  يا  الل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لنشكر الرب متهيبين، و نسجد له خاشع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نه لحق وواجب.</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10079646" descr=""/>
          <p:cNvPicPr/>
          <p:nvPr/>
        </p:nvPicPr>
        <p:blipFill>
          <a:blip r:embed="rId1"/>
          <a:stretch/>
        </p:blipFill>
        <p:spPr>
          <a:xfrm>
            <a:off x="0" y="-1371600"/>
            <a:ext cx="10139400" cy="14859000"/>
          </a:xfrm>
          <a:prstGeom prst="rect">
            <a:avLst/>
          </a:prstGeom>
          <a:ln w="0">
            <a:noFill/>
          </a:ln>
        </p:spPr>
      </p:pic>
      <p:sp>
        <p:nvSpPr>
          <p:cNvPr id="74" name=""/>
          <p:cNvSpPr/>
          <p:nvPr/>
        </p:nvSpPr>
        <p:spPr>
          <a:xfrm>
            <a:off x="0" y="228600"/>
            <a:ext cx="8763120" cy="8269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حقا لك يجب المجد، وبك يليق المديح، لأنك القدوس، اللهم الآب. واهب الحياة، والمبارك مع إبنك الوحيد وروحك الحي القدوس.  بك يحدق الكاروبون والسرافون، بأصوات نقية والحان بهية يهتفون قائلين :</a:t>
            </a:r>
            <a:endParaRPr b="0" lang="en-US" sz="32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600" spc="-1" strike="noStrike">
                <a:solidFill>
                  <a:srgbClr val="000000"/>
                </a:solidFill>
                <a:latin typeface="Times New Roman"/>
                <a:cs typeface="Simplified Arabic"/>
              </a:rPr>
              <a:t>قَديش قَديش قَديشات مُريُا أَلُهُا حَيِلتُنُا صْباؤوت دَملِن إنُونِ شمَيُا وآرعُا مِن تِشبُحتُا وإيقُرُوا درَبوتُخ مُر أُو شَعنُا بَمْرَوْمِا بيخ دِاتُا وَعتيدِ دنيتِا بَشمِـه دمُريُ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شعنُا بَمرَومِ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304920"/>
            <a:ext cx="86104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0" y="0"/>
            <a:ext cx="9144000" cy="4483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Simplified Arabic"/>
              </a:rPr>
              <a:t>الكاهن :</a:t>
            </a:r>
            <a:r>
              <a:rPr b="0" lang="en-US"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كاهن:</a:t>
            </a:r>
            <a:r>
              <a:rPr b="0" lang="ar-SA" sz="12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 قدوس ، قدوس أنت الرب المملوء مراحم قدوس ابنك الوحيد. قدوس روحك المحيي.انك القدوس واهب الخيرات.</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من لأجل خلاصنا تجسد ابنك الوحيد من البتول النقية مريم، و بتدبيره الالـهي خلصنا وافتدانا.</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شعب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939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كاهن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0" lang="ar-SA" sz="3600" spc="-1" strike="noStrike">
                <a:solidFill>
                  <a:srgbClr val="000000"/>
                </a:solidFill>
                <a:latin typeface="Simplified Arabic"/>
              </a:rPr>
              <a:t> </a:t>
            </a:r>
            <a:r>
              <a:rPr b="1" lang="ar-SA" sz="3600" spc="-1" strike="noStrike">
                <a:solidFill>
                  <a:srgbClr val="000000"/>
                </a:solidFill>
                <a:latin typeface="Simplified Arabic"/>
              </a:rPr>
              <a:t>لبيتخ ألوهو علت وقدم بيمديلخ سوغدت، ملكو </a:t>
            </a:r>
            <a:r>
              <a:rPr b="1" lang="en-US"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شمايونو حاسولي خولد حطيت لخ.</a:t>
            </a:r>
            <a:endParaRPr b="0" lang="en-US" sz="3600" spc="-1" strike="noStrike">
              <a:solidFill>
                <a:srgbClr val="000000"/>
              </a:solidFill>
              <a:latin typeface="Times New Roman"/>
            </a:endParaRPr>
          </a:p>
          <a:p>
            <a:pPr algn="just"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دخلت بيتك يا الله، وفي هيكلك سجدت، فيا ملك </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	</a:t>
            </a:r>
            <a:r>
              <a:rPr b="1" lang="ar-SA" sz="3600" spc="-1" strike="noStrike">
                <a:solidFill>
                  <a:srgbClr val="000000"/>
                </a:solidFill>
                <a:latin typeface="Times New Roman"/>
                <a:cs typeface="Times New Roman"/>
              </a:rPr>
              <a:t>المجد </a:t>
            </a:r>
            <a:r>
              <a:rPr b="1" lang="ar-SA" sz="3600" spc="-1" strike="noStrike">
                <a:solidFill>
                  <a:srgbClr val="000000"/>
                </a:solidFill>
                <a:latin typeface="Simplified Arabic"/>
              </a:rPr>
              <a:t>إغفر</a:t>
            </a:r>
            <a:r>
              <a:rPr b="1" lang="ar-SA" sz="3600" spc="-1" strike="noStrike">
                <a:solidFill>
                  <a:srgbClr val="000000"/>
                </a:solidFill>
                <a:latin typeface="Times New Roman"/>
                <a:ea typeface="Times New Roman"/>
              </a:rPr>
              <a:t> لي ما خطأت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مَلْكو شْمَايونو حاسولَنْ خولْدَ حْطَيْنَنْ لُخْ.</a:t>
            </a:r>
            <a:endParaRPr b="0" lang="en-US" sz="3600" spc="-1" strike="noStrike">
              <a:solidFill>
                <a:srgbClr val="000000"/>
              </a:solidFill>
              <a:latin typeface="Times New Roman"/>
            </a:endParaRPr>
          </a:p>
          <a:p>
            <a:pPr algn="just"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يا ملك المجد إغفر لنا ما خطئنا به إليك</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كاهن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 علَيْ مِطُول مُرَنْ.</a:t>
            </a:r>
            <a:endParaRPr b="0" lang="en-US" sz="3600" spc="-1" strike="noStrike">
              <a:solidFill>
                <a:srgbClr val="000000"/>
              </a:solidFill>
              <a:latin typeface="Times New Roman"/>
            </a:endParaRPr>
          </a:p>
          <a:p>
            <a:pPr algn="just" rtl="1">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صلوا عني إكراما لربنا.</a:t>
            </a:r>
            <a:endParaRPr b="0" lang="en-US" sz="3600" spc="-1" strike="noStrike">
              <a:solidFill>
                <a:srgbClr val="000000"/>
              </a:solidFill>
              <a:latin typeface="Times New Roman"/>
            </a:endParaRPr>
          </a:p>
          <a:p>
            <a:pPr algn="just"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الشعب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أَلوهو نْقَبِلْ قورْبونوخْ وْنِتْرَحَمِ عْلَيْن                                                                                           </a:t>
            </a:r>
            <a:r>
              <a:rPr b="1" lang="en-US" sz="3600" spc="-1" strike="noStrike">
                <a:solidFill>
                  <a:srgbClr val="000000"/>
                </a:solidFill>
                <a:latin typeface="Simplified Arabic"/>
              </a:rPr>
              <a:t> </a:t>
            </a:r>
            <a:r>
              <a:rPr b="1" lang="ar-SA" sz="3600" spc="-1" strike="noStrike">
                <a:solidFill>
                  <a:srgbClr val="000000"/>
                </a:solidFill>
                <a:latin typeface="Simplified Arabic"/>
              </a:rPr>
              <a:t>                    </a:t>
            </a:r>
            <a:r>
              <a:rPr b="1" lang="en-US" sz="3600" spc="-1" strike="noStrike">
                <a:solidFill>
                  <a:srgbClr val="000000"/>
                </a:solidFill>
                <a:latin typeface="Simplified Arabic"/>
              </a:rPr>
              <a:t>  </a:t>
            </a:r>
            <a:r>
              <a:rPr b="1" lang="ar-SA" sz="3600" spc="-1" strike="noStrike">
                <a:solidFill>
                  <a:srgbClr val="000000"/>
                </a:solidFill>
                <a:latin typeface="Simplified Arabic"/>
              </a:rPr>
              <a:t>بَصْلوتُخْ.</a:t>
            </a:r>
            <a:endParaRPr b="0" lang="en-US" sz="3600" spc="-1" strike="noStrike">
              <a:solidFill>
                <a:srgbClr val="000000"/>
              </a:solidFill>
              <a:latin typeface="Times New Roman"/>
            </a:endParaRPr>
          </a:p>
          <a:p>
            <a:pPr algn="just"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	</a:t>
            </a:r>
            <a:r>
              <a:rPr b="1" lang="ar-SA" sz="3600" spc="-1" strike="noStrike">
                <a:solidFill>
                  <a:srgbClr val="000000"/>
                </a:solidFill>
                <a:latin typeface="Simplified Arabic"/>
              </a:rPr>
              <a:t>قبل الله قربانك ورحمنا بصلاتك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33441784XVvjRh_ph" descr=""/>
          <p:cNvPicPr/>
          <p:nvPr/>
        </p:nvPicPr>
        <p:blipFill>
          <a:blip r:embed="rId1"/>
          <a:stretch/>
        </p:blipFill>
        <p:spPr>
          <a:xfrm>
            <a:off x="2251080" y="0"/>
            <a:ext cx="46404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8354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لما أكلتم هذا الخبز وشربتم هذه الكأس، اصنعوا ذكري حتى مجيئي.</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ذكر موتك يا رب، ونعترف بقيامتك، وننتظر  مجيئك الثاني، ونطلب منك الرحمة والحنان، ونسألك  مغفرة الخطايا.  فلتشمل مراحمك  كلنا.</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لهذا نحن، يا  رب يا محب البشر، نذكر تدبيرك، ونبتهل اليك أن ترحم الساجدين لك، وتخلص ميراثك، يوم تظهر في آخر الزمان،  فتجازي بعدل كل إنسان بحسب أعماله، وها إن بيعتك تضرع إليك وبك ومعك الى ابيك، و هي تقول : </a:t>
            </a:r>
            <a:endParaRPr b="0" lang="en-US" sz="3600" spc="-1" strike="noStrike">
              <a:solidFill>
                <a:srgbClr val="000000"/>
              </a:solidFill>
              <a:latin typeface="Times New Roman"/>
            </a:endParaRPr>
          </a:p>
          <a:p>
            <a:pPr algn="just"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رحمنا، أيها الرب الإله الضابط الكل، إرحمن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r>
              <a:rPr b="1" lang="ar-SA" sz="3400" spc="-1" strike="noStrike">
                <a:solidFill>
                  <a:srgbClr val="000000"/>
                </a:solidFill>
                <a:latin typeface="Times New Roman"/>
                <a:ea typeface="Simplified Arabic"/>
              </a:rPr>
              <a:t>   الكاهن:</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نحن أيضاً،  يا رب، أبناءك الخطأة، و قد قبلنا نعمك، نشكرك عنها و من اجلها كلها.</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إياك  نسبح. إياك نمجد. إياك نبارك. لك نسجد. بك نعترف ومنك نطلب. فاشفق اللهم علينا وارحمنا واستجب لنا.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ما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ما أرهبها ساعة، أحبائي، ينحدر فيها الروح الحي القدوس من ذرى الاعالي السماوية، ويحل على هذا القربان الموضوع هنا لتقديسنا.  فلنقف مصلين خاشعين، و لنهتف ثلاثا قائلين: </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رحمنا،  يا رب، إرحمنا، وأرسل إلينا من سمائك روحك المحيي، و ليرف على هذا القربان، ويجعله جسدا محييا، و يسامحنا ويقدسنا.</a:t>
            </a:r>
            <a:endParaRPr b="0" lang="en-US" sz="3400" spc="-1" strike="noStrike">
              <a:solidFill>
                <a:srgbClr val="000000"/>
              </a:solidFill>
              <a:latin typeface="Times New Roman"/>
            </a:endParaRPr>
          </a:p>
          <a:p>
            <a:pPr algn="r"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 إستجبنا يا رب، إستجبنا يا رب، إستجبنا يا رب وليأت روحك الحي القدوس ويحل علينا وعلى هذا القربا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0"/>
            <a:ext cx="8915400" cy="94791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يرياليسون. كيرياليسون. كيرياليسو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فيجعل بحلوله هذا الخبز + جسد المسيح الـهن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ea typeface="Simplified Arabic"/>
              </a:rPr>
              <a:t> 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ن.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والممزوج  في  هذه الكأس + دم المسيح  الهنا.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ــ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كاهن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لكي تكون لنا هذه الاسرار المقدسة، لمغفرة الخطايا . وشفاء  النفس والجسد وتوطيد الضمير،  فلا يهلك أحد من شعبك المؤمن، بل أهلنا أن نحيا بروحك، ونسير بالنقاوة، ونرفع اليك المجد الآن والى الابد .</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لشعب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آميــــــن .</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144000" cy="838260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نقدم لك، يا رب، هذه الذبيحة الالهية، من أجل رعيتك، لاسيما من اجل آبائنا المغبوطين: مار ..... بابا رومة، ومار ..... بطرس بطريركنا الانطاكي، ومار..... مطراننا، وسائر الاساقفة المستقيمي الرأي، امنحهم يا رب، حياة لا لوم فيها وأياما مجيدة، ليرعوا شعبك بالبر والقداسة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شعبك القائم امامك لاسيما الذين قربوا هذه القرابين، اغفر لهم ليحيوا دائما في حضرتك، ويعرفوا ما تسبغ عليهم من الخير، لأنك الصالح غزير المراحم : نسألك  يا  رب.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رؤسائنا المؤمنين المحسنين الى شعبك المفتدى بدمك، أيدهم بقوتك فنعيش بأمان : نسألك يا رب ! </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0"/>
            <a:ext cx="9144000" cy="8909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ذكر الذين حسنوا لك منذ البدء، لاسيما القديسة والدة الله مريم، والانبياء و الرسل والشهداء والمعترفين ويوحنا المعمدان، واسطفانوس رئيس الشمامسة، ومار ... (شفيع الكنيسة)، ومار ... (صاحب العيد)، إشركنا يا رب في صلواتهم، وأهلنا  لنصيبهم، وهب لنا أن نتنعم مع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ماس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من أجل الموتى المؤمنين الراحلين منا اليك، الراقدين على رجائك، المنتظرين صوتك الحي  يدعوهم الى الحياة، اقبل القرابين التي نقربها لك عنهم، و ارحمهم في ملكوتك نسألك  يا ر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380880"/>
            <a:ext cx="8305920" cy="69865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فيتمجد بنا وبكل شيء اسمك المبارك مع اسم ربنا يسوع المسيح وروحك الحي القدوس الآن و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ما كان وهو الآن هكذا يكون الى الابد. آميـــــــن.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لتكن مراحم الله الآب، ومخلصنا يسوع المسيح، وحلول الروح القدس، معنا ومعكم جميعا، يا إخوتي، الى الابد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84" name="10079653" descr=""/>
          <p:cNvPicPr/>
          <p:nvPr/>
        </p:nvPicPr>
        <p:blipFill>
          <a:blip r:embed="rId1"/>
          <a:stretch/>
        </p:blipFill>
        <p:spPr>
          <a:xfrm>
            <a:off x="-93600" y="0"/>
            <a:ext cx="5765760" cy="7162920"/>
          </a:xfrm>
          <a:prstGeom prst="rect">
            <a:avLst/>
          </a:prstGeom>
          <a:ln w="0">
            <a:noFill/>
          </a:ln>
        </p:spPr>
      </p:pic>
      <p:sp>
        <p:nvSpPr>
          <p:cNvPr id="85" name=""/>
          <p:cNvSpPr/>
          <p:nvPr/>
        </p:nvSpPr>
        <p:spPr>
          <a:xfrm>
            <a:off x="5257800" y="228600"/>
            <a:ext cx="38862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حدت يا رب لا هوتك بناس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ناسوتنا بلاهو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حياتك بموت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وموتنا بحيات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أخذت ما لنا ووهبتنا ما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تحيينا وتخلصن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Times New Roman"/>
              </a:rPr>
              <a:t>لك المجد إلى الأ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
          <p:cNvSpPr/>
          <p:nvPr/>
        </p:nvSpPr>
        <p:spPr>
          <a:xfrm>
            <a:off x="228600" y="380880"/>
            <a:ext cx="8534520" cy="30348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كاهن </a:t>
            </a: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	</a:t>
            </a:r>
            <a:r>
              <a:rPr b="1" lang="ar-SA" sz="4000" spc="-1" strike="noStrike">
                <a:solidFill>
                  <a:srgbClr val="000000"/>
                </a:solidFill>
                <a:latin typeface="Times New Roman"/>
                <a:cs typeface="Simplified Arabic"/>
              </a:rPr>
              <a:t>أيها الرب الرؤوف، أهلنا، نحن الضعفاء، أن نصلي بنقاوة وقداسة، ونهتف قائلين :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2007534bIqTxUplBD_ph" descr=""/>
          <p:cNvPicPr/>
          <p:nvPr/>
        </p:nvPicPr>
        <p:blipFill>
          <a:blip r:embed="rId1"/>
          <a:stretch/>
        </p:blipFill>
        <p:spPr>
          <a:xfrm>
            <a:off x="0" y="0"/>
            <a:ext cx="9144000" cy="6858000"/>
          </a:xfrm>
          <a:prstGeom prst="rect">
            <a:avLst/>
          </a:prstGeom>
          <a:ln w="0">
            <a:noFill/>
          </a:ln>
        </p:spPr>
      </p:pic>
      <p:sp>
        <p:nvSpPr>
          <p:cNvPr id="88" name=""/>
          <p:cNvSpPr/>
          <p:nvPr/>
        </p:nvSpPr>
        <p:spPr>
          <a:xfrm>
            <a:off x="6934320" y="0"/>
            <a:ext cx="2209680" cy="11482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Times New Roman"/>
              </a:rPr>
              <a:t>أبانا الذي في السماوات ليتقدس اسمك، ليأت ملكوتك، لتكن مشيئتك، كما في السماء كذلك على الارض اعطنا خبزنا كفاف يومنا، و اغفر لنا ذنوبنا وخطايان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9" name=""/>
          <p:cNvSpPr/>
          <p:nvPr/>
        </p:nvSpPr>
        <p:spPr>
          <a:xfrm>
            <a:off x="0" y="0"/>
            <a:ext cx="2133720" cy="9929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كما نحن نغفر لمن خطىء  و أساء  إلينا، ولا تدخلنا في التجارب، لكن نجنا من الشرير، لأن لك الملك والقوة والمجد، الى أبد الآبدين. آمين</a:t>
            </a:r>
            <a:r>
              <a:rPr b="1" lang="ar-SA" sz="3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8915400" cy="8283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هرُخ حزِنَن نوهرُا   يشوع ملا نُوهرُ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داتاُ نوهروُا شريرُا  دمَنهَر بِريُ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هَر لن بنُهرُخ غاياُ  وحدَا لن بندخه دصفرُخ</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بنورك نرى النور يا يسوع  يا ملء النور</a:t>
            </a:r>
            <a:endParaRPr b="0" lang="en-US" sz="4000" spc="-1" strike="noStrike">
              <a:solidFill>
                <a:srgbClr val="000000"/>
              </a:solidFill>
              <a:latin typeface="Times New Roman"/>
            </a:endParaRPr>
          </a:p>
          <a:p>
            <a:pPr algn="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في نورك الحقيقي تنير البرايا</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أنرنا بنورك الوضاح وأبهجنا بصباحك المضيء</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0"/>
            <a:ext cx="8763120" cy="75582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أجل، أيها الرب الحنون، لا تهملنا لئلا تقوى علينا التجربة، بل خلصنا من الشرير، ومن طرقه الملتوية، لأن لك الملكوت ولإبنك الوحيد وروحك القدوس،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457200"/>
            <a:ext cx="8686800" cy="75351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وسكم أمام الله الرؤوف، وأمام مذبحه الغافر، و أمام جسد مخلصنا و دمه المحيي لمن يتناوله واقبلوا البركة من الرب.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ارك يا رب شعبك المؤمن المنحني امامك، أنقذنا من كل أذى، وأهلنا أن نشترك بنقاوة و قداسة في هذه الاسرار الالهية، فنسامح، و نتقدس، و نرفع اليك المجد الآن و الى الابد.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80880" y="380880"/>
            <a:ext cx="8458200" cy="700956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عمة الثالوث الاقدس الازلي المتساوي في الجوهر معكم يا إخوتي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معه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ماس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ينظر كل واحد منا الى الله بتهيب وخشوع، وليسأله الرحمة والحنا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28600"/>
            <a:ext cx="8915400" cy="808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دعوة الى المناو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كاهن: الأقداس للقديسين بالكمال والنقاوة والقداس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ب واحد قدوس / إبن واحد قدوس / روح واحد قدوس / تبارك اسم الرب / لانه واحد في  السماء وعلى الارض / له المجد الى الابد.  آميـــن.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جميع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هلنا أيها الرب الاله، أن يقدس جسدك القدوس أجسادنا، وينقي دمك الغفور نفوسنا وليكن تناولنا لمغفرة خطايانا وللحياة الجديدة : يا ربنا والهنا لك المجد الى الاب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5943600" y="304920"/>
            <a:ext cx="2971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867280" y="457200"/>
            <a:ext cx="2971800" cy="5160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إليك رفعتُ عينيَّ – يا ساكنَ السموا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Arabic Transparent"/>
              </a:rPr>
              <a:t>كما أن عيونَ العبيدِ إلى أيدي مواليهم</a:t>
            </a:r>
            <a:r>
              <a:rPr b="0" lang="ar-SA" sz="2400" spc="-1" strike="noStrike">
                <a:solidFill>
                  <a:srgbClr val="ffffcc"/>
                </a:solidFill>
                <a:latin typeface="Times New Roman"/>
              </a:rPr>
              <a:t> </a:t>
            </a:r>
            <a:endParaRPr b="0" lang="en-US" sz="2400" spc="-1" strike="noStrike">
              <a:solidFill>
                <a:srgbClr val="000000"/>
              </a:solidFill>
              <a:latin typeface="Times New Roman"/>
            </a:endParaRPr>
          </a:p>
        </p:txBody>
      </p:sp>
      <p:pic>
        <p:nvPicPr>
          <p:cNvPr id="96" name="26214415eDIwaFNgfZ_ph" descr=""/>
          <p:cNvPicPr/>
          <p:nvPr/>
        </p:nvPicPr>
        <p:blipFill>
          <a:blip r:embed="rId1"/>
          <a:stretch/>
        </p:blipFill>
        <p:spPr>
          <a:xfrm>
            <a:off x="0" y="0"/>
            <a:ext cx="564840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2148621aZKcNdfpQu_ph" descr=""/>
          <p:cNvPicPr/>
          <p:nvPr/>
        </p:nvPicPr>
        <p:blipFill>
          <a:blip r:embed="rId1"/>
          <a:stretch/>
        </p:blipFill>
        <p:spPr>
          <a:xfrm>
            <a:off x="0" y="0"/>
            <a:ext cx="5435640" cy="6858000"/>
          </a:xfrm>
          <a:prstGeom prst="rect">
            <a:avLst/>
          </a:prstGeom>
          <a:ln w="0">
            <a:noFill/>
          </a:ln>
        </p:spPr>
      </p:pic>
      <p:sp>
        <p:nvSpPr>
          <p:cNvPr id="98" name=""/>
          <p:cNvSpPr/>
          <p:nvPr/>
        </p:nvSpPr>
        <p:spPr>
          <a:xfrm>
            <a:off x="5410080" y="228600"/>
            <a:ext cx="3505320" cy="823320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ما أن عينيَّ الأَمَةِ إلى سيِّدَتِه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كذلك عيونُنا إلى الربِّ إلهِنا</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Arabic Transparent"/>
              </a:rPr>
              <a:t>حتى يتحنَّنَ علينا – تحنَّنْ علينا يا 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تحنَّنْ علينا فقد طالما امتلأنا هوانا</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99" name="15215561trgpRaNsdy_ph" descr=""/>
          <p:cNvPicPr/>
          <p:nvPr/>
        </p:nvPicPr>
        <p:blipFill>
          <a:blip r:embed="rId1"/>
          <a:stretch/>
        </p:blipFill>
        <p:spPr>
          <a:xfrm>
            <a:off x="0" y="1225440"/>
            <a:ext cx="9144000" cy="5632560"/>
          </a:xfrm>
          <a:prstGeom prst="rect">
            <a:avLst/>
          </a:prstGeom>
          <a:ln w="0">
            <a:noFill/>
          </a:ln>
        </p:spPr>
      </p:pic>
      <p:sp>
        <p:nvSpPr>
          <p:cNvPr id="100" name=""/>
          <p:cNvSpPr/>
          <p:nvPr/>
        </p:nvSpPr>
        <p:spPr>
          <a:xfrm>
            <a:off x="0" y="0"/>
            <a:ext cx="8839080" cy="174708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طالما امتلأت نفوسنا من هُزُءِ المترفين</a:t>
            </a:r>
            <a:endParaRPr b="0" lang="en-US" sz="4000" spc="-1" strike="noStrike">
              <a:solidFill>
                <a:srgbClr val="000000"/>
              </a:solidFill>
              <a:latin typeface="Times New Roman"/>
            </a:endParaRPr>
          </a:p>
          <a:p>
            <a:pPr algn="r" rtl="1">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إهانَةِ المتكبري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23218930oKHvfCUQyf_ph" descr=""/>
          <p:cNvPicPr/>
          <p:nvPr/>
        </p:nvPicPr>
        <p:blipFill>
          <a:blip r:embed="rId2"/>
          <a:stretch/>
        </p:blipFill>
        <p:spPr>
          <a:xfrm>
            <a:off x="2286000" y="0"/>
            <a:ext cx="9753480" cy="6858000"/>
          </a:xfrm>
          <a:prstGeom prst="rect">
            <a:avLst/>
          </a:prstGeom>
          <a:ln w="0">
            <a:noFill/>
          </a:ln>
        </p:spPr>
      </p:pic>
      <p:sp>
        <p:nvSpPr>
          <p:cNvPr id="102" name=""/>
          <p:cNvSpPr/>
          <p:nvPr/>
        </p:nvSpPr>
        <p:spPr>
          <a:xfrm>
            <a:off x="0" y="380880"/>
            <a:ext cx="205740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قلتُ إني أُحافِظ على طُرُقي لِئلا أَخطأُ وأحفَظُ فمي مُلجم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ما دامَ المُنافِقُ أمامي</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26257861dvzHEdJlPs_ph" descr=""/>
          <p:cNvPicPr/>
          <p:nvPr/>
        </p:nvPicPr>
        <p:blipFill>
          <a:blip r:embed="rId1"/>
          <a:stretch/>
        </p:blipFill>
        <p:spPr>
          <a:xfrm>
            <a:off x="0" y="0"/>
            <a:ext cx="9144000" cy="6858000"/>
          </a:xfrm>
          <a:prstGeom prst="rect">
            <a:avLst/>
          </a:prstGeom>
          <a:ln w="0">
            <a:noFill/>
          </a:ln>
        </p:spPr>
      </p:pic>
      <p:sp>
        <p:nvSpPr>
          <p:cNvPr id="104" name=""/>
          <p:cNvSpPr/>
          <p:nvPr/>
        </p:nvSpPr>
        <p:spPr>
          <a:xfrm>
            <a:off x="0" y="380880"/>
            <a:ext cx="8839080" cy="2849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خرجتُ ساكناً صمَتُّ </a:t>
            </a:r>
            <a:r>
              <a:rPr b="1" lang="en-US" sz="4000" spc="-1" strike="noStrike">
                <a:solidFill>
                  <a:srgbClr val="ffffcc"/>
                </a:solidFill>
                <a:latin typeface="Times New Roman"/>
                <a:ea typeface="Arabic Transparent"/>
              </a:rPr>
              <a:t>                </a:t>
            </a:r>
            <a:r>
              <a:rPr b="1" lang="ar-SA" sz="4000" spc="-1" strike="noStrike">
                <a:solidFill>
                  <a:srgbClr val="ffffcc"/>
                </a:solidFill>
                <a:latin typeface="Times New Roman"/>
                <a:cs typeface="Arabic Transparent"/>
              </a:rPr>
              <a:t>بِمعزِلٍ عن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هاجَ وجعي توهَّجَ </a:t>
            </a:r>
            <a:r>
              <a:rPr b="1" lang="en-US" sz="4000" spc="-1" strike="noStrike">
                <a:solidFill>
                  <a:srgbClr val="ffffcc"/>
                </a:solidFill>
                <a:latin typeface="Times New Roman"/>
                <a:ea typeface="Times New Roman"/>
              </a:rPr>
              <a:t>                   </a:t>
            </a:r>
            <a:r>
              <a:rPr b="1" lang="ar-SA" sz="4000" spc="-1" strike="noStrike">
                <a:solidFill>
                  <a:srgbClr val="ffffcc"/>
                </a:solidFill>
                <a:latin typeface="Times New Roman"/>
                <a:cs typeface="Times New Roman"/>
              </a:rPr>
              <a:t>قلبي في داخلي</a:t>
            </a:r>
            <a:r>
              <a:rPr b="0"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26257881GtFSRoCSIN_ph" descr=""/>
          <p:cNvPicPr/>
          <p:nvPr/>
        </p:nvPicPr>
        <p:blipFill>
          <a:blip r:embed="rId1"/>
          <a:stretch/>
        </p:blipFill>
        <p:spPr>
          <a:xfrm>
            <a:off x="0" y="0"/>
            <a:ext cx="6705720" cy="6858000"/>
          </a:xfrm>
          <a:prstGeom prst="rect">
            <a:avLst/>
          </a:prstGeom>
          <a:ln w="0">
            <a:noFill/>
          </a:ln>
        </p:spPr>
      </p:pic>
      <p:sp>
        <p:nvSpPr>
          <p:cNvPr id="106" name=""/>
          <p:cNvSpPr/>
          <p:nvPr/>
        </p:nvSpPr>
        <p:spPr>
          <a:xfrm>
            <a:off x="6934320" y="457200"/>
            <a:ext cx="1752480" cy="7467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Times New Roman"/>
                <a:cs typeface="Times New Roman"/>
              </a:rPr>
              <a:t>في هذيذي اتقدت فيَّ نارٌ فأطلقتَ لِسان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8068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يا يسوع ربنا يا نوراً من نور جئناك وقلبنا بالحب مغمورفاقبل منا حبنا واملأ قلبنا بالنو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هللوي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سيُا وقديشاُ بمديُري نوهرُا  كلي مِنَنْ حشا بيشا وحُوشبا سنيُا</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هبلن دَبدَخيوُت لبُا نعبد عبدا دكينوت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Pr>
              <a:t> يا قدوسا سكناه مدينة النور قدسنا وأبعد عنا شر الأشرار</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وأعطنا أن نعبدك بقلب نقي عبادة الأب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7" name="41940193eoCHDP_ph" descr=""/>
          <p:cNvPicPr/>
          <p:nvPr/>
        </p:nvPicPr>
        <p:blipFill>
          <a:blip r:embed="rId1"/>
          <a:stretch/>
        </p:blipFill>
        <p:spPr>
          <a:xfrm>
            <a:off x="3352680" y="0"/>
            <a:ext cx="7620120" cy="6858000"/>
          </a:xfrm>
          <a:prstGeom prst="rect">
            <a:avLst/>
          </a:prstGeom>
          <a:ln w="0">
            <a:noFill/>
          </a:ln>
        </p:spPr>
      </p:pic>
      <p:sp>
        <p:nvSpPr>
          <p:cNvPr id="108" name=""/>
          <p:cNvSpPr/>
          <p:nvPr/>
        </p:nvSpPr>
        <p:spPr>
          <a:xfrm>
            <a:off x="228600" y="380880"/>
            <a:ext cx="2590920" cy="801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والآنَ ما الذي أرجوهُ أيها السيدُ إنما أنتَ أملي أنقِذني من جميعِ مَعاصيَّ ولا تجعلني للأحمقِ عاراً</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pic>
        <p:nvPicPr>
          <p:cNvPr id="109" name="15324937uKhisKVkwI_ph" descr=""/>
          <p:cNvPicPr/>
          <p:nvPr/>
        </p:nvPicPr>
        <p:blipFill>
          <a:blip r:embed="rId1"/>
          <a:stretch/>
        </p:blipFill>
        <p:spPr>
          <a:xfrm>
            <a:off x="0" y="0"/>
            <a:ext cx="5486400" cy="6858000"/>
          </a:xfrm>
          <a:prstGeom prst="rect">
            <a:avLst/>
          </a:prstGeom>
          <a:ln w="0">
            <a:noFill/>
          </a:ln>
        </p:spPr>
      </p:pic>
      <p:sp>
        <p:nvSpPr>
          <p:cNvPr id="110" name=""/>
          <p:cNvSpPr/>
          <p:nvPr/>
        </p:nvSpPr>
        <p:spPr>
          <a:xfrm>
            <a:off x="5791320" y="380880"/>
            <a:ext cx="2895480" cy="88362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قد خرِستُ لم أفتح فمي لأنكَ أنتَ فعلتَ إصرف عني ضربتَ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فقد فنيتُ من بطشِ يدكَ</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11" name="49165714WSZoyV_ph" descr=""/>
          <p:cNvPicPr/>
          <p:nvPr/>
        </p:nvPicPr>
        <p:blipFill>
          <a:blip r:embed="rId1"/>
          <a:stretch/>
        </p:blipFill>
        <p:spPr>
          <a:xfrm>
            <a:off x="-101520" y="0"/>
            <a:ext cx="6197400" cy="6858000"/>
          </a:xfrm>
          <a:prstGeom prst="rect">
            <a:avLst/>
          </a:prstGeom>
          <a:ln w="0">
            <a:noFill/>
          </a:ln>
        </p:spPr>
      </p:pic>
      <p:sp>
        <p:nvSpPr>
          <p:cNvPr id="112" name=""/>
          <p:cNvSpPr/>
          <p:nvPr/>
        </p:nvSpPr>
        <p:spPr>
          <a:xfrm>
            <a:off x="6324480" y="380880"/>
            <a:ext cx="2819520" cy="9478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إستمع صلاتي يا ربِ وأَصخْ لاستغاثتي ولا تصمُت عن دموعي فإني غريبٌ عندَك ونزيلٌ كجميعِ أبائي</a:t>
            </a:r>
            <a:r>
              <a:rPr b="1" lang="ar-SA" sz="4400" spc="-1" strike="noStrike">
                <a:solidFill>
                  <a:srgbClr val="ffffcc"/>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4" name="495687_ph" descr=""/>
          <p:cNvPicPr/>
          <p:nvPr/>
        </p:nvPicPr>
        <p:blipFill>
          <a:blip r:embed="rId1"/>
          <a:stretch/>
        </p:blipFill>
        <p:spPr>
          <a:xfrm>
            <a:off x="-304920" y="0"/>
            <a:ext cx="9448920" cy="8458200"/>
          </a:xfrm>
          <a:prstGeom prst="rect">
            <a:avLst/>
          </a:prstGeom>
          <a:ln w="0">
            <a:noFill/>
          </a:ln>
        </p:spPr>
      </p:pic>
      <p:sp>
        <p:nvSpPr>
          <p:cNvPr id="11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6324480" y="304920"/>
            <a:ext cx="2819520" cy="8042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Times New Roman"/>
            </a:endParaRPr>
          </a:p>
        </p:txBody>
      </p:sp>
      <p:pic>
        <p:nvPicPr>
          <p:cNvPr id="117" name="23451070cXNiyMwIsJ_ph"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1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9" name="495687_ph" descr=""/>
          <p:cNvPicPr/>
          <p:nvPr/>
        </p:nvPicPr>
        <p:blipFill>
          <a:blip r:embed="rId1"/>
          <a:stretch/>
        </p:blipFill>
        <p:spPr>
          <a:xfrm>
            <a:off x="-304920" y="0"/>
            <a:ext cx="9448920" cy="8458200"/>
          </a:xfrm>
          <a:prstGeom prst="rect">
            <a:avLst/>
          </a:prstGeom>
          <a:ln w="0">
            <a:noFill/>
          </a:ln>
        </p:spPr>
      </p:pic>
      <p:sp>
        <p:nvSpPr>
          <p:cNvPr id="12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1" name="31368130RjrjRHULen_ph" descr=""/>
          <p:cNvPicPr/>
          <p:nvPr/>
        </p:nvPicPr>
        <p:blipFill>
          <a:blip r:embed="rId2"/>
          <a:stretch/>
        </p:blipFill>
        <p:spPr>
          <a:xfrm>
            <a:off x="0" y="0"/>
            <a:ext cx="6400800" cy="6858000"/>
          </a:xfrm>
          <a:prstGeom prst="rect">
            <a:avLst/>
          </a:prstGeom>
          <a:ln w="0">
            <a:noFill/>
          </a:ln>
        </p:spPr>
      </p:pic>
      <p:sp>
        <p:nvSpPr>
          <p:cNvPr id="122"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3"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4" name="495687_ph" descr=""/>
          <p:cNvPicPr/>
          <p:nvPr/>
        </p:nvPicPr>
        <p:blipFill>
          <a:blip r:embed="rId1"/>
          <a:stretch/>
        </p:blipFill>
        <p:spPr>
          <a:xfrm>
            <a:off x="-304920" y="0"/>
            <a:ext cx="9448920" cy="8458200"/>
          </a:xfrm>
          <a:prstGeom prst="rect">
            <a:avLst/>
          </a:prstGeom>
          <a:ln w="0">
            <a:noFill/>
          </a:ln>
        </p:spPr>
      </p:pic>
      <p:sp>
        <p:nvSpPr>
          <p:cNvPr id="125"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26" name="27731970FdghszlVNG_ph" descr=""/>
          <p:cNvPicPr/>
          <p:nvPr/>
        </p:nvPicPr>
        <p:blipFill>
          <a:blip r:embed="rId1"/>
          <a:stretch/>
        </p:blipFill>
        <p:spPr>
          <a:xfrm>
            <a:off x="0" y="0"/>
            <a:ext cx="6572160" cy="6858000"/>
          </a:xfrm>
          <a:prstGeom prst="rect">
            <a:avLst/>
          </a:prstGeom>
          <a:ln w="0">
            <a:noFill/>
          </a:ln>
        </p:spPr>
      </p:pic>
      <p:sp>
        <p:nvSpPr>
          <p:cNvPr id="127"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28"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9" name="495687_ph" descr=""/>
          <p:cNvPicPr/>
          <p:nvPr/>
        </p:nvPicPr>
        <p:blipFill>
          <a:blip r:embed="rId1"/>
          <a:stretch/>
        </p:blipFill>
        <p:spPr>
          <a:xfrm>
            <a:off x="-304920" y="0"/>
            <a:ext cx="9448920" cy="8458200"/>
          </a:xfrm>
          <a:prstGeom prst="rect">
            <a:avLst/>
          </a:prstGeom>
          <a:ln w="0">
            <a:noFill/>
          </a:ln>
        </p:spPr>
      </p:pic>
      <p:sp>
        <p:nvSpPr>
          <p:cNvPr id="130"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0"/>
            <a:ext cx="9372600" cy="9410760"/>
          </a:xfrm>
          <a:prstGeom prst="rect">
            <a:avLst/>
          </a:prstGeom>
          <a:noFill/>
          <a:ln w="0">
            <a:noFill/>
          </a:ln>
        </p:spPr>
        <p:style>
          <a:lnRef idx="0"/>
          <a:fillRef idx="0"/>
          <a:effectRef idx="0"/>
          <a:fontRef idx="minor"/>
        </p:style>
        <p:txBody>
          <a:bodyPr lIns="90000" rIns="90000" tIns="46800" bIns="46800" anchor="t">
            <a:spAutoFit/>
          </a:bodyPr>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كاهن:   المجد للآب والابن والروح القدس من الآن و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محتفل:  يا رجاء المؤمنين به، ومتكل أبراره وقديسيه، ومقوي محبيه، يا من قويت أبانا مارون، فسكن الجبال ودحر الشرير، وأحب سبيل الفضيلة، زاهداً في الحياة الدنيا، ناهجاً طريق التجرد والبتولية. احفظ بصلاته بيعتك المقدسة المحتفلة بتذكاره السعيد، وادفع عنها الغضب. أهلنا للشركة في صلواته، واقتفاء آثاره، والسير في خطاه، لنحيا أنقياء جميع أيام حياتنا، وندخل معه في مكلوته، ونمجدك، أيها الآب والابن والروح القدس، إلى الأبد.</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rPr>
              <a:t>الشعب: آمين</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كاهن: السلام للبيعة ولبني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0"/>
            <a:ext cx="9144000" cy="92430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ضاً وأيضاً،  بك يا رب نعترف والتسابيح إليك نرفع، لانك أطعمتنا جسدك، ودمك الحي سقيتنا. يا محب البشر ارحمنا. </a:t>
            </a:r>
            <a:endParaRPr b="0" lang="en-US" sz="3200" spc="-1" strike="noStrike">
              <a:solidFill>
                <a:srgbClr val="000000"/>
              </a:solidFill>
              <a:latin typeface="Times New Roman"/>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رحمنا،  يارب.يا حنون، يا رحوم. يا محب البشر.  ارحمن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قد أكلت جسد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قد أكلـــت جســدك المقـــدس، لا تأكلنـي النــا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عينـــــاي التـــى مســــت به رحمتك تبصر،</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م أكــــن ههنــا غريبـــاً عــــــن أسر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فلا تجعلنـــي خارجـــاً عـــن جــــــوارك،</a:t>
            </a:r>
            <a:endParaRPr b="0" lang="en-US" sz="3200" spc="-1" strike="noStrike">
              <a:solidFill>
                <a:srgbClr val="000000"/>
              </a:solidFill>
              <a:latin typeface="Times New Roman"/>
            </a:endParaRPr>
          </a:p>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لا توقفنــي مع الجــــدا في الجانــــب الأيســر،                                                                                                                                                                      </a:t>
            </a:r>
            <a:endParaRPr b="0" lang="en-US" sz="3200" spc="-1" strike="noStrike">
              <a:solidFill>
                <a:srgbClr val="000000"/>
              </a:solidFill>
              <a:latin typeface="Times New Roman"/>
            </a:endParaRPr>
          </a:p>
          <a:p>
            <a:pPr algn="just"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Simplified Arabic"/>
              </a:rPr>
              <a:t>	</a:t>
            </a:r>
            <a:r>
              <a:rPr b="1" lang="en-US"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بل مع الخراف آل اليمين أسبحك مدى الأدها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8188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Simplified Arabic"/>
              </a:rPr>
              <a:t>الشكر  و الختام</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جلوس</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نشكرك أيها الرب الاله، ونبتهل اليك أن تكون هذه الشركة الالهية لمغفرة الخطايا ولمجد اسمك القدوس وابنك الوحيد وروحك القدوس، الآن والى الابد.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آميـــــن.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السلام لجميعكم.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شعب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ومع روحك.</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كاهن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رب إله خلاصنا، يا من صرت إنسانا لأجلنا، وخلصتنا بتقديم ذاتك ذبيحة عنا، نجنا من الهلاك الابدي، واجعلنا هياكل لاسمك القدوس، لأننا شعبك وميراثك، وبك يليق المجد والوقار، مع أبيك وروحك القدوس، الآن والى الاب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91440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قوف</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إذهبوا  بسلام،  يا  أخوتي  وأحبائي، إذ  نستودعكم  نعمة  ورحمة  الثالوث الاقدس  الممجد، مع  الزاد  والبركات  التي  نلتموها من  مذبح  الرب  الغافر. و لتصحبكم بركة الثالوث الاقدس  : الآب + والابن + و الروح  القدس + الاله الواحد. له المجد الى الا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شع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ـــــــ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11099056GfuHbDJfYF_ph" descr=""/>
          <p:cNvPicPr/>
          <p:nvPr/>
        </p:nvPicPr>
        <p:blipFill>
          <a:blip r:embed="rId2"/>
          <a:stretch/>
        </p:blipFill>
        <p:spPr>
          <a:xfrm>
            <a:off x="0" y="-380880"/>
            <a:ext cx="5867280" cy="7467480"/>
          </a:xfrm>
          <a:prstGeom prst="rect">
            <a:avLst/>
          </a:prstGeom>
          <a:ln w="0">
            <a:noFill/>
          </a:ln>
        </p:spPr>
      </p:pic>
      <p:sp>
        <p:nvSpPr>
          <p:cNvPr id="135" name=""/>
          <p:cNvSpPr/>
          <p:nvPr/>
        </p:nvSpPr>
        <p:spPr>
          <a:xfrm>
            <a:off x="5791320" y="228600"/>
            <a:ext cx="3124080" cy="86778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عساكر السما محيطة معنا بمائدة الم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زيح أسرار  الحمل الذ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قدامنا يذب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فلنتقدم ونتناوله عن إثمنا يصفح</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04920" y="0"/>
            <a:ext cx="8610480" cy="4483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كاهن:  وداعا يا مذبح الله، وليكن لي القربان الذي تناولته منك، لمغفرة الذنوب، وترك الخطايا، وللوقوف أمام منبر المسيح بلا خجل ولا وجل. ولا أدري إذا كنت سأعود أقرب عليك قربانا آخر أم لا! اللهم! أحرسني، واحفظ كنيستك المقدسة سبيلا للهداية والخلاص</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4572000" y="0"/>
            <a:ext cx="4572000" cy="834768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مــار مــارون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صــفي الرحيــ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حمى المشرد والسقيم</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ق شـعبك الثـ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ولبنـانـك</a:t>
            </a:r>
            <a:r>
              <a:rPr b="1" lang="en-US" sz="4000" spc="-1" strike="noStrike">
                <a:solidFill>
                  <a:srgbClr val="ffffff"/>
                </a:solidFill>
                <a:latin typeface="Times New Roman"/>
                <a:ea typeface="Simplified Arabic"/>
              </a:rPr>
              <a:t> </a:t>
            </a:r>
            <a:r>
              <a:rPr b="1" lang="ar-SA" sz="4000" spc="-1" strike="noStrike">
                <a:solidFill>
                  <a:srgbClr val="ffffff"/>
                </a:solidFill>
                <a:latin typeface="Times New Roman"/>
                <a:cs typeface="Simplified Arabic"/>
              </a:rPr>
              <a:t>الدمار</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إسأل لنا عـون </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رب الفـــداء</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لكي نكون بني </a:t>
            </a:r>
            <a:r>
              <a:rPr b="1" lang="ar-SA" sz="4000" spc="-1" strike="noStrike">
                <a:solidFill>
                  <a:srgbClr val="ffffff"/>
                </a:solidFill>
                <a:latin typeface="Times New Roman"/>
                <a:cs typeface="Times New Roman"/>
              </a:rPr>
              <a:t>السماء</a:t>
            </a:r>
            <a:r>
              <a:rPr b="0" lang="ar-SA" sz="4000" spc="-1" strike="noStrike">
                <a:solidFill>
                  <a:srgbClr val="ffffff"/>
                </a:solidFill>
                <a:latin typeface="Times New Roman"/>
                <a:ea typeface="Times New Roman"/>
              </a:rPr>
              <a:t> </a:t>
            </a:r>
            <a:endParaRPr b="0" lang="en-US" sz="4000" spc="-1" strike="noStrike">
              <a:solidFill>
                <a:srgbClr val="000000"/>
              </a:solidFill>
              <a:latin typeface="Times New Roman"/>
            </a:endParaRPr>
          </a:p>
        </p:txBody>
      </p:sp>
      <p:pic>
        <p:nvPicPr>
          <p:cNvPr id="138" name="StMarounpic" descr=""/>
          <p:cNvPicPr/>
          <p:nvPr/>
        </p:nvPicPr>
        <p:blipFill>
          <a:blip r:embed="rId2"/>
          <a:stretch/>
        </p:blipFill>
        <p:spPr>
          <a:xfrm>
            <a:off x="-468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0" y="0"/>
            <a:ext cx="4572000" cy="99918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قصدْنا إليك بقلب و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فينا سُقامٌ ونزفُ جُرو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ى اسْمك نَدْعو حَنان المس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أنت المُشفَعُ وهو السميحْ</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زمانك كان زمانَ اضط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عيثُ بقُطعان رب العب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رْت على الشرِّ أقسى جهاد:</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كان الصيامُ، الصلاةُ العتاد</a:t>
            </a:r>
            <a:r>
              <a:rPr b="1" lang="ar-SA" sz="3600" spc="-1" strike="noStrike">
                <a:solidFill>
                  <a:srgbClr val="ffffff"/>
                </a:solidFill>
                <a:latin typeface="Times New Roman"/>
                <a:ea typeface="Times New Roman"/>
              </a:rPr>
              <a:t>!</a:t>
            </a:r>
            <a:r>
              <a:rPr b="0" lang="ar-SA" sz="3600" spc="-1" strike="noStrike">
                <a:solidFill>
                  <a:srgbClr val="ffffff"/>
                </a:solidFill>
                <a:latin typeface="Times New Roman"/>
                <a:ea typeface="Times New Roman"/>
              </a:rPr>
              <a:t> </a:t>
            </a:r>
            <a:endParaRPr b="0" lang="en-US" sz="3600" spc="-1" strike="noStrike">
              <a:solidFill>
                <a:srgbClr val="000000"/>
              </a:solidFill>
              <a:latin typeface="Times New Roman"/>
            </a:endParaRPr>
          </a:p>
        </p:txBody>
      </p:sp>
      <p:pic>
        <p:nvPicPr>
          <p:cNvPr id="140" name="StMarounpic" descr=""/>
          <p:cNvPicPr/>
          <p:nvPr/>
        </p:nvPicPr>
        <p:blipFill>
          <a:blip r:embed="rId2"/>
          <a:stretch/>
        </p:blipFill>
        <p:spPr>
          <a:xfrm>
            <a:off x="-144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876920" y="0"/>
            <a:ext cx="4267080" cy="1077120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مَهَدْتَ في الوعْرِ للمؤمن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طريقَ حياةٍ وحقٍ مُب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جالِ العقيدةِ دُنيا ود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هُداة الطَّريقِ القويم الأمي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لَفَّت إلينا، أبانا الحَ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نا يُصبُ لَهيبُ الجُن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تشفَّع لشعبكَ حتى يكونْ</a:t>
            </a:r>
            <a:endParaRPr b="0" lang="en-US" sz="3600" spc="-1" strike="noStrike">
              <a:solidFill>
                <a:srgbClr val="000000"/>
              </a:solidFill>
              <a:latin typeface="Times New Roman"/>
            </a:endParaRPr>
          </a:p>
          <a:p>
            <a:pPr algn="ct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شهيداً لإيمانه. لا يَخون!</a:t>
            </a:r>
            <a:endParaRPr b="0" lang="en-US" sz="3600" spc="-1" strike="noStrike">
              <a:solidFill>
                <a:srgbClr val="000000"/>
              </a:solidFill>
              <a:latin typeface="Times New Roman"/>
            </a:endParaRPr>
          </a:p>
        </p:txBody>
      </p:sp>
      <p:pic>
        <p:nvPicPr>
          <p:cNvPr id="142" name="StMarounpic" descr=""/>
          <p:cNvPicPr/>
          <p:nvPr/>
        </p:nvPicPr>
        <p:blipFill>
          <a:blip r:embed="rId2"/>
          <a:stretch/>
        </p:blipFill>
        <p:spPr>
          <a:xfrm>
            <a:off x="22320" y="0"/>
            <a:ext cx="461304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4572000" y="304920"/>
            <a:ext cx="426708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كاهن:  بشفاعة أبينا القديس مارون، فليبارككم الثالوث الأقدس الآب+ والإ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الشعب : آم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4" name="StMarounpic" descr=""/>
          <p:cNvPicPr/>
          <p:nvPr/>
        </p:nvPicPr>
        <p:blipFill>
          <a:blip r:embed="rId2"/>
          <a:stretch/>
        </p:blipFill>
        <p:spPr>
          <a:xfrm>
            <a:off x="0" y="0"/>
            <a:ext cx="46116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33873085dORIvq_ph" descr=""/>
          <p:cNvPicPr/>
          <p:nvPr/>
        </p:nvPicPr>
        <p:blipFill>
          <a:blip r:embed="rId1"/>
          <a:stretch/>
        </p:blipFill>
        <p:spPr>
          <a:xfrm>
            <a:off x="0" y="0"/>
            <a:ext cx="9144000" cy="6858000"/>
          </a:xfrm>
          <a:prstGeom prst="rect">
            <a:avLst/>
          </a:prstGeom>
          <a:ln w="0">
            <a:noFill/>
          </a:ln>
        </p:spPr>
      </p:pic>
      <p:sp>
        <p:nvSpPr>
          <p:cNvPr id="146"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380880" y="6248520"/>
            <a:ext cx="304920" cy="304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 name=""/>
          <p:cNvSpPr/>
          <p:nvPr/>
        </p:nvSpPr>
        <p:spPr>
          <a:xfrm>
            <a:off x="4495680" y="0"/>
            <a:ext cx="4648320" cy="831672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ه في العلـىوعلى الأرض الســـلام</a:t>
            </a:r>
            <a:endParaRPr b="0" lang="en-US" sz="3400" spc="-1" strike="noStrike">
              <a:solidFill>
                <a:srgbClr val="000000"/>
              </a:solidFill>
              <a:latin typeface="Times New Roman"/>
            </a:endParaRPr>
          </a:p>
          <a:p>
            <a:pPr algn="just" rtl="1">
              <a:lnSpc>
                <a:spcPct val="6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endParaRPr b="0" lang="en-US" sz="3400" spc="-1" strike="noStrike">
              <a:solidFill>
                <a:srgbClr val="000000"/>
              </a:solidFill>
              <a:latin typeface="Times New Roman"/>
            </a:endParaRPr>
          </a:p>
          <a:p>
            <a:pPr algn="just" rtl="1">
              <a:lnSpc>
                <a:spcPct val="8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سبحوا لله يا كل الشعوب  هللوا لله يا كل الأمم</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فقد عَظُمت رحمته علينا وصدقه باقٍ أبدا</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المجد للآب والابن الروح القدس من الآن وإلى الأبد</a:t>
            </a:r>
            <a:endParaRPr b="0" lang="en-US" sz="34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Simplified Arabic"/>
              </a:rPr>
              <a:t>والرجاء الصالــح لبنـــي البشـــر</a:t>
            </a: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pic>
        <p:nvPicPr>
          <p:cNvPr id="48" name="15215564EUYNjVXDay_ph" descr=""/>
          <p:cNvPicPr/>
          <p:nvPr/>
        </p:nvPicPr>
        <p:blipFill>
          <a:blip r:embed="rId1"/>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34531821EAeikh_ph" descr=""/>
          <p:cNvPicPr/>
          <p:nvPr/>
        </p:nvPicPr>
        <p:blipFill>
          <a:blip r:embed="rId2"/>
          <a:stretch/>
        </p:blipFill>
        <p:spPr>
          <a:xfrm>
            <a:off x="2895480" y="0"/>
            <a:ext cx="8305920" cy="6858000"/>
          </a:xfrm>
          <a:prstGeom prst="rect">
            <a:avLst/>
          </a:prstGeom>
          <a:ln w="0">
            <a:noFill/>
          </a:ln>
        </p:spPr>
      </p:pic>
      <p:sp>
        <p:nvSpPr>
          <p:cNvPr id="149" name=""/>
          <p:cNvSpPr/>
          <p:nvPr/>
        </p:nvSpPr>
        <p:spPr>
          <a:xfrm>
            <a:off x="0" y="380880"/>
            <a:ext cx="2590920" cy="7598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Arabic Transparent"/>
              </a:rPr>
              <a:t>سبحان اللي محلّيكي  وفوق الكل معلّيك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Times New Roman"/>
              </a:rPr>
              <a:t>اختارِك إنتِ منقّيك   أجمل زهرة بالبست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33873085dORIvq_ph" descr=""/>
          <p:cNvPicPr/>
          <p:nvPr/>
        </p:nvPicPr>
        <p:blipFill>
          <a:blip r:embed="rId1"/>
          <a:stretch/>
        </p:blipFill>
        <p:spPr>
          <a:xfrm>
            <a:off x="0" y="0"/>
            <a:ext cx="9144000" cy="6858000"/>
          </a:xfrm>
          <a:prstGeom prst="rect">
            <a:avLst/>
          </a:prstGeom>
          <a:ln w="0">
            <a:noFill/>
          </a:ln>
        </p:spPr>
      </p:pic>
      <p:sp>
        <p:nvSpPr>
          <p:cNvPr id="151"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26598561POJyQSqbkK_ph" descr=""/>
          <p:cNvPicPr/>
          <p:nvPr/>
        </p:nvPicPr>
        <p:blipFill>
          <a:blip r:embed="rId1"/>
          <a:stretch/>
        </p:blipFill>
        <p:spPr>
          <a:xfrm>
            <a:off x="0" y="0"/>
            <a:ext cx="9144000" cy="6858000"/>
          </a:xfrm>
          <a:prstGeom prst="rect">
            <a:avLst/>
          </a:prstGeom>
          <a:ln w="0">
            <a:noFill/>
          </a:ln>
        </p:spPr>
      </p:pic>
      <p:sp>
        <p:nvSpPr>
          <p:cNvPr id="153" name=""/>
          <p:cNvSpPr/>
          <p:nvPr/>
        </p:nvSpPr>
        <p:spPr>
          <a:xfrm>
            <a:off x="914400" y="0"/>
            <a:ext cx="8001000" cy="4093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Arabic Transparent"/>
              </a:rPr>
              <a:t>اختارك تاتكوني إمو   من جمسِك أخد جسمو</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من دمِّك أخد دمّو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وحفِظتي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99"/>
                </a:solidFill>
                <a:latin typeface="Times New Roman"/>
                <a:cs typeface="Times New Roman"/>
              </a:rPr>
              <a:t>سِرّو بإيمان</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33873085dORIvq_ph" descr=""/>
          <p:cNvPicPr/>
          <p:nvPr/>
        </p:nvPicPr>
        <p:blipFill>
          <a:blip r:embed="rId1"/>
          <a:stretch/>
        </p:blipFill>
        <p:spPr>
          <a:xfrm>
            <a:off x="0" y="0"/>
            <a:ext cx="9144000" cy="6858000"/>
          </a:xfrm>
          <a:prstGeom prst="rect">
            <a:avLst/>
          </a:prstGeom>
          <a:ln w="0">
            <a:noFill/>
          </a:ln>
        </p:spPr>
      </p:pic>
      <p:sp>
        <p:nvSpPr>
          <p:cNvPr id="155"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2322868SZKGzOipOS_ph" descr=""/>
          <p:cNvPicPr/>
          <p:nvPr/>
        </p:nvPicPr>
        <p:blipFill>
          <a:blip r:embed="rId1"/>
          <a:stretch/>
        </p:blipFill>
        <p:spPr>
          <a:xfrm>
            <a:off x="0" y="0"/>
            <a:ext cx="11277720" cy="6858000"/>
          </a:xfrm>
          <a:prstGeom prst="rect">
            <a:avLst/>
          </a:prstGeom>
          <a:ln w="0">
            <a:noFill/>
          </a:ln>
        </p:spPr>
      </p:pic>
      <p:sp>
        <p:nvSpPr>
          <p:cNvPr id="157" name=""/>
          <p:cNvSpPr/>
          <p:nvPr/>
        </p:nvSpPr>
        <p:spPr>
          <a:xfrm>
            <a:off x="4952880" y="4022640"/>
            <a:ext cx="3810240" cy="41846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Arabic Transparent"/>
              </a:rPr>
              <a:t>إنتي إِلنا الخميري  ووجودك معنا دخيري</a:t>
            </a:r>
            <a:endParaRPr b="0" lang="en-US" sz="40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مريم يا نعمي كبيري  وحدِك بتعَزِّي الحزن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33873085dORIvq_ph" descr=""/>
          <p:cNvPicPr/>
          <p:nvPr/>
        </p:nvPicPr>
        <p:blipFill>
          <a:blip r:embed="rId1"/>
          <a:stretch/>
        </p:blipFill>
        <p:spPr>
          <a:xfrm>
            <a:off x="0" y="0"/>
            <a:ext cx="9144000" cy="6858000"/>
          </a:xfrm>
          <a:prstGeom prst="rect">
            <a:avLst/>
          </a:prstGeom>
          <a:ln w="0">
            <a:noFill/>
          </a:ln>
        </p:spPr>
      </p:pic>
      <p:sp>
        <p:nvSpPr>
          <p:cNvPr id="159" name=""/>
          <p:cNvSpPr/>
          <p:nvPr/>
        </p:nvSpPr>
        <p:spPr>
          <a:xfrm>
            <a:off x="457200" y="304920"/>
            <a:ext cx="8458200" cy="3357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يا مريم يا أغلى إم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Arabic Transparent"/>
              </a:rPr>
              <a:t>سبحان الرّب الحنّا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اختارِك شمس بليل الهمّ  </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Times New Roman"/>
                <a:cs typeface="Times New Roman"/>
              </a:rPr>
              <a:t>تاتكوني إم الإنسان</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6986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   لمجد الثالوث الأقدس وإكرام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لنرفعن التسبيح والمجد والإكرام إلى الذي هبط من مساكن أبيه العالية إلى الأعماق السحيقة. إلى الذي اتضع ولبس طبعنا وأقام بيننا، ليرفعنا إليه ويلبسنا طبعه، إلى الذي دعا صفيه مارون ورفعه إليه وأقامه معه وألبسه حلة المجد. الصالح الذي له المجد والإكرام في هذا العيد وكل أيام حياتنا إلى الأبد.</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شعب:   آمي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97297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هن:</a:t>
            </a:r>
            <a:r>
              <a:rPr b="1" lang="ar-SA" sz="3600" spc="-1" strike="noStrike">
                <a:solidFill>
                  <a:srgbClr val="000000"/>
                </a:solidFill>
                <a:latin typeface="Times New Roman"/>
              </a:rPr>
              <a:t>	</a:t>
            </a:r>
            <a:r>
              <a:rPr b="1" lang="ar-SA" sz="3600" spc="-1" strike="noStrike">
                <a:solidFill>
                  <a:srgbClr val="000000"/>
                </a:solidFill>
                <a:latin typeface="Times New Roman"/>
              </a:rPr>
              <a:t>أي لسان يقدر أن يوفيك المديح، يا أبانا مارون العجيب! بكلمات من فيك أتيت الآيات العظام فشابهت سيدك متقن البرايا بكلمة من فيه. هو سماك ”مارون“، السيد الصغير تصغيرا لإسمه ”مار“ السيد، لأنه هو الكبير وحده والسيد صانع المعجزات في الأرض وفي السماء وأنت في الأرض سيدٌ صغيرٌ بقدرته تصنع الآيات.</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دعاك عل جبل قورش، فجعلته هيكلا لله.</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a:t>
            </a:r>
            <a:r>
              <a:rPr b="1" lang="en-US" sz="3600" spc="-1" strike="noStrike">
                <a:solidFill>
                  <a:srgbClr val="000000"/>
                </a:solidFill>
                <a:latin typeface="Times New Roman"/>
              </a:rPr>
              <a:t> </a:t>
            </a:r>
            <a:r>
              <a:rPr b="1" lang="ar-SA" sz="3600" spc="-1" strike="noStrike">
                <a:solidFill>
                  <a:srgbClr val="000000"/>
                </a:solidFill>
                <a:latin typeface="Times New Roman"/>
              </a:rPr>
              <a:t>الذي جعلك تزرع في كل تلة ومنحنى سبيل ماء، من ذاك الجبل الهيكل، قداسة وصلاة وابتها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تبارك الذي عبدته في ذلك الجبل، تسبحه ليل نهار، على شفتيك مدى النهار صلاة، وفي عقلك  تأمل، وفي قلبك محب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05:45:50Z</dcterms:created>
  <dc:creator>SUZANNE.MD</dc:creator>
  <dc:description/>
  <dc:language>en-US</dc:language>
  <cp:lastModifiedBy>USER</cp:lastModifiedBy>
  <dcterms:modified xsi:type="dcterms:W3CDTF">2003-02-06T20:03:36Z</dcterms:modified>
  <cp:revision>14</cp:revision>
  <dc:subject/>
  <dc:title>PowerPoint Presentation</dc:title>
</cp:coreProperties>
</file>