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3C3-B9B6-46B5-8C94-46FD2981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D97-7151-41C5-94B3-91581344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AFB-5F89-4586-B1C6-DAA4541B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2A6-AF63-4E77-A256-FB2FC3E1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99D-D8E6-41EE-A8E2-54985142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70D-867F-44D3-8FC5-2E8B2CDE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583-8C21-4128-9010-483ACA70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440-89CF-4797-8D6D-2ECFBF20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C7A-60D9-42FB-B153-F979FF68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6B4-DB7B-49C9-A882-201DBDC4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FFF-346E-4AAF-917B-7B686DD8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EF2-AE6A-448F-B17D-E1FF9E73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A49E-1502-4B37-BA8D-34ED94EB3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ff"/>
                </a:solidFill>
                <a:latin typeface="Arial"/>
                <a:cs typeface="????Boutros Rokaa"/>
              </a:rPr>
              <a:t>طلبة الميلاد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ألكلمة قد صار جسداً يا مؤمن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بنصفِ الليل اتّلد ربُّ السماوي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جُرمُ آدم قد مُحي بدمع الطفلِ السخ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داود قد تهلّل بوارثه الأ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يرودوس واليهود ما لكم مضطرب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وافى المجوسُ إليه وقدّموا له القراب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هتَفَتِ الملائكة بالرعاة الراق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حُبُّ الربِّ بادٍ نحو السُّفليّ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طوبى لنا فإننا فُقنا العُلْويّ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يا مريم حظيتِ بالأجمل في البن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كفاك به فخراً يا فخرَ العال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لمغارة بيت لحم قد أتى بالساج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ميخا قد تنبّا ولاحَ الحقُّ المب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نجم يعقوب قد بدا وأنار المظلم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سرُّ الخلاص ابتدا وتمَّ قولُ النّبيّ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عجيب يا إلهنا يهتفون منذهل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في المذود اضّجعت كأحقر المساك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صرتَ إنساناً لكي تفدي البشري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قدِّموا له المجد يا جميع المولود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رتِّلوا بالتهليل وحسن نظم التلح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53172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ffff"/>
                </a:solidFill>
                <a:uFillTx/>
                <a:latin typeface="Arial"/>
                <a:cs typeface="????Boutros Rokaa"/>
              </a:rPr>
              <a:t>بميلادك العجيب خلِصنا أجمعين</a:t>
            </a:r>
            <a:br>
              <a:rPr sz="6600"/>
            </a:b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شمسُنا قد أشرقت فلنهتف قائلين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khbar MT"/>
              </a:rPr>
              <a:t>تمَّ الخلاصُ والوعد فنشكره كل حين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2:12:59Z</dcterms:created>
  <dc:creator>Charbel Azar</dc:creator>
  <dc:description/>
  <dc:language>en-US</dc:language>
  <cp:lastModifiedBy>Charbel Azar</cp:lastModifiedBy>
  <dcterms:modified xsi:type="dcterms:W3CDTF">2002-12-16T12:28:13Z</dcterms:modified>
  <cp:revision>3</cp:revision>
  <dc:subject/>
  <dc:title>Slide 1</dc:title>
</cp:coreProperties>
</file>