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815-AA6A-4CFE-857F-D2C3757B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1C7-CD30-4BC8-812E-A7BEF1B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830-46EA-46A6-B068-7755DA76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359-AED3-44C8-909C-4C860A68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7FA-AAB9-4424-B230-E9FFE8C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5C7-95DD-4818-AC99-C157C42C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4E0-9E6B-4C3B-9CF2-67EC8AF3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84C-79CC-476C-A5FE-B88B267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3B8-B821-4862-B64F-8BF0C31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76E-9E07-40F1-8601-FBC2B46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D7A-5489-4CC8-9EA7-73DC0AD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20B-A0F4-4AD3-AA26-8819F19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8A4A-CF76-4A43-829D-CF6C1C81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ميلاد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لكلمة قد صار جسداً يا مؤمن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نصفِ الليل اتّلد ربُّ السماو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جُرمُ آدم قد مُحي بدمع الطفلِ السخ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داود قد تهلّل بوارثه الأ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يرودوس واليهود ما لكم مضطرب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فى المجوسُ إليه وقدّموا له القرا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تَفَتِ الملائكة بالرعاة الراق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ُبُّ الربِّ بادٍ نحو السُّفل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طوبى لنا فإننا فُقنا العُلْو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مريم حظيتِ بالأجمل في البن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كفاك به فخراً يا فخرَ العا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مغارة بيت لحم قد أتى بالساج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يخا قد تنبّا ولاحَ الحقُّ الم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نجم يعقوب قد بدا وأنار المظ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سرُّ الخلاص ابتدا وتمَّ قولُ النّبيّ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جيب يا إلهنا يهتفون منذه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ي المذود اضّجعت كأحقر المساك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صرتَ إنساناً لكي تفدي البشر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موا له المجد يا جميع المولو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رتِّلوا بالتهليل وحسن نظم التل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شمسُنا قد أشرقت فلنهتف قائ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مَّ الخلاصُ والوعد فنشكره كل 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12:59Z</dcterms:created>
  <dc:creator>Charbel Azar</dc:creator>
  <dc:description/>
  <dc:language>en-US</dc:language>
  <cp:lastModifiedBy>Charbel Azar</cp:lastModifiedBy>
  <dcterms:modified xsi:type="dcterms:W3CDTF">2002-12-16T12:28:13Z</dcterms:modified>
  <cp:revision>3</cp:revision>
  <dc:subject/>
  <dc:title>Slide 1</dc:title>
</cp:coreProperties>
</file>