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34.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7.jpeg" ContentType="image/jpeg"/>
  <Override PartName="/ppt/media/image28.png" ContentType="image/png"/>
  <Override PartName="/ppt/media/image13.jpeg" ContentType="image/jpeg"/>
  <Override PartName="/ppt/media/image11.jpeg" ContentType="image/jpeg"/>
  <Override PartName="/ppt/media/image9.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0.png" ContentType="image/png"/>
  <Override PartName="/ppt/media/image3.jpeg" ContentType="image/jpeg"/>
  <Override PartName="/ppt/media/image2.jpeg" ContentType="image/jpeg"/>
  <Override PartName="/ppt/media/image23.jpeg" ContentType="image/jpeg"/>
  <Override PartName="/ppt/media/image1.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CC006-58AF-4C12-A8BE-1728A702C7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A3D79-2324-40BB-993D-44F20ADEA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EAC254-591E-4B6E-BC2F-9F78E9F6BB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DD715D-4784-4CA8-ACD4-7C64C7AEA2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EBC39-4CFC-4FB1-910B-9D28E6E35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8CDBC-451E-4BC5-AE2B-E01B7F27C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0655C-096E-4E06-88A8-20A8987C3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4E1E4-9AC3-44BB-A1A3-A3A0A50DE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2951D-7DCF-4BCE-9FA5-6A9DAD4B1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7D3E0-8EE1-4A50-80CD-B3004D737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DAB71-FE4A-4154-846F-3EE8DFEE7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43609-9CF3-4A38-A3CA-E6E67CF1F3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94F5C-8558-4BB0-855F-0A124773A2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9994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شوبحُ لرحميك مشيحُ مَلكنْ بر آلهُ سْغيد من خُولُ</a:t>
            </a:r>
            <a:endParaRPr b="0" lang="en-US" sz="36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آتو ملكن وات آلُهن ريش دحيين وسَبْرَن ربُ</a:t>
            </a:r>
            <a:endParaRPr b="0" lang="en-US" sz="36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المجد لمراحمك أيها المسيح ملكنا وابن الله المعبود من الجميع</a:t>
            </a:r>
            <a:r>
              <a:rPr b="1" lang="en-US" sz="3600" spc="-1" strike="noStrike">
                <a:solidFill>
                  <a:srgbClr val="000000"/>
                </a:solidFill>
                <a:latin typeface="Simplified Arabic"/>
              </a:rPr>
              <a:t> </a:t>
            </a:r>
            <a:r>
              <a:rPr b="1" lang="ar-SA" sz="3600" spc="-1" strike="noStrike">
                <a:solidFill>
                  <a:srgbClr val="000000"/>
                </a:solidFill>
                <a:latin typeface="Simplified Arabic"/>
              </a:rPr>
              <a:t>أنت ملكنا وأنت إلهنا رأس حياتنا ورجاؤنا الكبير</a:t>
            </a:r>
            <a:endParaRPr b="0" lang="en-US" sz="36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 </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شررْ ترْعه حسنْ مُوخله رمرم قرنه وريم ريشه</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برخْ لبْنه ونطرْ يلْده شاينْ كُهنه وسْحوفْ سنه</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ثبت أبوابها حصن مغاليقها عظم شأنها وارفع رأسها</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بارك أبناءها واحفظ أولادها أمن كهنتها وحطم أعداءها</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0" y="0"/>
            <a:ext cx="9144000" cy="9714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تبارك الذي نشر في الكون آياتك، أطيب من الطيب، وأشهى من الميرون، وأذكى من الريحان، فتألب حولك المؤمنون من أنحاء قورش، وأرجاء لبنان، وآفاق سوريا وكيليكيا، يتتلمذون لك هناك في الجبل العالي على القمم الساجدة، يدعون باسمك، يقتدون بك، ويسبحون إله المحبة، يتغنون بآيات الفداء.</a:t>
            </a:r>
            <a:endParaRPr b="0" lang="en-US" sz="3200" spc="-1" strike="noStrike">
              <a:solidFill>
                <a:srgbClr val="000000"/>
              </a:solidFill>
              <a:latin typeface="Times New Roman"/>
            </a:endParaRPr>
          </a:p>
          <a:p>
            <a:pPr algn="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إليك يا رب ، نضرع على هذا البخور: بمحبتك لآبائنا، وبصلاة صفيك مارون، إملأ فراغ حياتنا بملْ حياتك، أعطنا أن نرى أنفسنا فيك يا أكرم ينبوع وأصفى. إرفع شأن بيعتك، رد إليك الأبعدين واحفظ بصليبك الأقربين. إكسر شوكة الخطيئة لاش من بيننا الحروب وانزع الانقسام والخصام. وطد الأمن والسلام في المسكونة قاطبة. وليملك حبك بين أبناء كنيستك. ولتعط الأرض غلتها فيشبع من خيرها البائسون. وليجد الراحة الأبدية أمواتنا المؤمنون ومعهم نرفع المجد والحمد إليك وإلى أبيك وروحك القدوس، إلى الأبد.</a:t>
            </a:r>
            <a:endParaRPr b="0" lang="en-US" sz="3200" spc="-1" strike="noStrike">
              <a:solidFill>
                <a:srgbClr val="000000"/>
              </a:solidFill>
              <a:latin typeface="Times New Roman"/>
            </a:endParaRPr>
          </a:p>
          <a:p>
            <a:pPr algn="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شعب:  آمي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4191120" y="0"/>
            <a:ext cx="4647960" cy="946836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99"/>
                </a:solidFill>
                <a:latin typeface="Times New Roman"/>
              </a:rPr>
              <a:t>بسمةُ الزُهد على الوجه النحيل</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99"/>
                </a:solidFill>
                <a:latin typeface="Times New Roman"/>
              </a:rPr>
              <a:t>بسمة السيف على الكُفر سليل</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99"/>
                </a:solidFill>
                <a:latin typeface="Times New Roman"/>
              </a:rPr>
              <a:t>كاشِف الليل لمَن ضلّ السبيل</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99"/>
                </a:solidFill>
                <a:latin typeface="Times New Roman"/>
              </a:rPr>
              <a:t>ماسحُ العلة من قلب العليل</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99"/>
                </a:solidFill>
                <a:latin typeface="Times New Roman"/>
              </a:rPr>
              <a:t>قلبك الصافي سكيب</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99"/>
                </a:solidFill>
                <a:latin typeface="Times New Roman"/>
              </a:rPr>
              <a:t>من جراحات الفداء</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99"/>
                </a:solidFill>
                <a:latin typeface="Times New Roman"/>
              </a:rPr>
              <a:t>صيّر اليبس رطيب</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99"/>
                </a:solidFill>
                <a:latin typeface="Times New Roman"/>
              </a:rPr>
              <a:t>من ينابيع العطاء</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99"/>
                </a:solidFill>
                <a:latin typeface="Times New Roman"/>
              </a:rPr>
              <a:t>إدّرك لبنان في الداجي الظليل</a:t>
            </a:r>
            <a:endParaRPr b="0" lang="en-US" sz="3600" spc="-1" strike="noStrike">
              <a:solidFill>
                <a:srgbClr val="000000"/>
              </a:solidFill>
              <a:latin typeface="Times New Roman"/>
            </a:endParaRPr>
          </a:p>
          <a:p>
            <a:pPr algn="r" rtl="1">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99"/>
                </a:solidFill>
                <a:latin typeface="Times New Roman"/>
              </a:rPr>
              <a:t>ضيع الدرب وخلاه الدليل</a:t>
            </a:r>
            <a:endParaRPr b="0" lang="en-US" sz="3600" spc="-1" strike="noStrike">
              <a:solidFill>
                <a:srgbClr val="000000"/>
              </a:solidFill>
              <a:latin typeface="Times New Roman"/>
            </a:endParaRPr>
          </a:p>
        </p:txBody>
      </p:sp>
      <p:pic>
        <p:nvPicPr>
          <p:cNvPr id="54" name="stmaroun" descr=""/>
          <p:cNvPicPr/>
          <p:nvPr/>
        </p:nvPicPr>
        <p:blipFill>
          <a:blip r:embed="rId1"/>
          <a:stretch/>
        </p:blipFill>
        <p:spPr>
          <a:xfrm>
            <a:off x="0" y="0"/>
            <a:ext cx="41148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 y="0"/>
            <a:ext cx="9372600" cy="89096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كاهن:  تذكر يا رب الصلوات والعطور التي قربها إليك كاهنك القديس مارون. واقبل بها صلواتنا وعطورنا نقربها إليك في ذكراه المجيدة. أفض حبك وسلامك على بيعتك في الأقطار الأربعة. تحنن علينا واغفر خطايانا. وارحم أمواتنا. ثم أدخلنا ملكوتك فنسبحك مع أبينا القديس مارون، وجميع آبائنا القديسين، ونرفع إليك المجد إلى الأبد.</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شعب: آمين</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كاهن:  قديشات آلوهو قديشات حيلتونو قديشات لومويوتُا (</a:t>
            </a:r>
            <a:r>
              <a:rPr b="1" lang="ar-SA" sz="3200" spc="-1" strike="noStrike">
                <a:solidFill>
                  <a:srgbClr val="000000"/>
                </a:solidFill>
                <a:latin typeface="Times New Roman"/>
              </a:rPr>
              <a:t>3</a:t>
            </a:r>
            <a:r>
              <a:rPr b="1" lang="ar-SA" sz="3200" spc="-1" strike="noStrike">
                <a:solidFill>
                  <a:srgbClr val="000000"/>
                </a:solidFill>
                <a:latin typeface="Times New Roman"/>
              </a:rPr>
              <a:t> مرات)</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جوقة:  إتراحام علين (</a:t>
            </a:r>
            <a:r>
              <a:rPr b="1" lang="ar-SA" sz="3200" spc="-1" strike="noStrike">
                <a:solidFill>
                  <a:srgbClr val="000000"/>
                </a:solidFill>
                <a:latin typeface="Times New Roman"/>
              </a:rPr>
              <a:t>3</a:t>
            </a:r>
            <a:r>
              <a:rPr b="1" lang="ar-SA" sz="3200" spc="-1" strike="noStrike">
                <a:solidFill>
                  <a:srgbClr val="000000"/>
                </a:solidFill>
                <a:latin typeface="Times New Roman"/>
              </a:rPr>
              <a:t> مرات)</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كاهن:   أيها الرب القدوس الذي لا يموت، قدس أفكارنا، ونق ضمائرنا فنسبحك تسبيح نقيا ونصغي إلى كتبك المقدسة. لك المجد إلى الأبد.</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ar-SA" sz="3200" spc="-1" strike="noStrike">
                <a:solidFill>
                  <a:srgbClr val="000000"/>
                </a:solidFill>
                <a:latin typeface="Times New Roman"/>
              </a:rPr>
              <a:t>الشعب:   أمي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0"/>
            <a:ext cx="9144000" cy="1058724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Simplified Arabic"/>
              </a:rPr>
              <a:t>مزامير القراءات</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جلوس</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في ذكرى القديسين تزهو بيعة اللـــه</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أجـواق المؤمنين</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تشدو ملء الأفــواه</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كاهن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ألتيجـان الرفيعة</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كل مجد الأرضييـن</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دون أفراح البيعة</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فـي تذكار القديسيـن</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للمسيح الغفور نحن ننشد التقديس</a:t>
            </a:r>
            <a:r>
              <a:rPr b="1" lang="en-US"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يهدينا درب النور  فيك مارون القديس</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قاريء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فصل من رسالة القديس بولس الرسول ... يقرأ في هذا اليوم أمام أبينا الكاهن، وبارك يا سيد.</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0"/>
            <a:ext cx="9144000" cy="302760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كاهن:</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مجد لسيد بولس الذي بشر في أربعة أقطار العالم.  فلتكن صلاته سوراً لهذه الرعية ولسكانها المؤمنين الى الأبد.</a:t>
            </a:r>
            <a:endParaRPr b="0" lang="en-US" sz="36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r>
              <a:rPr b="1"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0" y="0"/>
            <a:ext cx="9144000" cy="9969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cs typeface="Times New Roman"/>
              </a:rPr>
              <a:t>يا أخوتي – أما أنت فقد استقريت في تَعليمي وسيرَتي ومَقاصِدي وإيماني وصَبري ومحَبَّتي وثَباتي واَحتِمالي الاَضطِهادَ والعَذابَ وما أصابَني في أنطاكِيَةَ وأيقونِيَّةَ ولِسترَةَ. وكمْ مِنِ اَضطهادٍ عانَيتُ وأنقَذَني الرَّبُّ مِنها كُلِّها. فكُلُّ مَنْ أرادَ أنْ يَحيا في المَسيحِ يَسوعَ حياةَ التَّقوى أصابَهُ الاضطِهادُ. أمَّا الأشرارُ والدَّجّالونَ فيَزدادونَ شَرُا وهُم خادِعونَ مَخدوعونَ. فاَثبُتْ أنتَ على ما تَعَلَّمْتَهُ عِلمَ اليَقينِ عارِفًا عَمَّن أخذتَهُ. فأنتَ مُنذُ طُفولَتِكَ عَرَفْتَ الكُتُبَ المُقَدَّسةَ القادِرَةَ على أنْ تُزَوِّدَكَ بِالحِكمَةِ التي تَهدي إلى الخَلاصِ في الإيمانِ بِالمَسيحِ يَسوعَ. الكِتابُ كُلُّهُ مِنْ وَحيِ الله، يُفيدُ في التَّعليمِ والتَّفنيدِ والتَّقويمِ والتَّأديبِ في البِرِّ، ليكونَ رَجُلُ الله كامِلاً مُستَعِدُا لِكلِّ عَمَلٍ صالِحِ. والتسبيح لله دائما وبارك يا سيد.</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0"/>
            <a:ext cx="9144000" cy="854532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هللويـــا وهللويــــا.  مجد لبنان أعطي له ومجد الرب أشرق عليه، . هللويـــا.</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شماس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يضع الكاهن بخوراً) أمام بشارة مخلصنا، المبشرة بالحياة لنفوسنا، يقدم البخور،الى مراحمك يا رب نصلي.</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كاهن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سلام لجميعكم.</a:t>
            </a:r>
            <a:endParaRPr b="0" lang="en-US" sz="3600" spc="-1" strike="noStrike">
              <a:solidFill>
                <a:srgbClr val="000000"/>
              </a:solidFill>
              <a:latin typeface="Times New Roman"/>
            </a:endParaRPr>
          </a:p>
          <a:p>
            <a:pPr algn="just"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مع روحك.</a:t>
            </a:r>
            <a:endParaRPr b="0" lang="en-US" sz="3600" spc="-1" strike="noStrike">
              <a:solidFill>
                <a:srgbClr val="000000"/>
              </a:solidFill>
              <a:latin typeface="Times New Roman"/>
            </a:endParaRPr>
          </a:p>
          <a:p>
            <a:pPr algn="just"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كاهن :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من إنجيل ربنا يسوع المسيح للقديس ....... الذي بشر العالم بالحياة.  فلنصغ الى بشارة الحياة والخلاص لنفوسنا.     (يبخر الإنجيل ثلاثاً)</a:t>
            </a:r>
            <a:endParaRPr b="0" lang="en-US" sz="3600" spc="-1" strike="noStrike">
              <a:solidFill>
                <a:srgbClr val="000000"/>
              </a:solidFill>
              <a:latin typeface="Times New Roman"/>
            </a:endParaRPr>
          </a:p>
          <a:p>
            <a:pPr algn="just"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304920"/>
            <a:ext cx="9144000" cy="3298680"/>
          </a:xfrm>
          <a:prstGeom prst="rect">
            <a:avLst/>
          </a:prstGeom>
          <a:noFill/>
          <a:ln w="0">
            <a:noFill/>
          </a:ln>
        </p:spPr>
        <p:style>
          <a:lnRef idx="0"/>
          <a:fillRef idx="0"/>
          <a:effectRef idx="0"/>
          <a:fontRef idx="minor"/>
        </p:style>
        <p:txBody>
          <a:bodyPr lIns="90000" rIns="90000" tIns="46800" bIns="46800" anchor="t">
            <a:spAutoFit/>
          </a:bodyPr>
          <a:p>
            <a:pPr algn="just"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Times New Roman"/>
              </a:rPr>
              <a:t>	</a:t>
            </a:r>
            <a:r>
              <a:rPr b="1" lang="ar-SA" sz="3600" spc="-1" strike="noStrike">
                <a:solidFill>
                  <a:srgbClr val="000000"/>
                </a:solidFill>
                <a:latin typeface="Times New Roman"/>
                <a:cs typeface="Simplified Arabic"/>
              </a:rPr>
              <a:t>الشماس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كونوا في السكوت، أيها السامعون، لأن الإنجيل المقدس يتلى الآن عليكم.   فاسمعوا ومجدوا واشكروا كلمة الله الحي</a:t>
            </a:r>
            <a:r>
              <a:rPr b="1"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just"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Times New Roman"/>
              </a:rPr>
              <a:t>	</a:t>
            </a:r>
            <a:r>
              <a:rPr b="1" lang="ar-SA" sz="3600" spc="-1" strike="noStrike">
                <a:solidFill>
                  <a:srgbClr val="000000"/>
                </a:solidFill>
                <a:latin typeface="Times New Roman"/>
                <a:ea typeface="Times New Roman"/>
              </a:rPr>
              <a:t>	</a:t>
            </a:r>
            <a:r>
              <a:rPr b="1" lang="ar-SA" sz="3600" spc="-1" strike="noStrike">
                <a:solidFill>
                  <a:srgbClr val="000000"/>
                </a:solidFill>
                <a:latin typeface="Times New Roman"/>
                <a:ea typeface="Times New Roman"/>
              </a:rPr>
              <a:t>	</a:t>
            </a:r>
            <a:r>
              <a:rPr b="1" lang="ar-SA" sz="3600" spc="-1" strike="noStrike">
                <a:solidFill>
                  <a:srgbClr val="000000"/>
                </a:solidFill>
                <a:latin typeface="Times New Roman"/>
                <a:ea typeface="Times New Roman"/>
              </a:rPr>
              <a:t>	</a:t>
            </a:r>
            <a:r>
              <a:rPr b="1" lang="ar-SA" sz="3600" spc="-1" strike="noStrike">
                <a:solidFill>
                  <a:srgbClr val="000000"/>
                </a:solidFill>
                <a:latin typeface="Times New Roman"/>
                <a:ea typeface="Times New Roman"/>
              </a:rPr>
              <a:t>	</a:t>
            </a:r>
            <a:r>
              <a:rPr b="1"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just"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57200" y="533520"/>
            <a:ext cx="8229600" cy="92361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أجابهما يسوع وقال: قد أتت الساعة التي يمجد فيها ابن البشر، الحق الحق أقول لكم: إن حبة الحنطة التي تقع في الأرض، إن لم تمت فإنها تبقى وحدها، وإن ماتت أتت بثمر كثير. من أحب نفسه فإنه يهلكها، ومن أبغض نفسه في هذا العالم فإنه يحفظها للحياة الأبدية. إن كان أحد يخدمني فليتبعني، وحيث أكون أنا فهناك يكون خادمي. إن كان أحد يخدمني يكرمه أبي</a:t>
            </a:r>
            <a:r>
              <a:rPr b="1" lang="ar-SA" sz="4000" spc="-1" strike="noStrike">
                <a:solidFill>
                  <a:srgbClr val="000000"/>
                </a:solidFill>
                <a:latin typeface="Times New Roman"/>
                <a:ea typeface="Times New Roman"/>
              </a:rPr>
              <a:t>. </a:t>
            </a:r>
            <a:r>
              <a:rPr b="1" lang="ar-SA" sz="4000" spc="-1" strike="noStrike">
                <a:solidFill>
                  <a:srgbClr val="000000"/>
                </a:solidFill>
                <a:latin typeface="Times New Roman"/>
                <a:cs typeface="Simplified Arabic"/>
              </a:rPr>
              <a:t>الآن نفسي قد اضطربت، ماذ أقول؟ يا أبت نجني من هذه الساعة! ولكن لأجل هذا بلغت</a:t>
            </a:r>
            <a:r>
              <a:rPr b="0"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876240" y="0"/>
            <a:ext cx="7391520" cy="89546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إلى هذه الساعة. يا أبت مجد اسمك! فجاء صوت من السماء أن مجدته وسأمجده أيضا. فسمع الجمع الذي كان واقفا فقالوا: إنما كان رعد، وقال آخرون: قد كلمه ملاك. أجاب يسوع وقال: ليس من أجلي كان هذا الصوت، ولكن من أجلكم. حقا والأمان لجميعكم</a:t>
            </a:r>
            <a:r>
              <a:rPr b="1" lang="ar-SA" sz="4000" spc="-1" strike="noStrike">
                <a:solidFill>
                  <a:srgbClr val="000000"/>
                </a:solidFill>
                <a:latin typeface="Times New Roman"/>
                <a:ea typeface="Times New Roman"/>
              </a:rPr>
              <a:t>.</a:t>
            </a:r>
            <a:r>
              <a:rPr b="0"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a:p>
            <a:pPr algn="just"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a:t>
            </a:r>
            <a:r>
              <a:rPr b="1" lang="ar-SA" sz="3600" spc="-1" strike="noStrike">
                <a:solidFill>
                  <a:srgbClr val="000000"/>
                </a:solidFill>
                <a:latin typeface="Times New Roman"/>
                <a:cs typeface="Simplified Arabic"/>
              </a:rPr>
              <a:t>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للمسيح يسوع التسبيح والبركات، من أجل كلامه الحي لنا للمسيح يسوع التسبيح والبركات.</a:t>
            </a:r>
            <a:endParaRPr b="0" lang="en-US" sz="3600" spc="-1" strike="noStrike">
              <a:solidFill>
                <a:srgbClr val="000000"/>
              </a:solidFill>
              <a:latin typeface="Times New Roman"/>
            </a:endParaRPr>
          </a:p>
          <a:p>
            <a:pPr algn="just"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عظة ثم قانون الإيمان</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457200"/>
            <a:ext cx="8763120" cy="5340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واقيمت برْعُ عيدتْ قُودشُ بْطوفسُ دلعل دْهي ملكوت</a:t>
            </a:r>
            <a:endParaRPr b="0" lang="en-US" sz="36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بْحوبُ غْمرتُ بْرحْم نصبْتُ بْطوفْسُ مْخرْتُ بْحشُ قْنيْتُ</a:t>
            </a:r>
            <a:endParaRPr b="0" lang="en-US" sz="36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وأقمت في الأرض بيعة مقدسة تشبه العليا التي في الملكوت</a:t>
            </a:r>
            <a:endParaRPr b="0" lang="en-US" sz="36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بالحب غمرتها بالرحمة نصبتها بالرمز اخترتها والآلام اقتنيتها</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04920" y="0"/>
            <a:ext cx="8458200" cy="853956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cs typeface="Simplified Arabic"/>
              </a:rPr>
              <a:t>مـــا قبــل النافــــور</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الكاهن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أيت لووت مذبحه دالوهو ولووث ألوهو دمحده طلبوت وانا بسوغو دطيبوتوخ اعول لبيتخ واسغود بهيكلو دقودشوخ.</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Times New Roman"/>
                <a:cs typeface="Simplified Arabic"/>
              </a:rPr>
              <a:t>أجيء الى مذبح الله والى الله الذي يبهج شبابي، بكثرة نعمتك أدخل بيتك وأسجد في قدس هيكلك.</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بْدِحلتْخُ مْرُيْاُ دَبَريْن وَبْزُديقوتُخْ أَلِفين.</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بمخافتك يا رب، دبرني وببرك علمني.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صلو علي مطول مرن.</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صلّو لأجلي إكراماً للرب.</a:t>
            </a:r>
            <a:endParaRPr b="0" lang="en-US" sz="3200" spc="-1" strike="noStrike">
              <a:solidFill>
                <a:srgbClr val="000000"/>
              </a:solidFill>
              <a:latin typeface="Times New Roman"/>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الشعب :    أَلوهو نْقَبل قورْبونُخْ ونِتْرحَمِ عْلَين بَصْلوتُخ.</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قبل الرب قربانك ورحمنا بصلات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0"/>
            <a:ext cx="9144000" cy="778104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هللويا</a:t>
            </a:r>
            <a:endParaRPr b="0" lang="en-US" sz="3200" spc="-1" strike="noStrike">
              <a:solidFill>
                <a:srgbClr val="000000"/>
              </a:solidFill>
              <a:latin typeface="Times New Roman"/>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قال الرب: انني الخبز المحيي الآتي من حضن الآب قوتا للعالم قبلني حضن العذراء الأم النقي.العذراء مريم، مثل حبة القمح في الأرض الخصبة صرت فوق المذبح قوتا للبيعة هللويا وخبز حياة.</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Pr>
              <a:t> </a:t>
            </a:r>
            <a:r>
              <a:rPr b="1" lang="ar-SA" sz="3200" spc="-1" strike="noStrike">
                <a:solidFill>
                  <a:srgbClr val="000000"/>
                </a:solidFill>
                <a:latin typeface="Times New Roman"/>
                <a:cs typeface="Simplified Arabic"/>
              </a:rPr>
              <a:t>إنُنـــــُا لحمُـــا رْحيــِا   إِمَر مُــرَن</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دْمِـــن رَومُالعُومقُا نِعْتِتْ دنيحِا بيعُلْمُـــــا</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شَلحَــن أَبُــــا مِلثُـــا رلاُ بِسْــــرُا</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وَخْ دَلفـــِرْدْنُو دْحِطِـا بَسيمتُــــــــا</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قَبِلتَن كَرسُه دْمَريَم أَخ أَرعُــــا طُبتـــــُاُ</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وهُا مزَيْحَنْليه بيدَيهُون كُهنِا عَـلْ مَدِبْحُـــــا</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هللويـــــا قَــبِـــل قُرْبُنــــــَ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0"/>
            <a:ext cx="9144000" cy="87980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أيها   الرب  الإله  العظيم ، يا  من  قبلت قرابين الاولين، إقبل  ما  حمل إليك عبيدك هؤلاء من قرابين، حبا  لك ولاسمك القدوس،  أجزل عليهم بركاتك الروحية،  وبدل عطاياهم الزائلة، هب</a:t>
            </a:r>
            <a:r>
              <a:rPr b="1" lang="en-US"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لهم الحياة والملكوت.</a:t>
            </a:r>
            <a:endParaRPr b="0" lang="en-US" sz="3200" spc="-1" strike="noStrike">
              <a:solidFill>
                <a:srgbClr val="000000"/>
              </a:solidFill>
              <a:latin typeface="Times New Roman"/>
            </a:endParaRPr>
          </a:p>
          <a:p>
            <a:pPr algn="just"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آميــــــن.</a:t>
            </a:r>
            <a:endParaRPr b="0" lang="en-US" sz="3200" spc="-1" strike="noStrike">
              <a:solidFill>
                <a:srgbClr val="000000"/>
              </a:solidFill>
              <a:latin typeface="Times New Roman"/>
            </a:endParaRPr>
          </a:p>
          <a:p>
            <a:pPr algn="just"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الكاهن : لذكر ربنا و إلهنا و مخلصنا يسوع المسيح وكل تدبيره الخلاصي من اجلنا، نذكر، على هذا القربان الموضوع أمامنا، جميع الذين حسنوا لدى الله من آدم حتى  اليوم وخاصة الطوباوية والدة الله مريم، ومار مارون ومار شربل والطوباوية رفقا، والطوباوي الحرديني … أذكر اللهم، آباءنا وأخوتنا الأحياء والأموات، أبناء البيعة المقدسة، (خاصة من  يقدم  عنهم هذا  القربان).  واذكر  جميع المشتركين معنا اليوم في هذا القربان.</a:t>
            </a:r>
            <a:endParaRPr b="0" lang="en-US" sz="3200" spc="-1" strike="noStrike">
              <a:solidFill>
                <a:srgbClr val="000000"/>
              </a:solidFill>
              <a:latin typeface="Times New Roman"/>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آميـــــــــ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pic>
        <p:nvPicPr>
          <p:cNvPr id="66" name="CARPV008" descr=""/>
          <p:cNvPicPr/>
          <p:nvPr/>
        </p:nvPicPr>
        <p:blipFill>
          <a:blip r:embed="rId1"/>
          <a:stretch/>
        </p:blipFill>
        <p:spPr>
          <a:xfrm>
            <a:off x="0" y="0"/>
            <a:ext cx="4191120" cy="6858000"/>
          </a:xfrm>
          <a:prstGeom prst="rect">
            <a:avLst/>
          </a:prstGeom>
          <a:ln w="0">
            <a:noFill/>
          </a:ln>
        </p:spPr>
      </p:pic>
      <p:sp>
        <p:nvSpPr>
          <p:cNvPr id="67" name=""/>
          <p:cNvSpPr/>
          <p:nvPr/>
        </p:nvSpPr>
        <p:spPr>
          <a:xfrm>
            <a:off x="4114800" y="0"/>
            <a:ext cx="5029200" cy="882504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99"/>
                </a:solidFill>
                <a:latin typeface="Times New Roman"/>
                <a:cs typeface="Simplified Arabic"/>
              </a:rPr>
              <a:t>هللويـــــــا.</a:t>
            </a:r>
            <a:endParaRPr b="0" lang="en-US" sz="3200" spc="-1" strike="noStrike">
              <a:solidFill>
                <a:srgbClr val="000000"/>
              </a:solidFill>
              <a:latin typeface="Times New Roman"/>
            </a:endParaRPr>
          </a:p>
          <a:p>
            <a:pPr algn="ct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99"/>
                </a:solidFill>
                <a:latin typeface="Times New Roman"/>
                <a:cs typeface="Simplified Arabic"/>
              </a:rPr>
              <a:t>لوالدةِ اللهِ الأمِ العذراءْ، الأنبياءِ والرسلِ والشهداءْ، والخدّامُ الكهنة جوقِ الأبرارْ، كلِ أولادِ البيعة نُحيي التذكار</a:t>
            </a:r>
            <a:r>
              <a:rPr b="1" lang="ar-SA" sz="3200" spc="-1" strike="noStrike">
                <a:solidFill>
                  <a:srgbClr val="ffcc99"/>
                </a:solidFill>
                <a:latin typeface="Times New Roman"/>
                <a:ea typeface="Times New Roman"/>
              </a:rPr>
              <a:t>. </a:t>
            </a:r>
            <a:endParaRPr b="0" lang="en-US" sz="3200" spc="-1" strike="noStrike">
              <a:solidFill>
                <a:srgbClr val="000000"/>
              </a:solidFill>
              <a:latin typeface="Times New Roman"/>
            </a:endParaRPr>
          </a:p>
          <a:p>
            <a:pPr algn="ct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99"/>
                </a:solidFill>
                <a:latin typeface="Times New Roman"/>
                <a:cs typeface="Simplified Arabic"/>
              </a:rPr>
              <a:t>هللويــــــــا</a:t>
            </a:r>
            <a:endParaRPr b="0" lang="en-US" sz="3200" spc="-1" strike="noStrike">
              <a:solidFill>
                <a:srgbClr val="000000"/>
              </a:solidFill>
              <a:latin typeface="Times New Roman"/>
            </a:endParaRPr>
          </a:p>
          <a:p>
            <a:pPr algn="ct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99"/>
                </a:solidFill>
                <a:latin typeface="Times New Roman"/>
                <a:cs typeface="Simplified Arabic"/>
              </a:rPr>
              <a:t>لِمَريـم يُلـدَت أَلوهُا نهِا دُوخْرُنُا</a:t>
            </a:r>
            <a:endParaRPr b="0" lang="en-US" sz="3200" spc="-1" strike="noStrike">
              <a:solidFill>
                <a:srgbClr val="000000"/>
              </a:solidFill>
              <a:latin typeface="Times New Roman"/>
            </a:endParaRPr>
          </a:p>
          <a:p>
            <a:pPr algn="ct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99"/>
                </a:solidFill>
                <a:latin typeface="Times New Roman"/>
                <a:cs typeface="Simplified Arabic"/>
              </a:rPr>
              <a:t>وْلنْبِيّاِ شليحِا وسوهدِا وكينِا وكوهنـا</a:t>
            </a:r>
            <a:endParaRPr b="0" lang="en-US" sz="3200" spc="-1" strike="noStrike">
              <a:solidFill>
                <a:srgbClr val="000000"/>
              </a:solidFill>
              <a:latin typeface="Times New Roman"/>
            </a:endParaRPr>
          </a:p>
          <a:p>
            <a:pPr algn="ct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99"/>
                </a:solidFill>
                <a:latin typeface="Times New Roman"/>
                <a:cs typeface="Simplified Arabic"/>
              </a:rPr>
              <a:t>ولكوُلهُتن يَلدِا دعيدِتُا مِن دُور لدور </a:t>
            </a:r>
            <a:endParaRPr b="0" lang="en-US" sz="3200" spc="-1" strike="noStrike">
              <a:solidFill>
                <a:srgbClr val="000000"/>
              </a:solidFill>
              <a:latin typeface="Times New Roman"/>
            </a:endParaRPr>
          </a:p>
          <a:p>
            <a:pPr algn="ct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99"/>
                </a:solidFill>
                <a:latin typeface="Times New Roman"/>
                <a:cs typeface="Simplified Arabic"/>
              </a:rPr>
              <a:t>وعدَمُـا لِعُلَــم عُلميــن.</a:t>
            </a:r>
            <a:endParaRPr b="0" lang="en-US" sz="3200" spc="-1" strike="noStrike">
              <a:solidFill>
                <a:srgbClr val="000000"/>
              </a:solidFill>
              <a:latin typeface="Times New Roman"/>
            </a:endParaRPr>
          </a:p>
          <a:p>
            <a:pPr algn="ct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99"/>
                </a:solidFill>
                <a:latin typeface="Times New Roman"/>
                <a:cs typeface="Simplified Arabic"/>
              </a:rPr>
              <a:t>آميــن وآميــن</a:t>
            </a:r>
            <a:r>
              <a:rPr b="1" lang="ar-SA" sz="3200" spc="-1" strike="noStrike">
                <a:solidFill>
                  <a:srgbClr val="ffcc99"/>
                </a:solidFill>
                <a:latin typeface="Times New Roman"/>
                <a:ea typeface="Times New Roman"/>
              </a:rPr>
              <a:t>.</a:t>
            </a:r>
            <a:r>
              <a:rPr b="0"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0"/>
            <a:ext cx="8763120" cy="84168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ea typeface="Simplified Arabic"/>
              </a:rPr>
              <a:t>"رتبة السلام</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جلوس</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المجد للآب والإبن والروح القدس، من الآن و الى الابد.</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آميــــــــن.</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أيها الرب الرحيم القدوس، يا من أعددت لنا - بواسطة ابنك الوحيد - هذه الوليمة الروحانية، إقبل قربان هذه الذبيحة، وإمنحنا  موهبة  روحك القدوس، وأهلنا  أن نعطي  بعضنا  بعضا  السلام، بقلب نقي  ومحبة  إلـهية، فنرفع إليك المجد والشكر والى ابنك الوحيد وروحك القدوس، الآن والى لابد.</a:t>
            </a:r>
            <a:endParaRPr b="0" lang="en-US" sz="3200" spc="-1" strike="noStrike">
              <a:solidFill>
                <a:srgbClr val="000000"/>
              </a:solidFill>
              <a:latin typeface="Times New Roman"/>
            </a:endParaRPr>
          </a:p>
          <a:p>
            <a:pPr algn="just"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آميـــــــن</a:t>
            </a:r>
            <a:r>
              <a:rPr b="1" lang="ar-SA" sz="32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الكاهن:    السلام  لك  يا مذبح الله ، السلام للأسرار المقدسة الموضوعة عليك، السلام لك يا خادم  الروح القدس.</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69" name=""/>
          <p:cNvSpPr/>
          <p:nvPr/>
        </p:nvSpPr>
        <p:spPr>
          <a:xfrm>
            <a:off x="4572000" y="0"/>
            <a:ext cx="4343400" cy="860940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لكاهن :</a:t>
            </a: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ea typeface="Simplified Arabic"/>
              </a:rPr>
              <a:t> </a:t>
            </a:r>
            <a:r>
              <a:rPr b="1" lang="ar-SA" sz="3600" spc="-1" strike="noStrike">
                <a:solidFill>
                  <a:srgbClr val="ffffff"/>
                </a:solidFill>
                <a:latin typeface="Times New Roman"/>
                <a:cs typeface="Simplified Arabic"/>
              </a:rPr>
              <a:t>الشماس :</a:t>
            </a:r>
            <a:r>
              <a:rPr b="1" lang="ar-SA" sz="3600" spc="-1" strike="noStrike">
                <a:solidFill>
                  <a:srgbClr val="ffffff"/>
                </a:solidFill>
                <a:latin typeface="Times New Roman"/>
                <a:ea typeface="Simplified Arabic"/>
              </a:rPr>
              <a:t>	</a:t>
            </a:r>
            <a:r>
              <a:rPr b="1" lang="ar-SA" sz="3600" spc="-1" strike="noStrike">
                <a:solidFill>
                  <a:srgbClr val="ffffff"/>
                </a:solidFill>
                <a:latin typeface="Times New Roman"/>
                <a:cs typeface="Simplified Arabic"/>
              </a:rPr>
              <a:t>ليعط كل واحد منا السلام قريبه بمحبة وأمانة ترضي الله.</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rPr>
              <a:t>الجوقة  :   إن أعطى ملوك الأرض عمالهم فإن ما يعطونهم من الخير ما لا يدوم إلا قليلاً أما ملكنا البهي فروحه قد أعطى رسله لكي يثبت معهم ويرعاهم إلى الأبد. آمين</a:t>
            </a:r>
            <a:endParaRPr b="0" lang="en-US" sz="3600" spc="-1" strike="noStrike">
              <a:solidFill>
                <a:srgbClr val="000000"/>
              </a:solidFill>
              <a:latin typeface="Times New Roman"/>
            </a:endParaRPr>
          </a:p>
        </p:txBody>
      </p:sp>
      <p:pic>
        <p:nvPicPr>
          <p:cNvPr id="70" name="14924715GRMuZrvGAj_ph" descr=""/>
          <p:cNvPicPr/>
          <p:nvPr/>
        </p:nvPicPr>
        <p:blipFill>
          <a:blip r:embed="rId1"/>
          <a:stretch/>
        </p:blipFill>
        <p:spPr>
          <a:xfrm>
            <a:off x="-436680" y="0"/>
            <a:ext cx="481032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228600"/>
            <a:ext cx="8839080" cy="808380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كاهن :  فليكن، يا رب، سلامك وأمانك وحبك الصادق ومراحمك الالـهية، معنا وبيننا،  جميع أيام حياتنا، فنرفع اليك المجد والشكر، الان والى الابد.</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آميـــــــن.</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كاهن:</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نسجد أمامك ،  يا  ملك الملوك ورب الارباب، و نبتهــل إليـــك أن تنظر إلينـا راحماً، فتـؤهلنـا للـدنو مـن مذبحك المقدس، بنقاوة القلب و قداسـة النفـس و الجسد، فنرفع اليك المجد و الشكر الآن و الى الابد.                               </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آميــــــن.</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304920"/>
            <a:ext cx="8534520" cy="7722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cs typeface="Simplified Arabic"/>
              </a:rPr>
              <a:t>صلاة  الافخارستيا</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وقوف</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محبة الله الآب + ونعمة الابن الوحيد + وشركة وحلول الروح القدس  + مع جميعكم يا إخوتي الى الأبد.</a:t>
            </a:r>
            <a:endParaRPr b="0" lang="en-US" sz="3200" spc="-1" strike="noStrike">
              <a:solidFill>
                <a:srgbClr val="000000"/>
              </a:solidFill>
              <a:latin typeface="Times New Roman"/>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الشعب :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ومع روحك.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     لتكن أفكارنا و عقولنا و قلوبنا مرتفعة الى العلى.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انها لديك  يا  الله.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لنشكر الرب متهيبين، و نسجد له خاشعين.</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انه لحق وواجب.</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10079646" descr=""/>
          <p:cNvPicPr/>
          <p:nvPr/>
        </p:nvPicPr>
        <p:blipFill>
          <a:blip r:embed="rId1"/>
          <a:stretch/>
        </p:blipFill>
        <p:spPr>
          <a:xfrm>
            <a:off x="0" y="-1371600"/>
            <a:ext cx="10139400" cy="14859000"/>
          </a:xfrm>
          <a:prstGeom prst="rect">
            <a:avLst/>
          </a:prstGeom>
          <a:ln w="0">
            <a:noFill/>
          </a:ln>
        </p:spPr>
      </p:pic>
      <p:sp>
        <p:nvSpPr>
          <p:cNvPr id="74" name=""/>
          <p:cNvSpPr/>
          <p:nvPr/>
        </p:nvSpPr>
        <p:spPr>
          <a:xfrm>
            <a:off x="0" y="228600"/>
            <a:ext cx="8763120" cy="82699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حقا لك يجب المجد، وبك يليق المديح، لأنك القدوس، اللهم الآب. واهب الحياة، والمبارك مع إبنك الوحيد وروحك الحي القدوس.  بك يحدق الكاروبون والسرافون، بأصوات نقية والحان بهية يهتفون قائلين :</a:t>
            </a:r>
            <a:endParaRPr b="0" lang="en-US" sz="32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600" spc="-1" strike="noStrike">
                <a:solidFill>
                  <a:srgbClr val="000000"/>
                </a:solidFill>
                <a:latin typeface="Times New Roman"/>
                <a:cs typeface="Simplified Arabic"/>
              </a:rPr>
              <a:t>قَديش قَديش قَديشات مُريُا أَلُهُا حَيِلتُنُا صْباؤوت دَملِن إنُونِ شمَيُا وآرعُا مِن تِشبُحتُا وإيقُرُوا درَبوتُخ مُر أُو شَعنُا بَمْرَوْمِا بيخ دِاتُا وَعتيدِ دنيتِا بَشمِـه دمُريُا</a:t>
            </a:r>
            <a:endParaRPr b="0" lang="en-US" sz="36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شعنُا بَمرَومِا</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304920"/>
            <a:ext cx="86104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0" y="0"/>
            <a:ext cx="9144000" cy="44830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Simplified Arabic"/>
              </a:rPr>
              <a:t>الكاهن :</a:t>
            </a:r>
            <a:r>
              <a:rPr b="0" lang="en-US" sz="12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كاهن:</a:t>
            </a:r>
            <a:r>
              <a:rPr b="0" lang="ar-SA" sz="12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قدوس ، قدوس ، قدوس أنت الرب المملوء مراحم قدوس ابنك الوحيد. قدوس روحك المحيي.انك القدوس واهب الخيرات.</a:t>
            </a: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يا من لأجل خلاصنا تجسد ابنك الوحيد من البتول النقية مريم، و بتدبيره الالـهي خلصنا وافتدانا.</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شعب :</a:t>
            </a:r>
            <a:r>
              <a:rPr b="1" lang="en-US"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آميـــــــن.</a:t>
            </a:r>
            <a:r>
              <a:rPr b="1" lang="en-US"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93913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الكاهن :</a:t>
            </a:r>
            <a:r>
              <a:rPr b="0" lang="ar-SA" sz="3600" spc="-1" strike="noStrike">
                <a:solidFill>
                  <a:srgbClr val="000000"/>
                </a:solidFill>
                <a:latin typeface="Simplified Arabic"/>
              </a:rPr>
              <a:t> </a:t>
            </a:r>
            <a:r>
              <a:rPr b="0" lang="ar-SA" sz="3600" spc="-1" strike="noStrike">
                <a:solidFill>
                  <a:srgbClr val="000000"/>
                </a:solidFill>
                <a:latin typeface="Simplified Arabic"/>
              </a:rPr>
              <a:t>	</a:t>
            </a:r>
            <a:r>
              <a:rPr b="0" lang="ar-SA" sz="3600" spc="-1" strike="noStrike">
                <a:solidFill>
                  <a:srgbClr val="000000"/>
                </a:solidFill>
                <a:latin typeface="Simplified Arabic"/>
              </a:rPr>
              <a:t> </a:t>
            </a:r>
            <a:r>
              <a:rPr b="1" lang="ar-SA" sz="3600" spc="-1" strike="noStrike">
                <a:solidFill>
                  <a:srgbClr val="000000"/>
                </a:solidFill>
                <a:latin typeface="Simplified Arabic"/>
              </a:rPr>
              <a:t>لبيتخ ألوهو علت وقدم بيمديلخ سوغدت، ملكو </a:t>
            </a:r>
            <a:r>
              <a:rPr b="1" lang="en-US" sz="3600" spc="-1" strike="noStrike">
                <a:solidFill>
                  <a:srgbClr val="000000"/>
                </a:solidFill>
                <a:latin typeface="Simplified Arabic"/>
              </a:rPr>
              <a:t>	</a:t>
            </a:r>
            <a:r>
              <a:rPr b="1" lang="en-US" sz="3600" spc="-1" strike="noStrike">
                <a:solidFill>
                  <a:srgbClr val="000000"/>
                </a:solidFill>
                <a:latin typeface="Simplified Arabic"/>
              </a:rPr>
              <a:t>	</a:t>
            </a:r>
            <a:r>
              <a:rPr b="1" lang="ar-SA" sz="3600" spc="-1" strike="noStrike">
                <a:solidFill>
                  <a:srgbClr val="000000"/>
                </a:solidFill>
                <a:latin typeface="Simplified Arabic"/>
              </a:rPr>
              <a:t>شمايونو حاسولي خولد حطيت لخ.</a:t>
            </a:r>
            <a:endParaRPr b="0" lang="en-US" sz="3600" spc="-1" strike="noStrike">
              <a:solidFill>
                <a:srgbClr val="000000"/>
              </a:solidFill>
              <a:latin typeface="Times New Roman"/>
            </a:endParaRPr>
          </a:p>
          <a:p>
            <a:pPr algn="just"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	</a:t>
            </a:r>
            <a:r>
              <a:rPr b="1" lang="ar-SA" sz="3600" spc="-1" strike="noStrike">
                <a:solidFill>
                  <a:srgbClr val="000000"/>
                </a:solidFill>
                <a:latin typeface="Times New Roman"/>
                <a:cs typeface="Times New Roman"/>
              </a:rPr>
              <a:t>دخلت بيتك يا الله، وفي هيكلك سجدت، فيا ملك </a:t>
            </a: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	</a:t>
            </a:r>
            <a:r>
              <a:rPr b="1" lang="ar-SA" sz="3600" spc="-1" strike="noStrike">
                <a:solidFill>
                  <a:srgbClr val="000000"/>
                </a:solidFill>
                <a:latin typeface="Times New Roman"/>
                <a:cs typeface="Times New Roman"/>
              </a:rPr>
              <a:t>المجد </a:t>
            </a:r>
            <a:r>
              <a:rPr b="1" lang="ar-SA" sz="3600" spc="-1" strike="noStrike">
                <a:solidFill>
                  <a:srgbClr val="000000"/>
                </a:solidFill>
                <a:latin typeface="Simplified Arabic"/>
              </a:rPr>
              <a:t>إغفر</a:t>
            </a:r>
            <a:r>
              <a:rPr b="1" lang="ar-SA" sz="3600" spc="-1" strike="noStrike">
                <a:solidFill>
                  <a:srgbClr val="000000"/>
                </a:solidFill>
                <a:latin typeface="Times New Roman"/>
                <a:ea typeface="Times New Roman"/>
              </a:rPr>
              <a:t> لي ما خطأت به إليك.</a:t>
            </a:r>
            <a:endParaRPr b="0" lang="en-US" sz="3600" spc="-1" strike="noStrike">
              <a:solidFill>
                <a:srgbClr val="000000"/>
              </a:solidFill>
              <a:latin typeface="Times New Roman"/>
            </a:endParaRPr>
          </a:p>
          <a:p>
            <a:pPr algn="just"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الشعب :</a:t>
            </a:r>
            <a:r>
              <a:rPr b="1" lang="ar-SA" sz="3600" spc="-1" strike="noStrike">
                <a:solidFill>
                  <a:srgbClr val="000000"/>
                </a:solidFill>
                <a:latin typeface="Simplified Arabic"/>
              </a:rPr>
              <a:t>	</a:t>
            </a:r>
            <a:r>
              <a:rPr b="1" lang="ar-SA" sz="3600" spc="-1" strike="noStrike">
                <a:solidFill>
                  <a:srgbClr val="000000"/>
                </a:solidFill>
                <a:latin typeface="Simplified Arabic"/>
              </a:rPr>
              <a:t>	</a:t>
            </a:r>
            <a:r>
              <a:rPr b="1" lang="ar-SA" sz="3600" spc="-1" strike="noStrike">
                <a:solidFill>
                  <a:srgbClr val="000000"/>
                </a:solidFill>
                <a:latin typeface="Simplified Arabic"/>
              </a:rPr>
              <a:t>مَلْكو شْمَايونو حاسولَنْ خولْدَ حْطَيْنَنْ لُخْ.</a:t>
            </a:r>
            <a:endParaRPr b="0" lang="en-US" sz="3600" spc="-1" strike="noStrike">
              <a:solidFill>
                <a:srgbClr val="000000"/>
              </a:solidFill>
              <a:latin typeface="Times New Roman"/>
            </a:endParaRPr>
          </a:p>
          <a:p>
            <a:pPr algn="just" rtl="1">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	</a:t>
            </a:r>
            <a:r>
              <a:rPr b="1" lang="ar-SA" sz="3600" spc="-1" strike="noStrike">
                <a:solidFill>
                  <a:srgbClr val="000000"/>
                </a:solidFill>
                <a:latin typeface="Simplified Arabic"/>
              </a:rPr>
              <a:t>	</a:t>
            </a:r>
            <a:r>
              <a:rPr b="1" lang="ar-SA" sz="3600" spc="-1" strike="noStrike">
                <a:solidFill>
                  <a:srgbClr val="000000"/>
                </a:solidFill>
                <a:latin typeface="Simplified Arabic"/>
              </a:rPr>
              <a:t>	</a:t>
            </a:r>
            <a:r>
              <a:rPr b="1" lang="ar-SA" sz="3600" spc="-1" strike="noStrike">
                <a:solidFill>
                  <a:srgbClr val="000000"/>
                </a:solidFill>
                <a:latin typeface="Simplified Arabic"/>
              </a:rPr>
              <a:t>يا ملك المجد إغفر لنا ما خطئنا به إليك</a:t>
            </a:r>
            <a:endParaRPr b="0" lang="en-US" sz="3600" spc="-1" strike="noStrike">
              <a:solidFill>
                <a:srgbClr val="000000"/>
              </a:solidFill>
              <a:latin typeface="Times New Roman"/>
            </a:endParaRPr>
          </a:p>
          <a:p>
            <a:pPr algn="just"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 الكاهن :</a:t>
            </a:r>
            <a:r>
              <a:rPr b="1" lang="ar-SA" sz="3600" spc="-1" strike="noStrike">
                <a:solidFill>
                  <a:srgbClr val="000000"/>
                </a:solidFill>
                <a:latin typeface="Simplified Arabic"/>
              </a:rPr>
              <a:t>	</a:t>
            </a:r>
            <a:r>
              <a:rPr b="1" lang="ar-SA" sz="3600" spc="-1" strike="noStrike">
                <a:solidFill>
                  <a:srgbClr val="000000"/>
                </a:solidFill>
                <a:latin typeface="Simplified Arabic"/>
              </a:rPr>
              <a:t>	</a:t>
            </a:r>
            <a:r>
              <a:rPr b="1" lang="ar-SA" sz="3600" spc="-1" strike="noStrike">
                <a:solidFill>
                  <a:srgbClr val="000000"/>
                </a:solidFill>
                <a:latin typeface="Simplified Arabic"/>
              </a:rPr>
              <a:t>صَلَوْ علَيْ مِطُول مُرَنْ.</a:t>
            </a:r>
            <a:endParaRPr b="0" lang="en-US" sz="3600" spc="-1" strike="noStrike">
              <a:solidFill>
                <a:srgbClr val="000000"/>
              </a:solidFill>
              <a:latin typeface="Times New Roman"/>
            </a:endParaRPr>
          </a:p>
          <a:p>
            <a:pPr algn="just" rtl="1">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	</a:t>
            </a:r>
            <a:r>
              <a:rPr b="1" lang="ar-SA" sz="3600" spc="-1" strike="noStrike">
                <a:solidFill>
                  <a:srgbClr val="000000"/>
                </a:solidFill>
                <a:latin typeface="Simplified Arabic"/>
              </a:rPr>
              <a:t>	</a:t>
            </a:r>
            <a:r>
              <a:rPr b="1" lang="ar-SA" sz="3600" spc="-1" strike="noStrike">
                <a:solidFill>
                  <a:srgbClr val="000000"/>
                </a:solidFill>
                <a:latin typeface="Simplified Arabic"/>
              </a:rPr>
              <a:t>	</a:t>
            </a:r>
            <a:r>
              <a:rPr b="1" lang="ar-SA" sz="3600" spc="-1" strike="noStrike">
                <a:solidFill>
                  <a:srgbClr val="000000"/>
                </a:solidFill>
                <a:latin typeface="Simplified Arabic"/>
              </a:rPr>
              <a:t>صلوا عني إكراما لربنا.</a:t>
            </a:r>
            <a:endParaRPr b="0" lang="en-US" sz="3600" spc="-1" strike="noStrike">
              <a:solidFill>
                <a:srgbClr val="000000"/>
              </a:solidFill>
              <a:latin typeface="Times New Roman"/>
            </a:endParaRPr>
          </a:p>
          <a:p>
            <a:pPr algn="just"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 الشعب :</a:t>
            </a:r>
            <a:r>
              <a:rPr b="1" lang="ar-SA" sz="3600" spc="-1" strike="noStrike">
                <a:solidFill>
                  <a:srgbClr val="000000"/>
                </a:solidFill>
                <a:latin typeface="Simplified Arabic"/>
              </a:rPr>
              <a:t>	</a:t>
            </a:r>
            <a:r>
              <a:rPr b="1" lang="ar-SA" sz="3600" spc="-1" strike="noStrike">
                <a:solidFill>
                  <a:srgbClr val="000000"/>
                </a:solidFill>
                <a:latin typeface="Simplified Arabic"/>
              </a:rPr>
              <a:t>	</a:t>
            </a:r>
            <a:r>
              <a:rPr b="1" lang="ar-SA" sz="3600" spc="-1" strike="noStrike">
                <a:solidFill>
                  <a:srgbClr val="000000"/>
                </a:solidFill>
                <a:latin typeface="Simplified Arabic"/>
              </a:rPr>
              <a:t>أَلوهو نْقَبِلْ قورْبونوخْ وْنِتْرَحَمِ عْلَيْن                                                                                           </a:t>
            </a:r>
            <a:r>
              <a:rPr b="1" lang="en-US" sz="3600" spc="-1" strike="noStrike">
                <a:solidFill>
                  <a:srgbClr val="000000"/>
                </a:solidFill>
                <a:latin typeface="Simplified Arabic"/>
              </a:rPr>
              <a:t> </a:t>
            </a:r>
            <a:r>
              <a:rPr b="1" lang="ar-SA" sz="3600" spc="-1" strike="noStrike">
                <a:solidFill>
                  <a:srgbClr val="000000"/>
                </a:solidFill>
                <a:latin typeface="Simplified Arabic"/>
              </a:rPr>
              <a:t>                    </a:t>
            </a:r>
            <a:r>
              <a:rPr b="1" lang="en-US" sz="3600" spc="-1" strike="noStrike">
                <a:solidFill>
                  <a:srgbClr val="000000"/>
                </a:solidFill>
                <a:latin typeface="Simplified Arabic"/>
              </a:rPr>
              <a:t>  </a:t>
            </a:r>
            <a:r>
              <a:rPr b="1" lang="ar-SA" sz="3600" spc="-1" strike="noStrike">
                <a:solidFill>
                  <a:srgbClr val="000000"/>
                </a:solidFill>
                <a:latin typeface="Simplified Arabic"/>
              </a:rPr>
              <a:t>بَصْلوتُخْ.</a:t>
            </a:r>
            <a:endParaRPr b="0" lang="en-US" sz="3600" spc="-1" strike="noStrike">
              <a:solidFill>
                <a:srgbClr val="000000"/>
              </a:solidFill>
              <a:latin typeface="Times New Roman"/>
            </a:endParaRPr>
          </a:p>
          <a:p>
            <a:pPr algn="just" rtl="1">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	</a:t>
            </a:r>
            <a:r>
              <a:rPr b="1" lang="ar-SA" sz="3600" spc="-1" strike="noStrike">
                <a:solidFill>
                  <a:srgbClr val="000000"/>
                </a:solidFill>
                <a:latin typeface="Simplified Arabic"/>
              </a:rPr>
              <a:t>	</a:t>
            </a:r>
            <a:r>
              <a:rPr b="1" lang="ar-SA" sz="3600" spc="-1" strike="noStrike">
                <a:solidFill>
                  <a:srgbClr val="000000"/>
                </a:solidFill>
                <a:latin typeface="Simplified Arabic"/>
              </a:rPr>
              <a:t>	</a:t>
            </a:r>
            <a:r>
              <a:rPr b="1" lang="ar-SA" sz="3600" spc="-1" strike="noStrike">
                <a:solidFill>
                  <a:srgbClr val="000000"/>
                </a:solidFill>
                <a:latin typeface="Simplified Arabic"/>
              </a:rPr>
              <a:t>قبل الله قربانك ورحمنا بصلاتك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 name="33441784XVvjRh_ph" descr=""/>
          <p:cNvPicPr/>
          <p:nvPr/>
        </p:nvPicPr>
        <p:blipFill>
          <a:blip r:embed="rId1"/>
          <a:stretch/>
        </p:blipFill>
        <p:spPr>
          <a:xfrm>
            <a:off x="2251080" y="0"/>
            <a:ext cx="46404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0"/>
            <a:ext cx="9144000" cy="835488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كاهن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كلما أكلتم هذا الخبز وشربتم هذه الكأس، اصنعوا ذكري حتى مجيئي.</a:t>
            </a:r>
            <a:endParaRPr b="0" lang="en-US" sz="3600" spc="-1" strike="noStrike">
              <a:solidFill>
                <a:srgbClr val="000000"/>
              </a:solidFill>
              <a:latin typeface="Times New Roman"/>
            </a:endParaRPr>
          </a:p>
          <a:p>
            <a:pPr algn="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نذكر موتك يا رب، ونعترف بقيامتك، وننتظر  مجيئك الثاني، ونطلب منك الرحمة والحنان، ونسألك  مغفرة الخطايا.  فلتشمل مراحمك  كلنا.</a:t>
            </a:r>
            <a:endParaRPr b="0" lang="en-US" sz="3600" spc="-1" strike="noStrike">
              <a:solidFill>
                <a:srgbClr val="000000"/>
              </a:solidFill>
              <a:latin typeface="Times New Roman"/>
            </a:endParaRPr>
          </a:p>
          <a:p>
            <a:pPr algn="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كاهن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فلهذا نحن، يا  رب يا محب البشر، نذكر تدبيرك، ونبتهل اليك أن ترحم الساجدين لك، وتخلص ميراثك، يوم تظهر في آخر الزمان،  فتجازي بعدل كل إنسان بحسب أعماله، وها إن بيعتك تضرع إليك وبك ومعك الى ابيك، و هي تقول : </a:t>
            </a:r>
            <a:endParaRPr b="0" lang="en-US" sz="3600" spc="-1" strike="noStrike">
              <a:solidFill>
                <a:srgbClr val="000000"/>
              </a:solidFill>
              <a:latin typeface="Times New Roman"/>
            </a:endParaRPr>
          </a:p>
          <a:p>
            <a:pPr algn="just"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إرحمنا، أيها الرب الإله الضابط الكل، إرحمنا.</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0" y="0"/>
            <a:ext cx="9144000" cy="8625960"/>
          </a:xfrm>
          <a:prstGeom prst="rect">
            <a:avLst/>
          </a:prstGeom>
          <a:noFill/>
          <a:ln w="0">
            <a:noFill/>
          </a:ln>
        </p:spPr>
        <p:style>
          <a:lnRef idx="0"/>
          <a:fillRef idx="0"/>
          <a:effectRef idx="0"/>
          <a:fontRef idx="minor"/>
        </p:style>
        <p:txBody>
          <a:bodyPr lIns="90000" rIns="90000" tIns="46800" bIns="46800" anchor="t">
            <a:spAutoFit/>
          </a:bodyPr>
          <a:p>
            <a:pPr algn="just" rtl="1">
              <a:lnSpc>
                <a:spcPct val="8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1" lang="ar-SA" sz="3400" spc="-1" strike="noStrike">
                <a:solidFill>
                  <a:srgbClr val="000000"/>
                </a:solidFill>
                <a:latin typeface="Times New Roman"/>
                <a:ea typeface="Simplified Arabic"/>
              </a:rPr>
              <a:t>   الكاهن:</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ونحن أيضاً،  يا رب، أبناءك الخطأة، و قد قبلنا نعمك، نشكرك عنها و من اجلها كلها.</a:t>
            </a:r>
            <a:endParaRPr b="0" lang="en-US" sz="3400" spc="-1" strike="noStrike">
              <a:solidFill>
                <a:srgbClr val="000000"/>
              </a:solidFill>
              <a:latin typeface="Times New Roman"/>
            </a:endParaRPr>
          </a:p>
          <a:p>
            <a:pPr algn="just" rtl="1">
              <a:lnSpc>
                <a:spcPct val="8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ea typeface="Simplified Arabic"/>
              </a:rPr>
              <a:t>         الشعب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إياك  نسبح. إياك نمجد. إياك نبارك. لك نسجد. بك نعترف ومنك نطلب. فاشفق اللهم علينا وارحمنا واستجب لنا. </a:t>
            </a:r>
            <a:endParaRPr b="0" lang="en-US" sz="3400" spc="-1" strike="noStrike">
              <a:solidFill>
                <a:srgbClr val="000000"/>
              </a:solidFill>
              <a:latin typeface="Times New Roman"/>
            </a:endParaRPr>
          </a:p>
          <a:p>
            <a:pPr algn="just" rtl="1">
              <a:lnSpc>
                <a:spcPct val="8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ea typeface="Simplified Arabic"/>
              </a:rPr>
              <a:t>          الشماس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ما أرهبها ساعة، أحبائي، ينحدر فيها الروح الحي القدوس من ذرى الاعالي السماوية، ويحل على هذا القربان الموضوع هنا لتقديسنا.  فلنقف مصلين خاشعين، و لنهتف ثلاثا قائلين: </a:t>
            </a:r>
            <a:endParaRPr b="0" lang="en-US" sz="3400" spc="-1" strike="noStrike">
              <a:solidFill>
                <a:srgbClr val="000000"/>
              </a:solidFill>
              <a:latin typeface="Times New Roman"/>
            </a:endParaRPr>
          </a:p>
          <a:p>
            <a:pPr algn="just" rtl="1">
              <a:lnSpc>
                <a:spcPct val="8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ea typeface="Simplified Arabic"/>
              </a:rPr>
              <a:t>          الكاهن : إرحمنا،  يا رب، إرحمنا، وأرسل إلينا من سمائك روحك المحيي، و ليرف على هذا القربان، ويجعله جسدا محييا، و يسامحنا ويقدسنا.</a:t>
            </a:r>
            <a:endParaRPr b="0" lang="en-US" sz="3400" spc="-1" strike="noStrike">
              <a:solidFill>
                <a:srgbClr val="000000"/>
              </a:solidFill>
              <a:latin typeface="Times New Roman"/>
            </a:endParaRPr>
          </a:p>
          <a:p>
            <a:pPr algn="r" rtl="1">
              <a:lnSpc>
                <a:spcPct val="8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ea typeface="Simplified Arabic"/>
              </a:rPr>
              <a:t> الكاهن : إستجبنا يا رب، إستجبنا يا رب، إستجبنا يا رب وليأت روحك الحي القدوس ويحل علينا وعلى هذا القربان. </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0"/>
            <a:ext cx="8915400" cy="9479160"/>
          </a:xfrm>
          <a:prstGeom prst="rect">
            <a:avLst/>
          </a:prstGeom>
          <a:noFill/>
          <a:ln w="0">
            <a:noFill/>
          </a:ln>
        </p:spPr>
        <p:style>
          <a:lnRef idx="0"/>
          <a:fillRef idx="0"/>
          <a:effectRef idx="0"/>
          <a:fontRef idx="minor"/>
        </p:style>
        <p:txBody>
          <a:bodyPr lIns="90000" rIns="90000" tIns="46800" bIns="46800" anchor="t">
            <a:spAutoFit/>
          </a:bodyPr>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لشعب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كيرياليسون. كيرياليسون. كيرياليسون.</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ea typeface="Simplified Arabic"/>
              </a:rPr>
              <a:t> الكاهن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فيجعل بحلوله هذا الخبز + جسد المسيح الـهنا.</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ea typeface="Simplified Arabic"/>
              </a:rPr>
              <a:t> الشعب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آميـــــــن. </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لكاهن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والممزوج  في  هذه الكأس + دم المسيح  الهنا. </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لشعب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آميــــــــن.</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لكاهن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لكي تكون لنا هذه الاسرار المقدسة، لمغفرة الخطايا . وشفاء  النفس والجسد وتوطيد الضمير،  فلا يهلك أحد من شعبك المؤمن، بل أهلنا أن نحيا بروحك، ونسير بالنقاوة، ونرفع اليك المجد الآن والى الابد .</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لشعب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آميــــــن .</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0" y="0"/>
            <a:ext cx="9144000" cy="8382600"/>
          </a:xfrm>
          <a:prstGeom prst="rect">
            <a:avLst/>
          </a:prstGeom>
          <a:noFill/>
          <a:ln w="0">
            <a:noFill/>
          </a:ln>
        </p:spPr>
        <p:style>
          <a:lnRef idx="0"/>
          <a:fillRef idx="0"/>
          <a:effectRef idx="0"/>
          <a:fontRef idx="minor"/>
        </p:style>
        <p:txBody>
          <a:bodyPr lIns="90000" rIns="90000" tIns="46800" bIns="46800" anchor="t">
            <a:spAutoFit/>
          </a:bodyPr>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نقدم لك، يا رب، هذه الذبيحة الالهية، من أجل رعيتك، لاسيما من اجل آبائنا المغبوطين: مار ..... بابا رومة، ومار ..... بطرس بطريركنا الانطاكي، ومار..... مطراننا، وسائر الاساقفة المستقيمي الرأي، امنحهم يا رب، حياة لا لوم فيها وأياما مجيدة، ليرعوا شعبك بالبر والقداسة نسألك يا رب ! </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يا رب ارحم.</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ماس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من أجل شعبك القائم امامك لاسيما الذين قربوا هذه القرابين، اغفر لهم ليحيوا دائما في حضرتك، ويعرفوا ما تسبغ عليهم من الخير، لأنك الصالح غزير المراحم : نسألك  يا  رب. </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يا  رب  ارحم. </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ماس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من أجل رؤسائنا المؤمنين المحسنين الى شعبك المفتدى بدمك، أيدهم بقوتك فنعيش بأمان : نسألك يا رب ! </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يا  رب ارحم.</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0"/>
            <a:ext cx="9144000" cy="890964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نذكر الذين حسنوا لك منذ البدء، لاسيما القديسة والدة الله مريم، والانبياء و الرسل والشهداء والمعترفين ويوحنا المعمدان، واسطفانوس رئيس الشمامسة، ومار ... (شفيع الكنيسة)، ومار ... (صاحب العيد)، إشركنا يا رب في صلواتهم، وأهلنا  لنصيبهم، وهب لنا أن نتنعم معهم في ملكوتك.  نسألك يا رب!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يا رب ارحم.</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ماس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من أجل الموتى المؤمنين الراحلين منا اليك، الراقدين على رجائك، المنتظرين صوتك الحي  يدعوهم الى الحياة، اقبل القرابين التي نقربها لك عنهم، و ارحمهم في ملكوتك نسألك  يا رب!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يا رب  ارحم.</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28600" y="380880"/>
            <a:ext cx="8305920" cy="698652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كاهن: فيتمجد بنا وبكل شيء اسمك المبارك مع اسم ربنا يسوع المسيح وروحك الحي القدوس الآن والى الابد.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كما كان وهو الآن هكذا يكون الى الابد. آميـــــــن. </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كاهن: لتكن مراحم الله الآب، ومخلصنا يسوع المسيح، وحلول الروح القدس، معنا ومعكم جميعا، يا إخوتي، الى الابد .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مع  روحك.</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84" name="10079653" descr=""/>
          <p:cNvPicPr/>
          <p:nvPr/>
        </p:nvPicPr>
        <p:blipFill>
          <a:blip r:embed="rId1"/>
          <a:stretch/>
        </p:blipFill>
        <p:spPr>
          <a:xfrm>
            <a:off x="-93600" y="0"/>
            <a:ext cx="5765760" cy="7162920"/>
          </a:xfrm>
          <a:prstGeom prst="rect">
            <a:avLst/>
          </a:prstGeom>
          <a:ln w="0">
            <a:noFill/>
          </a:ln>
        </p:spPr>
      </p:pic>
      <p:sp>
        <p:nvSpPr>
          <p:cNvPr id="85" name=""/>
          <p:cNvSpPr/>
          <p:nvPr/>
        </p:nvSpPr>
        <p:spPr>
          <a:xfrm>
            <a:off x="5257800" y="228600"/>
            <a:ext cx="3886200" cy="7844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imes New Roman"/>
              </a:rPr>
              <a:t>وحدت يا رب لا هوتك بناسوتن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imes New Roman"/>
              </a:rPr>
              <a:t>وناسوتنا بلاهوتك</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imes New Roman"/>
              </a:rPr>
              <a:t>حياتك بموتن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imes New Roman"/>
              </a:rPr>
              <a:t>وموتنا بحياتك</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imes New Roman"/>
              </a:rPr>
              <a:t>أخذت ما لنا ووهبتنا ما لك</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imes New Roman"/>
              </a:rPr>
              <a:t>لتحيينا وتخلصن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imes New Roman"/>
              </a:rPr>
              <a:t>لك المجد إلى الأبد</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6" name=""/>
          <p:cNvSpPr/>
          <p:nvPr/>
        </p:nvSpPr>
        <p:spPr>
          <a:xfrm>
            <a:off x="228600" y="380880"/>
            <a:ext cx="8534520" cy="3034800"/>
          </a:xfrm>
          <a:prstGeom prst="rect">
            <a:avLst/>
          </a:prstGeom>
          <a:noFill/>
          <a:ln w="0">
            <a:noFill/>
          </a:ln>
        </p:spPr>
        <p:style>
          <a:lnRef idx="0"/>
          <a:fillRef idx="0"/>
          <a:effectRef idx="0"/>
          <a:fontRef idx="minor"/>
        </p:style>
        <p:txBody>
          <a:bodyPr lIns="90000" rIns="90000" tIns="46800" bIns="46800" anchor="t">
            <a:spAutoFit/>
          </a:bodyPr>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الكاهن </a:t>
            </a:r>
            <a:r>
              <a:rPr b="1" lang="ar-SA" sz="2400" spc="-1" strike="noStrike">
                <a:solidFill>
                  <a:srgbClr val="000000"/>
                </a:solidFill>
                <a:latin typeface="Times New Roman"/>
                <a:ea typeface="Simplified Arabic"/>
              </a:rPr>
              <a:t>:</a:t>
            </a:r>
            <a:r>
              <a:rPr b="1" lang="ar-SA" sz="2400" spc="-1" strike="noStrike">
                <a:solidFill>
                  <a:srgbClr val="000000"/>
                </a:solidFill>
                <a:latin typeface="Times New Roman"/>
                <a:ea typeface="Simplified Arabic"/>
              </a:rPr>
              <a:t>	</a:t>
            </a:r>
            <a:r>
              <a:rPr b="1" lang="ar-SA" sz="4000" spc="-1" strike="noStrike">
                <a:solidFill>
                  <a:srgbClr val="000000"/>
                </a:solidFill>
                <a:latin typeface="Times New Roman"/>
                <a:cs typeface="Simplified Arabic"/>
              </a:rPr>
              <a:t>أيها الرب الرؤوف، أهلنا، نحن الضعفاء، أن نصلي بنقاوة وقداسة، ونهتف قائلين : </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2007534bIqTxUplBD_ph" descr=""/>
          <p:cNvPicPr/>
          <p:nvPr/>
        </p:nvPicPr>
        <p:blipFill>
          <a:blip r:embed="rId1"/>
          <a:stretch/>
        </p:blipFill>
        <p:spPr>
          <a:xfrm>
            <a:off x="0" y="0"/>
            <a:ext cx="9144000" cy="6858000"/>
          </a:xfrm>
          <a:prstGeom prst="rect">
            <a:avLst/>
          </a:prstGeom>
          <a:ln w="0">
            <a:noFill/>
          </a:ln>
        </p:spPr>
      </p:pic>
      <p:sp>
        <p:nvSpPr>
          <p:cNvPr id="88" name=""/>
          <p:cNvSpPr/>
          <p:nvPr/>
        </p:nvSpPr>
        <p:spPr>
          <a:xfrm>
            <a:off x="6934320" y="0"/>
            <a:ext cx="2209680" cy="11482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Times New Roman"/>
              </a:rPr>
              <a:t>أبانا الذي في السماوات ليتقدس اسمك، ليأت ملكوتك، لتكن مشيئتك، كما في السماء كذلك على الارض اعطنا خبزنا كفاف يومنا، و اغفر لنا ذنوبنا وخطايانا</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89" name=""/>
          <p:cNvSpPr/>
          <p:nvPr/>
        </p:nvSpPr>
        <p:spPr>
          <a:xfrm>
            <a:off x="0" y="0"/>
            <a:ext cx="2133720" cy="9929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كما نحن نغفر لمن خطىء  و أساء  إلينا، ولا تدخلنا في التجارب، لكن نجنا من الشرير، لأن لك الملك والقوة والمجد، الى أبد الآبدين. آمين</a:t>
            </a:r>
            <a:r>
              <a:rPr b="1" lang="ar-SA" sz="34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0"/>
            <a:ext cx="8915400" cy="828360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هللوي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بنُهرُخ حزِنَن نوهرُا   يشوع ملا نُوهرُ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داتاُ نوهروُا شريرُا  دمَنهَر بِريُت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أنهَر لن بنُهرُخ غاياُ  وحدَا لن بندخه دصفرُخ</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 </a:t>
            </a:r>
            <a:endParaRPr b="0" lang="en-US" sz="4000" spc="-1" strike="noStrike">
              <a:solidFill>
                <a:srgbClr val="000000"/>
              </a:solidFill>
              <a:latin typeface="Times New Roman"/>
            </a:endParaRPr>
          </a:p>
          <a:p>
            <a:pPr algn="r" rtl="1">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بنورك نرى النور يا يسوع  يا ملء النور</a:t>
            </a:r>
            <a:endParaRPr b="0" lang="en-US" sz="4000" spc="-1" strike="noStrike">
              <a:solidFill>
                <a:srgbClr val="000000"/>
              </a:solidFill>
              <a:latin typeface="Times New Roman"/>
            </a:endParaRPr>
          </a:p>
          <a:p>
            <a:pPr algn="r" rtl="1">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في نورك الحقيقي تنير البرايا</a:t>
            </a:r>
            <a:endParaRPr b="0" lang="en-US" sz="4000" spc="-1" strike="noStrike">
              <a:solidFill>
                <a:srgbClr val="000000"/>
              </a:solidFill>
              <a:latin typeface="Times New Roman"/>
            </a:endParaRPr>
          </a:p>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أنرنا بنورك الوضاح وأبهجنا بصباحك المضيء</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0" y="0"/>
            <a:ext cx="8763120" cy="755820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كاهن:      أجل، أيها الرب الحنون، لا تهملنا لئلا تقوى علينا التجربة، بل خلصنا من الشرير، ومن طرقه الملتوية، لأن لك الملكوت ولإبنك الوحيد وروحك القدوس، الآن و الى الابد.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آميـــــــ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كاهن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سلام لجميعك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مع  روحك.</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457200"/>
            <a:ext cx="8686800" cy="753516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ماس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أحنوا رؤوسكم أمام الله الرؤوف، وأمام مذبحه الغافر، و أمام جسد مخلصنا و دمه المحيي لمن يتناوله واقبلوا البركة من الرب. </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كاهن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بارك يا رب شعبك المؤمن المنحني امامك، أنقذنا من كل أذى، وأهلنا أن نشترك بنقاوة و قداسة في هذه الاسرار الالهية، فنسامح، و نتقدس، و نرفع اليك المجد الآن و الى الابد.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آميـــــــ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80880" y="380880"/>
            <a:ext cx="8458200" cy="700956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كاهن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نعمة الثالوث الاقدس الازلي المتساوي في الجوهر معكم يا إخوتي الى الابد.</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معه روحك.</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ماس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لينظر كل واحد منا الى الله بتهيب وخشوع، وليسأله الرحمة والحنا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228600"/>
            <a:ext cx="8915400" cy="80838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Simplified Arabic"/>
              </a:rPr>
              <a:t>الدعوة الى المناول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كاهن: الأقداس للقديسين بالكمال والنقاوة والقداس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آب واحد قدوس / إبن واحد قدوس / روح واحد قدوس / تبارك اسم الرب / لانه واحد في  السماء وعلى الارض / له المجد الى الابد.  آميـــن.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جميع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أهلنا أيها الرب الاله، أن يقدس جسدك القدوس أجسادنا، وينقي دمك الغفور نفوسنا وليكن تناولنا لمغفرة خطايانا وللحياة الجديدة : يا ربنا والهنا لك المجد الى الابد.</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
          <p:cNvSpPr/>
          <p:nvPr/>
        </p:nvSpPr>
        <p:spPr>
          <a:xfrm>
            <a:off x="5943600" y="304920"/>
            <a:ext cx="29718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5867280" y="457200"/>
            <a:ext cx="2971800" cy="5160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abic Transparent"/>
              </a:rPr>
              <a:t>إليك رفعتُ عينيَّ – يا ساكنَ السمواتِ</a:t>
            </a:r>
            <a:endParaRPr b="0" lang="en-US" sz="40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abic Transparent"/>
              </a:rPr>
              <a:t>كما أن عيونَ العبيدِ إلى أيدي مواليهم</a:t>
            </a:r>
            <a:r>
              <a:rPr b="0" lang="ar-SA" sz="2400" spc="-1" strike="noStrike">
                <a:solidFill>
                  <a:srgbClr val="ffffcc"/>
                </a:solidFill>
                <a:latin typeface="Times New Roman"/>
              </a:rPr>
              <a:t> </a:t>
            </a:r>
            <a:endParaRPr b="0" lang="en-US" sz="2400" spc="-1" strike="noStrike">
              <a:solidFill>
                <a:srgbClr val="000000"/>
              </a:solidFill>
              <a:latin typeface="Times New Roman"/>
            </a:endParaRPr>
          </a:p>
        </p:txBody>
      </p:sp>
      <p:pic>
        <p:nvPicPr>
          <p:cNvPr id="96" name="26214415eDIwaFNgfZ_ph" descr=""/>
          <p:cNvPicPr/>
          <p:nvPr/>
        </p:nvPicPr>
        <p:blipFill>
          <a:blip r:embed="rId1"/>
          <a:stretch/>
        </p:blipFill>
        <p:spPr>
          <a:xfrm>
            <a:off x="0" y="0"/>
            <a:ext cx="564840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2148621aZKcNdfpQu_ph" descr=""/>
          <p:cNvPicPr/>
          <p:nvPr/>
        </p:nvPicPr>
        <p:blipFill>
          <a:blip r:embed="rId1"/>
          <a:stretch/>
        </p:blipFill>
        <p:spPr>
          <a:xfrm>
            <a:off x="0" y="0"/>
            <a:ext cx="5435640" cy="6858000"/>
          </a:xfrm>
          <a:prstGeom prst="rect">
            <a:avLst/>
          </a:prstGeom>
          <a:ln w="0">
            <a:noFill/>
          </a:ln>
        </p:spPr>
      </p:pic>
      <p:sp>
        <p:nvSpPr>
          <p:cNvPr id="98" name=""/>
          <p:cNvSpPr/>
          <p:nvPr/>
        </p:nvSpPr>
        <p:spPr>
          <a:xfrm>
            <a:off x="5410080" y="228600"/>
            <a:ext cx="3505320" cy="8233200"/>
          </a:xfrm>
          <a:prstGeom prst="rect">
            <a:avLst/>
          </a:prstGeom>
          <a:noFill/>
          <a:ln w="0">
            <a:noFill/>
          </a:ln>
        </p:spPr>
        <p:style>
          <a:lnRef idx="0"/>
          <a:fillRef idx="0"/>
          <a:effectRef idx="0"/>
          <a:fontRef idx="minor"/>
        </p:style>
        <p:txBody>
          <a:bodyPr lIns="90000" rIns="90000" tIns="46800" bIns="46800" anchor="t">
            <a:spAutoFit/>
          </a:bodyPr>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Arabic Transparent"/>
              </a:rPr>
              <a:t>كما أن عينيَّ الأَمَةِ إلى سيِّدَتِها</a:t>
            </a:r>
            <a:endParaRPr b="0" lang="en-US" sz="4000" spc="-1" strike="noStrike">
              <a:solidFill>
                <a:srgbClr val="000000"/>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Arabic Transparent"/>
              </a:rPr>
              <a:t>كذلك عيونُنا إلى الربِّ إلهِنا</a:t>
            </a:r>
            <a:endParaRPr b="0" lang="en-US" sz="4000" spc="-1" strike="noStrike">
              <a:solidFill>
                <a:srgbClr val="000000"/>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Arabic Transparent"/>
              </a:rPr>
              <a:t>حتى يتحنَّنَ علينا – تحنَّنْ علينا يا ر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Times New Roman"/>
              </a:rPr>
              <a:t>تحنَّنْ علينا فقد طالما امتلأنا هوانا</a:t>
            </a:r>
            <a:r>
              <a:rPr b="0" lang="ar-SA" sz="2400" spc="-1" strike="noStrike">
                <a:solidFill>
                  <a:srgbClr val="ccecff"/>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99" name="15215561trgpRaNsdy_ph" descr=""/>
          <p:cNvPicPr/>
          <p:nvPr/>
        </p:nvPicPr>
        <p:blipFill>
          <a:blip r:embed="rId1"/>
          <a:stretch/>
        </p:blipFill>
        <p:spPr>
          <a:xfrm>
            <a:off x="0" y="1225440"/>
            <a:ext cx="9144000" cy="5632560"/>
          </a:xfrm>
          <a:prstGeom prst="rect">
            <a:avLst/>
          </a:prstGeom>
          <a:ln w="0">
            <a:noFill/>
          </a:ln>
        </p:spPr>
      </p:pic>
      <p:sp>
        <p:nvSpPr>
          <p:cNvPr id="100" name=""/>
          <p:cNvSpPr/>
          <p:nvPr/>
        </p:nvSpPr>
        <p:spPr>
          <a:xfrm>
            <a:off x="0" y="0"/>
            <a:ext cx="8839080" cy="1747080"/>
          </a:xfrm>
          <a:prstGeom prst="rect">
            <a:avLst/>
          </a:prstGeom>
          <a:noFill/>
          <a:ln w="0">
            <a:noFill/>
          </a:ln>
        </p:spPr>
        <p:style>
          <a:lnRef idx="0"/>
          <a:fillRef idx="0"/>
          <a:effectRef idx="0"/>
          <a:fontRef idx="minor"/>
        </p:style>
        <p:txBody>
          <a:bodyPr lIns="90000" rIns="90000" tIns="46800" bIns="46800" anchor="t">
            <a:spAutoFit/>
          </a:bodyPr>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طالما امتلأت نفوسنا من هُزُءِ المترفين</a:t>
            </a:r>
            <a:endParaRPr b="0" lang="en-US" sz="4000" spc="-1" strike="noStrike">
              <a:solidFill>
                <a:srgbClr val="000000"/>
              </a:solidFill>
              <a:latin typeface="Times New Roman"/>
            </a:endParaRPr>
          </a:p>
          <a:p>
            <a:pPr algn="r" rtl="1">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إهانَةِ المتكبرين</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1" name="23218930oKHvfCUQyf_ph" descr=""/>
          <p:cNvPicPr/>
          <p:nvPr/>
        </p:nvPicPr>
        <p:blipFill>
          <a:blip r:embed="rId2"/>
          <a:stretch/>
        </p:blipFill>
        <p:spPr>
          <a:xfrm>
            <a:off x="2286000" y="0"/>
            <a:ext cx="9753480" cy="6858000"/>
          </a:xfrm>
          <a:prstGeom prst="rect">
            <a:avLst/>
          </a:prstGeom>
          <a:ln w="0">
            <a:noFill/>
          </a:ln>
        </p:spPr>
      </p:pic>
      <p:sp>
        <p:nvSpPr>
          <p:cNvPr id="102" name=""/>
          <p:cNvSpPr/>
          <p:nvPr/>
        </p:nvSpPr>
        <p:spPr>
          <a:xfrm>
            <a:off x="0" y="380880"/>
            <a:ext cx="2057400" cy="894420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Times New Roman"/>
                <a:cs typeface="Arabic Transparent"/>
              </a:rPr>
              <a:t>قلتُ إني أُحافِظ على طُرُقي لِئلا أَخطأُ وأحفَظُ فمي مُلجم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Times New Roman"/>
                <a:cs typeface="Times New Roman"/>
              </a:rPr>
              <a:t>ما دامَ المُنافِقُ أمامي</a:t>
            </a:r>
            <a:r>
              <a:rPr b="0"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26257861dvzHEdJlPs_ph" descr=""/>
          <p:cNvPicPr/>
          <p:nvPr/>
        </p:nvPicPr>
        <p:blipFill>
          <a:blip r:embed="rId1"/>
          <a:stretch/>
        </p:blipFill>
        <p:spPr>
          <a:xfrm>
            <a:off x="0" y="0"/>
            <a:ext cx="9144000" cy="6858000"/>
          </a:xfrm>
          <a:prstGeom prst="rect">
            <a:avLst/>
          </a:prstGeom>
          <a:ln w="0">
            <a:noFill/>
          </a:ln>
        </p:spPr>
      </p:pic>
      <p:sp>
        <p:nvSpPr>
          <p:cNvPr id="104" name=""/>
          <p:cNvSpPr/>
          <p:nvPr/>
        </p:nvSpPr>
        <p:spPr>
          <a:xfrm>
            <a:off x="0" y="380880"/>
            <a:ext cx="8839080" cy="284940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Arabic Transparent"/>
              </a:rPr>
              <a:t>خرجتُ ساكناً صمَتُّ </a:t>
            </a:r>
            <a:r>
              <a:rPr b="1" lang="en-US" sz="4000" spc="-1" strike="noStrike">
                <a:solidFill>
                  <a:srgbClr val="ffffcc"/>
                </a:solidFill>
                <a:latin typeface="Times New Roman"/>
                <a:ea typeface="Arabic Transparent"/>
              </a:rPr>
              <a:t>                </a:t>
            </a:r>
            <a:r>
              <a:rPr b="1" lang="ar-SA" sz="4000" spc="-1" strike="noStrike">
                <a:solidFill>
                  <a:srgbClr val="ffffcc"/>
                </a:solidFill>
                <a:latin typeface="Times New Roman"/>
                <a:cs typeface="Arabic Transparent"/>
              </a:rPr>
              <a:t>بِمعزِلٍ عن الخيرِ</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فهاجَ وجعي توهَّجَ </a:t>
            </a:r>
            <a:r>
              <a:rPr b="1" lang="en-US" sz="4000" spc="-1" strike="noStrike">
                <a:solidFill>
                  <a:srgbClr val="ffffcc"/>
                </a:solidFill>
                <a:latin typeface="Times New Roman"/>
                <a:ea typeface="Times New Roman"/>
              </a:rPr>
              <a:t>                   </a:t>
            </a:r>
            <a:r>
              <a:rPr b="1" lang="ar-SA" sz="4000" spc="-1" strike="noStrike">
                <a:solidFill>
                  <a:srgbClr val="ffffcc"/>
                </a:solidFill>
                <a:latin typeface="Times New Roman"/>
                <a:cs typeface="Times New Roman"/>
              </a:rPr>
              <a:t>قلبي في داخلي</a:t>
            </a:r>
            <a:r>
              <a:rPr b="0"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5" name="26257881GtFSRoCSIN_ph" descr=""/>
          <p:cNvPicPr/>
          <p:nvPr/>
        </p:nvPicPr>
        <p:blipFill>
          <a:blip r:embed="rId1"/>
          <a:stretch/>
        </p:blipFill>
        <p:spPr>
          <a:xfrm>
            <a:off x="0" y="0"/>
            <a:ext cx="6705720" cy="6858000"/>
          </a:xfrm>
          <a:prstGeom prst="rect">
            <a:avLst/>
          </a:prstGeom>
          <a:ln w="0">
            <a:noFill/>
          </a:ln>
        </p:spPr>
      </p:pic>
      <p:sp>
        <p:nvSpPr>
          <p:cNvPr id="106" name=""/>
          <p:cNvSpPr/>
          <p:nvPr/>
        </p:nvSpPr>
        <p:spPr>
          <a:xfrm>
            <a:off x="6934320" y="457200"/>
            <a:ext cx="1752480" cy="7467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66"/>
                </a:solidFill>
                <a:latin typeface="Times New Roman"/>
                <a:cs typeface="Times New Roman"/>
              </a:rPr>
              <a:t>في هذيذي اتقدت فيَّ نارٌ فأطلقتَ لِسان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0"/>
            <a:ext cx="9144000" cy="80683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هللوي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يا يسوع ربنا يا نوراً من نور جئناك وقلبنا بالحب مغمورفاقبل منا حبنا واملأ قلبنا بالنور</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ea typeface="Times New Roman"/>
              </a:rPr>
              <a:t> هللوي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حسيُا وقديشاُ بمديُري نوهرُا  كلي مِنَنْ حشا بيشا وحُوشبا سنيُا</a:t>
            </a:r>
            <a:r>
              <a:rPr b="1" lang="en-US" sz="4000" spc="-1" strike="noStrike">
                <a:solidFill>
                  <a:srgbClr val="000000"/>
                </a:solidFill>
                <a:latin typeface="Times New Roman"/>
                <a:ea typeface="Times New Roman"/>
              </a:rPr>
              <a:t> </a:t>
            </a:r>
            <a:r>
              <a:rPr b="1" lang="ar-SA" sz="4000" spc="-1" strike="noStrike">
                <a:solidFill>
                  <a:srgbClr val="000000"/>
                </a:solidFill>
                <a:latin typeface="Times New Roman"/>
                <a:cs typeface="Times New Roman"/>
              </a:rPr>
              <a:t>وهبلن دَبدَخيوُت لبُا نعبد عبدا دكينوت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ea typeface="Times New Roman"/>
              </a:rPr>
              <a:t> يا قدوسا سكناه مدينة النور قدسنا وأبعد عنا شر الأشرار</a:t>
            </a:r>
            <a:r>
              <a:rPr b="1" lang="en-US" sz="4000" spc="-1" strike="noStrike">
                <a:solidFill>
                  <a:srgbClr val="000000"/>
                </a:solidFill>
                <a:latin typeface="Times New Roman"/>
                <a:ea typeface="Times New Roman"/>
              </a:rPr>
              <a:t> </a:t>
            </a:r>
            <a:r>
              <a:rPr b="1" lang="ar-SA" sz="4000" spc="-1" strike="noStrike">
                <a:solidFill>
                  <a:srgbClr val="000000"/>
                </a:solidFill>
                <a:latin typeface="Times New Roman"/>
                <a:cs typeface="Times New Roman"/>
              </a:rPr>
              <a:t>وأعطنا أن نعبدك بقلب نقي عبادة الأبرار</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07" name="41940193eoCHDP_ph" descr=""/>
          <p:cNvPicPr/>
          <p:nvPr/>
        </p:nvPicPr>
        <p:blipFill>
          <a:blip r:embed="rId1"/>
          <a:stretch/>
        </p:blipFill>
        <p:spPr>
          <a:xfrm>
            <a:off x="3352680" y="0"/>
            <a:ext cx="7620120" cy="6858000"/>
          </a:xfrm>
          <a:prstGeom prst="rect">
            <a:avLst/>
          </a:prstGeom>
          <a:ln w="0">
            <a:noFill/>
          </a:ln>
        </p:spPr>
      </p:pic>
      <p:sp>
        <p:nvSpPr>
          <p:cNvPr id="108" name=""/>
          <p:cNvSpPr/>
          <p:nvPr/>
        </p:nvSpPr>
        <p:spPr>
          <a:xfrm>
            <a:off x="228600" y="380880"/>
            <a:ext cx="2590920" cy="801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والآنَ ما الذي أرجوهُ أيها السيدُ إنما أنتَ أملي أنقِذني من جميعِ مَعاصيَّ ولا تجعلني للأحمقِ عاراً</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00"/>
        </a:solidFill>
      </p:bgPr>
    </p:bg>
    <p:spTree>
      <p:nvGrpSpPr>
        <p:cNvPr id="1" name=""/>
        <p:cNvGrpSpPr/>
        <p:nvPr/>
      </p:nvGrpSpPr>
      <p:grpSpPr>
        <a:xfrm>
          <a:off x="0" y="0"/>
          <a:ext cx="0" cy="0"/>
          <a:chOff x="0" y="0"/>
          <a:chExt cx="0" cy="0"/>
        </a:xfrm>
      </p:grpSpPr>
      <p:pic>
        <p:nvPicPr>
          <p:cNvPr id="109" name="15324937uKhisKVkwI_ph" descr=""/>
          <p:cNvPicPr/>
          <p:nvPr/>
        </p:nvPicPr>
        <p:blipFill>
          <a:blip r:embed="rId1"/>
          <a:stretch/>
        </p:blipFill>
        <p:spPr>
          <a:xfrm>
            <a:off x="0" y="0"/>
            <a:ext cx="5486400" cy="6858000"/>
          </a:xfrm>
          <a:prstGeom prst="rect">
            <a:avLst/>
          </a:prstGeom>
          <a:ln w="0">
            <a:noFill/>
          </a:ln>
        </p:spPr>
      </p:pic>
      <p:sp>
        <p:nvSpPr>
          <p:cNvPr id="110" name=""/>
          <p:cNvSpPr/>
          <p:nvPr/>
        </p:nvSpPr>
        <p:spPr>
          <a:xfrm>
            <a:off x="5791320" y="380880"/>
            <a:ext cx="2895480" cy="88362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Times New Roman"/>
                <a:cs typeface="Arabic Transparent"/>
              </a:rPr>
              <a:t>قد خرِستُ لم أفتح فمي لأنكَ أنتَ فعلتَ إصرف عني ضربتَك</a:t>
            </a:r>
            <a:endParaRPr b="0" lang="en-US" sz="4400" spc="-1" strike="noStrike">
              <a:solidFill>
                <a:srgbClr val="000000"/>
              </a:solidFill>
              <a:latin typeface="Times New Roman"/>
            </a:endParaRPr>
          </a:p>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Times New Roman"/>
                <a:cs typeface="Arabic Transparent"/>
              </a:rPr>
              <a:t>فقد فنيتُ من بطشِ يدكَ</a:t>
            </a:r>
            <a:endParaRPr b="0" lang="en-US" sz="4400" spc="-1" strike="noStrike">
              <a:solidFill>
                <a:srgbClr val="000000"/>
              </a:solidFill>
              <a:latin typeface="Times New Roman"/>
            </a:endParaRPr>
          </a:p>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111" name="49165714WSZoyV_ph" descr=""/>
          <p:cNvPicPr/>
          <p:nvPr/>
        </p:nvPicPr>
        <p:blipFill>
          <a:blip r:embed="rId1"/>
          <a:stretch/>
        </p:blipFill>
        <p:spPr>
          <a:xfrm>
            <a:off x="-101520" y="0"/>
            <a:ext cx="6197400" cy="6858000"/>
          </a:xfrm>
          <a:prstGeom prst="rect">
            <a:avLst/>
          </a:prstGeom>
          <a:ln w="0">
            <a:noFill/>
          </a:ln>
        </p:spPr>
      </p:pic>
      <p:sp>
        <p:nvSpPr>
          <p:cNvPr id="112" name=""/>
          <p:cNvSpPr/>
          <p:nvPr/>
        </p:nvSpPr>
        <p:spPr>
          <a:xfrm>
            <a:off x="6324480" y="380880"/>
            <a:ext cx="2819520" cy="94784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Times New Roman"/>
                <a:cs typeface="Arabic Transparent"/>
              </a:rPr>
              <a:t>إستمع صلاتي يا ربِ وأَصخْ لاستغاثتي ولا تصمُت عن دموعي فإني غريبٌ عندَك ونزيلٌ كجميعِ أبائي</a:t>
            </a:r>
            <a:r>
              <a:rPr b="1" lang="ar-SA" sz="4400" spc="-1" strike="noStrike">
                <a:solidFill>
                  <a:srgbClr val="ffffcc"/>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13" name=""/>
          <p:cNvSpPr/>
          <p:nvPr/>
        </p:nvSpPr>
        <p:spPr>
          <a:xfrm>
            <a:off x="6248520" y="304920"/>
            <a:ext cx="2895480" cy="85251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إلى ديار الر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pic>
        <p:nvPicPr>
          <p:cNvPr id="114" name="495687_ph" descr=""/>
          <p:cNvPicPr/>
          <p:nvPr/>
        </p:nvPicPr>
        <p:blipFill>
          <a:blip r:embed="rId1"/>
          <a:stretch/>
        </p:blipFill>
        <p:spPr>
          <a:xfrm>
            <a:off x="-304920" y="0"/>
            <a:ext cx="9448920" cy="8458200"/>
          </a:xfrm>
          <a:prstGeom prst="rect">
            <a:avLst/>
          </a:prstGeom>
          <a:ln w="0">
            <a:noFill/>
          </a:ln>
        </p:spPr>
      </p:pic>
      <p:sp>
        <p:nvSpPr>
          <p:cNvPr id="115" name=""/>
          <p:cNvSpPr/>
          <p:nvPr/>
        </p:nvSpPr>
        <p:spPr>
          <a:xfrm>
            <a:off x="-457200" y="0"/>
            <a:ext cx="9372600" cy="7357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إلى ديار الر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a:t>
            </a:r>
            <a:r>
              <a:rPr b="1" lang="en-US" sz="4000" spc="-1" strike="noStrike">
                <a:solidFill>
                  <a:srgbClr val="000000"/>
                </a:solidFill>
                <a:latin typeface="Times New Roman"/>
                <a:ea typeface="Times New Roman"/>
              </a:rPr>
              <a:t>               </a:t>
            </a:r>
            <a:r>
              <a:rPr b="1" lang="ar-SA" sz="4000" spc="-1" strike="noStrike">
                <a:solidFill>
                  <a:srgbClr val="000000"/>
                </a:solidFill>
                <a:latin typeface="Times New Roman"/>
                <a:cs typeface="Times New Roman"/>
              </a:rPr>
              <a:t>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6324480" y="304920"/>
            <a:ext cx="2819520" cy="80427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إن يوماً واحداً في دياركَ خيرٌ من آلاف</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آثرتُ أَن أَطرَحَ عِنْدَ عتبةِ بيتِ إلهي</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على أن أَنزلَ في منازلِ الخطأة</a:t>
            </a:r>
            <a:endParaRPr b="0" lang="en-US" sz="4000" spc="-1" strike="noStrike">
              <a:solidFill>
                <a:srgbClr val="000000"/>
              </a:solidFill>
              <a:latin typeface="Times New Roman"/>
            </a:endParaRPr>
          </a:p>
        </p:txBody>
      </p:sp>
      <p:pic>
        <p:nvPicPr>
          <p:cNvPr id="117" name="23451070cXNiyMwIsJ_ph" descr=""/>
          <p:cNvPicPr/>
          <p:nvPr/>
        </p:nvPicPr>
        <p:blipFill>
          <a:blip r:embed="rId2"/>
          <a:stretch/>
        </p:blipFill>
        <p:spPr>
          <a:xfrm>
            <a:off x="0" y="0"/>
            <a:ext cx="6324480" cy="6858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18" name=""/>
          <p:cNvSpPr/>
          <p:nvPr/>
        </p:nvSpPr>
        <p:spPr>
          <a:xfrm>
            <a:off x="6248520" y="304920"/>
            <a:ext cx="2895480" cy="85251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إلى ديار الر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pic>
        <p:nvPicPr>
          <p:cNvPr id="119" name="495687_ph" descr=""/>
          <p:cNvPicPr/>
          <p:nvPr/>
        </p:nvPicPr>
        <p:blipFill>
          <a:blip r:embed="rId1"/>
          <a:stretch/>
        </p:blipFill>
        <p:spPr>
          <a:xfrm>
            <a:off x="-304920" y="0"/>
            <a:ext cx="9448920" cy="8458200"/>
          </a:xfrm>
          <a:prstGeom prst="rect">
            <a:avLst/>
          </a:prstGeom>
          <a:ln w="0">
            <a:noFill/>
          </a:ln>
        </p:spPr>
      </p:pic>
      <p:sp>
        <p:nvSpPr>
          <p:cNvPr id="120" name=""/>
          <p:cNvSpPr/>
          <p:nvPr/>
        </p:nvSpPr>
        <p:spPr>
          <a:xfrm>
            <a:off x="-457200" y="0"/>
            <a:ext cx="9372600" cy="7357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إلى ديار الر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a:t>
            </a:r>
            <a:r>
              <a:rPr b="1" lang="en-US" sz="4000" spc="-1" strike="noStrike">
                <a:solidFill>
                  <a:srgbClr val="000000"/>
                </a:solidFill>
                <a:latin typeface="Times New Roman"/>
                <a:ea typeface="Times New Roman"/>
              </a:rPr>
              <a:t>               </a:t>
            </a:r>
            <a:r>
              <a:rPr b="1" lang="ar-SA" sz="4000" spc="-1" strike="noStrike">
                <a:solidFill>
                  <a:srgbClr val="000000"/>
                </a:solidFill>
                <a:latin typeface="Times New Roman"/>
                <a:cs typeface="Times New Roman"/>
              </a:rPr>
              <a:t>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1" name="31368130RjrjRHULen_ph" descr=""/>
          <p:cNvPicPr/>
          <p:nvPr/>
        </p:nvPicPr>
        <p:blipFill>
          <a:blip r:embed="rId2"/>
          <a:stretch/>
        </p:blipFill>
        <p:spPr>
          <a:xfrm>
            <a:off x="0" y="0"/>
            <a:ext cx="6400800" cy="6858000"/>
          </a:xfrm>
          <a:prstGeom prst="rect">
            <a:avLst/>
          </a:prstGeom>
          <a:ln w="0">
            <a:noFill/>
          </a:ln>
        </p:spPr>
      </p:pic>
      <p:sp>
        <p:nvSpPr>
          <p:cNvPr id="122" name=""/>
          <p:cNvSpPr/>
          <p:nvPr/>
        </p:nvSpPr>
        <p:spPr>
          <a:xfrm>
            <a:off x="6172200" y="0"/>
            <a:ext cx="2971800" cy="1106460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ن لي بمذابحِكَ يا ربَّ الأكوان ملكي وإلهي</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طوبى لسكان بييتك إلى دهر الدهور</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يُسَبِّحونكَ طوبى للذين نصَرتُهُم مِن قِبَلِكَ فإنَّ في قلوبِهِم مراقي إليكَ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23" name=""/>
          <p:cNvSpPr/>
          <p:nvPr/>
        </p:nvSpPr>
        <p:spPr>
          <a:xfrm>
            <a:off x="6248520" y="304920"/>
            <a:ext cx="2895480" cy="85251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إلى ديار الر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pic>
        <p:nvPicPr>
          <p:cNvPr id="124" name="495687_ph" descr=""/>
          <p:cNvPicPr/>
          <p:nvPr/>
        </p:nvPicPr>
        <p:blipFill>
          <a:blip r:embed="rId1"/>
          <a:stretch/>
        </p:blipFill>
        <p:spPr>
          <a:xfrm>
            <a:off x="-304920" y="0"/>
            <a:ext cx="9448920" cy="8458200"/>
          </a:xfrm>
          <a:prstGeom prst="rect">
            <a:avLst/>
          </a:prstGeom>
          <a:ln w="0">
            <a:noFill/>
          </a:ln>
        </p:spPr>
      </p:pic>
      <p:sp>
        <p:nvSpPr>
          <p:cNvPr id="125" name=""/>
          <p:cNvSpPr/>
          <p:nvPr/>
        </p:nvSpPr>
        <p:spPr>
          <a:xfrm>
            <a:off x="-457200" y="0"/>
            <a:ext cx="9372600" cy="7357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إلى ديار الر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a:t>
            </a:r>
            <a:r>
              <a:rPr b="1" lang="en-US" sz="4000" spc="-1" strike="noStrike">
                <a:solidFill>
                  <a:srgbClr val="000000"/>
                </a:solidFill>
                <a:latin typeface="Times New Roman"/>
                <a:ea typeface="Times New Roman"/>
              </a:rPr>
              <a:t>               </a:t>
            </a:r>
            <a:r>
              <a:rPr b="1" lang="ar-SA" sz="4000" spc="-1" strike="noStrike">
                <a:solidFill>
                  <a:srgbClr val="000000"/>
                </a:solidFill>
                <a:latin typeface="Times New Roman"/>
                <a:cs typeface="Times New Roman"/>
              </a:rPr>
              <a:t>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pic>
        <p:nvPicPr>
          <p:cNvPr id="126" name="27731970FdghszlVNG_ph" descr=""/>
          <p:cNvPicPr/>
          <p:nvPr/>
        </p:nvPicPr>
        <p:blipFill>
          <a:blip r:embed="rId1"/>
          <a:stretch/>
        </p:blipFill>
        <p:spPr>
          <a:xfrm>
            <a:off x="0" y="0"/>
            <a:ext cx="6572160" cy="6858000"/>
          </a:xfrm>
          <a:prstGeom prst="rect">
            <a:avLst/>
          </a:prstGeom>
          <a:ln w="0">
            <a:noFill/>
          </a:ln>
        </p:spPr>
      </p:pic>
      <p:sp>
        <p:nvSpPr>
          <p:cNvPr id="127" name=""/>
          <p:cNvSpPr/>
          <p:nvPr/>
        </p:nvSpPr>
        <p:spPr>
          <a:xfrm>
            <a:off x="6400800" y="304920"/>
            <a:ext cx="2438280" cy="83347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Arabic Transparent"/>
              </a:rPr>
              <a:t>يا رب إلَهَ الأكوانِ استَمِعْ صلاتي أَصِخْ يا إلَهَ يعقوبْ</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أُنْظُر أيُّها المحامي عنّا والتَفِت إلى وجهِ مسيحِكَ</a:t>
            </a:r>
            <a:r>
              <a:rPr b="0"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28" name=""/>
          <p:cNvSpPr/>
          <p:nvPr/>
        </p:nvSpPr>
        <p:spPr>
          <a:xfrm>
            <a:off x="6248520" y="304920"/>
            <a:ext cx="2895480" cy="85251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إلى ديار الر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pic>
        <p:nvPicPr>
          <p:cNvPr id="129" name="495687_ph" descr=""/>
          <p:cNvPicPr/>
          <p:nvPr/>
        </p:nvPicPr>
        <p:blipFill>
          <a:blip r:embed="rId1"/>
          <a:stretch/>
        </p:blipFill>
        <p:spPr>
          <a:xfrm>
            <a:off x="-304920" y="0"/>
            <a:ext cx="9448920" cy="8458200"/>
          </a:xfrm>
          <a:prstGeom prst="rect">
            <a:avLst/>
          </a:prstGeom>
          <a:ln w="0">
            <a:noFill/>
          </a:ln>
        </p:spPr>
      </p:pic>
      <p:sp>
        <p:nvSpPr>
          <p:cNvPr id="130" name=""/>
          <p:cNvSpPr/>
          <p:nvPr/>
        </p:nvSpPr>
        <p:spPr>
          <a:xfrm>
            <a:off x="-457200" y="0"/>
            <a:ext cx="9372600" cy="7357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إلى ديار الر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a:t>
            </a:r>
            <a:r>
              <a:rPr b="1" lang="en-US" sz="4000" spc="-1" strike="noStrike">
                <a:solidFill>
                  <a:srgbClr val="000000"/>
                </a:solidFill>
                <a:latin typeface="Times New Roman"/>
                <a:ea typeface="Times New Roman"/>
              </a:rPr>
              <a:t>               </a:t>
            </a:r>
            <a:r>
              <a:rPr b="1" lang="ar-SA" sz="4000" spc="-1" strike="noStrike">
                <a:solidFill>
                  <a:srgbClr val="000000"/>
                </a:solidFill>
                <a:latin typeface="Times New Roman"/>
                <a:cs typeface="Times New Roman"/>
              </a:rPr>
              <a:t>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28600" y="0"/>
            <a:ext cx="9372600" cy="9410760"/>
          </a:xfrm>
          <a:prstGeom prst="rect">
            <a:avLst/>
          </a:prstGeom>
          <a:noFill/>
          <a:ln w="0">
            <a:noFill/>
          </a:ln>
        </p:spPr>
        <p:style>
          <a:lnRef idx="0"/>
          <a:fillRef idx="0"/>
          <a:effectRef idx="0"/>
          <a:fontRef idx="minor"/>
        </p:style>
        <p:txBody>
          <a:bodyPr lIns="90000" rIns="90000" tIns="46800" bIns="46800" anchor="t">
            <a:spAutoFit/>
          </a:bodyPr>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rPr>
              <a:t>الكاهن:   المجد للآب والابن والروح القدس من الآن وإلى الأبد.</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rPr>
              <a:t>الشعب:  آمين</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rPr>
              <a:t>المحتفل:  يا رجاء المؤمنين به، ومتكل أبراره وقديسيه، ومقوي محبيه، يا من قويت أبانا مارون، فسكن الجبال ودحر الشرير، وأحب سبيل الفضيلة، زاهداً في الحياة الدنيا، ناهجاً طريق التجرد والبتولية. احفظ بصلاته بيعتك المقدسة المحتفلة بتذكاره السعيد، وادفع عنها الغضب. أهلنا للشركة في صلواته، واقتفاء آثاره، والسير في خطاه، لنحيا أنقياء جميع أيام حياتنا، وندخل معه في مكلوته، ونمجدك، أيها الآب والابن والروح القدس، إلى الأبد.</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rPr>
              <a:t>الشعب: آمين</a:t>
            </a:r>
            <a:endParaRPr b="0" lang="en-US" sz="34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كاهن: السلام للبيعة ولبنيه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0" y="0"/>
            <a:ext cx="9144000" cy="924300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الكاهن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أيضاً وأيضاً،  بك يا رب نعترف والتسابيح إليك نرفع، لانك أطعمتنا جسدك، ودمك الحي سقيتنا. يا محب البشر ارحمنا. </a:t>
            </a:r>
            <a:endParaRPr b="0" lang="en-US" sz="3200" spc="-1" strike="noStrike">
              <a:solidFill>
                <a:srgbClr val="000000"/>
              </a:solidFill>
              <a:latin typeface="Times New Roman"/>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ارحمنا،  يارب.يا حنون، يا رحوم. يا محب البشر.  ارحمنا.</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قد أكلت جسدك</a:t>
            </a:r>
            <a:endParaRPr b="0" lang="en-US" sz="3200" spc="-1" strike="noStrike">
              <a:solidFill>
                <a:srgbClr val="000000"/>
              </a:solidFill>
              <a:latin typeface="Times New Roman"/>
            </a:endParaRPr>
          </a:p>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قد أكلـــت جســدك المقـــدس، لا تأكلنـي النــار،</a:t>
            </a:r>
            <a:endParaRPr b="0" lang="en-US" sz="3200" spc="-1" strike="noStrike">
              <a:solidFill>
                <a:srgbClr val="000000"/>
              </a:solidFill>
              <a:latin typeface="Times New Roman"/>
            </a:endParaRPr>
          </a:p>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وعينـــــاي التـــى مســــت به رحمتك تبصر،</a:t>
            </a:r>
            <a:endParaRPr b="0" lang="en-US" sz="3200" spc="-1" strike="noStrike">
              <a:solidFill>
                <a:srgbClr val="000000"/>
              </a:solidFill>
              <a:latin typeface="Times New Roman"/>
            </a:endParaRPr>
          </a:p>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لم أكــــن ههنــا غريبـــاً عــــــن أسرارك،</a:t>
            </a:r>
            <a:endParaRPr b="0" lang="en-US" sz="3200" spc="-1" strike="noStrike">
              <a:solidFill>
                <a:srgbClr val="000000"/>
              </a:solidFill>
              <a:latin typeface="Times New Roman"/>
            </a:endParaRPr>
          </a:p>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فلا تجعلنـــي خارجـــاً عـــن جــــــوارك،</a:t>
            </a:r>
            <a:endParaRPr b="0" lang="en-US" sz="3200" spc="-1" strike="noStrike">
              <a:solidFill>
                <a:srgbClr val="000000"/>
              </a:solidFill>
              <a:latin typeface="Times New Roman"/>
            </a:endParaRPr>
          </a:p>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لا توقفنــي مع الجــــدا في الجانــــب الأيســر،                                                                                                                                                                      </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Simplified Arabic"/>
              </a:rPr>
              <a:t>	</a:t>
            </a:r>
            <a:r>
              <a:rPr b="1" lang="en-US"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بل مع الخراف آل اليمين أسبحك مدى الأدهار.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0"/>
            <a:ext cx="9144000" cy="81889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cs typeface="Simplified Arabic"/>
              </a:rPr>
              <a:t>الشكر  و الختام</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جلوس</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نشكرك أيها الرب الاله، ونبتهل اليك أن تكون هذه الشركة الالهية لمغفرة الخطايا ولمجد اسمك القدوس وابنك الوحيد وروحك القدوس، الآن والى الابد.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آميـــــن.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السلام لجميعكم.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ومع روحك.</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أيها الرب إله خلاصنا، يا من صرت إنسانا لأجلنا، وخلصتنا بتقديم ذاتك ذبيحة عنا، نجنا من الهلاك الابدي، واجعلنا هياكل لاسمك القدوس، لأننا شعبك وميراثك، وبك يليق المجد والوقار، مع أبيك وروحك القدوس، الآن والى الاب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0" y="0"/>
            <a:ext cx="9144000" cy="86554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آميــــ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قوف</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كاهن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إذهبوا  بسلام،  يا  أخوتي  وأحبائي، إذ  نستودعكم  نعمة  ورحمة  الثالوث الاقدس  الممجد، مع  الزاد  والبركات  التي  نلتموها من  مذبح  الرب  الغافر. و لتصحبكم بركة الثالوث الاقدس  : الآب + والابن + و الروح  القدس + الاله الواحد. له المجد الى الابد.</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آميـــــــ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4" name="11099056GfuHbDJfYF_ph" descr=""/>
          <p:cNvPicPr/>
          <p:nvPr/>
        </p:nvPicPr>
        <p:blipFill>
          <a:blip r:embed="rId2"/>
          <a:stretch/>
        </p:blipFill>
        <p:spPr>
          <a:xfrm>
            <a:off x="0" y="-380880"/>
            <a:ext cx="5867280" cy="7467480"/>
          </a:xfrm>
          <a:prstGeom prst="rect">
            <a:avLst/>
          </a:prstGeom>
          <a:ln w="0">
            <a:noFill/>
          </a:ln>
        </p:spPr>
      </p:pic>
      <p:sp>
        <p:nvSpPr>
          <p:cNvPr id="135" name=""/>
          <p:cNvSpPr/>
          <p:nvPr/>
        </p:nvSpPr>
        <p:spPr>
          <a:xfrm>
            <a:off x="5791320" y="228600"/>
            <a:ext cx="3124080" cy="867780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عساكر السما محيطة معنا بمائدة المذبح</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تزيح أسرار  الحمل الذي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قدامنا يذبح</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فلنتقدم ونتناوله عن إثمنا يصفح</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04920" y="0"/>
            <a:ext cx="8610480" cy="44830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كاهن:  وداعا يا مذبح الله، وليكن لي القربان الذي تناولته منك، لمغفرة الذنوب، وترك الخطايا، وللوقوف أمام منبر المسيح بلا خجل ولا وجل. ولا أدري إذا كنت سأعود أقرب عليك قربانا آخر أم لا! اللهم! أحرسني، واحفظ كنيستك المقدسة سبيلا للهداية والخلاص</a:t>
            </a:r>
            <a:r>
              <a:rPr b="1"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p:nvPr/>
        </p:nvSpPr>
        <p:spPr>
          <a:xfrm>
            <a:off x="4572000" y="0"/>
            <a:ext cx="4572000" cy="834768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يا مــار مــارون </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صــفي الرحيــم</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يا حمى المشرد والسقيم</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وق شـعبك الثـار</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ولبنـانـك</a:t>
            </a:r>
            <a:r>
              <a:rPr b="1" lang="en-US" sz="4000" spc="-1" strike="noStrike">
                <a:solidFill>
                  <a:srgbClr val="ffffff"/>
                </a:solidFill>
                <a:latin typeface="Times New Roman"/>
                <a:ea typeface="Simplified Arabic"/>
              </a:rPr>
              <a:t> </a:t>
            </a:r>
            <a:r>
              <a:rPr b="1" lang="ar-SA" sz="4000" spc="-1" strike="noStrike">
                <a:solidFill>
                  <a:srgbClr val="ffffff"/>
                </a:solidFill>
                <a:latin typeface="Times New Roman"/>
                <a:cs typeface="Simplified Arabic"/>
              </a:rPr>
              <a:t>الدمار</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إسأل لنا عـون </a:t>
            </a:r>
            <a:r>
              <a:rPr b="1" lang="ar-SA" sz="4000" spc="-1" strike="noStrike">
                <a:solidFill>
                  <a:srgbClr val="ffffff"/>
                </a:solidFill>
                <a:latin typeface="Times New Roman"/>
                <a:ea typeface="Simplified Arabic"/>
              </a:rPr>
              <a:t>	</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رب الفـــداء</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لكي نكون بني </a:t>
            </a:r>
            <a:r>
              <a:rPr b="1" lang="ar-SA" sz="4000" spc="-1" strike="noStrike">
                <a:solidFill>
                  <a:srgbClr val="ffffff"/>
                </a:solidFill>
                <a:latin typeface="Times New Roman"/>
                <a:cs typeface="Times New Roman"/>
              </a:rPr>
              <a:t>السماء</a:t>
            </a:r>
            <a:r>
              <a:rPr b="0" lang="ar-SA" sz="4000" spc="-1" strike="noStrike">
                <a:solidFill>
                  <a:srgbClr val="ffffff"/>
                </a:solidFill>
                <a:latin typeface="Times New Roman"/>
                <a:ea typeface="Times New Roman"/>
              </a:rPr>
              <a:t> </a:t>
            </a:r>
            <a:endParaRPr b="0" lang="en-US" sz="4000" spc="-1" strike="noStrike">
              <a:solidFill>
                <a:srgbClr val="000000"/>
              </a:solidFill>
              <a:latin typeface="Times New Roman"/>
            </a:endParaRPr>
          </a:p>
        </p:txBody>
      </p:sp>
      <p:pic>
        <p:nvPicPr>
          <p:cNvPr id="138" name="StMarounpic" descr=""/>
          <p:cNvPicPr/>
          <p:nvPr/>
        </p:nvPicPr>
        <p:blipFill>
          <a:blip r:embed="rId2"/>
          <a:stretch/>
        </p:blipFill>
        <p:spPr>
          <a:xfrm>
            <a:off x="-4680" y="0"/>
            <a:ext cx="4613040" cy="68580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4572000" y="0"/>
            <a:ext cx="4572000" cy="999180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قصدْنا إليك بقلب وروح</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وفينا سُقامٌ ونزفُ جُروحُ</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على اسْمك نَدْعو حَنان المسيح</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فأنت المُشفَعُ وهو السميحْ</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ea typeface="Simplified Arabic"/>
              </a:rPr>
              <a:t> زمانك كان زمانَ اضطهاد</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يعيثُ بقُطعان رب العبادْ</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شهرْت على الشرِّ أقسى جهاد:</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وكان الصيامُ، الصلاةُ العتاد</a:t>
            </a:r>
            <a:r>
              <a:rPr b="1" lang="ar-SA" sz="3600" spc="-1" strike="noStrike">
                <a:solidFill>
                  <a:srgbClr val="ffffff"/>
                </a:solidFill>
                <a:latin typeface="Times New Roman"/>
                <a:ea typeface="Times New Roman"/>
              </a:rPr>
              <a:t>!</a:t>
            </a:r>
            <a:r>
              <a:rPr b="0" lang="ar-SA" sz="3600" spc="-1" strike="noStrike">
                <a:solidFill>
                  <a:srgbClr val="ffffff"/>
                </a:solidFill>
                <a:latin typeface="Times New Roman"/>
                <a:ea typeface="Times New Roman"/>
              </a:rPr>
              <a:t> </a:t>
            </a:r>
            <a:endParaRPr b="0" lang="en-US" sz="3600" spc="-1" strike="noStrike">
              <a:solidFill>
                <a:srgbClr val="000000"/>
              </a:solidFill>
              <a:latin typeface="Times New Roman"/>
            </a:endParaRPr>
          </a:p>
        </p:txBody>
      </p:sp>
      <p:pic>
        <p:nvPicPr>
          <p:cNvPr id="140" name="StMarounpic" descr=""/>
          <p:cNvPicPr/>
          <p:nvPr/>
        </p:nvPicPr>
        <p:blipFill>
          <a:blip r:embed="rId2"/>
          <a:stretch/>
        </p:blipFill>
        <p:spPr>
          <a:xfrm>
            <a:off x="-1440" y="0"/>
            <a:ext cx="4613040" cy="6858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4876920" y="0"/>
            <a:ext cx="4267080" cy="1077120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ومَهَدْتَ في الوعْرِ للمؤمنين</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طريقَ حياةٍ وحقٍ مُبين</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رجالِ العقيدةِ دُنيا ودين</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هُداة الطَّريقِ القويم الأمين</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ea typeface="Simplified Arabic"/>
              </a:rPr>
              <a:t> </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تلَفَّت إلينا، أبانا الحَنُون</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علينا يُصبُ لَهيبُ الجُنون!</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تشفَّع لشعبكَ حتى يكونْ</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شهيداً لإيمانه. لا يَخون!</a:t>
            </a:r>
            <a:endParaRPr b="0" lang="en-US" sz="3600" spc="-1" strike="noStrike">
              <a:solidFill>
                <a:srgbClr val="000000"/>
              </a:solidFill>
              <a:latin typeface="Times New Roman"/>
            </a:endParaRPr>
          </a:p>
        </p:txBody>
      </p:sp>
      <p:pic>
        <p:nvPicPr>
          <p:cNvPr id="142" name="StMarounpic" descr=""/>
          <p:cNvPicPr/>
          <p:nvPr/>
        </p:nvPicPr>
        <p:blipFill>
          <a:blip r:embed="rId2"/>
          <a:stretch/>
        </p:blipFill>
        <p:spPr>
          <a:xfrm>
            <a:off x="22320" y="0"/>
            <a:ext cx="4613040" cy="68580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4572000" y="304920"/>
            <a:ext cx="4267080" cy="71413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الكاهن:  بشفاعة أبينا القديس مارون، فليبارككم الثالوث الأقدس الآب+ والإبن+ والروح القدس+</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Simplified Arabic"/>
              </a:rPr>
              <a:t>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الشعب : آمي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44" name="StMarounpic" descr=""/>
          <p:cNvPicPr/>
          <p:nvPr/>
        </p:nvPicPr>
        <p:blipFill>
          <a:blip r:embed="rId2"/>
          <a:stretch/>
        </p:blipFill>
        <p:spPr>
          <a:xfrm>
            <a:off x="0" y="0"/>
            <a:ext cx="4611600" cy="6858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33873085dORIvq_ph" descr=""/>
          <p:cNvPicPr/>
          <p:nvPr/>
        </p:nvPicPr>
        <p:blipFill>
          <a:blip r:embed="rId1"/>
          <a:stretch/>
        </p:blipFill>
        <p:spPr>
          <a:xfrm>
            <a:off x="0" y="0"/>
            <a:ext cx="9144000" cy="6858000"/>
          </a:xfrm>
          <a:prstGeom prst="rect">
            <a:avLst/>
          </a:prstGeom>
          <a:ln w="0">
            <a:noFill/>
          </a:ln>
        </p:spPr>
      </p:pic>
      <p:sp>
        <p:nvSpPr>
          <p:cNvPr id="146" name=""/>
          <p:cNvSpPr/>
          <p:nvPr/>
        </p:nvSpPr>
        <p:spPr>
          <a:xfrm>
            <a:off x="457200" y="304920"/>
            <a:ext cx="8458200" cy="33573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Arabic Transparent"/>
              </a:rPr>
              <a:t>يا مريم يا أغلى إم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Arabic Transparent"/>
              </a:rPr>
              <a:t>سبحان الرّب الحنّا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Times New Roman"/>
              </a:rPr>
              <a:t>اختارِك شمس بليل الهمّ  </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Times New Roman"/>
              </a:rPr>
              <a:t>تاتكوني إم الإنسان</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pic>
        <p:nvPicPr>
          <p:cNvPr id="147" name="" descr=""/>
          <p:cNvPicPr/>
          <p:nvPr/>
        </p:nvPicPr>
        <p:blipFill>
          <a:blip r:embed="rId2"/>
          <a:stretch/>
        </p:blipFill>
        <p:spPr>
          <a:xfrm>
            <a:off x="380880" y="6248520"/>
            <a:ext cx="304920" cy="304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 name=""/>
          <p:cNvSpPr/>
          <p:nvPr/>
        </p:nvSpPr>
        <p:spPr>
          <a:xfrm>
            <a:off x="4495680" y="0"/>
            <a:ext cx="4648320" cy="8316720"/>
          </a:xfrm>
          <a:prstGeom prst="rect">
            <a:avLst/>
          </a:prstGeom>
          <a:noFill/>
          <a:ln w="0">
            <a:noFill/>
          </a:ln>
        </p:spPr>
        <p:style>
          <a:lnRef idx="0"/>
          <a:fillRef idx="0"/>
          <a:effectRef idx="0"/>
          <a:fontRef idx="minor"/>
        </p:style>
        <p:txBody>
          <a:bodyPr lIns="90000" rIns="90000" tIns="46800" bIns="46800" anchor="t">
            <a:spAutoFit/>
          </a:bodyPr>
          <a:p>
            <a:pPr algn="just"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Times New Roman"/>
                <a:cs typeface="Simplified Arabic"/>
              </a:rPr>
              <a:t>المجد لله في العلـىوعلى الأرض الســـلام</a:t>
            </a:r>
            <a:endParaRPr b="0" lang="en-US" sz="3400" spc="-1" strike="noStrike">
              <a:solidFill>
                <a:srgbClr val="000000"/>
              </a:solidFill>
              <a:latin typeface="Times New Roman"/>
            </a:endParaRPr>
          </a:p>
          <a:p>
            <a:pPr algn="just" rtl="1">
              <a:lnSpc>
                <a:spcPct val="6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Times New Roman"/>
                <a:cs typeface="Simplified Arabic"/>
              </a:rPr>
              <a:t>والرجاء الصالــح لبنـــي البشـــر</a:t>
            </a:r>
            <a:endParaRPr b="0" lang="en-US" sz="3400" spc="-1" strike="noStrike">
              <a:solidFill>
                <a:srgbClr val="000000"/>
              </a:solidFill>
              <a:latin typeface="Times New Roman"/>
            </a:endParaRPr>
          </a:p>
          <a:p>
            <a:pPr algn="just" rtl="1">
              <a:lnSpc>
                <a:spcPct val="8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Times New Roman"/>
                <a:cs typeface="Simplified Arabic"/>
              </a:rPr>
              <a:t>سبحوا لله يا كل الشعوب  هللوا لله يا كل الأمم</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Times New Roman"/>
                <a:cs typeface="Simplified Arabic"/>
              </a:rPr>
              <a:t>فقد عَظُمت رحمته علينا وصدقه باقٍ أبدا</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Times New Roman"/>
                <a:cs typeface="Simplified Arabic"/>
              </a:rPr>
              <a:t>المجد للآب والابن الروح القدس من الآن وإلى الأبد</a:t>
            </a:r>
            <a:endParaRPr b="0" lang="en-US" sz="34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Times New Roman"/>
                <a:cs typeface="Simplified Arabic"/>
              </a:rPr>
              <a:t>والرجاء الصالــح لبنـــي البشـــر</a:t>
            </a: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p:txBody>
      </p:sp>
      <p:pic>
        <p:nvPicPr>
          <p:cNvPr id="48" name="15215564EUYNjVXDay_ph" descr=""/>
          <p:cNvPicPr/>
          <p:nvPr/>
        </p:nvPicPr>
        <p:blipFill>
          <a:blip r:embed="rId1"/>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8" name="34531821EAeikh_ph" descr=""/>
          <p:cNvPicPr/>
          <p:nvPr/>
        </p:nvPicPr>
        <p:blipFill>
          <a:blip r:embed="rId2"/>
          <a:stretch/>
        </p:blipFill>
        <p:spPr>
          <a:xfrm>
            <a:off x="2895480" y="0"/>
            <a:ext cx="8305920" cy="6858000"/>
          </a:xfrm>
          <a:prstGeom prst="rect">
            <a:avLst/>
          </a:prstGeom>
          <a:ln w="0">
            <a:noFill/>
          </a:ln>
        </p:spPr>
      </p:pic>
      <p:sp>
        <p:nvSpPr>
          <p:cNvPr id="149" name=""/>
          <p:cNvSpPr/>
          <p:nvPr/>
        </p:nvSpPr>
        <p:spPr>
          <a:xfrm>
            <a:off x="0" y="380880"/>
            <a:ext cx="2590920" cy="75981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Times New Roman"/>
                <a:cs typeface="Arabic Transparent"/>
              </a:rPr>
              <a:t>سبحان اللي محلّيكي  وفوق الكل معلّيكي</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Times New Roman"/>
                <a:cs typeface="Times New Roman"/>
              </a:rPr>
              <a:t>اختارِك إنتِ منقّيك   أجمل زهرة بالبستان</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33873085dORIvq_ph" descr=""/>
          <p:cNvPicPr/>
          <p:nvPr/>
        </p:nvPicPr>
        <p:blipFill>
          <a:blip r:embed="rId1"/>
          <a:stretch/>
        </p:blipFill>
        <p:spPr>
          <a:xfrm>
            <a:off x="0" y="0"/>
            <a:ext cx="9144000" cy="6858000"/>
          </a:xfrm>
          <a:prstGeom prst="rect">
            <a:avLst/>
          </a:prstGeom>
          <a:ln w="0">
            <a:noFill/>
          </a:ln>
        </p:spPr>
      </p:pic>
      <p:sp>
        <p:nvSpPr>
          <p:cNvPr id="151" name=""/>
          <p:cNvSpPr/>
          <p:nvPr/>
        </p:nvSpPr>
        <p:spPr>
          <a:xfrm>
            <a:off x="457200" y="304920"/>
            <a:ext cx="8458200" cy="33573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Arabic Transparent"/>
              </a:rPr>
              <a:t>يا مريم يا أغلى إم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Arabic Transparent"/>
              </a:rPr>
              <a:t>سبحان الرّب الحنّا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Times New Roman"/>
              </a:rPr>
              <a:t>اختارِك شمس بليل الهمّ  </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Times New Roman"/>
              </a:rPr>
              <a:t>تاتكوني إم الإنسان</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26598561POJyQSqbkK_ph" descr=""/>
          <p:cNvPicPr/>
          <p:nvPr/>
        </p:nvPicPr>
        <p:blipFill>
          <a:blip r:embed="rId1"/>
          <a:stretch/>
        </p:blipFill>
        <p:spPr>
          <a:xfrm>
            <a:off x="0" y="0"/>
            <a:ext cx="9144000" cy="6858000"/>
          </a:xfrm>
          <a:prstGeom prst="rect">
            <a:avLst/>
          </a:prstGeom>
          <a:ln w="0">
            <a:noFill/>
          </a:ln>
        </p:spPr>
      </p:pic>
      <p:sp>
        <p:nvSpPr>
          <p:cNvPr id="153" name=""/>
          <p:cNvSpPr/>
          <p:nvPr/>
        </p:nvSpPr>
        <p:spPr>
          <a:xfrm>
            <a:off x="914400" y="0"/>
            <a:ext cx="8001000" cy="4093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99"/>
                </a:solidFill>
                <a:latin typeface="Times New Roman"/>
                <a:cs typeface="Arabic Transparent"/>
              </a:rPr>
              <a:t>اختارك تاتكوني إمو   من جمسِك أخد جسمو</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99"/>
                </a:solidFill>
                <a:latin typeface="Times New Roman"/>
                <a:cs typeface="Times New Roman"/>
              </a:rPr>
              <a:t>ومن دمِّك أخد دمّو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99"/>
                </a:solidFill>
                <a:latin typeface="Times New Roman"/>
                <a:cs typeface="Times New Roman"/>
              </a:rPr>
              <a:t>وحفِظتي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99"/>
                </a:solidFill>
                <a:latin typeface="Times New Roman"/>
                <a:cs typeface="Times New Roman"/>
              </a:rPr>
              <a:t>سِرّو بإيمان</a:t>
            </a:r>
            <a:r>
              <a:rPr b="0"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33873085dORIvq_ph" descr=""/>
          <p:cNvPicPr/>
          <p:nvPr/>
        </p:nvPicPr>
        <p:blipFill>
          <a:blip r:embed="rId1"/>
          <a:stretch/>
        </p:blipFill>
        <p:spPr>
          <a:xfrm>
            <a:off x="0" y="0"/>
            <a:ext cx="9144000" cy="6858000"/>
          </a:xfrm>
          <a:prstGeom prst="rect">
            <a:avLst/>
          </a:prstGeom>
          <a:ln w="0">
            <a:noFill/>
          </a:ln>
        </p:spPr>
      </p:pic>
      <p:sp>
        <p:nvSpPr>
          <p:cNvPr id="155" name=""/>
          <p:cNvSpPr/>
          <p:nvPr/>
        </p:nvSpPr>
        <p:spPr>
          <a:xfrm>
            <a:off x="457200" y="304920"/>
            <a:ext cx="8458200" cy="33573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Arabic Transparent"/>
              </a:rPr>
              <a:t>يا مريم يا أغلى إم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Arabic Transparent"/>
              </a:rPr>
              <a:t>سبحان الرّب الحنّا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Times New Roman"/>
              </a:rPr>
              <a:t>اختارِك شمس بليل الهمّ  </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Times New Roman"/>
              </a:rPr>
              <a:t>تاتكوني إم الإنسان</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2322868SZKGzOipOS_ph" descr=""/>
          <p:cNvPicPr/>
          <p:nvPr/>
        </p:nvPicPr>
        <p:blipFill>
          <a:blip r:embed="rId1"/>
          <a:stretch/>
        </p:blipFill>
        <p:spPr>
          <a:xfrm>
            <a:off x="0" y="0"/>
            <a:ext cx="11277720" cy="6858000"/>
          </a:xfrm>
          <a:prstGeom prst="rect">
            <a:avLst/>
          </a:prstGeom>
          <a:ln w="0">
            <a:noFill/>
          </a:ln>
        </p:spPr>
      </p:pic>
      <p:sp>
        <p:nvSpPr>
          <p:cNvPr id="157" name=""/>
          <p:cNvSpPr/>
          <p:nvPr/>
        </p:nvSpPr>
        <p:spPr>
          <a:xfrm>
            <a:off x="4952880" y="4022640"/>
            <a:ext cx="3810240" cy="41846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Arabic Transparent"/>
              </a:rPr>
              <a:t>إنتي إِلنا الخميري  ووجودك معنا دخيري</a:t>
            </a:r>
            <a:endParaRPr b="0" lang="en-US" sz="4000" spc="-1" strike="noStrike">
              <a:solidFill>
                <a:srgbClr val="000000"/>
              </a:solidFill>
              <a:latin typeface="Times New Roman"/>
            </a:endParaRPr>
          </a:p>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مريم يا نعمي كبيري  وحدِك بتعَزِّي الحزنان</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33873085dORIvq_ph" descr=""/>
          <p:cNvPicPr/>
          <p:nvPr/>
        </p:nvPicPr>
        <p:blipFill>
          <a:blip r:embed="rId1"/>
          <a:stretch/>
        </p:blipFill>
        <p:spPr>
          <a:xfrm>
            <a:off x="0" y="0"/>
            <a:ext cx="9144000" cy="6858000"/>
          </a:xfrm>
          <a:prstGeom prst="rect">
            <a:avLst/>
          </a:prstGeom>
          <a:ln w="0">
            <a:noFill/>
          </a:ln>
        </p:spPr>
      </p:pic>
      <p:sp>
        <p:nvSpPr>
          <p:cNvPr id="159" name=""/>
          <p:cNvSpPr/>
          <p:nvPr/>
        </p:nvSpPr>
        <p:spPr>
          <a:xfrm>
            <a:off x="457200" y="304920"/>
            <a:ext cx="8458200" cy="33573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Arabic Transparent"/>
              </a:rPr>
              <a:t>يا مريم يا أغلى إم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Arabic Transparent"/>
              </a:rPr>
              <a:t>سبحان الرّب الحنّا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Times New Roman"/>
              </a:rPr>
              <a:t>اختارِك شمس بليل الهمّ  </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Times New Roman"/>
              </a:rPr>
              <a:t>تاتكوني إم الإنسان</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9144000" cy="69865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كاهن:   لمجد الثالوث الأقدس وإكرامه</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	</a:t>
            </a:r>
            <a:r>
              <a:rPr b="1" lang="ar-SA" sz="3600" spc="-1" strike="noStrike">
                <a:solidFill>
                  <a:srgbClr val="000000"/>
                </a:solidFill>
                <a:latin typeface="Times New Roman"/>
              </a:rPr>
              <a:t>لنرفعن التسبيح والمجد والإكرام إلى الذي هبط من مساكن أبيه العالية إلى الأعماق السحيقة. إلى الذي اتضع ولبس طبعنا وأقام بيننا، ليرفعنا إليه ويلبسنا طبعه، إلى الذي دعا صفيه مارون ورفعه إليه وأقامه معه وألبسه حلة المجد. الصالح الذي له المجد والإكرام في هذا العيد وكل أيام حياتنا إلى الأبد.</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شعب:   آمين</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0"/>
            <a:ext cx="9144000" cy="97297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كاهن:</a:t>
            </a:r>
            <a:r>
              <a:rPr b="1" lang="ar-SA" sz="3600" spc="-1" strike="noStrike">
                <a:solidFill>
                  <a:srgbClr val="000000"/>
                </a:solidFill>
                <a:latin typeface="Times New Roman"/>
              </a:rPr>
              <a:t>	</a:t>
            </a:r>
            <a:r>
              <a:rPr b="1" lang="ar-SA" sz="3600" spc="-1" strike="noStrike">
                <a:solidFill>
                  <a:srgbClr val="000000"/>
                </a:solidFill>
                <a:latin typeface="Times New Roman"/>
              </a:rPr>
              <a:t>أي لسان يقدر أن يوفيك المديح، يا أبانا مارون العجيب! بكلمات من فيك أتيت الآيات العظام فشابهت سيدك متقن البرايا بكلمة من فيه. هو سماك ”مارون“، السيد الصغير تصغيرا لإسمه ”مار“ السيد، لأنه هو الكبير وحده والسيد صانع المعجزات في الأرض وفي السماء وأنت في الأرض سيدٌ صغيرٌ بقدرته تصنع الآيات.</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تبارك الذي دعاك عل جبل قورش، فجعلته هيكلا لله.</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تبارك</a:t>
            </a:r>
            <a:r>
              <a:rPr b="1" lang="en-US" sz="3600" spc="-1" strike="noStrike">
                <a:solidFill>
                  <a:srgbClr val="000000"/>
                </a:solidFill>
                <a:latin typeface="Times New Roman"/>
              </a:rPr>
              <a:t> </a:t>
            </a:r>
            <a:r>
              <a:rPr b="1" lang="ar-SA" sz="3600" spc="-1" strike="noStrike">
                <a:solidFill>
                  <a:srgbClr val="000000"/>
                </a:solidFill>
                <a:latin typeface="Times New Roman"/>
              </a:rPr>
              <a:t>الذي جعلك تزرع في كل تلة ومنحنى سبيل ماء، من ذاك الجبل الهيكل، قداسة وصلاة وابتهال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تبارك الذي عبدته في ذلك الجبل، تسبحه ليل نهار، على شفتيك مدى النهار صلاة، وفي عقلك  تأمل، وفي قلبك محب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4T05:45:50Z</dcterms:created>
  <dc:creator>SUZANNE.MD</dc:creator>
  <dc:description/>
  <dc:language>en-US</dc:language>
  <cp:lastModifiedBy>USER</cp:lastModifiedBy>
  <dcterms:modified xsi:type="dcterms:W3CDTF">2003-02-06T20:03:36Z</dcterms:modified>
  <cp:revision>14</cp:revision>
  <dc:subject/>
  <dc:title>PowerPoint Presentation</dc:title>
</cp:coreProperties>
</file>