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0CD-33EB-447B-B3B4-DD6FE025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672-66FD-400B-B028-76C0F0B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A0D-35D1-495D-A535-2EE127B6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220-414A-4214-829D-7BF5AABA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11C5-181F-4090-B1F4-216AB541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D5D8-F6F4-4830-A733-47E666BD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DFF3-EBA9-4C33-948F-7A63ABB5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B1AA-7A65-4D0C-B911-DA135282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70B8-F416-47A6-91A4-1BF864CA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22BD-6F64-4E14-A62F-A09E0113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2977-A4B4-46F2-B230-BFCB24B4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464-60AC-461A-A2AD-52EBE55F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3A19-FC12-4565-A74F-C9ED8015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5C1-3693-4B27-A0D2-FCF91E1B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CF7B-2C8F-4642-964A-85EF056F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D6AC-415E-4E52-97BD-DDCC37A4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4D89-3799-48A2-A101-E070584C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C9E-C7AD-49F5-987C-538DA761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5EF-02C9-41D3-BA94-8B4D0C41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F4F-7863-4616-88EB-4D84A703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51B-38E7-4D0A-A406-0868F168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3C0-3D9F-4E9B-87C9-9750C1D0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9BD-E959-41F7-A5B6-06AEAB13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EA7-50A4-4169-B236-CF7606A9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9675-3DF9-4537-B59A-AF018FA34FC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CF74-0D43-4547-809D-09832321F5E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زياح مار الياس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مَار الياس نَذِيرَ الحَاكِمِينْ، بَشِيرَ الرجاءِ إلى العالَمِين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يكَ تَهِفُّ القُلُوب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تى ضايَقَتْنا الكُرُوب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تَشَفَّعْ إلى الربِّ</a:t>
            </a:r>
            <a:br>
              <a:rPr sz="10800"/>
            </a:b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نا، يُسَدِّدْ خُطَانا وَيَرْأَفْ بـِنَا.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هِيبُ المَحَبَّةِ في قَلْبـِ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ذَابَ الحَواجِزَ مِنْ د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ُهَاثُ النَسِيمِ على جَنْبـِكَ، أفاضَ الرجاءَ على ك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ِيمانُكَ الحَيُّ هَزَّ السماءْ، فَجَاوَبَتِ النارُ حَرَّ الدُّعاء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 وَشَاءْ: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أرضِ لا كانَ غَيمٌ وماءْ!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: اسْكُبي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ُ بَعْدَ الظَّماءِ اشْر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لَمْ يَكْذِبِ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ادَ إلى الجِسْمِ رُوحَ الصّ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َيكَ أَيا سَاكِنَ السَّمو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َحِنُّ لَواعِجُنا الظَّامِئـَا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ـِجَاهِ نَبيِّكَ، هَبْنَا الثـَّب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سُبُلِ البرِّ حتَّى الـمَمَاتْ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2-12-13T12:00:07Z</dcterms:modified>
  <cp:revision>14</cp:revision>
  <dc:subject/>
  <dc:title>Slide 1</dc:title>
</cp:coreProperties>
</file>