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2D9-BDFE-457B-B628-B9AFE265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45F-9BC6-4D86-888F-93E48E0F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BB3-1F50-47A3-8A69-3E22CE00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D89-383B-47EE-9E7C-4B3DF768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FD2C-5109-4D24-9ACC-A81EB6D1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F1D-C976-461F-B584-F4D94F2F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17AE-6C75-47ED-899E-31F1588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4D7F-9165-48C3-81D9-42087296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8863-2B65-41BE-B241-049BB8BA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101-3A11-4A29-98B9-2E613DDF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655D-BB51-46CD-B0C0-0D07436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ADFE-B346-4CAC-B00B-6D67C80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894-3BD9-4822-BE8B-0E6E46F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835E-4814-4437-95BD-90C85F1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2C3D-1B6F-4EAD-9042-A4060DC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551D-7AA7-4523-AB33-96CE12E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55F3-A757-4440-A478-B0F0BF01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98BF-CDE0-4BCC-9577-81B685FC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69338-4357-417A-9367-850154DA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4E83-5B2B-4106-9274-2E88F73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66F1-6069-46AA-8BB5-863C5992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E352-8313-4AF0-A71A-C8A937E2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67BF-31F7-4E5D-8463-BA3FBF4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16D1-7E13-424F-8232-BCF1C3CD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4721-096C-46E3-BCF7-A93A029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5BAC-21F8-4312-96B1-A4735F3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CB04-9FC0-46D7-99EA-9DB0A3E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6960-DD6E-40EC-9F43-5BB95C02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4493-CFBB-452C-BA03-BEB94E76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E6811-256A-4696-A0CB-719A40ED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5020-CA5F-4B5E-9BBE-4A8719AD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ED0B-A6FF-42DA-A0BB-C66DF2AE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FA88-768F-4E2D-AE42-EC7A3CB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515-C58B-4EC9-A5E2-2C07BBF6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5F48-753A-4743-A920-85DD2E5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5733-42B1-47A5-BB40-AC4DF6E1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8B5CC-A968-4EAE-B839-205FE80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3140-C426-4E96-AE1F-B3A7CB6C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79C0-D7BA-472B-9320-8BAD6A48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E2DDB-1D03-41A3-853C-5CC8834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E1E79-C7A5-44C3-8001-F7040918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B89D-C8E2-495F-86AC-B3B230AB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216D-E054-4750-8FAE-CCAD1BC6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498C6-AB5E-436F-A366-4B5F87C6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605-9571-41DE-B1A3-2760635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53DBB-FC4C-400E-AFCC-7BA8F924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74C0-1BC1-4769-B19A-8CD4F47C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D715-9EFC-4F21-8F78-00BD66C9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0969D-8A46-4254-8802-2EE4951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BDCE-6421-4679-A7E0-05EFD489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BB37-BF7C-4961-8BAB-A46123FF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5B80E-6157-46C2-B887-231EB92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CDBC-AFF3-4C1B-B900-4E838B9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C4D9-EDB0-4553-9899-D869EC7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E9AE-71E0-4993-BBBE-D60DF157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F2B-1315-4C25-BF64-85D920AF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3698-D445-4504-80DF-29B30595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EF9F-BDDC-4D9F-9C48-A3F48A0A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43A4-8BD6-4756-A03A-1A8ABC2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F764-0B33-4101-94D9-57A02C8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1180A-7565-4D1D-B774-E4E8FE7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9644-503E-459D-95CF-6037E73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7F824-A6E7-4C06-9819-5A810316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D7A83-8D46-40CE-A5D6-C81AE1F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10E5-DAFC-4C01-B077-DF6A8BD4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ABB4-BD2D-4CCE-9329-79580B8B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019-25EA-4554-A9E0-50FDDD32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19D2D-7866-4B2B-A50F-DCD373A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D535-0945-4E20-ACF7-4DA10C6E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1AC45-B5B8-4DA5-A4CC-031A9362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2F751-DFA7-4548-B309-A32EFCCE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296C-32F2-4D31-B233-948F5F0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C7079-0A35-41A3-8B7B-0538E818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F79F2-B021-41BD-8369-B2B25B85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856C0-B981-42B9-B837-4F7D821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DDECE-DADB-49F3-9565-1A9D450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C3F04-8714-4274-8A8E-00E975F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0AA-4325-4DBE-B324-5812E82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5E146-DA0F-4663-89A2-5D198D5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1813-E9B8-42F2-936F-FBBEE6E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FF6E3-0D3D-4FFC-96B8-948CF717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098DB-D822-4622-9482-3D938E71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CC89-AA6D-4B21-9651-93E1FBB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99C02-C1A0-43AD-8B39-F830C138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76B79-DD7D-428A-AD01-9EEC892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B9ED-4947-46A1-8D41-C575FCE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A73E8-A951-4477-AA08-BC2E1FC2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AB98-1081-4A94-BE7F-82D1A6C5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F95-65AB-4193-AAE1-A9BD98FD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3188-A669-44E4-9385-2B6883C8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20AF4-9EAC-4C7B-B709-5B68CCC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0E687-9FD7-4200-A69C-8FABD4E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A3292-C832-4E97-BC22-A36C1C2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D9455-0185-41AA-AB2C-111B98C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9785F-B0F8-4B79-8490-470D77A1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547A9-DC8E-4240-83F7-8DC11F73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B6A2-1322-49AD-B970-E8F619726B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015C-1DD4-4E87-A962-7C3DD3C9C2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443-4F8B-4DB3-9930-917D282BD5D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69D-EAFD-4863-A0AB-DB1B196D393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78C-6D2C-4865-BD1B-220F9C032A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E732-7A2A-462D-BC2C-74EF8DEFF2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D07C-EA25-496B-96D5-9657BBA320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359-9A03-4DA9-88B1-0EB71E74F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صَوتُكَ العَذْبُ ح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قَلْبهِ: ”كُنْ طاهِرْ‍“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طَيْفُكَ الحُلْوُ شَفَّ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َى السَّاهِ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76320" y="4428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يا طبيباً دَواهُ: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8200" spc="-1" strike="noStrike">
                <a:solidFill>
                  <a:srgbClr val="000000"/>
                </a:solidFill>
                <a:latin typeface="Tahoma"/>
                <a:ea typeface="Akhbar MT"/>
              </a:rPr>
              <a:t>”</a:t>
            </a: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قد شئتُ، فكُنْ طاهِرْ!“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لا نُريدُ سِواهُ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ahoma"/>
                <a:cs typeface="Akhbar MT"/>
              </a:rPr>
              <a:t>في حُلْمِ الْمُضْنى السَّاهِر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-181080" y="907920"/>
            <a:ext cx="9361440" cy="506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هللويا وهللويا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  جئت إلى هذا العالم للدينون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Arial"/>
              </a:rPr>
              <a:t>     ليبصر الذين لا يبصرون . هللوي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4920" y="179280"/>
            <a:ext cx="861048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457200"/>
            <a:ext cx="83818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247680"/>
            <a:ext cx="9144000" cy="81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هللويا و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يَا رَبِّ إِنْ شِئتَ،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khbar MT"/>
                <a:cs typeface="Akhbar MT"/>
              </a:rPr>
              <a:t>فَأَنْتَ قَادِرٌ أَنْ تُطَهِّرَنِي.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khbar MT"/>
                <a:ea typeface="Akhbar MT"/>
              </a:rPr>
              <a:t> هللويا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5084640"/>
            <a:ext cx="9516960" cy="17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-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لِلْمَسِيحِ يَسُوع</a:t>
            </a:r>
            <a:r>
              <a:rPr b="1" lang="ar-SA" sz="8000" spc="-1" strike="noStrike">
                <a:solidFill>
                  <a:srgbClr val="ffffff"/>
                </a:solidFill>
                <a:latin typeface="Tahoma"/>
                <a:ea typeface="Akhbar MT"/>
              </a:rPr>
              <a:t>	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أَلتَّسْبيحُ وَالْبَرَكَات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ahoma"/>
                <a:cs typeface="Akhbar MT"/>
              </a:rPr>
              <a:t>مِنْ أَجْلِ كَلامِهِ الْحَيِّ لَنَ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خَاطَبَ الرَّبُ شَعْبَهُ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وَكَلامُ الرَّبِ حِكْمَةٌ</a:t>
            </a:r>
            <a:br>
              <a:rPr sz="9900"/>
            </a:br>
            <a:r>
              <a:rPr b="1" lang="ar-SA" sz="9900" spc="-1" strike="noStrike">
                <a:solidFill>
                  <a:srgbClr val="ffff00"/>
                </a:solidFill>
                <a:latin typeface="Tahoma"/>
                <a:cs typeface="Akhbar MT"/>
              </a:rPr>
              <a:t>هَلِّلُويا</a:t>
            </a:r>
            <a:endParaRPr b="0" lang="en-US" sz="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80880" y="0"/>
            <a:ext cx="87631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هِ فـي الأعال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على الأرضِ السلا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khbar MT"/>
              </a:rPr>
              <a:t>والرجاءُ الصالحُ لبني البشر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115920"/>
            <a:ext cx="8964720" cy="105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khbar MT"/>
                <a:cs typeface="Akhbar MT"/>
              </a:rPr>
              <a:t>ك: إِيتِ لْوُتْ مَدْبحِهْ دَلُهُ وَلْوُت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ألُهُ دَمْحَدِ طَلْيُوتْ وِانُ بْسُوغُ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دْطيْبُوتُخْ إِعُولْ لْبَيْتُخْ وِسْغُود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Akhbar MT"/>
                <a:ea typeface="Akhbar MT"/>
              </a:rPr>
              <a:t>     بْهَيْكْلُ دْقُودْشُخ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41400"/>
            <a:ext cx="896472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بْدِحِلْتُخْ مُرْيُ دَبَرَيْن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َبْزَدِيقُوتُخْ أَلِفَيْ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ك: صَلَوْ عْلَيْ مِطُولْ مُرَنْ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khbar MT"/>
                <a:cs typeface="Akhbar MT"/>
              </a:rPr>
              <a:t>ش: أَلُـهُ نْقَبلْ قُورْبُنُخ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khbar MT"/>
                <a:ea typeface="Akhbar MT"/>
              </a:rPr>
              <a:t>      ونِتْرَحَامْ عْلَيْن بَصْلُوتُخ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هللويا، قال الربُّ إنّني الخبزُ المحيي، الآتي من حِضنِ الآبِ قوتاً للعالَم، قبلَني، حِضنُ العذراءِ الأمِّ النقيّ العذراءِ مري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مثلَ حبّةِ القمحِ في الأرضِ الخَصبة، صِرتُ فوقَ الـمذبحِ قوتاً للبيعة، هللويا</a:t>
            </a:r>
            <a:br>
              <a:rPr sz="7200"/>
            </a:br>
            <a:r>
              <a:rPr b="1" lang="ar-SA" sz="7200" spc="-1" strike="noStrike">
                <a:solidFill>
                  <a:srgbClr val="ffff00"/>
                </a:solidFill>
                <a:latin typeface="Tahoma"/>
                <a:cs typeface="Akhbar MT"/>
              </a:rPr>
              <a:t>وَخُبزَ حيا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320" y="-2700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للوي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والدةِ اللهِ الأمِّ العذر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أنبياءِ والرُّسْلِ والشُّهداء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خُدّام الكَهَنة جَوْقِ الأَبر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ـلِّ أولادِ البيعَة نُحيـي التَّذكا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ألمجد للآب والابن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والرّوح القدس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Tahoma"/>
                <a:cs typeface="Akhbar MT"/>
              </a:rPr>
              <a:t>من الآن وإلـى الأبد.</a:t>
            </a:r>
            <a:endParaRPr b="0" lang="en-US" sz="9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500" spc="-1" strike="noStrike">
                <a:solidFill>
                  <a:srgbClr val="ffffff"/>
                </a:solidFill>
                <a:latin typeface="Tahoma"/>
                <a:cs typeface="Akhbar MT"/>
              </a:rPr>
              <a:t>آمين.</a:t>
            </a:r>
            <a:endParaRPr b="0" lang="en-US" sz="9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-209880" y="5315040"/>
            <a:ext cx="2637360" cy="135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39640" y="0"/>
            <a:ext cx="82821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ألمجدُ للآب والابنِ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الروحِ القدس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منذ الأزَلِ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ahoma"/>
                <a:cs typeface="Akhbar MT"/>
              </a:rPr>
              <a:t>وإلى أبد الآبد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يها الآب إل‍هُ السّلام وسيّدُ الآمان هَبْ لنا جميعاً وأهّل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نعانقَ بعضُنا بعضاً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نسمةٍ من مَحبّتِكَ لا تنقطِعْ بقُبْلَةٍ لا غِشَّ ف‍يها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نرفعَ ال‍مجدَ والشّكرَ إل‍ي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إل‍ى إبنِكَ الوحيد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ــ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ك يا مذب‍حَ الله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سّلامُ للأسرارِ ال‍مقدّسة ال‍موضوعةِ عل‍يك؛ ألسّلامُ لك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خادمَ الرّوح القدس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مامَكَ يا ربُّ نن‍حن‍ي لنقبلَ مِنكَ الب‍ركةَ وال‍معونةَ لِضعفِنا لأنكَ للجميع ال‍ملجأ وال‍معين وإل‍يكَ نرفعُ ال‍مجدَ وإل‍ى ابنِكَ الوحيد وروحِكَ القدوس الآن وإل‍ى الأبد.  + آمي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يا ربُّ أضِئ بوجهِكَ عل‍ينا الآنَ وخلِّصنا من كلّ شرّ وامْحُ جميعَ مخالفاتِنا فنرفعَ ال‍مجدَ والشّكرَ إل‍يك وإل‍ى إبنِك الوحيد، وروحِك القدّوس الآن وإل‍ى الأبد. + آميــ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مَحبةُ اللهِ الآ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مةُ الابن الوحيد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 وَشركة وحلولُ الروحِ القدس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 جميعِكُم يا إخوت‍ي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51200" y="0"/>
            <a:ext cx="2094840" cy="11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تكنْ أفكارُنا وعقولُنا وقلوبُنا مرتفعةً إل‍ى العل‍ى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ا لديك يا الله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نشكرِ الربَّ مت‍هيّب‍ين ونسجُدْ ل‍هُ خاشعين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ن‍ه لحقٌ وواجب.</a:t>
            </a:r>
            <a:endParaRPr b="0" lang="en-US" sz="8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حقاً إن‍هُ لواجبٌ ولائقٌ أنْ نُ‍مجِّدَكَ ونعظِّمَكَ، يَا خالقَ جَميعِ الب‍رايَا. إنّا ن‍ُمَجِّدُكَ مَعَ ال‍ملائِكَة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أَصواتِ التّسب‍يحِ هاتفين وقائل‍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نذكرُ موتَك، يا ربّ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عترفُ بقيامتِك، وننتظرُ مجيئـَك الثان‍ي، ونطلبُ مِنكَ الرّحمةَ والحنان، ونسألُكَ مغفرةَ الخطايا. فَلْتَشمَل مراحمُك كُلّنا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ما ن‍حنُ نذكرُ يا ربُّ مجيئـَكَ الخلاصيّ ومجيئـَك الثـّان‍ي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قدِّمُ لكَ التّسب‍يح، مُبت‍هل‍ينَ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اّ تُسَلِّمَنا بسبب خطايانا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وم تدينُ الأب‍رارَ والخطأة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ب‍هذا أوصاهم وحضّهم قائلاً: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لّ مرّةٍ تكمّلون هذه الأسرار، تذكرون موت‍ي وقيامت‍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تّى مجيئي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ل ترأّف بـِنا وارحَمْنا وأشِحْ بوجهِكَ عَن خطايانا واعضُدْنا. لِ‍هذا، تَضرَعُ إل‍يكَ ب‍يعتُك ورعيّتُكَ وَبكَ وَمَعكَ إل‍ى أب‍يكَ وهي تقول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رحمنا، أيّها الآب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ضّابط الكلّ،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رحمنـا.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4360" y="2276640"/>
            <a:ext cx="3671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‍حنُ أيضاً، يا ربُّ، أبناءَك الخطأة، ف‍ِيما نقبلُ نِعَمكَ، نشكرُكَ عَن‍ها ومن أجل‍ِها كلِّ‍ها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إيّاك نسب‍ح. إيّاك ن‍مجّ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يّاك نبارك. لك نسجد.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ك نعترف ومنك نطلب: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شفق أللّهمّ عل‍ين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رحمنا واستجب لنا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ا أرهب‍ها ساعةً أحبّائي ين‍حدر ف‍يها الرّوح الحيّ القدّوس ويحلّ عل‍ى هذا القربان ال‍موضوعِ لتقديسنا فلنقف مصل‍ّين خاشعين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رحَمنا اللهمَّ إرحَمنا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أَرسِلْ عل‍ينا وعل‍ى هذه القراب‍ين روحَك القدّوس فَ‍يعْضُدَنا وَيُسامِحَنا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ألوه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حايلتون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ديشات لومويوتـو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تراحـام علين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ستجبنا يا ربّ. (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3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)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‍يأتِ روحُكَ الحيُّ القدُّوس ويَحلَّ عَل‍ينا وعل‍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ذا القرب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7280" y="259920"/>
            <a:ext cx="8532720" cy="587700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يرياليس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ريــالــيـسـون</a:t>
            </a:r>
            <a:br>
              <a:rPr sz="8000"/>
            </a:br>
            <a:r>
              <a:rPr b="0" lang="ar-SA" sz="8000" spc="-1" strike="noStrike">
                <a:solidFill>
                  <a:srgbClr val="ffffff"/>
                </a:solidFill>
                <a:latin typeface="Arial"/>
                <a:cs typeface="AL-Mohanad Bold"/>
              </a:rPr>
              <a:t>كــيــريــــالــــيــــســــ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‍يجعلَ ب‍حلولِ‍ه هذا الخبزَ جَسدَ ال‍مسيحِ إل‍هِنا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ويَجعلَ مَزيجَ هَذهِ الكأسِ دَمَ ال‍مسيح إل‍هِنا. 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فتكونَ هذه الأسرار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تنقيةِ نُفوسِ ال‍مشتركينَ ف‍يها وأجسادهم من كلِّ خطيئة، وللحياة الأبدية.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-242640" y="5564160"/>
            <a:ext cx="243180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إجعل يا ربّ ذكراً صالحاً لآبائنا وإخوتِنا ومعلّ‍مينا وجميعِ ال‍موتى ال‍مؤمن‍ين الراقدين هُنا وف‍ي كل مكا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غفِرْ لنا ول‍هم الخطايا والزَّلات لأنّ‍ه ما من أحد من دون خطيئة إلاّ ربُّنا وإل‍هنا ومخلّصنا يسوع ال‍مسيح الذي بواسطتِ‍ه نرجو أن ننالَ ال‍مراحمَ وغفرانَ الخطايا لنا ول‍هم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أَرِحْ أللّهمَّ الـموتى واغفِرْ خطايانا الّتي اقترفناها بمعرفة وبغير معرفة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42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سامِحْنا أللهمَّ واغفِرْ لَنا ول‍هم ف‍يتمجَّدَ بنا وبكلّ شيء إسْمُك ال‍مبارك، مع اسمِ ربِّنا يسوعَ ال‍مسيح وروحِك الحيِّ القدّوس الآن و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كما كان وهو الآن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كذا يكون إل‍ى الأبد.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آمين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-303480" y="5394240"/>
            <a:ext cx="263736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72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جلو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يا قرباناً شهيّاً قُرِّبَ عنّا؛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ذبيحاً غافراً قَرَّب ذاته لأبيه؛ يا حملاً صار لنفسه حَبراً مقرِّباً؛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047360" y="-243000"/>
            <a:ext cx="2288520" cy="124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و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تكُنْ يا ربّ طِلْبتُنا بمراحمِكَ بَخُوراً فَنُقرِّبَها بكَ لأبي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 إلَى الأبد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ضرعُ إل‍يكَ أللّهمَّ الآب معزِّيَنا ف‍ي ضعفِنا ومشجِّعَنا: نقِّنا مِن كُلِّ خَطيئة واقبلْ مِنّا هذا القربان فن‍هتفَ إل‍يكَ بنسمَةٍ وَاحدة وَنُصلِّي قائل‍ين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بانا الذي في السَّماوات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يَتَقَدَّس اسمُكَ، لِيَأتِ ملكوتُكَ لِتَكُن مشيئَتُكَ، كما في السَّماء كذلك على الأرض. أَعطِنا خبزنا كفافَ يومِنا واغفِرْ لنا ذنوبَن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خطايانا كما نحنُ نغفِر لِمَنْ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 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khbar MT"/>
              </a:rPr>
              <a:t>	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ا تُدخِلنا في التجارب لكن نَجِّنا من الشرِّير لأنَّ لَكَ الـمُلكَ والقوَّةَ والمجد</a:t>
            </a:r>
            <a:br>
              <a:rPr sz="7200"/>
            </a:b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أبد الآبدين. آمين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76720" y="1628640"/>
            <a:ext cx="3241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طِئَ إلينا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363640" y="2708280"/>
            <a:ext cx="2737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لا تُدْخِلْنَا يا رب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‍ي امت‍حانِ التجارب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نا لا قوةَ لنا عل‍يه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ل نَجِّنا من كلِّ شرّ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أنّ لكَ ال‍ملكوتَ والقدرةَ وال‍مجد ولابنِك الوحيد ولروحِك الحيّ القدوس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10008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ألسّلامُ لجميعكم. 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403280" y="-168120"/>
            <a:ext cx="5940360" cy="1225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رجع صوت ب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لحظ طرف سعيد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حنوا رؤوسكم أمام الله الرّؤوف وأمام مذب‍حه الغافر وأمام جسد مخلّصنا ودمه ال‍محيي ل‍من يتناولُ‍ه واقبلوا الب‍ركةَ من الرّبّ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بارِكْ يا ربُّ السّاجدينَ لك ال‍من‍حن‍ينَ أمامك الضّارعينَ إل‍يك وأهّل‍هُم ل‍مراحِمِك وغفرانِ خطاياهُم لأنّك كثيرُ ال‍مراحم وعل‍ى كلِّ شيءٍ قدير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نرفع ال‍مجدَ والشّكر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‍يكَ وإل‍ى ابنِكَ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روحِكَ القدّو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ن وإل‍ى الأبد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مين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2700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نعمةُ الثالوثِ الأقدسِ الأزل‍يّ ال‍متساوي ف‍ي الجوهر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عكم يا إخوت‍ي إل‍ى الأبد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ومع روحك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‍ينظُرْ كلُّ واحد مِنّا إل‍ى الله بت‍هيّبٍ وخشوع ول‍يسألـ‍ْهُ الرّحمةَ والحنان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ffffff"/>
                </a:solidFill>
                <a:latin typeface="Times New Roman"/>
                <a:ea typeface="Akhbar MT"/>
              </a:rPr>
              <a:t>- الأقداس للقدّيسين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كمال والنّقاوة</a:t>
            </a:r>
            <a:br>
              <a:rPr sz="9800"/>
            </a:br>
            <a:r>
              <a:rPr b="1" lang="ar-SA" sz="98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قداسة.</a:t>
            </a:r>
            <a:endParaRPr b="0" lang="en-US" sz="9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khbar MT"/>
              </a:rPr>
              <a:t>+ آبٌ واحدٌ قدّوس إبنٌ واحدٌ قدّوس روحٌ واحدٌ قدّوس. تبارك اسم الربّ لأن‍ه واحدٌ ف‍ي السّماء وعل‍ى الأرض ل‍ه ال‍مجد إل‍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هّلنا، أيّها الربّ الإله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ن تتقدَّسَ أجسادُنا بجسدِكَ القدّوس وتتنقّى نفوسُنا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دمِكَ الغفور،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87280" y="5013360"/>
            <a:ext cx="4248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3141720"/>
            <a:ext cx="5473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9900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يكُن تناولُنا لِمغفرةِ خطايانا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للحياة الجديدة. يا ربّنا وإلهنا لك المجد إلى الأبد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900000" y="38160"/>
            <a:ext cx="6588360" cy="1058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شعبك الراجي يضرع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يا ابن داود ارحمني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صوتك العذب يسم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ابصر نعمة الاب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320" y="0"/>
            <a:ext cx="8991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رَبِّ يَا مَنْ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قِدْماً خِدْمَةَ  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يَا حَنُونُ تَقَبَّل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ahoma"/>
                <a:cs typeface="Akhbar MT"/>
              </a:rPr>
              <a:t>وَاسْتَجِبْنَا كَالأَبْرَارْ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09:20:04Z</dcterms:created>
  <dc:creator>-</dc:creator>
  <dc:description/>
  <dc:language>en-US</dc:language>
  <cp:lastModifiedBy>ف</cp:lastModifiedBy>
  <dcterms:modified xsi:type="dcterms:W3CDTF">2006-09-15T19:53:37Z</dcterms:modified>
  <cp:revision>804</cp:revision>
  <dc:subject/>
  <dc:title>Slide 1</dc:title>
</cp:coreProperties>
</file>