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3C0-5349-4A73-88E1-8C8A550B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023-6B6D-40ED-A946-7C173DC3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719-4E17-491A-8686-621E2AA9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F24-6B48-4FB4-A971-3AD0E3AB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533-1B07-42EC-B2D2-86432205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AB3-E053-4C0C-9EF9-DCE6AF71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FC4-C2AC-4C79-84EB-9D53DA0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84F-4066-4440-9C3E-147828C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13C-A7A3-4973-B2EB-79B17559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1FD-4B3C-43E0-B7E0-9AA764C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EE5-40DD-4CC1-9BF2-55FCC009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E87-B07E-4D6F-B85D-68AF6EA5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3CE3-F150-4DA6-BD5C-3486D3664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ميلاد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لكلمة قد صار جسداً يا مؤمن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نصفِ الليل اتّلد ربُّ السماو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جُرمُ آدم قد مُحي بدمع الطفلِ السخ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داود قد تهلّل بوارثه الأ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يرودوس واليهود ما لكم مضطرب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فى المجوسُ إليه وقدّموا له القرا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تَفَتِ الملائكة بالرعاة الراق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ُبُّ الربِّ بادٍ نحو السُّفل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طوبى لنا فإننا فُقنا العُلْو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مريم حظيتِ بالأجمل في البن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كفاك به فخراً يا فخرَ العا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مغارة بيت لحم قد أتى بالساج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يخا قد تنبّا ولاحَ الحقُّ الم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نجم يعقوب قد بدا وأنار المظ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سرُّ الخلاص ابتدا وتمَّ قولُ النّبيّ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جيب يا إلهنا يهتفون منذه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ي المذود اضّجعت كأحقر المساك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صرتَ إنساناً لكي تفدي البشر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موا له المجد يا جميع المولو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رتِّلوا بالتهليل وحسن نظم التل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شمسُنا قد أشرقت فلنهتف قائ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مَّ الخلاصُ والوعد فنشكره كل 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12:59Z</dcterms:created>
  <dc:creator>Charbel Azar</dc:creator>
  <dc:description/>
  <dc:language>en-US</dc:language>
  <cp:lastModifiedBy>Charbel Azar</cp:lastModifiedBy>
  <dcterms:modified xsi:type="dcterms:W3CDTF">2002-12-16T12:28:13Z</dcterms:modified>
  <cp:revision>3</cp:revision>
  <dc:subject/>
  <dc:title>Slide 1</dc:title>
</cp:coreProperties>
</file>