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71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7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191.xml.rels" ContentType="application/vnd.openxmlformats-package.relationships+xml"/>
  <Override PartName="/ppt/slides/_rels/slide357.xml.rels" ContentType="application/vnd.openxmlformats-package.relationships+xml"/>
  <Override PartName="/ppt/slides/_rels/slide66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404.xml.rels" ContentType="application/vnd.openxmlformats-package.relationships+xml"/>
  <Override PartName="/ppt/slides/_rels/slide92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5.xml.rels" ContentType="application/vnd.openxmlformats-package.relationships+xml"/>
  <Override PartName="/ppt/slides/_rels/slide89.xml.rels" ContentType="application/vnd.openxmlformats-package.relationships+xml"/>
  <Override PartName="/ppt/slides/_rels/slide385.xml.rels" ContentType="application/vnd.openxmlformats-package.relationships+xml"/>
  <Override PartName="/ppt/slides/_rels/slide390.xml.rels" ContentType="application/vnd.openxmlformats-package.relationships+xml"/>
  <Override PartName="/ppt/slides/_rels/slide94.xml.rels" ContentType="application/vnd.openxmlformats-package.relationships+xml"/>
  <Override PartName="/ppt/slides/_rels/slide406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343.xml.rels" ContentType="application/vnd.openxmlformats-package.relationships+xml"/>
  <Override PartName="/ppt/slides/_rels/slide33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44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332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27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46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398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97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28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295.xml.rels" ContentType="application/vnd.openxmlformats-package.relationships+xml"/>
  <Override PartName="/ppt/slides/_rels/slide316.xml.rels" ContentType="application/vnd.openxmlformats-package.relationships+xml"/>
  <Override PartName="/ppt/slides/_rels/slide167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142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402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96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78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403.xml.rels" ContentType="application/vnd.openxmlformats-package.relationships+xml"/>
  <Override PartName="/ppt/slides/_rels/slide382.xml.rels" ContentType="application/vnd.openxmlformats-package.relationships+xml"/>
  <Override PartName="/ppt/slides/_rels/slide86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99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03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407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391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405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363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287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367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309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89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86.xml" ContentType="application/vnd.openxmlformats-officedocument.presentationml.slide+xml"/>
  <Override PartName="/ppt/slides/slide125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372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14.xml" ContentType="application/vnd.openxmlformats-officedocument.presentationml.slide+xml"/>
  <Override PartName="/ppt/slides/slide382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20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360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262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373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374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366.xml" ContentType="application/vnd.openxmlformats-officedocument.presentationml.slide+xml"/>
  <Override PartName="/ppt/slides/slide404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72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67.xml" ContentType="application/vnd.openxmlformats-officedocument.presentationml.slide+xml"/>
  <Override PartName="/ppt/slides/slide405.xml" ContentType="application/vnd.openxmlformats-officedocument.presentationml.slide+xml"/>
  <Override PartName="/ppt/slides/slide280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84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290.xml" ContentType="application/vnd.openxmlformats-officedocument.presentationml.slide+xml"/>
  <Override PartName="/ppt/slides/slide39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9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82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281.xml" ContentType="application/vnd.openxmlformats-officedocument.presentationml.slide+xml"/>
  <Override PartName="/ppt/slides/slide4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01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39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191.xml" ContentType="application/vnd.openxmlformats-officedocument.presentationml.slide+xml"/>
  <Override PartName="/ppt/slides/slide357.xml" ContentType="application/vnd.openxmlformats-officedocument.presentationml.slide+xml"/>
  <Override PartName="/ppt/slides/slide68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406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407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  <p:sldId id="416" r:id="rId174"/>
    <p:sldId id="417" r:id="rId175"/>
    <p:sldId id="418" r:id="rId176"/>
    <p:sldId id="419" r:id="rId177"/>
    <p:sldId id="420" r:id="rId178"/>
    <p:sldId id="421" r:id="rId179"/>
    <p:sldId id="422" r:id="rId180"/>
    <p:sldId id="423" r:id="rId181"/>
    <p:sldId id="424" r:id="rId182"/>
    <p:sldId id="425" r:id="rId183"/>
    <p:sldId id="426" r:id="rId184"/>
    <p:sldId id="427" r:id="rId185"/>
    <p:sldId id="428" r:id="rId186"/>
    <p:sldId id="429" r:id="rId187"/>
    <p:sldId id="430" r:id="rId188"/>
    <p:sldId id="431" r:id="rId189"/>
    <p:sldId id="432" r:id="rId190"/>
    <p:sldId id="433" r:id="rId191"/>
    <p:sldId id="434" r:id="rId192"/>
    <p:sldId id="435" r:id="rId193"/>
    <p:sldId id="436" r:id="rId194"/>
    <p:sldId id="437" r:id="rId195"/>
    <p:sldId id="438" r:id="rId196"/>
    <p:sldId id="439" r:id="rId197"/>
    <p:sldId id="440" r:id="rId198"/>
    <p:sldId id="441" r:id="rId199"/>
    <p:sldId id="442" r:id="rId200"/>
    <p:sldId id="443" r:id="rId201"/>
    <p:sldId id="444" r:id="rId202"/>
    <p:sldId id="445" r:id="rId203"/>
    <p:sldId id="446" r:id="rId204"/>
    <p:sldId id="447" r:id="rId205"/>
    <p:sldId id="448" r:id="rId206"/>
    <p:sldId id="449" r:id="rId207"/>
    <p:sldId id="450" r:id="rId208"/>
    <p:sldId id="451" r:id="rId209"/>
    <p:sldId id="452" r:id="rId210"/>
    <p:sldId id="453" r:id="rId211"/>
    <p:sldId id="454" r:id="rId212"/>
    <p:sldId id="455" r:id="rId213"/>
    <p:sldId id="456" r:id="rId214"/>
    <p:sldId id="457" r:id="rId215"/>
    <p:sldId id="458" r:id="rId216"/>
    <p:sldId id="459" r:id="rId217"/>
    <p:sldId id="460" r:id="rId218"/>
    <p:sldId id="461" r:id="rId219"/>
    <p:sldId id="462" r:id="rId220"/>
    <p:sldId id="463" r:id="rId221"/>
    <p:sldId id="464" r:id="rId222"/>
    <p:sldId id="465" r:id="rId223"/>
    <p:sldId id="466" r:id="rId224"/>
    <p:sldId id="467" r:id="rId225"/>
    <p:sldId id="468" r:id="rId226"/>
    <p:sldId id="469" r:id="rId227"/>
    <p:sldId id="470" r:id="rId228"/>
    <p:sldId id="471" r:id="rId229"/>
    <p:sldId id="472" r:id="rId230"/>
    <p:sldId id="473" r:id="rId231"/>
    <p:sldId id="474" r:id="rId232"/>
    <p:sldId id="475" r:id="rId233"/>
    <p:sldId id="476" r:id="rId234"/>
    <p:sldId id="477" r:id="rId235"/>
    <p:sldId id="478" r:id="rId236"/>
    <p:sldId id="479" r:id="rId237"/>
    <p:sldId id="480" r:id="rId238"/>
    <p:sldId id="481" r:id="rId239"/>
    <p:sldId id="482" r:id="rId240"/>
    <p:sldId id="483" r:id="rId241"/>
    <p:sldId id="484" r:id="rId242"/>
    <p:sldId id="485" r:id="rId243"/>
    <p:sldId id="486" r:id="rId244"/>
    <p:sldId id="487" r:id="rId245"/>
    <p:sldId id="488" r:id="rId246"/>
    <p:sldId id="489" r:id="rId247"/>
    <p:sldId id="490" r:id="rId248"/>
    <p:sldId id="491" r:id="rId249"/>
    <p:sldId id="492" r:id="rId250"/>
    <p:sldId id="493" r:id="rId251"/>
    <p:sldId id="494" r:id="rId252"/>
    <p:sldId id="495" r:id="rId253"/>
    <p:sldId id="496" r:id="rId254"/>
    <p:sldId id="497" r:id="rId255"/>
    <p:sldId id="498" r:id="rId256"/>
    <p:sldId id="499" r:id="rId257"/>
    <p:sldId id="500" r:id="rId258"/>
    <p:sldId id="501" r:id="rId259"/>
    <p:sldId id="502" r:id="rId260"/>
    <p:sldId id="503" r:id="rId261"/>
    <p:sldId id="504" r:id="rId262"/>
    <p:sldId id="505" r:id="rId263"/>
    <p:sldId id="506" r:id="rId264"/>
    <p:sldId id="507" r:id="rId265"/>
    <p:sldId id="508" r:id="rId266"/>
    <p:sldId id="509" r:id="rId267"/>
    <p:sldId id="510" r:id="rId268"/>
    <p:sldId id="511" r:id="rId269"/>
    <p:sldId id="512" r:id="rId270"/>
    <p:sldId id="513" r:id="rId271"/>
    <p:sldId id="514" r:id="rId272"/>
    <p:sldId id="515" r:id="rId273"/>
    <p:sldId id="516" r:id="rId274"/>
    <p:sldId id="517" r:id="rId275"/>
    <p:sldId id="518" r:id="rId276"/>
    <p:sldId id="519" r:id="rId277"/>
    <p:sldId id="520" r:id="rId278"/>
    <p:sldId id="521" r:id="rId279"/>
    <p:sldId id="522" r:id="rId280"/>
    <p:sldId id="523" r:id="rId281"/>
    <p:sldId id="524" r:id="rId282"/>
    <p:sldId id="525" r:id="rId283"/>
    <p:sldId id="526" r:id="rId284"/>
    <p:sldId id="527" r:id="rId285"/>
    <p:sldId id="528" r:id="rId286"/>
    <p:sldId id="529" r:id="rId287"/>
    <p:sldId id="530" r:id="rId288"/>
    <p:sldId id="531" r:id="rId289"/>
    <p:sldId id="532" r:id="rId290"/>
    <p:sldId id="533" r:id="rId291"/>
    <p:sldId id="534" r:id="rId292"/>
    <p:sldId id="535" r:id="rId293"/>
    <p:sldId id="536" r:id="rId294"/>
    <p:sldId id="537" r:id="rId295"/>
    <p:sldId id="538" r:id="rId296"/>
    <p:sldId id="539" r:id="rId297"/>
    <p:sldId id="540" r:id="rId298"/>
    <p:sldId id="541" r:id="rId299"/>
    <p:sldId id="542" r:id="rId300"/>
    <p:sldId id="543" r:id="rId301"/>
    <p:sldId id="544" r:id="rId302"/>
    <p:sldId id="545" r:id="rId303"/>
    <p:sldId id="546" r:id="rId304"/>
    <p:sldId id="547" r:id="rId305"/>
    <p:sldId id="548" r:id="rId306"/>
    <p:sldId id="549" r:id="rId307"/>
    <p:sldId id="550" r:id="rId308"/>
    <p:sldId id="551" r:id="rId309"/>
    <p:sldId id="552" r:id="rId310"/>
    <p:sldId id="553" r:id="rId311"/>
    <p:sldId id="554" r:id="rId312"/>
    <p:sldId id="555" r:id="rId313"/>
    <p:sldId id="556" r:id="rId314"/>
    <p:sldId id="557" r:id="rId315"/>
    <p:sldId id="558" r:id="rId316"/>
    <p:sldId id="559" r:id="rId317"/>
    <p:sldId id="560" r:id="rId318"/>
    <p:sldId id="561" r:id="rId319"/>
    <p:sldId id="562" r:id="rId320"/>
    <p:sldId id="563" r:id="rId321"/>
    <p:sldId id="564" r:id="rId322"/>
    <p:sldId id="565" r:id="rId323"/>
    <p:sldId id="566" r:id="rId324"/>
    <p:sldId id="567" r:id="rId325"/>
    <p:sldId id="568" r:id="rId326"/>
    <p:sldId id="569" r:id="rId327"/>
    <p:sldId id="570" r:id="rId328"/>
    <p:sldId id="571" r:id="rId329"/>
    <p:sldId id="572" r:id="rId330"/>
    <p:sldId id="573" r:id="rId331"/>
    <p:sldId id="574" r:id="rId332"/>
    <p:sldId id="575" r:id="rId333"/>
    <p:sldId id="576" r:id="rId334"/>
    <p:sldId id="577" r:id="rId335"/>
    <p:sldId id="578" r:id="rId336"/>
    <p:sldId id="579" r:id="rId337"/>
    <p:sldId id="580" r:id="rId338"/>
    <p:sldId id="581" r:id="rId339"/>
    <p:sldId id="582" r:id="rId340"/>
    <p:sldId id="583" r:id="rId341"/>
    <p:sldId id="584" r:id="rId342"/>
    <p:sldId id="585" r:id="rId343"/>
    <p:sldId id="586" r:id="rId344"/>
    <p:sldId id="587" r:id="rId345"/>
    <p:sldId id="588" r:id="rId346"/>
    <p:sldId id="589" r:id="rId347"/>
    <p:sldId id="590" r:id="rId348"/>
    <p:sldId id="591" r:id="rId349"/>
    <p:sldId id="592" r:id="rId350"/>
    <p:sldId id="593" r:id="rId351"/>
    <p:sldId id="594" r:id="rId352"/>
    <p:sldId id="595" r:id="rId353"/>
    <p:sldId id="596" r:id="rId354"/>
    <p:sldId id="597" r:id="rId355"/>
    <p:sldId id="598" r:id="rId356"/>
    <p:sldId id="599" r:id="rId357"/>
    <p:sldId id="600" r:id="rId358"/>
    <p:sldId id="601" r:id="rId359"/>
    <p:sldId id="602" r:id="rId360"/>
    <p:sldId id="603" r:id="rId361"/>
    <p:sldId id="604" r:id="rId362"/>
    <p:sldId id="605" r:id="rId363"/>
    <p:sldId id="606" r:id="rId364"/>
    <p:sldId id="607" r:id="rId365"/>
    <p:sldId id="608" r:id="rId366"/>
    <p:sldId id="609" r:id="rId367"/>
    <p:sldId id="610" r:id="rId368"/>
    <p:sldId id="611" r:id="rId369"/>
    <p:sldId id="612" r:id="rId370"/>
    <p:sldId id="613" r:id="rId371"/>
    <p:sldId id="614" r:id="rId372"/>
    <p:sldId id="615" r:id="rId373"/>
    <p:sldId id="616" r:id="rId374"/>
    <p:sldId id="617" r:id="rId375"/>
    <p:sldId id="618" r:id="rId376"/>
    <p:sldId id="619" r:id="rId377"/>
    <p:sldId id="620" r:id="rId378"/>
    <p:sldId id="621" r:id="rId379"/>
    <p:sldId id="622" r:id="rId380"/>
    <p:sldId id="623" r:id="rId381"/>
    <p:sldId id="624" r:id="rId382"/>
    <p:sldId id="625" r:id="rId383"/>
    <p:sldId id="626" r:id="rId384"/>
    <p:sldId id="627" r:id="rId385"/>
    <p:sldId id="628" r:id="rId386"/>
    <p:sldId id="629" r:id="rId387"/>
    <p:sldId id="630" r:id="rId388"/>
    <p:sldId id="631" r:id="rId389"/>
    <p:sldId id="632" r:id="rId390"/>
    <p:sldId id="633" r:id="rId391"/>
    <p:sldId id="634" r:id="rId392"/>
    <p:sldId id="635" r:id="rId393"/>
    <p:sldId id="636" r:id="rId394"/>
    <p:sldId id="637" r:id="rId395"/>
    <p:sldId id="638" r:id="rId396"/>
    <p:sldId id="639" r:id="rId397"/>
    <p:sldId id="640" r:id="rId398"/>
    <p:sldId id="641" r:id="rId399"/>
    <p:sldId id="642" r:id="rId400"/>
    <p:sldId id="643" r:id="rId401"/>
    <p:sldId id="644" r:id="rId402"/>
    <p:sldId id="645" r:id="rId403"/>
    <p:sldId id="646" r:id="rId404"/>
    <p:sldId id="647" r:id="rId405"/>
    <p:sldId id="648" r:id="rId406"/>
    <p:sldId id="649" r:id="rId407"/>
    <p:sldId id="650" r:id="rId408"/>
    <p:sldId id="651" r:id="rId409"/>
    <p:sldId id="652" r:id="rId410"/>
    <p:sldId id="653" r:id="rId411"/>
    <p:sldId id="654" r:id="rId412"/>
    <p:sldId id="655" r:id="rId413"/>
    <p:sldId id="656" r:id="rId414"/>
    <p:sldId id="657" r:id="rId415"/>
    <p:sldId id="658" r:id="rId416"/>
    <p:sldId id="659" r:id="rId417"/>
    <p:sldId id="660" r:id="rId418"/>
    <p:sldId id="661" r:id="rId419"/>
    <p:sldId id="662" r:id="rId4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slide" Target="slides/slide161.xml"/><Relationship Id="rId175" Type="http://schemas.openxmlformats.org/officeDocument/2006/relationships/slide" Target="slides/slide162.xml"/><Relationship Id="rId176" Type="http://schemas.openxmlformats.org/officeDocument/2006/relationships/slide" Target="slides/slide163.xml"/><Relationship Id="rId177" Type="http://schemas.openxmlformats.org/officeDocument/2006/relationships/slide" Target="slides/slide164.xml"/><Relationship Id="rId178" Type="http://schemas.openxmlformats.org/officeDocument/2006/relationships/slide" Target="slides/slide165.xml"/><Relationship Id="rId179" Type="http://schemas.openxmlformats.org/officeDocument/2006/relationships/slide" Target="slides/slide166.xml"/><Relationship Id="rId180" Type="http://schemas.openxmlformats.org/officeDocument/2006/relationships/slide" Target="slides/slide167.xml"/><Relationship Id="rId181" Type="http://schemas.openxmlformats.org/officeDocument/2006/relationships/slide" Target="slides/slide168.xml"/><Relationship Id="rId182" Type="http://schemas.openxmlformats.org/officeDocument/2006/relationships/slide" Target="slides/slide169.xml"/><Relationship Id="rId183" Type="http://schemas.openxmlformats.org/officeDocument/2006/relationships/slide" Target="slides/slide170.xml"/><Relationship Id="rId184" Type="http://schemas.openxmlformats.org/officeDocument/2006/relationships/slide" Target="slides/slide171.xml"/><Relationship Id="rId185" Type="http://schemas.openxmlformats.org/officeDocument/2006/relationships/slide" Target="slides/slide172.xml"/><Relationship Id="rId186" Type="http://schemas.openxmlformats.org/officeDocument/2006/relationships/slide" Target="slides/slide173.xml"/><Relationship Id="rId187" Type="http://schemas.openxmlformats.org/officeDocument/2006/relationships/slide" Target="slides/slide174.xml"/><Relationship Id="rId188" Type="http://schemas.openxmlformats.org/officeDocument/2006/relationships/slide" Target="slides/slide175.xml"/><Relationship Id="rId189" Type="http://schemas.openxmlformats.org/officeDocument/2006/relationships/slide" Target="slides/slide176.xml"/><Relationship Id="rId190" Type="http://schemas.openxmlformats.org/officeDocument/2006/relationships/slide" Target="slides/slide177.xml"/><Relationship Id="rId191" Type="http://schemas.openxmlformats.org/officeDocument/2006/relationships/slide" Target="slides/slide178.xml"/><Relationship Id="rId192" Type="http://schemas.openxmlformats.org/officeDocument/2006/relationships/slide" Target="slides/slide179.xml"/><Relationship Id="rId193" Type="http://schemas.openxmlformats.org/officeDocument/2006/relationships/slide" Target="slides/slide180.xml"/><Relationship Id="rId194" Type="http://schemas.openxmlformats.org/officeDocument/2006/relationships/slide" Target="slides/slide181.xml"/><Relationship Id="rId195" Type="http://schemas.openxmlformats.org/officeDocument/2006/relationships/slide" Target="slides/slide182.xml"/><Relationship Id="rId196" Type="http://schemas.openxmlformats.org/officeDocument/2006/relationships/slide" Target="slides/slide183.xml"/><Relationship Id="rId197" Type="http://schemas.openxmlformats.org/officeDocument/2006/relationships/slide" Target="slides/slide184.xml"/><Relationship Id="rId198" Type="http://schemas.openxmlformats.org/officeDocument/2006/relationships/slide" Target="slides/slide185.xml"/><Relationship Id="rId199" Type="http://schemas.openxmlformats.org/officeDocument/2006/relationships/slide" Target="slides/slide186.xml"/><Relationship Id="rId200" Type="http://schemas.openxmlformats.org/officeDocument/2006/relationships/slide" Target="slides/slide187.xml"/><Relationship Id="rId201" Type="http://schemas.openxmlformats.org/officeDocument/2006/relationships/slide" Target="slides/slide188.xml"/><Relationship Id="rId202" Type="http://schemas.openxmlformats.org/officeDocument/2006/relationships/slide" Target="slides/slide189.xml"/><Relationship Id="rId203" Type="http://schemas.openxmlformats.org/officeDocument/2006/relationships/slide" Target="slides/slide190.xml"/><Relationship Id="rId204" Type="http://schemas.openxmlformats.org/officeDocument/2006/relationships/slide" Target="slides/slide191.xml"/><Relationship Id="rId205" Type="http://schemas.openxmlformats.org/officeDocument/2006/relationships/slide" Target="slides/slide192.xml"/><Relationship Id="rId206" Type="http://schemas.openxmlformats.org/officeDocument/2006/relationships/slide" Target="slides/slide193.xml"/><Relationship Id="rId207" Type="http://schemas.openxmlformats.org/officeDocument/2006/relationships/slide" Target="slides/slide194.xml"/><Relationship Id="rId208" Type="http://schemas.openxmlformats.org/officeDocument/2006/relationships/slide" Target="slides/slide195.xml"/><Relationship Id="rId209" Type="http://schemas.openxmlformats.org/officeDocument/2006/relationships/slide" Target="slides/slide196.xml"/><Relationship Id="rId210" Type="http://schemas.openxmlformats.org/officeDocument/2006/relationships/slide" Target="slides/slide197.xml"/><Relationship Id="rId211" Type="http://schemas.openxmlformats.org/officeDocument/2006/relationships/slide" Target="slides/slide198.xml"/><Relationship Id="rId212" Type="http://schemas.openxmlformats.org/officeDocument/2006/relationships/slide" Target="slides/slide199.xml"/><Relationship Id="rId213" Type="http://schemas.openxmlformats.org/officeDocument/2006/relationships/slide" Target="slides/slide200.xml"/><Relationship Id="rId214" Type="http://schemas.openxmlformats.org/officeDocument/2006/relationships/slide" Target="slides/slide201.xml"/><Relationship Id="rId215" Type="http://schemas.openxmlformats.org/officeDocument/2006/relationships/slide" Target="slides/slide202.xml"/><Relationship Id="rId216" Type="http://schemas.openxmlformats.org/officeDocument/2006/relationships/slide" Target="slides/slide203.xml"/><Relationship Id="rId217" Type="http://schemas.openxmlformats.org/officeDocument/2006/relationships/slide" Target="slides/slide204.xml"/><Relationship Id="rId218" Type="http://schemas.openxmlformats.org/officeDocument/2006/relationships/slide" Target="slides/slide205.xml"/><Relationship Id="rId219" Type="http://schemas.openxmlformats.org/officeDocument/2006/relationships/slide" Target="slides/slide206.xml"/><Relationship Id="rId220" Type="http://schemas.openxmlformats.org/officeDocument/2006/relationships/slide" Target="slides/slide207.xml"/><Relationship Id="rId221" Type="http://schemas.openxmlformats.org/officeDocument/2006/relationships/slide" Target="slides/slide208.xml"/><Relationship Id="rId222" Type="http://schemas.openxmlformats.org/officeDocument/2006/relationships/slide" Target="slides/slide209.xml"/><Relationship Id="rId223" Type="http://schemas.openxmlformats.org/officeDocument/2006/relationships/slide" Target="slides/slide210.xml"/><Relationship Id="rId224" Type="http://schemas.openxmlformats.org/officeDocument/2006/relationships/slide" Target="slides/slide211.xml"/><Relationship Id="rId225" Type="http://schemas.openxmlformats.org/officeDocument/2006/relationships/slide" Target="slides/slide212.xml"/><Relationship Id="rId226" Type="http://schemas.openxmlformats.org/officeDocument/2006/relationships/slide" Target="slides/slide213.xml"/><Relationship Id="rId227" Type="http://schemas.openxmlformats.org/officeDocument/2006/relationships/slide" Target="slides/slide214.xml"/><Relationship Id="rId228" Type="http://schemas.openxmlformats.org/officeDocument/2006/relationships/slide" Target="slides/slide215.xml"/><Relationship Id="rId229" Type="http://schemas.openxmlformats.org/officeDocument/2006/relationships/slide" Target="slides/slide216.xml"/><Relationship Id="rId230" Type="http://schemas.openxmlformats.org/officeDocument/2006/relationships/slide" Target="slides/slide217.xml"/><Relationship Id="rId231" Type="http://schemas.openxmlformats.org/officeDocument/2006/relationships/slide" Target="slides/slide218.xml"/><Relationship Id="rId232" Type="http://schemas.openxmlformats.org/officeDocument/2006/relationships/slide" Target="slides/slide219.xml"/><Relationship Id="rId233" Type="http://schemas.openxmlformats.org/officeDocument/2006/relationships/slide" Target="slides/slide220.xml"/><Relationship Id="rId234" Type="http://schemas.openxmlformats.org/officeDocument/2006/relationships/slide" Target="slides/slide221.xml"/><Relationship Id="rId235" Type="http://schemas.openxmlformats.org/officeDocument/2006/relationships/slide" Target="slides/slide222.xml"/><Relationship Id="rId236" Type="http://schemas.openxmlformats.org/officeDocument/2006/relationships/slide" Target="slides/slide223.xml"/><Relationship Id="rId237" Type="http://schemas.openxmlformats.org/officeDocument/2006/relationships/slide" Target="slides/slide224.xml"/><Relationship Id="rId238" Type="http://schemas.openxmlformats.org/officeDocument/2006/relationships/slide" Target="slides/slide225.xml"/><Relationship Id="rId239" Type="http://schemas.openxmlformats.org/officeDocument/2006/relationships/slide" Target="slides/slide226.xml"/><Relationship Id="rId240" Type="http://schemas.openxmlformats.org/officeDocument/2006/relationships/slide" Target="slides/slide227.xml"/><Relationship Id="rId241" Type="http://schemas.openxmlformats.org/officeDocument/2006/relationships/slide" Target="slides/slide228.xml"/><Relationship Id="rId242" Type="http://schemas.openxmlformats.org/officeDocument/2006/relationships/slide" Target="slides/slide229.xml"/><Relationship Id="rId243" Type="http://schemas.openxmlformats.org/officeDocument/2006/relationships/slide" Target="slides/slide230.xml"/><Relationship Id="rId244" Type="http://schemas.openxmlformats.org/officeDocument/2006/relationships/slide" Target="slides/slide231.xml"/><Relationship Id="rId245" Type="http://schemas.openxmlformats.org/officeDocument/2006/relationships/slide" Target="slides/slide232.xml"/><Relationship Id="rId246" Type="http://schemas.openxmlformats.org/officeDocument/2006/relationships/slide" Target="slides/slide233.xml"/><Relationship Id="rId247" Type="http://schemas.openxmlformats.org/officeDocument/2006/relationships/slide" Target="slides/slide234.xml"/><Relationship Id="rId248" Type="http://schemas.openxmlformats.org/officeDocument/2006/relationships/slide" Target="slides/slide235.xml"/><Relationship Id="rId249" Type="http://schemas.openxmlformats.org/officeDocument/2006/relationships/slide" Target="slides/slide236.xml"/><Relationship Id="rId250" Type="http://schemas.openxmlformats.org/officeDocument/2006/relationships/slide" Target="slides/slide237.xml"/><Relationship Id="rId251" Type="http://schemas.openxmlformats.org/officeDocument/2006/relationships/slide" Target="slides/slide238.xml"/><Relationship Id="rId252" Type="http://schemas.openxmlformats.org/officeDocument/2006/relationships/slide" Target="slides/slide239.xml"/><Relationship Id="rId253" Type="http://schemas.openxmlformats.org/officeDocument/2006/relationships/slide" Target="slides/slide240.xml"/><Relationship Id="rId254" Type="http://schemas.openxmlformats.org/officeDocument/2006/relationships/slide" Target="slides/slide241.xml"/><Relationship Id="rId255" Type="http://schemas.openxmlformats.org/officeDocument/2006/relationships/slide" Target="slides/slide242.xml"/><Relationship Id="rId256" Type="http://schemas.openxmlformats.org/officeDocument/2006/relationships/slide" Target="slides/slide243.xml"/><Relationship Id="rId257" Type="http://schemas.openxmlformats.org/officeDocument/2006/relationships/slide" Target="slides/slide244.xml"/><Relationship Id="rId258" Type="http://schemas.openxmlformats.org/officeDocument/2006/relationships/slide" Target="slides/slide245.xml"/><Relationship Id="rId259" Type="http://schemas.openxmlformats.org/officeDocument/2006/relationships/slide" Target="slides/slide246.xml"/><Relationship Id="rId260" Type="http://schemas.openxmlformats.org/officeDocument/2006/relationships/slide" Target="slides/slide247.xml"/><Relationship Id="rId261" Type="http://schemas.openxmlformats.org/officeDocument/2006/relationships/slide" Target="slides/slide248.xml"/><Relationship Id="rId262" Type="http://schemas.openxmlformats.org/officeDocument/2006/relationships/slide" Target="slides/slide249.xml"/><Relationship Id="rId263" Type="http://schemas.openxmlformats.org/officeDocument/2006/relationships/slide" Target="slides/slide250.xml"/><Relationship Id="rId264" Type="http://schemas.openxmlformats.org/officeDocument/2006/relationships/slide" Target="slides/slide251.xml"/><Relationship Id="rId265" Type="http://schemas.openxmlformats.org/officeDocument/2006/relationships/slide" Target="slides/slide252.xml"/><Relationship Id="rId266" Type="http://schemas.openxmlformats.org/officeDocument/2006/relationships/slide" Target="slides/slide253.xml"/><Relationship Id="rId267" Type="http://schemas.openxmlformats.org/officeDocument/2006/relationships/slide" Target="slides/slide254.xml"/><Relationship Id="rId268" Type="http://schemas.openxmlformats.org/officeDocument/2006/relationships/slide" Target="slides/slide255.xml"/><Relationship Id="rId269" Type="http://schemas.openxmlformats.org/officeDocument/2006/relationships/slide" Target="slides/slide256.xml"/><Relationship Id="rId270" Type="http://schemas.openxmlformats.org/officeDocument/2006/relationships/slide" Target="slides/slide257.xml"/><Relationship Id="rId271" Type="http://schemas.openxmlformats.org/officeDocument/2006/relationships/slide" Target="slides/slide258.xml"/><Relationship Id="rId272" Type="http://schemas.openxmlformats.org/officeDocument/2006/relationships/slide" Target="slides/slide259.xml"/><Relationship Id="rId273" Type="http://schemas.openxmlformats.org/officeDocument/2006/relationships/slide" Target="slides/slide260.xml"/><Relationship Id="rId274" Type="http://schemas.openxmlformats.org/officeDocument/2006/relationships/slide" Target="slides/slide261.xml"/><Relationship Id="rId275" Type="http://schemas.openxmlformats.org/officeDocument/2006/relationships/slide" Target="slides/slide262.xml"/><Relationship Id="rId276" Type="http://schemas.openxmlformats.org/officeDocument/2006/relationships/slide" Target="slides/slide263.xml"/><Relationship Id="rId277" Type="http://schemas.openxmlformats.org/officeDocument/2006/relationships/slide" Target="slides/slide264.xml"/><Relationship Id="rId278" Type="http://schemas.openxmlformats.org/officeDocument/2006/relationships/slide" Target="slides/slide265.xml"/><Relationship Id="rId279" Type="http://schemas.openxmlformats.org/officeDocument/2006/relationships/slide" Target="slides/slide266.xml"/><Relationship Id="rId280" Type="http://schemas.openxmlformats.org/officeDocument/2006/relationships/slide" Target="slides/slide267.xml"/><Relationship Id="rId281" Type="http://schemas.openxmlformats.org/officeDocument/2006/relationships/slide" Target="slides/slide268.xml"/><Relationship Id="rId282" Type="http://schemas.openxmlformats.org/officeDocument/2006/relationships/slide" Target="slides/slide269.xml"/><Relationship Id="rId283" Type="http://schemas.openxmlformats.org/officeDocument/2006/relationships/slide" Target="slides/slide270.xml"/><Relationship Id="rId284" Type="http://schemas.openxmlformats.org/officeDocument/2006/relationships/slide" Target="slides/slide271.xml"/><Relationship Id="rId285" Type="http://schemas.openxmlformats.org/officeDocument/2006/relationships/slide" Target="slides/slide272.xml"/><Relationship Id="rId286" Type="http://schemas.openxmlformats.org/officeDocument/2006/relationships/slide" Target="slides/slide273.xml"/><Relationship Id="rId287" Type="http://schemas.openxmlformats.org/officeDocument/2006/relationships/slide" Target="slides/slide274.xml"/><Relationship Id="rId288" Type="http://schemas.openxmlformats.org/officeDocument/2006/relationships/slide" Target="slides/slide275.xml"/><Relationship Id="rId289" Type="http://schemas.openxmlformats.org/officeDocument/2006/relationships/slide" Target="slides/slide276.xml"/><Relationship Id="rId290" Type="http://schemas.openxmlformats.org/officeDocument/2006/relationships/slide" Target="slides/slide277.xml"/><Relationship Id="rId291" Type="http://schemas.openxmlformats.org/officeDocument/2006/relationships/slide" Target="slides/slide278.xml"/><Relationship Id="rId292" Type="http://schemas.openxmlformats.org/officeDocument/2006/relationships/slide" Target="slides/slide279.xml"/><Relationship Id="rId293" Type="http://schemas.openxmlformats.org/officeDocument/2006/relationships/slide" Target="slides/slide280.xml"/><Relationship Id="rId294" Type="http://schemas.openxmlformats.org/officeDocument/2006/relationships/slide" Target="slides/slide281.xml"/><Relationship Id="rId295" Type="http://schemas.openxmlformats.org/officeDocument/2006/relationships/slide" Target="slides/slide282.xml"/><Relationship Id="rId296" Type="http://schemas.openxmlformats.org/officeDocument/2006/relationships/slide" Target="slides/slide283.xml"/><Relationship Id="rId297" Type="http://schemas.openxmlformats.org/officeDocument/2006/relationships/slide" Target="slides/slide284.xml"/><Relationship Id="rId298" Type="http://schemas.openxmlformats.org/officeDocument/2006/relationships/slide" Target="slides/slide285.xml"/><Relationship Id="rId299" Type="http://schemas.openxmlformats.org/officeDocument/2006/relationships/slide" Target="slides/slide286.xml"/><Relationship Id="rId300" Type="http://schemas.openxmlformats.org/officeDocument/2006/relationships/slide" Target="slides/slide287.xml"/><Relationship Id="rId301" Type="http://schemas.openxmlformats.org/officeDocument/2006/relationships/slide" Target="slides/slide288.xml"/><Relationship Id="rId302" Type="http://schemas.openxmlformats.org/officeDocument/2006/relationships/slide" Target="slides/slide289.xml"/><Relationship Id="rId303" Type="http://schemas.openxmlformats.org/officeDocument/2006/relationships/slide" Target="slides/slide290.xml"/><Relationship Id="rId304" Type="http://schemas.openxmlformats.org/officeDocument/2006/relationships/slide" Target="slides/slide291.xml"/><Relationship Id="rId305" Type="http://schemas.openxmlformats.org/officeDocument/2006/relationships/slide" Target="slides/slide292.xml"/><Relationship Id="rId306" Type="http://schemas.openxmlformats.org/officeDocument/2006/relationships/slide" Target="slides/slide293.xml"/><Relationship Id="rId307" Type="http://schemas.openxmlformats.org/officeDocument/2006/relationships/slide" Target="slides/slide294.xml"/><Relationship Id="rId308" Type="http://schemas.openxmlformats.org/officeDocument/2006/relationships/slide" Target="slides/slide295.xml"/><Relationship Id="rId309" Type="http://schemas.openxmlformats.org/officeDocument/2006/relationships/slide" Target="slides/slide296.xml"/><Relationship Id="rId310" Type="http://schemas.openxmlformats.org/officeDocument/2006/relationships/slide" Target="slides/slide297.xml"/><Relationship Id="rId311" Type="http://schemas.openxmlformats.org/officeDocument/2006/relationships/slide" Target="slides/slide298.xml"/><Relationship Id="rId312" Type="http://schemas.openxmlformats.org/officeDocument/2006/relationships/slide" Target="slides/slide299.xml"/><Relationship Id="rId313" Type="http://schemas.openxmlformats.org/officeDocument/2006/relationships/slide" Target="slides/slide300.xml"/><Relationship Id="rId314" Type="http://schemas.openxmlformats.org/officeDocument/2006/relationships/slide" Target="slides/slide301.xml"/><Relationship Id="rId315" Type="http://schemas.openxmlformats.org/officeDocument/2006/relationships/slide" Target="slides/slide302.xml"/><Relationship Id="rId316" Type="http://schemas.openxmlformats.org/officeDocument/2006/relationships/slide" Target="slides/slide303.xml"/><Relationship Id="rId317" Type="http://schemas.openxmlformats.org/officeDocument/2006/relationships/slide" Target="slides/slide304.xml"/><Relationship Id="rId318" Type="http://schemas.openxmlformats.org/officeDocument/2006/relationships/slide" Target="slides/slide305.xml"/><Relationship Id="rId319" Type="http://schemas.openxmlformats.org/officeDocument/2006/relationships/slide" Target="slides/slide306.xml"/><Relationship Id="rId320" Type="http://schemas.openxmlformats.org/officeDocument/2006/relationships/slide" Target="slides/slide307.xml"/><Relationship Id="rId321" Type="http://schemas.openxmlformats.org/officeDocument/2006/relationships/slide" Target="slides/slide308.xml"/><Relationship Id="rId322" Type="http://schemas.openxmlformats.org/officeDocument/2006/relationships/slide" Target="slides/slide309.xml"/><Relationship Id="rId323" Type="http://schemas.openxmlformats.org/officeDocument/2006/relationships/slide" Target="slides/slide310.xml"/><Relationship Id="rId324" Type="http://schemas.openxmlformats.org/officeDocument/2006/relationships/slide" Target="slides/slide311.xml"/><Relationship Id="rId325" Type="http://schemas.openxmlformats.org/officeDocument/2006/relationships/slide" Target="slides/slide312.xml"/><Relationship Id="rId326" Type="http://schemas.openxmlformats.org/officeDocument/2006/relationships/slide" Target="slides/slide313.xml"/><Relationship Id="rId327" Type="http://schemas.openxmlformats.org/officeDocument/2006/relationships/slide" Target="slides/slide314.xml"/><Relationship Id="rId328" Type="http://schemas.openxmlformats.org/officeDocument/2006/relationships/slide" Target="slides/slide315.xml"/><Relationship Id="rId329" Type="http://schemas.openxmlformats.org/officeDocument/2006/relationships/slide" Target="slides/slide316.xml"/><Relationship Id="rId330" Type="http://schemas.openxmlformats.org/officeDocument/2006/relationships/slide" Target="slides/slide317.xml"/><Relationship Id="rId331" Type="http://schemas.openxmlformats.org/officeDocument/2006/relationships/slide" Target="slides/slide318.xml"/><Relationship Id="rId332" Type="http://schemas.openxmlformats.org/officeDocument/2006/relationships/slide" Target="slides/slide319.xml"/><Relationship Id="rId333" Type="http://schemas.openxmlformats.org/officeDocument/2006/relationships/slide" Target="slides/slide320.xml"/><Relationship Id="rId334" Type="http://schemas.openxmlformats.org/officeDocument/2006/relationships/slide" Target="slides/slide321.xml"/><Relationship Id="rId335" Type="http://schemas.openxmlformats.org/officeDocument/2006/relationships/slide" Target="slides/slide322.xml"/><Relationship Id="rId336" Type="http://schemas.openxmlformats.org/officeDocument/2006/relationships/slide" Target="slides/slide323.xml"/><Relationship Id="rId337" Type="http://schemas.openxmlformats.org/officeDocument/2006/relationships/slide" Target="slides/slide324.xml"/><Relationship Id="rId338" Type="http://schemas.openxmlformats.org/officeDocument/2006/relationships/slide" Target="slides/slide325.xml"/><Relationship Id="rId339" Type="http://schemas.openxmlformats.org/officeDocument/2006/relationships/slide" Target="slides/slide326.xml"/><Relationship Id="rId340" Type="http://schemas.openxmlformats.org/officeDocument/2006/relationships/slide" Target="slides/slide327.xml"/><Relationship Id="rId341" Type="http://schemas.openxmlformats.org/officeDocument/2006/relationships/slide" Target="slides/slide328.xml"/><Relationship Id="rId342" Type="http://schemas.openxmlformats.org/officeDocument/2006/relationships/slide" Target="slides/slide329.xml"/><Relationship Id="rId343" Type="http://schemas.openxmlformats.org/officeDocument/2006/relationships/slide" Target="slides/slide330.xml"/><Relationship Id="rId344" Type="http://schemas.openxmlformats.org/officeDocument/2006/relationships/slide" Target="slides/slide331.xml"/><Relationship Id="rId345" Type="http://schemas.openxmlformats.org/officeDocument/2006/relationships/slide" Target="slides/slide332.xml"/><Relationship Id="rId346" Type="http://schemas.openxmlformats.org/officeDocument/2006/relationships/slide" Target="slides/slide333.xml"/><Relationship Id="rId347" Type="http://schemas.openxmlformats.org/officeDocument/2006/relationships/slide" Target="slides/slide334.xml"/><Relationship Id="rId348" Type="http://schemas.openxmlformats.org/officeDocument/2006/relationships/slide" Target="slides/slide335.xml"/><Relationship Id="rId349" Type="http://schemas.openxmlformats.org/officeDocument/2006/relationships/slide" Target="slides/slide336.xml"/><Relationship Id="rId350" Type="http://schemas.openxmlformats.org/officeDocument/2006/relationships/slide" Target="slides/slide337.xml"/><Relationship Id="rId351" Type="http://schemas.openxmlformats.org/officeDocument/2006/relationships/slide" Target="slides/slide338.xml"/><Relationship Id="rId352" Type="http://schemas.openxmlformats.org/officeDocument/2006/relationships/slide" Target="slides/slide339.xml"/><Relationship Id="rId353" Type="http://schemas.openxmlformats.org/officeDocument/2006/relationships/slide" Target="slides/slide340.xml"/><Relationship Id="rId354" Type="http://schemas.openxmlformats.org/officeDocument/2006/relationships/slide" Target="slides/slide341.xml"/><Relationship Id="rId355" Type="http://schemas.openxmlformats.org/officeDocument/2006/relationships/slide" Target="slides/slide342.xml"/><Relationship Id="rId356" Type="http://schemas.openxmlformats.org/officeDocument/2006/relationships/slide" Target="slides/slide343.xml"/><Relationship Id="rId357" Type="http://schemas.openxmlformats.org/officeDocument/2006/relationships/slide" Target="slides/slide344.xml"/><Relationship Id="rId358" Type="http://schemas.openxmlformats.org/officeDocument/2006/relationships/slide" Target="slides/slide345.xml"/><Relationship Id="rId359" Type="http://schemas.openxmlformats.org/officeDocument/2006/relationships/slide" Target="slides/slide346.xml"/><Relationship Id="rId360" Type="http://schemas.openxmlformats.org/officeDocument/2006/relationships/slide" Target="slides/slide347.xml"/><Relationship Id="rId361" Type="http://schemas.openxmlformats.org/officeDocument/2006/relationships/slide" Target="slides/slide348.xml"/><Relationship Id="rId362" Type="http://schemas.openxmlformats.org/officeDocument/2006/relationships/slide" Target="slides/slide349.xml"/><Relationship Id="rId363" Type="http://schemas.openxmlformats.org/officeDocument/2006/relationships/slide" Target="slides/slide350.xml"/><Relationship Id="rId364" Type="http://schemas.openxmlformats.org/officeDocument/2006/relationships/slide" Target="slides/slide351.xml"/><Relationship Id="rId365" Type="http://schemas.openxmlformats.org/officeDocument/2006/relationships/slide" Target="slides/slide352.xml"/><Relationship Id="rId366" Type="http://schemas.openxmlformats.org/officeDocument/2006/relationships/slide" Target="slides/slide353.xml"/><Relationship Id="rId367" Type="http://schemas.openxmlformats.org/officeDocument/2006/relationships/slide" Target="slides/slide354.xml"/><Relationship Id="rId368" Type="http://schemas.openxmlformats.org/officeDocument/2006/relationships/slide" Target="slides/slide355.xml"/><Relationship Id="rId369" Type="http://schemas.openxmlformats.org/officeDocument/2006/relationships/slide" Target="slides/slide356.xml"/><Relationship Id="rId370" Type="http://schemas.openxmlformats.org/officeDocument/2006/relationships/slide" Target="slides/slide357.xml"/><Relationship Id="rId371" Type="http://schemas.openxmlformats.org/officeDocument/2006/relationships/slide" Target="slides/slide358.xml"/><Relationship Id="rId372" Type="http://schemas.openxmlformats.org/officeDocument/2006/relationships/slide" Target="slides/slide359.xml"/><Relationship Id="rId373" Type="http://schemas.openxmlformats.org/officeDocument/2006/relationships/slide" Target="slides/slide360.xml"/><Relationship Id="rId374" Type="http://schemas.openxmlformats.org/officeDocument/2006/relationships/slide" Target="slides/slide361.xml"/><Relationship Id="rId375" Type="http://schemas.openxmlformats.org/officeDocument/2006/relationships/slide" Target="slides/slide362.xml"/><Relationship Id="rId376" Type="http://schemas.openxmlformats.org/officeDocument/2006/relationships/slide" Target="slides/slide363.xml"/><Relationship Id="rId377" Type="http://schemas.openxmlformats.org/officeDocument/2006/relationships/slide" Target="slides/slide364.xml"/><Relationship Id="rId378" Type="http://schemas.openxmlformats.org/officeDocument/2006/relationships/slide" Target="slides/slide365.xml"/><Relationship Id="rId379" Type="http://schemas.openxmlformats.org/officeDocument/2006/relationships/slide" Target="slides/slide366.xml"/><Relationship Id="rId380" Type="http://schemas.openxmlformats.org/officeDocument/2006/relationships/slide" Target="slides/slide367.xml"/><Relationship Id="rId381" Type="http://schemas.openxmlformats.org/officeDocument/2006/relationships/slide" Target="slides/slide368.xml"/><Relationship Id="rId382" Type="http://schemas.openxmlformats.org/officeDocument/2006/relationships/slide" Target="slides/slide369.xml"/><Relationship Id="rId383" Type="http://schemas.openxmlformats.org/officeDocument/2006/relationships/slide" Target="slides/slide370.xml"/><Relationship Id="rId384" Type="http://schemas.openxmlformats.org/officeDocument/2006/relationships/slide" Target="slides/slide371.xml"/><Relationship Id="rId385" Type="http://schemas.openxmlformats.org/officeDocument/2006/relationships/slide" Target="slides/slide372.xml"/><Relationship Id="rId386" Type="http://schemas.openxmlformats.org/officeDocument/2006/relationships/slide" Target="slides/slide373.xml"/><Relationship Id="rId387" Type="http://schemas.openxmlformats.org/officeDocument/2006/relationships/slide" Target="slides/slide374.xml"/><Relationship Id="rId388" Type="http://schemas.openxmlformats.org/officeDocument/2006/relationships/slide" Target="slides/slide375.xml"/><Relationship Id="rId389" Type="http://schemas.openxmlformats.org/officeDocument/2006/relationships/slide" Target="slides/slide376.xml"/><Relationship Id="rId390" Type="http://schemas.openxmlformats.org/officeDocument/2006/relationships/slide" Target="slides/slide377.xml"/><Relationship Id="rId391" Type="http://schemas.openxmlformats.org/officeDocument/2006/relationships/slide" Target="slides/slide378.xml"/><Relationship Id="rId392" Type="http://schemas.openxmlformats.org/officeDocument/2006/relationships/slide" Target="slides/slide379.xml"/><Relationship Id="rId393" Type="http://schemas.openxmlformats.org/officeDocument/2006/relationships/slide" Target="slides/slide380.xml"/><Relationship Id="rId394" Type="http://schemas.openxmlformats.org/officeDocument/2006/relationships/slide" Target="slides/slide381.xml"/><Relationship Id="rId395" Type="http://schemas.openxmlformats.org/officeDocument/2006/relationships/slide" Target="slides/slide382.xml"/><Relationship Id="rId396" Type="http://schemas.openxmlformats.org/officeDocument/2006/relationships/slide" Target="slides/slide383.xml"/><Relationship Id="rId397" Type="http://schemas.openxmlformats.org/officeDocument/2006/relationships/slide" Target="slides/slide384.xml"/><Relationship Id="rId398" Type="http://schemas.openxmlformats.org/officeDocument/2006/relationships/slide" Target="slides/slide385.xml"/><Relationship Id="rId399" Type="http://schemas.openxmlformats.org/officeDocument/2006/relationships/slide" Target="slides/slide386.xml"/><Relationship Id="rId400" Type="http://schemas.openxmlformats.org/officeDocument/2006/relationships/slide" Target="slides/slide387.xml"/><Relationship Id="rId401" Type="http://schemas.openxmlformats.org/officeDocument/2006/relationships/slide" Target="slides/slide388.xml"/><Relationship Id="rId402" Type="http://schemas.openxmlformats.org/officeDocument/2006/relationships/slide" Target="slides/slide389.xml"/><Relationship Id="rId403" Type="http://schemas.openxmlformats.org/officeDocument/2006/relationships/slide" Target="slides/slide390.xml"/><Relationship Id="rId404" Type="http://schemas.openxmlformats.org/officeDocument/2006/relationships/slide" Target="slides/slide391.xml"/><Relationship Id="rId405" Type="http://schemas.openxmlformats.org/officeDocument/2006/relationships/slide" Target="slides/slide392.xml"/><Relationship Id="rId406" Type="http://schemas.openxmlformats.org/officeDocument/2006/relationships/slide" Target="slides/slide393.xml"/><Relationship Id="rId407" Type="http://schemas.openxmlformats.org/officeDocument/2006/relationships/slide" Target="slides/slide394.xml"/><Relationship Id="rId408" Type="http://schemas.openxmlformats.org/officeDocument/2006/relationships/slide" Target="slides/slide395.xml"/><Relationship Id="rId409" Type="http://schemas.openxmlformats.org/officeDocument/2006/relationships/slide" Target="slides/slide396.xml"/><Relationship Id="rId410" Type="http://schemas.openxmlformats.org/officeDocument/2006/relationships/slide" Target="slides/slide397.xml"/><Relationship Id="rId411" Type="http://schemas.openxmlformats.org/officeDocument/2006/relationships/slide" Target="slides/slide398.xml"/><Relationship Id="rId412" Type="http://schemas.openxmlformats.org/officeDocument/2006/relationships/slide" Target="slides/slide399.xml"/><Relationship Id="rId413" Type="http://schemas.openxmlformats.org/officeDocument/2006/relationships/slide" Target="slides/slide400.xml"/><Relationship Id="rId414" Type="http://schemas.openxmlformats.org/officeDocument/2006/relationships/slide" Target="slides/slide401.xml"/><Relationship Id="rId415" Type="http://schemas.openxmlformats.org/officeDocument/2006/relationships/slide" Target="slides/slide402.xml"/><Relationship Id="rId416" Type="http://schemas.openxmlformats.org/officeDocument/2006/relationships/slide" Target="slides/slide403.xml"/><Relationship Id="rId417" Type="http://schemas.openxmlformats.org/officeDocument/2006/relationships/slide" Target="slides/slide404.xml"/><Relationship Id="rId418" Type="http://schemas.openxmlformats.org/officeDocument/2006/relationships/slide" Target="slides/slide405.xml"/><Relationship Id="rId419" Type="http://schemas.openxmlformats.org/officeDocument/2006/relationships/slide" Target="slides/slide406.xml"/><Relationship Id="rId420" Type="http://schemas.openxmlformats.org/officeDocument/2006/relationships/slide" Target="slides/slide407.xml"/><Relationship Id="rId4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0C7-C2A1-4FB8-9F35-B0A94ED5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F7C-7C4F-4094-8165-094F1050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C53A3-1A01-4835-962E-CF555EF8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5166A-BDBF-4269-BF25-827AD86E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C9497-C8FA-4124-AF82-F38D1603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69E2B-3D22-441F-ABE5-0BDC24B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8949A-91BF-47DC-A033-F91B1BF2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884DD-58CB-4508-97BA-6C9F9A8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5FBAA-0E15-4C20-8118-A61DDA13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351A3-6DCA-4806-9CDF-1E647901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E8DBA-5AE9-4B20-A8D9-F8768374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263EF-2A8E-4757-AC0F-874B14E2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2B2-8A99-42D2-B756-183ED979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3A53E-D505-4B0A-B379-77ED3B9C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B4DFF-6F6C-460A-A079-413A14C0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DB082-97B3-4197-8222-BE64822D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DB654-01E7-427C-B478-C3D28243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FA78F-7891-4142-BFED-56C0A09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B9907-F2A8-49E8-9448-305431D7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BC9FC-60B9-4B24-90D9-4D98726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0D1BC-BE34-41B6-9141-8D73069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A3D8B-AA9A-4774-A56C-6C5E8F40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1A305-2375-437D-A084-ABD22AD4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B2A-FA65-4460-AC28-9700CD8C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65D1F-AF73-4E97-90AF-1C7D7F68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A308B-4AA9-4787-8588-416CD899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D99C6-E913-4CA0-80DA-47E79233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66050-7378-4BB3-A3A5-AA02BA22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58620-B16C-4C98-A4D8-005F155F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B99B0-B323-4FC2-9FAE-466F49DF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7D8D9-2BDB-4730-97BB-CDF20585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E5092-A518-48E6-B005-4F2FFD8E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50F1E-0BE2-4B42-B8D3-E8872B05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86806-C711-4275-99A6-D0F0DFC9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ECA8-F870-406E-BD0D-5CE34DC7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A7332-7F09-4631-B822-CD43E773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6082F-BB1C-4E13-9520-67A5C0BD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EB7E4-5496-49A3-9D2F-145D24B4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A7921-1D0C-4277-AB0A-3079ADAA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3EB04-570F-4FEF-BA26-BE7806EE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89A91-8CC3-44D0-843B-D3E86FAA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BDE9B-4164-455F-B76C-FC7B5086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7B947-5013-486F-92DE-FF41BEED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FDF00-E050-4675-9D78-04AE5C31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19F46-4367-4D4D-BBE4-2890926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962E-065D-4C3E-9158-0382F73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0D3D5-27D5-406A-89E4-72D35FE9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5DA4E-541D-4024-8D56-489029D9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1B4BB-916E-4B96-9E62-589EA906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68413-2D01-4215-87FD-D7FE2462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A5EAD-76D0-4745-B366-51E7395E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1A75-CD6A-47DB-BE89-A5CF3827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6ADE-37CA-4765-96E2-DB038BF7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6425-CF8E-49EC-9B2A-0C73E2E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E7FB-686B-4AB5-B650-BFF5D6E2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7E00-D01E-4558-9D09-A5EAB410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A92-82A1-4A87-844D-04D0A249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1779-4CCC-4EA2-9053-44B0548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CB9A-4CA7-482A-96E0-DB72B63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4C9C-E21E-4223-B24D-2B3670DC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FFE2-BD01-412A-B99B-222352A8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E142-3AEA-42E5-AE6A-0B97A23C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951B4-AC6F-4EEC-9B76-47DE1DB3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8414-8CB2-4B56-8F5B-DE3B5E04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E3161-35CA-46B0-97D8-6383A8F5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6508-ABDA-457E-A771-6E044A87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0441-5F7C-41DA-AF84-3A005F1A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F79-577A-48DB-88A1-DDB84F9D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9690-E359-4C3F-A38E-BA5520E3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A9E6-5B31-4FB7-8C73-9D99E2E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35C1-CBA7-4B76-BF0C-38C58480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5E50-4376-41F4-9356-DD1DA06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9468-E3D8-4D4C-A2B6-46D056A1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752D-8CD8-4055-90B8-BD527E83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E909-A109-4CE9-BFA0-3E3A6B84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A958D-9ACB-45EC-BEB4-BF8B613E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63642-48BF-465F-A24A-0ECE216D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D34E-79CF-4F31-A39E-2D812BE4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A24-7702-4334-9AD2-3EB4D5E3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DAA6-01C4-46AF-8789-2257AE52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FB02-817C-419F-A32C-FE9873C5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2168-55FC-4140-B0B5-9F81FD12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08867-27AC-4225-8166-96A9B893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4A2B-BB42-453E-8282-C876D4A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F36C-C78D-4AF1-8121-3B7A9C20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0354-78D3-46A1-9C45-A05D285F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BA0C1-FF96-401A-985E-C58FB212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2618-1DA6-455D-9C90-51B26887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10B0F-FF05-4CEC-915F-46035E3C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EE9-17B6-4805-8CA4-3BC66875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C1EE-7ABD-4440-97B9-BA583211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8E986-6E65-43CA-9B00-B0365AC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ACC4F-B58D-429B-AC38-EA9B5976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03C0C-C6D1-4F7B-864A-D436A5E5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4411-CA03-44E4-9642-07A76BF5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529A3-B9F6-4305-8152-B6CF6A6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A851B-134A-4E60-8956-0588C85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04B6-4D4A-44E7-B205-3A86BAC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8C4FB-13DC-47F9-8F76-D7C77B63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E852-D44B-40A3-85CB-485F64C1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DC1-5289-4E9B-ACA6-09E766B1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52280-E5EE-4381-873E-67814657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0DCB6-5944-41C6-B0EC-BB50A79F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48EF-08E4-4D05-8081-F3E7D428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A56F3-F071-4442-9A06-AB7864A2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7E1C1-512E-44E6-932E-3486623D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C8FD-010E-4912-B545-88C53AE1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D9940-0350-4EB1-BD1E-02CB3A6F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437F9-F263-4216-88F7-B1E1FCEB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EAE7C-71BD-410A-B1CE-4C7D3F22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64CF3-5731-48BD-BEE3-B8EBF18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A80-6AA3-4EC1-908E-57CBB599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CAB4A-3BA7-45D5-BA1B-1D4BAAF2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D8027-AD20-45D3-A5C4-385746AB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F3FB6-B229-492D-A32F-46E93E1D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1BC22-D172-4FA2-98D3-CE710C4D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1F004-5DF8-43B4-A6C3-D8334B66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5C8A-7610-41BE-A82F-01960053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D7A59-BF9F-4141-A298-68CCF67F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87A4-06C3-48FC-865D-009FA2F6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3065-A62B-4B39-9AAC-E22E2BC9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345B4-460C-4EFE-B592-A3B625B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4D2-BC37-4BF6-83D0-C5B2261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6894A-A6D9-49AE-859D-B0643268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FEBA9-4373-46E4-8DAE-1B6457E8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E9CFC-9F48-4755-87A4-74E81123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20FB1-1C32-496F-AC14-D143CAAA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7F17D-1AEB-4311-9A8C-37A28879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04C0B-E580-4259-8144-A71DD0C4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77932-B64A-4A21-85B1-A01584A2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AF953-93F6-4379-B3A6-2E78F02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A53C6-BB4C-4DFD-88D2-1C43138D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37C4F-15FA-44A0-8814-4CD1EDBB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9A8-FDC7-4536-A10D-9F194B7E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52318-7979-4576-92C6-257F0584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4FCFF-D88D-431D-8713-A3566C38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A3C67-85AC-4AA1-98AD-6C86A343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B7E68-713E-40F7-BA5B-CAD91FBA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0DC41-ED3E-4250-B230-2BA3F912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662DB-79AE-482F-87C4-5FBD9CC5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A0390-D33C-4D2A-8ECD-E7E9E3B4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2472C-6CF6-4350-98BC-4BA4B575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1A3B1-9C36-41C9-A461-7D621FB2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2F67B-1CDB-4268-9226-C63301AE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BAEE-8268-495D-B027-00567CE2DD2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32C8-50A7-4AF6-8145-CB8B6DE15B7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6550-66F8-4DE4-A83E-037BDD8D8A3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8309-6DAA-4561-AF42-BA842826B87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CA04-8ED1-4D76-9F14-73A41FEE67D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DBD9-90D7-4D30-87DB-23D54EB8968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A242-604E-4E3A-918A-0E8AF69A4D9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0F06-D6E8-4052-ACCD-96D0C0225F2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12C5-CF03-4997-B6FD-AF283D39DBE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4D4A-69B6-4562-AF6C-50E1465C914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85B7-A01F-476F-8401-434F23105E31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3B0B-9994-49B9-9D5E-022890F22B6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403280" y="1628640"/>
            <a:ext cx="647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 يستطيع الرب ب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هي رفع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90720" y="2733840"/>
            <a:ext cx="7086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ي ويا أم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ي م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نّي الخطا صدر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371600" y="2733840"/>
            <a:ext cx="66294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نجمةَ الصبحِ شعّ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ـي معابدِنـ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نوّري عقلَ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سّمْعَ والبصر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يا رب رحما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523880" y="190512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هو ابنُكَ دوم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كفِّرُ عنّ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فدا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وعٍ عج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676520" y="205740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ا قد تجسّ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طوعاً وأجر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هُ الزكيّة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وقَ الصّ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يفيض قل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ُحَلَّ قيودُ الظُلمِ ويُطْلَقَ الـمنسحقونَ أحرار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فْرُشَ للجائعِ خُبْزَ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تُدخِلَ الـمسكينَ الطريدَ بيتَ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2844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 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رى العُريانَ الطريد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تكسُوَهُ، ولا تتهرّ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مساعدةِ قريبـِ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سكَبتَ لُقمَتَكَ للجائِ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بَّيتَ حاجةَ البائسين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ُشرِقُ في الظلمَةِ نورُ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الظُهرِ تكونُ لياليكَ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295280" y="134136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وم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حبات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وادعات... تزهو جنّات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ليلِ العاتي الأمواج.. يعلو سراج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ّ القلبَ الـملق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الأحزان... يلقى الحنان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ي ايم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شعارُ فداءِ العالمْ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ه الفرحُ، وفيه الحقّ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فيه سلامُ القلب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ريحِ الهوجاءِ شفاه... تتلو الصلا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فـي صمتِ الكو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ـمُقفلِ... من يصغي ل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ي إذ ترنو عينايَ ل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صفو الأضو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ألح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كلّي إيمان... 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سي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خبزُ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أتني لا يَجُعْ أبد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يؤمن 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يعطش أبد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جسدي طعام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ي شراب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كل جسدي وشرب د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قام فـيّ وأنا في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ما أكلتم هذا الخبز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شربتم من هذه الكأس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خبرونَ بموتِ الرب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ن يعود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295280" y="9079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لي بأن تكتب أقوالي</a:t>
            </a:r>
            <a:br>
              <a:rPr sz="14200"/>
            </a:b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9144000" cy="13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أن تُكتَب أقوال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ْ تُنقَش في الصخرِ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لى الأبدِ إلى الأبدِ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إني كلّما تذكّرتُ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رتعتُ وأخذَ جسمي الارتعاش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93600"/>
            <a:ext cx="914400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َّ 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9144000" cy="140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 أنَّ فاديَّ حيّ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 وسيقومُ آخر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تُراب وبعد ذل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لبَسُ هذه الأعضاءُ بجلد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93600"/>
            <a:ext cx="9144000" cy="12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بجسدي أُعايِنُ الله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أنا أُعايِنه بنفس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عينايَ تريانه لا غيري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وش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ـي الأعا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سم الر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143000" y="160020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طرق أورشل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طُرُقُ أورشليمَ نائِحَة.. لعدمِ القادمينَ إلى الأعيادْ.. وجميعُ أبوابها متهدّمَهْ.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هذا جسدُكَ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دمُكَ الطاهرُ فاغس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اغسل يا ربِّ خطايا العالَ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لتَحيَ بروحِكَ أنفسُن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400" spc="-1" strike="noStrike">
                <a:solidFill>
                  <a:srgbClr val="ffffff"/>
                </a:solidFill>
                <a:latin typeface="Tahoma"/>
                <a:cs typeface="Akhbar MT"/>
              </a:rPr>
              <a:t>كهنتُها مُتنهّدون وعذاراها متحسِّرات وهي في مرارةٍ.</a:t>
            </a:r>
            <a:endParaRPr b="0" lang="en-US" sz="10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ea typeface="Akhbar MT"/>
              </a:rPr>
              <a:t> الربُ صالحٌ للذينَ ينتظرونَهُ للنفسِ التي تلتمسَهُ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خيرٌ أن يُنتظَر خلاصُ الربِ بسكوتٍ لأن السيّدَ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لا يُقصي إلى الأبد. 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فإنه ولو أَعْنَت، يَرحَمُ بحسبِ كثرةِ رأفتهِ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عيني تقطُرُ ولا تسكُت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لأنه لا قرارَ لي إلى أن يطلعَ وينظُرَ الربُ من السماء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عوتُ باسمكَ يا رب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ع صوتي لا تحجُبْ أُذنَكَ عن استغاث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قتربْ يومَ أدعو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ذا هو اليو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10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بّ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لنفرح ونتهلَّل به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قُم الل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تشتّت جميع أعدائ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يهرُب مُبغضوه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َبيدوا كما يُبَدَّد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دخان وكما يذوب الشمع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هِ الن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ذلك يهلك الخطأ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الصدِّيقون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سروري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لوي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لاكُ اللامِعُ عندَ القبر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لَ لحاملاتِ الطيب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ـماذا تَمزُجْنَ الطُيوبَ بالدموعْ باكياتٍ وراثيات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نظرنَ اللحد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فرحنَ لأنَّ الـمخلِّص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قاً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ديش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سجُدُ للآب ولابنهِ ولروحِ قُدْسِهِ ثالوثاً مقدّساً بجوهرٍ واحدٍ صارخينَ معَ السرافيمْ قدّوسٌ أنتَ ياربْ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بقيومت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َقْيومْتِه دْمَلْك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شِيحُو نِسَبْ حوسوي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َفْشوتَنْ بْهَيْمْنوتُ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شْررُوا نِيمَارْحُول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َوُييتْ لَبْرُودْفَرْ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َصْليبِهِ بْرِيخْ فُرُو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بْخول فينيو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َوْرِبْ دُخْرو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يولِدْتِهْ وَدْقاديشِهْ وَدْعانيدِيه مْهَيمِنيهْ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َيْلَوتُو دَشْمايو قُويْم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امَنْ بْغاوُبتْ قودْشُوا وَمْزايْحِينْ لِيهْ لفاغْرُو دْبَر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وهو دَدْبيحْ قُودْمَ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ْرُوبْ سَابْ مِينِه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حُوسوي حَاوْبهْ وَحْطُوهِيهْ هللوي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 قاديش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 مور / قُعْيوعيدتو / بريخو دْيَبْلي / فَغْرِه وَدْمه دتحاسِ بـِه.</a:t>
            </a:r>
            <a:r>
              <a:rPr b="1" lang="ar-SA" sz="9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َالْ مَدْبْحُوخْ مُورْ نِتْدَخْرُونْ أَبُوهَيْنْ واحَينْ وْرَبُونَيْنْ وَنْقُومُونْ مِنْ يَامينُوخْ بْيَومُو دّنْحُو رَابُوتُوخْ مَلْكُو مْشِيحُو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كنيس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لكنيسة.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قراء، بسطاء، ومساك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ذّبت فيهم، ملوكٌ وسلاطين.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افَ صوتُ الله: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م، حيثُ كنتُم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كُم الأرضَ، فثوروا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لتكن رايتكم عبر السنين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م يكن بعدُ لنا فوقَ تلّ من تلالِ الأرضِ بيت، وأتيت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اً جاء يبني، فبنى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 الصباح، نهتف: الله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في عمق الظلام، فلتكن أمّ الجراح، وعلى الأرض السلام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ما الشرُّ ليلٌ لا يُردّ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طغى كلّ قويّ، والمجاذيفُ سُدى في الموج، والأفق شقي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أظلمت الدنيا، وعمَّ الأرض حقد، فلتقاتل، في سبيلِ الشمس، والأطفال، والعدل، وميلاد السنابل.. أَلكنيسة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رب راع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يَبلن فغره / ودمه حايو دِنْتحاسي به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11592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ردّ نفسي ويهدين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ى سبل البرّ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 اسمه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ي ولو سلكت في وادي ظلال الموت لا أخاف سوء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أنّك مع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صاكَ وعكّازك هما يعزيّان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26028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جودة والرحمة تتبعانني جميع أيام حياتي وسكناي في بيت الربّ طول الأيام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قربانِ أعطِ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ُ أن نلقا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ودشُخ نِهوِا مِتكَشْفنُو / بْدينو حْلُفَيْن قْدُم هُوي بيما /دْمَلْيُو دِحلو وعَزيزوت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 نحنُ بن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 نرجوكِ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نا القيامة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 آمن ب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حيا وإن م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حن الذين لنا باكورةُ الروح، نئنُّ منتظرين التبنّي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فتداءَ أجسادِن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ذا كان أحد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ـ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و خلقٌ جديد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 يصنع العجائ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ن طلبتُ تكري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جيب الطلبَ؟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ْشُتْيو مِنِه/ عيدتو ويَلْديه وزُمرين شوبح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479600" y="162576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للويا افرح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18900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ضوءِ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فليكن اسم الربِّ مباركاً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آ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بدِ الآبد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ّ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عالَوا نُسَرّ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نفرح في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لا يومَ مثله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ا قبل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لا بعد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 العظ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كلي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جما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عود والكن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بوقِ والقيث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836640"/>
            <a:ext cx="9144000" cy="10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52280" y="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بِل مورَنْ بَحْنُنُخْ 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سُوغودَيْك قُوربُنا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حوس بْطَيْبوتُخ ألوهَن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َلْ نَفشوتو دعانيدِه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من مشرق الشمس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إلـى مغربه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كل التسبي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9144000" cy="70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عبك يا رب يسبح اس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 القوات تسجد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ملائكة تعظ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 الطري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حّدنا دوماً ب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نعمل مشيئت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الأعماق نصرخ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نحبّك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ربي عظيم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ربي عظيمةٌ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أعمالِكَ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َنا القدي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و قوربونو إِتْقاراب/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ْهُو نَفْشوتو مِتْدَخْرُن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نِهْوِ به نْيُوحُو لـمِيتِه دَحْلُفِيهون إتقاراب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عدلٌ وحقٌ كل أحكام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أن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لك الدهو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0" y="0"/>
            <a:ext cx="9144000" cy="12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مجد اسم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يارب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خاف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قدس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 الشعوب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نحني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أن مجدك سيُرى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هللويا 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آم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826920" y="1052640"/>
            <a:ext cx="7596360" cy="43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وذ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الخلاص واف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9144000" cy="9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بِّي أنتَ مُنقذ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مَلجأ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ـِكَ اعتَصَمتُ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ي يَتوقُ للقيامَةِ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ْ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قبَلْ رَجائ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قوربونو هُون دِاتقاراب/ من حَايو حْلُفْ عانيدِه/ متحاسيه عَوْلوه دْنَفشو/ وْمِشْتَبْقين لُو بوصور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ي، يا قوَّتي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رَفَعتَ نف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ماء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كَ أُشيدُ يا فاديَّ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الحيّ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َدَى الدُّهورِ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صلاتك م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صلاتُكِ مع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أطهرَ العب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وني عَون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سبَ المُعت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وذا حالُ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لتَلَفِ أشرَف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رحمينا 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ريئةً من الفس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بتولُ صلِّ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لأجل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ئلاّ نهلِ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قِبَل شرِّ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إيماني ساطع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هما تأخر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وما بيضيع اللي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عا غفله بيوصَل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ن قلب</a:t>
            </a:r>
            <a:r>
              <a:rPr b="1" lang="ar-LB" sz="8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الضوّ من خَلف الغيم، 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وما حدا بيعرف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هَللي جايي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كيف بيبقى جايي. 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َاو دَقْرو لِه لْلْعُزُر/ وْلَعْليَموْ بْرُ دَرْمَلْتو هو نِروس طالو دْرَحْمه عَلْ غَرْمَيْهون دْعَانيد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28600" y="152280"/>
            <a:ext cx="8915400" cy="11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ا إيماني الفرح الوسيع ومن خلف العواصف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جايي الربيع</a:t>
            </a:r>
            <a:r>
              <a:rPr b="1" lang="ar-LB" sz="10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28600" y="162000"/>
            <a:ext cx="8915400" cy="131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ذا كبـرت أحزاني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ونسيني العمر التاني،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نتَ اللي ما بتنساني.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258920" y="184464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بيتي أنا بيت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بيتي أنا ب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ما إلي حدا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من كتر ما نادَ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ـمدى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وريشلِمْ دَلْعِلْ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َبْعيدتو ديت عَلْ أرْعو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عَلْ مَدِبْحو بْرومَو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ِهوِى دوخرونُو طُبُو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نطرتك عَ ب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عَ كلّ البواب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كتبتلّك عذ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عَ شمس الغياب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ما إلى غيرك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نساني. 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لدي صارت منفى، طرقاتي غطّاها الشوك والأعشاب  البريّه، ابعتلي بهالليل من عندك حدا يطلّ علي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شمس الـمساك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أرض الخوف من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إيام المظلوم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لفتات الموعود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م ا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خلّي يدوّي صوتك عليّ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أنا عالوعد وقلبي طاير، صوبك غنيّه.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539640" y="2060640"/>
            <a:ext cx="8209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زهرة من زهور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ركني ساع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دمع بتزرع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 بتحص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539640" y="2049480"/>
            <a:ext cx="7993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دلك فاض علي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رمك ضوّا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كلّن نسيو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حدك ما بتنسا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11280" y="1916280"/>
            <a:ext cx="7848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اديتك من حز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 إنك مع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ْسعي يا مطار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 اركع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فلنحمل ما دام نه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ِمرِه دالوهو وْرُعْيو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ْمِيت مِطولْ عُونِه ْعبدْ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ُورْ بطيبوتُخْ نيُحُو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عنيدِهْ مْهَيمِن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شربنا كأس الآلا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أزحنا حجرَ القبر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صرنا أحراراً كالنسمة أطهاراً كدموع الفجر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بسنا درعَ الإيمان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ورفعنا علمَ الحبّ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نعلنَ من قلبِ الظلمة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نور خلاصِ الانسا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908000" y="0"/>
            <a:ext cx="5410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Tahoma"/>
              </a:rPr>
              <a:t>يا أم الل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له يا حنونة يا كنز الرحمة المعونة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تِ ملجانا عليكِ رج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تشفّعي في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يا عذراء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تحنّني على موتا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إن كانَ جسمُك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بعيداً منّ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يتها البتولُ أمُّ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صلواتُكِ هي تَصحبُنا وتكونُ معَنا وتَحفظُ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فَغْروخ صَهْيُوي نَفْشْ دِقْروب صيدَاوْ دُحِلنُو حَوْباي مْزِيعينْ لِي بَحْنُونُخْ مُورْ نِتْحاس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جاهِ من شرّفكِ على العالـمين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ين ظهر منكِ ظهوراً مبين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طلبي منه للخاطئين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الـمراحم</a:t>
            </a:r>
            <a:r>
              <a:rPr b="1" lang="ar-LB" sz="11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لدهر الداهرين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أمُّنا ورجانا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فخرُنا ومَلجانا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عندَ ابنك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إشفعي في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يغفر برأفتِهِ خطاي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ا يا حنونة يا مملوءة كلّ نعمة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بل خلِّصي عبيدَكِ أجمعينْ لنشكُرَكِ لدهرِ الداهري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حبك يا مري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1476360" y="0"/>
            <a:ext cx="622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بّك يا مري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غاية الـمنى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معظّم كوني أمنّا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928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بنك اوص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نا في الصليب أعطانا إي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شخص الحبي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دُوتُو لْعِلُوِيه وسَبْرو طُبُو لْتَحْتُويه بقوربونو دْعُبْدينْ حايِه حْلُوفْ عَانِيدَيْه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40328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25892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الأمّ الحن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كِ نستع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ظهري الـمع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كِ للبن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Tahoma"/>
              </a:rPr>
              <a:t>مجد مر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1844640"/>
            <a:ext cx="90676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د رآها واصطف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ربُّ كلِّ العالـمين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وقاها مُذ بر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َ محذورٍ يش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-250920" y="2036880"/>
            <a:ext cx="93949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ي رجاكُم في شقاك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اسمعوا يا خاطئين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ا تخافوا أن توافو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حماها طالب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700" spc="-1" strike="noStrike">
                <a:solidFill>
                  <a:srgbClr val="ffffff"/>
                </a:solidFill>
                <a:latin typeface="Tahoma"/>
                <a:ea typeface="Tahoma"/>
              </a:rPr>
              <a:t>Viens Esprit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838080" y="1371600"/>
            <a:ext cx="7162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طوبى للساع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يا روح الآب، كُن نور دربي أنِرْ السماوات من بهاء مجدك العظ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أيها النور السماوي، يا نبع الحياة قوّي قلوبنا واشفِ أجساد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روح البهجة، يا فرح الكنيسة أعطِ القلوب أن ترنِّم لحن الحن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راحل يا ربيع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َحْ اقطف زهرة من كلّ سياج واعملّك بكرا من الزنبق ت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دِنيي حاج تودّي امو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كلامو بيفنى ولا بيز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ين بدّو يج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يقود الرسالة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المعلّم 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لا حكمو الغوال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ريتك عم تس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أول ترج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البحيرة توعظ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تحت الشجر نتج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رسل 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1989000"/>
            <a:ext cx="914400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ـمياه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191628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إن الروحَ يشهد مع أرواحنا بأننا أبناء الله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لامُ اللهِ يحفَظ قلوبَ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فكارَكم بالـمسيح يسوع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لامُ لكم جميعاً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مُ الذينَ في الـمسيح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300" spc="-1" strike="noStrike">
                <a:solidFill>
                  <a:srgbClr val="ffffff"/>
                </a:solidFill>
                <a:latin typeface="Tahoma"/>
                <a:cs typeface="Tahoma"/>
              </a:rPr>
              <a:t>الروح يجمع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-144540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ماءُ ما صار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طحينُ خبز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أصبحنا سكنى الله</a:t>
            </a:r>
            <a:r>
              <a:rPr b="1" lang="ar-LB" sz="96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-128196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زيت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سراجُ نو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فرش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و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-181872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حبُ ما ك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قلبُ حي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عرف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ُبّ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-171108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نور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وردُ عط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نثر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عط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قلبا فا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ُرضي جل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َ يسوع المج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57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عودُ إن رأى جم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ِن هذه الدنيا سَ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نزي خيري حظِّي حياتي مجدي أيا بحرَ الصل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716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اقَت نفسي إليكَ تأ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َبها من حِلمِك السما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0" y="189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قبَلني في قلبك الزاه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مُنقِذي كي أستريح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ملك أنتَ في قلبي الواهي واجعلُهُ بالحبِ جري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وقام إيليا كالنار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ليصفح بعضُكم عن بعضٍ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كما صفحَ اللهُ عنكم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سيح.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547640" y="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24000" y="149400"/>
            <a:ext cx="8820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يها الذي استدعاك الربّ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ى جبلِ الكرمل للصلاةْ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 الذي أقمت ميتاً من المو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جحيم بكلامِ العليّ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547640" y="7632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0" y="187308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عليَّ لأنهُ مسَحَني لأُبَشِّرَ المساكين أرسلني لأشفي منكسري القلوب لأُنادي للأسرى بالحرية للعميان بعودةِ البصرِ إليهم لأُحَرِّر المظلوم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835280" y="0"/>
            <a:ext cx="62658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هلم إيل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835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0" y="2592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كبت علينا ايليا الن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اتِ الرغيفَ وزيتَ اله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نحيا لحبِّ السما والفد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619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صرفتِ صيدا قتلت الأث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ى ما عملت لتحيي الرم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ترفعَ عرشَ الإلهِ العظيم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69236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103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ينادون بعلاً، تناجي الإله، تقول: أنا أرتوي برؤاه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باركُ ما قدسته يداه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835280" y="7632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عطيني الكل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صلا تَ لاقيك قبالي وإركع على دراج السم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وفا تَ وافيك بحالي واعطيني العطا ل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هادي العطا للقلوب العالي أعطيني الطفوله، الحن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واعطيني السلام لِوطني الغالي واعطي للّي راحوا الأم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لحمد والشكر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العالم جائ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 يَحفظ وصاياك ويعتصمُ في ظلِّ جَناحي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ثمر بالبرّ والقداس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في ملكوتك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0"/>
            <a:ext cx="9144000" cy="163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يتقونك لا يبرحون يسبّحونك لا يجوعون لا يعطشون من نبع الحياة يرتوون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أتوا من الضيقِ يلوّحون بأغصان النخيل بدمِ الحمل غسلوا حلله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 يحلّ فوقهم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جائع وخُبزُ ا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خُبزُ الحياة خُبزُ سلامِ الأرضِ فخذوا عن مائدتي الخبز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أكلَ العال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شو حلوه السم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شبّه يا ابني بال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عن إيمانك أوعى تز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امشي عا الدرب الصح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جم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زراع الكلمه بشج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خدوم الإخوه بود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0"/>
            <a:ext cx="9144000" cy="10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الأسرار وبإيمانك لا تحت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را إنجيلك باستمر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رب استعملني لسلا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-324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، إستعملني لسلامِكَ فأضع الحبَّ حيثُ البُغض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ـمغفرةَ حيثُ الإساءَ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اتفاقَ حيثُ الخلاف، 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0" y="3129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حقيقةَ حيثُ الضلال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إيمانَ حيثُ الشكّ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َ حيثُ اليأس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0" y="182736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نورَ حيثُ الظلم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فرحَ حيثُ الكآبة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 استعملني لسلام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الرب هو ا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عبدِ الربّ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ِ والحمد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هتفنَّ 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رفعِ الأيد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غنّوا ورنّم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أعذبِ الألحا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لأيدي صفّق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سيّدِ الأكوان 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سمِ إلهـِن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نرفعُ الراي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وبخلاصِ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علو الترنيم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15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عُريان والأرضُ غني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َ الإنسانْ سرقوا منهُ الثوب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رقوا الحبَ.. فخذوا ثوب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وبَ الحقِ ليَلبَسَ العالَ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ea typeface="Tahoma"/>
              </a:rPr>
              <a:t> يا خبز الحيا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0" y="2131920"/>
            <a:ext cx="914400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يُّها التائبون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لمّوا باحتر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قتبلوا الإ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هي رجائ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عيمي نعم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ذّتي الـمبتغ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سماء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ُنْ لي قوت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دهرِ الدهو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755640" y="1916280"/>
            <a:ext cx="75963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لإلهنا النصر والمج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سبحوا إلهَ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جميعَ العبا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لذين يتّقونَ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صغار وكب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مدعوّين إلى وليمة العرس لنفرح ونبتهج هللويا و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الربُّ القويُّ ال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52280" y="-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قدّوسٌ أيها الربُّ القويُّ 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52280" y="-7632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ذي أ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وف يأ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عل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قدّس ذا الجسد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ع ضعفِهِ وإثم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ه يحلّ للمد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عرفت بأن قد تعثر در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َ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خبر فمي بمجدك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رتّلَ فمي تسبيحَ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ِ والابن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835280" y="1667880"/>
            <a:ext cx="579600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إذهبوا في الأرض كل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-4848480"/>
            <a:ext cx="9144000" cy="165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ُضئ نورُكم للناس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مجّدوا أباكُمُ الذ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سماوات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-3634920"/>
            <a:ext cx="9144000" cy="14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يكونَّنَ عليكم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حدٍ دينٌ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اّ حُبُّ بعضِكُم لبعض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295200"/>
            <a:ext cx="9144000" cy="10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هبتُ الطريقَ أسائلُ عن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بحيرةِ ضعفي وأوهام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معتُ الخليقةَ تُنشِدُ لحن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لقلبي فتنعش إيمان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َلَت لي الإقامة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اخلَ بيت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</a:t>
            </a:r>
            <a:r>
              <a:rPr b="1" lang="ar-LB" sz="90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8568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شجاني أنينُ اليتيم يضيعُ بصخبِ الحياة ولا من يجيب رأيت عيونَ الشريدِ تتيهُ وشمسُ المحبةِ عنهُ تغيب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أشرِقْ عليّ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أنوارِ وجهِ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8568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غبت عنِّي شردتُ بذاتي غرقتُ بحزني دهاني الضجر وإن كنت فيَّ حييتُ فرحتُ نثرتُ الطيوبَ فرشتُ الزهر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الحياة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بقرب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توبوا إلى الرب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9144000" cy="134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هَبْ من حنانِكَ قطر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يتحوَّلُ القفر وعود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أو أعطي عيني دمع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في حوضها طفلاً أعود.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عمقِ آثامي دع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نصِت إلـى صوتِ دُع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غيرَ وجهِك ما رج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لقاهُ مأدبةُ رجا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شغل مواه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قدّساً عواطف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مجدِ من أحبّ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1522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إذا استبدَّ بيَ الخج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 أبكمَ العارُ ف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بضاتُ حبِّكَ فلْتزَ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تى النهايةِ في دم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يا أبانا لس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أدر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بانا لستُ أد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َ كان عمري ي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ونَ أن أدركَ أ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أب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ي الآن ابن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ترعاني بحبِّ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لن أخافَ أبداً لأنّ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مسك يمين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914400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أسبِّح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هتفُ 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أب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لك ل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مت مر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مت مريم بنتُ دا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ذاء الع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ندب إبنَها الـمصلو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أيدي الجن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محُ الحزنِ غائص في نفس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ألَـمِهِ غابت عن حسِّ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ّ فاقتِ الوال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احت آه يا ولدا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بيبي حبي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خاط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أراك عري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دبَك يا إ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جاعك حرقت اكب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آلامك خرقت فؤ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تحيا والد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بعدَ مو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زّ أم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ثمرثها الفر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حيد أبي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ورته الـمج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فتراقك كسكين جرح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عذابك كحربة طعن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ح لي أموت قب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ظر احوال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رة احش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حال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ؤك ت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لضربات بك حال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رثي لحالي من جر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مزج دمائي بدم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لوبٌ في الص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مُّك تزيد في النح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كلو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جسمك الط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بدلت حُس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مالك الز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هاءُ وجهك تغيّر بالإصفر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وعك تذرف كالأمط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سراتك أذاب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ذاباتك أوهت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تَ الآبِ الأكر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روس الرو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قدوسِ الأعظ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شركينا بآلام فاد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زيّنينا بنعمة بار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نخدمَكِ على الدوا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دى الساعاتِ والأيام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باركَ في خدمَ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كرّساً لمجد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له بجُمل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عطش الأرو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َ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رب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ينك تحم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غنينا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نيم الأنه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لحنك نغم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شراق الأنو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وجهك بسم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هدوء الهياك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ضحيح الـمعامل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ك يحي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مرك يرو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 يعط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اً وحيا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ك يدعو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فوك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شكراً يا يسوع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219320" y="1600200"/>
            <a:ext cx="64767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إلى الله صو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أَصرخ إل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صيح ل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دي في الليل انبسطت ولم تكل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د أبت نفسي أن تتعزى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الـماضي فأَقلقُ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امل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غشى على روح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-7632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كّرتُ فـي الأيام القديمة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سنين الدهرية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ترنيمي في الل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أملُ بقلبي وروحي يبحث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َدى الدهور يقصي السّيد؟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يعود يرضى من بع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على الدوام انقضت رحمته،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نقطعت كلمت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جيل فج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رى نسيَ الله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 حبس على الغضب أحشاءه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ريم البكر فق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676520" y="2962440"/>
            <a:ext cx="5867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مريمُ البكرُ فقت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شمسَ والقمر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كلَّ نجمٍ بأفلاك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ماءِ سر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09:03:08Z</dcterms:created>
  <dc:creator>-</dc:creator>
  <dc:description/>
  <dc:language>en-US</dc:language>
  <cp:lastModifiedBy>-</cp:lastModifiedBy>
  <dcterms:modified xsi:type="dcterms:W3CDTF">2003-01-07T14:49:30Z</dcterms:modified>
  <cp:revision>62</cp:revision>
  <dc:subject>Chants religieux</dc:subject>
  <dc:title>PowerPoint Presentation</dc:title>
</cp:coreProperties>
</file>