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98DF-F8FA-4559-BE45-5F65FCC18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8D02-BEB6-4342-9EC9-B50EB258C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AA27-29FA-4EDA-A4C9-1398C5128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CCDF-5B22-4F49-AB3D-337C59F34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909E-B94A-48F9-97C6-1691136C6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3D2F-47AD-4F16-826A-B0900D3A7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3BF1-5A0E-4DBF-BA2F-3DD4D6FA9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5FE8-F9C9-4EDB-BB26-649AC90F8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CCE5-9FA4-46AB-9637-BD6672BB2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8FB3-28C8-4B1E-B7E4-D1FE5188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B6DD-08A5-40F2-A06A-DB8A6E382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8C58-211E-46AE-A487-BBC8C93B9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264D2-8F94-4EF5-A01B-6DA6659A93B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63280" y="2852640"/>
            <a:ext cx="565164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1700" spc="-1" strike="noStrike">
                <a:solidFill>
                  <a:srgbClr val="ffffff"/>
                </a:solidFill>
                <a:latin typeface="Arial"/>
                <a:cs typeface="????Boutros Rokaa"/>
              </a:rPr>
              <a:t>طلبة قلب يسوع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 rot="16200000">
            <a:off x="-2285280" y="3455280"/>
            <a:ext cx="5832360" cy="971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algn="ctr" rtl="1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إرحـمــنــــ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92360" y="1655640"/>
            <a:ext cx="7235640" cy="558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صلحنا وسلامنا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ذبيحة الخطأة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خلاص الراجين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رجاء الـمائتين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نعيم جميع القديسين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79640" y="-347760"/>
            <a:ext cx="5689440" cy="289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200" spc="-1" strike="noStrike" u="sng">
                <a:solidFill>
                  <a:srgbClr val="ffffff"/>
                </a:solidFill>
                <a:uFillTx/>
                <a:latin typeface="Arial"/>
                <a:cs typeface="AF_Diwani"/>
              </a:rPr>
              <a:t>يا قلب يسوع</a:t>
            </a:r>
            <a:endParaRPr b="0" lang="en-US" sz="9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273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ea typeface="Akhbar MT"/>
              </a:rPr>
              <a:t>	</a:t>
            </a: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يا حمل الله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ea typeface="Akhbar MT"/>
              </a:rPr>
              <a:t>	</a:t>
            </a:r>
            <a:r>
              <a:rPr b="1" lang="ar-SA" sz="8000" spc="-1" strike="noStrike">
                <a:solidFill>
                  <a:srgbClr val="ffffff"/>
                </a:solidFill>
                <a:latin typeface="Arial"/>
                <a:ea typeface="Akhbar MT"/>
              </a:rPr>
              <a:t>	</a:t>
            </a:r>
            <a:r>
              <a:rPr b="1" lang="ar-SA" sz="8000" spc="-1" strike="noStrike">
                <a:solidFill>
                  <a:srgbClr val="ffffff"/>
                </a:solidFill>
                <a:latin typeface="Arial"/>
                <a:ea typeface="Akhbar MT"/>
              </a:rPr>
              <a:t>	</a:t>
            </a: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الحامل خطايا العالم</a:t>
            </a:r>
            <a:r>
              <a:rPr b="1" lang="ar-SA" sz="8000" spc="-1" strike="noStrike">
                <a:solidFill>
                  <a:srgbClr val="ffffff"/>
                </a:solidFill>
                <a:latin typeface="Arial"/>
                <a:ea typeface="Akhbar MT"/>
              </a:rPr>
              <a:t>	</a:t>
            </a:r>
            <a:r>
              <a:rPr b="1" lang="ar-SA" sz="8000" spc="-1" strike="noStrike">
                <a:solidFill>
                  <a:srgbClr val="ffffff"/>
                </a:solidFill>
                <a:latin typeface="Arial"/>
                <a:ea typeface="Akhbar MT"/>
              </a:rPr>
              <a:t>	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04000" y="3357720"/>
            <a:ext cx="3240000" cy="253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  <a:cs typeface="Akhbar MT"/>
              </a:rPr>
              <a:t>أَنصِت إلين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27280" y="4437000"/>
            <a:ext cx="3240000" cy="253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  <a:cs typeface="Akhbar MT"/>
              </a:rPr>
              <a:t>إستجبن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5546880"/>
            <a:ext cx="2376360" cy="253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  <a:cs typeface="Akhbar MT"/>
              </a:rPr>
              <a:t>إرحمن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autoRev="1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indefinite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indefinite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indefinite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indefinite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549360"/>
            <a:ext cx="9144000" cy="10334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Arial"/>
                <a:cs typeface="Akhbar MT"/>
              </a:rPr>
              <a:t>كـيـريـاليسـون كريستـيـالـيســون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Arial"/>
                <a:cs typeface="Akhbar MT"/>
              </a:rPr>
              <a:t>كـيـــريـــالــيـســون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92360" y="4221000"/>
            <a:ext cx="565128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يا ربنا يسوع المسيح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33360"/>
            <a:ext cx="6084720" cy="667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كـيـريـاليسـون كريستـيـالـيســو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كـيـــريـــالــيــســو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08720" y="5546880"/>
            <a:ext cx="3240000" cy="253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  <a:cs typeface="Akhbar MT"/>
              </a:rPr>
              <a:t>أَنصِت إلين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5546880"/>
            <a:ext cx="2987640" cy="253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  <a:cs typeface="Akhbar MT"/>
              </a:rPr>
              <a:t>إستجبن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autoRev="1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indefinite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indefinite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00000" y="2492280"/>
            <a:ext cx="795672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يها الآب السماوي ألله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يا ابنَ الله مخلِّص العالم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يها الروح القدوس ألله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 rot="16200000">
            <a:off x="-2781000" y="2781360"/>
            <a:ext cx="685800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إرحــمـــنــ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2235240" y="5157720"/>
            <a:ext cx="145641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أيها الثالوث القدوس الإله الواحد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00000" y="4046400"/>
            <a:ext cx="701964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500" spc="-1" strike="noStrike">
                <a:solidFill>
                  <a:srgbClr val="ffffff"/>
                </a:solidFill>
                <a:latin typeface="Arial"/>
                <a:cs typeface="Akhbar MT"/>
              </a:rPr>
              <a:t>ابن الآب الأزلي</a:t>
            </a:r>
            <a:br>
              <a:rPr sz="7500"/>
            </a:br>
            <a:r>
              <a:rPr b="1" lang="ar-SA" sz="7500" spc="-1" strike="noStrike">
                <a:solidFill>
                  <a:srgbClr val="ffffff"/>
                </a:solidFill>
                <a:latin typeface="Arial"/>
                <a:cs typeface="Akhbar MT"/>
              </a:rPr>
              <a:t>المصور من الروح القدس</a:t>
            </a:r>
            <a:br>
              <a:rPr sz="7500"/>
            </a:br>
            <a:r>
              <a:rPr b="1" lang="ar-SA" sz="7500" spc="-1" strike="noStrike">
                <a:solidFill>
                  <a:srgbClr val="ffffff"/>
                </a:solidFill>
                <a:latin typeface="Arial"/>
                <a:ea typeface="Akhbar MT"/>
              </a:rPr>
              <a:t>	</a:t>
            </a:r>
            <a:r>
              <a:rPr b="1" lang="ar-SA" sz="7500" spc="-1" strike="noStrike">
                <a:solidFill>
                  <a:srgbClr val="ffffff"/>
                </a:solidFill>
                <a:latin typeface="Arial"/>
                <a:cs typeface="Akhbar MT"/>
              </a:rPr>
              <a:t>في أحشاء الوالدة البتول</a:t>
            </a:r>
            <a:br>
              <a:rPr sz="7500"/>
            </a:br>
            <a:r>
              <a:rPr b="1" lang="ar-SA" sz="7500" spc="-1" strike="noStrike">
                <a:solidFill>
                  <a:srgbClr val="ffffff"/>
                </a:solidFill>
                <a:latin typeface="Arial"/>
                <a:cs typeface="Akhbar MT"/>
              </a:rPr>
              <a:t>المتحد جوهرياً بكلمة الله</a:t>
            </a:r>
            <a:br>
              <a:rPr sz="7500"/>
            </a:b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 rot="16200000">
            <a:off x="-2160360" y="2709000"/>
            <a:ext cx="5832360" cy="1511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 algn="ctr" rtl="1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إرحـمــنــــ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79640" y="-243000"/>
            <a:ext cx="5689440" cy="314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0" spc="-1" strike="noStrike" u="sng">
                <a:solidFill>
                  <a:srgbClr val="ffffff"/>
                </a:solidFill>
                <a:uFillTx/>
                <a:latin typeface="Arial"/>
                <a:cs typeface="AF_Diwani"/>
              </a:rPr>
              <a:t>يا قلب يسوع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 rot="16200000">
            <a:off x="-2285280" y="3455280"/>
            <a:ext cx="5832360" cy="971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algn="ctr" rtl="1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إرحـمــنــــ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92360" y="1655640"/>
            <a:ext cx="7235640" cy="558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ذا العظمة غير المتناهية 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هيكل الله المقدس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خباء الرب العلي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بيت الله وباب السماء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آتون المحبة المضطرم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79640" y="-347760"/>
            <a:ext cx="5689440" cy="289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200" spc="-1" strike="noStrike" u="sng">
                <a:solidFill>
                  <a:srgbClr val="ffffff"/>
                </a:solidFill>
                <a:uFillTx/>
                <a:latin typeface="Arial"/>
                <a:cs typeface="AF_Diwani"/>
              </a:rPr>
              <a:t>يا قلب يسوع</a:t>
            </a:r>
            <a:endParaRPr b="0" lang="en-US" sz="9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 rot="16200000">
            <a:off x="-2285280" y="3455280"/>
            <a:ext cx="5832360" cy="971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algn="ctr" rtl="1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إرحـمــنــــ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2360" y="1655640"/>
            <a:ext cx="7235640" cy="558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منزل العدل والمحبة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المفعم جوداً وحباً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لجة الفضائل كلها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الجدير بكل تسبحة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ملك جميع القلوب ومركزها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-347760"/>
            <a:ext cx="5689440" cy="289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200" spc="-1" strike="noStrike" u="sng">
                <a:solidFill>
                  <a:srgbClr val="ffffff"/>
                </a:solidFill>
                <a:uFillTx/>
                <a:latin typeface="Arial"/>
                <a:cs typeface="AF_Diwani"/>
              </a:rPr>
              <a:t>يا قلب يسوع</a:t>
            </a:r>
            <a:endParaRPr b="0" lang="en-US" sz="9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 rot="16200000">
            <a:off x="-2285280" y="3455280"/>
            <a:ext cx="5832360" cy="971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algn="ctr" rtl="1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إرحـمــنــــ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03280" y="1655640"/>
            <a:ext cx="7524720" cy="558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الحاوي كل كنوز الحكمة والعلم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مسكن ملء اللاهوت كله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سرور الآب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الذي من فيضه أخذنا جميعنا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رغبة الآكام الدهرية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79640" y="-347760"/>
            <a:ext cx="5689440" cy="289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200" spc="-1" strike="noStrike" u="sng">
                <a:solidFill>
                  <a:srgbClr val="ffffff"/>
                </a:solidFill>
                <a:uFillTx/>
                <a:latin typeface="Arial"/>
                <a:cs typeface="AF_Diwani"/>
              </a:rPr>
              <a:t>يا قلب يسوع</a:t>
            </a:r>
            <a:endParaRPr b="0" lang="en-US" sz="9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 rot="16200000">
            <a:off x="-2285280" y="3455280"/>
            <a:ext cx="5832360" cy="971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algn="ctr" rtl="1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إرحـمــنــــ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92360" y="1655640"/>
            <a:ext cx="7235640" cy="558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الطويل الأناة والكثير الرحمة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الغني لكل من يدعونك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نبوع الحياة والقداسة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الضحية عن آثامنا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الموسع عاراً لأجلنا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79640" y="-347760"/>
            <a:ext cx="5689440" cy="289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200" spc="-1" strike="noStrike" u="sng">
                <a:solidFill>
                  <a:srgbClr val="ffffff"/>
                </a:solidFill>
                <a:uFillTx/>
                <a:latin typeface="Arial"/>
                <a:cs typeface="AF_Diwani"/>
              </a:rPr>
              <a:t>يا قلب يسوع</a:t>
            </a:r>
            <a:endParaRPr b="0" lang="en-US" sz="9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 rot="16200000">
            <a:off x="-2285280" y="3455280"/>
            <a:ext cx="5832360" cy="971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algn="ctr" rtl="1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إرحـمــنــــ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92360" y="1655640"/>
            <a:ext cx="7235640" cy="558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المنسحق لأجل أرجاسنا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المطيع حتى الموت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المطعون بالحربة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مصدر كل تعزية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حياتنا وقيامتنا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79640" y="-347760"/>
            <a:ext cx="5689440" cy="289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200" spc="-1" strike="noStrike" u="sng">
                <a:solidFill>
                  <a:srgbClr val="ffffff"/>
                </a:solidFill>
                <a:uFillTx/>
                <a:latin typeface="Arial"/>
                <a:cs typeface="AF_Diwani"/>
              </a:rPr>
              <a:t>يا قلب يسوع</a:t>
            </a:r>
            <a:endParaRPr b="0" lang="en-US" sz="9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19:38:32Z</dcterms:created>
  <dc:creator>Charbel Azar</dc:creator>
  <dc:description/>
  <dc:language>en-US</dc:language>
  <cp:lastModifiedBy>-</cp:lastModifiedBy>
  <dcterms:modified xsi:type="dcterms:W3CDTF">2003-01-14T17:34:41Z</dcterms:modified>
  <cp:revision>21</cp:revision>
  <dc:subject/>
  <dc:title>كيرياليسون، كريستياليسون، كيرياليسون  يا ربنا يسوع المسيح أنصت إلينا  إستجبنا </dc:title>
</cp:coreProperties>
</file>