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1E2-7203-4534-A6AD-A2D33D54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94F-9ADE-4DDE-9DC3-FCFD2162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7C9-D8F6-436F-B50F-44C8CE4C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5C0-7CD7-410F-A0DD-3E5BE38B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491-3182-4E6B-A76D-37E9936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66D-61B0-4510-A9BE-E07ECF1D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2FB-EFB7-4425-A88B-3EE15E8A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70D-C407-416B-96A9-890F9C8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910-5F32-4118-A8A7-92763EE6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AE8-B4ED-495A-8FAD-9E4B70A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AEB-9059-4C62-ADDD-CF5F67D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8A8-85A7-401F-9E3C-EB31D3C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950F-ABF5-47B7-A627-636F65E6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3657600" cy="11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ربي يا نورَ رجائ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قتبِل من الدع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واجعل الراحل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دخلُ دارَ البق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أبا كلِّ المراح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رجاءَ الراقد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جعلِ الراحلَ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في عِدادِ الصالح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8:19Z</dcterms:created>
  <dc:creator>HANI SAFI</dc:creator>
  <dc:description/>
  <dc:language>en-US</dc:language>
  <cp:lastModifiedBy>HANI SAFI</cp:lastModifiedBy>
  <dcterms:modified xsi:type="dcterms:W3CDTF">2003-05-19T11:48:50Z</dcterms:modified>
  <cp:revision>1</cp:revision>
  <dc:subject/>
  <dc:title>Slide 1</dc:title>
</cp:coreProperties>
</file>