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71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7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191.xml.rels" ContentType="application/vnd.openxmlformats-package.relationships+xml"/>
  <Override PartName="/ppt/slides/_rels/slide357.xml.rels" ContentType="application/vnd.openxmlformats-package.relationships+xml"/>
  <Override PartName="/ppt/slides/_rels/slide66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404.xml.rels" ContentType="application/vnd.openxmlformats-package.relationships+xml"/>
  <Override PartName="/ppt/slides/_rels/slide92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5.xml.rels" ContentType="application/vnd.openxmlformats-package.relationships+xml"/>
  <Override PartName="/ppt/slides/_rels/slide89.xml.rels" ContentType="application/vnd.openxmlformats-package.relationships+xml"/>
  <Override PartName="/ppt/slides/_rels/slide385.xml.rels" ContentType="application/vnd.openxmlformats-package.relationships+xml"/>
  <Override PartName="/ppt/slides/_rels/slide390.xml.rels" ContentType="application/vnd.openxmlformats-package.relationships+xml"/>
  <Override PartName="/ppt/slides/_rels/slide94.xml.rels" ContentType="application/vnd.openxmlformats-package.relationships+xml"/>
  <Override PartName="/ppt/slides/_rels/slide406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343.xml.rels" ContentType="application/vnd.openxmlformats-package.relationships+xml"/>
  <Override PartName="/ppt/slides/_rels/slide33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44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332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27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46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398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97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28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295.xml.rels" ContentType="application/vnd.openxmlformats-package.relationships+xml"/>
  <Override PartName="/ppt/slides/_rels/slide316.xml.rels" ContentType="application/vnd.openxmlformats-package.relationships+xml"/>
  <Override PartName="/ppt/slides/_rels/slide167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142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402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96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78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403.xml.rels" ContentType="application/vnd.openxmlformats-package.relationships+xml"/>
  <Override PartName="/ppt/slides/_rels/slide382.xml.rels" ContentType="application/vnd.openxmlformats-package.relationships+xml"/>
  <Override PartName="/ppt/slides/_rels/slide86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99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03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407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391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405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363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287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367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309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89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86.xml" ContentType="application/vnd.openxmlformats-officedocument.presentationml.slide+xml"/>
  <Override PartName="/ppt/slides/slide125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372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14.xml" ContentType="application/vnd.openxmlformats-officedocument.presentationml.slide+xml"/>
  <Override PartName="/ppt/slides/slide382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20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360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262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373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374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366.xml" ContentType="application/vnd.openxmlformats-officedocument.presentationml.slide+xml"/>
  <Override PartName="/ppt/slides/slide404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72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67.xml" ContentType="application/vnd.openxmlformats-officedocument.presentationml.slide+xml"/>
  <Override PartName="/ppt/slides/slide405.xml" ContentType="application/vnd.openxmlformats-officedocument.presentationml.slide+xml"/>
  <Override PartName="/ppt/slides/slide280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84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290.xml" ContentType="application/vnd.openxmlformats-officedocument.presentationml.slide+xml"/>
  <Override PartName="/ppt/slides/slide39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9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82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281.xml" ContentType="application/vnd.openxmlformats-officedocument.presentationml.slide+xml"/>
  <Override PartName="/ppt/slides/slide4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01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39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191.xml" ContentType="application/vnd.openxmlformats-officedocument.presentationml.slide+xml"/>
  <Override PartName="/ppt/slides/slide357.xml" ContentType="application/vnd.openxmlformats-officedocument.presentationml.slide+xml"/>
  <Override PartName="/ppt/slides/slide68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406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407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  <p:sldId id="416" r:id="rId174"/>
    <p:sldId id="417" r:id="rId175"/>
    <p:sldId id="418" r:id="rId176"/>
    <p:sldId id="419" r:id="rId177"/>
    <p:sldId id="420" r:id="rId178"/>
    <p:sldId id="421" r:id="rId179"/>
    <p:sldId id="422" r:id="rId180"/>
    <p:sldId id="423" r:id="rId181"/>
    <p:sldId id="424" r:id="rId182"/>
    <p:sldId id="425" r:id="rId183"/>
    <p:sldId id="426" r:id="rId184"/>
    <p:sldId id="427" r:id="rId185"/>
    <p:sldId id="428" r:id="rId186"/>
    <p:sldId id="429" r:id="rId187"/>
    <p:sldId id="430" r:id="rId188"/>
    <p:sldId id="431" r:id="rId189"/>
    <p:sldId id="432" r:id="rId190"/>
    <p:sldId id="433" r:id="rId191"/>
    <p:sldId id="434" r:id="rId192"/>
    <p:sldId id="435" r:id="rId193"/>
    <p:sldId id="436" r:id="rId194"/>
    <p:sldId id="437" r:id="rId195"/>
    <p:sldId id="438" r:id="rId196"/>
    <p:sldId id="439" r:id="rId197"/>
    <p:sldId id="440" r:id="rId198"/>
    <p:sldId id="441" r:id="rId199"/>
    <p:sldId id="442" r:id="rId200"/>
    <p:sldId id="443" r:id="rId201"/>
    <p:sldId id="444" r:id="rId202"/>
    <p:sldId id="445" r:id="rId203"/>
    <p:sldId id="446" r:id="rId204"/>
    <p:sldId id="447" r:id="rId205"/>
    <p:sldId id="448" r:id="rId206"/>
    <p:sldId id="449" r:id="rId207"/>
    <p:sldId id="450" r:id="rId208"/>
    <p:sldId id="451" r:id="rId209"/>
    <p:sldId id="452" r:id="rId210"/>
    <p:sldId id="453" r:id="rId211"/>
    <p:sldId id="454" r:id="rId212"/>
    <p:sldId id="455" r:id="rId213"/>
    <p:sldId id="456" r:id="rId214"/>
    <p:sldId id="457" r:id="rId215"/>
    <p:sldId id="458" r:id="rId216"/>
    <p:sldId id="459" r:id="rId217"/>
    <p:sldId id="460" r:id="rId218"/>
    <p:sldId id="461" r:id="rId219"/>
    <p:sldId id="462" r:id="rId220"/>
    <p:sldId id="463" r:id="rId221"/>
    <p:sldId id="464" r:id="rId222"/>
    <p:sldId id="465" r:id="rId223"/>
    <p:sldId id="466" r:id="rId224"/>
    <p:sldId id="467" r:id="rId225"/>
    <p:sldId id="468" r:id="rId226"/>
    <p:sldId id="469" r:id="rId227"/>
    <p:sldId id="470" r:id="rId228"/>
    <p:sldId id="471" r:id="rId229"/>
    <p:sldId id="472" r:id="rId230"/>
    <p:sldId id="473" r:id="rId231"/>
    <p:sldId id="474" r:id="rId232"/>
    <p:sldId id="475" r:id="rId233"/>
    <p:sldId id="476" r:id="rId234"/>
    <p:sldId id="477" r:id="rId235"/>
    <p:sldId id="478" r:id="rId236"/>
    <p:sldId id="479" r:id="rId237"/>
    <p:sldId id="480" r:id="rId238"/>
    <p:sldId id="481" r:id="rId239"/>
    <p:sldId id="482" r:id="rId240"/>
    <p:sldId id="483" r:id="rId241"/>
    <p:sldId id="484" r:id="rId242"/>
    <p:sldId id="485" r:id="rId243"/>
    <p:sldId id="486" r:id="rId244"/>
    <p:sldId id="487" r:id="rId245"/>
    <p:sldId id="488" r:id="rId246"/>
    <p:sldId id="489" r:id="rId247"/>
    <p:sldId id="490" r:id="rId248"/>
    <p:sldId id="491" r:id="rId249"/>
    <p:sldId id="492" r:id="rId250"/>
    <p:sldId id="493" r:id="rId251"/>
    <p:sldId id="494" r:id="rId252"/>
    <p:sldId id="495" r:id="rId253"/>
    <p:sldId id="496" r:id="rId254"/>
    <p:sldId id="497" r:id="rId255"/>
    <p:sldId id="498" r:id="rId256"/>
    <p:sldId id="499" r:id="rId257"/>
    <p:sldId id="500" r:id="rId258"/>
    <p:sldId id="501" r:id="rId259"/>
    <p:sldId id="502" r:id="rId260"/>
    <p:sldId id="503" r:id="rId261"/>
    <p:sldId id="504" r:id="rId262"/>
    <p:sldId id="505" r:id="rId263"/>
    <p:sldId id="506" r:id="rId264"/>
    <p:sldId id="507" r:id="rId265"/>
    <p:sldId id="508" r:id="rId266"/>
    <p:sldId id="509" r:id="rId267"/>
    <p:sldId id="510" r:id="rId268"/>
    <p:sldId id="511" r:id="rId269"/>
    <p:sldId id="512" r:id="rId270"/>
    <p:sldId id="513" r:id="rId271"/>
    <p:sldId id="514" r:id="rId272"/>
    <p:sldId id="515" r:id="rId273"/>
    <p:sldId id="516" r:id="rId274"/>
    <p:sldId id="517" r:id="rId275"/>
    <p:sldId id="518" r:id="rId276"/>
    <p:sldId id="519" r:id="rId277"/>
    <p:sldId id="520" r:id="rId278"/>
    <p:sldId id="521" r:id="rId279"/>
    <p:sldId id="522" r:id="rId280"/>
    <p:sldId id="523" r:id="rId281"/>
    <p:sldId id="524" r:id="rId282"/>
    <p:sldId id="525" r:id="rId283"/>
    <p:sldId id="526" r:id="rId284"/>
    <p:sldId id="527" r:id="rId285"/>
    <p:sldId id="528" r:id="rId286"/>
    <p:sldId id="529" r:id="rId287"/>
    <p:sldId id="530" r:id="rId288"/>
    <p:sldId id="531" r:id="rId289"/>
    <p:sldId id="532" r:id="rId290"/>
    <p:sldId id="533" r:id="rId291"/>
    <p:sldId id="534" r:id="rId292"/>
    <p:sldId id="535" r:id="rId293"/>
    <p:sldId id="536" r:id="rId294"/>
    <p:sldId id="537" r:id="rId295"/>
    <p:sldId id="538" r:id="rId296"/>
    <p:sldId id="539" r:id="rId297"/>
    <p:sldId id="540" r:id="rId298"/>
    <p:sldId id="541" r:id="rId299"/>
    <p:sldId id="542" r:id="rId300"/>
    <p:sldId id="543" r:id="rId301"/>
    <p:sldId id="544" r:id="rId302"/>
    <p:sldId id="545" r:id="rId303"/>
    <p:sldId id="546" r:id="rId304"/>
    <p:sldId id="547" r:id="rId305"/>
    <p:sldId id="548" r:id="rId306"/>
    <p:sldId id="549" r:id="rId307"/>
    <p:sldId id="550" r:id="rId308"/>
    <p:sldId id="551" r:id="rId309"/>
    <p:sldId id="552" r:id="rId310"/>
    <p:sldId id="553" r:id="rId311"/>
    <p:sldId id="554" r:id="rId312"/>
    <p:sldId id="555" r:id="rId313"/>
    <p:sldId id="556" r:id="rId314"/>
    <p:sldId id="557" r:id="rId315"/>
    <p:sldId id="558" r:id="rId316"/>
    <p:sldId id="559" r:id="rId317"/>
    <p:sldId id="560" r:id="rId318"/>
    <p:sldId id="561" r:id="rId319"/>
    <p:sldId id="562" r:id="rId320"/>
    <p:sldId id="563" r:id="rId321"/>
    <p:sldId id="564" r:id="rId322"/>
    <p:sldId id="565" r:id="rId323"/>
    <p:sldId id="566" r:id="rId324"/>
    <p:sldId id="567" r:id="rId325"/>
    <p:sldId id="568" r:id="rId326"/>
    <p:sldId id="569" r:id="rId327"/>
    <p:sldId id="570" r:id="rId328"/>
    <p:sldId id="571" r:id="rId329"/>
    <p:sldId id="572" r:id="rId330"/>
    <p:sldId id="573" r:id="rId331"/>
    <p:sldId id="574" r:id="rId332"/>
    <p:sldId id="575" r:id="rId333"/>
    <p:sldId id="576" r:id="rId334"/>
    <p:sldId id="577" r:id="rId335"/>
    <p:sldId id="578" r:id="rId336"/>
    <p:sldId id="579" r:id="rId337"/>
    <p:sldId id="580" r:id="rId338"/>
    <p:sldId id="581" r:id="rId339"/>
    <p:sldId id="582" r:id="rId340"/>
    <p:sldId id="583" r:id="rId341"/>
    <p:sldId id="584" r:id="rId342"/>
    <p:sldId id="585" r:id="rId343"/>
    <p:sldId id="586" r:id="rId344"/>
    <p:sldId id="587" r:id="rId345"/>
    <p:sldId id="588" r:id="rId346"/>
    <p:sldId id="589" r:id="rId347"/>
    <p:sldId id="590" r:id="rId348"/>
    <p:sldId id="591" r:id="rId349"/>
    <p:sldId id="592" r:id="rId350"/>
    <p:sldId id="593" r:id="rId351"/>
    <p:sldId id="594" r:id="rId352"/>
    <p:sldId id="595" r:id="rId353"/>
    <p:sldId id="596" r:id="rId354"/>
    <p:sldId id="597" r:id="rId355"/>
    <p:sldId id="598" r:id="rId356"/>
    <p:sldId id="599" r:id="rId357"/>
    <p:sldId id="600" r:id="rId358"/>
    <p:sldId id="601" r:id="rId359"/>
    <p:sldId id="602" r:id="rId360"/>
    <p:sldId id="603" r:id="rId361"/>
    <p:sldId id="604" r:id="rId362"/>
    <p:sldId id="605" r:id="rId363"/>
    <p:sldId id="606" r:id="rId364"/>
    <p:sldId id="607" r:id="rId365"/>
    <p:sldId id="608" r:id="rId366"/>
    <p:sldId id="609" r:id="rId367"/>
    <p:sldId id="610" r:id="rId368"/>
    <p:sldId id="611" r:id="rId369"/>
    <p:sldId id="612" r:id="rId370"/>
    <p:sldId id="613" r:id="rId371"/>
    <p:sldId id="614" r:id="rId372"/>
    <p:sldId id="615" r:id="rId373"/>
    <p:sldId id="616" r:id="rId374"/>
    <p:sldId id="617" r:id="rId375"/>
    <p:sldId id="618" r:id="rId376"/>
    <p:sldId id="619" r:id="rId377"/>
    <p:sldId id="620" r:id="rId378"/>
    <p:sldId id="621" r:id="rId379"/>
    <p:sldId id="622" r:id="rId380"/>
    <p:sldId id="623" r:id="rId381"/>
    <p:sldId id="624" r:id="rId382"/>
    <p:sldId id="625" r:id="rId383"/>
    <p:sldId id="626" r:id="rId384"/>
    <p:sldId id="627" r:id="rId385"/>
    <p:sldId id="628" r:id="rId386"/>
    <p:sldId id="629" r:id="rId387"/>
    <p:sldId id="630" r:id="rId388"/>
    <p:sldId id="631" r:id="rId389"/>
    <p:sldId id="632" r:id="rId390"/>
    <p:sldId id="633" r:id="rId391"/>
    <p:sldId id="634" r:id="rId392"/>
    <p:sldId id="635" r:id="rId393"/>
    <p:sldId id="636" r:id="rId394"/>
    <p:sldId id="637" r:id="rId395"/>
    <p:sldId id="638" r:id="rId396"/>
    <p:sldId id="639" r:id="rId397"/>
    <p:sldId id="640" r:id="rId398"/>
    <p:sldId id="641" r:id="rId399"/>
    <p:sldId id="642" r:id="rId400"/>
    <p:sldId id="643" r:id="rId401"/>
    <p:sldId id="644" r:id="rId402"/>
    <p:sldId id="645" r:id="rId403"/>
    <p:sldId id="646" r:id="rId404"/>
    <p:sldId id="647" r:id="rId405"/>
    <p:sldId id="648" r:id="rId406"/>
    <p:sldId id="649" r:id="rId407"/>
    <p:sldId id="650" r:id="rId408"/>
    <p:sldId id="651" r:id="rId409"/>
    <p:sldId id="652" r:id="rId410"/>
    <p:sldId id="653" r:id="rId411"/>
    <p:sldId id="654" r:id="rId412"/>
    <p:sldId id="655" r:id="rId413"/>
    <p:sldId id="656" r:id="rId414"/>
    <p:sldId id="657" r:id="rId415"/>
    <p:sldId id="658" r:id="rId416"/>
    <p:sldId id="659" r:id="rId417"/>
    <p:sldId id="660" r:id="rId418"/>
    <p:sldId id="661" r:id="rId419"/>
    <p:sldId id="662" r:id="rId4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slide" Target="slides/slide161.xml"/><Relationship Id="rId175" Type="http://schemas.openxmlformats.org/officeDocument/2006/relationships/slide" Target="slides/slide162.xml"/><Relationship Id="rId176" Type="http://schemas.openxmlformats.org/officeDocument/2006/relationships/slide" Target="slides/slide163.xml"/><Relationship Id="rId177" Type="http://schemas.openxmlformats.org/officeDocument/2006/relationships/slide" Target="slides/slide164.xml"/><Relationship Id="rId178" Type="http://schemas.openxmlformats.org/officeDocument/2006/relationships/slide" Target="slides/slide165.xml"/><Relationship Id="rId179" Type="http://schemas.openxmlformats.org/officeDocument/2006/relationships/slide" Target="slides/slide166.xml"/><Relationship Id="rId180" Type="http://schemas.openxmlformats.org/officeDocument/2006/relationships/slide" Target="slides/slide167.xml"/><Relationship Id="rId181" Type="http://schemas.openxmlformats.org/officeDocument/2006/relationships/slide" Target="slides/slide168.xml"/><Relationship Id="rId182" Type="http://schemas.openxmlformats.org/officeDocument/2006/relationships/slide" Target="slides/slide169.xml"/><Relationship Id="rId183" Type="http://schemas.openxmlformats.org/officeDocument/2006/relationships/slide" Target="slides/slide170.xml"/><Relationship Id="rId184" Type="http://schemas.openxmlformats.org/officeDocument/2006/relationships/slide" Target="slides/slide171.xml"/><Relationship Id="rId185" Type="http://schemas.openxmlformats.org/officeDocument/2006/relationships/slide" Target="slides/slide172.xml"/><Relationship Id="rId186" Type="http://schemas.openxmlformats.org/officeDocument/2006/relationships/slide" Target="slides/slide173.xml"/><Relationship Id="rId187" Type="http://schemas.openxmlformats.org/officeDocument/2006/relationships/slide" Target="slides/slide174.xml"/><Relationship Id="rId188" Type="http://schemas.openxmlformats.org/officeDocument/2006/relationships/slide" Target="slides/slide175.xml"/><Relationship Id="rId189" Type="http://schemas.openxmlformats.org/officeDocument/2006/relationships/slide" Target="slides/slide176.xml"/><Relationship Id="rId190" Type="http://schemas.openxmlformats.org/officeDocument/2006/relationships/slide" Target="slides/slide177.xml"/><Relationship Id="rId191" Type="http://schemas.openxmlformats.org/officeDocument/2006/relationships/slide" Target="slides/slide178.xml"/><Relationship Id="rId192" Type="http://schemas.openxmlformats.org/officeDocument/2006/relationships/slide" Target="slides/slide179.xml"/><Relationship Id="rId193" Type="http://schemas.openxmlformats.org/officeDocument/2006/relationships/slide" Target="slides/slide180.xml"/><Relationship Id="rId194" Type="http://schemas.openxmlformats.org/officeDocument/2006/relationships/slide" Target="slides/slide181.xml"/><Relationship Id="rId195" Type="http://schemas.openxmlformats.org/officeDocument/2006/relationships/slide" Target="slides/slide182.xml"/><Relationship Id="rId196" Type="http://schemas.openxmlformats.org/officeDocument/2006/relationships/slide" Target="slides/slide183.xml"/><Relationship Id="rId197" Type="http://schemas.openxmlformats.org/officeDocument/2006/relationships/slide" Target="slides/slide184.xml"/><Relationship Id="rId198" Type="http://schemas.openxmlformats.org/officeDocument/2006/relationships/slide" Target="slides/slide185.xml"/><Relationship Id="rId199" Type="http://schemas.openxmlformats.org/officeDocument/2006/relationships/slide" Target="slides/slide186.xml"/><Relationship Id="rId200" Type="http://schemas.openxmlformats.org/officeDocument/2006/relationships/slide" Target="slides/slide187.xml"/><Relationship Id="rId201" Type="http://schemas.openxmlformats.org/officeDocument/2006/relationships/slide" Target="slides/slide188.xml"/><Relationship Id="rId202" Type="http://schemas.openxmlformats.org/officeDocument/2006/relationships/slide" Target="slides/slide189.xml"/><Relationship Id="rId203" Type="http://schemas.openxmlformats.org/officeDocument/2006/relationships/slide" Target="slides/slide190.xml"/><Relationship Id="rId204" Type="http://schemas.openxmlformats.org/officeDocument/2006/relationships/slide" Target="slides/slide191.xml"/><Relationship Id="rId205" Type="http://schemas.openxmlformats.org/officeDocument/2006/relationships/slide" Target="slides/slide192.xml"/><Relationship Id="rId206" Type="http://schemas.openxmlformats.org/officeDocument/2006/relationships/slide" Target="slides/slide193.xml"/><Relationship Id="rId207" Type="http://schemas.openxmlformats.org/officeDocument/2006/relationships/slide" Target="slides/slide194.xml"/><Relationship Id="rId208" Type="http://schemas.openxmlformats.org/officeDocument/2006/relationships/slide" Target="slides/slide195.xml"/><Relationship Id="rId209" Type="http://schemas.openxmlformats.org/officeDocument/2006/relationships/slide" Target="slides/slide196.xml"/><Relationship Id="rId210" Type="http://schemas.openxmlformats.org/officeDocument/2006/relationships/slide" Target="slides/slide197.xml"/><Relationship Id="rId211" Type="http://schemas.openxmlformats.org/officeDocument/2006/relationships/slide" Target="slides/slide198.xml"/><Relationship Id="rId212" Type="http://schemas.openxmlformats.org/officeDocument/2006/relationships/slide" Target="slides/slide199.xml"/><Relationship Id="rId213" Type="http://schemas.openxmlformats.org/officeDocument/2006/relationships/slide" Target="slides/slide200.xml"/><Relationship Id="rId214" Type="http://schemas.openxmlformats.org/officeDocument/2006/relationships/slide" Target="slides/slide201.xml"/><Relationship Id="rId215" Type="http://schemas.openxmlformats.org/officeDocument/2006/relationships/slide" Target="slides/slide202.xml"/><Relationship Id="rId216" Type="http://schemas.openxmlformats.org/officeDocument/2006/relationships/slide" Target="slides/slide203.xml"/><Relationship Id="rId217" Type="http://schemas.openxmlformats.org/officeDocument/2006/relationships/slide" Target="slides/slide204.xml"/><Relationship Id="rId218" Type="http://schemas.openxmlformats.org/officeDocument/2006/relationships/slide" Target="slides/slide205.xml"/><Relationship Id="rId219" Type="http://schemas.openxmlformats.org/officeDocument/2006/relationships/slide" Target="slides/slide206.xml"/><Relationship Id="rId220" Type="http://schemas.openxmlformats.org/officeDocument/2006/relationships/slide" Target="slides/slide207.xml"/><Relationship Id="rId221" Type="http://schemas.openxmlformats.org/officeDocument/2006/relationships/slide" Target="slides/slide208.xml"/><Relationship Id="rId222" Type="http://schemas.openxmlformats.org/officeDocument/2006/relationships/slide" Target="slides/slide209.xml"/><Relationship Id="rId223" Type="http://schemas.openxmlformats.org/officeDocument/2006/relationships/slide" Target="slides/slide210.xml"/><Relationship Id="rId224" Type="http://schemas.openxmlformats.org/officeDocument/2006/relationships/slide" Target="slides/slide211.xml"/><Relationship Id="rId225" Type="http://schemas.openxmlformats.org/officeDocument/2006/relationships/slide" Target="slides/slide212.xml"/><Relationship Id="rId226" Type="http://schemas.openxmlformats.org/officeDocument/2006/relationships/slide" Target="slides/slide213.xml"/><Relationship Id="rId227" Type="http://schemas.openxmlformats.org/officeDocument/2006/relationships/slide" Target="slides/slide214.xml"/><Relationship Id="rId228" Type="http://schemas.openxmlformats.org/officeDocument/2006/relationships/slide" Target="slides/slide215.xml"/><Relationship Id="rId229" Type="http://schemas.openxmlformats.org/officeDocument/2006/relationships/slide" Target="slides/slide216.xml"/><Relationship Id="rId230" Type="http://schemas.openxmlformats.org/officeDocument/2006/relationships/slide" Target="slides/slide217.xml"/><Relationship Id="rId231" Type="http://schemas.openxmlformats.org/officeDocument/2006/relationships/slide" Target="slides/slide218.xml"/><Relationship Id="rId232" Type="http://schemas.openxmlformats.org/officeDocument/2006/relationships/slide" Target="slides/slide219.xml"/><Relationship Id="rId233" Type="http://schemas.openxmlformats.org/officeDocument/2006/relationships/slide" Target="slides/slide220.xml"/><Relationship Id="rId234" Type="http://schemas.openxmlformats.org/officeDocument/2006/relationships/slide" Target="slides/slide221.xml"/><Relationship Id="rId235" Type="http://schemas.openxmlformats.org/officeDocument/2006/relationships/slide" Target="slides/slide222.xml"/><Relationship Id="rId236" Type="http://schemas.openxmlformats.org/officeDocument/2006/relationships/slide" Target="slides/slide223.xml"/><Relationship Id="rId237" Type="http://schemas.openxmlformats.org/officeDocument/2006/relationships/slide" Target="slides/slide224.xml"/><Relationship Id="rId238" Type="http://schemas.openxmlformats.org/officeDocument/2006/relationships/slide" Target="slides/slide225.xml"/><Relationship Id="rId239" Type="http://schemas.openxmlformats.org/officeDocument/2006/relationships/slide" Target="slides/slide226.xml"/><Relationship Id="rId240" Type="http://schemas.openxmlformats.org/officeDocument/2006/relationships/slide" Target="slides/slide227.xml"/><Relationship Id="rId241" Type="http://schemas.openxmlformats.org/officeDocument/2006/relationships/slide" Target="slides/slide228.xml"/><Relationship Id="rId242" Type="http://schemas.openxmlformats.org/officeDocument/2006/relationships/slide" Target="slides/slide229.xml"/><Relationship Id="rId243" Type="http://schemas.openxmlformats.org/officeDocument/2006/relationships/slide" Target="slides/slide230.xml"/><Relationship Id="rId244" Type="http://schemas.openxmlformats.org/officeDocument/2006/relationships/slide" Target="slides/slide231.xml"/><Relationship Id="rId245" Type="http://schemas.openxmlformats.org/officeDocument/2006/relationships/slide" Target="slides/slide232.xml"/><Relationship Id="rId246" Type="http://schemas.openxmlformats.org/officeDocument/2006/relationships/slide" Target="slides/slide233.xml"/><Relationship Id="rId247" Type="http://schemas.openxmlformats.org/officeDocument/2006/relationships/slide" Target="slides/slide234.xml"/><Relationship Id="rId248" Type="http://schemas.openxmlformats.org/officeDocument/2006/relationships/slide" Target="slides/slide235.xml"/><Relationship Id="rId249" Type="http://schemas.openxmlformats.org/officeDocument/2006/relationships/slide" Target="slides/slide236.xml"/><Relationship Id="rId250" Type="http://schemas.openxmlformats.org/officeDocument/2006/relationships/slide" Target="slides/slide237.xml"/><Relationship Id="rId251" Type="http://schemas.openxmlformats.org/officeDocument/2006/relationships/slide" Target="slides/slide238.xml"/><Relationship Id="rId252" Type="http://schemas.openxmlformats.org/officeDocument/2006/relationships/slide" Target="slides/slide239.xml"/><Relationship Id="rId253" Type="http://schemas.openxmlformats.org/officeDocument/2006/relationships/slide" Target="slides/slide240.xml"/><Relationship Id="rId254" Type="http://schemas.openxmlformats.org/officeDocument/2006/relationships/slide" Target="slides/slide241.xml"/><Relationship Id="rId255" Type="http://schemas.openxmlformats.org/officeDocument/2006/relationships/slide" Target="slides/slide242.xml"/><Relationship Id="rId256" Type="http://schemas.openxmlformats.org/officeDocument/2006/relationships/slide" Target="slides/slide243.xml"/><Relationship Id="rId257" Type="http://schemas.openxmlformats.org/officeDocument/2006/relationships/slide" Target="slides/slide244.xml"/><Relationship Id="rId258" Type="http://schemas.openxmlformats.org/officeDocument/2006/relationships/slide" Target="slides/slide245.xml"/><Relationship Id="rId259" Type="http://schemas.openxmlformats.org/officeDocument/2006/relationships/slide" Target="slides/slide246.xml"/><Relationship Id="rId260" Type="http://schemas.openxmlformats.org/officeDocument/2006/relationships/slide" Target="slides/slide247.xml"/><Relationship Id="rId261" Type="http://schemas.openxmlformats.org/officeDocument/2006/relationships/slide" Target="slides/slide248.xml"/><Relationship Id="rId262" Type="http://schemas.openxmlformats.org/officeDocument/2006/relationships/slide" Target="slides/slide249.xml"/><Relationship Id="rId263" Type="http://schemas.openxmlformats.org/officeDocument/2006/relationships/slide" Target="slides/slide250.xml"/><Relationship Id="rId264" Type="http://schemas.openxmlformats.org/officeDocument/2006/relationships/slide" Target="slides/slide251.xml"/><Relationship Id="rId265" Type="http://schemas.openxmlformats.org/officeDocument/2006/relationships/slide" Target="slides/slide252.xml"/><Relationship Id="rId266" Type="http://schemas.openxmlformats.org/officeDocument/2006/relationships/slide" Target="slides/slide253.xml"/><Relationship Id="rId267" Type="http://schemas.openxmlformats.org/officeDocument/2006/relationships/slide" Target="slides/slide254.xml"/><Relationship Id="rId268" Type="http://schemas.openxmlformats.org/officeDocument/2006/relationships/slide" Target="slides/slide255.xml"/><Relationship Id="rId269" Type="http://schemas.openxmlformats.org/officeDocument/2006/relationships/slide" Target="slides/slide256.xml"/><Relationship Id="rId270" Type="http://schemas.openxmlformats.org/officeDocument/2006/relationships/slide" Target="slides/slide257.xml"/><Relationship Id="rId271" Type="http://schemas.openxmlformats.org/officeDocument/2006/relationships/slide" Target="slides/slide258.xml"/><Relationship Id="rId272" Type="http://schemas.openxmlformats.org/officeDocument/2006/relationships/slide" Target="slides/slide259.xml"/><Relationship Id="rId273" Type="http://schemas.openxmlformats.org/officeDocument/2006/relationships/slide" Target="slides/slide260.xml"/><Relationship Id="rId274" Type="http://schemas.openxmlformats.org/officeDocument/2006/relationships/slide" Target="slides/slide261.xml"/><Relationship Id="rId275" Type="http://schemas.openxmlformats.org/officeDocument/2006/relationships/slide" Target="slides/slide262.xml"/><Relationship Id="rId276" Type="http://schemas.openxmlformats.org/officeDocument/2006/relationships/slide" Target="slides/slide263.xml"/><Relationship Id="rId277" Type="http://schemas.openxmlformats.org/officeDocument/2006/relationships/slide" Target="slides/slide264.xml"/><Relationship Id="rId278" Type="http://schemas.openxmlformats.org/officeDocument/2006/relationships/slide" Target="slides/slide265.xml"/><Relationship Id="rId279" Type="http://schemas.openxmlformats.org/officeDocument/2006/relationships/slide" Target="slides/slide266.xml"/><Relationship Id="rId280" Type="http://schemas.openxmlformats.org/officeDocument/2006/relationships/slide" Target="slides/slide267.xml"/><Relationship Id="rId281" Type="http://schemas.openxmlformats.org/officeDocument/2006/relationships/slide" Target="slides/slide268.xml"/><Relationship Id="rId282" Type="http://schemas.openxmlformats.org/officeDocument/2006/relationships/slide" Target="slides/slide269.xml"/><Relationship Id="rId283" Type="http://schemas.openxmlformats.org/officeDocument/2006/relationships/slide" Target="slides/slide270.xml"/><Relationship Id="rId284" Type="http://schemas.openxmlformats.org/officeDocument/2006/relationships/slide" Target="slides/slide271.xml"/><Relationship Id="rId285" Type="http://schemas.openxmlformats.org/officeDocument/2006/relationships/slide" Target="slides/slide272.xml"/><Relationship Id="rId286" Type="http://schemas.openxmlformats.org/officeDocument/2006/relationships/slide" Target="slides/slide273.xml"/><Relationship Id="rId287" Type="http://schemas.openxmlformats.org/officeDocument/2006/relationships/slide" Target="slides/slide274.xml"/><Relationship Id="rId288" Type="http://schemas.openxmlformats.org/officeDocument/2006/relationships/slide" Target="slides/slide275.xml"/><Relationship Id="rId289" Type="http://schemas.openxmlformats.org/officeDocument/2006/relationships/slide" Target="slides/slide276.xml"/><Relationship Id="rId290" Type="http://schemas.openxmlformats.org/officeDocument/2006/relationships/slide" Target="slides/slide277.xml"/><Relationship Id="rId291" Type="http://schemas.openxmlformats.org/officeDocument/2006/relationships/slide" Target="slides/slide278.xml"/><Relationship Id="rId292" Type="http://schemas.openxmlformats.org/officeDocument/2006/relationships/slide" Target="slides/slide279.xml"/><Relationship Id="rId293" Type="http://schemas.openxmlformats.org/officeDocument/2006/relationships/slide" Target="slides/slide280.xml"/><Relationship Id="rId294" Type="http://schemas.openxmlformats.org/officeDocument/2006/relationships/slide" Target="slides/slide281.xml"/><Relationship Id="rId295" Type="http://schemas.openxmlformats.org/officeDocument/2006/relationships/slide" Target="slides/slide282.xml"/><Relationship Id="rId296" Type="http://schemas.openxmlformats.org/officeDocument/2006/relationships/slide" Target="slides/slide283.xml"/><Relationship Id="rId297" Type="http://schemas.openxmlformats.org/officeDocument/2006/relationships/slide" Target="slides/slide284.xml"/><Relationship Id="rId298" Type="http://schemas.openxmlformats.org/officeDocument/2006/relationships/slide" Target="slides/slide285.xml"/><Relationship Id="rId299" Type="http://schemas.openxmlformats.org/officeDocument/2006/relationships/slide" Target="slides/slide286.xml"/><Relationship Id="rId300" Type="http://schemas.openxmlformats.org/officeDocument/2006/relationships/slide" Target="slides/slide287.xml"/><Relationship Id="rId301" Type="http://schemas.openxmlformats.org/officeDocument/2006/relationships/slide" Target="slides/slide288.xml"/><Relationship Id="rId302" Type="http://schemas.openxmlformats.org/officeDocument/2006/relationships/slide" Target="slides/slide289.xml"/><Relationship Id="rId303" Type="http://schemas.openxmlformats.org/officeDocument/2006/relationships/slide" Target="slides/slide290.xml"/><Relationship Id="rId304" Type="http://schemas.openxmlformats.org/officeDocument/2006/relationships/slide" Target="slides/slide291.xml"/><Relationship Id="rId305" Type="http://schemas.openxmlformats.org/officeDocument/2006/relationships/slide" Target="slides/slide292.xml"/><Relationship Id="rId306" Type="http://schemas.openxmlformats.org/officeDocument/2006/relationships/slide" Target="slides/slide293.xml"/><Relationship Id="rId307" Type="http://schemas.openxmlformats.org/officeDocument/2006/relationships/slide" Target="slides/slide294.xml"/><Relationship Id="rId308" Type="http://schemas.openxmlformats.org/officeDocument/2006/relationships/slide" Target="slides/slide295.xml"/><Relationship Id="rId309" Type="http://schemas.openxmlformats.org/officeDocument/2006/relationships/slide" Target="slides/slide296.xml"/><Relationship Id="rId310" Type="http://schemas.openxmlformats.org/officeDocument/2006/relationships/slide" Target="slides/slide297.xml"/><Relationship Id="rId311" Type="http://schemas.openxmlformats.org/officeDocument/2006/relationships/slide" Target="slides/slide298.xml"/><Relationship Id="rId312" Type="http://schemas.openxmlformats.org/officeDocument/2006/relationships/slide" Target="slides/slide299.xml"/><Relationship Id="rId313" Type="http://schemas.openxmlformats.org/officeDocument/2006/relationships/slide" Target="slides/slide300.xml"/><Relationship Id="rId314" Type="http://schemas.openxmlformats.org/officeDocument/2006/relationships/slide" Target="slides/slide301.xml"/><Relationship Id="rId315" Type="http://schemas.openxmlformats.org/officeDocument/2006/relationships/slide" Target="slides/slide302.xml"/><Relationship Id="rId316" Type="http://schemas.openxmlformats.org/officeDocument/2006/relationships/slide" Target="slides/slide303.xml"/><Relationship Id="rId317" Type="http://schemas.openxmlformats.org/officeDocument/2006/relationships/slide" Target="slides/slide304.xml"/><Relationship Id="rId318" Type="http://schemas.openxmlformats.org/officeDocument/2006/relationships/slide" Target="slides/slide305.xml"/><Relationship Id="rId319" Type="http://schemas.openxmlformats.org/officeDocument/2006/relationships/slide" Target="slides/slide306.xml"/><Relationship Id="rId320" Type="http://schemas.openxmlformats.org/officeDocument/2006/relationships/slide" Target="slides/slide307.xml"/><Relationship Id="rId321" Type="http://schemas.openxmlformats.org/officeDocument/2006/relationships/slide" Target="slides/slide308.xml"/><Relationship Id="rId322" Type="http://schemas.openxmlformats.org/officeDocument/2006/relationships/slide" Target="slides/slide309.xml"/><Relationship Id="rId323" Type="http://schemas.openxmlformats.org/officeDocument/2006/relationships/slide" Target="slides/slide310.xml"/><Relationship Id="rId324" Type="http://schemas.openxmlformats.org/officeDocument/2006/relationships/slide" Target="slides/slide311.xml"/><Relationship Id="rId325" Type="http://schemas.openxmlformats.org/officeDocument/2006/relationships/slide" Target="slides/slide312.xml"/><Relationship Id="rId326" Type="http://schemas.openxmlformats.org/officeDocument/2006/relationships/slide" Target="slides/slide313.xml"/><Relationship Id="rId327" Type="http://schemas.openxmlformats.org/officeDocument/2006/relationships/slide" Target="slides/slide314.xml"/><Relationship Id="rId328" Type="http://schemas.openxmlformats.org/officeDocument/2006/relationships/slide" Target="slides/slide315.xml"/><Relationship Id="rId329" Type="http://schemas.openxmlformats.org/officeDocument/2006/relationships/slide" Target="slides/slide316.xml"/><Relationship Id="rId330" Type="http://schemas.openxmlformats.org/officeDocument/2006/relationships/slide" Target="slides/slide317.xml"/><Relationship Id="rId331" Type="http://schemas.openxmlformats.org/officeDocument/2006/relationships/slide" Target="slides/slide318.xml"/><Relationship Id="rId332" Type="http://schemas.openxmlformats.org/officeDocument/2006/relationships/slide" Target="slides/slide319.xml"/><Relationship Id="rId333" Type="http://schemas.openxmlformats.org/officeDocument/2006/relationships/slide" Target="slides/slide320.xml"/><Relationship Id="rId334" Type="http://schemas.openxmlformats.org/officeDocument/2006/relationships/slide" Target="slides/slide321.xml"/><Relationship Id="rId335" Type="http://schemas.openxmlformats.org/officeDocument/2006/relationships/slide" Target="slides/slide322.xml"/><Relationship Id="rId336" Type="http://schemas.openxmlformats.org/officeDocument/2006/relationships/slide" Target="slides/slide323.xml"/><Relationship Id="rId337" Type="http://schemas.openxmlformats.org/officeDocument/2006/relationships/slide" Target="slides/slide324.xml"/><Relationship Id="rId338" Type="http://schemas.openxmlformats.org/officeDocument/2006/relationships/slide" Target="slides/slide325.xml"/><Relationship Id="rId339" Type="http://schemas.openxmlformats.org/officeDocument/2006/relationships/slide" Target="slides/slide326.xml"/><Relationship Id="rId340" Type="http://schemas.openxmlformats.org/officeDocument/2006/relationships/slide" Target="slides/slide327.xml"/><Relationship Id="rId341" Type="http://schemas.openxmlformats.org/officeDocument/2006/relationships/slide" Target="slides/slide328.xml"/><Relationship Id="rId342" Type="http://schemas.openxmlformats.org/officeDocument/2006/relationships/slide" Target="slides/slide329.xml"/><Relationship Id="rId343" Type="http://schemas.openxmlformats.org/officeDocument/2006/relationships/slide" Target="slides/slide330.xml"/><Relationship Id="rId344" Type="http://schemas.openxmlformats.org/officeDocument/2006/relationships/slide" Target="slides/slide331.xml"/><Relationship Id="rId345" Type="http://schemas.openxmlformats.org/officeDocument/2006/relationships/slide" Target="slides/slide332.xml"/><Relationship Id="rId346" Type="http://schemas.openxmlformats.org/officeDocument/2006/relationships/slide" Target="slides/slide333.xml"/><Relationship Id="rId347" Type="http://schemas.openxmlformats.org/officeDocument/2006/relationships/slide" Target="slides/slide334.xml"/><Relationship Id="rId348" Type="http://schemas.openxmlformats.org/officeDocument/2006/relationships/slide" Target="slides/slide335.xml"/><Relationship Id="rId349" Type="http://schemas.openxmlformats.org/officeDocument/2006/relationships/slide" Target="slides/slide336.xml"/><Relationship Id="rId350" Type="http://schemas.openxmlformats.org/officeDocument/2006/relationships/slide" Target="slides/slide337.xml"/><Relationship Id="rId351" Type="http://schemas.openxmlformats.org/officeDocument/2006/relationships/slide" Target="slides/slide338.xml"/><Relationship Id="rId352" Type="http://schemas.openxmlformats.org/officeDocument/2006/relationships/slide" Target="slides/slide339.xml"/><Relationship Id="rId353" Type="http://schemas.openxmlformats.org/officeDocument/2006/relationships/slide" Target="slides/slide340.xml"/><Relationship Id="rId354" Type="http://schemas.openxmlformats.org/officeDocument/2006/relationships/slide" Target="slides/slide341.xml"/><Relationship Id="rId355" Type="http://schemas.openxmlformats.org/officeDocument/2006/relationships/slide" Target="slides/slide342.xml"/><Relationship Id="rId356" Type="http://schemas.openxmlformats.org/officeDocument/2006/relationships/slide" Target="slides/slide343.xml"/><Relationship Id="rId357" Type="http://schemas.openxmlformats.org/officeDocument/2006/relationships/slide" Target="slides/slide344.xml"/><Relationship Id="rId358" Type="http://schemas.openxmlformats.org/officeDocument/2006/relationships/slide" Target="slides/slide345.xml"/><Relationship Id="rId359" Type="http://schemas.openxmlformats.org/officeDocument/2006/relationships/slide" Target="slides/slide346.xml"/><Relationship Id="rId360" Type="http://schemas.openxmlformats.org/officeDocument/2006/relationships/slide" Target="slides/slide347.xml"/><Relationship Id="rId361" Type="http://schemas.openxmlformats.org/officeDocument/2006/relationships/slide" Target="slides/slide348.xml"/><Relationship Id="rId362" Type="http://schemas.openxmlformats.org/officeDocument/2006/relationships/slide" Target="slides/slide349.xml"/><Relationship Id="rId363" Type="http://schemas.openxmlformats.org/officeDocument/2006/relationships/slide" Target="slides/slide350.xml"/><Relationship Id="rId364" Type="http://schemas.openxmlformats.org/officeDocument/2006/relationships/slide" Target="slides/slide351.xml"/><Relationship Id="rId365" Type="http://schemas.openxmlformats.org/officeDocument/2006/relationships/slide" Target="slides/slide352.xml"/><Relationship Id="rId366" Type="http://schemas.openxmlformats.org/officeDocument/2006/relationships/slide" Target="slides/slide353.xml"/><Relationship Id="rId367" Type="http://schemas.openxmlformats.org/officeDocument/2006/relationships/slide" Target="slides/slide354.xml"/><Relationship Id="rId368" Type="http://schemas.openxmlformats.org/officeDocument/2006/relationships/slide" Target="slides/slide355.xml"/><Relationship Id="rId369" Type="http://schemas.openxmlformats.org/officeDocument/2006/relationships/slide" Target="slides/slide356.xml"/><Relationship Id="rId370" Type="http://schemas.openxmlformats.org/officeDocument/2006/relationships/slide" Target="slides/slide357.xml"/><Relationship Id="rId371" Type="http://schemas.openxmlformats.org/officeDocument/2006/relationships/slide" Target="slides/slide358.xml"/><Relationship Id="rId372" Type="http://schemas.openxmlformats.org/officeDocument/2006/relationships/slide" Target="slides/slide359.xml"/><Relationship Id="rId373" Type="http://schemas.openxmlformats.org/officeDocument/2006/relationships/slide" Target="slides/slide360.xml"/><Relationship Id="rId374" Type="http://schemas.openxmlformats.org/officeDocument/2006/relationships/slide" Target="slides/slide361.xml"/><Relationship Id="rId375" Type="http://schemas.openxmlformats.org/officeDocument/2006/relationships/slide" Target="slides/slide362.xml"/><Relationship Id="rId376" Type="http://schemas.openxmlformats.org/officeDocument/2006/relationships/slide" Target="slides/slide363.xml"/><Relationship Id="rId377" Type="http://schemas.openxmlformats.org/officeDocument/2006/relationships/slide" Target="slides/slide364.xml"/><Relationship Id="rId378" Type="http://schemas.openxmlformats.org/officeDocument/2006/relationships/slide" Target="slides/slide365.xml"/><Relationship Id="rId379" Type="http://schemas.openxmlformats.org/officeDocument/2006/relationships/slide" Target="slides/slide366.xml"/><Relationship Id="rId380" Type="http://schemas.openxmlformats.org/officeDocument/2006/relationships/slide" Target="slides/slide367.xml"/><Relationship Id="rId381" Type="http://schemas.openxmlformats.org/officeDocument/2006/relationships/slide" Target="slides/slide368.xml"/><Relationship Id="rId382" Type="http://schemas.openxmlformats.org/officeDocument/2006/relationships/slide" Target="slides/slide369.xml"/><Relationship Id="rId383" Type="http://schemas.openxmlformats.org/officeDocument/2006/relationships/slide" Target="slides/slide370.xml"/><Relationship Id="rId384" Type="http://schemas.openxmlformats.org/officeDocument/2006/relationships/slide" Target="slides/slide371.xml"/><Relationship Id="rId385" Type="http://schemas.openxmlformats.org/officeDocument/2006/relationships/slide" Target="slides/slide372.xml"/><Relationship Id="rId386" Type="http://schemas.openxmlformats.org/officeDocument/2006/relationships/slide" Target="slides/slide373.xml"/><Relationship Id="rId387" Type="http://schemas.openxmlformats.org/officeDocument/2006/relationships/slide" Target="slides/slide374.xml"/><Relationship Id="rId388" Type="http://schemas.openxmlformats.org/officeDocument/2006/relationships/slide" Target="slides/slide375.xml"/><Relationship Id="rId389" Type="http://schemas.openxmlformats.org/officeDocument/2006/relationships/slide" Target="slides/slide376.xml"/><Relationship Id="rId390" Type="http://schemas.openxmlformats.org/officeDocument/2006/relationships/slide" Target="slides/slide377.xml"/><Relationship Id="rId391" Type="http://schemas.openxmlformats.org/officeDocument/2006/relationships/slide" Target="slides/slide378.xml"/><Relationship Id="rId392" Type="http://schemas.openxmlformats.org/officeDocument/2006/relationships/slide" Target="slides/slide379.xml"/><Relationship Id="rId393" Type="http://schemas.openxmlformats.org/officeDocument/2006/relationships/slide" Target="slides/slide380.xml"/><Relationship Id="rId394" Type="http://schemas.openxmlformats.org/officeDocument/2006/relationships/slide" Target="slides/slide381.xml"/><Relationship Id="rId395" Type="http://schemas.openxmlformats.org/officeDocument/2006/relationships/slide" Target="slides/slide382.xml"/><Relationship Id="rId396" Type="http://schemas.openxmlformats.org/officeDocument/2006/relationships/slide" Target="slides/slide383.xml"/><Relationship Id="rId397" Type="http://schemas.openxmlformats.org/officeDocument/2006/relationships/slide" Target="slides/slide384.xml"/><Relationship Id="rId398" Type="http://schemas.openxmlformats.org/officeDocument/2006/relationships/slide" Target="slides/slide385.xml"/><Relationship Id="rId399" Type="http://schemas.openxmlformats.org/officeDocument/2006/relationships/slide" Target="slides/slide386.xml"/><Relationship Id="rId400" Type="http://schemas.openxmlformats.org/officeDocument/2006/relationships/slide" Target="slides/slide387.xml"/><Relationship Id="rId401" Type="http://schemas.openxmlformats.org/officeDocument/2006/relationships/slide" Target="slides/slide388.xml"/><Relationship Id="rId402" Type="http://schemas.openxmlformats.org/officeDocument/2006/relationships/slide" Target="slides/slide389.xml"/><Relationship Id="rId403" Type="http://schemas.openxmlformats.org/officeDocument/2006/relationships/slide" Target="slides/slide390.xml"/><Relationship Id="rId404" Type="http://schemas.openxmlformats.org/officeDocument/2006/relationships/slide" Target="slides/slide391.xml"/><Relationship Id="rId405" Type="http://schemas.openxmlformats.org/officeDocument/2006/relationships/slide" Target="slides/slide392.xml"/><Relationship Id="rId406" Type="http://schemas.openxmlformats.org/officeDocument/2006/relationships/slide" Target="slides/slide393.xml"/><Relationship Id="rId407" Type="http://schemas.openxmlformats.org/officeDocument/2006/relationships/slide" Target="slides/slide394.xml"/><Relationship Id="rId408" Type="http://schemas.openxmlformats.org/officeDocument/2006/relationships/slide" Target="slides/slide395.xml"/><Relationship Id="rId409" Type="http://schemas.openxmlformats.org/officeDocument/2006/relationships/slide" Target="slides/slide396.xml"/><Relationship Id="rId410" Type="http://schemas.openxmlformats.org/officeDocument/2006/relationships/slide" Target="slides/slide397.xml"/><Relationship Id="rId411" Type="http://schemas.openxmlformats.org/officeDocument/2006/relationships/slide" Target="slides/slide398.xml"/><Relationship Id="rId412" Type="http://schemas.openxmlformats.org/officeDocument/2006/relationships/slide" Target="slides/slide399.xml"/><Relationship Id="rId413" Type="http://schemas.openxmlformats.org/officeDocument/2006/relationships/slide" Target="slides/slide400.xml"/><Relationship Id="rId414" Type="http://schemas.openxmlformats.org/officeDocument/2006/relationships/slide" Target="slides/slide401.xml"/><Relationship Id="rId415" Type="http://schemas.openxmlformats.org/officeDocument/2006/relationships/slide" Target="slides/slide402.xml"/><Relationship Id="rId416" Type="http://schemas.openxmlformats.org/officeDocument/2006/relationships/slide" Target="slides/slide403.xml"/><Relationship Id="rId417" Type="http://schemas.openxmlformats.org/officeDocument/2006/relationships/slide" Target="slides/slide404.xml"/><Relationship Id="rId418" Type="http://schemas.openxmlformats.org/officeDocument/2006/relationships/slide" Target="slides/slide405.xml"/><Relationship Id="rId419" Type="http://schemas.openxmlformats.org/officeDocument/2006/relationships/slide" Target="slides/slide406.xml"/><Relationship Id="rId420" Type="http://schemas.openxmlformats.org/officeDocument/2006/relationships/slide" Target="slides/slide407.xml"/><Relationship Id="rId4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747-8D32-4F61-95D6-25639712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9E1-91ED-490D-BFB0-AB6B7D35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24392-BD0D-4BB1-9909-A255EFD5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DFFC4-C78E-4D85-90B4-7511942B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C3130-1D9D-4F66-89CD-C911D34F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6267D-60E9-4E37-BDE9-8A8AAD5C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DAD2C-8269-46A8-AFAA-02890D2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C974A-BA16-4294-B27A-901D50B1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436D0-F308-4990-8044-0DA0CDB2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D8D0C-DA61-41A8-816F-B8E68E74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CCF6B-5FAE-4BE0-865F-777170AF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633BA-D028-41B6-BC25-458C257F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599-29DD-40C2-9140-D95A90A5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C731E-E989-4801-809D-4271BB26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B31DD-93A8-45B6-A463-FC1B733D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32731-00CE-4F06-9313-C2FAB8B3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3C75C-A12E-4E5F-BAAF-3F0A9753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919D8-390B-4BB1-B88C-6E374C3C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53BEC-DA84-4703-87C8-DD0384EC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A3A3F-6623-4F2D-AF7E-91F8673B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75E35-4AE4-4B03-8A90-D4DED1C7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373D7-B6F6-4E50-94A7-22E7AE71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BAFDA-9114-4467-B965-D42DB022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979-E1CF-4FD4-A16D-527DFEBD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35863-742D-4C41-91E8-23F2F52D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61F22-75E1-4B91-9D24-8CB0B2CC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A2249-9CF7-4E6A-A2AB-52B7B477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600FB-6AE0-4DC9-819B-89586D8C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7DD56-9E23-4A00-A307-DA5D0D2A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A6F54-FF1B-49F8-862D-341FCAB8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F2480-021B-4A3D-B6F1-BEA86487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BE75A-9FC1-453B-9E1A-26117DE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EC26C-6D01-49C5-9B9D-B464F5E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9C7D9-3A88-4806-A052-32B1F9FA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BC87-296E-47AD-BEAE-A0AF99E5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F1D1B-6177-42D5-846B-193AF62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1E924-8A9F-4D27-A095-D8ACB9F8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03336-80B4-4890-A0D1-8288D2E0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B2A75-2DB8-4817-972A-0EF61161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3064B-BC08-4871-AD32-13B989C8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844F9-8BF1-4273-8A6A-634BD99E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D824D-14CA-4F3E-B8D7-5D712E44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5A7BB-B778-44B7-A138-230DAB32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13C98-3AEA-4148-BEAF-8DB8188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97AE7-8F60-460D-AF66-E64A39ED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4AE9-7370-4B95-AA51-2DE77AF0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9EA03-3FBF-48EA-8731-D5C0139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FB663-4948-45D1-ABFA-27E59C65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F8CB9-EDE3-4BA7-A3DA-3A634368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8662E-AEA1-4816-AE0C-74BCA3F6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991E2-64DC-43BD-BB34-5E7C8B90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1072-0FEF-4E62-A0A8-258EF05A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B8BE-550E-4E11-85FC-50B39117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E879-6507-4D63-A5FD-5245CB24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5E4D-9781-4D1B-A16C-818DF0CA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CA6E-1BF4-4CE3-A353-246C028F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D97-1CC4-4E88-B085-51FA3F91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A662-8448-4346-A7F2-77034D84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712A-8374-4F14-9306-5639595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BA68-5827-4E07-93F9-AF0B25F8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407E-D6D4-43ED-B106-ED8E2526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5EA0-A4D7-4AC8-9925-2436FEC6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95F4-F148-41D3-9BE0-ACE052B3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71E0-D127-4336-A65C-F324EB9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336C-4250-4211-BAE2-45B32F73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A89F9-1DE0-49FF-B8FB-BA6A5A53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30A8-884B-447D-B7DA-FADD9726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ABE-FF2A-4482-B2BA-9911F5F9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869E8-880B-4522-A5C9-AEB45143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6852-E87C-4319-A62D-C45C7831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A8E1-28B0-4CEC-A651-DFA98C90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101B-714A-42F9-94A0-AD6F70F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5773-7F0A-4070-84DA-40D4E116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17C5-5D2B-42A8-A2EC-BCC6599F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C8F9-CDC1-4851-9B15-A86FDF5B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8869B-7DFD-4714-8B6B-A25F1403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0364-4A9B-4859-95F7-7B6DE5F1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A508-A68C-49A9-8670-60030BE5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C34-C7E6-4D3D-8A66-83458BDE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A1E5-33C5-42F1-85EA-0592B6A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D7A7-9B86-41C7-AE9A-F01BF0BB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4AAA-663D-4446-B42F-61451E84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88A8-DB39-42AA-9E4F-B8592B9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B952-3A20-4649-8395-C79F00A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AD321-360E-43DB-8319-3E997CF9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24B1B-3D84-4449-BDB0-1C24E75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00F9-846B-4EE1-8EAA-D6FC1343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17C50-E7F0-400F-BD8C-089D8739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B6781-A28A-4140-893B-10F63A62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477-1816-43F2-A1CD-5ED6040F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CD4A-115A-43C3-8D99-B4754724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20B8A-2A75-4BC0-A7DB-93DDA582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D16A6-DACB-4DD6-A62D-48739EF9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F765-4417-4F17-93E2-9F4FA861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9C59E-E5B8-46D6-BA05-8B8DAA76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D71B-82A8-42C4-83C7-041D4BD0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80FC1-3449-4BE8-AC50-B55B07E0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CFC6-13E3-46CF-87AF-3F80460A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90D2F-853C-4985-805B-F965921F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942C8-D662-45E0-AF21-FE3AFEBB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A90-85A6-452C-AB87-D9E0F00D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95994-5F13-434B-90E5-89E67D98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0DD1-2319-4BA9-A6DD-3C778BBD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DAF29-1E1D-4850-9A78-7C642524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CCB23-15A2-4C3B-9ECF-A32274B9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2017-B2BE-4160-9005-AED32B75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E1D41-C9D1-41F1-B757-4F52BB77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AF75F-24E1-470C-A462-7933E684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EF874-407A-48B9-8F6D-D5B2B6E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F925B-436F-4E97-85F6-40D5BC29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4366-2E9C-4AD2-9284-67C81A56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4F4-B920-4B32-B79E-A34050F8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6F25C-A7D8-4D38-9AF1-2EF7D12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DE73B-CEE6-414C-96C5-69CCAAF5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D00C5-9230-4E0F-9A3E-90D060BB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F7CB6-8076-4586-844B-4956A5AB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D8BF-C4D3-49F5-89B4-FCA3652E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1C692-5EEE-418E-B3D9-A7D31540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C7B43-0A7C-4CF6-9378-F22A42AB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DCE58-2536-4E12-AAE3-2756512B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B47AA-16AA-4790-B19E-0572B238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6A96-930C-4D82-92AA-6819B05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002-4234-4E68-96AA-2088D727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7F6F7-E044-4D16-AB3E-1C288289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DD79C-607B-4950-9393-D352C49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71513-81CC-4EE1-A66D-C6F194E1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D0394-111F-412A-AB0F-6EB3E267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F2D1-5690-4C75-8C82-F1A317ED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FE0D-3040-45D0-B548-E774A2DA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F6737-26FE-46ED-B649-85AEBA5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17FC0-2B2B-4131-AE19-D5A0A8D3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6B2DC-5C02-4851-8116-D3213422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7F04A-F5BF-447C-BDBA-7A11B2B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ECF-2C14-48E0-A1CF-7EC386B6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661A5-BF70-409D-BB22-94474880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E77D9-4C89-4AA6-92EE-10B27653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7D0E0-445C-4AC6-B600-FECD4B6F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A95E3-7987-4902-851D-66B224EA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B318C-A68A-4FE8-8924-76E3959F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63F83-0194-403D-B036-BD792686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CE0B-9F02-47A3-A7D9-0277F3F8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46C50-BB1B-4F02-B62B-780A12CA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9F91B-4D2B-425D-B9A8-2937F543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B183C-838C-47B4-8D85-B4E86FE8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91EF-D49E-40F5-A82A-740419CCCB1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C6DA-5174-4D9C-B9FD-3BA384ADD37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90BF-B605-464D-891E-DD0ACD358CB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4DEB-8317-45D7-89C8-533C86F16EE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6107-5AA7-4830-9598-4D1E7D5BB8E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3779-9FD7-43F6-AA6D-3A46C2C09510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6C06-AA2B-4BBE-BEF7-7A3186B9DF4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A887-5F01-4B43-861B-121B7876112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C507-BB7C-4A56-9839-5B93773F3E7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E3E0-2FFD-4F51-8CBA-25A07E508FF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F940-F4A9-4B5A-9215-19ED16C0AF8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28BB-1809-4F44-AFBE-56C96CEBE83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403280" y="1628640"/>
            <a:ext cx="647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 يستطيع الرب ب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هي رفع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90720" y="2733840"/>
            <a:ext cx="7086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ي ويا أم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ي م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نّي الخطا صدر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371600" y="2733840"/>
            <a:ext cx="66294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نجمةَ الصبحِ شعّ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ـي معابدِنـ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نوّري عقلَ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سّمْعَ والبصر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يا رب رحما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523880" y="190512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هو ابنُكَ دوم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كفِّرُ عنّ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فدا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وعٍ عج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676520" y="205740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ا قد تجسّ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طوعاً وأجر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هُ الزكيّة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وقَ الصّ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يفيض قل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ُحَلَّ قيودُ الظُلمِ ويُطْلَقَ الـمنسحقونَ أحرار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فْرُشَ للجائعِ خُبْزَ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تُدخِلَ الـمسكينَ الطريدَ بيتَ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2844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 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رى العُريانَ الطريد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تكسُوَهُ، ولا تتهرّ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مساعدةِ قريبـِ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سكَبتَ لُقمَتَكَ للجائِ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بَّيتَ حاجةَ البائسين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ُشرِقُ في الظلمَةِ نورُ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الظُهرِ تكونُ لياليكَ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295280" y="134136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وم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حبات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وادعات... تزهو جنّات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ليلِ العاتي الأمواج.. يعلو سراج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ّ القلبَ الـملق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الأحزان... يلقى الحنان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ي ايم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شعارُ فداءِ العالمْ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ه الفرحُ، وفيه الحقّ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فيه سلامُ القلب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ريحِ الهوجاءِ شفاه... تتلو الصلا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فـي صمتِ الكو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ـمُقفلِ... من يصغي ل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ي إذ ترنو عينايَ ل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صفو الأضو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ألح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كلّي إيمان... 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سي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خبزُ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أتني لا يَجُعْ أبد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يؤمن 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يعطش أبد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جسدي طعام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ي شراب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كل جسدي وشرب د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قام فـيّ وأنا في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ما أكلتم هذا الخبز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شربتم من هذه الكأس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خبرونَ بموتِ الرب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ن يعود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295280" y="9079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لي بأن تكتب أقوالي</a:t>
            </a:r>
            <a:br>
              <a:rPr sz="14200"/>
            </a:b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9144000" cy="13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أن تُكتَب أقوال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ْ تُنقَش في الصخرِ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لى الأبدِ إلى الأبدِ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إني كلّما تذكّرتُ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رتعتُ وأخذَ جسمي الارتعاش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93600"/>
            <a:ext cx="914400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َّ 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9144000" cy="140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 أنَّ فاديَّ حيّ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 وسيقومُ آخر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تُراب وبعد ذل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لبَسُ هذه الأعضاءُ بجلد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93600"/>
            <a:ext cx="9144000" cy="12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بجسدي أُعايِنُ الله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أنا أُعايِنه بنفس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عينايَ تريانه لا غيري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وش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ـي الأعا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سم الر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143000" y="160020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طرق أورشل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طُرُقُ أورشليمَ نائِحَة.. لعدمِ القادمينَ إلى الأعيادْ.. وجميعُ أبوابها متهدّمَهْ.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هذا جسدُكَ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دمُكَ الطاهرُ فاغس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اغسل يا ربِّ خطايا العالَ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لتَحيَ بروحِكَ أنفسُن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400" spc="-1" strike="noStrike">
                <a:solidFill>
                  <a:srgbClr val="ffffff"/>
                </a:solidFill>
                <a:latin typeface="Tahoma"/>
                <a:cs typeface="Akhbar MT"/>
              </a:rPr>
              <a:t>كهنتُها مُتنهّدون وعذاراها متحسِّرات وهي في مرارةٍ.</a:t>
            </a:r>
            <a:endParaRPr b="0" lang="en-US" sz="10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ea typeface="Akhbar MT"/>
              </a:rPr>
              <a:t> الربُ صالحٌ للذينَ ينتظرونَهُ للنفسِ التي تلتمسَهُ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خيرٌ أن يُنتظَر خلاصُ الربِ بسكوتٍ لأن السيّدَ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لا يُقصي إلى الأبد. 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فإنه ولو أَعْنَت، يَرحَمُ بحسبِ كثرةِ رأفتهِ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عيني تقطُرُ ولا تسكُت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لأنه لا قرارَ لي إلى أن يطلعَ وينظُرَ الربُ من السماء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عوتُ باسمكَ يا رب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ع صوتي لا تحجُبْ أُذنَكَ عن استغاث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قتربْ يومَ أدعو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ذا هو اليو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10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بّ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لنفرح ونتهلَّل به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قُم الل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تشتّت جميع أعدائ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يهرُب مُبغضوه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َبيدوا كما يُبَدَّد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دخان وكما يذوب الشمع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هِ الن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ذلك يهلك الخطأ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الصدِّيقون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سروري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لوي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لاكُ اللامِعُ عندَ القبر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لَ لحاملاتِ الطيب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ـماذا تَمزُجْنَ الطُيوبَ بالدموعْ باكياتٍ وراثيات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نظرنَ اللحد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فرحنَ لأنَّ الـمخلِّص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قاً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ديش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سجُدُ للآب ولابنهِ ولروحِ قُدْسِهِ ثالوثاً مقدّساً بجوهرٍ واحدٍ صارخينَ معَ السرافيمْ قدّوسٌ أنتَ ياربْ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بقيومت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َقْيومْتِه دْمَلْك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شِيحُو نِسَبْ حوسوي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َفْشوتَنْ بْهَيْمْنوتُ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شْررُوا نِيمَارْحُول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َوُييتْ لَبْرُودْفَرْ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َصْليبِهِ بْرِيخْ فُرُو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بْخول فينيو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َوْرِبْ دُخْرو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يولِدْتِهْ وَدْقاديشِهْ وَدْعانيدِيه مْهَيمِنيهْ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َيْلَوتُو دَشْمايو قُويْم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امَنْ بْغاوُبتْ قودْشُوا وَمْزايْحِينْ لِيهْ لفاغْرُو دْبَر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وهو دَدْبيحْ قُودْمَ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ْرُوبْ سَابْ مِينِه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حُوسوي حَاوْبهْ وَحْطُوهِيهْ هللوي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 قاديش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 مور / قُعْيوعيدتو / بريخو دْيَبْلي / فَغْرِه وَدْمه دتحاسِ بـِه.</a:t>
            </a:r>
            <a:r>
              <a:rPr b="1" lang="ar-SA" sz="9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َالْ مَدْبْحُوخْ مُورْ نِتْدَخْرُونْ أَبُوهَيْنْ واحَينْ وْرَبُونَيْنْ وَنْقُومُونْ مِنْ يَامينُوخْ بْيَومُو دّنْحُو رَابُوتُوخْ مَلْكُو مْشِيحُو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كنيس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لكنيسة.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قراء، بسطاء، ومساك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ذّبت فيهم، ملوكٌ وسلاطين.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افَ صوتُ الله: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م، حيثُ كنتُم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كُم الأرضَ، فثوروا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لتكن رايتكم عبر السنين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م يكن بعدُ لنا فوقَ تلّ من تلالِ الأرضِ بيت، وأتيت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اً جاء يبني، فبنى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 الصباح، نهتف: الله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في عمق الظلام، فلتكن أمّ الجراح، وعلى الأرض السلام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ما الشرُّ ليلٌ لا يُردّ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طغى كلّ قويّ، والمجاذيفُ سُدى في الموج، والأفق شقي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أظلمت الدنيا، وعمَّ الأرض حقد، فلتقاتل، في سبيلِ الشمس، والأطفال، والعدل، وميلاد السنابل.. أَلكنيسة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رب راع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يَبلن فغره / ودمه حايو دِنْتحاسي به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11592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ردّ نفسي ويهدين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ى سبل البرّ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 اسمه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ي ولو سلكت في وادي ظلال الموت لا أخاف سوء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أنّك مع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صاكَ وعكّازك هما يعزيّان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26028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جودة والرحمة تتبعانني جميع أيام حياتي وسكناي في بيت الربّ طول الأيام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قربانِ أعطِ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ُ أن نلقا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ودشُخ نِهوِا مِتكَشْفنُو / بْدينو حْلُفَيْن قْدُم هُوي بيما /دْمَلْيُو دِحلو وعَزيزوت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 نحنُ بن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 نرجوكِ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نا القيامة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 آمن ب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حيا وإن م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حن الذين لنا باكورةُ الروح، نئنُّ منتظرين التبنّي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فتداءَ أجسادِن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ذا كان أحد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ـ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و خلقٌ جديد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 يصنع العجائ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ن طلبتُ تكري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جيب الطلبَ؟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ْشُتْيو مِنِه/ عيدتو ويَلْديه وزُمرين شوبح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479600" y="162576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للويا افرح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18900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ضوءِ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فليكن اسم الربِّ مباركاً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آ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بدِ الآبد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ّ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عالَوا نُسَرّ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نفرح في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لا يومَ مثله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ا قبل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لا بعد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 العظ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كلي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جما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عود والكن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بوقِ والقيث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836640"/>
            <a:ext cx="9144000" cy="10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52280" y="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بِل مورَنْ بَحْنُنُخْ 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سُوغودَيْك قُوربُنا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حوس بْطَيْبوتُخ ألوهَن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َلْ نَفشوتو دعانيدِه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من مشرق الشمس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إلـى مغربه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كل التسبي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9144000" cy="70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عبك يا رب يسبح اس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 القوات تسجد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ملائكة تعظ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 الطري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حّدنا دوماً ب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نعمل مشيئت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الأعماق نصرخ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نحبّك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ربي عظيم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ربي عظيمةٌ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أعمالِكَ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َنا القدي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و قوربونو إِتْقاراب/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ْهُو نَفْشوتو مِتْدَخْرُن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نِهْوِ به نْيُوحُو لـمِيتِه دَحْلُفِيهون إتقاراب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عدلٌ وحقٌ كل أحكام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أن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لك الدهو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0" y="0"/>
            <a:ext cx="9144000" cy="12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مجد اسم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يارب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خاف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قدس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 الشعوب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نحني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أن مجدك سيُرى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هللويا 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آم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826920" y="1052640"/>
            <a:ext cx="7596360" cy="43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وذ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الخلاص واف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9144000" cy="9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بِّي أنتَ مُنقذ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مَلجأ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ـِكَ اعتَصَمتُ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ي يَتوقُ للقيامَةِ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ْ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قبَلْ رَجائ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قوربونو هُون دِاتقاراب/ من حَايو حْلُفْ عانيدِه/ متحاسيه عَوْلوه دْنَفشو/ وْمِشْتَبْقين لُو بوصور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ي، يا قوَّتي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رَفَعتَ نف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ماء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كَ أُشيدُ يا فاديَّ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الحيّ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َدَى الدُّهورِ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صلاتك م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صلاتُكِ مع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أطهرَ العب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وني عَون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سبَ المُعت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وذا حالُ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لتَلَفِ أشرَف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رحمينا 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ريئةً من الفس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بتولُ صلِّ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لأجل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ئلاّ نهلِ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قِبَل شرِّ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إيماني ساطع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هما تأخر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وما بيضيع اللي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عا غفله بيوصَل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ن قلب</a:t>
            </a:r>
            <a:r>
              <a:rPr b="1" lang="ar-LB" sz="8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الضوّ من خَلف الغيم، 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وما حدا بيعرف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هَللي جايي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كيف بيبقى جايي. 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َاو دَقْرو لِه لْلْعُزُر/ وْلَعْليَموْ بْرُ دَرْمَلْتو هو نِروس طالو دْرَحْمه عَلْ غَرْمَيْهون دْعَانيد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28600" y="152280"/>
            <a:ext cx="8915400" cy="11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ا إيماني الفرح الوسيع ومن خلف العواصف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جايي الربيع</a:t>
            </a:r>
            <a:r>
              <a:rPr b="1" lang="ar-LB" sz="10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28600" y="162000"/>
            <a:ext cx="8915400" cy="131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ذا كبـرت أحزاني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ونسيني العمر التاني،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نتَ اللي ما بتنساني.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258920" y="184464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بيتي أنا بيت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بيتي أنا ب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ما إلي حدا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من كتر ما نادَ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ـمدى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وريشلِمْ دَلْعِلْ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َبْعيدتو ديت عَلْ أرْعو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عَلْ مَدِبْحو بْرومَو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ِهوِى دوخرونُو طُبُو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نطرتك عَ ب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عَ كلّ البواب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كتبتلّك عذ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عَ شمس الغياب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ما إلى غيرك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نساني. 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لدي صارت منفى، طرقاتي غطّاها الشوك والأعشاب  البريّه، ابعتلي بهالليل من عندك حدا يطلّ علي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شمس الـمساك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أرض الخوف من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إيام المظلوم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لفتات الموعود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م ا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خلّي يدوّي صوتك عليّ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أنا عالوعد وقلبي طاير، صوبك غنيّه.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539640" y="2060640"/>
            <a:ext cx="8209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زهرة من زهور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ركني ساع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دمع بتزرع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 بتحص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539640" y="2049480"/>
            <a:ext cx="7993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دلك فاض علي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رمك ضوّا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كلّن نسيو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حدك ما بتنسا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11280" y="1916280"/>
            <a:ext cx="7848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اديتك من حز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 إنك مع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ْسعي يا مطار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 اركع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فلنحمل ما دام نه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ِمرِه دالوهو وْرُعْيو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ْمِيت مِطولْ عُونِه ْعبدْ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ُورْ بطيبوتُخْ نيُحُو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عنيدِهْ مْهَيمِن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شربنا كأس الآلا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أزحنا حجرَ القبر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صرنا أحراراً كالنسمة أطهاراً كدموع الفجر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بسنا درعَ الإيمان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ورفعنا علمَ الحبّ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نعلنَ من قلبِ الظلمة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نور خلاصِ الانسا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908000" y="0"/>
            <a:ext cx="5410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Tahoma"/>
              </a:rPr>
              <a:t>يا أم الل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له يا حنونة يا كنز الرحمة المعونة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تِ ملجانا عليكِ رج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تشفّعي في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يا عذراء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تحنّني على موتا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إن كانَ جسمُك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بعيداً منّ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يتها البتولُ أمُّ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صلواتُكِ هي تَصحبُنا وتكونُ معَنا وتَحفظُ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فَغْروخ صَهْيُوي نَفْشْ دِقْروب صيدَاوْ دُحِلنُو حَوْباي مْزِيعينْ لِي بَحْنُونُخْ مُورْ نِتْحاس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جاهِ من شرّفكِ على العالـمين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ين ظهر منكِ ظهوراً مبين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طلبي منه للخاطئين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الـمراحم</a:t>
            </a:r>
            <a:r>
              <a:rPr b="1" lang="ar-LB" sz="11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لدهر الداهرين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أمُّنا ورجانا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فخرُنا ومَلجانا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عندَ ابنك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إشفعي في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يغفر برأفتِهِ خطاي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ا يا حنونة يا مملوءة كلّ نعمة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بل خلِّصي عبيدَكِ أجمعينْ لنشكُرَكِ لدهرِ الداهري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حبك يا مري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1476360" y="0"/>
            <a:ext cx="622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بّك يا مري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غاية الـمنى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معظّم كوني أمنّا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928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بنك اوص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نا في الصليب أعطانا إي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شخص الحبي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دُوتُو لْعِلُوِيه وسَبْرو طُبُو لْتَحْتُويه بقوربونو دْعُبْدينْ حايِه حْلُوفْ عَانِيدَيْه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40328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25892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الأمّ الحن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كِ نستع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ظهري الـمع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كِ للبن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Tahoma"/>
              </a:rPr>
              <a:t>مجد مر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1844640"/>
            <a:ext cx="90676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د رآها واصطف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ربُّ كلِّ العالـمين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وقاها مُذ بر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َ محذورٍ يش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-250920" y="2036880"/>
            <a:ext cx="93949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ي رجاكُم في شقاك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اسمعوا يا خاطئين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ا تخافوا أن توافو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حماها طالب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700" spc="-1" strike="noStrike">
                <a:solidFill>
                  <a:srgbClr val="ffffff"/>
                </a:solidFill>
                <a:latin typeface="Tahoma"/>
                <a:ea typeface="Tahoma"/>
              </a:rPr>
              <a:t>Viens Esprit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838080" y="1371600"/>
            <a:ext cx="7162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طوبى للساع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يا روح الآب، كُن نور دربي أنِرْ السماوات من بهاء مجدك العظ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أيها النور السماوي، يا نبع الحياة قوّي قلوبنا واشفِ أجساد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روح البهجة، يا فرح الكنيسة أعطِ القلوب أن ترنِّم لحن الحن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راحل يا ربيع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َحْ اقطف زهرة من كلّ سياج واعملّك بكرا من الزنبق ت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دِنيي حاج تودّي امو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كلامو بيفنى ولا بيز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ين بدّو يج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يقود الرسالة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المعلّم 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لا حكمو الغوال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ريتك عم تس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أول ترج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البحيرة توعظ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تحت الشجر نتج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رسل 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1989000"/>
            <a:ext cx="914400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ـمياه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191628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إن الروحَ يشهد مع أرواحنا بأننا أبناء الله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لامُ اللهِ يحفَظ قلوبَ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فكارَكم بالـمسيح يسوع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لامُ لكم جميعاً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مُ الذينَ في الـمسيح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300" spc="-1" strike="noStrike">
                <a:solidFill>
                  <a:srgbClr val="ffffff"/>
                </a:solidFill>
                <a:latin typeface="Tahoma"/>
                <a:cs typeface="Tahoma"/>
              </a:rPr>
              <a:t>الروح يجمع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-144540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ماءُ ما صار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طحينُ خبز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أصبحنا سكنى الله</a:t>
            </a:r>
            <a:r>
              <a:rPr b="1" lang="ar-LB" sz="96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-128196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زيت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سراجُ نو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فرش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و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-181872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حبُ ما ك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قلبُ حي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عرف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ُبّ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-171108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نور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وردُ عط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نثر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عط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قلبا فا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ُرضي جل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َ يسوع المج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57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عودُ إن رأى جم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ِن هذه الدنيا سَ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نزي خيري حظِّي حياتي مجدي أيا بحرَ الصل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716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اقَت نفسي إليكَ تأ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َبها من حِلمِك السما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0" y="189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قبَلني في قلبك الزاه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مُنقِذي كي أستريح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ملك أنتَ في قلبي الواهي واجعلُهُ بالحبِ جري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وقام إيليا كالنار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ليصفح بعضُكم عن بعضٍ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كما صفحَ اللهُ عنكم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سيح.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547640" y="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24000" y="149400"/>
            <a:ext cx="8820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يها الذي استدعاك الربّ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ى جبلِ الكرمل للصلاةْ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 الذي أقمت ميتاً من المو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جحيم بكلامِ العليّ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547640" y="7632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0" y="187308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عليَّ لأنهُ مسَحَني لأُبَشِّرَ المساكين أرسلني لأشفي منكسري القلوب لأُنادي للأسرى بالحرية للعميان بعودةِ البصرِ إليهم لأُحَرِّر المظلوم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835280" y="0"/>
            <a:ext cx="62658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هلم إيل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835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0" y="2592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كبت علينا ايليا الن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اتِ الرغيفَ وزيتَ اله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نحيا لحبِّ السما والفد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619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صرفتِ صيدا قتلت الأث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ى ما عملت لتحيي الرم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ترفعَ عرشَ الإلهِ العظيم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69236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103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ينادون بعلاً، تناجي الإله، تقول: أنا أرتوي برؤاه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باركُ ما قدسته يداه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835280" y="7632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عطيني الكل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صلا تَ لاقيك قبالي وإركع على دراج السم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وفا تَ وافيك بحالي واعطيني العطا ل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هادي العطا للقلوب العالي أعطيني الطفوله، الحن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واعطيني السلام لِوطني الغالي واعطي للّي راحوا الأم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لحمد والشكر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العالم جائ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 يَحفظ وصاياك ويعتصمُ في ظلِّ جَناحي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ثمر بالبرّ والقداس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في ملكوتك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0"/>
            <a:ext cx="9144000" cy="163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يتقونك لا يبرحون يسبّحونك لا يجوعون لا يعطشون من نبع الحياة يرتوون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أتوا من الضيقِ يلوّحون بأغصان النخيل بدمِ الحمل غسلوا حلله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 يحلّ فوقهم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جائع وخُبزُ ا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خُبزُ الحياة خُبزُ سلامِ الأرضِ فخذوا عن مائدتي الخبز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أكلَ العال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شو حلوه السم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شبّه يا ابني بال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عن إيمانك أوعى تز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امشي عا الدرب الصح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جم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زراع الكلمه بشج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خدوم الإخوه بود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0"/>
            <a:ext cx="9144000" cy="10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الأسرار وبإيمانك لا تحت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را إنجيلك باستمر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رب استعملني لسلا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-324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، إستعملني لسلامِكَ فأضع الحبَّ حيثُ البُغض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ـمغفرةَ حيثُ الإساءَ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اتفاقَ حيثُ الخلاف، 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0" y="3129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حقيقةَ حيثُ الضلال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إيمانَ حيثُ الشكّ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َ حيثُ اليأس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0" y="182736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نورَ حيثُ الظلم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فرحَ حيثُ الكآبة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 استعملني لسلام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الرب هو ا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عبدِ الربّ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ِ والحمد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هتفنَّ 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رفعِ الأيد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غنّوا ورنّم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أعذبِ الألحا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لأيدي صفّق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سيّدِ الأكوان 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سمِ إلهـِن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نرفعُ الراي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وبخلاصِ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علو الترنيم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15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عُريان والأرضُ غني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َ الإنسانْ سرقوا منهُ الثوب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رقوا الحبَ.. فخذوا ثوب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وبَ الحقِ ليَلبَسَ العالَ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ea typeface="Tahoma"/>
              </a:rPr>
              <a:t> يا خبز الحيا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0" y="2131920"/>
            <a:ext cx="914400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يُّها التائبون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لمّوا باحتر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قتبلوا الإ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هي رجائ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عيمي نعم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ذّتي الـمبتغ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سماء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ُنْ لي قوت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دهرِ الدهو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755640" y="1916280"/>
            <a:ext cx="75963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لإلهنا النصر والمج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سبحوا إلهَ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جميعَ العبا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لذين يتّقونَ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صغار وكب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مدعوّين إلى وليمة العرس لنفرح ونبتهج هللويا و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الربُّ القويُّ ال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52280" y="-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قدّوسٌ أيها الربُّ القويُّ 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52280" y="-7632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ذي أ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وف يأ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عل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قدّس ذا الجسد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ع ضعفِهِ وإثم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ه يحلّ للمد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عرفت بأن قد تعثر در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َ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خبر فمي بمجدك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رتّلَ فمي تسبيحَ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ِ والابن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835280" y="1667880"/>
            <a:ext cx="579600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إذهبوا في الأرض كل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-4848480"/>
            <a:ext cx="9144000" cy="165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ُضئ نورُكم للناس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مجّدوا أباكُمُ الذ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سماوات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-3634920"/>
            <a:ext cx="9144000" cy="14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يكونَّنَ عليكم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حدٍ دينٌ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اّ حُبُّ بعضِكُم لبعض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295200"/>
            <a:ext cx="9144000" cy="10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هبتُ الطريقَ أسائلُ عن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بحيرةِ ضعفي وأوهام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معتُ الخليقةَ تُنشِدُ لحن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لقلبي فتنعش إيمان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َلَت لي الإقامة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اخلَ بيت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</a:t>
            </a:r>
            <a:r>
              <a:rPr b="1" lang="ar-LB" sz="90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8568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شجاني أنينُ اليتيم يضيعُ بصخبِ الحياة ولا من يجيب رأيت عيونَ الشريدِ تتيهُ وشمسُ المحبةِ عنهُ تغيب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أشرِقْ عليّ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أنوارِ وجهِ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8568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غبت عنِّي شردتُ بذاتي غرقتُ بحزني دهاني الضجر وإن كنت فيَّ حييتُ فرحتُ نثرتُ الطيوبَ فرشتُ الزهر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الحياة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بقرب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توبوا إلى الرب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9144000" cy="134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هَبْ من حنانِكَ قطر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يتحوَّلُ القفر وعود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أو أعطي عيني دمع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في حوضها طفلاً أعود.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عمقِ آثامي دع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نصِت إلـى صوتِ دُع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غيرَ وجهِك ما رج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لقاهُ مأدبةُ رجا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شغل مواه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قدّساً عواطف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مجدِ من أحبّ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1522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إذا استبدَّ بيَ الخج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 أبكمَ العارُ ف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بضاتُ حبِّكَ فلْتزَ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تى النهايةِ في دم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يا أبانا لس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أدر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بانا لستُ أد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َ كان عمري ي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ونَ أن أدركَ أ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أب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ي الآن ابن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ترعاني بحبِّ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لن أخافَ أبداً لأنّ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مسك يمين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914400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أسبِّح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هتفُ 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أب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لك ل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مت مر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مت مريم بنتُ دا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ذاء الع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ندب إبنَها الـمصلو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أيدي الجن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محُ الحزنِ غائص في نفس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ألَـمِهِ غابت عن حسِّ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ّ فاقتِ الوال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احت آه يا ولدا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بيبي حبي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خاط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أراك عري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دبَك يا إ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جاعك حرقت اكب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آلامك خرقت فؤ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تحيا والد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بعدَ مو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زّ أم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ثمرثها الفر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حيد أبي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ورته الـمج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فتراقك كسكين جرح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عذابك كحربة طعن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ح لي أموت قب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ظر احوال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رة احش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حال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ؤك ت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لضربات بك حال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رثي لحالي من جر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مزج دمائي بدم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لوبٌ في الص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مُّك تزيد في النح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كلو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جسمك الط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بدلت حُس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مالك الز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هاءُ وجهك تغيّر بالإصفر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وعك تذرف كالأمط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سراتك أذاب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ذاباتك أوهت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تَ الآبِ الأكر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روس الرو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قدوسِ الأعظ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شركينا بآلام فاد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زيّنينا بنعمة بار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نخدمَكِ على الدوا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دى الساعاتِ والأيام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باركَ في خدمَ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كرّساً لمجد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له بجُمل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عطش الأرو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َ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رب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ينك تحم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غنينا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نيم الأنه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لحنك نغم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شراق الأنو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وجهك بسم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هدوء الهياك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ضحيح الـمعامل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ك يحي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مرك يرو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 يعط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اً وحيا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ك يدعو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فوك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شكراً يا يسوع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219320" y="1600200"/>
            <a:ext cx="64767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إلى الله صو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أَصرخ إل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صيح ل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دي في الليل انبسطت ولم تكل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د أبت نفسي أن تتعزى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الـماضي فأَقلقُ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امل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غشى على روح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-7632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كّرتُ فـي الأيام القديمة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سنين الدهرية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ترنيمي في الل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أملُ بقلبي وروحي يبحث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َدى الدهور يقصي السّيد؟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يعود يرضى من بع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على الدوام انقضت رحمته،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نقطعت كلمت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جيل فج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رى نسيَ الله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 حبس على الغضب أحشاءه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ريم البكر فق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676520" y="2962440"/>
            <a:ext cx="5867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مريمُ البكرُ فقت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شمسَ والقمر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كلَّ نجمٍ بأفلاك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ماءِ سر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09:03:08Z</dcterms:created>
  <dc:creator>-</dc:creator>
  <dc:description/>
  <dc:language>en-US</dc:language>
  <cp:lastModifiedBy>-</cp:lastModifiedBy>
  <dcterms:modified xsi:type="dcterms:W3CDTF">2003-01-07T14:49:30Z</dcterms:modified>
  <cp:revision>62</cp:revision>
  <dc:subject>Chants religieux</dc:subject>
  <dc:title>PowerPoint Presentation</dc:title>
</cp:coreProperties>
</file>