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C7B8-D938-47A2-A0CD-221F1753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6B7-DBD2-4B11-B161-3E1AFA8B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EDC-B416-4BB6-9661-BA0085D2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45C-8A17-4FD3-A342-65004173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FA5-ED58-4E29-B24C-EC4D625C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B60B-B0B0-4F15-BCF6-EF9539BA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5243-B64D-4843-A7F6-98684CCB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D63-6BDA-435B-AEEC-AE6BFA8B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D3D2-E58D-401C-BC01-9B0EB917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D58-1558-407C-9B71-FF35E7AB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9F0-8778-4B16-BFFF-5D335823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AE57-576D-42B2-BADC-FDD83373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2817-20B1-41A7-AC8C-4D3AC3A74F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852640"/>
            <a:ext cx="56516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Arial"/>
                <a:cs typeface="????Boutros Rokaa"/>
              </a:rPr>
              <a:t>طلبة قلب يسوع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صلحنا وسلام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ذبيحة الخطأ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خلاص الراجين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رجاء الـمائتين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نعيم جميع القديسين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27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حمل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حامل خطايا العالم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04000" y="3357720"/>
            <a:ext cx="3240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َنصِت إل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27280" y="4437000"/>
            <a:ext cx="3240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ستجب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546880"/>
            <a:ext cx="237636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رحم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autoRev="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549360"/>
            <a:ext cx="9144000" cy="1033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كـيـريـاليسـون كريستـيـالـيســو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كـيـــريـــالــيـســو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4221000"/>
            <a:ext cx="5651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ربنا يسوع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33360"/>
            <a:ext cx="6084720" cy="667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ريـاليسـون كريستـيـالـي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ــريـــالــيــ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08720" y="5546880"/>
            <a:ext cx="3240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َنصِت إل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5546880"/>
            <a:ext cx="298764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ستجب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92280"/>
            <a:ext cx="7956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آب السماوي أ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ابنَ الله مخلِّص العال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روح القدوس ألله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 rot="16200000">
            <a:off x="-2781000" y="2781360"/>
            <a:ext cx="6858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2235240" y="5157720"/>
            <a:ext cx="14564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ثالوث القدوس الإله الواح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00000" y="4046400"/>
            <a:ext cx="70196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500" spc="-1" strike="noStrike">
                <a:solidFill>
                  <a:srgbClr val="ffffff"/>
                </a:solidFill>
                <a:latin typeface="Arial"/>
                <a:cs typeface="Akhbar MT"/>
              </a:rPr>
              <a:t>ابن الآب الأزلي</a:t>
            </a:r>
            <a:br>
              <a:rPr sz="7500"/>
            </a:br>
            <a:r>
              <a:rPr b="1" lang="ar-SA" sz="7500" spc="-1" strike="noStrike">
                <a:solidFill>
                  <a:srgbClr val="ffffff"/>
                </a:solidFill>
                <a:latin typeface="Arial"/>
                <a:cs typeface="Akhbar MT"/>
              </a:rPr>
              <a:t>المصور من الروح القدس</a:t>
            </a:r>
            <a:br>
              <a:rPr sz="7500"/>
            </a:br>
            <a:r>
              <a:rPr b="1" lang="ar-SA" sz="75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7500" spc="-1" strike="noStrike">
                <a:solidFill>
                  <a:srgbClr val="ffffff"/>
                </a:solidFill>
                <a:latin typeface="Arial"/>
                <a:cs typeface="Akhbar MT"/>
              </a:rPr>
              <a:t>في أحشاء الوالدة البتول</a:t>
            </a:r>
            <a:br>
              <a:rPr sz="7500"/>
            </a:br>
            <a:r>
              <a:rPr b="1" lang="ar-SA" sz="7500" spc="-1" strike="noStrike">
                <a:solidFill>
                  <a:srgbClr val="ffffff"/>
                </a:solidFill>
                <a:latin typeface="Arial"/>
                <a:cs typeface="Akhbar MT"/>
              </a:rPr>
              <a:t>المتحد جوهرياً بكلمة الله</a:t>
            </a:r>
            <a:br>
              <a:rPr sz="7500"/>
            </a:b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 rot="16200000">
            <a:off x="-2160360" y="2709000"/>
            <a:ext cx="5832360" cy="1511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-243000"/>
            <a:ext cx="5689440" cy="314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ذا العظمة غير المتناهية 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هيكل الله المقدس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خباء الرب العل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بيت الله وباب السماء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آتون المحبة المضطرم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نزل العدل والمحب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فعم جوداً وحب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لجة الفضائل كله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جدير بكل تسبح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لك جميع القلوب ومركزها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1655640"/>
            <a:ext cx="752472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الحاوي كل كنوز الحكمة والعلم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سكن ملء اللاهوت كله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سرور الآب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ذي من فيضه أخذنا جميع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رغبة الآكام الدهرية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طويل الأناة والكثير الرحم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غني لكل من يدعونك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نبوع الحياة والقداس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ضحية عن آثام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وسع عاراً لأجلنا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نسحق لأجل أرجاس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طيع حتى الموت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طعون بالحرب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صدر كل تعزي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حياتنا وقيامتنا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9:38:32Z</dcterms:created>
  <dc:creator>Charbel Azar</dc:creator>
  <dc:description/>
  <dc:language>en-US</dc:language>
  <cp:lastModifiedBy>-</cp:lastModifiedBy>
  <dcterms:modified xsi:type="dcterms:W3CDTF">2003-01-14T17:34:41Z</dcterms:modified>
  <cp:revision>21</cp:revision>
  <dc:subject/>
  <dc:title>كيرياليسون، كريستياليسون، كيرياليسون  يا ربنا يسوع المسيح أنصت إلينا  إستجبنا </dc:title>
</cp:coreProperties>
</file>