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F16D-ECDB-4204-9622-54A1AA5F0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0C84-8DC8-44B3-8F82-23C82D790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DCD0-A648-4825-B19B-16D9289F1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8C89-FA5B-4CD2-B03F-81A9FA207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E9E18-E21C-4BC5-9743-D064F827C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6A893-191D-4138-984D-6D96D99F1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6668C-C52D-46B1-8C2D-F46083135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B9CE2-4FA7-4AD0-9EB8-930E06F37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5249F-71DE-4022-B6DD-A58893361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3E7E7-A1C5-4751-961A-CCD0DA83C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7AA0F-FC65-4B90-AE3C-94E2C56E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773D-AE64-436E-9CE1-20598E892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16F0B-F009-461E-A22A-D932BF2C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57B13-ABE1-4DFB-81CC-501D8FFE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A7142-AA8D-45DD-958C-DEB17220D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FA2E1-A8A8-4826-838A-4D981789C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2B329-ECB5-467C-AC08-D7042E05C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68AE-CAB5-4D1F-AD57-0FE6A1CFD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866D-F805-4B46-A450-14B8AE3CC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AE71-ADBD-444E-9742-F83E1986C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1785-3437-4BE2-BE15-5091A6C96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9871-EF72-4411-90CB-D9F51B70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36DC-B0F2-42D5-840C-E6F95D0D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53EF-22D6-4D7D-B302-FB8A95AC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C1409-FAA9-4192-BD2B-F34374A9604B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59C0-22C2-44E3-9834-F13B21365BBA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5f0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600" spc="-1" strike="noStrike">
                <a:solidFill>
                  <a:srgbClr val="ffffff"/>
                </a:solidFill>
                <a:latin typeface="Times New Roman"/>
                <a:cs typeface="????Boutros Rokaa"/>
              </a:rPr>
              <a:t>طلبة مار الياس</a:t>
            </a:r>
            <a:endParaRPr b="1" lang="en-US" sz="156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5f0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 u="sng">
                <a:solidFill>
                  <a:srgbClr val="ffffff"/>
                </a:solidFill>
                <a:uFillTx/>
                <a:latin typeface="Times New Roman"/>
                <a:cs typeface="????Boutros Rokaa"/>
              </a:rPr>
              <a:t>رايةَ الحَقِّ لَنا كُنْ، إيليَّا، والمَنارْ</a:t>
            </a:r>
            <a:br>
              <a:rPr sz="8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نتَ نارٌ وإِلى اللهِ سافَرْتَ بنَارْ</a:t>
            </a:r>
            <a:br>
              <a:rPr sz="7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َعْدَ حَبْسِ الغَيثِ قَدْ باتَتِ الأرضُ قِفارْ</a:t>
            </a:r>
            <a:br>
              <a:rPr sz="7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جَفَّ أُرْدُنُّكَ لَمْ يُبْقِ للظَّامِي قِطارْ.</a:t>
            </a:r>
            <a:br>
              <a:rPr sz="7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دَلَّكَ الروحُ إلى أَيِّمٍ ذاتِ افتِقَارْ</a:t>
            </a:r>
            <a:endParaRPr b="1" lang="en-US" sz="7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5f0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 u="sng">
                <a:solidFill>
                  <a:srgbClr val="ffffff"/>
                </a:solidFill>
                <a:uFillTx/>
                <a:latin typeface="Times New Roman"/>
                <a:cs typeface="????Boutros Rokaa"/>
              </a:rPr>
              <a:t>رايةَ الحَقِّ لَنا كُنْ، إيليَّا، والمَنارْ</a:t>
            </a:r>
            <a:br>
              <a:rPr sz="8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َلَّلَتْ جَرَّتُها بكَ مَوتُ الجُوعِ ماتْ</a:t>
            </a:r>
            <a:br>
              <a:rPr sz="7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على قارُورَةِ الزَّيتِ فَاضَتْ بَرَكَاتْ</a:t>
            </a:r>
            <a:br>
              <a:rPr sz="7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زِحْتَ عَنها غَمَّها عُدْتَ للطِّفْلِ الحَياةْ</a:t>
            </a:r>
            <a:br>
              <a:rPr sz="7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حَطَّمَتْ إِيزابَلٌ أنبيَا الحَقِّ الهُداةْ</a:t>
            </a:r>
            <a:endParaRPr b="1" lang="en-US" sz="7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5f0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 u="sng">
                <a:solidFill>
                  <a:srgbClr val="ffffff"/>
                </a:solidFill>
                <a:uFillTx/>
                <a:latin typeface="Times New Roman"/>
                <a:cs typeface="????Boutros Rokaa"/>
              </a:rPr>
              <a:t>رايةَ الحَقِّ لَنا كُنْ، إيليَّا، والمَنارْ</a:t>
            </a:r>
            <a:br>
              <a:rPr sz="8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طَرَحَتْ بادِعَها رَفَعَتْ شأْنَ بَعَالْ</a:t>
            </a:r>
            <a:br>
              <a:rPr sz="7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َدُ إيليّا عَلَتْ هَدَمَتْ بُرْجَ الضَّلالْ</a:t>
            </a:r>
            <a:br>
              <a:rPr sz="7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كَرَمُ الرَّبِّ على الكَرمَلِ انصَبَّ وَسَالَ</a:t>
            </a:r>
            <a:br>
              <a:rPr sz="7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إِيليّا أضْمَرَتْ شَرَّ مَوتٍ إيزَابَالْ</a:t>
            </a:r>
            <a:endParaRPr b="1" lang="en-US" sz="7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5f0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 u="sng">
                <a:solidFill>
                  <a:srgbClr val="ffffff"/>
                </a:solidFill>
                <a:uFillTx/>
                <a:latin typeface="Times New Roman"/>
                <a:cs typeface="????Boutros Rokaa"/>
              </a:rPr>
              <a:t>رايةَ الحَقِّ لَنا كُنْ، إيليَّا، والمَنارْ</a:t>
            </a:r>
            <a:br>
              <a:rPr sz="8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ِنْ لَظَى إيزَابَلٍ كانَ حُورِيبُ المَتَاهْ</a:t>
            </a:r>
            <a:br>
              <a:rPr sz="7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نَفْخُ عَصْفٍ فيهِ لَمْ يَكُنِ الربُّ الإِلهْ</a:t>
            </a:r>
            <a:br>
              <a:rPr sz="7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سُخْطُ زِلْزَالٍ بهِ لَمْ يَكُ الربُّ الإله</a:t>
            </a:r>
            <a:br>
              <a:rPr sz="7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َزْفُ نِيرانٍ بها لَمْ يَكُ الربُّ الإِلهْ</a:t>
            </a:r>
            <a:endParaRPr b="1" lang="en-US" sz="7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5f0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 u="sng">
                <a:solidFill>
                  <a:srgbClr val="ffffff"/>
                </a:solidFill>
                <a:uFillTx/>
                <a:latin typeface="Times New Roman"/>
                <a:cs typeface="????Boutros Rokaa"/>
              </a:rPr>
              <a:t>رايةَ الحَقِّ لَنا كُنْ، إيليَّا، والمَنارْ</a:t>
            </a:r>
            <a:br>
              <a:rPr sz="8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َنَسِيمٌ كالنَّدَى فيهِ لُطْفُ اللهِ ذابْ</a:t>
            </a:r>
            <a:br>
              <a:rPr sz="7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صَوتُ حَقٍّ مُرْجِفٌ غَاصِبَ الحَقِّ أَحابْ</a:t>
            </a:r>
            <a:br>
              <a:rPr sz="7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ائِمُ الظُلْمِ هَوَى بَينَ أنيَاب الكِلابْ</a:t>
            </a:r>
            <a:endParaRPr b="1" lang="en-US" sz="7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5f0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 u="sng">
                <a:solidFill>
                  <a:srgbClr val="ffffff"/>
                </a:solidFill>
                <a:uFillTx/>
                <a:latin typeface="Times New Roman"/>
                <a:cs typeface="????Boutros Rokaa"/>
              </a:rPr>
              <a:t>رايةَ الحَقِّ لَنا كُنْ، إيليَّا، والمَنارْ</a:t>
            </a:r>
            <a:br>
              <a:rPr sz="8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رَفَّةَ الرُّوحِ على النارِ لاقَتْكَ السماءْ</a:t>
            </a:r>
            <a:br>
              <a:rPr sz="7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شاءَ لِيشَاعُ اكْتَسَى رُوحَ غَيبٍ "بالرِّدَاءْ"</a:t>
            </a:r>
            <a:br>
              <a:rPr sz="7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تَسأَلُ الربَّ لنا رُوحَ حُبٍّ وعَطَاء</a:t>
            </a:r>
            <a:endParaRPr b="1" lang="en-US" sz="7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5T11:55:33Z</dcterms:created>
  <dc:creator>Charbel Azar</dc:creator>
  <dc:description/>
  <dc:language>en-US</dc:language>
  <cp:lastModifiedBy>-</cp:lastModifiedBy>
  <dcterms:modified xsi:type="dcterms:W3CDTF">2002-12-22T16:02:41Z</dcterms:modified>
  <cp:revision>9</cp:revision>
  <dc:subject/>
  <dc:title>لأن إلى الأبد رحمته هللوا للر بّ  اعترفوا للربّ فإنّهُ صالحٌ. اعترفوا لإله الالهة وربّ الأرباب لصانع المعجزات العظام وحده والسماوات.</dc:title>
</cp:coreProperties>
</file>