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597-6EAD-489F-A57D-6707B0B5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29C-FAEB-4BB4-B526-123117D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C61-4C39-48F0-AA5B-6926673E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C85-A060-4211-BE11-80C502F9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993-8D2E-4703-A9F2-6824EF43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85B-7C73-46CE-ADDB-1E2F8C95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2B4-9B9D-4975-AECA-6BC612B8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ADA-1A97-4552-A905-05CC4FDB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EF67-5ADD-4315-A1F3-2207D21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F3D-C1A4-4B98-B88A-904A8EC4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0D0-7094-4303-B260-DFB0BA81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F5B-5813-4F77-B50F-30439FBC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8989-62B1-48B0-9FB3-86F9894855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7920"/>
            <a:ext cx="4500720" cy="95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مريم كفّي البكاء، ألـمسيح حقاً قام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77920"/>
            <a:ext cx="4500720" cy="1269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5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إنَّ المسيح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قد قام فافرحوا</a:t>
            </a:r>
            <a:br>
              <a:rPr sz="9400"/>
            </a:br>
            <a:r>
              <a:rPr b="1" lang="ar-SA" sz="9400" spc="-1" strike="noStrike">
                <a:solidFill>
                  <a:srgbClr val="000000"/>
                </a:solidFill>
                <a:latin typeface="Arial"/>
                <a:cs typeface="Akhbar MT"/>
              </a:rPr>
              <a:t>يا مؤمنون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156360" cy="1376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َسوعُ يَا مَن قُمْتَ</a:t>
            </a:r>
            <a:br>
              <a:rPr sz="8800"/>
            </a:b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ِنْ بَيْنَ الأَمْوَات هَبْنَا الفَرَحَ وَالسَّلامْ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4:07:52Z</dcterms:created>
  <dc:creator>Charbel Azar</dc:creator>
  <dc:description/>
  <dc:language>en-US</dc:language>
  <cp:lastModifiedBy>-</cp:lastModifiedBy>
  <dcterms:modified xsi:type="dcterms:W3CDTF">2003-04-19T12:16:16Z</dcterms:modified>
  <cp:revision>6</cp:revision>
  <dc:subject/>
  <dc:title>Slide 1</dc:title>
</cp:coreProperties>
</file>