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58F1-6DD5-49CE-B84D-E5898912D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67CF-C690-41DB-9376-B97AF99D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EE6C-8BA5-4B34-AD62-20A69E46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182B-11DA-47A9-AD6D-925D98322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8EA6-3122-4CCD-B0CC-3F23F4BD4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04BC-9E23-4D60-B3D8-DB76BB76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A3C7-8F84-42D3-B2AA-A4C64543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FF3E-E077-4CC6-B935-3C133450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A8FD-F903-4C5E-9B38-BAD859A5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C058-75CA-4F86-8FB2-E9C88C20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1D59-AD00-49B5-BF49-6BA98DCD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5C3D-8C92-413C-A7AC-753AE9F2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B94C-1826-4AB3-B690-6C08A5B2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F9A1-7E36-4C64-8A80-37EDB0ED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F1B4-F027-45C3-BA61-D4572E29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7235-0EA4-4934-AC74-6BCFD6192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05B3-CA32-470E-87B6-656B5098C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ECA6-C370-48D4-8CD5-F933EB25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D86A-7B85-4B05-BABC-E1A37B41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F9C6-F434-4A96-8FFD-2CBC9900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AC9B-343B-4AA2-B11E-0AD6007A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AD26-C681-427A-BB6A-D49E3A30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672D-3914-42DA-83A6-13E878E9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F55F-F6C8-438B-AF63-3D04B6BE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FFFC-C6E8-4E71-9D4B-6E1CD33BD203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2FA6-DA84-4439-962B-F53F65A7A70F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600" spc="-1" strike="noStrike">
                <a:solidFill>
                  <a:srgbClr val="ffffff"/>
                </a:solidFill>
                <a:latin typeface="Times New Roman"/>
                <a:cs typeface="????Boutros Rokaa"/>
              </a:rPr>
              <a:t>طلبة مار الياس</a:t>
            </a:r>
            <a:endParaRPr b="1" lang="en-US" sz="15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cs typeface="????Boutros Rokaa"/>
              </a:rPr>
              <a:t>رايةَ الحَقِّ لَنا كُنْ، إيليَّا، والمَنارْ</a:t>
            </a:r>
            <a:br>
              <a:rPr sz="8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تَ نارٌ وإِلى اللهِ سافَرْتَ بنَار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َعْدَ حَبْسِ الغَيثِ قَدْ باتَتِ الأرضُ قِفار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جَفَّ أُرْدُنُّكَ لَمْ يُبْقِ للظَّامِي قِطارْ.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دَلَّكَ الروحُ إلى أَيِّمٍ ذاتِ افتِقَارْ</a:t>
            </a:r>
            <a:endParaRPr b="1" lang="en-US" sz="7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cs typeface="????Boutros Rokaa"/>
              </a:rPr>
              <a:t>رايةَ الحَقِّ لَنا كُنْ، إيليَّا، والمَنارْ</a:t>
            </a:r>
            <a:br>
              <a:rPr sz="8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َلَّلَتْ جَرَّتُها بكَ مَوتُ الجُوعِ مات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على قارُورَةِ الزَّيتِ فَاضَتْ بَرَكَات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زِحْتَ عَنها غَمَّها عُدْتَ للطِّفْلِ الحَياة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َطَّمَتْ إِيزابَلٌ أنبيَا الحَقِّ الهُداةْ</a:t>
            </a:r>
            <a:endParaRPr b="1" lang="en-US" sz="7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cs typeface="????Boutros Rokaa"/>
              </a:rPr>
              <a:t>رايةَ الحَقِّ لَنا كُنْ، إيليَّا، والمَنارْ</a:t>
            </a:r>
            <a:br>
              <a:rPr sz="8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طَرَحَتْ بادِعَها رَفَعَتْ شأْنَ بَعَال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َدُ إيليّا عَلَتْ هَدَمَتْ بُرْجَ الضَّلال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َرَمُ الرَّبِّ على الكَرمَلِ انصَبَّ وَسَالَ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إِيليّا أضْمَرَتْ شَرَّ مَوتٍ إيزَابَالْ</a:t>
            </a:r>
            <a:endParaRPr b="1" lang="en-US" sz="7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cs typeface="????Boutros Rokaa"/>
              </a:rPr>
              <a:t>رايةَ الحَقِّ لَنا كُنْ، إيليَّا، والمَنارْ</a:t>
            </a:r>
            <a:br>
              <a:rPr sz="8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ِنْ لَظَى إيزَابَلٍ كانَ حُورِيبُ المَتَاه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َفْخُ عَصْفٍ فيهِ لَمْ يَكُنِ الربُّ الإِله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سُخْطُ زِلْزَالٍ بهِ لَمْ يَكُ الربُّ الإله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َزْفُ نِيرانٍ بها لَمْ يَكُ الربُّ الإِلهْ</a:t>
            </a:r>
            <a:endParaRPr b="1" lang="en-US" sz="7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cs typeface="????Boutros Rokaa"/>
              </a:rPr>
              <a:t>رايةَ الحَقِّ لَنا كُنْ، إيليَّا، والمَنارْ</a:t>
            </a:r>
            <a:br>
              <a:rPr sz="8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َنَسِيمٌ كالنَّدَى فيهِ لُطْفُ اللهِ ذاب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صَوتُ حَقٍّ مُرْجِفٌ غَاصِبَ الحَقِّ أَحاب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ائِمُ الظُلْمِ هَوَى بَينَ أنيَاب الكِلابْ</a:t>
            </a:r>
            <a:endParaRPr b="1" lang="en-US" sz="7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cs typeface="????Boutros Rokaa"/>
              </a:rPr>
              <a:t>رايةَ الحَقِّ لَنا كُنْ، إيليَّا، والمَنارْ</a:t>
            </a:r>
            <a:br>
              <a:rPr sz="8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َفَّةَ الرُّوحِ على النارِ لاقَتْكَ السماء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شاءَ لِيشَاعُ اكْتَسَى رُوحَ غَيبٍ "بالرِّدَاءْ"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َسأَلُ الربَّ لنا رُوحَ حُبٍّ وعَطَاء</a:t>
            </a:r>
            <a:endParaRPr b="1" lang="en-US" sz="7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5T11:55:33Z</dcterms:created>
  <dc:creator>Charbel Azar</dc:creator>
  <dc:description/>
  <dc:language>en-US</dc:language>
  <cp:lastModifiedBy>-</cp:lastModifiedBy>
  <dcterms:modified xsi:type="dcterms:W3CDTF">2002-12-22T16:02:41Z</dcterms:modified>
  <cp:revision>9</cp:revision>
  <dc:subject/>
  <dc:title>لأن إلى الأبد رحمته هللوا للر بّ  اعترفوا للربّ فإنّهُ صالحٌ. اعترفوا لإله الالهة وربّ الأرباب لصانع المعجزات العظام وحده والسماوات.</dc:title>
</cp:coreProperties>
</file>