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514-F782-4B09-A6B8-FFA707FD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4BF-076D-412E-A8C3-79133C5D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860-36AB-4CF4-89E7-4149E598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0A5-1D60-4195-92FC-C2679CD0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FF2-5156-40C6-9D37-8F4E393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F7D-40B8-4AB5-8B8D-3B43B98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6A2-FC7E-476A-B47F-ABAB78C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13A-5223-441A-82E2-827763A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A2B-4FDF-48D8-8C4F-9D299CFC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F83-812A-4DF6-8CC4-633CB874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AE2-AF66-4E34-98D7-7B9CB3A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308-EA88-4FF5-B44B-43B3AC7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BB3A-21E5-42F2-93E2-AFDA37C6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0"/>
            <a:ext cx="3657600" cy="115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ربي يا نورَ رجائ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قتبِل من الدع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واجعل الراحل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دخلُ دارَ البق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أبا كلِّ المراح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يا رجاءَ الراقد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إجعلِ الراحلَ عنّ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ccff"/>
                </a:solidFill>
                <a:latin typeface="Arial"/>
              </a:rPr>
              <a:t>في عِدادِ الصالح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8:19Z</dcterms:created>
  <dc:creator>HANI SAFI</dc:creator>
  <dc:description/>
  <dc:language>en-US</dc:language>
  <cp:lastModifiedBy>HANI SAFI</cp:lastModifiedBy>
  <dcterms:modified xsi:type="dcterms:W3CDTF">2003-05-19T11:48:50Z</dcterms:modified>
  <cp:revision>1</cp:revision>
  <dc:subject/>
  <dc:title>Slide 1</dc:title>
</cp:coreProperties>
</file>