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5FF-A096-43BB-88EE-F8FA72B3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AB4-E34B-4109-B5BF-474D95DB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8A0-0AD2-4897-A508-2C96095E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743-4DC0-4438-9B1D-C6AACF2B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753-017A-4C48-8646-17A560AA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129-BCB5-49AE-AFB8-28657326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A2D-85B2-4280-BD69-508BCBAB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D79-4CC3-4CE1-A052-1B635990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957-D40A-436B-9FB6-D3532242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D85-6389-4ACB-92F0-094B7545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90B-1F25-462E-B18A-B419052E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A2F-74B1-4FA4-86C1-45A40F02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69A9-A42E-41D4-A7DE-060FB1436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ّ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228600" y="0"/>
            <a:ext cx="5105520" cy="9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ربي قلبك حنّا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ت اللي عليِّ سهران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طيني بحبك صير كب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ن قلبي يضل صغ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كِبْرو بمحبة مل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4572000" cy="9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قلت بإنجيل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لناس اللي تابعين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لي ما في عندو قلب صغيّر يعرف إنو ي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ّو من تلاميذ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14600" y="5067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45720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للحب اخترتو عمري للرب اندرتو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ما إكبر عمري يضل من نبعك يغرُف ما يمل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دك يبقى لآخِرت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5:35:46Z</dcterms:created>
  <dc:creator>SUZANNE.MD</dc:creator>
  <dc:description/>
  <dc:language>en-US</dc:language>
  <cp:lastModifiedBy>HANI SAFI</cp:lastModifiedBy>
  <dcterms:modified xsi:type="dcterms:W3CDTF">2003-05-03T04:09:11Z</dcterms:modified>
  <cp:revision>3</cp:revision>
  <dc:subject/>
  <dc:title>PowerPoint Presentation</dc:title>
</cp:coreProperties>
</file>