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D0A62-B4FD-45A9-888B-FE9906382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96C44-6052-44AD-8D23-6BE789831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E5377-B3CB-4280-A850-FE15E52F0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C3226-A772-408E-9C9E-DCA868476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91F73-08C5-44C9-8A1B-F19D21923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CB4A-8918-46AC-8CC1-4871FB897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6BE23-952B-464B-A36D-554D6C23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753E2-9B7A-4E77-A1CC-8118F250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7E1F9-2535-4575-852F-93644196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1199-3D72-42C9-A92F-9BAA8647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2814-8F01-4F2E-A78A-69681794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6644-8524-43D2-BE14-6134C0192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6700-2020-4C1F-B8B0-1CAC41428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8839080" cy="10092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أيها الملك السماوي المعزي، روح الحق، الحاضر في كل مكان والماليء الكل، كنز الصالحات ، وواهب الحياة، هلم واسكن فينا، وطهرنا من كل دنس، وخلص، أيها الصالح، نفوسنا.</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Simplified Arabic"/>
              </a:rPr>
              <a:t>المجد لله في العلى، وعلى الأرض السلام، وفي الناس المسرة </a:t>
            </a:r>
            <a:r>
              <a:rPr b="1" i="1" lang="ar-SA" sz="4000" spc="-1" strike="noStrike">
                <a:solidFill>
                  <a:srgbClr val="ff0000"/>
                </a:solidFill>
                <a:latin typeface="Simplified Arabic"/>
              </a:rPr>
              <a:t>(مرتين)</a:t>
            </a:r>
            <a:endParaRPr b="0" lang="en-US" sz="4000" spc="-1" strike="noStrike">
              <a:solidFill>
                <a:srgbClr val="000000"/>
              </a:solidFill>
              <a:latin typeface="Times New Roman"/>
            </a:endParaRPr>
          </a:p>
          <a:p>
            <a:pPr algn="r" rtl="1">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rPr>
              <a:t>يا رب افتح شفتي، فيذيع فمي تسبيحك</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Simplified Arabic"/>
                <a:cs typeface="Simplified Arabic"/>
              </a:rPr>
              <a:t>الكاهن:</a:t>
            </a:r>
            <a:r>
              <a:rPr b="1" lang="ar-SA" sz="4000" spc="-1" strike="noStrike">
                <a:solidFill>
                  <a:srgbClr val="ff0000"/>
                </a:solidFill>
                <a:latin typeface="Simplified Arabic"/>
                <a:ea typeface="Simplified Arabic"/>
              </a:rPr>
              <a:t>	</a:t>
            </a:r>
            <a:r>
              <a:rPr b="1" lang="ar-SA" sz="4000" spc="-1" strike="noStrike">
                <a:solidFill>
                  <a:srgbClr val="000000"/>
                </a:solidFill>
                <a:latin typeface="Simplified Arabic"/>
                <a:cs typeface="Simplified Arabic"/>
              </a:rPr>
              <a:t>مباركة مملكة الآب والابن والروح القدس،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الشعب: </a:t>
            </a:r>
            <a:r>
              <a:rPr b="1" i="1" lang="ar-SA" sz="4000" spc="-1" strike="noStrike">
                <a:solidFill>
                  <a:srgbClr val="000000"/>
                </a:solidFill>
                <a:latin typeface="Times New Roman"/>
                <a:cs typeface="Simplified Arabic"/>
              </a:rPr>
              <a:t>آمين</a:t>
            </a:r>
            <a:r>
              <a:rPr b="1" i="1" lang="ar-SA" sz="4000" spc="-1" strike="noStrike">
                <a:solidFill>
                  <a:srgbClr val="000000"/>
                </a:solidFill>
                <a:latin typeface="Times New Roman"/>
              </a:rPr>
              <a:t>.</a:t>
            </a:r>
            <a:r>
              <a:rPr b="1" lang="ar-SA" sz="4000" spc="-1" strike="noStrike">
                <a:solidFill>
                  <a:srgbClr val="ff0000"/>
                </a:solidFill>
                <a:latin typeface="Simplified Arabic"/>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228600"/>
            <a:ext cx="8763120" cy="67467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نشـيد المثلـث التقدي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ك قدوس، أنت يا إلهنا، وإليك نرفع المجد، أيها الآب 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380880"/>
            <a:ext cx="89154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0"/>
            <a:ext cx="8763120" cy="6914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قدوس الله، قدوس القوي، قدوس الذي لا يموت ارحمنا </a:t>
            </a:r>
            <a:r>
              <a:rPr b="1" lang="ar-SA" sz="3600" spc="-1" strike="noStrike">
                <a:solidFill>
                  <a:srgbClr val="ff0000"/>
                </a:solidFill>
                <a:latin typeface="Times New Roman"/>
                <a:ea typeface="Simplified Arabic"/>
              </a:rPr>
              <a:t>(ثلاثا)</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yios o Theos, Ayios Ishkiros, Ayios Athanatos, eleisson ima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مجد للآب والابن والروح القدس، الآن وكل أوان وإلى دهر الداهرين 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ذي لا يموت ، ارحمنا.</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قدوس الله، قدوس القوي، قدوس الذي لا يموت ارحمنا</a:t>
            </a:r>
            <a:r>
              <a:rPr b="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0" y="-380880"/>
            <a:ext cx="9144000" cy="7695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rtl="1">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قراءة الرسالة وقراءة الإنجيل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صل من 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الرسال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ك. </a:t>
            </a:r>
            <a:r>
              <a:rPr b="1" lang="ar-SA" sz="3600" spc="-1" strike="noStrike">
                <a:solidFill>
                  <a:srgbClr val="000000"/>
                </a:solidFill>
                <a:latin typeface="Times New Roman"/>
                <a:cs typeface="Simplified Arabic"/>
              </a:rPr>
              <a:t>السلام لك أيها القاريء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وف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i="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للويا ، هللويا ،  هللو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
          <p:cNvSpPr/>
          <p:nvPr/>
        </p:nvSpPr>
        <p:spPr>
          <a:xfrm>
            <a:off x="1828800" y="0"/>
            <a:ext cx="7315200" cy="9073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حكمة، لنقف ونسمع الإنجيل المقدّ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صل شريف من بشارة القديس...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فلنصغ</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الإنجيل المقدس</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المجد لك ، يا رب المجد لك.</a:t>
            </a:r>
            <a:endParaRPr b="0" lang="en-US" sz="3600" spc="-1" strike="noStrike">
              <a:solidFill>
                <a:srgbClr val="000000"/>
              </a:solidFill>
              <a:latin typeface="Times New Roman"/>
            </a:endParaRPr>
          </a:p>
          <a:p>
            <a:pPr algn="ct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0000"/>
                </a:solidFill>
                <a:latin typeface="Times New Roman"/>
                <a:cs typeface="Simplified Arabic"/>
              </a:rPr>
              <a:t>جلوســـاً (العظـــة)</a:t>
            </a:r>
            <a:endParaRPr b="0" lang="en-US" sz="3600" spc="-1" strike="noStrike">
              <a:solidFill>
                <a:srgbClr val="000000"/>
              </a:solidFill>
              <a:latin typeface="Times New Roman"/>
            </a:endParaRPr>
          </a:p>
        </p:txBody>
      </p:sp>
      <p:pic>
        <p:nvPicPr>
          <p:cNvPr id="60" name="273322_ph" descr=""/>
          <p:cNvPicPr/>
          <p:nvPr/>
        </p:nvPicPr>
        <p:blipFill>
          <a:blip r:embed="rId1"/>
          <a:stretch/>
        </p:blipFill>
        <p:spPr>
          <a:xfrm>
            <a:off x="-533520" y="990720"/>
            <a:ext cx="3687840" cy="586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04920"/>
            <a:ext cx="8763120" cy="62751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ff0000"/>
                </a:solidFill>
                <a:latin typeface="Times New Roman"/>
                <a:ea typeface="Times New Roman"/>
              </a:rPr>
              <a:t>2</a:t>
            </a:r>
            <a:r>
              <a:rPr b="1" i="1" lang="ar-SA" sz="3600" spc="-1" strike="noStrike">
                <a:solidFill>
                  <a:srgbClr val="ff0000"/>
                </a:solidFill>
                <a:latin typeface="Times New Roman"/>
                <a:ea typeface="Times New Roman"/>
              </a:rPr>
              <a:t>-           </a:t>
            </a:r>
            <a:r>
              <a:rPr b="1" i="1" lang="ar-SA" sz="3600" spc="-1" strike="noStrike">
                <a:solidFill>
                  <a:srgbClr val="ff0000"/>
                </a:solidFill>
                <a:latin typeface="Times New Roman"/>
                <a:cs typeface="Simplified Arabic"/>
              </a:rPr>
              <a:t>خدمة الذبيح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حتى إذا كنا مصونين بعزّتك كلّ حين نرفع إليك المجد أيها الآب والإ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
          <p:cNvSpPr/>
          <p:nvPr/>
        </p:nvSpPr>
        <p:spPr>
          <a:xfrm>
            <a:off x="5562720" y="0"/>
            <a:ext cx="3581280" cy="12334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ff0000"/>
                </a:solidFill>
                <a:latin typeface="Times New Roman"/>
                <a:ea typeface="Simplified Arabic"/>
              </a:rPr>
              <a:t>	</a:t>
            </a:r>
            <a:r>
              <a:rPr b="1" i="1" lang="ar-SA" sz="4000" spc="-1" strike="noStrike">
                <a:solidFill>
                  <a:srgbClr val="ccecff"/>
                </a:solidFill>
                <a:latin typeface="Times New Roman"/>
                <a:cs typeface="Simplified Arabic"/>
              </a:rPr>
              <a:t>أيها الممثلون الشروبيم سرياً، والمرنمون للثالوث المحي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ccecff"/>
                </a:solidFill>
                <a:latin typeface="Times New Roman"/>
                <a:cs typeface="Simplified Arabic"/>
              </a:rPr>
              <a:t>بالنشيد المثلث التقديس، فلنطرح عنا كل اهتمام دنيوي،</a:t>
            </a:r>
            <a:r>
              <a:rPr b="1" i="1" lang="ar-SA" sz="4000" spc="-1" strike="noStrike">
                <a:solidFill>
                  <a:srgbClr val="ccecff"/>
                </a:solidFill>
                <a:latin typeface="Times New Roman"/>
                <a:ea typeface="Simplified Arabic"/>
              </a:rPr>
              <a:t>	</a:t>
            </a:r>
            <a:r>
              <a:rPr b="1" i="1" lang="ar-SA" sz="4000" spc="-1" strike="noStrike">
                <a:solidFill>
                  <a:srgbClr val="ccecff"/>
                </a:solidFill>
                <a:latin typeface="Times New Roman"/>
                <a:cs typeface="Simplified Arabic"/>
              </a:rPr>
              <a:t>لنستقبل ملك الكل.</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Times New Roman"/>
                <a:ea typeface="Simplified Arabic"/>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Simplified Arabic"/>
              </a:rPr>
              <a:t>.</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3" name="2151970xomuSiowLC_ph" descr=""/>
          <p:cNvPicPr/>
          <p:nvPr/>
        </p:nvPicPr>
        <p:blipFill>
          <a:blip r:embed="rId1"/>
          <a:stretch/>
        </p:blipFill>
        <p:spPr>
          <a:xfrm>
            <a:off x="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3962520" y="0"/>
            <a:ext cx="495288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ffcc66"/>
                </a:solidFill>
                <a:latin typeface="Times New Roman"/>
                <a:ea typeface="Simplified Arabic"/>
              </a:rPr>
              <a:t>	</a:t>
            </a:r>
            <a:r>
              <a:rPr b="1" lang="ar-SA" sz="4000" spc="-1" strike="noStrike">
                <a:solidFill>
                  <a:srgbClr val="ffcc66"/>
                </a:solidFill>
                <a:latin typeface="Times New Roman"/>
                <a:cs typeface="Simplified Arabic"/>
              </a:rPr>
              <a:t>يذكر الرب الإله جميعنا في ملكوته كل حين، الآن وكل أوان وإلى دهر الداهرين.</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Simplified Arabic"/>
              </a:rPr>
              <a:t> ش.</a:t>
            </a:r>
            <a:r>
              <a:rPr b="1" lang="ar-SA" sz="4000" spc="-1" strike="noStrike">
                <a:solidFill>
                  <a:srgbClr val="ff0000"/>
                </a:solidFill>
                <a:latin typeface="Times New Roman"/>
                <a:ea typeface="Simplified Arabic"/>
              </a:rPr>
              <a:t>	</a:t>
            </a:r>
            <a:r>
              <a:rPr b="1" i="1" lang="ar-SA" sz="4000" spc="-1" strike="noStrike">
                <a:solidFill>
                  <a:srgbClr val="ffcc66"/>
                </a:solidFill>
                <a:latin typeface="Times New Roman"/>
                <a:cs typeface="Simplified Arabic"/>
              </a:rPr>
              <a:t>آمين. تحف به الطغمات الملائكية على حال غير منظو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ea typeface="Simplified Arabic"/>
              </a:rPr>
              <a:t>	</a:t>
            </a:r>
            <a:r>
              <a:rPr b="1" i="1" lang="ar-SA" sz="4000" spc="-1" strike="noStrike">
                <a:solidFill>
                  <a:srgbClr val="ffcc66"/>
                </a:solidFill>
                <a:latin typeface="Times New Roman"/>
                <a:cs typeface="Simplified Arabic"/>
              </a:rPr>
              <a:t>هللويا،  هللويا،  هللويا.</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65" name="49438873JQfExr_ph" descr=""/>
          <p:cNvPicPr/>
          <p:nvPr/>
        </p:nvPicPr>
        <p:blipFill>
          <a:blip r:embed="rId1"/>
          <a:stretch/>
        </p:blipFill>
        <p:spPr>
          <a:xfrm>
            <a:off x="0" y="0"/>
            <a:ext cx="4200480" cy="6858000"/>
          </a:xfrm>
          <a:prstGeom prst="rect">
            <a:avLst/>
          </a:prstGeom>
          <a:ln w="0">
            <a:noFill/>
          </a:ln>
        </p:spPr>
      </p:pic>
      <p:sp>
        <p:nvSpPr>
          <p:cNvPr id="66" name=""/>
          <p:cNvSpPr/>
          <p:nvPr/>
        </p:nvSpPr>
        <p:spPr>
          <a:xfrm>
            <a:off x="3809880" y="533520"/>
            <a:ext cx="4876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8939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تقدمة القاربين</a:t>
            </a:r>
            <a:endParaRPr b="0" lang="en-US" sz="3200" spc="-1" strike="noStrike">
              <a:solidFill>
                <a:srgbClr val="000000"/>
              </a:solidFill>
              <a:latin typeface="Times New Roman"/>
            </a:endParaRPr>
          </a:p>
          <a:p>
            <a:pPr algn="ct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جلوساً</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لنكمل طلبتنا إلى الرب.</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lang="ar-SA" sz="3200" spc="-1" strike="noStrike">
                <a:solidFill>
                  <a:srgbClr val="ff0000"/>
                </a:solidFill>
                <a:latin typeface="Times New Roman"/>
                <a:ea typeface="Simplified Arabic"/>
              </a:rPr>
              <a:t>	</a:t>
            </a:r>
            <a:r>
              <a:rPr b="1" i="1" lang="ar-SA" sz="3200" spc="-1" strike="noStrike">
                <a:solidFill>
                  <a:srgbClr val="000000"/>
                </a:solidFill>
                <a:latin typeface="Times New Roman"/>
                <a:cs typeface="Simplified Arabic"/>
              </a:rPr>
              <a:t>يا رب ارحم.</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أيها الإله القدير القدوس وحدك، القابل ذبيحة التسبيح من الذين يدعونك بكل </a:t>
            </a:r>
            <a:r>
              <a:rPr b="1" lang="ar-SA" sz="3200" spc="-1" strike="noStrike">
                <a:solidFill>
                  <a:srgbClr val="000000"/>
                </a:solidFill>
                <a:latin typeface="Times New Roman"/>
                <a:ea typeface="Simplified Arabic"/>
              </a:rPr>
              <a:t>	</a:t>
            </a:r>
            <a:r>
              <a:rPr b="1" lang="ar-SA" sz="3200" spc="-1" strike="noStrike">
                <a:solidFill>
                  <a:srgbClr val="000000"/>
                </a:solidFill>
                <a:latin typeface="Times New Roman"/>
                <a:cs typeface="Simplified Arabic"/>
              </a:rPr>
              <a:t>قلوبهم، تقبل منا أيضاً نحن الخطأة طلبتنا، وقدمها إلى مذبحك المقدس، واجعلنا جديرين بأن نقدم لك قرابين وذبائح روحية، عن خطايانا وجهالات الشعب. وأهلنا لأن نصيب حظوة في عينيك، فتكون ذبيحتنا مرضية لديك، ويستقر روح</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نعمتك الصالح علينا، وعلى هذه القرابين المقدمة، وعلى شعبك كله.</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برأفة ابنك الوحيد، الذي أنت مبار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Simplified Arabic"/>
              </a:rPr>
              <a:t>معه ومع روح القدوس الصالح المحيي، الآن وكل أوان وإلى دهر الداهرين.</a:t>
            </a:r>
            <a:endParaRPr b="0" lang="en-US" sz="32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ea typeface="Simplified Arabic"/>
              </a:rPr>
              <a:t> 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آ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3200400" y="0"/>
            <a:ext cx="5943600" cy="681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المصافحة الأخوية</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a:t>
            </a:r>
            <a:r>
              <a:rPr b="1" lang="ar-SA" sz="3200" spc="-1" strike="noStrike">
                <a:solidFill>
                  <a:srgbClr val="ff0000"/>
                </a:solidFill>
                <a:latin typeface="Times New Roman"/>
                <a:cs typeface="Simplified Arabic"/>
              </a:rPr>
              <a:t>وقــوفــاً</a:t>
            </a:r>
            <a:endParaRPr b="0" lang="en-US" sz="32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جميعكم.</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حب بعضنا بعضا لكي نعترف بنية واحدة.</a:t>
            </a:r>
            <a:endParaRPr b="0" lang="en-US" sz="3600" spc="-1" strike="noStrike">
              <a:solidFill>
                <a:srgbClr val="000000"/>
              </a:solidFill>
              <a:latin typeface="Times New Roman"/>
            </a:endParaRPr>
          </a:p>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بالآب والابن والروح القدس، الثالوث الواحد في                      الجوهر، وغير المنفص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 name="21303917YvwWhKWccB_ph" descr=""/>
          <p:cNvPicPr/>
          <p:nvPr/>
        </p:nvPicPr>
        <p:blipFill>
          <a:blip r:embed="rId1"/>
          <a:stretch/>
        </p:blipFill>
        <p:spPr>
          <a:xfrm>
            <a:off x="0" y="0"/>
            <a:ext cx="3200400" cy="5486400"/>
          </a:xfrm>
          <a:prstGeom prst="rect">
            <a:avLst/>
          </a:prstGeom>
          <a:ln w="0">
            <a:noFill/>
          </a:ln>
        </p:spPr>
      </p:pic>
      <p:sp>
        <p:nvSpPr>
          <p:cNvPr id="70" name=""/>
          <p:cNvSpPr/>
          <p:nvPr/>
        </p:nvSpPr>
        <p:spPr>
          <a:xfrm>
            <a:off x="0" y="5486400"/>
            <a:ext cx="914400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Simplified Arabic"/>
              </a:rPr>
              <a:t>Patera, Ion, Ke Ayion Pnevma, Triadha omooussion ke akhorist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8915400" cy="8858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قانون الإيما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lang="ar-SA" sz="3200" spc="-1" strike="noStrike">
                <a:solidFill>
                  <a:srgbClr val="ff0000"/>
                </a:solidFill>
                <a:latin typeface="Times New Roman"/>
                <a:cs typeface="Simplified Arabic"/>
              </a:rPr>
              <a:t>ك.  </a:t>
            </a:r>
            <a:r>
              <a:rPr b="1" lang="ar-SA" sz="3200" spc="-1" strike="noStrike">
                <a:solidFill>
                  <a:srgbClr val="ff0000"/>
                </a:solidFill>
                <a:latin typeface="Times New Roman"/>
                <a:ea typeface="Simplified Arabic"/>
              </a:rPr>
              <a:t>	</a:t>
            </a:r>
            <a:r>
              <a:rPr b="1" lang="ar-SA" sz="3200" spc="-1" strike="noStrike">
                <a:solidFill>
                  <a:srgbClr val="000000"/>
                </a:solidFill>
                <a:latin typeface="Times New Roman"/>
                <a:cs typeface="Times New Roman"/>
              </a:rPr>
              <a:t>بحكمة فلنصغ</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2800" spc="-1" strike="noStrike">
                <a:solidFill>
                  <a:srgbClr val="000000"/>
                </a:solidFill>
                <a:latin typeface="Times New Roman"/>
                <a:ea typeface="Simplified Arabic"/>
              </a:rPr>
              <a:t>	</a:t>
            </a:r>
            <a:r>
              <a:rPr b="1" i="1" lang="ar-SA" sz="2800" spc="-1" strike="noStrike">
                <a:solidFill>
                  <a:srgbClr val="000000"/>
                </a:solidFill>
                <a:latin typeface="Times New Roman"/>
                <a:cs typeface="Simplified Arabic"/>
              </a:rPr>
              <a:t>نؤمن بإله واحد، آب ضابط الكل، خالق السماء والأرض، كل ما يرى وما لا يرى. وبرب واحد يسوع المسيح ، ابن الله الوحيد، المولود من الآب قبل كل الدهور، نور من نور ، إله حق من إله حق، مولود غير مخلوق، مساوٍ لللآب  في الجوهر، الذي به كان كل شيء، الذي من أجلنا نحن البشر، ومن أجل خلاصنا، نزل من السماء، وتجسد من الروح القدس ومن مريم العذراء وتأنس، وصلب عنا على عهد بيلاطس البنطي. وتألم وقبر. وقام في اليوم الثالث كما في الكتب، وصعد إلى السماء، وجلس عن يمين الآب. وأيضا يأتي بمجد عظيم ليدين الأحياء والأموات، الذي لا فناء لمكله. وبالروح القدس، الرب المحيي، المنبثق من الآب والابن، الذي هو مع الآب والابن، يسجد له ويمجد، الناطق بالأنبياء وبكنيسة واحدة، جامعة، مقدسة، رسولية. ونعترف بمعمودية واحدة لمغفرة الخطايا. ونترجى قيامة الموتى والحياة في الدهر الآتي.   آمــيــن</a:t>
            </a:r>
            <a:r>
              <a:rPr b="1" i="1" lang="ar-SA" sz="2800" spc="-1" strike="noStrike">
                <a:solidFill>
                  <a:srgbClr val="000000"/>
                </a:solidFill>
                <a:latin typeface="Times New Roman"/>
                <a:ea typeface="Times New Roman"/>
              </a:rPr>
              <a:t>.</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915400" cy="7874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r>
              <a:rPr b="1" lang="ar-SA" sz="4000" spc="-1" strike="noStrike">
                <a:solidFill>
                  <a:srgbClr val="ff0000"/>
                </a:solidFill>
                <a:latin typeface="Times New Roman"/>
                <a:cs typeface="Simplified Arabic"/>
              </a:rPr>
              <a:t>جلوس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Simplified Arabic"/>
              </a:rPr>
              <a:t>بسلام، إلى الرب نطل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a:t>
            </a:r>
            <a:r>
              <a:rPr b="1" lang="ar-SA" sz="4000" spc="-1" strike="noStrike">
                <a:solidFill>
                  <a:srgbClr val="000000"/>
                </a:solidFill>
                <a:latin typeface="Times New Roman"/>
                <a:ea typeface="Simplified Arabic"/>
              </a:rPr>
              <a:t> </a:t>
            </a:r>
            <a:r>
              <a:rPr b="1" lang="ar-SA" sz="40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جل السلام العلوي وخلاص نفوسنا، إلى الرب نطلب</a:t>
            </a:r>
            <a:endParaRPr b="0" lang="en-US" sz="36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ك. </a:t>
            </a:r>
            <a:r>
              <a:rPr b="1" lang="ar-SA" sz="4000" spc="-1" strike="noStrike">
                <a:solidFill>
                  <a:srgbClr val="ff0000"/>
                </a:solidFill>
                <a:latin typeface="Times New Roman"/>
                <a:ea typeface="Simplified Arabic"/>
              </a:rPr>
              <a:t>	</a:t>
            </a:r>
            <a:r>
              <a:rPr b="1" lang="ar-SA" sz="4000" spc="-1" strike="noStrike">
                <a:solidFill>
                  <a:srgbClr val="000000"/>
                </a:solidFill>
                <a:latin typeface="Times New Roman"/>
                <a:cs typeface="Times New Roman"/>
              </a:rPr>
              <a:t>لأجل سلام العالم أجمع وثبات كنائس الله المقدسة واتحاد الجميع، إلى الرب نطل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Simplified Arabic"/>
              </a:rPr>
              <a:t>ش. </a:t>
            </a:r>
            <a:r>
              <a:rPr b="1" lang="ar-SA" sz="4000" spc="-1" strike="noStrike">
                <a:solidFill>
                  <a:srgbClr val="ff0000"/>
                </a:solidFill>
                <a:latin typeface="Times New Roman"/>
                <a:ea typeface="Simplified Arabic"/>
              </a:rPr>
              <a:t>	</a:t>
            </a:r>
            <a:r>
              <a:rPr b="1" i="1" lang="ar-SA" sz="4000" spc="-1" strike="noStrike">
                <a:solidFill>
                  <a:srgbClr val="000000"/>
                </a:solidFill>
                <a:latin typeface="Times New Roman"/>
                <a:cs typeface="Simplified Arabic"/>
              </a:rPr>
              <a:t>يا رب ارح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812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ـذبـيـحــ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قف حسنا. ولنقف بتهيّب. فلنصغ لنقدم بسلام القربان المق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رحمة سلام، ذبيحة نسبيح.</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Eleon irinis, thissian enesseo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عمة ربنا يسوع المسيح، ومحبة الله الآب +  وشركة الروح القدس، فلتكن مع جميعك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e meta tou pnevmatos sou</a:t>
            </a:r>
            <a:endParaRPr b="0" lang="en-US" sz="3600" spc="-1" strike="noStrike">
              <a:solidFill>
                <a:srgbClr val="000000"/>
              </a:solidFill>
              <a:latin typeface="Times New Roman"/>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304920"/>
            <a:ext cx="8763120" cy="481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رفع قلوبنا إلى العلا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ها هي عند الرب</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khomen pros ton Gruiri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شكرن ال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اجب وحق</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Asion ke dhikeon</a:t>
            </a:r>
            <a:r>
              <a:rPr b="0" lang="ar-SA" sz="2400" spc="-1" strike="noStrike">
                <a:solidFill>
                  <a:srgbClr val="000000"/>
                </a:solidFill>
                <a:latin typeface="Times New Roman"/>
              </a:rPr>
              <a:t> </a:t>
            </a:r>
            <a:r>
              <a:rPr b="0" lang="en-US" sz="2400" spc="-1" strike="noStrike">
                <a:solidFill>
                  <a:srgbClr val="000000"/>
                </a:solidFill>
                <a:latin typeface="Times New Roman"/>
              </a:rPr>
              <a:t> </a:t>
            </a:r>
            <a:r>
              <a:rPr b="1" i="1" lang="en-US" sz="3600" spc="-1" strike="noStrike">
                <a:solidFill>
                  <a:srgbClr val="000000"/>
                </a:solidFill>
                <a:latin typeface="Times New Roman"/>
              </a:rPr>
              <a:t>Es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9144000" cy="941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cs typeface="Simplified Arabic"/>
              </a:rPr>
              <a:t>ك.</a:t>
            </a:r>
            <a:r>
              <a:rPr b="1" lang="en-US"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جب وحق أن نسبحك ونباركك، ونشيد لك ونشكرك، ونسجد لك في كل مواضع سيادتك. فإنك أنت الاله الذي لا يفي به وصف، ولا يحده عقل، ولا يرى ولا يدرك، الدائم الوجود، والكائن هو هو، أنت وابنك الوحيد وروحك القدوس. أنت أخرجتنا من العدم إلى الوجود، وبعد أن سقطنا عدت فأقمتنا. وما زلت تصنع كل شيء حتى أصعدتنا إلى السماء، وأنعمت علينا بملكك الآتي. فمن أجل هذه كلها نشكرك، ونشكر ابنك الوحيد وروحك القدوس. كما نشكر لك كل ما نلنا من احساناتك، المعروفة والمجهولة، الظاهرة والخفية. ونشكر لك أيضا هذه الخدمة، التي ارتضيت أن تقبلها من أيدينا، مع أن ألوفاً من رؤساء الملائكة وربوات من الملائكة، ماثلون لديك، الشروبيم والسرافيم، ذوي الأجنحة الستة والعيون الكثيرة، محلقين وطائرين</a:t>
            </a:r>
            <a:r>
              <a:rPr b="1" lang="ar-SA" sz="1400" spc="-1" strike="noStrike">
                <a:solidFill>
                  <a:srgbClr val="000000"/>
                </a:solidFill>
                <a:latin typeface="Times New Roman"/>
                <a:ea typeface="Simplified Arabic"/>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0"/>
            <a:ext cx="9144000" cy="8106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رنمين بنشيد الظفر، هاتفين وصارخين وقائل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قدوس، قدوس، قدوس، رب الصبؤوت. السماء والأرض مملوئتان من مجدك.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cs typeface="Simplified Arabic"/>
              </a:rPr>
              <a:t>هوشعنا في الأعالي. مبارك الآتي باسم الرب. هو شعنا في الأعالي.</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Ayios, ayios, ayios, Kirios Savaoth;</a:t>
            </a:r>
            <a:r>
              <a:rPr b="1" i="1" lang="ar-SA"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a:t>
            </a:r>
            <a:r>
              <a:rPr b="1" i="1" lang="en-US" sz="3600" spc="-1" strike="noStrike">
                <a:solidFill>
                  <a:srgbClr val="000000"/>
                </a:solidFill>
                <a:latin typeface="Times New Roman"/>
                <a:ea typeface="Simplified Arabic"/>
              </a:rPr>
              <a:t> pliris o ouranos ke I yi ti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Dhoxis sou. Ossanna en dis ipsistis. Evloyimenos o erkhomenos 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Onomati kiriou. Ossana o en dis ipsistis.</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304920"/>
            <a:ext cx="8915400" cy="9158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فمع هذه القوات المغبوطة، نهتف نحن أيضا أيها السيد المحب البشر ونقول: قدوس أنت وكامل القداسة، أنت وابنك الوحيد وروحك القدوس. قدوس أنت وكامل القداسة، وعظيم جلال مجدك. لقد أحببت عالمك ، حتى أنك بذلت ابنك الوحيد، لكي لا يهلك من يؤمن به، بك تكون له الحياة الأبدية. فهذا أتى وأكمل كل ما دبرته عنايتك بشأننا. وفي الليلة التي أسلم فيها، أو بالحرى أسلم ذاته لأجل حياة العالم، أخذ خبز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بيديه المقدستين الطاهرتين اللتين لا عيب فيهما ، فشكر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وبارك وقدس وكسر، وأعطى تلاميذه القديسين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77" name=""/>
          <p:cNvSpPr/>
          <p:nvPr/>
        </p:nvSpPr>
        <p:spPr>
          <a:xfrm>
            <a:off x="5867280" y="450720"/>
            <a:ext cx="3276720" cy="7821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قـديــــ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خذوا فكلوا، هذا هو جسدي ، الذي يكسر لأجلكم، لمغفرة الخطاي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ffff"/>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ffffff"/>
                </a:solidFill>
                <a:latin typeface="Times New Roman"/>
                <a:cs typeface="Simplified Arabic"/>
              </a:rPr>
              <a:t>وكذلك الكأس بعد العشاء، قائل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25421475MWaVWSSKTq_ph" descr=""/>
          <p:cNvPicPr/>
          <p:nvPr/>
        </p:nvPicPr>
        <p:blipFill>
          <a:blip r:embed="rId1"/>
          <a:stretch/>
        </p:blipFill>
        <p:spPr>
          <a:xfrm>
            <a:off x="0" y="0"/>
            <a:ext cx="58672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6521646nDdWDwXPxk_ph" descr=""/>
          <p:cNvPicPr/>
          <p:nvPr/>
        </p:nvPicPr>
        <p:blipFill>
          <a:blip r:embed="rId1"/>
          <a:stretch/>
        </p:blipFill>
        <p:spPr>
          <a:xfrm>
            <a:off x="0" y="0"/>
            <a:ext cx="5715000" cy="6858000"/>
          </a:xfrm>
          <a:prstGeom prst="rect">
            <a:avLst/>
          </a:prstGeom>
          <a:ln w="0">
            <a:noFill/>
          </a:ln>
        </p:spPr>
      </p:pic>
      <p:sp>
        <p:nvSpPr>
          <p:cNvPr id="80" name=""/>
          <p:cNvSpPr/>
          <p:nvPr/>
        </p:nvSpPr>
        <p:spPr>
          <a:xfrm>
            <a:off x="5943600" y="838080"/>
            <a:ext cx="2971800" cy="6414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9966"/>
                </a:solidFill>
                <a:latin typeface="Times New Roman"/>
                <a:ea typeface="Simplified Arabic"/>
              </a:rPr>
              <a:t>	</a:t>
            </a:r>
            <a:r>
              <a:rPr b="1" lang="ar-SA" sz="3600" spc="-1" strike="noStrike">
                <a:solidFill>
                  <a:srgbClr val="ff9966"/>
                </a:solidFill>
                <a:latin typeface="Times New Roman"/>
                <a:cs typeface="Simplified Arabic"/>
              </a:rPr>
              <a:t>اشربوا من هذا كلكم، هذا هو دمي للعهد الجديد، الذي يهراق عنكم وعن كثيرين لمغفرة الخطايا</a:t>
            </a:r>
            <a:r>
              <a:rPr b="1" lang="ar-SA" sz="3600" spc="-1" strike="noStrike">
                <a:solidFill>
                  <a:srgbClr val="000000"/>
                </a:solidFill>
                <a:latin typeface="Times New Roman"/>
                <a:ea typeface="Simplified Arabic"/>
              </a:rPr>
              <a:t>.</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ff9966"/>
                </a:solidFill>
                <a:latin typeface="Times New Roman"/>
                <a:cs typeface="Simplified Arabic"/>
              </a:rPr>
              <a:t>آمين</a:t>
            </a:r>
            <a:r>
              <a:rPr b="1" i="1" lang="ar-SA" sz="3600" spc="-1" strike="noStrike">
                <a:solidFill>
                  <a:srgbClr val="ff9966"/>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304920"/>
            <a:ext cx="89154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ـقــدمــ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ا لك، مما هو لك، نقربه لك عن كل شيء، ومن أجل كل شيء.</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ياك نسبح. إياك نبارك. لك نشكر، يا رب، وإليك نطلب، يا إلهن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Se Imnoumen, se evloghoumen, si evkharistoumen,</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kyrie, ke dheometha sou, o Theors imo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304920"/>
            <a:ext cx="8839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228600"/>
            <a:ext cx="9144000" cy="7844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سـتدعـاء الـروح القـد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نقرب لك أيضا هذه العبادة الروحية غير الدموية، ونبتهل ونطلب ونتضرع. فأرسل روحك علينا، وعلى هذه القرابين الحاضر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جعل هذا الخبز جسد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ما في هذه الكأس دم مسيحك الك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04920"/>
            <a:ext cx="8458200" cy="67467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حوّلاً إياهما بروحك القدوس</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 ، آمين، أم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خصوصاً سيدتنا الكاملة القداسة الطاهرة، الفائقة البركات المجيدة ، والدة الإله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دائمة البتولية مري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جلوسـ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8915400" cy="8560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ا البيت المقدس والداخلين إليه بإيمان وورع ومخافة الله،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رئيس كهنتنا ... الموقر وكهنته المكرمين والشمامسة الخدام بالمسيح</a:t>
            </a:r>
            <a:r>
              <a:rPr b="1" lang="en-US"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وجميع الاكليروس والشعب، إلى الرب نطلب</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حكامنا ومساعديهم وجنودهم ولأجل مؤازرتهم في كل عمل صالح،  إلى الرب نطل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يا رب ارحم</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8839080" cy="8521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إنه واجب حقا أن نغبطك ، يا والدة الإله، الدائمة الغبطة، المنزهة عن كل عيب، وأم إلهنا. يا من هي أكرم من الشروبيم. وأمجد بلا قياس من السرافيم، يا من ولدت الله الكلمة ولبثت بتولا، إنك حقاً والدة الإله، إياك نعظم.</a:t>
            </a:r>
            <a:endParaRPr b="0" lang="en-US" sz="36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Asion estin os alithos makarizin se tin theortokon, tin aimakariston ke panamomiton, ke miter tou Theou imon. Tin dimioteran ton kherouvim, ke endhoxoteran assingritis ton seraphim. Tin adhiafthoros, Theon loghon tekoussan tin ondos Theotokon se meghalinomen</a:t>
            </a:r>
            <a:r>
              <a:rPr b="1" i="1" lang="en-US" sz="2400" spc="-1" strike="noStrike">
                <a:solidFill>
                  <a:srgbClr val="000000"/>
                </a:solidFill>
                <a:latin typeface="Times New Roman"/>
                <a:ea typeface="Simplified Arabic"/>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8600" y="0"/>
            <a:ext cx="9144000" cy="11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أذكر يا رب الحبر الروماني البابا.. الطوباوي. وبطريركنا.. المغبوط. ورئيس </a:t>
            </a:r>
            <a:r>
              <a:rPr b="1" lang="ar-SA" sz="3400" spc="-1" strike="noStrike">
                <a:solidFill>
                  <a:srgbClr val="000000"/>
                </a:solidFill>
                <a:latin typeface="Times New Roman"/>
                <a:ea typeface="Simplified Arabic"/>
              </a:rPr>
              <a:t>	</a:t>
            </a:r>
            <a:r>
              <a:rPr b="1" lang="ar-SA" sz="3400" spc="-1" strike="noStrike">
                <a:solidFill>
                  <a:srgbClr val="000000"/>
                </a:solidFill>
                <a:latin typeface="Times New Roman"/>
                <a:cs typeface="Simplified Arabic"/>
              </a:rPr>
              <a:t>كهنتنا.. الموقر وأنعم على كنائسك المقدسة أن يكونوا في سلام، أصحاء، مكرمين معافين، مديدي الأيام، مفصلين بأحكام  </a:t>
            </a:r>
            <a:r>
              <a:rPr b="1" lang="ar-SA" sz="3400" spc="-1" strike="noStrike">
                <a:solidFill>
                  <a:srgbClr val="ff0000"/>
                </a:solidFill>
                <a:latin typeface="Times New Roman"/>
                <a:ea typeface="Simplified Arabic"/>
              </a:rPr>
              <a:t>..</a:t>
            </a:r>
            <a:r>
              <a:rPr b="1" lang="ar-SA" sz="3400" spc="-1" strike="noStrike">
                <a:solidFill>
                  <a:srgbClr val="000000"/>
                </a:solidFill>
                <a:latin typeface="Times New Roman"/>
                <a:ea typeface="Simplified Arabic"/>
              </a:rPr>
              <a:t>  حقك.</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ذكر يا رب هذا الشعب الحاضر والخاطرين ببال كل واحد منا، وجميعهم وجميعه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ك.</a:t>
            </a:r>
            <a:r>
              <a:rPr b="1" lang="ar-SA" sz="36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أعطنا أن نمجد ونسبح بفم واحد وقلب واحد، اسمك الجدير بكل كرامة والعظيم الجلال، أيها الآب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الابن والروح القدس، الآن وكل أوان وإلى دهر الداهرين .</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400" spc="-1" strike="noStrike">
                <a:solidFill>
                  <a:srgbClr val="000000"/>
                </a:solidFill>
                <a:latin typeface="Times New Roman"/>
                <a:cs typeface="Simplified Arabic"/>
              </a:rPr>
              <a:t>آمين.</a:t>
            </a:r>
            <a:endParaRPr b="0" lang="en-US" sz="3400" spc="-1" strike="noStrike">
              <a:solidFill>
                <a:srgbClr val="000000"/>
              </a:solidFill>
              <a:latin typeface="Times New Roman"/>
            </a:endParaRPr>
          </a:p>
          <a:p>
            <a:pPr algn="r" rtl="1">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0000"/>
                </a:solidFill>
                <a:latin typeface="Times New Roman"/>
                <a:ea typeface="Simplified Arabic"/>
              </a:rPr>
              <a:t> ك.</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ولتكن مراحم إلهنا العظيم ومخلصنا يسوع المسيح </a:t>
            </a:r>
            <a:r>
              <a:rPr b="1" lang="ar-SA" sz="3400" spc="-1" strike="noStrike">
                <a:solidFill>
                  <a:srgbClr val="ff0000"/>
                </a:solidFill>
                <a:latin typeface="Times New Roman"/>
                <a:ea typeface="Simplified Arabic"/>
              </a:rPr>
              <a:t>+ </a:t>
            </a:r>
            <a:r>
              <a:rPr b="1" lang="ar-SA" sz="3400" spc="-1" strike="noStrike">
                <a:solidFill>
                  <a:srgbClr val="000000"/>
                </a:solidFill>
                <a:latin typeface="Times New Roman"/>
                <a:cs typeface="Simplified Arabic"/>
              </a:rPr>
              <a:t>مع جميعكم.</a:t>
            </a:r>
            <a:endParaRPr b="0" lang="en-US" sz="34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Simplified Arabic"/>
              </a:rPr>
              <a:t> 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مع روحك.</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 y="0"/>
            <a:ext cx="8458200" cy="7295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تـهـيـئـة للمنـاولـ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يكون نهارنا كله كاملاً مقدساً سلامياً وب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طيئة،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ملاك سلام مرشداً أمينا، حارساً نفوسنا وأجساد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مسامحة بخطايانا وغفران ذنوبنا، الرب نسأ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04920"/>
            <a:ext cx="8839080" cy="696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خيرات الموافقة لنفوسنا والسلام للعالم، الرب</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نقضي الزمن الباقي من حياتنا بسلام وتوبة،</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الرب نسأل.</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endParaRPr b="0" lang="en-US" sz="3600" spc="-1" strike="noStrike">
              <a:solidFill>
                <a:srgbClr val="000000"/>
              </a:solidFill>
              <a:latin typeface="Times New Roman"/>
            </a:endParaRPr>
          </a:p>
          <a:p>
            <a:pPr algn="r" rtl="1">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ن تكون أواخر حياتنا مسيحية سلامية، بلا وجع ول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خزي، وأن نؤدي جواباً</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حسناً لدى منبر المسيح</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الرهيب، الرب نسأل.</a:t>
            </a:r>
            <a:endParaRPr b="0" lang="en-US" sz="36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استجب يا رب</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304920"/>
            <a:ext cx="8915400" cy="6175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سأل الوحدة في الإيمان، وشركة الروح لاقدس،</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لنودع المسيح الإله ذواتن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بعضنا بعضاً،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أهلنا، أيها السيد، لأن نجسر بدالة وبلا دينونة على</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أن ندعوك أباً، أنت الإله السماوي، ونقول:</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وقـوفــ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صلاة الرب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4648320" y="0"/>
            <a:ext cx="4190760" cy="9992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9966"/>
                </a:solidFill>
                <a:latin typeface="Times New Roman"/>
                <a:ea typeface="Simplified Arabic"/>
              </a:rPr>
              <a:t>	</a:t>
            </a:r>
            <a:r>
              <a:rPr b="1" i="1" lang="ar-SA" sz="3600" spc="-1" strike="noStrike">
                <a:solidFill>
                  <a:srgbClr val="ff9933"/>
                </a:solidFill>
                <a:latin typeface="Times New Roman"/>
                <a:cs typeface="Simplified Arabic"/>
              </a:rPr>
              <a:t>أبانا الذي في السماوات. ليتقدس اسمك. ليأت ملكوتك. لتكن مشيئتك كما في السماء كذلك على الأرض. أعطنا خبزنا كفاف يومنا. واغفر لنا خطايانا. كما نغفر نحن لمن أساء إلينا. ولا تدخلنا في التجارب.لكن نجنا من الشر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1" name="31708723cFLzrRMjjT_ph" descr=""/>
          <p:cNvPicPr/>
          <p:nvPr/>
        </p:nvPicPr>
        <p:blipFill>
          <a:blip r:embed="rId1"/>
          <a:stretch/>
        </p:blipFill>
        <p:spPr>
          <a:xfrm>
            <a:off x="0" y="0"/>
            <a:ext cx="472428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8915400" cy="76478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لأن لك الملك والقدرة والمجد، أيها الآب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والابن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روح القدس ، الآن وكل أوان وإلى دهر الداهر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آمين.</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السلام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لجميعكم.</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ولروح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أحنوا رؤسكم لل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لك يا رب.</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بنعمة ابنك الوحيد ورأفته ومحبته للبشر، الذي أنت</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 مبارك </a:t>
            </a:r>
            <a:r>
              <a:rPr b="1" lang="ar-SA" sz="3600" spc="-1" strike="noStrike">
                <a:solidFill>
                  <a:srgbClr val="ff0000"/>
                </a:solidFill>
                <a:latin typeface="Times New Roman"/>
                <a:ea typeface="Simplified Arabic"/>
              </a:rPr>
              <a:t>+</a:t>
            </a:r>
            <a:r>
              <a:rPr b="1" lang="ar-SA" sz="3600" spc="-1" strike="noStrike">
                <a:solidFill>
                  <a:srgbClr val="000000"/>
                </a:solidFill>
                <a:latin typeface="Times New Roman"/>
                <a:ea typeface="Simplified Arabic"/>
              </a:rPr>
              <a:t> معه، ومع روحك القدوس الصالح </a:t>
            </a:r>
            <a:r>
              <a:rPr b="1" lang="ar-SA" sz="3600" spc="-1" strike="noStrike">
                <a:solidFill>
                  <a:srgbClr val="000000"/>
                </a:solidFill>
                <a:latin typeface="Times New Roman"/>
                <a:ea typeface="Simplified Arabic"/>
              </a:rPr>
              <a:t>	</a:t>
            </a:r>
            <a:r>
              <a:rPr b="1" lang="ar-SA" sz="3600" spc="-1" strike="noStrike">
                <a:solidFill>
                  <a:srgbClr val="000000"/>
                </a:solidFill>
                <a:latin typeface="Times New Roman"/>
                <a:cs typeface="Simplified Arabic"/>
              </a:rPr>
              <a:t>والمحيي، الآن وكل أون وإلى دهر الداهرين.</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آمين</a:t>
            </a:r>
            <a:r>
              <a:rPr b="1" i="1" lang="ar-SA" sz="36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304920"/>
            <a:ext cx="8839080" cy="50778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صـلاة المـشاركة</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فلنصغ، الأقداس للقديس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قدوس واحد، رب واحد، يسوع المسيح، لمجد الله</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a:t>
            </a:r>
            <a:r>
              <a:rPr b="1" i="1" lang="ar-SA" sz="3600" spc="-1" strike="noStrike">
                <a:solidFill>
                  <a:srgbClr val="000000"/>
                </a:solidFill>
                <a:latin typeface="Times New Roman"/>
                <a:ea typeface="Simplified Arabic"/>
              </a:rPr>
              <a:t> الآب. آمين.</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Simplified Arabic"/>
              </a:rPr>
              <a:t>Is Ayios, Is Kyrios, Iissous khristos, is dhoxan Theou Patros. Amen.</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638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صلاوات استعدادية للتناول</a:t>
            </a:r>
            <a:endParaRPr b="0" lang="en-US" sz="3200" spc="-1" strike="noStrike">
              <a:solidFill>
                <a:srgbClr val="000000"/>
              </a:solidFill>
              <a:latin typeface="Times New Roman"/>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Simplified Arabic"/>
              </a:rPr>
              <a:t>ش.</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أنا أومن يا رب وأعترف، أنك أنت حقاً المسيح ابن الله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حي، الذي أتى إلى العالم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يخلص الخطأة، الذين أولهم أن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ومن أيضاً أن هذا هو جسدك الطاهر، وهذا هو دمك</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كريم. فأطلب إذن إليك أن ارحمني وتجاوز عما زللت به،</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عمداً أو سهواً، القول أو بالفعل، عن معرفة أو عن جهل.</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وأهلني لأن أتناول بلا دينونة أسرارك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الطاهرة، لغفران</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الخطايا وللحياة الأبدية. آ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إقبلني اليوم شريكاً في عشائك السري، يا ابن الله. فاني لا</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أقول سرك لأعدائك، ولا أقبّلك مثل يهوذا. بل كاللص أعترف</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ك: أذكرني يا رب في ملكوتك.</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لا يكن لي تناول أسرارك المقدسة، يا رب للدينونة أو</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ea typeface="Simplified Arabic"/>
              </a:rPr>
              <a:t> للقضاء، بل لشفاء النفس </a:t>
            </a:r>
            <a:r>
              <a:rPr b="1" i="1" lang="ar-SA" sz="3200" spc="-1" strike="noStrike">
                <a:solidFill>
                  <a:srgbClr val="000000"/>
                </a:solidFill>
                <a:latin typeface="Times New Roman"/>
                <a:ea typeface="Simplified Arabic"/>
              </a:rPr>
              <a:t>	</a:t>
            </a:r>
            <a:r>
              <a:rPr b="1" i="1" lang="ar-SA" sz="3200" spc="-1" strike="noStrike">
                <a:solidFill>
                  <a:srgbClr val="000000"/>
                </a:solidFill>
                <a:latin typeface="Times New Roman"/>
                <a:cs typeface="Simplified Arabic"/>
              </a:rPr>
              <a:t>والجسد</a:t>
            </a:r>
            <a:r>
              <a:rPr b="1" i="1" lang="ar-SA" sz="32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0"/>
            <a:ext cx="9372600" cy="84031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هذه البلدة وكل مدينة وقرية، والمؤمنين الساكنين فيها، إلى الرب نطلب</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أجل المسافرين في البحر والبر والجو، والمرضى والمتعبين والمسبيين، إلى الرب نطلب</a:t>
            </a:r>
            <a:endParaRPr b="0" lang="en-US" sz="3600" spc="-1" strike="noStrike">
              <a:solidFill>
                <a:srgbClr val="000000"/>
              </a:solidFill>
              <a:latin typeface="Times New Roman"/>
            </a:endParaRPr>
          </a:p>
          <a:p>
            <a:pPr algn="r" rtl="1">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Times New Roman"/>
              </a:rPr>
              <a:t>لأجل نجاتنا من كل ضيق وغضب وخطر وشدة، إلى الرب نطل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عضدنا وخلصنا وارحمنا واحفظنا، يا الله بنعمتك</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Simplified Arabic"/>
              </a:rPr>
              <a:t>يا رب ارح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00155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لنذكر سيدتنا الكاملة القداسة، الطاهرة، الفائقة البركات المجيدة، والدة الإله الدائمة البتولية مريم، وجميع القديسين، ولنودع المسيح الإله ذواتنا وبعضنا بعضا وحياتنا كلها.</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0000"/>
                </a:solidFill>
                <a:latin typeface="Times New Roman"/>
                <a:ea typeface="Simplified Arabic"/>
              </a:rPr>
              <a:t>	</a:t>
            </a:r>
            <a:r>
              <a:rPr b="1" i="1" lang="ar-SA" sz="3600" spc="-1" strike="noStrike">
                <a:solidFill>
                  <a:srgbClr val="000000"/>
                </a:solidFill>
                <a:latin typeface="Times New Roman"/>
                <a:cs typeface="Times New Roman"/>
              </a:rPr>
              <a:t>لك يا رب</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ك. </a:t>
            </a:r>
            <a:r>
              <a:rPr b="1" lang="ar-SA" sz="3600" spc="-1" strike="noStrike">
                <a:solidFill>
                  <a:srgbClr val="ff0000"/>
                </a:solidFill>
                <a:latin typeface="Times New Roman"/>
                <a:ea typeface="Simplified Arabic"/>
              </a:rPr>
              <a:t>	</a:t>
            </a:r>
            <a:r>
              <a:rPr b="1" lang="ar-SA" sz="3600" spc="-1" strike="noStrike">
                <a:solidFill>
                  <a:srgbClr val="000000"/>
                </a:solidFill>
                <a:latin typeface="Times New Roman"/>
                <a:cs typeface="Simplified Arabic"/>
              </a:rPr>
              <a:t>أيها الرب إلهنا، الذي تمثل عزته، ولا يدرك مجده، ولا تقاس رحمته، ولا يفي وصف بمحبته للبشر، أنت، أيها السيد، إطلع، بتحننك، علينا وعلى هذا البيت المقدس، واجعل مراحمك ورأفتك غزيرة علينا وعلى المصلين معنا</a:t>
            </a:r>
            <a:r>
              <a:rPr b="1" lang="ar-SA" sz="3600" spc="-1" strike="noStrike">
                <a:solidFill>
                  <a:srgbClr val="000000"/>
                </a:solidFill>
                <a:latin typeface="Times New Roman"/>
                <a:ea typeface="Times New Roman"/>
              </a:rPr>
              <a:t>.</a:t>
            </a:r>
            <a:r>
              <a:rPr b="0"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لأن</a:t>
            </a:r>
            <a:r>
              <a:rPr b="1" lang="ar-SA" sz="3600" spc="-1" strike="noStrike">
                <a:solidFill>
                  <a:srgbClr val="000000"/>
                </a:solidFill>
                <a:latin typeface="Times New Roman"/>
                <a:cs typeface="Simplified Arabic"/>
              </a:rPr>
              <a:t>ه لك ينبغي كل مجد وإكرام وسجود، أيها الآب</a:t>
            </a:r>
            <a:r>
              <a:rPr b="1" lang="ar-SA" sz="3600" spc="-1" strike="noStrike">
                <a:solidFill>
                  <a:srgbClr val="ff0000"/>
                </a:solidFill>
                <a:latin typeface="Times New Roman"/>
                <a:ea typeface="Simplified Arabic"/>
              </a:rPr>
              <a:t> + </a:t>
            </a:r>
            <a:r>
              <a:rPr b="1" lang="ar-SA" sz="3600" spc="-1" strike="noStrike">
                <a:solidFill>
                  <a:srgbClr val="000000"/>
                </a:solidFill>
                <a:latin typeface="Times New Roman"/>
                <a:cs typeface="Simplified Arabic"/>
              </a:rPr>
              <a:t>والابن والروح القدس، الآن وكل  أوان وإلى دهر الداهرين.</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33970022KxIDYC_ph" descr=""/>
          <p:cNvPicPr/>
          <p:nvPr/>
        </p:nvPicPr>
        <p:blipFill>
          <a:blip r:embed="rId2"/>
          <a:stretch/>
        </p:blipFill>
        <p:spPr>
          <a:xfrm>
            <a:off x="-46080" y="0"/>
            <a:ext cx="4541760" cy="6858000"/>
          </a:xfrm>
          <a:prstGeom prst="rect">
            <a:avLst/>
          </a:prstGeom>
          <a:ln w="0">
            <a:noFill/>
          </a:ln>
        </p:spPr>
      </p:pic>
      <p:sp>
        <p:nvSpPr>
          <p:cNvPr id="47" name=""/>
          <p:cNvSpPr/>
          <p:nvPr/>
        </p:nvSpPr>
        <p:spPr>
          <a:xfrm>
            <a:off x="4038480" y="304920"/>
            <a:ext cx="510552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Simplified Arabic"/>
              </a:rPr>
              <a:t>ش. </a:t>
            </a:r>
            <a:r>
              <a:rPr b="1" lang="ar-SA" sz="4000" spc="-1" strike="noStrike">
                <a:solidFill>
                  <a:srgbClr val="ffff00"/>
                </a:solidFill>
                <a:latin typeface="Times New Roman"/>
                <a:ea typeface="Simplified Arabic"/>
              </a:rPr>
              <a:t>	</a:t>
            </a:r>
            <a:r>
              <a:rPr b="1" i="1" lang="ar-SA" sz="4000" spc="-1" strike="noStrike">
                <a:solidFill>
                  <a:srgbClr val="ffff00"/>
                </a:solidFill>
                <a:latin typeface="Times New Roman"/>
                <a:cs typeface="Simplified Arabic"/>
              </a:rPr>
              <a:t>بشفاعة والدة الإله، يا مخلص خلصنا (مرتين)</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Simplified Arabic"/>
              </a:rPr>
              <a:t>Tes prezvies tis Theotokou, Soter, sosson imas.</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مجد للآب والابن والروح القدس.</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00"/>
                </a:solidFill>
                <a:latin typeface="Times New Roman"/>
                <a:cs typeface="Simplified Arabic"/>
              </a:rPr>
              <a:t>الآن وكل أوان وإلى دهر الداهرين. </a:t>
            </a:r>
            <a:r>
              <a:rPr b="1" i="1" lang="ar-SA" sz="4000" spc="-1" strike="noStrike">
                <a:solidFill>
                  <a:srgbClr val="ffff00"/>
                </a:solidFill>
                <a:latin typeface="Times New Roman"/>
                <a:cs typeface="Times New Roman"/>
              </a:rPr>
              <a:t>آمين</a:t>
            </a:r>
            <a:r>
              <a:rPr b="0" lang="ar-SA" sz="4000" spc="-1" strike="noStrike">
                <a:solidFill>
                  <a:srgbClr val="ffff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 name="27464458nCLHzxaeRl_ph" descr=""/>
          <p:cNvPicPr/>
          <p:nvPr/>
        </p:nvPicPr>
        <p:blipFill>
          <a:blip r:embed="rId1"/>
          <a:stretch/>
        </p:blipFill>
        <p:spPr>
          <a:xfrm>
            <a:off x="0" y="0"/>
            <a:ext cx="4572000" cy="6858000"/>
          </a:xfrm>
          <a:prstGeom prst="rect">
            <a:avLst/>
          </a:prstGeom>
          <a:ln w="0">
            <a:noFill/>
          </a:ln>
        </p:spPr>
      </p:pic>
      <p:sp>
        <p:nvSpPr>
          <p:cNvPr id="49" name=""/>
          <p:cNvSpPr/>
          <p:nvPr/>
        </p:nvSpPr>
        <p:spPr>
          <a:xfrm>
            <a:off x="4495680" y="0"/>
            <a:ext cx="4648320" cy="10455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كلمة الله، الابن الوحيد، الذي لا يموت. لقد رضيت من أجل خلاصنا، أن تتجسد من والدة الإله القديسة مريم الدائمة البتولية. فتأنست بغير استحالة. وصلبت أيها المسيح الإله، وبالموت وطئت الموت. أنت أحد الثالوث القدوس الممجد مع الآب والروح القدس. خلصنا</a:t>
            </a:r>
            <a:r>
              <a:rPr b="0"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4572000" y="0"/>
            <a:ext cx="4343400" cy="641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800600" y="304920"/>
            <a:ext cx="4343400" cy="87850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Times New Roman"/>
              </a:rPr>
              <a:t> </a:t>
            </a:r>
            <a:r>
              <a:rPr b="1" lang="ar-SA" sz="3600" spc="-1" strike="noStrike">
                <a:solidFill>
                  <a:srgbClr val="ff0000"/>
                </a:solidFill>
                <a:latin typeface="Times New Roman"/>
                <a:cs typeface="Simplified Arabic"/>
              </a:rPr>
              <a:t>التطواف بالإنجيل المقدس</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66"/>
                </a:solidFill>
                <a:latin typeface="Times New Roman"/>
                <a:ea typeface="Times New Roman"/>
              </a:rPr>
              <a:t> </a:t>
            </a:r>
            <a:r>
              <a:rPr b="1" lang="ar-SA" sz="3600" spc="-1" strike="noStrike">
                <a:solidFill>
                  <a:srgbClr val="ffcc66"/>
                </a:solidFill>
                <a:latin typeface="Times New Roman"/>
                <a:cs typeface="Simplified Arabic"/>
              </a:rPr>
              <a:t>الحكمة. فلنقف. هلموا نسجد ونركع للمسيح.</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cs typeface="Simplified Arabic"/>
              </a:rPr>
              <a:t>خلصنا يا ابن الله، يا من قام من بين الأموات، نحن المرنمين لك، هللويا.</a:t>
            </a:r>
            <a:endParaRPr b="0" lang="en-US" sz="3600" spc="-1" strike="noStrike">
              <a:solidFill>
                <a:srgbClr val="000000"/>
              </a:solidFill>
              <a:latin typeface="Times New Roman"/>
            </a:endParaRPr>
          </a:p>
          <a:p>
            <a:pPr algn="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 </a:t>
            </a:r>
            <a:r>
              <a:rPr b="1" lang="ar-SA" sz="3600" spc="-1" strike="noStrike">
                <a:solidFill>
                  <a:srgbClr val="ff0000"/>
                </a:solidFill>
                <a:latin typeface="Times New Roman"/>
                <a:cs typeface="Simplified Arabic"/>
              </a:rPr>
              <a:t>جلوســاً</a:t>
            </a:r>
            <a:endParaRPr b="0" lang="en-US" sz="3600" spc="-1" strike="noStrike">
              <a:solidFill>
                <a:srgbClr val="000000"/>
              </a:solidFill>
              <a:latin typeface="Times New Roman"/>
            </a:endParaRPr>
          </a:p>
          <a:p>
            <a:pPr algn="r" rtl="1">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الأناشـيد  ثـم القنــداق</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2" name="24417727XXNUYQqnJP_ph" descr=""/>
          <p:cNvPicPr/>
          <p:nvPr/>
        </p:nvPicPr>
        <p:blipFill>
          <a:blip r:embed="rId1"/>
          <a:stretch/>
        </p:blipFill>
        <p:spPr>
          <a:xfrm>
            <a:off x="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26653352dLerzNMpWg_ph" descr=""/>
          <p:cNvPicPr/>
          <p:nvPr/>
        </p:nvPicPr>
        <p:blipFill>
          <a:blip r:embed="rId1"/>
          <a:stretch/>
        </p:blipFill>
        <p:spPr>
          <a:xfrm>
            <a:off x="0" y="0"/>
            <a:ext cx="4151160" cy="6858000"/>
          </a:xfrm>
          <a:prstGeom prst="rect">
            <a:avLst/>
          </a:prstGeom>
          <a:ln w="0">
            <a:noFill/>
          </a:ln>
        </p:spPr>
      </p:pic>
      <p:sp>
        <p:nvSpPr>
          <p:cNvPr id="54" name=""/>
          <p:cNvSpPr/>
          <p:nvPr/>
        </p:nvSpPr>
        <p:spPr>
          <a:xfrm>
            <a:off x="4343400" y="304920"/>
            <a:ext cx="4343400" cy="8169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Simplified Arabic"/>
              </a:rPr>
              <a:t>ش. </a:t>
            </a:r>
            <a:r>
              <a:rPr b="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نصيرة المسيحيين التي لا تخزى ووسيطتهم الدائمة لدى الخالق.لا تعرضي عن أصوات الخطأة الطالبين إليك، بل بما أنك صالحة، بادري إلى معونتنا نحن الصارخين إليك بإيمان:هلمي إلى الشفاعة واسرعي إلى الابتهال.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imes New Roman"/>
                <a:ea typeface="Simplified Arabic"/>
              </a:rPr>
              <a:t>	</a:t>
            </a:r>
            <a:r>
              <a:rPr b="1" i="1" lang="ar-SA" sz="3600" spc="-1" strike="noStrike">
                <a:solidFill>
                  <a:srgbClr val="ffffff"/>
                </a:solidFill>
                <a:latin typeface="Times New Roman"/>
                <a:cs typeface="Simplified Arabic"/>
              </a:rPr>
              <a:t>يا والدة الإله، المحامية دائماً عن مكرميك</a:t>
            </a:r>
            <a:r>
              <a:rPr b="1" i="1" lang="ar-SA"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8:19:57Z</dcterms:created>
  <dc:creator>SUZANNE.MD</dc:creator>
  <dc:description/>
  <dc:language>en-US</dc:language>
  <cp:lastModifiedBy>SUZANNE.MD</cp:lastModifiedBy>
  <dcterms:modified xsi:type="dcterms:W3CDTF">2003-01-23T06:56:43Z</dcterms:modified>
  <cp:revision>14</cp:revision>
  <dc:subject/>
  <dc:title>PowerPoint Presentation</dc:title>
</cp:coreProperties>
</file>