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EEC-9C47-469D-86A9-746FC5E4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717-AECF-4DFC-A4C4-96513868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0B0-0407-437B-8CFD-8EA22950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D13-76A2-46F5-B775-A27348F0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9930-8636-49ED-903E-90ACF99B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217-29C3-4532-A6A7-7CD3786B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85D-1614-4B0A-B175-1C3915AE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488-1461-45CF-877B-54EE12A7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A47-D84B-43E7-9FBA-55B0F63A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1EF-3C9F-408B-B61E-F816BE27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0CA-5DDC-4B48-946A-58D60295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73A-E3B9-4DA1-BB0E-DF351DE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D8AE-A180-4F86-9DE4-F39DD7306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ّ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228600" y="0"/>
            <a:ext cx="5105520" cy="9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ربي قلبك حنّا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 اللي عليِّ سهران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طيني بحبك صير كب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كن قلبي يضل صغ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كِبْرو بمحبة ملي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4572000" cy="9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قلت بإنجيلك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لناس اللي تابعين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لي ما في عندو قلب صغيّر يعرف إنو يح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ّو من تلاميذ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514600" y="5067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45720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للحب اخترتو عمري للرب اندرتو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ما إكبر عمري يضل من نبعك يغرُف ما يمل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حدك يبقى لآخِرتو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8458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838080"/>
            <a:ext cx="4572000" cy="12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رَب بأول قربان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ين الناس منق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ايي تا يسكن قلب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صليلو برتّل حبّ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بجدد فيه إيما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82880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5:35:46Z</dcterms:created>
  <dc:creator>SUZANNE.MD</dc:creator>
  <dc:description/>
  <dc:language>en-US</dc:language>
  <cp:lastModifiedBy>HANI SAFI</cp:lastModifiedBy>
  <dcterms:modified xsi:type="dcterms:W3CDTF">2003-05-03T04:09:11Z</dcterms:modified>
  <cp:revision>3</cp:revision>
  <dc:subject/>
  <dc:title>PowerPoint Presentation</dc:title>
</cp:coreProperties>
</file>