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FD18-405F-4B37-9CEC-DAA33AD0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FE92-FD0C-4FAC-82D2-BFF2CB56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F1F-E2C2-409A-A1E2-245291AF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B99D-049D-4CBB-8C65-7948E387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CF49-F65A-4D60-840C-9CAAD36E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9733-F5DF-41F4-91D2-C0C192A4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9479-A8E8-47F3-9B5E-D760260F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49AE-2A78-4D0E-BC0C-E48863B1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C90-2079-4CB8-9EA0-D7D57973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5B00-60B7-4E5D-B876-E684BDCE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F51A-D51A-4A55-8438-9ABDD62F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9AB2-367B-4001-99ED-A74727DE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770C-313F-4D23-A106-DA19636AF2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77920"/>
            <a:ext cx="4500720" cy="954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000000"/>
                </a:solidFill>
                <a:latin typeface="Arial"/>
                <a:cs typeface="Akhbar MT"/>
              </a:rPr>
              <a:t>مريم كفّي البكاء، ألـمسيح حقاً قام.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77920"/>
            <a:ext cx="4500720" cy="1269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000000"/>
                </a:solidFill>
                <a:latin typeface="Arial"/>
                <a:cs typeface="Akhbar MT"/>
              </a:rPr>
              <a:t>إنَّ المسيح</a:t>
            </a:r>
            <a:br>
              <a:rPr sz="9400"/>
            </a:br>
            <a:r>
              <a:rPr b="1" lang="ar-SA" sz="9400" spc="-1" strike="noStrike">
                <a:solidFill>
                  <a:srgbClr val="000000"/>
                </a:solidFill>
                <a:latin typeface="Arial"/>
                <a:cs typeface="Akhbar MT"/>
              </a:rPr>
              <a:t>قد قام فافرحوا</a:t>
            </a:r>
            <a:br>
              <a:rPr sz="9400"/>
            </a:br>
            <a:r>
              <a:rPr b="1" lang="ar-SA" sz="9400" spc="-1" strike="noStrike">
                <a:solidFill>
                  <a:srgbClr val="000000"/>
                </a:solidFill>
                <a:latin typeface="Arial"/>
                <a:cs typeface="Akhbar MT"/>
              </a:rPr>
              <a:t>يا مؤمنون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156360" cy="1376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َسوعُ يَا مَن قُمْتَ</a:t>
            </a:r>
            <a:br>
              <a:rPr sz="8800"/>
            </a:b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ِنْ بَيْنَ الأَمْوَات هَبْنَا الفَرَحَ وَالسَّلامْ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4:07:52Z</dcterms:created>
  <dc:creator>Charbel Azar</dc:creator>
  <dc:description/>
  <dc:language>en-US</dc:language>
  <cp:lastModifiedBy>-</cp:lastModifiedBy>
  <dcterms:modified xsi:type="dcterms:W3CDTF">2003-04-19T12:16:16Z</dcterms:modified>
  <cp:revision>6</cp:revision>
  <dc:subject/>
  <dc:title>Slide 1</dc:title>
</cp:coreProperties>
</file>