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0B0-13C6-4E55-8BE6-416FD5E9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136-4D19-4A0D-831E-95ACE991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6BB0-5E92-440A-AE36-B7F24D3D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5D7-826D-47B5-8382-7762F2C8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D44-7BF0-427F-9D82-1C1106CF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B17-1CFB-42B1-912E-B579EE5B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43EA-2F3E-4E0A-810D-5B64E0B4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1214-9939-48D7-AF03-E7698680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2C89-F0A2-41C0-86C1-C78AEA50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9010-E575-4FB2-877E-7C6405BC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D4E0-98DD-4902-9898-42A36C69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CE1-4C83-416F-80CE-2B8E22EA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9DF4-534F-43AE-9609-D74E7BC6BB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77920"/>
            <a:ext cx="4500720" cy="954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000000"/>
                </a:solidFill>
                <a:latin typeface="Arial"/>
                <a:cs typeface="Akhbar MT"/>
              </a:rPr>
              <a:t>مريم كفّي البكاء، ألـمسيح حقاً قام.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77920"/>
            <a:ext cx="4500720" cy="1269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000000"/>
                </a:solidFill>
                <a:latin typeface="Arial"/>
                <a:cs typeface="Akhbar MT"/>
              </a:rPr>
              <a:t>إنَّ المسيح</a:t>
            </a:r>
            <a:br>
              <a:rPr sz="9400"/>
            </a:br>
            <a:r>
              <a:rPr b="1" lang="ar-SA" sz="9400" spc="-1" strike="noStrike">
                <a:solidFill>
                  <a:srgbClr val="000000"/>
                </a:solidFill>
                <a:latin typeface="Arial"/>
                <a:cs typeface="Akhbar MT"/>
              </a:rPr>
              <a:t>قد قام فافرحوا</a:t>
            </a:r>
            <a:br>
              <a:rPr sz="9400"/>
            </a:br>
            <a:r>
              <a:rPr b="1" lang="ar-SA" sz="9400" spc="-1" strike="noStrike">
                <a:solidFill>
                  <a:srgbClr val="000000"/>
                </a:solidFill>
                <a:latin typeface="Arial"/>
                <a:cs typeface="Akhbar MT"/>
              </a:rPr>
              <a:t>يا مؤمنون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156360" cy="1376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َسوعُ يَا مَن قُمْتَ</a:t>
            </a:r>
            <a:br>
              <a:rPr sz="8800"/>
            </a:b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ِنْ بَيْنَ الأَمْوَات هَبْنَا الفَرَحَ وَالسَّلامْ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4:07:52Z</dcterms:created>
  <dc:creator>Charbel Azar</dc:creator>
  <dc:description/>
  <dc:language>en-US</dc:language>
  <cp:lastModifiedBy>-</cp:lastModifiedBy>
  <dcterms:modified xsi:type="dcterms:W3CDTF">2003-04-19T12:16:16Z</dcterms:modified>
  <cp:revision>6</cp:revision>
  <dc:subject/>
  <dc:title>Slide 1</dc:title>
</cp:coreProperties>
</file>