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67E-7932-4FD9-BA2D-38928A23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5B1-7377-4405-B4F4-6530D39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D17-6A3B-4E91-833E-0523CEB2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873-7848-47D5-83CA-2F90671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FFAA-9657-4514-B728-199F026B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CF08-409A-441D-B349-3FF2B5E7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58E-84F7-48FA-9936-4386C63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235-80D5-48DB-869B-354176F5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54EF-0645-452B-A370-74BF821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C98-24D3-45DA-B22A-0670F917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61A7-0784-4ECF-9857-B2DBD87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C19-8EB7-493F-9DA6-DF45800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CDB7-9288-4CE2-A1E3-758A0F97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D7B-EA72-4E4F-BF51-2DC1BF2E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6B2-3FAA-42AB-AF9E-160FED6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5A6-EDDF-49A8-9C2C-5FEA59B6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1ECF-4E4A-4759-BC90-D607ACE4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C7D-97C0-4680-877D-3C93482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CDE6-29F8-40E7-BFCB-8274F1A8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3B3-465C-435F-A6E1-6F82DF91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39C-CCDD-414E-9B8A-5BBF891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5CD-EBFE-487F-B837-5D330FD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679-2CC0-400E-B46B-63499EC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24E-005C-4F8C-B41B-85CC451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CCAD-E223-4726-866D-2540AC396E3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679-7FBB-4756-8420-3A6CC533868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زياح مار الياس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مَار الياس نَذِيرَ الحَاكِمِينْ، بَشِيرَ الرجاءِ إلى العالَمِين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يكَ تَهِفُّ القُلُوب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تى ضايَقَتْنا الكُرُوب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تَشَفَّعْ إلى الربِّ</a:t>
            </a:r>
            <a:br>
              <a:rPr sz="10800"/>
            </a:b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نا، يُسَدِّدْ خُطَانا وَيَرْأَفْ بـِنَا.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هِيبُ المَحَبَّةِ في قَلْبـِ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ذَابَ الحَواجِزَ مِنْ د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ُهَاثُ النَسِيمِ على جَنْبـِكَ، أفاضَ الرجاءَ على ك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ِيمانُكَ الحَيُّ هَزَّ السماءْ، فَجَاوَبَتِ النارُ حَرَّ الدُّعاء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 وَشَاءْ: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أرضِ لا كانَ غَيمٌ وماءْ!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: اسْكُبي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ُ بَعْدَ الظَّماءِ اشْر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لَمْ يَكْذِبِ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ادَ إلى الجِسْمِ رُوحَ الصّ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َيكَ أَيا سَاكِنَ السَّمو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َحِنُّ لَواعِجُنا الظَّامِئـَا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ـِجَاهِ نَبيِّكَ، هَبْنَا الثـَّب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سُبُلِ البرِّ حتَّى الـمَمَاتْ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13T12:00:07Z</dcterms:modified>
  <cp:revision>14</cp:revision>
  <dc:subject/>
  <dc:title>Slide 1</dc:title>
</cp:coreProperties>
</file>