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369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61.xml.rels" ContentType="application/vnd.openxmlformats-package.relationships+xml"/>
  <Override PartName="/ppt/slides/_rels/slide156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368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8.xml.rels" ContentType="application/vnd.openxmlformats-package.relationships+xml"/>
  <Override PartName="/ppt/slides/_rels/slide159.xml.rels" ContentType="application/vnd.openxmlformats-package.relationships+xml"/>
  <Override PartName="/ppt/slides/_rels/slide164.xml.rels" ContentType="application/vnd.openxmlformats-package.relationships+xml"/>
  <Override PartName="/ppt/slides/_rels/slide12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154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162.xml.rels" ContentType="application/vnd.openxmlformats-package.relationships+xml"/>
  <Override PartName="/ppt/slides/_rels/slide180.xml.rels" ContentType="application/vnd.openxmlformats-package.relationships+xml"/>
  <Override PartName="/ppt/slides/_rels/slide201.xml.rels" ContentType="application/vnd.openxmlformats-package.relationships+xml"/>
  <Override PartName="/ppt/slides/_rels/slide22.xml.rels" ContentType="application/vnd.openxmlformats-package.relationships+xml"/>
  <Override PartName="/ppt/slides/_rels/slide160.xml.rels" ContentType="application/vnd.openxmlformats-package.relationships+xml"/>
  <Override PartName="/ppt/slides/_rels/slide326.xml.rels" ContentType="application/vnd.openxmlformats-package.relationships+xml"/>
  <Override PartName="/ppt/slides/_rels/slide64.xml.rels" ContentType="application/vnd.openxmlformats-package.relationships+xml"/>
  <Override PartName="/ppt/slides/_rels/slide360.xml.rels" ContentType="application/vnd.openxmlformats-package.relationships+xml"/>
  <Override PartName="/ppt/slides/_rels/slide256.xml.rels" ContentType="application/vnd.openxmlformats-package.relationships+xml"/>
  <Override PartName="/ppt/slides/_rels/slide327.xml.rels" ContentType="application/vnd.openxmlformats-package.relationships+xml"/>
  <Override PartName="/ppt/slides/_rels/slide120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24.xml.rels" ContentType="application/vnd.openxmlformats-package.relationships+xml"/>
  <Override PartName="/ppt/slides/_rels/slide320.xml.rels" ContentType="application/vnd.openxmlformats-package.relationships+xml"/>
  <Override PartName="/ppt/slides/_rels/slide101.xml.rels" ContentType="application/vnd.openxmlformats-package.relationships+xml"/>
  <Override PartName="/ppt/slides/_rels/slide170.xml.rels" ContentType="application/vnd.openxmlformats-package.relationships+xml"/>
  <Override PartName="/ppt/slides/_rels/slide380.xml.rels" ContentType="application/vnd.openxmlformats-package.relationships+xml"/>
  <Override PartName="/ppt/slides/_rels/slide401.xml.rels" ContentType="application/vnd.openxmlformats-package.relationships+xml"/>
  <Override PartName="/ppt/slides/_rels/slide375.xml.rels" ContentType="application/vnd.openxmlformats-package.relationships+xml"/>
  <Override PartName="/ppt/slides/_rels/slide336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30.xml.rels" ContentType="application/vnd.openxmlformats-package.relationships+xml"/>
  <Override PartName="/ppt/slides/_rels/slide102.xml.rels" ContentType="application/vnd.openxmlformats-package.relationships+xml"/>
  <Override PartName="/ppt/slides/_rels/slide74.xml.rels" ContentType="application/vnd.openxmlformats-package.relationships+xml"/>
  <Override PartName="/ppt/slides/_rels/slide370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59.xml.rels" ContentType="application/vnd.openxmlformats-package.relationships+xml"/>
  <Override PartName="/ppt/slides/_rels/slide79.xml.rels" ContentType="application/vnd.openxmlformats-package.relationships+xml"/>
  <Override PartName="/ppt/slides/_rels/slide171.xml.rels" ContentType="application/vnd.openxmlformats-package.relationships+xml"/>
  <Override PartName="/ppt/slides/_rels/slide381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08.xml.rels" ContentType="application/vnd.openxmlformats-package.relationships+xml"/>
  <Override PartName="/ppt/slides/_rels/slide113.xml.rels" ContentType="application/vnd.openxmlformats-package.relationships+xml"/>
  <Override PartName="/ppt/slides/_rels/slide75.xml.rels" ContentType="application/vnd.openxmlformats-package.relationships+xml"/>
  <Override PartName="/ppt/slides/_rels/slide371.xml.rels" ContentType="application/vnd.openxmlformats-package.relationships+xml"/>
  <Override PartName="/ppt/slides/_rels/slide80.xml.rels" ContentType="application/vnd.openxmlformats-package.relationships+xml"/>
  <Override PartName="/ppt/slides/_rels/slide26.xml.rels" ContentType="application/vnd.openxmlformats-package.relationships+xml"/>
  <Override PartName="/ppt/slides/_rels/slide322.xml.rels" ContentType="application/vnd.openxmlformats-package.relationships+xml"/>
  <Override PartName="/ppt/slides/_rels/slide31.xml.rels" ContentType="application/vnd.openxmlformats-package.relationships+xml"/>
  <Override PartName="/ppt/slides/_rels/slide218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114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76.xml.rels" ContentType="application/vnd.openxmlformats-package.relationships+xml"/>
  <Override PartName="/ppt/slides/_rels/slide372.xml.rels" ContentType="application/vnd.openxmlformats-package.relationships+xml"/>
  <Override PartName="/ppt/slides/_rels/slide81.xml.rels" ContentType="application/vnd.openxmlformats-package.relationships+xml"/>
  <Override PartName="/ppt/slides/_rels/slide104.xml.rels" ContentType="application/vnd.openxmlformats-package.relationships+xml"/>
  <Override PartName="/ppt/slides/_rels/slide77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258.xml.rels" ContentType="application/vnd.openxmlformats-package.relationships+xml"/>
  <Override PartName="/ppt/slides/_rels/slide362.xml.rels" ContentType="application/vnd.openxmlformats-package.relationships+xml"/>
  <Override PartName="/ppt/slides/_rels/slide78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163.xml.rels" ContentType="application/vnd.openxmlformats-package.relationships+xml"/>
  <Override PartName="/ppt/slides/_rels/slide181.xml.rels" ContentType="application/vnd.openxmlformats-package.relationships+xml"/>
  <Override PartName="/ppt/slides/_rels/slide202.xml.rels" ContentType="application/vnd.openxmlformats-package.relationships+xml"/>
  <Override PartName="/ppt/slides/_rels/slide191.xml.rels" ContentType="application/vnd.openxmlformats-package.relationships+xml"/>
  <Override PartName="/ppt/slides/_rels/slide357.xml.rels" ContentType="application/vnd.openxmlformats-package.relationships+xml"/>
  <Override PartName="/ppt/slides/_rels/slide66.xml.rels" ContentType="application/vnd.openxmlformats-package.relationships+xml"/>
  <Override PartName="/ppt/slides/_rels/slide325.xml.rels" ContentType="application/vnd.openxmlformats-package.relationships+xml"/>
  <Override PartName="/ppt/slides/_rels/slide330.xml.rels" ContentType="application/vnd.openxmlformats-package.relationships+xml"/>
  <Override PartName="/ppt/slides/_rels/slide383.xml.rels" ContentType="application/vnd.openxmlformats-package.relationships+xml"/>
  <Override PartName="/ppt/slides/_rels/slide87.xml.rels" ContentType="application/vnd.openxmlformats-package.relationships+xml"/>
  <Override PartName="/ppt/slides/_rels/slide404.xml.rels" ContentType="application/vnd.openxmlformats-package.relationships+xml"/>
  <Override PartName="/ppt/slides/_rels/slide92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24.xml.rels" ContentType="application/vnd.openxmlformats-package.relationships+xml"/>
  <Override PartName="/ppt/slides/_rels/slide199.xml.rels" ContentType="application/vnd.openxmlformats-package.relationships+xml"/>
  <Override PartName="/ppt/slides/_rels/slide335.xml.rels" ContentType="application/vnd.openxmlformats-package.relationships+xml"/>
  <Override PartName="/ppt/slides/_rels/slide44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5.xml.rels" ContentType="application/vnd.openxmlformats-package.relationships+xml"/>
  <Override PartName="/ppt/slides/_rels/slide89.xml.rels" ContentType="application/vnd.openxmlformats-package.relationships+xml"/>
  <Override PartName="/ppt/slides/_rels/slide385.xml.rels" ContentType="application/vnd.openxmlformats-package.relationships+xml"/>
  <Override PartName="/ppt/slides/_rels/slide390.xml.rels" ContentType="application/vnd.openxmlformats-package.relationships+xml"/>
  <Override PartName="/ppt/slides/_rels/slide94.xml.rels" ContentType="application/vnd.openxmlformats-package.relationships+xml"/>
  <Override PartName="/ppt/slides/_rels/slide406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343.xml.rels" ContentType="application/vnd.openxmlformats-package.relationships+xml"/>
  <Override PartName="/ppt/slides/_rels/slide338.xml.rels" ContentType="application/vnd.openxmlformats-package.relationships+xml"/>
  <Override PartName="/ppt/slides/_rels/slide17.xml.rels" ContentType="application/vnd.openxmlformats-package.relationships+xml"/>
  <Override PartName="/ppt/slides/_rels/slide313.xml.rels" ContentType="application/vnd.openxmlformats-package.relationships+xml"/>
  <Override PartName="/ppt/slides/_rels/slide308.xml.rels" ContentType="application/vnd.openxmlformats-package.relationships+xml"/>
  <Override PartName="/ppt/slides/_rels/slide344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4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350.xml.rels" ContentType="application/vnd.openxmlformats-package.relationships+xml"/>
  <Override PartName="/ppt/slides/_rels/slide246.xml.rels" ContentType="application/vnd.openxmlformats-package.relationships+xml"/>
  <Override PartName="/ppt/slides/_rels/slide332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27.xml.rels" ContentType="application/vnd.openxmlformats-package.relationships+xml"/>
  <Override PartName="/ppt/slides/_rels/slide354.xml.rels" ContentType="application/vnd.openxmlformats-package.relationships+xml"/>
  <Override PartName="/ppt/slides/_rels/slide349.xml.rels" ContentType="application/vnd.openxmlformats-package.relationships+xml"/>
  <Override PartName="/ppt/slides/_rels/slide46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99.xml.rels" ContentType="application/vnd.openxmlformats-package.relationships+xml"/>
  <Override PartName="/ppt/slides/_rels/slide59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278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4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398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97.xml.rels" ContentType="application/vnd.openxmlformats-package.relationships+xml"/>
  <Override PartName="/ppt/slides/_rels/slide356.xml.rels" ContentType="application/vnd.openxmlformats-package.relationships+xml"/>
  <Override PartName="/ppt/slides/_rels/slide29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355.xml.rels" ContentType="application/vnd.openxmlformats-package.relationships+xml"/>
  <Override PartName="/ppt/slides/_rels/slide28.xml.rels" ContentType="application/vnd.openxmlformats-package.relationships+xml"/>
  <Override PartName="/ppt/slides/_rels/slide254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128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39.xml.rels" ContentType="application/vnd.openxmlformats-package.relationships+xml"/>
  <Override PartName="/ppt/slides/_rels/slide286.xml.rels" ContentType="application/vnd.openxmlformats-package.relationshi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21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328.xml.rels" ContentType="application/vnd.openxmlformats-package.relationships+xml"/>
  <Override PartName="/ppt/slides/_rels/slide329.xml.rels" ContentType="application/vnd.openxmlformats-package.relationships+xml"/>
  <Override PartName="/ppt/slides/_rels/slide166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79.xml.rels" ContentType="application/vnd.openxmlformats-package.relationships+xml"/>
  <Override PartName="/ppt/slides/_rels/slide331.xml.rels" ContentType="application/vnd.openxmlformats-package.relationships+xml"/>
  <Override PartName="/ppt/slides/_rels/slide295.xml.rels" ContentType="application/vnd.openxmlformats-package.relationships+xml"/>
  <Override PartName="/ppt/slides/_rels/slide316.xml.rels" ContentType="application/vnd.openxmlformats-package.relationships+xml"/>
  <Override PartName="/ppt/slides/_rels/slide167.xml.rels" ContentType="application/vnd.openxmlformats-package.relationships+xml"/>
  <Override PartName="/ppt/slides/_rels/slide224.xml.rels" ContentType="application/vnd.openxmlformats-package.relationships+xml"/>
  <Override PartName="/ppt/slides/_rels/slide182.xml.rels" ContentType="application/vnd.openxmlformats-package.relationships+xml"/>
  <Override PartName="/ppt/slides/_rels/slide203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183.xml.rels" ContentType="application/vnd.openxmlformats-package.relationships+xml"/>
  <Override PartName="/ppt/slides/_rels/slide204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236.xml.rels" ContentType="application/vnd.openxmlformats-package.relationships+xml"/>
  <Override PartName="/ppt/slides/_rels/slide60.xml.rels" ContentType="application/vnd.openxmlformats-package.relationships+xml"/>
  <Override PartName="/ppt/slides/_rels/slide378.xml.rels" ContentType="application/vnd.openxmlformats-package.relationships+xml"/>
  <Override PartName="/ppt/slides/_rels/slide142.xml.rels" ContentType="application/vnd.openxmlformats-package.relationships+xml"/>
  <Override PartName="/ppt/slides/_rels/slide248.xml.rels" ContentType="application/vnd.openxmlformats-package.relationships+xml"/>
  <Override PartName="/ppt/slides/_rels/slide300.xml.rels" ContentType="application/vnd.openxmlformats-package.relationships+xml"/>
  <Override PartName="/ppt/slides/_rels/slide99.xml.rels" ContentType="application/vnd.openxmlformats-package.relationships+xml"/>
  <Override PartName="/ppt/slides/_rels/slide395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7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402.xml.rels" ContentType="application/vnd.openxmlformats-package.relationships+xml"/>
  <Override PartName="/ppt/slides/_rels/slide394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250.xml.rels" ContentType="application/vnd.openxmlformats-package.relationships+xml"/>
  <Override PartName="/ppt/slides/_rels/slide198.xml.rels" ContentType="application/vnd.openxmlformats-package.relationships+xml"/>
  <Override PartName="/ppt/slides/_rels/slide235.xml.rels" ContentType="application/vnd.openxmlformats-package.relationships+xml"/>
  <Override PartName="/ppt/slides/_rels/slide225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116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33.xml.rels" ContentType="application/vnd.openxmlformats-package.relationships+xml"/>
  <Override PartName="/ppt/slides/_rels/slide193.xml.rels" ContentType="application/vnd.openxmlformats-package.relationships+xml"/>
  <Override PartName="/ppt/slides/_rels/slide21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396.xml.rels" ContentType="application/vnd.openxmlformats-package.relationships+xml"/>
  <Override PartName="/ppt/slides/_rels/slide249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141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73.xml.rels" ContentType="application/vnd.openxmlformats-package.relationships+xml"/>
  <Override PartName="/ppt/slides/_rels/slide149.xml.rels" ContentType="application/vnd.openxmlformats-package.relationships+xml"/>
  <Override PartName="/ppt/slides/_rels/slide253.xml.rels" ContentType="application/vnd.openxmlformats-package.relationships+xml"/>
  <Override PartName="/ppt/slides/_rels/slide196.xml.rels" ContentType="application/vnd.openxmlformats-package.relationships+xml"/>
  <Override PartName="/ppt/slides/_rels/slide222.xml.rels" ContentType="application/vnd.openxmlformats-package.relationships+xml"/>
  <Override PartName="/ppt/slides/_rels/slide217.xml.rels" ContentType="application/vnd.openxmlformats-package.relationships+xml"/>
  <Override PartName="/ppt/slides/_rels/slide261.xml.rels" ContentType="application/vnd.openxmlformats-package.relationships+xml"/>
  <Override PartName="/ppt/slides/_rels/slide397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178.xml.rels" ContentType="application/vnd.openxmlformats-package.relationships+xml"/>
  <Override PartName="/ppt/slides/_rels/slide42.xml.rels" ContentType="application/vnd.openxmlformats-package.relationships+xml"/>
  <Override PartName="/ppt/slides/_rels/slide37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302.xml.rels" ContentType="application/vnd.openxmlformats-package.relationships+xml"/>
  <Override PartName="/ppt/slides/_rels/slide281.xml.rels" ContentType="application/vnd.openxmlformats-package.relationships+xml"/>
  <Override PartName="/ppt/slides/_rels/slide237.xml.rels" ContentType="application/vnd.openxmlformats-package.relationships+xml"/>
  <Override PartName="/ppt/slides/_rels/slide50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379.xml.rels" ContentType="application/vnd.openxmlformats-package.relationships+xml"/>
  <Override PartName="/ppt/slides/_rels/slide177.xml.rels" ContentType="application/vnd.openxmlformats-package.relationships+xml"/>
  <Override PartName="/ppt/slides/_rels/slide296.xml.rels" ContentType="application/vnd.openxmlformats-package.relationships+xml"/>
  <Override PartName="/ppt/slides/_rels/slide317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221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210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339.xml.rels" ContentType="application/vnd.openxmlformats-package.relationships+xml"/>
  <Override PartName="/ppt/slides/_rels/slide297.xml.rels" ContentType="application/vnd.openxmlformats-package.relationships+xml"/>
  <Override PartName="/ppt/slides/_rels/slide318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403.xml.rels" ContentType="application/vnd.openxmlformats-package.relationships+xml"/>
  <Override PartName="/ppt/slides/_rels/slide382.xml.rels" ContentType="application/vnd.openxmlformats-package.relationships+xml"/>
  <Override PartName="/ppt/slides/_rels/slide86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69.xml.rels" ContentType="application/vnd.openxmlformats-package.relationships+xml"/>
  <Override PartName="/ppt/slides/_rels/slide365.xml.rels" ContentType="application/vnd.openxmlformats-package.relationships+xml"/>
  <Override PartName="/ppt/slides/_rels/slide262.xml.rels" ContentType="application/vnd.openxmlformats-package.relationships+xml"/>
  <Override PartName="/ppt/slides/_rels/slide115.xml.rels" ContentType="application/vnd.openxmlformats-package.relationships+xml"/>
  <Override PartName="/ppt/slides/_rels/slide299.xml.rels" ContentType="application/vnd.openxmlformats-package.relationships+xml"/>
  <Override PartName="/ppt/slides/_rels/slide70.xml.rels" ContentType="application/vnd.openxmlformats-package.relationships+xml"/>
  <Override PartName="/ppt/slides/_rels/slide361.xml.rels" ContentType="application/vnd.openxmlformats-package.relationships+xml"/>
  <Override PartName="/ppt/slides/_rels/slide257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68.xml.rels" ContentType="application/vnd.openxmlformats-package.relationships+xml"/>
  <Override PartName="/ppt/slides/_rels/slide359.xml.rels" ContentType="application/vnd.openxmlformats-package.relationships+xml"/>
  <Override PartName="/ppt/slides/_rels/slide364.xml.rels" ContentType="application/vnd.openxmlformats-package.relationships+xml"/>
  <Override PartName="/ppt/slides/_rels/slide28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19.xml.rels" ContentType="application/vnd.openxmlformats-package.relationships+xml"/>
  <Override PartName="/ppt/slides/_rels/slide55.xml.rels" ContentType="application/vnd.openxmlformats-package.relationships+xml"/>
  <Override PartName="/ppt/slides/_rels/slide351.xml.rels" ContentType="application/vnd.openxmlformats-package.relationships+xml"/>
  <Override PartName="/ppt/slides/_rels/slide346.xml.rels" ContentType="application/vnd.openxmlformats-package.relationships+xml"/>
  <Override PartName="/ppt/slides/_rels/slide303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58.xml.rels" ContentType="application/vnd.openxmlformats-package.relationships+xml"/>
  <Override PartName="/ppt/slides/_rels/slide243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56.xml.rels" ContentType="application/vnd.openxmlformats-package.relationships+xml"/>
  <Override PartName="/ppt/slides/_rels/slide352.xml.rels" ContentType="application/vnd.openxmlformats-package.relationships+xml"/>
  <Override PartName="/ppt/slides/_rels/slide347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407.xml.rels" ContentType="application/vnd.openxmlformats-package.relationships+xml"/>
  <Override PartName="/ppt/slides/_rels/slide386.xml.rels" ContentType="application/vnd.openxmlformats-package.relationships+xml"/>
  <Override PartName="/ppt/slides/_rels/slide95.xml.rels" ContentType="application/vnd.openxmlformats-package.relationships+xml"/>
  <Override PartName="/ppt/slides/_rels/slide391.xml.rels" ContentType="application/vnd.openxmlformats-package.relationships+xml"/>
  <Override PartName="/ppt/slides/_rels/slide388.xml.rels" ContentType="application/vnd.openxmlformats-package.relationships+xml"/>
  <Override PartName="/ppt/slides/_rels/slide393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405.xml.rels" ContentType="application/vnd.openxmlformats-package.relationships+xml"/>
  <Override PartName="/ppt/slides/_rels/slide384.xml.rels" ContentType="application/vnd.openxmlformats-package.relationships+xml"/>
  <Override PartName="/ppt/slides/_rels/slide88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345.xml.rels" ContentType="application/vnd.openxmlformats-package.relationships+xml"/>
  <Override PartName="/ppt/slides/_rels/slide67.xml.rels" ContentType="application/vnd.openxmlformats-package.relationships+xml"/>
  <Override PartName="/ppt/slides/_rels/slide358.xml.rels" ContentType="application/vnd.openxmlformats-package.relationships+xml"/>
  <Override PartName="/ppt/slides/_rels/slide363.xml.rels" ContentType="application/vnd.openxmlformats-package.relationships+xml"/>
  <Override PartName="/ppt/slides/_rels/slide298.xml.rels" ContentType="application/vnd.openxmlformats-package.relationships+xml"/>
  <Override PartName="/ppt/slides/_rels/slide319.xml.rels" ContentType="application/vnd.openxmlformats-package.relationships+xml"/>
  <Override PartName="/ppt/slides/_rels/slide287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377.xml.rels" ContentType="application/vnd.openxmlformats-package.relationships+xml"/>
  <Override PartName="/ppt/slides/_rels/slide367.xml.rels" ContentType="application/vnd.openxmlformats-package.relationships+xml"/>
  <Override PartName="/ppt/slides/_rels/slide374.xml.rels" ContentType="application/vnd.openxmlformats-package.relationships+xml"/>
  <Override PartName="/ppt/slides/_rels/slide400.xml.rels" ContentType="application/vnd.openxmlformats-package.relationships+xml"/>
  <Override PartName="/ppt/slides/_rels/slide387.xml.rels" ContentType="application/vnd.openxmlformats-package.relationships+xml"/>
  <Override PartName="/ppt/slides/_rels/slide392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57.xml.rels" ContentType="application/vnd.openxmlformats-package.relationships+xml"/>
  <Override PartName="/ppt/slides/_rels/slide353.xml.rels" ContentType="application/vnd.openxmlformats-package.relationships+xml"/>
  <Override PartName="/ppt/slides/_rels/slide348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376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66.xml.rels" ContentType="application/vnd.openxmlformats-package.relationships+xml"/>
  <Override PartName="/ppt/slides/_rels/slide373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309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314.xml.rels" ContentType="application/vnd.openxmlformats-package.relationships+xml"/>
  <Override PartName="/ppt/slides/_rels/slide389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379.xml" ContentType="application/vnd.openxmlformats-officedocument.presentationml.slide+xml"/>
  <Override PartName="/ppt/slides/slide250.xml" ContentType="application/vnd.openxmlformats-officedocument.presentationml.slide+xml"/>
  <Override PartName="/ppt/slides/slide378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359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358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349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348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6.xml" ContentType="application/vnd.openxmlformats-officedocument.presentationml.slide+xml"/>
  <Override PartName="/ppt/slides/slide40.xml" ContentType="application/vnd.openxmlformats-officedocument.presentationml.slide+xml"/>
  <Override PartName="/ppt/slides/slide168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3.xml" ContentType="application/vnd.openxmlformats-officedocument.presentationml.slide+xml"/>
  <Override PartName="/ppt/slides/slide165.xml" ContentType="application/vnd.openxmlformats-officedocument.presentationml.slide+xml"/>
  <Override PartName="/ppt/slides/slide202.xml" ContentType="application/vnd.openxmlformats-officedocument.presentationml.slide+xml"/>
  <Override PartName="/ppt/slides/slide164.xml" ContentType="application/vnd.openxmlformats-officedocument.presentationml.slide+xml"/>
  <Override PartName="/ppt/slides/slide201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0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159.xml" ContentType="application/vnd.openxmlformats-officedocument.presentationml.slide+xml"/>
  <Override PartName="/ppt/slides/slide31.xml" ContentType="application/vnd.openxmlformats-officedocument.presentationml.slide+xml"/>
  <Override PartName="/ppt/slides/slide158.xml" ContentType="application/vnd.openxmlformats-officedocument.presentationml.slide+xml"/>
  <Override PartName="/ppt/slides/slide30.xml" ContentType="application/vnd.openxmlformats-officedocument.presentationml.slide+xml"/>
  <Override PartName="/ppt/slides/slide157.xml" ContentType="application/vnd.openxmlformats-officedocument.presentationml.slide+xml"/>
  <Override PartName="/ppt/slides/slide156.xml" ContentType="application/vnd.openxmlformats-officedocument.presentationml.slide+xml"/>
  <Override PartName="/ppt/slides/slide149.xml" ContentType="application/vnd.openxmlformats-officedocument.presentationml.slide+xml"/>
  <Override PartName="/ppt/slides/slide21.xml" ContentType="application/vnd.openxmlformats-officedocument.presentationml.slide+xml"/>
  <Override PartName="/ppt/slides/slide148.xml" ContentType="application/vnd.openxmlformats-officedocument.presentationml.slide+xml"/>
  <Override PartName="/ppt/slides/slide20.xml" ContentType="application/vnd.openxmlformats-officedocument.presentationml.slide+xml"/>
  <Override PartName="/ppt/slides/slide147.xml" ContentType="application/vnd.openxmlformats-officedocument.presentationml.slide+xml"/>
  <Override PartName="/ppt/slides/slide146.xml" ContentType="application/vnd.openxmlformats-officedocument.presentationml.slide+xml"/>
  <Override PartName="/ppt/slides/slide139.xml" ContentType="application/vnd.openxmlformats-officedocument.presentationml.slide+xml"/>
  <Override PartName="/ppt/slides/slide11.xml" ContentType="application/vnd.openxmlformats-officedocument.presentationml.slide+xml"/>
  <Override PartName="/ppt/slides/slide138.xml" ContentType="application/vnd.openxmlformats-officedocument.presentationml.slide+xml"/>
  <Override PartName="/ppt/slides/slide10.xml" ContentType="application/vnd.openxmlformats-officedocument.presentationml.slide+xml"/>
  <Override PartName="/ppt/slides/slide137.xml" ContentType="application/vnd.openxmlformats-officedocument.presentationml.slide+xml"/>
  <Override PartName="/ppt/slides/slide136.xml" ContentType="application/vnd.openxmlformats-officedocument.presentationml.slide+xml"/>
  <Override PartName="/ppt/slides/slide129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318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317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316.xml" ContentType="application/vnd.openxmlformats-officedocument.presentationml.slide+xml"/>
  <Override PartName="/ppt/slides/slide54.xml" ContentType="application/vnd.openxmlformats-officedocument.presentationml.slide+xml"/>
  <Override PartName="/ppt/slides/slide142.xml" ContentType="application/vnd.openxmlformats-officedocument.presentationml.slide+xml"/>
  <Override PartName="/ppt/slides/slide308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307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386.xml" ContentType="application/vnd.openxmlformats-officedocument.presentationml.slide+xml"/>
  <Override PartName="/ppt/slides/slide125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267.xml" ContentType="application/vnd.openxmlformats-officedocument.presentationml.slide+xml"/>
  <Override PartName="/ppt/slides/slide268.xml" ContentType="application/vnd.openxmlformats-officedocument.presentationml.slide+xml"/>
  <Override PartName="/ppt/slides/slide269.xml" ContentType="application/vnd.openxmlformats-officedocument.presentationml.slide+xml"/>
  <Override PartName="/ppt/slides/slide273.xml" ContentType="application/vnd.openxmlformats-officedocument.presentationml.slide+xml"/>
  <Override PartName="/ppt/slides/slide274.xml" ContentType="application/vnd.openxmlformats-officedocument.presentationml.slide+xml"/>
  <Override PartName="/ppt/slides/slide275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79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285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385.xml" ContentType="application/vnd.openxmlformats-officedocument.presentationml.slide+xml"/>
  <Override PartName="/ppt/slides/slide124.xml" ContentType="application/vnd.openxmlformats-officedocument.presentationml.slide+xml"/>
  <Override PartName="/ppt/slides/slide286.xml" ContentType="application/vnd.openxmlformats-officedocument.presentationml.slide+xml"/>
  <Override PartName="/ppt/slides/slide287.xml" ContentType="application/vnd.openxmlformats-officedocument.presentationml.slide+xml"/>
  <Override PartName="/ppt/slides/slide288.xml" ContentType="application/vnd.openxmlformats-officedocument.presentationml.slide+xml"/>
  <Override PartName="/ppt/slides/slide289.xml" ContentType="application/vnd.openxmlformats-officedocument.presentationml.slide+xml"/>
  <Override PartName="/ppt/slides/slide293.xml" ContentType="application/vnd.openxmlformats-officedocument.presentationml.slide+xml"/>
  <Override PartName="/ppt/slides/slide294.xml" ContentType="application/vnd.openxmlformats-officedocument.presentationml.slide+xml"/>
  <Override PartName="/ppt/slides/slide295.xml" ContentType="application/vnd.openxmlformats-officedocument.presentationml.slide+xml"/>
  <Override PartName="/ppt/slides/slide296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299.xml" ContentType="application/vnd.openxmlformats-officedocument.presentationml.slide+xml"/>
  <Override PartName="/ppt/slides/slide300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302.xml" ContentType="application/vnd.openxmlformats-officedocument.presentationml.slide+xml"/>
  <Override PartName="/ppt/slides/slide370.xml" ContentType="application/vnd.openxmlformats-officedocument.presentationml.slide+xml"/>
  <Override PartName="/ppt/slides/slide13.xml" ContentType="application/vnd.openxmlformats-officedocument.presentationml.slide+xml"/>
  <Override PartName="/ppt/slides/slide303.xml" ContentType="application/vnd.openxmlformats-officedocument.presentationml.slide+xml"/>
  <Override PartName="/ppt/slides/slide371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304.xml" ContentType="application/vnd.openxmlformats-officedocument.presentationml.slide+xml"/>
  <Override PartName="/ppt/slides/slide372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310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313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314.xml" ContentType="application/vnd.openxmlformats-officedocument.presentationml.slide+xml"/>
  <Override PartName="/ppt/slides/slide382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315.xml" ContentType="application/vnd.openxmlformats-officedocument.presentationml.slide+xml"/>
  <Override PartName="/ppt/slides/slide383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320.xml" ContentType="application/vnd.openxmlformats-officedocument.presentationml.slide+xml"/>
  <Override PartName="/ppt/slides/slide388.xml" ContentType="application/vnd.openxmlformats-officedocument.presentationml.slide+xml"/>
  <Override PartName="/ppt/slides/slide260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292.xml" ContentType="application/vnd.openxmlformats-officedocument.presentationml.slide+xml"/>
  <Override PartName="/ppt/slides/slide397.xml" ContentType="application/vnd.openxmlformats-officedocument.presentationml.slide+xml"/>
  <Override PartName="/ppt/slides/slide360.xml" ContentType="application/vnd.openxmlformats-officedocument.presentationml.slide+xml"/>
  <Override PartName="/ppt/slides/slide389.xml" ContentType="application/vnd.openxmlformats-officedocument.presentationml.slide+xml"/>
  <Override PartName="/ppt/slides/slide261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361.xml" ContentType="application/vnd.openxmlformats-officedocument.presentationml.slide+xml"/>
  <Override PartName="/ppt/slides/slide100.xml" ContentType="application/vnd.openxmlformats-officedocument.presentationml.slide+xml"/>
  <Override PartName="/ppt/slides/slide262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30.xml" ContentType="application/vnd.openxmlformats-officedocument.presentationml.slide+xml"/>
  <Override PartName="/ppt/slides/slide305.xml" ContentType="application/vnd.openxmlformats-officedocument.presentationml.slide+xml"/>
  <Override PartName="/ppt/slides/slide373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365.xml" ContentType="application/vnd.openxmlformats-officedocument.presentationml.slide+xml"/>
  <Override PartName="/ppt/slides/slide403.xml" ContentType="application/vnd.openxmlformats-officedocument.presentationml.slide+xml"/>
  <Override PartName="/ppt/slides/slide374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98.xml" ContentType="application/vnd.openxmlformats-officedocument.presentationml.slide+xml"/>
  <Override PartName="/ppt/slides/slide270.xml" ContentType="application/vnd.openxmlformats-officedocument.presentationml.slide+xml"/>
  <Override PartName="/ppt/slides/slide366.xml" ContentType="application/vnd.openxmlformats-officedocument.presentationml.slide+xml"/>
  <Override PartName="/ppt/slides/slide404.xml" ContentType="application/vnd.openxmlformats-officedocument.presentationml.slide+xml"/>
  <Override PartName="/ppt/slides/slide375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1.xml" ContentType="application/vnd.openxmlformats-officedocument.presentationml.slide+xml"/>
  <Override PartName="/ppt/slides/slide396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272.xml" ContentType="application/vnd.openxmlformats-officedocument.presentationml.slide+xml"/>
  <Override PartName="/ppt/slides/slide377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340.xml" ContentType="application/vnd.openxmlformats-officedocument.presentationml.slide+xml"/>
  <Override PartName="/ppt/slides/slide399.xml" ContentType="application/vnd.openxmlformats-officedocument.presentationml.slide+xml"/>
  <Override PartName="/ppt/slides/slide271.xml" ContentType="application/vnd.openxmlformats-officedocument.presentationml.slide+xml"/>
  <Override PartName="/ppt/slides/slide376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367.xml" ContentType="application/vnd.openxmlformats-officedocument.presentationml.slide+xml"/>
  <Override PartName="/ppt/slides/slide405.xml" ContentType="application/vnd.openxmlformats-officedocument.presentationml.slide+xml"/>
  <Override PartName="/ppt/slides/slide280.xml" ContentType="application/vnd.openxmlformats-officedocument.presentationml.slide+xml"/>
  <Override PartName="/ppt/slides/slide400.xml" ContentType="application/vnd.openxmlformats-officedocument.presentationml.slide+xml"/>
  <Override PartName="/ppt/slides/slide362.xml" ContentType="application/vnd.openxmlformats-officedocument.presentationml.slide+xml"/>
  <Override PartName="/ppt/slides/slide101.xml" ContentType="application/vnd.openxmlformats-officedocument.presentationml.slide+xml"/>
  <Override PartName="/ppt/slides/slide384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290.xml" ContentType="application/vnd.openxmlformats-officedocument.presentationml.slide+xml"/>
  <Override PartName="/ppt/slides/slide39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4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93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9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91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82.xml" ContentType="application/vnd.openxmlformats-officedocument.presentationml.slide+xml"/>
  <Override PartName="/ppt/slides/slide387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350.xml" ContentType="application/vnd.openxmlformats-officedocument.presentationml.slide+xml"/>
  <Override PartName="/ppt/slides/slide281.xml" ContentType="application/vnd.openxmlformats-officedocument.presentationml.slide+xml"/>
  <Override PartName="/ppt/slides/slide402.xml" ContentType="application/vnd.openxmlformats-officedocument.presentationml.slide+xml"/>
  <Override PartName="/ppt/slides/slide364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01.xml" ContentType="application/vnd.openxmlformats-officedocument.presentationml.slide+xml"/>
  <Override PartName="/ppt/slides/slide363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55.xml" ContentType="application/vnd.openxmlformats-officedocument.presentationml.slide+xml"/>
  <Override PartName="/ppt/slides/slide66.xml" ContentType="application/vnd.openxmlformats-officedocument.presentationml.slide+xml"/>
  <Override PartName="/ppt/slides/slide354.xml" ContentType="application/vnd.openxmlformats-officedocument.presentationml.slide+xml"/>
  <Override PartName="/ppt/slides/slide65.xml" ContentType="application/vnd.openxmlformats-officedocument.presentationml.slide+xml"/>
  <Override PartName="/ppt/slides/slide327.xml" ContentType="application/vnd.openxmlformats-officedocument.presentationml.slide+xml"/>
  <Override PartName="/ppt/slides/slide161.xml" ContentType="application/vnd.openxmlformats-officedocument.presentationml.slide+xml"/>
  <Override PartName="/ppt/slides/slide353.xml" ContentType="application/vnd.openxmlformats-officedocument.presentationml.slide+xml"/>
  <Override PartName="/ppt/slides/slide64.xml" ContentType="application/vnd.openxmlformats-officedocument.presentationml.slide+xml"/>
  <Override PartName="/ppt/slides/slide326.xml" ContentType="application/vnd.openxmlformats-officedocument.presentationml.slide+xml"/>
  <Override PartName="/ppt/slides/slide160.xml" ContentType="application/vnd.openxmlformats-officedocument.presentationml.slide+xml"/>
  <Override PartName="/ppt/slides/slide352.xml" ContentType="application/vnd.openxmlformats-officedocument.presentationml.slide+xml"/>
  <Override PartName="/ppt/slides/slide351.xml" ContentType="application/vnd.openxmlformats-officedocument.presentationml.slide+xml"/>
  <Override PartName="/ppt/slides/slide345.xml" ContentType="application/vnd.openxmlformats-officedocument.presentationml.slide+xml"/>
  <Override PartName="/ppt/slides/slide344.xml" ContentType="application/vnd.openxmlformats-officedocument.presentationml.slide+xml"/>
  <Override PartName="/ppt/slides/slide343.xml" ContentType="application/vnd.openxmlformats-officedocument.presentationml.slide+xml"/>
  <Override PartName="/ppt/slides/slide342.xml" ContentType="application/vnd.openxmlformats-officedocument.presentationml.slide+xml"/>
  <Override PartName="/ppt/slides/slide341.xml" ContentType="application/vnd.openxmlformats-officedocument.presentationml.slide+xml"/>
  <Override PartName="/ppt/slides/slide335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332.xml" ContentType="application/vnd.openxmlformats-officedocument.presentationml.slide+xml"/>
  <Override PartName="/ppt/slides/slide331.xml" ContentType="application/vnd.openxmlformats-officedocument.presentationml.slide+xml"/>
  <Override PartName="/ppt/slides/slide390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191.xml" ContentType="application/vnd.openxmlformats-officedocument.presentationml.slide+xml"/>
  <Override PartName="/ppt/slides/slide357.xml" ContentType="application/vnd.openxmlformats-officedocument.presentationml.slide+xml"/>
  <Override PartName="/ppt/slides/slide68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1.xml" ContentType="application/vnd.openxmlformats-officedocument.presentationml.slide+xml"/>
  <Override PartName="/ppt/slides/slide347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71.xml" ContentType="application/vnd.openxmlformats-officedocument.presentationml.slide+xml"/>
  <Override PartName="/ppt/slides/slide337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0.xml" ContentType="application/vnd.openxmlformats-officedocument.presentationml.slide+xml"/>
  <Override PartName="/ppt/slides/slide336.xml" ContentType="application/vnd.openxmlformats-officedocument.presentationml.slide+xml"/>
  <Override PartName="/ppt/slides/slide47.xml" ContentType="application/vnd.openxmlformats-officedocument.presentationml.slide+xml"/>
  <Override PartName="/ppt/slides/slide309.xml" ContentType="application/vnd.openxmlformats-officedocument.presentationml.slide+xml"/>
  <Override PartName="/ppt/slides/slide143.xml" ContentType="application/vnd.openxmlformats-officedocument.presentationml.slide+xml"/>
  <Override PartName="/ppt/slides/slide190.xml" ContentType="application/vnd.openxmlformats-officedocument.presentationml.slide+xml"/>
  <Override PartName="/ppt/slides/slide356.xml" ContentType="application/vnd.openxmlformats-officedocument.presentationml.slide+xml"/>
  <Override PartName="/ppt/slides/slide67.xml" ContentType="application/vnd.openxmlformats-officedocument.presentationml.slide+xml"/>
  <Override PartName="/ppt/slides/slide69.xml" ContentType="application/vnd.openxmlformats-officedocument.presentationml.slide+xml"/>
  <Override PartName="/ppt/slides/slide93.xml" ContentType="application/vnd.openxmlformats-officedocument.presentationml.slide+xml"/>
  <Override PartName="/ppt/slides/slide259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180.xml" ContentType="application/vnd.openxmlformats-officedocument.presentationml.slide+xml"/>
  <Override PartName="/ppt/slides/slide346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380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406.xml" ContentType="application/vnd.openxmlformats-officedocument.presentationml.slide+xml"/>
  <Override PartName="/ppt/slides/slide368.xml" ContentType="application/vnd.openxmlformats-officedocument.presentationml.slide+xml"/>
  <Override PartName="/ppt/slides/slide240.xml" ContentType="application/vnd.openxmlformats-officedocument.presentationml.slide+xml"/>
  <Override PartName="/ppt/slides/slide381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407.xml" ContentType="application/vnd.openxmlformats-officedocument.presentationml.slide+xml"/>
  <Override PartName="/ppt/slides/slide369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  <p:sldId id="387" r:id="rId145"/>
    <p:sldId id="388" r:id="rId146"/>
    <p:sldId id="389" r:id="rId147"/>
    <p:sldId id="390" r:id="rId148"/>
    <p:sldId id="391" r:id="rId149"/>
    <p:sldId id="392" r:id="rId150"/>
    <p:sldId id="393" r:id="rId151"/>
    <p:sldId id="394" r:id="rId152"/>
    <p:sldId id="395" r:id="rId153"/>
    <p:sldId id="396" r:id="rId154"/>
    <p:sldId id="397" r:id="rId155"/>
    <p:sldId id="398" r:id="rId156"/>
    <p:sldId id="399" r:id="rId157"/>
    <p:sldId id="400" r:id="rId158"/>
    <p:sldId id="401" r:id="rId159"/>
    <p:sldId id="402" r:id="rId160"/>
    <p:sldId id="403" r:id="rId161"/>
    <p:sldId id="404" r:id="rId162"/>
    <p:sldId id="405" r:id="rId163"/>
    <p:sldId id="406" r:id="rId164"/>
    <p:sldId id="407" r:id="rId165"/>
    <p:sldId id="408" r:id="rId166"/>
    <p:sldId id="409" r:id="rId167"/>
    <p:sldId id="410" r:id="rId168"/>
    <p:sldId id="411" r:id="rId169"/>
    <p:sldId id="412" r:id="rId170"/>
    <p:sldId id="413" r:id="rId171"/>
    <p:sldId id="414" r:id="rId172"/>
    <p:sldId id="415" r:id="rId173"/>
    <p:sldId id="416" r:id="rId174"/>
    <p:sldId id="417" r:id="rId175"/>
    <p:sldId id="418" r:id="rId176"/>
    <p:sldId id="419" r:id="rId177"/>
    <p:sldId id="420" r:id="rId178"/>
    <p:sldId id="421" r:id="rId179"/>
    <p:sldId id="422" r:id="rId180"/>
    <p:sldId id="423" r:id="rId181"/>
    <p:sldId id="424" r:id="rId182"/>
    <p:sldId id="425" r:id="rId183"/>
    <p:sldId id="426" r:id="rId184"/>
    <p:sldId id="427" r:id="rId185"/>
    <p:sldId id="428" r:id="rId186"/>
    <p:sldId id="429" r:id="rId187"/>
    <p:sldId id="430" r:id="rId188"/>
    <p:sldId id="431" r:id="rId189"/>
    <p:sldId id="432" r:id="rId190"/>
    <p:sldId id="433" r:id="rId191"/>
    <p:sldId id="434" r:id="rId192"/>
    <p:sldId id="435" r:id="rId193"/>
    <p:sldId id="436" r:id="rId194"/>
    <p:sldId id="437" r:id="rId195"/>
    <p:sldId id="438" r:id="rId196"/>
    <p:sldId id="439" r:id="rId197"/>
    <p:sldId id="440" r:id="rId198"/>
    <p:sldId id="441" r:id="rId199"/>
    <p:sldId id="442" r:id="rId200"/>
    <p:sldId id="443" r:id="rId201"/>
    <p:sldId id="444" r:id="rId202"/>
    <p:sldId id="445" r:id="rId203"/>
    <p:sldId id="446" r:id="rId204"/>
    <p:sldId id="447" r:id="rId205"/>
    <p:sldId id="448" r:id="rId206"/>
    <p:sldId id="449" r:id="rId207"/>
    <p:sldId id="450" r:id="rId208"/>
    <p:sldId id="451" r:id="rId209"/>
    <p:sldId id="452" r:id="rId210"/>
    <p:sldId id="453" r:id="rId211"/>
    <p:sldId id="454" r:id="rId212"/>
    <p:sldId id="455" r:id="rId213"/>
    <p:sldId id="456" r:id="rId214"/>
    <p:sldId id="457" r:id="rId215"/>
    <p:sldId id="458" r:id="rId216"/>
    <p:sldId id="459" r:id="rId217"/>
    <p:sldId id="460" r:id="rId218"/>
    <p:sldId id="461" r:id="rId219"/>
    <p:sldId id="462" r:id="rId220"/>
    <p:sldId id="463" r:id="rId221"/>
    <p:sldId id="464" r:id="rId222"/>
    <p:sldId id="465" r:id="rId223"/>
    <p:sldId id="466" r:id="rId224"/>
    <p:sldId id="467" r:id="rId225"/>
    <p:sldId id="468" r:id="rId226"/>
    <p:sldId id="469" r:id="rId227"/>
    <p:sldId id="470" r:id="rId228"/>
    <p:sldId id="471" r:id="rId229"/>
    <p:sldId id="472" r:id="rId230"/>
    <p:sldId id="473" r:id="rId231"/>
    <p:sldId id="474" r:id="rId232"/>
    <p:sldId id="475" r:id="rId233"/>
    <p:sldId id="476" r:id="rId234"/>
    <p:sldId id="477" r:id="rId235"/>
    <p:sldId id="478" r:id="rId236"/>
    <p:sldId id="479" r:id="rId237"/>
    <p:sldId id="480" r:id="rId238"/>
    <p:sldId id="481" r:id="rId239"/>
    <p:sldId id="482" r:id="rId240"/>
    <p:sldId id="483" r:id="rId241"/>
    <p:sldId id="484" r:id="rId242"/>
    <p:sldId id="485" r:id="rId243"/>
    <p:sldId id="486" r:id="rId244"/>
    <p:sldId id="487" r:id="rId245"/>
    <p:sldId id="488" r:id="rId246"/>
    <p:sldId id="489" r:id="rId247"/>
    <p:sldId id="490" r:id="rId248"/>
    <p:sldId id="491" r:id="rId249"/>
    <p:sldId id="492" r:id="rId250"/>
    <p:sldId id="493" r:id="rId251"/>
    <p:sldId id="494" r:id="rId252"/>
    <p:sldId id="495" r:id="rId253"/>
    <p:sldId id="496" r:id="rId254"/>
    <p:sldId id="497" r:id="rId255"/>
    <p:sldId id="498" r:id="rId256"/>
    <p:sldId id="499" r:id="rId257"/>
    <p:sldId id="500" r:id="rId258"/>
    <p:sldId id="501" r:id="rId259"/>
    <p:sldId id="502" r:id="rId260"/>
    <p:sldId id="503" r:id="rId261"/>
    <p:sldId id="504" r:id="rId262"/>
    <p:sldId id="505" r:id="rId263"/>
    <p:sldId id="506" r:id="rId264"/>
    <p:sldId id="507" r:id="rId265"/>
    <p:sldId id="508" r:id="rId266"/>
    <p:sldId id="509" r:id="rId267"/>
    <p:sldId id="510" r:id="rId268"/>
    <p:sldId id="511" r:id="rId269"/>
    <p:sldId id="512" r:id="rId270"/>
    <p:sldId id="513" r:id="rId271"/>
    <p:sldId id="514" r:id="rId272"/>
    <p:sldId id="515" r:id="rId273"/>
    <p:sldId id="516" r:id="rId274"/>
    <p:sldId id="517" r:id="rId275"/>
    <p:sldId id="518" r:id="rId276"/>
    <p:sldId id="519" r:id="rId277"/>
    <p:sldId id="520" r:id="rId278"/>
    <p:sldId id="521" r:id="rId279"/>
    <p:sldId id="522" r:id="rId280"/>
    <p:sldId id="523" r:id="rId281"/>
    <p:sldId id="524" r:id="rId282"/>
    <p:sldId id="525" r:id="rId283"/>
    <p:sldId id="526" r:id="rId284"/>
    <p:sldId id="527" r:id="rId285"/>
    <p:sldId id="528" r:id="rId286"/>
    <p:sldId id="529" r:id="rId287"/>
    <p:sldId id="530" r:id="rId288"/>
    <p:sldId id="531" r:id="rId289"/>
    <p:sldId id="532" r:id="rId290"/>
    <p:sldId id="533" r:id="rId291"/>
    <p:sldId id="534" r:id="rId292"/>
    <p:sldId id="535" r:id="rId293"/>
    <p:sldId id="536" r:id="rId294"/>
    <p:sldId id="537" r:id="rId295"/>
    <p:sldId id="538" r:id="rId296"/>
    <p:sldId id="539" r:id="rId297"/>
    <p:sldId id="540" r:id="rId298"/>
    <p:sldId id="541" r:id="rId299"/>
    <p:sldId id="542" r:id="rId300"/>
    <p:sldId id="543" r:id="rId301"/>
    <p:sldId id="544" r:id="rId302"/>
    <p:sldId id="545" r:id="rId303"/>
    <p:sldId id="546" r:id="rId304"/>
    <p:sldId id="547" r:id="rId305"/>
    <p:sldId id="548" r:id="rId306"/>
    <p:sldId id="549" r:id="rId307"/>
    <p:sldId id="550" r:id="rId308"/>
    <p:sldId id="551" r:id="rId309"/>
    <p:sldId id="552" r:id="rId310"/>
    <p:sldId id="553" r:id="rId311"/>
    <p:sldId id="554" r:id="rId312"/>
    <p:sldId id="555" r:id="rId313"/>
    <p:sldId id="556" r:id="rId314"/>
    <p:sldId id="557" r:id="rId315"/>
    <p:sldId id="558" r:id="rId316"/>
    <p:sldId id="559" r:id="rId317"/>
    <p:sldId id="560" r:id="rId318"/>
    <p:sldId id="561" r:id="rId319"/>
    <p:sldId id="562" r:id="rId320"/>
    <p:sldId id="563" r:id="rId321"/>
    <p:sldId id="564" r:id="rId322"/>
    <p:sldId id="565" r:id="rId323"/>
    <p:sldId id="566" r:id="rId324"/>
    <p:sldId id="567" r:id="rId325"/>
    <p:sldId id="568" r:id="rId326"/>
    <p:sldId id="569" r:id="rId327"/>
    <p:sldId id="570" r:id="rId328"/>
    <p:sldId id="571" r:id="rId329"/>
    <p:sldId id="572" r:id="rId330"/>
    <p:sldId id="573" r:id="rId331"/>
    <p:sldId id="574" r:id="rId332"/>
    <p:sldId id="575" r:id="rId333"/>
    <p:sldId id="576" r:id="rId334"/>
    <p:sldId id="577" r:id="rId335"/>
    <p:sldId id="578" r:id="rId336"/>
    <p:sldId id="579" r:id="rId337"/>
    <p:sldId id="580" r:id="rId338"/>
    <p:sldId id="581" r:id="rId339"/>
    <p:sldId id="582" r:id="rId340"/>
    <p:sldId id="583" r:id="rId341"/>
    <p:sldId id="584" r:id="rId342"/>
    <p:sldId id="585" r:id="rId343"/>
    <p:sldId id="586" r:id="rId344"/>
    <p:sldId id="587" r:id="rId345"/>
    <p:sldId id="588" r:id="rId346"/>
    <p:sldId id="589" r:id="rId347"/>
    <p:sldId id="590" r:id="rId348"/>
    <p:sldId id="591" r:id="rId349"/>
    <p:sldId id="592" r:id="rId350"/>
    <p:sldId id="593" r:id="rId351"/>
    <p:sldId id="594" r:id="rId352"/>
    <p:sldId id="595" r:id="rId353"/>
    <p:sldId id="596" r:id="rId354"/>
    <p:sldId id="597" r:id="rId355"/>
    <p:sldId id="598" r:id="rId356"/>
    <p:sldId id="599" r:id="rId357"/>
    <p:sldId id="600" r:id="rId358"/>
    <p:sldId id="601" r:id="rId359"/>
    <p:sldId id="602" r:id="rId360"/>
    <p:sldId id="603" r:id="rId361"/>
    <p:sldId id="604" r:id="rId362"/>
    <p:sldId id="605" r:id="rId363"/>
    <p:sldId id="606" r:id="rId364"/>
    <p:sldId id="607" r:id="rId365"/>
    <p:sldId id="608" r:id="rId366"/>
    <p:sldId id="609" r:id="rId367"/>
    <p:sldId id="610" r:id="rId368"/>
    <p:sldId id="611" r:id="rId369"/>
    <p:sldId id="612" r:id="rId370"/>
    <p:sldId id="613" r:id="rId371"/>
    <p:sldId id="614" r:id="rId372"/>
    <p:sldId id="615" r:id="rId373"/>
    <p:sldId id="616" r:id="rId374"/>
    <p:sldId id="617" r:id="rId375"/>
    <p:sldId id="618" r:id="rId376"/>
    <p:sldId id="619" r:id="rId377"/>
    <p:sldId id="620" r:id="rId378"/>
    <p:sldId id="621" r:id="rId379"/>
    <p:sldId id="622" r:id="rId380"/>
    <p:sldId id="623" r:id="rId381"/>
    <p:sldId id="624" r:id="rId382"/>
    <p:sldId id="625" r:id="rId383"/>
    <p:sldId id="626" r:id="rId384"/>
    <p:sldId id="627" r:id="rId385"/>
    <p:sldId id="628" r:id="rId386"/>
    <p:sldId id="629" r:id="rId387"/>
    <p:sldId id="630" r:id="rId388"/>
    <p:sldId id="631" r:id="rId389"/>
    <p:sldId id="632" r:id="rId390"/>
    <p:sldId id="633" r:id="rId391"/>
    <p:sldId id="634" r:id="rId392"/>
    <p:sldId id="635" r:id="rId393"/>
    <p:sldId id="636" r:id="rId394"/>
    <p:sldId id="637" r:id="rId395"/>
    <p:sldId id="638" r:id="rId396"/>
    <p:sldId id="639" r:id="rId397"/>
    <p:sldId id="640" r:id="rId398"/>
    <p:sldId id="641" r:id="rId399"/>
    <p:sldId id="642" r:id="rId400"/>
    <p:sldId id="643" r:id="rId401"/>
    <p:sldId id="644" r:id="rId402"/>
    <p:sldId id="645" r:id="rId403"/>
    <p:sldId id="646" r:id="rId404"/>
    <p:sldId id="647" r:id="rId405"/>
    <p:sldId id="648" r:id="rId406"/>
    <p:sldId id="649" r:id="rId407"/>
    <p:sldId id="650" r:id="rId408"/>
    <p:sldId id="651" r:id="rId409"/>
    <p:sldId id="652" r:id="rId410"/>
    <p:sldId id="653" r:id="rId411"/>
    <p:sldId id="654" r:id="rId412"/>
    <p:sldId id="655" r:id="rId413"/>
    <p:sldId id="656" r:id="rId414"/>
    <p:sldId id="657" r:id="rId415"/>
    <p:sldId id="658" r:id="rId416"/>
    <p:sldId id="659" r:id="rId417"/>
    <p:sldId id="660" r:id="rId418"/>
    <p:sldId id="661" r:id="rId419"/>
    <p:sldId id="662" r:id="rId4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slide" Target="slides/slide132.xml"/><Relationship Id="rId146" Type="http://schemas.openxmlformats.org/officeDocument/2006/relationships/slide" Target="slides/slide133.xml"/><Relationship Id="rId147" Type="http://schemas.openxmlformats.org/officeDocument/2006/relationships/slide" Target="slides/slide134.xml"/><Relationship Id="rId148" Type="http://schemas.openxmlformats.org/officeDocument/2006/relationships/slide" Target="slides/slide135.xml"/><Relationship Id="rId149" Type="http://schemas.openxmlformats.org/officeDocument/2006/relationships/slide" Target="slides/slide136.xml"/><Relationship Id="rId150" Type="http://schemas.openxmlformats.org/officeDocument/2006/relationships/slide" Target="slides/slide137.xml"/><Relationship Id="rId151" Type="http://schemas.openxmlformats.org/officeDocument/2006/relationships/slide" Target="slides/slide138.xml"/><Relationship Id="rId152" Type="http://schemas.openxmlformats.org/officeDocument/2006/relationships/slide" Target="slides/slide139.xml"/><Relationship Id="rId153" Type="http://schemas.openxmlformats.org/officeDocument/2006/relationships/slide" Target="slides/slide140.xml"/><Relationship Id="rId154" Type="http://schemas.openxmlformats.org/officeDocument/2006/relationships/slide" Target="slides/slide141.xml"/><Relationship Id="rId155" Type="http://schemas.openxmlformats.org/officeDocument/2006/relationships/slide" Target="slides/slide142.xml"/><Relationship Id="rId156" Type="http://schemas.openxmlformats.org/officeDocument/2006/relationships/slide" Target="slides/slide143.xml"/><Relationship Id="rId157" Type="http://schemas.openxmlformats.org/officeDocument/2006/relationships/slide" Target="slides/slide144.xml"/><Relationship Id="rId158" Type="http://schemas.openxmlformats.org/officeDocument/2006/relationships/slide" Target="slides/slide145.xml"/><Relationship Id="rId159" Type="http://schemas.openxmlformats.org/officeDocument/2006/relationships/slide" Target="slides/slide146.xml"/><Relationship Id="rId160" Type="http://schemas.openxmlformats.org/officeDocument/2006/relationships/slide" Target="slides/slide147.xml"/><Relationship Id="rId161" Type="http://schemas.openxmlformats.org/officeDocument/2006/relationships/slide" Target="slides/slide148.xml"/><Relationship Id="rId162" Type="http://schemas.openxmlformats.org/officeDocument/2006/relationships/slide" Target="slides/slide149.xml"/><Relationship Id="rId163" Type="http://schemas.openxmlformats.org/officeDocument/2006/relationships/slide" Target="slides/slide150.xml"/><Relationship Id="rId164" Type="http://schemas.openxmlformats.org/officeDocument/2006/relationships/slide" Target="slides/slide151.xml"/><Relationship Id="rId165" Type="http://schemas.openxmlformats.org/officeDocument/2006/relationships/slide" Target="slides/slide152.xml"/><Relationship Id="rId166" Type="http://schemas.openxmlformats.org/officeDocument/2006/relationships/slide" Target="slides/slide153.xml"/><Relationship Id="rId167" Type="http://schemas.openxmlformats.org/officeDocument/2006/relationships/slide" Target="slides/slide154.xml"/><Relationship Id="rId168" Type="http://schemas.openxmlformats.org/officeDocument/2006/relationships/slide" Target="slides/slide155.xml"/><Relationship Id="rId169" Type="http://schemas.openxmlformats.org/officeDocument/2006/relationships/slide" Target="slides/slide156.xml"/><Relationship Id="rId170" Type="http://schemas.openxmlformats.org/officeDocument/2006/relationships/slide" Target="slides/slide157.xml"/><Relationship Id="rId171" Type="http://schemas.openxmlformats.org/officeDocument/2006/relationships/slide" Target="slides/slide158.xml"/><Relationship Id="rId172" Type="http://schemas.openxmlformats.org/officeDocument/2006/relationships/slide" Target="slides/slide159.xml"/><Relationship Id="rId173" Type="http://schemas.openxmlformats.org/officeDocument/2006/relationships/slide" Target="slides/slide160.xml"/><Relationship Id="rId174" Type="http://schemas.openxmlformats.org/officeDocument/2006/relationships/slide" Target="slides/slide161.xml"/><Relationship Id="rId175" Type="http://schemas.openxmlformats.org/officeDocument/2006/relationships/slide" Target="slides/slide162.xml"/><Relationship Id="rId176" Type="http://schemas.openxmlformats.org/officeDocument/2006/relationships/slide" Target="slides/slide163.xml"/><Relationship Id="rId177" Type="http://schemas.openxmlformats.org/officeDocument/2006/relationships/slide" Target="slides/slide164.xml"/><Relationship Id="rId178" Type="http://schemas.openxmlformats.org/officeDocument/2006/relationships/slide" Target="slides/slide165.xml"/><Relationship Id="rId179" Type="http://schemas.openxmlformats.org/officeDocument/2006/relationships/slide" Target="slides/slide166.xml"/><Relationship Id="rId180" Type="http://schemas.openxmlformats.org/officeDocument/2006/relationships/slide" Target="slides/slide167.xml"/><Relationship Id="rId181" Type="http://schemas.openxmlformats.org/officeDocument/2006/relationships/slide" Target="slides/slide168.xml"/><Relationship Id="rId182" Type="http://schemas.openxmlformats.org/officeDocument/2006/relationships/slide" Target="slides/slide169.xml"/><Relationship Id="rId183" Type="http://schemas.openxmlformats.org/officeDocument/2006/relationships/slide" Target="slides/slide170.xml"/><Relationship Id="rId184" Type="http://schemas.openxmlformats.org/officeDocument/2006/relationships/slide" Target="slides/slide171.xml"/><Relationship Id="rId185" Type="http://schemas.openxmlformats.org/officeDocument/2006/relationships/slide" Target="slides/slide172.xml"/><Relationship Id="rId186" Type="http://schemas.openxmlformats.org/officeDocument/2006/relationships/slide" Target="slides/slide173.xml"/><Relationship Id="rId187" Type="http://schemas.openxmlformats.org/officeDocument/2006/relationships/slide" Target="slides/slide174.xml"/><Relationship Id="rId188" Type="http://schemas.openxmlformats.org/officeDocument/2006/relationships/slide" Target="slides/slide175.xml"/><Relationship Id="rId189" Type="http://schemas.openxmlformats.org/officeDocument/2006/relationships/slide" Target="slides/slide176.xml"/><Relationship Id="rId190" Type="http://schemas.openxmlformats.org/officeDocument/2006/relationships/slide" Target="slides/slide177.xml"/><Relationship Id="rId191" Type="http://schemas.openxmlformats.org/officeDocument/2006/relationships/slide" Target="slides/slide178.xml"/><Relationship Id="rId192" Type="http://schemas.openxmlformats.org/officeDocument/2006/relationships/slide" Target="slides/slide179.xml"/><Relationship Id="rId193" Type="http://schemas.openxmlformats.org/officeDocument/2006/relationships/slide" Target="slides/slide180.xml"/><Relationship Id="rId194" Type="http://schemas.openxmlformats.org/officeDocument/2006/relationships/slide" Target="slides/slide181.xml"/><Relationship Id="rId195" Type="http://schemas.openxmlformats.org/officeDocument/2006/relationships/slide" Target="slides/slide182.xml"/><Relationship Id="rId196" Type="http://schemas.openxmlformats.org/officeDocument/2006/relationships/slide" Target="slides/slide183.xml"/><Relationship Id="rId197" Type="http://schemas.openxmlformats.org/officeDocument/2006/relationships/slide" Target="slides/slide184.xml"/><Relationship Id="rId198" Type="http://schemas.openxmlformats.org/officeDocument/2006/relationships/slide" Target="slides/slide185.xml"/><Relationship Id="rId199" Type="http://schemas.openxmlformats.org/officeDocument/2006/relationships/slide" Target="slides/slide186.xml"/><Relationship Id="rId200" Type="http://schemas.openxmlformats.org/officeDocument/2006/relationships/slide" Target="slides/slide187.xml"/><Relationship Id="rId201" Type="http://schemas.openxmlformats.org/officeDocument/2006/relationships/slide" Target="slides/slide188.xml"/><Relationship Id="rId202" Type="http://schemas.openxmlformats.org/officeDocument/2006/relationships/slide" Target="slides/slide189.xml"/><Relationship Id="rId203" Type="http://schemas.openxmlformats.org/officeDocument/2006/relationships/slide" Target="slides/slide190.xml"/><Relationship Id="rId204" Type="http://schemas.openxmlformats.org/officeDocument/2006/relationships/slide" Target="slides/slide191.xml"/><Relationship Id="rId205" Type="http://schemas.openxmlformats.org/officeDocument/2006/relationships/slide" Target="slides/slide192.xml"/><Relationship Id="rId206" Type="http://schemas.openxmlformats.org/officeDocument/2006/relationships/slide" Target="slides/slide193.xml"/><Relationship Id="rId207" Type="http://schemas.openxmlformats.org/officeDocument/2006/relationships/slide" Target="slides/slide194.xml"/><Relationship Id="rId208" Type="http://schemas.openxmlformats.org/officeDocument/2006/relationships/slide" Target="slides/slide195.xml"/><Relationship Id="rId209" Type="http://schemas.openxmlformats.org/officeDocument/2006/relationships/slide" Target="slides/slide196.xml"/><Relationship Id="rId210" Type="http://schemas.openxmlformats.org/officeDocument/2006/relationships/slide" Target="slides/slide197.xml"/><Relationship Id="rId211" Type="http://schemas.openxmlformats.org/officeDocument/2006/relationships/slide" Target="slides/slide198.xml"/><Relationship Id="rId212" Type="http://schemas.openxmlformats.org/officeDocument/2006/relationships/slide" Target="slides/slide199.xml"/><Relationship Id="rId213" Type="http://schemas.openxmlformats.org/officeDocument/2006/relationships/slide" Target="slides/slide200.xml"/><Relationship Id="rId214" Type="http://schemas.openxmlformats.org/officeDocument/2006/relationships/slide" Target="slides/slide201.xml"/><Relationship Id="rId215" Type="http://schemas.openxmlformats.org/officeDocument/2006/relationships/slide" Target="slides/slide202.xml"/><Relationship Id="rId216" Type="http://schemas.openxmlformats.org/officeDocument/2006/relationships/slide" Target="slides/slide203.xml"/><Relationship Id="rId217" Type="http://schemas.openxmlformats.org/officeDocument/2006/relationships/slide" Target="slides/slide204.xml"/><Relationship Id="rId218" Type="http://schemas.openxmlformats.org/officeDocument/2006/relationships/slide" Target="slides/slide205.xml"/><Relationship Id="rId219" Type="http://schemas.openxmlformats.org/officeDocument/2006/relationships/slide" Target="slides/slide206.xml"/><Relationship Id="rId220" Type="http://schemas.openxmlformats.org/officeDocument/2006/relationships/slide" Target="slides/slide207.xml"/><Relationship Id="rId221" Type="http://schemas.openxmlformats.org/officeDocument/2006/relationships/slide" Target="slides/slide208.xml"/><Relationship Id="rId222" Type="http://schemas.openxmlformats.org/officeDocument/2006/relationships/slide" Target="slides/slide209.xml"/><Relationship Id="rId223" Type="http://schemas.openxmlformats.org/officeDocument/2006/relationships/slide" Target="slides/slide210.xml"/><Relationship Id="rId224" Type="http://schemas.openxmlformats.org/officeDocument/2006/relationships/slide" Target="slides/slide211.xml"/><Relationship Id="rId225" Type="http://schemas.openxmlformats.org/officeDocument/2006/relationships/slide" Target="slides/slide212.xml"/><Relationship Id="rId226" Type="http://schemas.openxmlformats.org/officeDocument/2006/relationships/slide" Target="slides/slide213.xml"/><Relationship Id="rId227" Type="http://schemas.openxmlformats.org/officeDocument/2006/relationships/slide" Target="slides/slide214.xml"/><Relationship Id="rId228" Type="http://schemas.openxmlformats.org/officeDocument/2006/relationships/slide" Target="slides/slide215.xml"/><Relationship Id="rId229" Type="http://schemas.openxmlformats.org/officeDocument/2006/relationships/slide" Target="slides/slide216.xml"/><Relationship Id="rId230" Type="http://schemas.openxmlformats.org/officeDocument/2006/relationships/slide" Target="slides/slide217.xml"/><Relationship Id="rId231" Type="http://schemas.openxmlformats.org/officeDocument/2006/relationships/slide" Target="slides/slide218.xml"/><Relationship Id="rId232" Type="http://schemas.openxmlformats.org/officeDocument/2006/relationships/slide" Target="slides/slide219.xml"/><Relationship Id="rId233" Type="http://schemas.openxmlformats.org/officeDocument/2006/relationships/slide" Target="slides/slide220.xml"/><Relationship Id="rId234" Type="http://schemas.openxmlformats.org/officeDocument/2006/relationships/slide" Target="slides/slide221.xml"/><Relationship Id="rId235" Type="http://schemas.openxmlformats.org/officeDocument/2006/relationships/slide" Target="slides/slide222.xml"/><Relationship Id="rId236" Type="http://schemas.openxmlformats.org/officeDocument/2006/relationships/slide" Target="slides/slide223.xml"/><Relationship Id="rId237" Type="http://schemas.openxmlformats.org/officeDocument/2006/relationships/slide" Target="slides/slide224.xml"/><Relationship Id="rId238" Type="http://schemas.openxmlformats.org/officeDocument/2006/relationships/slide" Target="slides/slide225.xml"/><Relationship Id="rId239" Type="http://schemas.openxmlformats.org/officeDocument/2006/relationships/slide" Target="slides/slide226.xml"/><Relationship Id="rId240" Type="http://schemas.openxmlformats.org/officeDocument/2006/relationships/slide" Target="slides/slide227.xml"/><Relationship Id="rId241" Type="http://schemas.openxmlformats.org/officeDocument/2006/relationships/slide" Target="slides/slide228.xml"/><Relationship Id="rId242" Type="http://schemas.openxmlformats.org/officeDocument/2006/relationships/slide" Target="slides/slide229.xml"/><Relationship Id="rId243" Type="http://schemas.openxmlformats.org/officeDocument/2006/relationships/slide" Target="slides/slide230.xml"/><Relationship Id="rId244" Type="http://schemas.openxmlformats.org/officeDocument/2006/relationships/slide" Target="slides/slide231.xml"/><Relationship Id="rId245" Type="http://schemas.openxmlformats.org/officeDocument/2006/relationships/slide" Target="slides/slide232.xml"/><Relationship Id="rId246" Type="http://schemas.openxmlformats.org/officeDocument/2006/relationships/slide" Target="slides/slide233.xml"/><Relationship Id="rId247" Type="http://schemas.openxmlformats.org/officeDocument/2006/relationships/slide" Target="slides/slide234.xml"/><Relationship Id="rId248" Type="http://schemas.openxmlformats.org/officeDocument/2006/relationships/slide" Target="slides/slide235.xml"/><Relationship Id="rId249" Type="http://schemas.openxmlformats.org/officeDocument/2006/relationships/slide" Target="slides/slide236.xml"/><Relationship Id="rId250" Type="http://schemas.openxmlformats.org/officeDocument/2006/relationships/slide" Target="slides/slide237.xml"/><Relationship Id="rId251" Type="http://schemas.openxmlformats.org/officeDocument/2006/relationships/slide" Target="slides/slide238.xml"/><Relationship Id="rId252" Type="http://schemas.openxmlformats.org/officeDocument/2006/relationships/slide" Target="slides/slide239.xml"/><Relationship Id="rId253" Type="http://schemas.openxmlformats.org/officeDocument/2006/relationships/slide" Target="slides/slide240.xml"/><Relationship Id="rId254" Type="http://schemas.openxmlformats.org/officeDocument/2006/relationships/slide" Target="slides/slide241.xml"/><Relationship Id="rId255" Type="http://schemas.openxmlformats.org/officeDocument/2006/relationships/slide" Target="slides/slide242.xml"/><Relationship Id="rId256" Type="http://schemas.openxmlformats.org/officeDocument/2006/relationships/slide" Target="slides/slide243.xml"/><Relationship Id="rId257" Type="http://schemas.openxmlformats.org/officeDocument/2006/relationships/slide" Target="slides/slide244.xml"/><Relationship Id="rId258" Type="http://schemas.openxmlformats.org/officeDocument/2006/relationships/slide" Target="slides/slide245.xml"/><Relationship Id="rId259" Type="http://schemas.openxmlformats.org/officeDocument/2006/relationships/slide" Target="slides/slide246.xml"/><Relationship Id="rId260" Type="http://schemas.openxmlformats.org/officeDocument/2006/relationships/slide" Target="slides/slide247.xml"/><Relationship Id="rId261" Type="http://schemas.openxmlformats.org/officeDocument/2006/relationships/slide" Target="slides/slide248.xml"/><Relationship Id="rId262" Type="http://schemas.openxmlformats.org/officeDocument/2006/relationships/slide" Target="slides/slide249.xml"/><Relationship Id="rId263" Type="http://schemas.openxmlformats.org/officeDocument/2006/relationships/slide" Target="slides/slide250.xml"/><Relationship Id="rId264" Type="http://schemas.openxmlformats.org/officeDocument/2006/relationships/slide" Target="slides/slide251.xml"/><Relationship Id="rId265" Type="http://schemas.openxmlformats.org/officeDocument/2006/relationships/slide" Target="slides/slide252.xml"/><Relationship Id="rId266" Type="http://schemas.openxmlformats.org/officeDocument/2006/relationships/slide" Target="slides/slide253.xml"/><Relationship Id="rId267" Type="http://schemas.openxmlformats.org/officeDocument/2006/relationships/slide" Target="slides/slide254.xml"/><Relationship Id="rId268" Type="http://schemas.openxmlformats.org/officeDocument/2006/relationships/slide" Target="slides/slide255.xml"/><Relationship Id="rId269" Type="http://schemas.openxmlformats.org/officeDocument/2006/relationships/slide" Target="slides/slide256.xml"/><Relationship Id="rId270" Type="http://schemas.openxmlformats.org/officeDocument/2006/relationships/slide" Target="slides/slide257.xml"/><Relationship Id="rId271" Type="http://schemas.openxmlformats.org/officeDocument/2006/relationships/slide" Target="slides/slide258.xml"/><Relationship Id="rId272" Type="http://schemas.openxmlformats.org/officeDocument/2006/relationships/slide" Target="slides/slide259.xml"/><Relationship Id="rId273" Type="http://schemas.openxmlformats.org/officeDocument/2006/relationships/slide" Target="slides/slide260.xml"/><Relationship Id="rId274" Type="http://schemas.openxmlformats.org/officeDocument/2006/relationships/slide" Target="slides/slide261.xml"/><Relationship Id="rId275" Type="http://schemas.openxmlformats.org/officeDocument/2006/relationships/slide" Target="slides/slide262.xml"/><Relationship Id="rId276" Type="http://schemas.openxmlformats.org/officeDocument/2006/relationships/slide" Target="slides/slide263.xml"/><Relationship Id="rId277" Type="http://schemas.openxmlformats.org/officeDocument/2006/relationships/slide" Target="slides/slide264.xml"/><Relationship Id="rId278" Type="http://schemas.openxmlformats.org/officeDocument/2006/relationships/slide" Target="slides/slide265.xml"/><Relationship Id="rId279" Type="http://schemas.openxmlformats.org/officeDocument/2006/relationships/slide" Target="slides/slide266.xml"/><Relationship Id="rId280" Type="http://schemas.openxmlformats.org/officeDocument/2006/relationships/slide" Target="slides/slide267.xml"/><Relationship Id="rId281" Type="http://schemas.openxmlformats.org/officeDocument/2006/relationships/slide" Target="slides/slide268.xml"/><Relationship Id="rId282" Type="http://schemas.openxmlformats.org/officeDocument/2006/relationships/slide" Target="slides/slide269.xml"/><Relationship Id="rId283" Type="http://schemas.openxmlformats.org/officeDocument/2006/relationships/slide" Target="slides/slide270.xml"/><Relationship Id="rId284" Type="http://schemas.openxmlformats.org/officeDocument/2006/relationships/slide" Target="slides/slide271.xml"/><Relationship Id="rId285" Type="http://schemas.openxmlformats.org/officeDocument/2006/relationships/slide" Target="slides/slide272.xml"/><Relationship Id="rId286" Type="http://schemas.openxmlformats.org/officeDocument/2006/relationships/slide" Target="slides/slide273.xml"/><Relationship Id="rId287" Type="http://schemas.openxmlformats.org/officeDocument/2006/relationships/slide" Target="slides/slide274.xml"/><Relationship Id="rId288" Type="http://schemas.openxmlformats.org/officeDocument/2006/relationships/slide" Target="slides/slide275.xml"/><Relationship Id="rId289" Type="http://schemas.openxmlformats.org/officeDocument/2006/relationships/slide" Target="slides/slide276.xml"/><Relationship Id="rId290" Type="http://schemas.openxmlformats.org/officeDocument/2006/relationships/slide" Target="slides/slide277.xml"/><Relationship Id="rId291" Type="http://schemas.openxmlformats.org/officeDocument/2006/relationships/slide" Target="slides/slide278.xml"/><Relationship Id="rId292" Type="http://schemas.openxmlformats.org/officeDocument/2006/relationships/slide" Target="slides/slide279.xml"/><Relationship Id="rId293" Type="http://schemas.openxmlformats.org/officeDocument/2006/relationships/slide" Target="slides/slide280.xml"/><Relationship Id="rId294" Type="http://schemas.openxmlformats.org/officeDocument/2006/relationships/slide" Target="slides/slide281.xml"/><Relationship Id="rId295" Type="http://schemas.openxmlformats.org/officeDocument/2006/relationships/slide" Target="slides/slide282.xml"/><Relationship Id="rId296" Type="http://schemas.openxmlformats.org/officeDocument/2006/relationships/slide" Target="slides/slide283.xml"/><Relationship Id="rId297" Type="http://schemas.openxmlformats.org/officeDocument/2006/relationships/slide" Target="slides/slide284.xml"/><Relationship Id="rId298" Type="http://schemas.openxmlformats.org/officeDocument/2006/relationships/slide" Target="slides/slide285.xml"/><Relationship Id="rId299" Type="http://schemas.openxmlformats.org/officeDocument/2006/relationships/slide" Target="slides/slide286.xml"/><Relationship Id="rId300" Type="http://schemas.openxmlformats.org/officeDocument/2006/relationships/slide" Target="slides/slide287.xml"/><Relationship Id="rId301" Type="http://schemas.openxmlformats.org/officeDocument/2006/relationships/slide" Target="slides/slide288.xml"/><Relationship Id="rId302" Type="http://schemas.openxmlformats.org/officeDocument/2006/relationships/slide" Target="slides/slide289.xml"/><Relationship Id="rId303" Type="http://schemas.openxmlformats.org/officeDocument/2006/relationships/slide" Target="slides/slide290.xml"/><Relationship Id="rId304" Type="http://schemas.openxmlformats.org/officeDocument/2006/relationships/slide" Target="slides/slide291.xml"/><Relationship Id="rId305" Type="http://schemas.openxmlformats.org/officeDocument/2006/relationships/slide" Target="slides/slide292.xml"/><Relationship Id="rId306" Type="http://schemas.openxmlformats.org/officeDocument/2006/relationships/slide" Target="slides/slide293.xml"/><Relationship Id="rId307" Type="http://schemas.openxmlformats.org/officeDocument/2006/relationships/slide" Target="slides/slide294.xml"/><Relationship Id="rId308" Type="http://schemas.openxmlformats.org/officeDocument/2006/relationships/slide" Target="slides/slide295.xml"/><Relationship Id="rId309" Type="http://schemas.openxmlformats.org/officeDocument/2006/relationships/slide" Target="slides/slide296.xml"/><Relationship Id="rId310" Type="http://schemas.openxmlformats.org/officeDocument/2006/relationships/slide" Target="slides/slide297.xml"/><Relationship Id="rId311" Type="http://schemas.openxmlformats.org/officeDocument/2006/relationships/slide" Target="slides/slide298.xml"/><Relationship Id="rId312" Type="http://schemas.openxmlformats.org/officeDocument/2006/relationships/slide" Target="slides/slide299.xml"/><Relationship Id="rId313" Type="http://schemas.openxmlformats.org/officeDocument/2006/relationships/slide" Target="slides/slide300.xml"/><Relationship Id="rId314" Type="http://schemas.openxmlformats.org/officeDocument/2006/relationships/slide" Target="slides/slide301.xml"/><Relationship Id="rId315" Type="http://schemas.openxmlformats.org/officeDocument/2006/relationships/slide" Target="slides/slide302.xml"/><Relationship Id="rId316" Type="http://schemas.openxmlformats.org/officeDocument/2006/relationships/slide" Target="slides/slide303.xml"/><Relationship Id="rId317" Type="http://schemas.openxmlformats.org/officeDocument/2006/relationships/slide" Target="slides/slide304.xml"/><Relationship Id="rId318" Type="http://schemas.openxmlformats.org/officeDocument/2006/relationships/slide" Target="slides/slide305.xml"/><Relationship Id="rId319" Type="http://schemas.openxmlformats.org/officeDocument/2006/relationships/slide" Target="slides/slide306.xml"/><Relationship Id="rId320" Type="http://schemas.openxmlformats.org/officeDocument/2006/relationships/slide" Target="slides/slide307.xml"/><Relationship Id="rId321" Type="http://schemas.openxmlformats.org/officeDocument/2006/relationships/slide" Target="slides/slide308.xml"/><Relationship Id="rId322" Type="http://schemas.openxmlformats.org/officeDocument/2006/relationships/slide" Target="slides/slide309.xml"/><Relationship Id="rId323" Type="http://schemas.openxmlformats.org/officeDocument/2006/relationships/slide" Target="slides/slide310.xml"/><Relationship Id="rId324" Type="http://schemas.openxmlformats.org/officeDocument/2006/relationships/slide" Target="slides/slide311.xml"/><Relationship Id="rId325" Type="http://schemas.openxmlformats.org/officeDocument/2006/relationships/slide" Target="slides/slide312.xml"/><Relationship Id="rId326" Type="http://schemas.openxmlformats.org/officeDocument/2006/relationships/slide" Target="slides/slide313.xml"/><Relationship Id="rId327" Type="http://schemas.openxmlformats.org/officeDocument/2006/relationships/slide" Target="slides/slide314.xml"/><Relationship Id="rId328" Type="http://schemas.openxmlformats.org/officeDocument/2006/relationships/slide" Target="slides/slide315.xml"/><Relationship Id="rId329" Type="http://schemas.openxmlformats.org/officeDocument/2006/relationships/slide" Target="slides/slide316.xml"/><Relationship Id="rId330" Type="http://schemas.openxmlformats.org/officeDocument/2006/relationships/slide" Target="slides/slide317.xml"/><Relationship Id="rId331" Type="http://schemas.openxmlformats.org/officeDocument/2006/relationships/slide" Target="slides/slide318.xml"/><Relationship Id="rId332" Type="http://schemas.openxmlformats.org/officeDocument/2006/relationships/slide" Target="slides/slide319.xml"/><Relationship Id="rId333" Type="http://schemas.openxmlformats.org/officeDocument/2006/relationships/slide" Target="slides/slide320.xml"/><Relationship Id="rId334" Type="http://schemas.openxmlformats.org/officeDocument/2006/relationships/slide" Target="slides/slide321.xml"/><Relationship Id="rId335" Type="http://schemas.openxmlformats.org/officeDocument/2006/relationships/slide" Target="slides/slide322.xml"/><Relationship Id="rId336" Type="http://schemas.openxmlformats.org/officeDocument/2006/relationships/slide" Target="slides/slide323.xml"/><Relationship Id="rId337" Type="http://schemas.openxmlformats.org/officeDocument/2006/relationships/slide" Target="slides/slide324.xml"/><Relationship Id="rId338" Type="http://schemas.openxmlformats.org/officeDocument/2006/relationships/slide" Target="slides/slide325.xml"/><Relationship Id="rId339" Type="http://schemas.openxmlformats.org/officeDocument/2006/relationships/slide" Target="slides/slide326.xml"/><Relationship Id="rId340" Type="http://schemas.openxmlformats.org/officeDocument/2006/relationships/slide" Target="slides/slide327.xml"/><Relationship Id="rId341" Type="http://schemas.openxmlformats.org/officeDocument/2006/relationships/slide" Target="slides/slide328.xml"/><Relationship Id="rId342" Type="http://schemas.openxmlformats.org/officeDocument/2006/relationships/slide" Target="slides/slide329.xml"/><Relationship Id="rId343" Type="http://schemas.openxmlformats.org/officeDocument/2006/relationships/slide" Target="slides/slide330.xml"/><Relationship Id="rId344" Type="http://schemas.openxmlformats.org/officeDocument/2006/relationships/slide" Target="slides/slide331.xml"/><Relationship Id="rId345" Type="http://schemas.openxmlformats.org/officeDocument/2006/relationships/slide" Target="slides/slide332.xml"/><Relationship Id="rId346" Type="http://schemas.openxmlformats.org/officeDocument/2006/relationships/slide" Target="slides/slide333.xml"/><Relationship Id="rId347" Type="http://schemas.openxmlformats.org/officeDocument/2006/relationships/slide" Target="slides/slide334.xml"/><Relationship Id="rId348" Type="http://schemas.openxmlformats.org/officeDocument/2006/relationships/slide" Target="slides/slide335.xml"/><Relationship Id="rId349" Type="http://schemas.openxmlformats.org/officeDocument/2006/relationships/slide" Target="slides/slide336.xml"/><Relationship Id="rId350" Type="http://schemas.openxmlformats.org/officeDocument/2006/relationships/slide" Target="slides/slide337.xml"/><Relationship Id="rId351" Type="http://schemas.openxmlformats.org/officeDocument/2006/relationships/slide" Target="slides/slide338.xml"/><Relationship Id="rId352" Type="http://schemas.openxmlformats.org/officeDocument/2006/relationships/slide" Target="slides/slide339.xml"/><Relationship Id="rId353" Type="http://schemas.openxmlformats.org/officeDocument/2006/relationships/slide" Target="slides/slide340.xml"/><Relationship Id="rId354" Type="http://schemas.openxmlformats.org/officeDocument/2006/relationships/slide" Target="slides/slide341.xml"/><Relationship Id="rId355" Type="http://schemas.openxmlformats.org/officeDocument/2006/relationships/slide" Target="slides/slide342.xml"/><Relationship Id="rId356" Type="http://schemas.openxmlformats.org/officeDocument/2006/relationships/slide" Target="slides/slide343.xml"/><Relationship Id="rId357" Type="http://schemas.openxmlformats.org/officeDocument/2006/relationships/slide" Target="slides/slide344.xml"/><Relationship Id="rId358" Type="http://schemas.openxmlformats.org/officeDocument/2006/relationships/slide" Target="slides/slide345.xml"/><Relationship Id="rId359" Type="http://schemas.openxmlformats.org/officeDocument/2006/relationships/slide" Target="slides/slide346.xml"/><Relationship Id="rId360" Type="http://schemas.openxmlformats.org/officeDocument/2006/relationships/slide" Target="slides/slide347.xml"/><Relationship Id="rId361" Type="http://schemas.openxmlformats.org/officeDocument/2006/relationships/slide" Target="slides/slide348.xml"/><Relationship Id="rId362" Type="http://schemas.openxmlformats.org/officeDocument/2006/relationships/slide" Target="slides/slide349.xml"/><Relationship Id="rId363" Type="http://schemas.openxmlformats.org/officeDocument/2006/relationships/slide" Target="slides/slide350.xml"/><Relationship Id="rId364" Type="http://schemas.openxmlformats.org/officeDocument/2006/relationships/slide" Target="slides/slide351.xml"/><Relationship Id="rId365" Type="http://schemas.openxmlformats.org/officeDocument/2006/relationships/slide" Target="slides/slide352.xml"/><Relationship Id="rId366" Type="http://schemas.openxmlformats.org/officeDocument/2006/relationships/slide" Target="slides/slide353.xml"/><Relationship Id="rId367" Type="http://schemas.openxmlformats.org/officeDocument/2006/relationships/slide" Target="slides/slide354.xml"/><Relationship Id="rId368" Type="http://schemas.openxmlformats.org/officeDocument/2006/relationships/slide" Target="slides/slide355.xml"/><Relationship Id="rId369" Type="http://schemas.openxmlformats.org/officeDocument/2006/relationships/slide" Target="slides/slide356.xml"/><Relationship Id="rId370" Type="http://schemas.openxmlformats.org/officeDocument/2006/relationships/slide" Target="slides/slide357.xml"/><Relationship Id="rId371" Type="http://schemas.openxmlformats.org/officeDocument/2006/relationships/slide" Target="slides/slide358.xml"/><Relationship Id="rId372" Type="http://schemas.openxmlformats.org/officeDocument/2006/relationships/slide" Target="slides/slide359.xml"/><Relationship Id="rId373" Type="http://schemas.openxmlformats.org/officeDocument/2006/relationships/slide" Target="slides/slide360.xml"/><Relationship Id="rId374" Type="http://schemas.openxmlformats.org/officeDocument/2006/relationships/slide" Target="slides/slide361.xml"/><Relationship Id="rId375" Type="http://schemas.openxmlformats.org/officeDocument/2006/relationships/slide" Target="slides/slide362.xml"/><Relationship Id="rId376" Type="http://schemas.openxmlformats.org/officeDocument/2006/relationships/slide" Target="slides/slide363.xml"/><Relationship Id="rId377" Type="http://schemas.openxmlformats.org/officeDocument/2006/relationships/slide" Target="slides/slide364.xml"/><Relationship Id="rId378" Type="http://schemas.openxmlformats.org/officeDocument/2006/relationships/slide" Target="slides/slide365.xml"/><Relationship Id="rId379" Type="http://schemas.openxmlformats.org/officeDocument/2006/relationships/slide" Target="slides/slide366.xml"/><Relationship Id="rId380" Type="http://schemas.openxmlformats.org/officeDocument/2006/relationships/slide" Target="slides/slide367.xml"/><Relationship Id="rId381" Type="http://schemas.openxmlformats.org/officeDocument/2006/relationships/slide" Target="slides/slide368.xml"/><Relationship Id="rId382" Type="http://schemas.openxmlformats.org/officeDocument/2006/relationships/slide" Target="slides/slide369.xml"/><Relationship Id="rId383" Type="http://schemas.openxmlformats.org/officeDocument/2006/relationships/slide" Target="slides/slide370.xml"/><Relationship Id="rId384" Type="http://schemas.openxmlformats.org/officeDocument/2006/relationships/slide" Target="slides/slide371.xml"/><Relationship Id="rId385" Type="http://schemas.openxmlformats.org/officeDocument/2006/relationships/slide" Target="slides/slide372.xml"/><Relationship Id="rId386" Type="http://schemas.openxmlformats.org/officeDocument/2006/relationships/slide" Target="slides/slide373.xml"/><Relationship Id="rId387" Type="http://schemas.openxmlformats.org/officeDocument/2006/relationships/slide" Target="slides/slide374.xml"/><Relationship Id="rId388" Type="http://schemas.openxmlformats.org/officeDocument/2006/relationships/slide" Target="slides/slide375.xml"/><Relationship Id="rId389" Type="http://schemas.openxmlformats.org/officeDocument/2006/relationships/slide" Target="slides/slide376.xml"/><Relationship Id="rId390" Type="http://schemas.openxmlformats.org/officeDocument/2006/relationships/slide" Target="slides/slide377.xml"/><Relationship Id="rId391" Type="http://schemas.openxmlformats.org/officeDocument/2006/relationships/slide" Target="slides/slide378.xml"/><Relationship Id="rId392" Type="http://schemas.openxmlformats.org/officeDocument/2006/relationships/slide" Target="slides/slide379.xml"/><Relationship Id="rId393" Type="http://schemas.openxmlformats.org/officeDocument/2006/relationships/slide" Target="slides/slide380.xml"/><Relationship Id="rId394" Type="http://schemas.openxmlformats.org/officeDocument/2006/relationships/slide" Target="slides/slide381.xml"/><Relationship Id="rId395" Type="http://schemas.openxmlformats.org/officeDocument/2006/relationships/slide" Target="slides/slide382.xml"/><Relationship Id="rId396" Type="http://schemas.openxmlformats.org/officeDocument/2006/relationships/slide" Target="slides/slide383.xml"/><Relationship Id="rId397" Type="http://schemas.openxmlformats.org/officeDocument/2006/relationships/slide" Target="slides/slide384.xml"/><Relationship Id="rId398" Type="http://schemas.openxmlformats.org/officeDocument/2006/relationships/slide" Target="slides/slide385.xml"/><Relationship Id="rId399" Type="http://schemas.openxmlformats.org/officeDocument/2006/relationships/slide" Target="slides/slide386.xml"/><Relationship Id="rId400" Type="http://schemas.openxmlformats.org/officeDocument/2006/relationships/slide" Target="slides/slide387.xml"/><Relationship Id="rId401" Type="http://schemas.openxmlformats.org/officeDocument/2006/relationships/slide" Target="slides/slide388.xml"/><Relationship Id="rId402" Type="http://schemas.openxmlformats.org/officeDocument/2006/relationships/slide" Target="slides/slide389.xml"/><Relationship Id="rId403" Type="http://schemas.openxmlformats.org/officeDocument/2006/relationships/slide" Target="slides/slide390.xml"/><Relationship Id="rId404" Type="http://schemas.openxmlformats.org/officeDocument/2006/relationships/slide" Target="slides/slide391.xml"/><Relationship Id="rId405" Type="http://schemas.openxmlformats.org/officeDocument/2006/relationships/slide" Target="slides/slide392.xml"/><Relationship Id="rId406" Type="http://schemas.openxmlformats.org/officeDocument/2006/relationships/slide" Target="slides/slide393.xml"/><Relationship Id="rId407" Type="http://schemas.openxmlformats.org/officeDocument/2006/relationships/slide" Target="slides/slide394.xml"/><Relationship Id="rId408" Type="http://schemas.openxmlformats.org/officeDocument/2006/relationships/slide" Target="slides/slide395.xml"/><Relationship Id="rId409" Type="http://schemas.openxmlformats.org/officeDocument/2006/relationships/slide" Target="slides/slide396.xml"/><Relationship Id="rId410" Type="http://schemas.openxmlformats.org/officeDocument/2006/relationships/slide" Target="slides/slide397.xml"/><Relationship Id="rId411" Type="http://schemas.openxmlformats.org/officeDocument/2006/relationships/slide" Target="slides/slide398.xml"/><Relationship Id="rId412" Type="http://schemas.openxmlformats.org/officeDocument/2006/relationships/slide" Target="slides/slide399.xml"/><Relationship Id="rId413" Type="http://schemas.openxmlformats.org/officeDocument/2006/relationships/slide" Target="slides/slide400.xml"/><Relationship Id="rId414" Type="http://schemas.openxmlformats.org/officeDocument/2006/relationships/slide" Target="slides/slide401.xml"/><Relationship Id="rId415" Type="http://schemas.openxmlformats.org/officeDocument/2006/relationships/slide" Target="slides/slide402.xml"/><Relationship Id="rId416" Type="http://schemas.openxmlformats.org/officeDocument/2006/relationships/slide" Target="slides/slide403.xml"/><Relationship Id="rId417" Type="http://schemas.openxmlformats.org/officeDocument/2006/relationships/slide" Target="slides/slide404.xml"/><Relationship Id="rId418" Type="http://schemas.openxmlformats.org/officeDocument/2006/relationships/slide" Target="slides/slide405.xml"/><Relationship Id="rId419" Type="http://schemas.openxmlformats.org/officeDocument/2006/relationships/slide" Target="slides/slide406.xml"/><Relationship Id="rId420" Type="http://schemas.openxmlformats.org/officeDocument/2006/relationships/slide" Target="slides/slide407.xml"/><Relationship Id="rId4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5D0-3FF9-466E-9876-2D49B83E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C5F-4C0C-4B52-A9E3-F1A1D98B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612DE-1180-46CC-8D71-23DD6090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2B434-3C19-4AF3-B2A9-5FBB4EC4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CE45E-81B0-4306-A5AA-57A67194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86569-C867-4CD8-BD86-8C5E21DA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93F3F-87FE-4C58-943C-21330191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0600B-81BC-4C71-8057-B47CF6F7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E2C6B-A39E-4213-BD85-81CF2C86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9F4ED-5376-4648-A159-88396C58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07D01-CD5D-4EEB-8889-6FEDFE48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75364-4DE2-434F-9599-AEF0F4CD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105-044E-49C7-B33C-8F72D499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6168A-4D42-4CB3-A066-4F5EFDD4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87AC3-DCF0-42E9-AC3F-F1993833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301B4-CE9F-46FE-9A51-98E4950D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05D02-7E3A-4C20-9957-561B7258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E3FEE-3A09-4C42-A678-F69E3D53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63D00-4E03-41C6-85C4-DF5F9B38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648F6-A47C-46B4-BC20-1CC768BE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F8745-20F7-4F3F-9713-27D10B22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09C0E-18C0-45DC-A486-0C756A4C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78F54-9269-46AB-9155-182EC27B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F8C-0D2C-4B91-B11C-9FDD1A52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47916-9398-49F5-B848-0C29B0BA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0749F-7098-4B32-851E-D58A60E2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E7450-D48E-471A-8B29-73EA916C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16D56-5746-43E2-90DA-26B730B3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33D99-5A4E-4577-AB3B-13A9692D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3E425-D691-42B5-927B-2497596D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DFBF2-BB88-4658-9ECC-58B7EDB8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86202-DDD8-4CD2-A72B-605A0E2B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C000F-963D-45EE-8F77-FEBEF2C3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81D90-BAB9-4E09-9E0D-CEE5E934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72CA-EEAC-4262-88E3-DF1B7F78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72244-06C3-4166-95DC-F5DD4050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FE8E7-1E4B-48D7-88F1-392A432C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5261A-4B09-463D-BFFE-FD63C4FB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FC2C6-B947-4F53-9AF7-EEF8CFA0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4C909-5012-47F1-906D-135EB2AB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987E7-026B-43E7-A32A-E7482DD9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20C9D-668C-4F60-8831-4282364E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0D92D-C31C-435B-8EF1-86CE625D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C2DF1-9726-48B6-A28A-B3D17228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3F2F7-230D-4D73-838A-E6FA1586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2F6A-F19B-4BD1-B795-9D199D8E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96BE4-A7CF-4695-B207-87700264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37485-7D2B-4E75-BD11-9B8B35B1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F5953-0847-43F4-A1E9-F90508D3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ABB6E-FBA9-4BEB-A96A-1575A605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C71A2-1419-4B80-9EDC-FE258556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9D75-669F-4004-9182-56E85AE2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DD1E-CD1C-4BF8-9528-8A42E40B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F6DD-CAC2-4972-894F-31703472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7CF6-5BCD-489D-B797-92381992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7519-5B61-4FFB-9C9C-BC09AEA1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BA4-A560-45CC-873A-EB0C7C21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ECCD-1109-4A64-8DA7-54B6085C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E468-0465-4664-BE26-D487A839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1C77-DCFF-4758-B3F1-0DAC00A5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AF61-3F56-4F77-98C6-4BBD4932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CE62-B1D7-43DE-8983-A1F1F718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9C34A-0691-409A-817D-159CC5DE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77414-F8F2-4232-A2A3-DB614AC2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887D8-C3C5-48E2-BE0B-45E2FC07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98134-ECC2-46C3-8239-A484D1FB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2B427-7246-4EB1-A78E-2E600636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1AE-90BA-4268-9886-37ABC45C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B3D51-1535-4E31-B984-99010C7D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0174E-B7C3-4DEE-A956-A9B0E9B2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2B71-65D6-4283-87D5-1F748687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BB44-3F93-45E7-8087-24947861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73158-7E23-489D-8D15-3CA58121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B0B62-099A-4B60-A9DC-DD6D97F8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9A667-F10B-415D-99F6-65E67528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ACD73-78B1-4028-8B34-A6130447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8D2E3-3E09-43F7-918F-3A881C23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0A8F6-2BEC-466D-8202-70908609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1FE-7B76-4688-8D82-96070B56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F3385-0979-4AD6-AFE5-56D5EA20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0FF3A-EF52-4CA7-AA7D-2D72D66A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426B0-52EF-4501-B517-13F9AB50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B1282-FB3D-447E-8D08-5CA344E4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AAF80-4B64-49BA-9B28-D621BF38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0BA72-B094-4C5E-B8A4-27A82550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ACDE-BFE2-411B-ADC4-5BFD4B39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51C85-67F1-4CB2-962C-2A365115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BCD6D-0145-4ACD-8DB7-C0B35FDC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EF154-5234-48FF-B167-31387600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B2A-A40D-4358-9782-73BE687E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F468A-C98D-4802-A430-80249E3F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FDE5C-456E-4954-B174-42248F74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E03E1-C397-4E5C-BE3F-C2A2A9C8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0D28C-3AAE-4A56-B950-EB268DEE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25B63-3211-487C-8854-AA07961A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E0E12-B274-4EB9-A3A4-4E99F2D2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600C6-CD94-4E54-A8A6-62FAC519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9E4B7-EF11-45AB-A206-E1161FD5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1BCEB-ED8B-423A-9E68-E9A92290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6D9C1-92D8-4FB1-AD4A-1A21ABA1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88B-98A9-4165-A7D2-CCDA3F0B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82D7E-D9CF-4C28-B315-D48B5201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6DDA8-21AA-48D8-8161-55CFEA42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BC624-ECFB-4C81-801E-59753762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D0D35-8A8C-4875-A304-0EBC6BE1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1AED5-3E90-4B25-B4A2-5BD5570A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0607D-6668-4A0E-B9B1-31F0AF8B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89A57-B0B1-4090-B10F-CD3E6DBD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91599-DB1A-457A-BA0D-C9C80A92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8FA2D-2278-4A17-889C-F3EB1E37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1B6D8-8562-4936-ACFB-6885D449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510-6622-45D1-8BC4-E07B6149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02366-3002-4F22-ACDD-2FB7C088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6D8EC-39AC-4D4C-8984-FEB6E0E2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3063B-4C57-4A14-A98A-B65AFDB6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CE6D8-996F-43BE-BAF6-27E6097E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728E4-1F1C-48D5-9944-05E2F17A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A00E6-4A5D-4BCF-8DAF-0902C8B0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536AE-3C7D-4DAD-A3CE-ABCCB90C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5AB09-7FE8-4784-9167-842B28B3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F486C-7D9F-42A4-BCFD-4DBE6162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89799-473C-4E5A-A99D-20F6CC08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003-7C63-42FF-8EA6-EE9D70ED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4176E-F048-4638-9FFB-22759849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44CA6-D5C7-4E61-A03A-34A428D8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2AB28-902F-44C0-9516-C361D1B4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28CFA-2E29-4EEC-B136-FF8CB1A4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69A73-36DB-46A3-B62C-964993A1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AD07C-D186-4001-9B63-D9DD3208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0BAEE-5C15-4A36-B9A7-18543F78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FEB42-66F2-4245-885F-C1267AAE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59BAC-7D22-426E-8A55-2D0BE586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67876-351E-4E97-B01A-2E628E0A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546-F6D9-4624-A126-D33C0CA3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C7EDC-6DE1-4797-B9C8-2D43C3D0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9DF5C-529F-4FCE-9A5E-7DDDB739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209CC-4D5C-4624-A578-5076B2F9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666A8-08D6-434C-8C1D-95E05432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0FABE-A202-471E-93DA-228B8D8B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4A5E9-A879-4D73-B7B9-678A9AFE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9C2A9-26B7-431E-85E1-BED64814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EC34C-B00B-4FD7-B0E9-72C09D9D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ACAF0-50C0-4328-99FE-58D97057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5FF6A-9FB1-435A-B457-9CD61E34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80CB-980B-4E39-951E-C80ADD3CC7F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4A6F-15DA-4C28-94F4-992F67D9BF7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A2E7-364B-4A30-B44C-393985DC3D4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E170-7D9C-4D08-94CE-F460FAEB312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C494-D7DE-4F0A-BA23-88A52B30B2CF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92DB-44A7-4841-88BB-26CF052F6748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CFC0-1B13-485D-8600-0816E67DDB2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9DAE-BF6B-4058-A06E-FF98B08DCAA6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FFDC-6A22-4819-8A82-00F98985388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C05F-CE3D-4F8D-BC7D-74BAFCCB553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3046-E39C-4F1D-98EB-2360D21E93D9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64B9-5E6D-4CD4-A86F-63E5DB09609D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403280" y="1628640"/>
            <a:ext cx="6477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ل يستطيع الرب ب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371600" y="24382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الهي رفعت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990720" y="2733840"/>
            <a:ext cx="7086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َ يسوع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ي ويا أمل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يني مت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نّي الخطا صدرا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371600" y="2733840"/>
            <a:ext cx="66294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نجمةَ الصبحِ شعّ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ـي معابدِنـ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نوّري عقلَ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سّمْعَ والبصرا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أيا رب رحما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676520" y="197172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يا ربُّ رحما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شفق عل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قبل قرابينَ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رح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057400" y="1905120"/>
            <a:ext cx="52578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هذي الذبيح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خطاي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ما قد رسمت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فضلٍ عم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1523880" y="1905120"/>
            <a:ext cx="59436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هو ابنُكَ دوم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كفِّرُ عنّ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ما قد فدا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نوعٍ عج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676520" y="205740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ما قد تجسّ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طوعاً وأجرى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ماهُ الزكيّة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وقَ الصّل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676520" y="1971720"/>
            <a:ext cx="59436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يا ربُّ رحما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شفق عل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قبل قرابينَ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رح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057400" y="1905120"/>
            <a:ext cx="52578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هذي الذبيح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خطاي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ما قد رسمت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فضلٍ عمي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يفيض قلب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190512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رفعتُ إليكَ يد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فيضُ قلبي بالتهليل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أنكَ علّمتني إرشادا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تغنّى لساني بكلم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هي ثابتةٌ إلـى الأبد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صومُ الذي أُريد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قولُ الربّ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 تُحَلَّ قيودُ الظُلمِ ويُطْلَقَ الـمنسحقونَ أحراراً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صومُ الذي أُريد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قولُ الربّ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 تَفْرُشَ للجائعِ خُبْزَك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تُدخِلَ الـمسكينَ الطريدَ بيتَكَ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فيضُ قلبي بالتهليل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أنكَ علّمتني إرشادا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تغنّى لساني بكلم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هي ثابتةٌ إلـى الأبد.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2844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صومُ الذي أُريده يقولُ الربّ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 تَرى العُريانَ الطريد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تكسُوَهُ، ولا تتهرّ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مساعدةِ قريبـِكَ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ذا سكَبتَ لُقمَتَكَ للجائِع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بَّيتَ حاجةَ البائسينَ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ُشرِقُ في الظلمَةِ نورُك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الظُهرِ تكونُ لياليكَ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فيضُ قلبي بالتهليل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أنكَ علّمتني إرشادا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تغنّى لساني بكلمتِ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هي ثابتةٌ إلـى الأبد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295280" y="134136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أوم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حبات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وادعات... تزهو جنّات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ليلِ العاتي الأمواج.. يعلو سراج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ّ القلبَ الـملقى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 الأحزان... يلقى الحنان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لّي ايما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يمان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ذا شعارُ فداءِ العالمْ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ه الفرحُ، وفيه الحقّ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فيه سلامُ القلب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خلفَ الريحِ الهوجاءِ شفاه... تتلو الصلاه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من أن فـي صمتِ الكو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ـمُقفلِ... من يصغي ل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ي إذ ترنو عينايَ للسماء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صفو الأضواء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علو الألحا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كلّي إيمان... إيمان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سيد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خبزُ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يأتني لا يَجُعْ أبد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من يؤمن 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ا يعطش أبداً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جسدي طعامٌ حق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دمي شرابٌ حق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كل جسدي وشرب دم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قام فـيّ وأنا فيه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لّما أكلتم هذا الخبز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شربتم من هذه الكأس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خبرونَ بموتِ الرب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أن يعود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0"/>
            <a:ext cx="9144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سيدي أعطِ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من هذا الخبز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أبدا.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190512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رفعتُ إليكَ يد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295280" y="90792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200"/>
            </a:b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????Boutros Rokaa"/>
              </a:rPr>
              <a:t>من لي بأن تكتب أقوالي</a:t>
            </a:r>
            <a:br>
              <a:rPr sz="14200"/>
            </a:b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9144000" cy="13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مَن لي بأن تُكتَب أقوال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ْ تُنقَش في الصخرِ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لى الأبدِ إلى الأبدِ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0" y="0"/>
            <a:ext cx="9144000" cy="11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إني كلّما تذكّرتُ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رتعتُ وأخذَ جسمي الارتعاش.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93600"/>
            <a:ext cx="9144000" cy="65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نَّ فاديَّ حيّ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0" y="0"/>
            <a:ext cx="9144000" cy="140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ِي لَعالِمٌ أنَّ فاديَّ حيّ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اديَّ حيٌّ وسيقومُ آخراً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لى التُراب وبعد ذل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لبَسُ هذه الأعضاءُ بجلد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93600"/>
            <a:ext cx="9144000" cy="129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بجسدي أُعايِنُ اللهَ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لذي أنا أُعايِنه بنفس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عينايَ تريانه لا غيري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2286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وشع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ـي الأعال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باركٌ الآت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سم الرب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143000" y="160020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طرق أورشلي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طُرُقُ أورشليمَ نائِحَة.. لعدمِ القادمينَ إلى الأعيادْ.. وجميعُ أبوابها متهدّمَهْ..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هذا جسدُكَ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ذا دمُكَ الطاهرُ فاغسل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اغسل يا ربِّ خطايا العالَ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لتَحيَ بروحِكَ أنفسُنا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400" spc="-1" strike="noStrike">
                <a:solidFill>
                  <a:srgbClr val="ffffff"/>
                </a:solidFill>
                <a:latin typeface="Tahoma"/>
                <a:cs typeface="Akhbar MT"/>
              </a:rPr>
              <a:t>كهنتُها مُتنهّدون وعذاراها متحسِّرات وهي في مرارةٍ.</a:t>
            </a:r>
            <a:endParaRPr b="0" lang="en-US" sz="10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ea typeface="Akhbar MT"/>
              </a:rPr>
              <a:t> الربُ صالحٌ للذينَ ينتظرونَهُ للنفسِ التي تلتمسَهُ.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خيرٌ أن يُنتظَر خلاصُ الربِ بسكوتٍ لأن السيّدَ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لا يُقصي إلى الأبد. 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فإنه ولو أَعْنَت، يَرحَمُ بحسبِ كثرةِ رأفتهِ.</a:t>
            </a:r>
            <a:endParaRPr b="0" lang="en-US" sz="9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عيني تقطُرُ ولا تسكُت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لأنه لا قرارَ لي إلى أن يطلعَ وينظُرَ الربُ من السماء.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عوتُ باسمكَ يا ربّ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سمع صوتي لا تحجُبْ أُذنَكَ عن استغاثت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قتربْ يومَ أدعوك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ذا هو اليو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0"/>
            <a:ext cx="9144000" cy="10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الذي صنعه الربّ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لنفرح ونتهلَّل به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يقُم الل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تشتّت جميع أعدائ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يهرُب مُبغضوه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مامِ وجهِه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هي... رفعتُ إليكَ يدي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ملتي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جسدَ اقبلْه..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كأسَ تباركَ فيها الدّ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يَبيدوا كما يُبَدَّد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دخان وكما يذوب الشمع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مام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جهِ النا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ذلك يهلك الخطأ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أمام وجهِه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يفرحُ الصدِّيقون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سروري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هللوي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6360" y="1700280"/>
            <a:ext cx="9144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5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6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لاكُ اللامِعُ عندَ القبرْ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الَ لحاملاتِ الطيبْ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ـماذا تَمزُجْنَ الطُيوبَ بالدموعْ باكياتٍ وراثياتْ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أنظرنَ اللحد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فرحنَ لأنَّ الـمخلِّص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قاً قا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371600" y="24382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قاديش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نسجُدُ للآب ولابنهِ ولروحِ قُدْسِهِ ثالوثاً مقدّساً بجوهرٍ واحدٍ صارخينَ معَ السرافيمْ قدّوسٌ أنتَ ياربْ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مسيح قام من بين الأموات ووطىءَ الـموتَ بالـم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وهبَ الحيا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ذين في القبور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6360" y="1700280"/>
            <a:ext cx="91440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5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6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بقيومت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9144000" cy="10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َقْيومْتِه دْمَلْكو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شِيحُو نِسَبْ حوسويْ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نَفْشوتَنْ بْهَيْمْنوتُو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َشْررُوا نِيمَارْحُولَ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َوُييتْ لَبْرُودْفَرْقَ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بَصْليبِهِ بْرِيخْ فُرُوقَ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قاديش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914400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َبْخول فينيو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َوْرِبْ دُخْرو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يولِدْتِهْ وَدْقاديشِهْ وَدْعانيدِيه مْهَيمِنيهْ هللويا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َيْلَوتُو دَشْمايو قُويْمي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عامَنْ بْغاوُبتْ قودْشُوا وَمْزايْحِينْ لِيهْ لفاغْرُو دْبَر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وهو دَدْبيحْ قُودْمَينْ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ْرُوبْ سَابْ مِينِهْ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حُوسوي حَاوْبهْ وَحْطُوهِيهْ هللويا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اديش قاديش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اديشات مور / قُعْيوعيدتو / بريخو دْيَبْلي / فَغْرِه وَدْمه دتحاسِ بـِه.</a:t>
            </a:r>
            <a:r>
              <a:rPr b="1" lang="ar-SA" sz="9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عَالْ مَدْبْحُوخْ مُورْ نِتْدَخْرُونْ أَبُوهَيْنْ واحَينْ وْرَبُونَيْنْ وَنْقُومُونْ مِنْ يَامينُوخْ بْيَومُو دّنْحُو رَابُوتُوخْ مَلْكُو مْشِيحُو هللويا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الكنيس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0" y="0"/>
            <a:ext cx="9144000" cy="10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لكنيسة.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قراء، بسطاء، ومساكين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ذّبت فيهم، ملوكٌ وسلاطين. 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افَ صوتُ الله: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نتم، حيثُ كنتُم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كُم الأرضَ، فثوروا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لتكن رايتكم عبر السنين..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كنيسة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م يكن بعدُ لنا فوقَ تلّ من تلالِ الأرضِ بيت، وأتيت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اً جاء يبني، فبنى..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كنيسة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ي الصباح، نهتف: الله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في عمق الظلام، فلتكن أمّ الجراح، وعلى الأرض السلام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كنيسة.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إذا ما الشرُّ ليلٌ لا يُردّ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طغى كلّ قويّ، والمجاذيفُ سُدى في الموج، والأفق شقي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إذا أظلمت الدنيا، وعمَّ الأرض حقد، فلتقاتل، في سبيلِ الشمس، والأطفال، والعدل، وميلاد السنابل.. أَلكنيسة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الرب راع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وهللويا/ وله تشبوحتو ديَبلن فغره / ودمه حايو دِنْتحاسي به.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0" y="11592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ردّ نفسي ويهدين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ى سبل البرّ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ن أجل اسمه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0"/>
            <a:ext cx="9144000" cy="12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ي ولو سلكت في وادي ظلال الموت لا أخاف سوءاً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أنّك مع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عصاكَ وعكّازك هما يعزيّان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26028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جودة والرحمة تتبعانني جميع أيام حياتي وسكناي في بيت الربّ طول الأيام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0" y="404640"/>
            <a:ext cx="9144000" cy="12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ربّ راعيَّ فلا يعوزني شيء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مراعٍ خصيبة يقيلن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مياه الراحة يوردني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يسوع رب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نا يا نوراً من نورْ جئناكَ وقلبُنا بالحبِ مغمورْ فاقبلْ منّا حبّ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ما لنا حبٌ سوا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َ نوِّر عقلَنا حتى نرا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في القربانِ أعطِ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ُ أن نلقاكَ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نا يا نوراً من نورْ جئناكَ وقلبُنا بالحبِ مغمورْ فاقبلْ منّا حبّ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ودشُخ نِهوِا مِتكَشْفنُو / بْدينو حْلُفَيْن قْدُم هُوي بيما /دْمَلْيُو دِحلو وعَزيزوتو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مَّنا يا مريمُ البكرُ ندعوك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يُرنِّمُ نحنُ بنوكِ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ِنكِ نتقدَّمُ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اركينا نرجوكِ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يسوعُ ربّنا يا نوراً من نورْ جئناكَ وقلبُنا بالحبِ مغمورْ فاقبلْ منّا حبّ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ملأ قلبَنا بالنور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من قا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914400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نا القيامة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ن آمن ب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حيا وإن م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0" y="0"/>
            <a:ext cx="9144000" cy="10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نحن الذين لنا باكورةُ الروح، نئنُّ منتظرين التبنّي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فتداءَ أجسادِنا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914400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ذا كان أحد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ـي الـمس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هو خلقٌ جديد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0"/>
            <a:ext cx="9144000" cy="86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من قام من بين الأموا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ُ 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ن يصنع العجائب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إن طلبتُ تكريس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جيب الطلبَ؟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وهللويا/ وله تشبوحتو دْشُتْيو مِنِه/ عيدتو ويَلْديه وزُمرين شوبحو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479600" y="162576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هللويا افرح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0" y="189000"/>
            <a:ext cx="9144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افرح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شعوبَ العال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سع الضوءِ افرح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شعوبَ العال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0"/>
            <a:ext cx="9144000" cy="11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فليكن اسم الربِّ مباركاً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نذ الآ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إلـى أبدِ الآبدي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0"/>
            <a:ext cx="914400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ذي صنعه الرّب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عالَوا نُسَرّ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نفرح في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0" y="0"/>
            <a:ext cx="914400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لذي لا يومَ مثله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لا قبل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لا بعدُ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ذا هو اليوم العظي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كليل كلّ ع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جمال كلّ ع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هتاف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ترنيم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لعود والكنارة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لبوقِ والقيثارة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كلّ نسمة فلتسبّح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836640"/>
            <a:ext cx="9144000" cy="10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هتافِ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سبّحوهُ بالترنيمِ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كلّ نسمة فلتسبّح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52280" y="7632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ابِل مورَنْ بَحْنُنُخْ /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ِنْ سُوغودَيْك قُوربُنا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ْحوس بْطَيْبوتُخ ألوهَن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َلْ نَفشوتو دعانيدِه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من مشرق الشمس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إلـى مغربه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0" y="0"/>
            <a:ext cx="9144000" cy="9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كلّ نسمة فلتسبّح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كل التسبيح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9144000" cy="70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تسب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ليقُ بك يا ألل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كر ومد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ليل لك يا رب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عبك يا رب يسبح اسم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ل القوات تسجد ل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ملائكة تعظم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أنت الطريق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تسب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ليق بك يا ألل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كر ومد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قليل لك يا ربا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914400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حّدنا دوماً بروح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نعمل مشيئت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ن الأعماق نصرخ ل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سوع نحبّك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لُّ التسب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ليقُ بك يا ألل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شكر ومديح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قليل لك يا ربا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ربي عظيم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91440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ربي عظيمةٌ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ُّ أعمالِكَ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َنا القدير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هو قوربونو إِتْقاراب/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ْهُو نَفْشوتو مِتْدَخْرُن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نِهْوِ به نْيُوحُو لـمِيتِه دَحْلُفِيهون إتقاراب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9144000" cy="9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عدلٌ وحقٌ كل أحكام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أنت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لك الدهور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0" y="0"/>
            <a:ext cx="9144000" cy="12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ffffff"/>
                </a:solidFill>
                <a:latin typeface="Tahoma"/>
                <a:cs typeface="Akhbar MT"/>
              </a:rPr>
              <a:t>من لا يمجد اسمك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ffffff"/>
                </a:solidFill>
                <a:latin typeface="Tahoma"/>
                <a:cs typeface="Akhbar MT"/>
              </a:rPr>
              <a:t>يارب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0" y="0"/>
            <a:ext cx="9144000" cy="9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من لا يخاف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قدس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9144000" cy="68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كل الشعوب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ك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ستنحني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0"/>
            <a:ext cx="9144000" cy="11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أن مجدك سيُرى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 هللويا هللوي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آمي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826920" y="1052640"/>
            <a:ext cx="7596360" cy="43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هوذ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الخلاص وافى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0" y="0"/>
            <a:ext cx="9144000" cy="11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ذا الخلاصُ واف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فرَحْ ولنبتَهِجْ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َيومُنا هذا عظيمٌ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9144000" cy="9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بِّي أنتَ مُنقذي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مَلجأي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بـِكَ اعتَصَمتُ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ي يَتوقُ للقيامَةِ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اركْن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قبَلْ رَجائي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9144000" cy="11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ذا الخلاصُ واف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فرَحْ ولنبتَهِجْ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َيومُنا هذا عظيمٌ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قوربونو هُون دِاتقاراب/ من حَايو حْلُفْ عانيدِه/ متحاسيه عَوْلوه دْنَفشو/ وْمِشْتَبْقين لُو بوصوره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إلهي، يا قوَّتي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رَفَعتَ نفس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ماء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0"/>
            <a:ext cx="914400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كَ أُشيدُ يا فاديَّ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نتَ الحيُّ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َدَى الدُّهورِ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9144000" cy="11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ذا الخلاصُ واف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فرَحْ ولنبتَهِجْ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فَيومُنا هذا عظيمٌ.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258920" y="256536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صلاتك مع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صلاتُكِ مع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أطهرَ العباد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كوني عَون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حسبَ المُعتاد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هوذا حالُ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لتَلَفِ أشرَف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رحمينا ي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بريئةً من الفساد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ا بتولُ صلِّ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دائماً لأجل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ئلاّ نهلِ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ن قِبَل شرِّن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1258920" y="184464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إيماني ساطع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52280" y="1905120"/>
            <a:ext cx="86108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مهما تأخر جايي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وما بيضيع اللي جايي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عا غفله بيوصَل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من قلب</a:t>
            </a:r>
            <a:r>
              <a:rPr b="1" lang="ar-LB" sz="8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r>
              <a:rPr b="1" lang="ar-SA" sz="8300" spc="-1" strike="noStrike">
                <a:solidFill>
                  <a:srgbClr val="ffffff"/>
                </a:solidFill>
                <a:latin typeface="Tahoma"/>
                <a:cs typeface="Akhbar MT"/>
              </a:rPr>
              <a:t>الضوّ من خَلف الغيم، </a:t>
            </a:r>
            <a:endParaRPr b="0" lang="en-US" sz="8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52280" y="2057400"/>
            <a:ext cx="8610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ahoma"/>
                <a:cs typeface="Akhbar MT"/>
              </a:rPr>
              <a:t>وما حدا بيعرف</a:t>
            </a:r>
            <a:endParaRPr b="0" lang="en-US" sz="9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ahoma"/>
                <a:cs typeface="Akhbar MT"/>
              </a:rPr>
              <a:t>هَللي جايي</a:t>
            </a:r>
            <a:endParaRPr b="0" lang="en-US" sz="9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ff"/>
                </a:solidFill>
                <a:latin typeface="Tahoma"/>
                <a:cs typeface="Akhbar MT"/>
              </a:rPr>
              <a:t>كيف بيبقى جايي. </a:t>
            </a:r>
            <a:endParaRPr b="0" lang="en-US" sz="9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َاو دَقْرو لِه لْلْعُزُر/ وْلَعْليَموْ بْرُ دَرْمَلْتو هو نِروس طالو دْرَحْمه عَلْ غَرْمَيْهون دْعَانيده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28600" y="0"/>
            <a:ext cx="8915400" cy="13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ما بيتكسَّر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ولا بيتعب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0" y="533520"/>
            <a:ext cx="9144000" cy="79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وإنتَ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	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cs typeface="Akhbar MT"/>
              </a:rPr>
              <a:t>اللي ما بتنساني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.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28600" y="152280"/>
            <a:ext cx="8915400" cy="11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أنا إيماني الفرح الوسيع ومن خلف العواصف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جايي الربيع</a:t>
            </a:r>
            <a:r>
              <a:rPr b="1" lang="ar-LB" sz="10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228600" y="162000"/>
            <a:ext cx="8915400" cy="131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إذا كبـرت أحزاني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ونسيني العمر التاني،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إنتَ اللي ما بتنساني.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228600" y="0"/>
            <a:ext cx="8686800" cy="10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ساطع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بحر 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إيماني الشمس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ea typeface="Akhbar MT"/>
              </a:rPr>
              <a:t>   الـمدى والليل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28600" y="0"/>
            <a:ext cx="8915400" cy="13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ما بيتكسَّر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ولا بيتعب إيمان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0" y="533520"/>
            <a:ext cx="9144000" cy="79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وإنتَ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	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   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400" spc="-1" strike="noStrike">
                <a:solidFill>
                  <a:srgbClr val="ffffff"/>
                </a:solidFill>
                <a:latin typeface="Tahoma"/>
                <a:cs typeface="Akhbar MT"/>
              </a:rPr>
              <a:t>اللي ما بتنساني</a:t>
            </a:r>
            <a:r>
              <a:rPr b="1" lang="ar-SA" sz="14400" spc="-1" strike="noStrike">
                <a:solidFill>
                  <a:srgbClr val="ffffff"/>
                </a:solidFill>
                <a:latin typeface="Tahoma"/>
                <a:ea typeface="Akhbar MT"/>
              </a:rPr>
              <a:t>.</a:t>
            </a:r>
            <a:endParaRPr b="0" lang="en-US" sz="1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258920" y="1844640"/>
            <a:ext cx="647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بيتي أنا بيتك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755640" y="2049480"/>
            <a:ext cx="74883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بيتي أنا بيتك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وما إلي حدا،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من كتر ما نادَيتك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وسع الـمدى.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وريشلِمْ دَلْعِلْ/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َبْعيدتو ديت عَلْ أرْعو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ْعَلْ مَدِبْحو بْرومَو/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ِهوِى دوخرونُو طُبُو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55640" y="2049480"/>
            <a:ext cx="74883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نطرتك عَ بابي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وعَ كلّ البواب،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كتبتلّك عذابي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100" spc="-1" strike="noStrike">
                <a:solidFill>
                  <a:srgbClr val="ffffff"/>
                </a:solidFill>
                <a:latin typeface="Tahoma"/>
                <a:cs typeface="Akhbar MT"/>
              </a:rPr>
              <a:t>عَ شمس الغياب.</a:t>
            </a:r>
            <a:endParaRPr b="0" lang="en-US" sz="9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9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ني لا تنساني</a:t>
            </a:r>
            <a:endParaRPr b="0" lang="en-US" sz="10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900" spc="-1" strike="noStrike">
                <a:solidFill>
                  <a:srgbClr val="ffffff"/>
                </a:solidFill>
                <a:latin typeface="Tahoma"/>
                <a:cs typeface="Akhbar MT"/>
              </a:rPr>
              <a:t>ما إلى غيرك</a:t>
            </a:r>
            <a:endParaRPr b="0" lang="en-US" sz="10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900" spc="-1" strike="noStrike">
                <a:solidFill>
                  <a:srgbClr val="ffffff"/>
                </a:solidFill>
                <a:latin typeface="Tahoma"/>
                <a:cs typeface="Akhbar MT"/>
              </a:rPr>
              <a:t>لا تنساني. </a:t>
            </a:r>
            <a:endParaRPr b="0" lang="en-US" sz="10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لدي صارت منفى، طرقاتي غطّاها الشوك والأعشاب  البريّه، ابعتلي بهالليل من عندك حدا يطلّ عليّ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ني لا تنساني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يا شمس الـمساكين،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ن أرض الخوف منندهلك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ن إيام المظلومين،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ن لفتات الموعودين،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عم اندهلك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خلّي يدوّي صوتك عليّي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أنا عالوعد وقلبي طاير، صوبك غنيّه.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539640" y="2060640"/>
            <a:ext cx="8209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زهرة من زهور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اركني ساعد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الدمع بتزرع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الفرح بتحصد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539640" y="2049480"/>
            <a:ext cx="79930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دلك فاض علي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رمك ضوّا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ذا كلّن نسيو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حدك ما بتنسان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611280" y="1916280"/>
            <a:ext cx="78483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ناديتك من حز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 إنك مع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ْسعي يا مطارح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يا أرض اركع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258920" y="1844640"/>
            <a:ext cx="64771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فلنحمل ما دام نهار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ِمرِه دالوهو وْرُعْيو/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ْمِيت مِطولْ عُونِه ْعبدْ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ُورْ بطيبوتُخْ نيُحُو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ْعنيدِهْ مْهَيمِنه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فلنحمل ما دامَ نهار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بُشراهُ في كلِ الأرض.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ea typeface="Akhbar MT"/>
              </a:rPr>
              <a:t> شربنا كأس الآلام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أزحنا حجرَ القبر.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صرنا أحراراً كالنسمة أطهاراً كدموع الفجر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فلنحمل ما دامَ نهار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بُشراهُ في كلِ الأرض.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لبسنا درعَ الإيمان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ورفعنا علمَ الحبّ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لنعلنَ من قلبِ الظلمة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نور خلاصِ الانسان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فلنحمل ما دامَ نهار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بُشراهُ في كلِ الأرض.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908000" y="0"/>
            <a:ext cx="5410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Tahoma"/>
                <a:cs typeface="Tahoma"/>
              </a:rPr>
              <a:t>يا أم الل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 الله يا حنونة يا كنز الرحمة المعونة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أنتِ ملجانا عليكِ رجانا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تشفّعي فينا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يا عذراء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وتحنّني على موتانا.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وإن كانَ جسمُك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بعيداً منّا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أيتها البتولُ أمُّنا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صلواتُكِ هي تَصحبُنا وتكونُ معَنا وتَحفظُنا.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ْفَغْروخ صَهْيُوي نَفْشْ دِقْروب صيدَاوْ دُحِلنُو حَوْباي مْزِيعينْ لِي بَحْنُونُخْ مُورْ نِتْحاسُونْ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بجاهِ من شرّفكِ على العالـمين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حين ظهر منكِ ظهوراً مبين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أطلبي منه للخاطئين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الـمراحم</a:t>
            </a:r>
            <a:r>
              <a:rPr b="1" lang="ar-LB" sz="113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300" spc="-1" strike="noStrike">
                <a:solidFill>
                  <a:srgbClr val="ffffff"/>
                </a:solidFill>
                <a:latin typeface="Tahoma"/>
                <a:cs typeface="Akhbar MT"/>
              </a:rPr>
              <a:t>لدهر الداهرين.</a:t>
            </a:r>
            <a:endParaRPr b="0" lang="en-US" sz="1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نتِ أمُّنا ورجانا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نتِ فخرُنا ومَلجانا 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79280" y="0"/>
            <a:ext cx="896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عندَ ابنكِ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إشفعي في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ليغفر برأفتِهِ خطايانا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لا تهملينا يا حنونة يا مملوءة كلّ نعمة 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Tahoma"/>
                <a:cs typeface="Akhbar MT"/>
              </a:rPr>
              <a:t>بل خلِّصي عبيدَكِ أجمعينْ لنشكُرَكِ لدهرِ الداهرين.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حبك يا مري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1476360" y="0"/>
            <a:ext cx="6227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حبّك يا مريم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غاية الـمنى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 المعظّم كوني أمنّا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1547640" y="0"/>
            <a:ext cx="572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سلام سلا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لكِ يا مري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619280" y="0"/>
            <a:ext cx="601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ابنك اوصاك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نا في الصليب أعطانا إياك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شخص الحبيب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ادُوتُو لْعِلُوِيه وسَبْرو طُبُو لْتَحْتُويه بقوربونو دْعُبْدينْ حايِه حْلُوفْ عَانِيدَيْهُونْ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403280" y="0"/>
            <a:ext cx="572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سلام سلا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لكِ يا مري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258920" y="0"/>
            <a:ext cx="6012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الأمّ الحنون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كِ نستعين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ظهري الـمعون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نكِ للبنين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1547640" y="0"/>
            <a:ext cx="5724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سلام سلا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لكِ يا مريم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547640" y="0"/>
            <a:ext cx="5639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ffff"/>
                </a:solidFill>
                <a:latin typeface="Tahoma"/>
                <a:cs typeface="Tahoma"/>
              </a:rPr>
              <a:t>مجد مريم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292428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جدُ مريم يتعظّ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الـمشارق والغروب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رّموها عظّمو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لّكوها في القلوب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1844640"/>
            <a:ext cx="906768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د رآها واصطفا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ربُّ كلِّ العالـمين،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وقاها مُذ برا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لَّ محذورٍ يشين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-250920" y="2036880"/>
            <a:ext cx="939492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هي رجاكُم في شقاك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فاسمعوا يا خاطئين،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ا تخافوا أن توافو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ِحماها طالب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292428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جدُ مريم يتعظّم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ي الـمشارق والغروب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رّموها عظّمو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ملّكوها في القلوب.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547640" y="0"/>
            <a:ext cx="56390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700" spc="-1" strike="noStrike">
                <a:solidFill>
                  <a:srgbClr val="ffffff"/>
                </a:solidFill>
                <a:latin typeface="Tahoma"/>
                <a:ea typeface="Tahoma"/>
              </a:rPr>
              <a:t>Viens Esprit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838080" y="1371600"/>
            <a:ext cx="7162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طوبى للساعي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0" y="20368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تعالَ يا روح الآب، كُن نور دربي أنِرْ السماوات من بهاء مجدك العظيم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0" y="20368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تعالَ أيها النور السماوي، يا نبع الحياة قوّي قلوبنا واشفِ أجساد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20368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روح البهجة، يا فرح الكنيسة أعطِ القلوب أن ترنِّم لحن الحنان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0" y="1916280"/>
            <a:ext cx="914400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7800" spc="-1" strike="noStrike">
                <a:solidFill>
                  <a:srgbClr val="ffffff"/>
                </a:solidFill>
                <a:latin typeface="Tahoma"/>
                <a:ea typeface="Tahoma"/>
              </a:rPr>
              <a:t>Viens Esprit de Sainteté, Viens Esprit de Lumière Viens Esprit de Feu, Viens nous embraser</a:t>
            </a:r>
            <a:r>
              <a:rPr b="1" i="1" lang="en-US" sz="78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7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راحل يا ربيع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ربيعي راحل على طول قلّي يا ربيعي على أيّا حق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أملنا عَ بوابْ العيد صوتك حاملنا لعهد جدي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َحْ اقطف زهرة من كلّ سياج واعملّك بكرا من الزنبق تاج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يا دِنيي حاج تودّي امواج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ا كلامو بيفنى ولا بيز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ربيعي راحل على طول قلّي يا ربيعي على أيّا حق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أملنا عَ بوابْ العيد صوتك حاملنا لعهد جدي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اعي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لام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فإنّهم أبناء اللهِ يُدعو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مين بدّو يجمعنا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يقود الرسالة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لا المعلّم معنا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لا حكمو الغوالي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يا ريتك عم تسمع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من الأول ترجع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عالبحيرة توعظنا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ffffff"/>
                </a:solidFill>
                <a:latin typeface="Tahoma"/>
                <a:cs typeface="Akhbar MT"/>
              </a:rPr>
              <a:t>وتحت الشجر نتجمع</a:t>
            </a:r>
            <a:endParaRPr b="0" lang="en-US" sz="10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0" y="19638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ربيعي راحل على طول قلّي يا ربيعي على أيّا حقو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احل يا أملنا عَ بوابْ العيد صوتك حاملنا لعهد جدي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أرسل روح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روحَ يصلّي فيكم بأنات لا توصف</a:t>
            </a:r>
            <a:endParaRPr b="0" lang="en-US" sz="13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1989000"/>
            <a:ext cx="914400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600" spc="-1" strike="noStrike">
                <a:solidFill>
                  <a:srgbClr val="ffffff"/>
                </a:solidFill>
                <a:latin typeface="Tahoma"/>
                <a:cs typeface="Akhbar MT"/>
              </a:rPr>
              <a:t>روحُ الربِّ يرفرف على الـمياه</a:t>
            </a:r>
            <a:endParaRPr b="0" lang="en-US" sz="1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191628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ahoma"/>
                <a:cs typeface="Akhbar MT"/>
              </a:rPr>
              <a:t>إن الروحَ يشهد مع أرواحنا بأننا أبناء الله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سلامُ اللهِ يحفَظ قلوبَ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أفكارَكم بالـمسيح يسوع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سلامُ لكم جميعاً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نتمُ الذينَ في الـمسيح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0" y="198900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400" spc="-1" strike="noStrike">
                <a:solidFill>
                  <a:srgbClr val="ffffff"/>
                </a:solidFill>
                <a:latin typeface="Tahoma"/>
                <a:cs typeface="Akhbar MT"/>
              </a:rPr>
              <a:t>أرسل روحَك أيها الـمسيح فيتجدّدَ وجهُ الأرض</a:t>
            </a:r>
            <a:endParaRPr b="0" lang="en-US" sz="1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2049480"/>
            <a:ext cx="91440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300" spc="-1" strike="noStrike">
                <a:solidFill>
                  <a:srgbClr val="ffffff"/>
                </a:solidFill>
                <a:latin typeface="Tahoma"/>
                <a:cs typeface="Tahoma"/>
              </a:rPr>
              <a:t>الروح يجمعنا</a:t>
            </a:r>
            <a:endParaRPr b="0" lang="en-US" sz="10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0" y="-1445400"/>
            <a:ext cx="9001080" cy="9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ماءُ ما صار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طحينُ خبز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أصبحنا سكنى الله</a:t>
            </a:r>
            <a:r>
              <a:rPr b="1" lang="ar-LB" sz="96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-1281960"/>
            <a:ext cx="9001080" cy="9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زيتُ ما أعطى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سراجُ نور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فرش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نورَ ال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0" y="-1818720"/>
            <a:ext cx="9144000" cy="10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حبُ ما كان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قلبُ حي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عرف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حُبَّ ال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0" y="-1711080"/>
            <a:ext cx="9144000" cy="10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نورُ ما أعطى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الوردُ عطر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ولا الروحُ ما نثر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عطرَ ال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اعي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لام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فإنّهم أبناء اللهِ يُدعو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0" y="3600360"/>
            <a:ext cx="9037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معن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هللويا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0" spc="-1" strike="noStrike">
                <a:solidFill>
                  <a:srgbClr val="ffffff"/>
                </a:solidFill>
                <a:latin typeface="Tahoma"/>
                <a:cs typeface="Akhbar MT"/>
              </a:rPr>
              <a:t>الروحُ يجعلنا أبناءَ الله</a:t>
            </a: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835280" y="0"/>
            <a:ext cx="5148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يا قلبا فاد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ُرضي جلالَك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َ يسوع المج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0" y="357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عودُ إن رأى جمالَك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ِن هذه الدنيا سَعي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كنزي خيري حظِّي حياتي مجدي أيا بحرَ الصلاح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371628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تاقَت نفسي إليكَ تأت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َبها من حِلمِك السماحْ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0" y="189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قبَلني في قلبك الزاه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مُنقِذي كي أستريح 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ملك أنتَ في قلبي الواهي واجعلُهُ بالحبِ جريحْ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0" y="33336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يا قلباً فادي كلَّ العبادِ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أضرِم في قلبنا هو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3645000"/>
            <a:ext cx="9144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عبادة لكَ السعادة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ـمن يبغي رضاك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وقام إيليا كالنار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200" spc="-1" strike="noStrike">
                <a:solidFill>
                  <a:srgbClr val="ffffff"/>
                </a:solidFill>
                <a:latin typeface="Tahoma"/>
                <a:cs typeface="Akhbar MT"/>
              </a:rPr>
              <a:t>ليصفح بعضُكم عن بعضٍ</a:t>
            </a:r>
            <a:endParaRPr b="0" lang="en-US" sz="10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200" spc="-1" strike="noStrike">
                <a:solidFill>
                  <a:srgbClr val="ffffff"/>
                </a:solidFill>
                <a:latin typeface="Tahoma"/>
                <a:cs typeface="Akhbar MT"/>
              </a:rPr>
              <a:t>كما صفحَ اللهُ عنكم</a:t>
            </a:r>
            <a:endParaRPr b="0" lang="en-US" sz="10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200" spc="-1" strike="noStrike">
                <a:solidFill>
                  <a:srgbClr val="ffffff"/>
                </a:solidFill>
                <a:latin typeface="Tahoma"/>
                <a:cs typeface="Akhbar MT"/>
              </a:rPr>
              <a:t>في الـمسيح.</a:t>
            </a:r>
            <a:endParaRPr b="0" lang="en-US" sz="10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/>
          <p:nvPr/>
        </p:nvSpPr>
        <p:spPr>
          <a:xfrm>
            <a:off x="1547640" y="0"/>
            <a:ext cx="62661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امَ ايليّا كالنا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توقَّدَ كلامُهُ كالمشعل ما أعظم مجد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ايليا في عجائب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24000" y="149400"/>
            <a:ext cx="88200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يها الذي استدعاك الربّ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لى جبلِ الكرمل للصلاةْ 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3141720"/>
            <a:ext cx="914400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نت الذي أقمت ميتاً من الموت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من الجحيم بكلامِ العليّ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547640" y="76320"/>
            <a:ext cx="626616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امَ ايليّا كالنا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توقَّدَ كلامُهُ كالمشعل ما أعظم مجد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ايليا في عجائب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0" y="1873080"/>
            <a:ext cx="914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روحُ الربِّ عليَّ لأنهُ مسَحَني لأُبَشِّرَ المساكين أرسلني لأشفي منكسري القلوب لأُنادي للأسرى بالحرية للعميان بعودةِ البصرِ إليهم لأُحَرِّر المظلومي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/>
          <p:nvPr/>
        </p:nvSpPr>
        <p:spPr>
          <a:xfrm>
            <a:off x="1835280" y="0"/>
            <a:ext cx="62658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قامَ ايليّا كالنا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توقَّدَ كلامُهُ كالمشعل ما أعظم مجد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ايليا في عجائبك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835280" y="0"/>
            <a:ext cx="5148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هلم إيلي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1835280" y="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0" y="2592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سكبت علينا ايليا الندى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هاتِ الرغيفَ وزيتَ الهدى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فنحيا لحبِّ السما والفد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619280" y="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7632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صرفتِ صيدا قتلت الأثي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رى ما عملت لتحيي الرمي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ترفعَ عرشَ الإلهِ العظيم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ساعي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سلام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فإنّهم أبناء اللهِ يُدعون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692360" y="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10332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ينادون بعلاً، تناجي الإله، تقول: أنا أرتوي برؤاه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أباركُ ما قدسته يداه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835280" y="76320"/>
            <a:ext cx="586728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إيليا،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كفرنا انقسمن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طشنا فأين الـمطر؟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هلمّ لتدرأ عنّا الخطر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أعطيني الكل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كلام تَغنِّيلَك حُب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ُبّ بيبتدي با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حياة والإيمان بقلبي مَرّه هالعمر بينعَطَى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صلا تَ لاقيك قبالي وإركع على دراج السم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وفا تَ وافيك بحالي واعطيني العطا ل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كلام تَغنِّيلَك حُب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ُبّ بيبتدي با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حياة والإيمان بقلبي مَرّه هالعمر بينعَطَى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هادي العطا للقلوب العالي أعطيني الطفوله، الحنان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ea typeface="Akhbar MT"/>
              </a:rPr>
              <a:t> واعطيني السلام لِوطني الغالي واعطي للّي راحوا الأمان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طيني الكلام تَغنِّيلَك حُبّ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حُبّ بيبتدي بالعطا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اعطيني الحياة والإيمان بقلبي مَرّه هالعمر بينعَطَى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ألحمد والشكر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العالم جائع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ذي يَحفظ وصاياك ويعتصمُ في ظلِّ جَناحي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يثمر بالبرّ والقداس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يفرحُ في ملكوتك لا لا لا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0" y="0"/>
            <a:ext cx="9144000" cy="163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ذين يتقونك لا يبرحون يسبّحونك لا يجوعون لا يعطشون من نبع الحياة يرتوون لا لا لا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ذين أتوا من الضيقِ يلوّحون بأغصان النخيل بدمِ الحمل غسلوا حلله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روح يحلّ فوقهم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 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ه الحكمة والقوّ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عزّة والاجلال إلى أبد الآبدين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جائع وخُبزُ السماء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خُبزُ الحياة خُبزُ سلامِ الأرضِ فخذوا عن مائدتي الخبز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يأكلَ العالمْ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حمدُ والشكران والمجدُ والسلطان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والقدرة لالهنا لا لا ل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ستحقٌ أن ينال كلّ حبٍ وإكرام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الجالس على عرش السماوات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شو حلوه السما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0" y="0"/>
            <a:ext cx="9144000" cy="12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تشبّه يا ابني بالمس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عن إيمانك أوعى تز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امشي عا الدرب الصحيح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توصل ع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0" y="0"/>
            <a:ext cx="9144000" cy="12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ارك يا ابني بجماع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زراع الكلمه بشجاع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خدوم الإخوه بوداع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توصل ع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0" y="0"/>
            <a:ext cx="9144000" cy="10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ارك يا ابني بالأسرار وبإيمانك لا تحتار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قرا إنجيلك باستمرار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بتوصل ع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0" y="0"/>
            <a:ext cx="9144000" cy="88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شو حلوه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وشو بحبّ السم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ahoma"/>
                <a:cs typeface="Akhbar MT"/>
              </a:rPr>
              <a:t>كيف بدّي أوصلاّ وإتلاقى بألله وعيش بحماه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يا رب استعملني لسلامك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-3240"/>
            <a:ext cx="9144000" cy="90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 صوتُ الرجاءْ.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رب، إستعملني لسلامِكَ فأضع الحبَّ حيثُ البُغض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ـمغفرةَ حيثُ الإساءَة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اتفاقَ حيثُ الخلاف، 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0" y="312912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الحقيقةَ حيثُ الضلال،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الإيمانَ حيثُ الشكّ،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َ حيثُ اليأس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0" y="1827360"/>
            <a:ext cx="914400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نورَ حيثُ الظلمة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فرحَ حيثُ الكآبة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ربّ استعملني لسلامك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1835280" y="0"/>
            <a:ext cx="5148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cs typeface="Tahoma"/>
              </a:rPr>
              <a:t>الرب هو الله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نعبدِ الربّ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بالفرحِ والحمدِ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لنهتفنَّ 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لنرفعِ الأيد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غنّوا ورنّمو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بأعذبِ الألحان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بالأيدي صفّقو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لسيّدِ الأكوان 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باسمِ إلهـِن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سنرفعُ الرايات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وبخلاصِه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ستعلو الترنيمات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144000" cy="152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عُريان والأرضُ غنيّ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كنَّ الإنسانْ سرقوا منهُ الثوبَ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سرقوا الحبَ.. فخذوا ثوبي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ثوبَ الحقِ ليَلبَسَ العالَمْ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0" y="0"/>
            <a:ext cx="91440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الربُّ هو الله هو صنعَنا ونحنُ شعبُ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غنمُ مرعاه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Tahoma"/>
                <a:ea typeface="Tahoma"/>
              </a:rPr>
              <a:t> يا خبز الحياة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0" y="2131920"/>
            <a:ext cx="914400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أيُّها التائبونَ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لمّوا باحترا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قتبلوا الإل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هي رجائ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نعيمي نعمت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لذّتي الـمبتغ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سماءِ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كُنْ لي قوتاً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إلـى دهرِ الدهور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826920" y="1989000"/>
            <a:ext cx="792648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ى،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هو الذي يُعط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رحمةً و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خبزَ الحياة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horz"/>
  </p:transition>
</p:sld>
</file>

<file path=ppt/slides/slide3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755640" y="1916280"/>
            <a:ext cx="75963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Tahoma"/>
              </a:rPr>
              <a:t>لإلهنا النصر والمج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9144000" cy="90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العالمُ ضائعْ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أنا الطريقُ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ahoma"/>
                <a:cs typeface="Akhbar MT"/>
              </a:rPr>
              <a:t>وصَوتِيَ صوتُ الرجاءْ.</a:t>
            </a:r>
            <a:endParaRPr b="0" lang="en-US" sz="9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76320" y="10008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إلهـِنا النصرُ والمجدُ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الحياة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أن أحكامَه عدلٌ وحق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سبحوا إلهَنا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يا جميعَ العباد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والذين يتّقونَه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ahoma"/>
                <a:cs typeface="Akhbar MT"/>
              </a:rPr>
              <a:t>من صغار وكبار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76320" y="10008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إلهـِنا النصرُ والمجدُ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الحياة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أن أحكامَه عدلٌ وحق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ahoma"/>
                <a:cs typeface="Akhbar MT"/>
              </a:rPr>
              <a:t>طوبى للمدعوّين إلى وليمة العرس لنفرح ونبتهج هللويا وهللويا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76320" y="100080"/>
            <a:ext cx="8991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إلهـِنا النصرُ والمجدُ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والحياة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ahoma"/>
                <a:cs typeface="Akhbar MT"/>
              </a:rPr>
              <a:t>لأن أحكامَه عدلٌ وحق</a:t>
            </a:r>
            <a:endParaRPr b="0" lang="en-US" sz="1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slides/slide3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دّوسٌ، قدّوسٌ، قدّوسٌ أنتَ الربُّ القويُّ الإلهُ الصباؤوت، السماءُ والأرضُ مملوءتان من مجدك  العظي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152280" y="-7632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على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باركٌ الآتي باسمِ  الربّ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على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دّوسٌ، قدّوسٌ، قدّوسٌ أنتَ قدّوسٌ أيها الربُّ القويُّ إلهُ الصباؤوت، السماءُ والأرضُ مملوءتان من مجدك  العظيم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52280" y="-7632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أعالي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باركٌ الذي أت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سوف يأتي باسمِ  الربّ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وشعنا في الأعالي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هِ فـي العل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على الأرض السلا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ُ الصالحُ لبني البشر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 أ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قدّس ذا الجسد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ع ضعفِهِ وإثمِه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به يحلّ للمدى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عرفت بأن قد تعثر دربي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4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فتَح اللهمَّ شفتَيّ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يخبر فمي بمجدك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فتح اللهمَّ شفتَيّ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يرتّلَ فمي تسبيحَك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0" y="0"/>
            <a:ext cx="9144000" cy="116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آبِ والابن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وحِ القدس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على الأرض السلا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ُ الصالحُ لبني البشر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1835280" y="1667880"/>
            <a:ext cx="579600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Tahoma"/>
              </a:rPr>
              <a:t>إذهبوا في الأرض كلها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4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0" y="-3200760"/>
            <a:ext cx="9144000" cy="13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هبوا في الأرض كلِّها وأَعلنوا  البشارةَ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خلقِ أجمَعين</a:t>
            </a:r>
            <a:r>
              <a:rPr b="1" lang="ar-LB" sz="114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-4848480"/>
            <a:ext cx="9144000" cy="165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ُضئ نورُكم للناس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مجّدوا أباكُمُ الذي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السماوات</a:t>
            </a:r>
            <a:r>
              <a:rPr b="1" lang="ar-LB" sz="119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-3200760"/>
            <a:ext cx="9144000" cy="13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هبوا في الأرض كلِّها وأَعلنوا  البشارةَ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خلقِ أجمَعين</a:t>
            </a:r>
            <a:r>
              <a:rPr b="1" lang="ar-LB" sz="114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0" y="-3634920"/>
            <a:ext cx="9144000" cy="14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ا يكونَّنَ عليكم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حدٍ دينٌ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9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اّ حُبُّ بعضِكُم لبعض</a:t>
            </a:r>
            <a:r>
              <a:rPr b="1" lang="ar-LB" sz="11900" spc="-1" strike="noStrike">
                <a:solidFill>
                  <a:srgbClr val="ffffff"/>
                </a:solidFill>
                <a:latin typeface="Times New Roman"/>
                <a:ea typeface="Akhbar MT"/>
              </a:rPr>
              <a:t> </a:t>
            </a:r>
            <a:endParaRPr b="0" lang="en-US" sz="1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-3200760"/>
            <a:ext cx="9144000" cy="13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ذهبوا في الأرض كلِّها وأَعلنوا  البشارةَ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4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الخلقِ أجمَعين</a:t>
            </a:r>
            <a:r>
              <a:rPr b="1" lang="ar-LB" sz="114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1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295200"/>
            <a:ext cx="9144000" cy="10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نهبتُ الطريقَ أسائلُ عنك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بحيرةِ ضعفي وأوهاميَ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سمعتُ الخليقةَ تُنشِدُ لحناً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8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لقلبي فتنعش إيمان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َلَت لي الإقامةُ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اخلَ بيت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</a:t>
            </a:r>
            <a:r>
              <a:rPr b="1" lang="ar-LB" sz="90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8568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شجاني أنينُ اليتيم يضيعُ بصخبِ الحياة ولا من يجيب رأيت عيونَ الشريدِ تتيهُ وشمسُ المحبةِ عنهُ تغيب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85680"/>
            <a:ext cx="9144000" cy="67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فأشرِقْ عليَّ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بأنوارِ وجهِك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8568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ذا غبت عنِّي شردتُ بذاتي غرقتُ بحزني دهاني الضجر وإن كنت فيَّ حييتُ فرحتُ نثرتُ الطيوبَ فرشتُ الزهر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85680"/>
            <a:ext cx="9144000" cy="67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تطيب الحياة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تطيب بقربك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0" y="85680"/>
            <a:ext cx="9144000" cy="114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رفتَ بأن قد تعثر در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فجئتَ إليَّ تقودُ خُط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وتعرفُ أنّي بحبِّكَ ربّ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ea typeface="Akhbar MT"/>
              </a:rPr>
              <a:t> أهيمُ كصَبٍ وفيكَ هواي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85680"/>
            <a:ext cx="91440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ليسَ لدربي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سواكَ رفيقٌ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يا ألله، يا ألله. </a:t>
            </a:r>
            <a:endParaRPr b="0" lang="en-US" sz="9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ar-SA" sz="8000" spc="-1" strike="noStrike">
                <a:solidFill>
                  <a:srgbClr val="ffffff"/>
                </a:solidFill>
                <a:latin typeface="Tahoma"/>
              </a:rPr>
              <a:t>توبوا إلى الرب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856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9144000" cy="134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هَبْ من حنانِكَ قطرةً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يتحوَّلُ القفر وعود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أو أعطي عيني دمعةً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400" spc="-1" strike="noStrike">
                <a:solidFill>
                  <a:srgbClr val="ffffff"/>
                </a:solidFill>
                <a:latin typeface="Tahoma"/>
                <a:cs typeface="Akhbar MT"/>
              </a:rPr>
              <a:t>في حوضها طفلاً أعود.</a:t>
            </a:r>
            <a:endParaRPr b="0" lang="en-US" sz="8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856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عمقِ آثامي دع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نصِت إلـى صوتِ دُع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غيرَ وجهِك ما رجوت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لقاهُ مأدبةُ رجا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ُ أ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شغل مواه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قدّساً عواطف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لمجدِ من أحبّن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1522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إذا استبدَّ بيَ الخج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 أبكمَ العارُ فم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نبضاتُ حبِّكَ فلْتزَل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تى النهايةِ في دم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85680"/>
            <a:ext cx="9144000" cy="9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وبوا إلـى الر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نَّ الـملكوتَ قر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ودوا إلـى الحُبِّ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الخارجُ عنهُ غريب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يا أبانا لست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</a:rPr>
              <a:t>أدري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600"/>
            </a:b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-7632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أبانا لستُ أدر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يفَ كان عمري يجر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ونَ أن أدركَ أن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ت أبي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-76320"/>
            <a:ext cx="9144000" cy="10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كنّي الآن ابنك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ت ترعاني بحبِّ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لن أخافَ أبداً لأنّ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مسك يميني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9144000" cy="68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سأسبِّح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أهتفُ ل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لأبد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ا لك للأبد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371600" y="24382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قامت مريم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امت مريم بنتُ داو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ذاء العو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تندب إبنَها الـمصلو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أيدي الجنود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رمحُ الحزنِ غائص في نفسه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من ألَـمِهِ غابت عن حسِّه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ثمّ فاقتِ الوالد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صاحت آه يا ولدا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بيبي حبيب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ولداه خاطب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يف أراك عريان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ا أندبَك يا إب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وجاعك حرقت اكباد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آلامك خرقت فؤاد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كيف تحيا والدت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ولداه بعدَ موت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عزّ أم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ثمرثها الفريد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وحيد أبي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صورته الـمجيد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فتراقك كسكين جرحت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عذابك كحربة طعنت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سمح لي أموت قبل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ا أنظر احوالك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ثمرة احشا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ا هذه الحال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دماؤك تجر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لضربات بك حالّة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يرثي لحالي من جرائ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ن يمزج دمائي بدمائ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نتَ مصلوبٌ في الصل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أمُّك تزيد في النحيب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ا هذه الكلو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 جسمك الطاه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بدلت حُسنك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جمالك الزاه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هاءُ وجهك تغيّر بالإصفرا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دموعك تذرف كالأمطار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حسراتك أذابتن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عذاباتك أوهتني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أمَّ يسوع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بنتَ الآبِ الأكر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ا عروس الروح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القدوسِ الأعظ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شركينا بآلام فاد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زيّنينا بنعمة بارينا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لنخدمَكِ على الدوام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مدى الساعاتِ والأيام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هل يستطيع الربُّ بي أن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باركَ في خدمَت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كرّساً لمجدِه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كلّي له بجُملت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2286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عطش الأرواح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َ يكف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ربك يهد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ينك تحم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ورك يغنينا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رنيم الأنهار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ن لحنك نغمة،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شراق الأنوار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ن وجهك بسمة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عنا نصغي إلي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بر هدوء الهياكل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دعنا نصغي إليك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بر ضحيح الـمعامل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بزك يحي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خمرك يرو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حبُّك يعط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وراً وحياة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380880"/>
            <a:ext cx="914400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عم نعم، نعم يقولُ ربُّ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تقدَّسوا للعمل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غداً سأعملُ بكم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7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في وسطكم عجائبي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صوتك يدعو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نورك يهد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عفوك يكفين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شكراً يا يسوع.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عطش الأرو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َرِنا مُحيَّاكَ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قلبُنا لن يرتاح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إلاّ بلقياك 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219320" y="1600200"/>
            <a:ext cx="64767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إلى الله صوتي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الله صوت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أَصرخ إلى الله صوتي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صيح لي..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يدي في الليل انبسطت ولم تكل.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9144000" cy="11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قد أبت نفسي أن تتعزى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ذكرُ الـماضي فأَقلقُ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تاملُ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يغشى على روحي..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-76320"/>
            <a:ext cx="9144000" cy="13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كّرتُ فـي الأيام القديمة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فـي السنين الدهرية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ذكرُ ترنيمي في الليل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تأملُ بقلبي وروحي يبحث.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0"/>
            <a:ext cx="9144000" cy="13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َمَدى الدهور يقصي السّيد؟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لا يعود يرضى من بعد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على الدوام انقضت رحمته،</a:t>
            </a:r>
            <a:r>
              <a:rPr b="1" lang="ar-LB" sz="8500" spc="-1" strike="noStrike">
                <a:solidFill>
                  <a:srgbClr val="ffffff"/>
                </a:solidFill>
                <a:latin typeface="Tahoma"/>
                <a:ea typeface="Akhbar MT"/>
              </a:rPr>
              <a:t> 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9144000" cy="85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وانقطعت كلمته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إلـى جيل فجيل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ترى نسيَ الله،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ahoma"/>
                <a:cs typeface="Akhbar MT"/>
              </a:rPr>
              <a:t>أم حبس على الغضب أحشاءه.</a:t>
            </a:r>
            <a:endParaRPr b="0" lang="en-US" sz="8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295280" y="1371600"/>
            <a:ext cx="6400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</a:rPr>
              <a:t>يا مريم البكر فقت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676520" y="2962440"/>
            <a:ext cx="5867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يا مريمُ البكرُ فقت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شمسَ والقمرا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كلَّ نجمٍ بأفلاكِ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السماءِ سرى.</a:t>
            </a: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09:03:08Z</dcterms:created>
  <dc:creator>-</dc:creator>
  <dc:description/>
  <dc:language>en-US</dc:language>
  <cp:lastModifiedBy>-</cp:lastModifiedBy>
  <dcterms:modified xsi:type="dcterms:W3CDTF">2003-01-07T14:49:30Z</dcterms:modified>
  <cp:revision>62</cp:revision>
  <dc:subject>Chants religieux</dc:subject>
  <dc:title>PowerPoint Presentation</dc:title>
</cp:coreProperties>
</file>