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  <p:sldId id="319" r:id="rId73"/>
    <p:sldId id="320" r:id="rId74"/>
    <p:sldId id="321" r:id="rId75"/>
    <p:sldId id="322" r:id="rId76"/>
    <p:sldId id="323" r:id="rId77"/>
    <p:sldId id="324" r:id="rId78"/>
    <p:sldId id="325" r:id="rId79"/>
    <p:sldId id="326" r:id="rId80"/>
    <p:sldId id="327" r:id="rId81"/>
    <p:sldId id="328" r:id="rId82"/>
    <p:sldId id="329" r:id="rId83"/>
    <p:sldId id="330" r:id="rId84"/>
    <p:sldId id="331" r:id="rId85"/>
    <p:sldId id="332" r:id="rId86"/>
    <p:sldId id="333" r:id="rId87"/>
    <p:sldId id="334" r:id="rId8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slide" Target="slides/slide64.xml"/><Relationship Id="rId74" Type="http://schemas.openxmlformats.org/officeDocument/2006/relationships/slide" Target="slides/slide65.xml"/><Relationship Id="rId75" Type="http://schemas.openxmlformats.org/officeDocument/2006/relationships/slide" Target="slides/slide66.xml"/><Relationship Id="rId76" Type="http://schemas.openxmlformats.org/officeDocument/2006/relationships/slide" Target="slides/slide67.xml"/><Relationship Id="rId77" Type="http://schemas.openxmlformats.org/officeDocument/2006/relationships/slide" Target="slides/slide68.xml"/><Relationship Id="rId78" Type="http://schemas.openxmlformats.org/officeDocument/2006/relationships/slide" Target="slides/slide69.xml"/><Relationship Id="rId79" Type="http://schemas.openxmlformats.org/officeDocument/2006/relationships/slide" Target="slides/slide70.xml"/><Relationship Id="rId80" Type="http://schemas.openxmlformats.org/officeDocument/2006/relationships/slide" Target="slides/slide71.xml"/><Relationship Id="rId81" Type="http://schemas.openxmlformats.org/officeDocument/2006/relationships/slide" Target="slides/slide72.xml"/><Relationship Id="rId82" Type="http://schemas.openxmlformats.org/officeDocument/2006/relationships/slide" Target="slides/slide73.xml"/><Relationship Id="rId83" Type="http://schemas.openxmlformats.org/officeDocument/2006/relationships/slide" Target="slides/slide74.xml"/><Relationship Id="rId84" Type="http://schemas.openxmlformats.org/officeDocument/2006/relationships/slide" Target="slides/slide75.xml"/><Relationship Id="rId85" Type="http://schemas.openxmlformats.org/officeDocument/2006/relationships/slide" Target="slides/slide76.xml"/><Relationship Id="rId86" Type="http://schemas.openxmlformats.org/officeDocument/2006/relationships/slide" Target="slides/slide77.xml"/><Relationship Id="rId87" Type="http://schemas.openxmlformats.org/officeDocument/2006/relationships/slide" Target="slides/slide78.xml"/><Relationship Id="rId88" Type="http://schemas.openxmlformats.org/officeDocument/2006/relationships/slide" Target="slides/slide79.xml"/><Relationship Id="rId8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29EE-55A6-4E63-87B0-2551F8EC0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4B1A-EFC7-4E40-B533-40B4189B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C440-D0E8-40F5-8635-ACF4CE7A8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9FA5-775D-4ED2-8F3F-4574FDCEA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2F2A-ADD9-4C82-8EEE-8349E3499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A0436-AA47-4786-80B3-F4CA23E6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995D-ECBB-427B-94E4-573C0F73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221F-198C-41C6-8123-576E8421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F46B-8C5F-4734-9225-76274300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367A1-E9B7-4BF7-9A42-394B409F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ED57D-3B7A-408C-BC54-D8F81497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0854-B270-4A91-BD89-BC38C918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A655-4302-4D79-B0A8-C19F7EC2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1577-62AE-4184-991E-F0FAA8ED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5E3E-E996-4FFF-973F-F6CDE74F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D285-0D7E-4B43-8C2E-84B4728D8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4516-1A8A-4547-B30F-0C6AA7CBB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35459-6689-4832-8643-099FF37D0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6A810-E243-4555-8C72-B3D3815B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3A3A7-2DA8-4E7D-A707-A79142C2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75B8C-FC9C-4D9B-81A4-2FA98F6F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B3EC3-A8C8-456D-8CDE-35AB68B7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F05D-94AD-44A1-AA8F-B64D6181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FD3D1-4876-4E79-A7F3-8A60039C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D59E3-80A2-4DF4-98B9-A79A9037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E3BCC-A2C7-4088-B9B0-317E5744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3C756-AFD8-4D54-BA66-A7D2391A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74E20-A1F9-4CBE-B929-81F0FB8B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333A2-0A89-41E4-A4BF-FBBBFC4A6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7065F-B27A-4FD5-A26C-01FB66482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A63CD-43C9-451C-8F2F-F9BC0B758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1B7CB-1D89-4BBC-8C48-92DE581D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1E2F2-757F-4F7F-86D5-81EB649A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C072-AF8B-4B32-B729-C0F8600C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78A47-47AD-4E55-A2DD-34C642C9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6FFF1-56F7-4850-99F6-6DFE45F8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CB280-CE7B-4483-9AAC-AABE1CAD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A7A12-50D9-45DA-A42A-F929660C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F551D-7DF7-42DA-8BD2-E125962B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ABDD3-6642-4575-9A69-73E59708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59FE5-E3A8-4FA7-8184-B4B5E7703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54180-D492-40FC-B551-681EA6C9E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7EFCF-25D0-47DA-B382-6196DCB62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45197-96D0-48EC-8AC4-157393B1E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8C3C-D2C7-498A-B4B2-367D4AF3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C3BB7-DD6F-4A23-AC07-85A4750F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4AA8E-907B-4043-A08D-4A7C4891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EC4A4-6A87-4108-8B96-BA5B28F0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7452D-BA9A-43E1-AD37-B471BDA6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6CA66-CCEF-43F7-A40B-EBA3817E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293FD-49A8-4FA7-ABE2-1B33F6E6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BE6F4-6680-43BD-8AF0-A49B824E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2870E-3A3F-48EF-91D5-4E2E1D43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14CBA-3694-4DB6-B3BF-69B80BF3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646B8-5BFE-4760-925D-8E0C161DE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979F-F38B-499A-B943-AEB60FDF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1C490-BFFA-452A-9B2B-42D9B881C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6A628-D474-4A2E-A726-D2E615224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46220-AF73-4F94-B360-58D994FB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3BA3B-5BBC-4BEA-8963-EC67AA56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38D73-0121-4F76-8BF9-A3DA3E3C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455A7-9D5D-4EF2-823C-233B5CCF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DEF89-0215-4216-81E7-5C29759A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5F872-BA8F-4BE7-855A-14AC145B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AE118-DEE2-4885-A698-0ED8E0AC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89B4D-76B9-4ADC-B7F2-CB19EDC9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5A08-B6E0-459D-8E3E-42DB30DB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1322C-C6B2-429E-8204-2EB5A58B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AEEB1-46E0-464D-AB12-124B1D82F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E2D17-3498-43B6-93E7-97BF5F284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981E2-0ABF-4219-B4E7-9DF02BFF9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9B54B-398F-4598-8FF7-AF45B9DE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6B16A-73B5-4D83-8203-D3CBCBD5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B36FD-17D6-4D47-B14C-336BD8A2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69093-A43B-4401-8D31-487B546E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0819B-06B3-4AA7-B9C1-85FF75F7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8926B-70E6-404F-936C-C086B1C1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8360-521E-4572-8A33-DECB62A8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02C7E-FBF8-406D-BF23-A54DC9B6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F48A8-21EC-4830-9526-F195B9F2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5A3A7-724A-4C16-BE4C-E3C87F04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3CF88-DD86-4F33-A956-E3CDF04BC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C8E96-6331-4609-91E9-556F38D6A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F36A8-DFB4-4DB8-B0F6-859ABE86E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46231-ACB9-4526-845C-3AC3571F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4D948-DC57-49A2-812C-9603DBE0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F9569-874D-4CCE-83B2-FE9E7D92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041B5-A286-4841-B35E-AEC02AE4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A1D0-4A9E-47C9-B482-622489E7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BF8B3-F9E2-476A-99F4-D53B00D3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1A746-703A-4295-978F-1FE4973B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4D577-00FE-4183-BB28-CF3E6CD3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2CE75-0EF6-4D1D-A2D7-AF644305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78422-D5E6-4AFE-8B5A-04B98FBD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FA97E-8D6D-40AA-85AA-57398E4D8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FBECB-D38B-4371-95C1-014A3CA57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48AF-DD29-4751-B797-B80C20BDB68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CE51-4C50-40CF-BB41-8B68FE1BED0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82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84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24F6-AD5D-4F17-93F6-D9176E380E06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8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9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6F5D-E86A-4F96-92AD-D5A12EAAB747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9E8A-133F-4CE6-A941-0C8F2C22D31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AD06-F5EB-4CBA-BA42-B3A2DC0A7E2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2F96-3321-4B7A-A9EC-5794AC4F915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18BB-1F7C-41FE-9835-7FF46DBDB70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0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76320" y="0"/>
            <a:ext cx="8991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ahoma"/>
                <a:cs typeface="Akhbar MT"/>
              </a:rPr>
              <a:t>صَوتُكَ العَذْبُ حَفَّ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ahoma"/>
                <a:cs typeface="Akhbar MT"/>
              </a:rPr>
              <a:t>في قَلْبهِ: ”كُنْ طاهِرْ‍“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ahoma"/>
                <a:cs typeface="Akhbar MT"/>
              </a:rPr>
              <a:t>طَيْفُكَ الحُلْوُ شَفَّ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ahoma"/>
                <a:cs typeface="Akhbar MT"/>
              </a:rPr>
              <a:t>في حُلْمِ الْمُضْنَى السَّاهِرْ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76320" y="44280"/>
            <a:ext cx="8991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ahoma"/>
                <a:cs typeface="Akhbar MT"/>
              </a:rPr>
              <a:t>يا طبيباً دَواهُ:</a:t>
            </a:r>
            <a:endParaRPr b="0" lang="en-US" sz="8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8200" spc="-1" strike="noStrike">
                <a:solidFill>
                  <a:srgbClr val="000000"/>
                </a:solidFill>
                <a:latin typeface="Tahoma"/>
                <a:ea typeface="Akhbar MT"/>
              </a:rPr>
              <a:t>”</a:t>
            </a:r>
            <a:r>
              <a:rPr b="1" lang="ar-SA" sz="8200" spc="-1" strike="noStrike">
                <a:solidFill>
                  <a:srgbClr val="000000"/>
                </a:solidFill>
                <a:latin typeface="Tahoma"/>
                <a:cs typeface="Akhbar MT"/>
              </a:rPr>
              <a:t>قد شئتُ، فكُنْ طاهِرْ!“</a:t>
            </a:r>
            <a:endParaRPr b="0" lang="en-US" sz="8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ahoma"/>
                <a:cs typeface="Akhbar MT"/>
              </a:rPr>
              <a:t>لا نُريدُ سِواهُ</a:t>
            </a:r>
            <a:endParaRPr b="0" lang="en-US" sz="8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ahoma"/>
                <a:cs typeface="Akhbar MT"/>
              </a:rPr>
              <a:t>في حُلْمِ الْمُضْنى السَّاهِر</a:t>
            </a:r>
            <a:endParaRPr b="0" lang="en-US" sz="8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76320" y="0"/>
            <a:ext cx="8991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ahoma"/>
                <a:cs typeface="Akhbar MT"/>
              </a:rPr>
              <a:t>رَبِّ يَا مَنْ تَقَبَّلْ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ahoma"/>
                <a:cs typeface="Akhbar MT"/>
              </a:rPr>
              <a:t>قِدْماً خِدْمَةَ  الأَبْرَارْ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ahoma"/>
                <a:cs typeface="Akhbar MT"/>
              </a:rPr>
              <a:t>يَا حَنُونُ تَقَبَّلْ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ahoma"/>
                <a:cs typeface="Akhbar MT"/>
              </a:rPr>
              <a:t>وَاسْتَجِبْنَا كَالأَبْرَارْ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-181080" y="907920"/>
            <a:ext cx="9361440" cy="506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هللويا وهللويا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       جئت إلى هذا العالم للدينونة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     ليبصر الذين لا يبصرون . هللويا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304920" y="179280"/>
            <a:ext cx="8610480" cy="60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04920" y="457200"/>
            <a:ext cx="838188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247680"/>
            <a:ext cx="9144000" cy="81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khbar MT"/>
                <a:cs typeface="Akhbar MT"/>
              </a:rPr>
              <a:t>هللويا وهللويا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khbar MT"/>
                <a:ea typeface="Akhbar MT"/>
              </a:rPr>
              <a:t> يَا رَبِّ إِنْ شِئتَ،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khbar MT"/>
                <a:cs typeface="Akhbar MT"/>
              </a:rPr>
              <a:t>فَأَنْتَ قَادِرٌ أَنْ تُطَهِّرَنِي.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khbar MT"/>
                <a:ea typeface="Akhbar MT"/>
              </a:rPr>
              <a:t> هللويا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5084640"/>
            <a:ext cx="9516960" cy="172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-10008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ِلْمَسِيحِ يَسُوع</a:t>
            </a:r>
            <a:r>
              <a:rPr b="1" lang="ar-SA" sz="8000" spc="-1" strike="noStrike">
                <a:solidFill>
                  <a:srgbClr val="ffffff"/>
                </a:solidFill>
                <a:latin typeface="Tahoma"/>
                <a:ea typeface="Akhbar MT"/>
              </a:rPr>
              <a:t>	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أَلتَّسْبيحُ وَالْبَرَكَات.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مِنْ أَجْلِ كَلامِهِ الْحَيِّ لَنَا.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0" y="4428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900" spc="-1" strike="noStrike">
                <a:solidFill>
                  <a:srgbClr val="ffff00"/>
                </a:solidFill>
                <a:latin typeface="Tahoma"/>
                <a:cs typeface="Akhbar MT"/>
              </a:rPr>
              <a:t>خَاطَبَ الرَّبُ شَعْبَهُ</a:t>
            </a:r>
            <a:br>
              <a:rPr sz="9900"/>
            </a:br>
            <a:r>
              <a:rPr b="1" lang="ar-SA" sz="9900" spc="-1" strike="noStrike">
                <a:solidFill>
                  <a:srgbClr val="ffff00"/>
                </a:solidFill>
                <a:latin typeface="Tahoma"/>
                <a:cs typeface="Akhbar MT"/>
              </a:rPr>
              <a:t>هَلِّلُويا</a:t>
            </a:r>
            <a:br>
              <a:rPr sz="9900"/>
            </a:br>
            <a:r>
              <a:rPr b="1" lang="ar-SA" sz="9900" spc="-1" strike="noStrike">
                <a:solidFill>
                  <a:srgbClr val="ffff00"/>
                </a:solidFill>
                <a:latin typeface="Tahoma"/>
                <a:cs typeface="Akhbar MT"/>
              </a:rPr>
              <a:t>وَكَلامُ الرَّبِ حِكْمَةٌ</a:t>
            </a:r>
            <a:br>
              <a:rPr sz="9900"/>
            </a:br>
            <a:r>
              <a:rPr b="1" lang="ar-SA" sz="9900" spc="-1" strike="noStrike">
                <a:solidFill>
                  <a:srgbClr val="ffff00"/>
                </a:solidFill>
                <a:latin typeface="Tahoma"/>
                <a:cs typeface="Akhbar MT"/>
              </a:rPr>
              <a:t>هَلِّلُويا</a:t>
            </a: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ahoma"/>
                <a:cs typeface="Akhbar MT"/>
              </a:rPr>
              <a:t>هللويا، قال الربُّ إنّني الخبزُ المحيي، الآتي من حِضنِ الآبِ قوتاً للعالَم، قبلَني، حِضنُ العذراءِ الأمِّ النقيّ العذراءِ مري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380880" y="0"/>
            <a:ext cx="8763120" cy="51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لمجدُ للهِ فـي الأعالي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وعلى الأرضِ السلا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والرجاءُ الصالحُ لبني البشر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ahoma"/>
                <a:cs typeface="Akhbar MT"/>
              </a:rPr>
              <a:t>مثلَ حبّةِ القمحِ في الأرضِ الخَصبة، صِرتُ فوقَ الـمذبحِ قوتاً للبيعة، هللويا</a:t>
            </a:r>
            <a:br>
              <a:rPr sz="7200"/>
            </a:br>
            <a:r>
              <a:rPr b="1" lang="ar-SA" sz="7200" spc="-1" strike="noStrike">
                <a:solidFill>
                  <a:srgbClr val="ffff00"/>
                </a:solidFill>
                <a:latin typeface="Tahoma"/>
                <a:cs typeface="Akhbar MT"/>
              </a:rPr>
              <a:t>وَخُبزَ حياة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76320" y="-27000"/>
            <a:ext cx="8991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للويا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ِوالدةِ اللهِ الأمِّ العذراء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أنبياءِ والرُّسْلِ والشُّهداء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لخُدّام الكَهَنة جَوْقِ الأَبرار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ُـلِّ أولادِ البيعَة نُحيـي التَّذكار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0" y="115920"/>
            <a:ext cx="8964720" cy="1054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khbar MT"/>
                <a:cs typeface="Akhbar MT"/>
              </a:rPr>
              <a:t>ك: إِيتِ لْوُتْ مَدْبحِهْ دَلُهُ وَلْوُتْ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khbar MT"/>
                <a:ea typeface="Akhbar MT"/>
              </a:rPr>
              <a:t>     ألُهُ دَمْحَدِ طَلْيُوتْ وِانُ بْسُوغُ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khbar MT"/>
                <a:ea typeface="Akhbar MT"/>
              </a:rPr>
              <a:t>     دْطيْبُوتُخْ إِعُولْ لْبَيْتُخْ وِسْغُودْ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khbar MT"/>
                <a:ea typeface="Akhbar MT"/>
              </a:rPr>
              <a:t>     بْهَيْكْلُ دْقُودْشُخ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0" y="41400"/>
            <a:ext cx="8964720" cy="135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khbar MT"/>
                <a:cs typeface="Akhbar MT"/>
              </a:rPr>
              <a:t>ش: بْدِحِلْتُخْ مُرْيُ دَبَرَيْنْ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khbar MT"/>
                <a:ea typeface="Akhbar MT"/>
              </a:rPr>
              <a:t>      وَبْزَدِيقُوتُخْ أَلِفَيْنْ 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khbar MT"/>
                <a:cs typeface="Akhbar MT"/>
              </a:rPr>
              <a:t>ك: صَلَوْ عْلَيْ مِطُولْ مُرَنْ 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khbar MT"/>
                <a:cs typeface="Akhbar MT"/>
              </a:rPr>
              <a:t>ش: أَلُـهُ نْقَبلْ قُورْبُنُخْ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khbar MT"/>
                <a:ea typeface="Akhbar MT"/>
              </a:rPr>
              <a:t>      ونِتْرَحَامْ عْلَيْن بَصْلُوتُخ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ahoma"/>
                <a:cs typeface="Akhbar MT"/>
              </a:rPr>
              <a:t>هللويا، قال الربُّ إنّني الخبزُ المحيي، الآتي من حِضنِ الآبِ قوتاً للعالَم، قبلَني، حِضنُ العذراءِ الأمِّ النقيّ العذراءِ مري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ahoma"/>
                <a:cs typeface="Akhbar MT"/>
              </a:rPr>
              <a:t>مثلَ حبّةِ القمحِ في الأرضِ الخَصبة، صِرتُ فوقَ الـمذبحِ قوتاً للبيعة، هللويا</a:t>
            </a:r>
            <a:br>
              <a:rPr sz="7200"/>
            </a:br>
            <a:r>
              <a:rPr b="1" lang="ar-SA" sz="7200" spc="-1" strike="noStrike">
                <a:solidFill>
                  <a:srgbClr val="ffff00"/>
                </a:solidFill>
                <a:latin typeface="Tahoma"/>
                <a:cs typeface="Akhbar MT"/>
              </a:rPr>
              <a:t>وَخُبزَ حياة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76320" y="-27000"/>
            <a:ext cx="8991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للويا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ِوالدةِ اللهِ الأمِّ العذراء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أنبياءِ والرُّسْلِ والشُّهداء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لخُدّام الكَهَنة جَوْقِ الأَبرار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ُـلِّ أولادِ البيعَة نُحيـي التَّذكار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ألمجد للآب والابن</a:t>
            </a:r>
            <a:endParaRPr b="0" lang="en-US" sz="9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والرّوح القدس</a:t>
            </a:r>
            <a:endParaRPr b="0" lang="en-US" sz="9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من الآن وإلـى الأبد.</a:t>
            </a:r>
            <a:endParaRPr b="0" lang="en-US" sz="9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500" spc="-1" strike="noStrike">
                <a:solidFill>
                  <a:srgbClr val="ffffff"/>
                </a:solidFill>
                <a:latin typeface="Tahoma"/>
                <a:cs typeface="Akhbar MT"/>
              </a:rPr>
              <a:t>آمين.</a:t>
            </a:r>
            <a:endParaRPr b="0" lang="en-US" sz="9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-209880" y="5315040"/>
            <a:ext cx="2637360" cy="1355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7200" spc="-1" strike="noStrike">
                <a:solidFill>
                  <a:srgbClr val="ffffff"/>
                </a:solidFill>
                <a:latin typeface="Times New Roman"/>
                <a:cs typeface="AL-Mohanad Bold"/>
              </a:rPr>
              <a:t>جلوس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539640" y="0"/>
            <a:ext cx="82821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ألمجدُ للآب والابنِ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الروحِ القدس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منذ الأزَلِ</a:t>
            </a:r>
            <a:br>
              <a:rPr sz="9000"/>
            </a:b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إلى أبد الآبدين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أيها الآب إل‍هُ السّلام وسيّدُ الآمان هَبْ لنا جميعاً وأهّلنا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 نعانقَ بعضُنا بعضاً،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‍ي نسمةٍ من مَحبّتِكَ لا تنقطِعْ بقُبْلَةٍ لا غِشَّ ف‍يها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نرفعَ ال‍مجدَ والشّكرَ إل‍يك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إل‍ى إبنِكَ الوحيد،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روحِكَ القدّوس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آن وإل‍ى الأبد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آميــن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ألسّلامُ لك يا مذب‍حَ الله؛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لسّلامُ للأسرارِ ال‍مقدّسة ال‍موضوعةِ عل‍يك؛ ألسّلامُ لكَ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خادمَ الرّوح القدس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أمامَكَ يا ربُّ نن‍حن‍ي لنقبلَ مِنكَ الب‍ركةَ وال‍معونةَ لِضعفِنا لأنكَ للجميع ال‍ملجأ وال‍معين وإل‍يكَ نرفعُ ال‍مجدَ وإل‍ى ابنِكَ الوحيد وروحِكَ القدوس الآن وإل‍ى الأبد.  + آميـن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يا ربُّ أضِئ بوجهِكَ عل‍ينا الآنَ وخلِّصنا من كلّ شرّ وامْحُ جميعَ مخالفاتِنا فنرفعَ ال‍مجدَ والشّكرَ إل‍يك وإل‍ى إبنِك الوحيد، وروحِك القدّوس الآن وإل‍ى الأبد. + آميــن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مَحبةُ اللهِ الآب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نعمةُ الابن الوحيد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 وَشركة وحلولُ الروحِ القدس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ع جميعِكُم يا إخوت‍ي إل‍ى الأبد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ومع روحك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351200" y="0"/>
            <a:ext cx="2094840" cy="114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6000" spc="-1" strike="noStrike">
                <a:solidFill>
                  <a:srgbClr val="ffffff"/>
                </a:solidFill>
                <a:latin typeface="Times New Roman"/>
                <a:cs typeface="AL-Mohanad Bold"/>
              </a:rPr>
              <a:t>وقو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6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لتكنْ أفكارُنا وعقولُنا وقلوبُنا مرتفعةً إل‍ى العل‍ى.</a:t>
            </a:r>
            <a:endParaRPr b="0" lang="en-US" sz="8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6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إن‍ها لديك يا الله.</a:t>
            </a:r>
            <a:endParaRPr b="0" lang="en-US" sz="8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6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لنشكرِ الربَّ مت‍هيّب‍ين ونسجُدْ ل‍هُ خاشعين.</a:t>
            </a:r>
            <a:endParaRPr b="0" lang="en-US" sz="8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6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إن‍ه لحقٌ وواجب.</a:t>
            </a:r>
            <a:endParaRPr b="0" lang="en-US" sz="8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حقاً إن‍هُ لواجبٌ ولائقٌ أنْ نُ‍مجِّدَكَ ونعظِّمَكَ، يَا خالقَ جَميعِ الب‍رايَا. إنّا ن‍ُمَجِّدُكَ مَعَ ال‍ملائِكَة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أَصواتِ التّسب‍يحِ هاتفين وقائل‍ين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نذكرُ موتَك، يا ربّ،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نعترفُ بقيامتِك، وننتظرُ مجيئـَك الثان‍ي، ونطلبُ مِنكَ الرّحمةَ والحنان، ونسألُكَ مغفرةَ الخطايا. فَلْتَشمَل مراحمُك كُلّنا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0" y="10008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ف‍يما ن‍حنُ نذكرُ يا ربُّ مجيئـَكَ الخلاصيّ ومجيئـَك الثـّان‍ي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نقدِّمُ لكَ التّسب‍يح، مُبت‍هل‍ينَ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لاّ تُسَلِّمَنا بسبب خطايانا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وم تدينُ الأب‍رارَ والخطأة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وب‍هذا أوصاهم وحضّهم قائلاً: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لّ مرّةٍ تكمّلون هذه الأسرار، تذكرون موت‍ي وقيامت‍ي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تّى مجيئي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10008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َل ترأّف بـِنا وارحَمْنا وأشِحْ بوجهِكَ عَن خطايانا واعضُدْنا. لِ‍هذا، تَضرَعُ إل‍يكَ ب‍يعتُك ورعيّتُكَ وَبكَ وَمَعكَ إل‍ى أب‍يكَ وهي تقول: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10008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إرحمنا، أيّها الآب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ضّابط الكلّ،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رحمنـا.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84360" y="2276640"/>
            <a:ext cx="36716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10008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ن‍حنُ أيضاً، يا ربُّ، أبناءَك الخطأة، ف‍ِيما نقبلُ نِعَمكَ، نشكرُكَ عَن‍ها ومن أجل‍ِها كلِّ‍ها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0" y="10008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إيّاك نسب‍ح. إيّاك ن‍مجّد.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يّاك نبارك. لك نسجد.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ك نعترف ومنك نطلب: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اشفق أللّهمّ عل‍ينا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رحمنا واستجب لنا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ا أرهب‍ها ساعةً أحبّائي ين‍حدر ف‍يها الرّوح الحيّ القدّوس ويحلّ عل‍ى هذا القربان ال‍موضوعِ لتقديسنا فلنقف مصل‍ّين خاشعين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إرحَمنا اللهمَّ إرحَمنا</a:t>
            </a:r>
            <a:br>
              <a:rPr sz="9000"/>
            </a:b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أَرسِلْ عل‍ينا وعل‍ى هذه القراب‍ين روحَك القدّوس فَ‍يعْضُدَنا وَيُسامِحَنا.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76320" y="0"/>
            <a:ext cx="8991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اديشات ألوهـو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اديشات حايلتونـو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اديشات لومويوتـو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تراحـام علين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إستجبنا يا ربّ. (</a:t>
            </a: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3</a:t>
            </a: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)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ل‍يأتِ روحُكَ الحيُّ القدُّوس ويَحلَّ عَل‍ينا وعل‍ى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ذا القربان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8532720" cy="5877000"/>
          </a:xfrm>
          <a:prstGeom prst="rect">
            <a:avLst/>
          </a:prstGeom>
          <a:noFill/>
          <a:ln w="0">
            <a:noFill/>
          </a:ln>
          <a:effectLst>
            <a:outerShdw dist="76320" dir="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Arial"/>
                <a:cs typeface="AL-Mohanad Bold"/>
              </a:rPr>
              <a:t>كيرياليسون</a:t>
            </a:r>
            <a:br>
              <a:rPr sz="8000"/>
            </a:br>
            <a:r>
              <a:rPr b="0" lang="ar-SA" sz="8000" spc="-1" strike="noStrike">
                <a:solidFill>
                  <a:srgbClr val="ffffff"/>
                </a:solidFill>
                <a:latin typeface="Arial"/>
                <a:cs typeface="AL-Mohanad Bold"/>
              </a:rPr>
              <a:t>كــيـريــالــيـسـون</a:t>
            </a:r>
            <a:br>
              <a:rPr sz="8000"/>
            </a:br>
            <a:r>
              <a:rPr b="0" lang="ar-SA" sz="8000" spc="-1" strike="noStrike">
                <a:solidFill>
                  <a:srgbClr val="ffffff"/>
                </a:solidFill>
                <a:latin typeface="Arial"/>
                <a:cs typeface="AL-Mohanad Bold"/>
              </a:rPr>
              <a:t>كــيــريــــالــــيــــســــو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ف‍يجعلَ ب‍حلولِ‍ه هذا الخبزَ جَسدَ ال‍مسيحِ إل‍هِنا.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آمين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ويَجعلَ مَزيجَ هَذهِ الكأسِ دَمَ ال‍مسيح إل‍هِنا. 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آمين.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فتكونَ هذه الأسرار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تنقيةِ نُفوسِ ال‍مشتركينَ ف‍يها وأجسادهم من كلِّ خطيئة، وللحياة الأبدية.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آمين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-242640" y="5564160"/>
            <a:ext cx="2431800" cy="124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6600" spc="-1" strike="noStrike">
                <a:solidFill>
                  <a:srgbClr val="ffffff"/>
                </a:solidFill>
                <a:latin typeface="Times New Roman"/>
                <a:cs typeface="AL-Mohanad Bold"/>
              </a:rPr>
              <a:t>جلوس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إجعل يا ربّ ذكراً صالحاً لآبائنا وإخوتِنا ومعلّ‍مينا وجميعِ ال‍موتى ال‍مؤمن‍ين الراقدين هُنا وف‍ي كل مكان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غفِرْ لنا ول‍هم الخطايا والزَّلات لأنّ‍ه ما من أحد من دون خطيئة إلاّ ربُّنا وإل‍هنا ومخلّصنا يسوع ال‍مسيح الذي بواسطتِ‍ه نرجو أن ننالَ ال‍مراحمَ وغفرانَ الخطايا لنا ول‍هم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أَرِحْ أللّهمَّ الـموتى واغفِرْ خطايانا الّتي اقترفناها بمعرفة وبغير معرفة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0" y="4428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سامِحْنا أللهمَّ واغفِرْ لَنا ول‍هم ف‍يتمجَّدَ بنا وبكلّ شيء إسْمُك ال‍مبارك، مع اسمِ ربِّنا يسوعَ ال‍مسيح وروحِك الحيِّ القدّوس الآن وإل‍ى الأبد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0" y="0"/>
            <a:ext cx="9144000" cy="623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كما كان وهو الآن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كذا يكون إل‍ى الأبد.</a:t>
            </a:r>
            <a:br>
              <a:rPr sz="9600"/>
            </a:br>
            <a:r>
              <a:rPr b="1" lang="ar-SA" sz="9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آمين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-303480" y="5394240"/>
            <a:ext cx="2637360" cy="146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7200" spc="-1" strike="noStrike">
                <a:solidFill>
                  <a:srgbClr val="ffffff"/>
                </a:solidFill>
                <a:latin typeface="Times New Roman"/>
                <a:cs typeface="AL-Mohanad Bold"/>
              </a:rPr>
              <a:t>جلوس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يا قرباناً شهيّاً قُرِّبَ عنّا؛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ذبيحاً غافراً قَرَّب ذاته لأبيه؛ يا حملاً صار لنفسه حَبراً مقرِّباً؛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047360" y="-243000"/>
            <a:ext cx="2288520" cy="124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6600" spc="-1" strike="noStrike">
                <a:solidFill>
                  <a:srgbClr val="ffffff"/>
                </a:solidFill>
                <a:latin typeface="Times New Roman"/>
                <a:cs typeface="AL-Mohanad Bold"/>
              </a:rPr>
              <a:t>وقوف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ِتكُنْ يا ربّ طِلْبتُنا بمراحمِكَ بَخُوراً فَنُقرِّبَها بكَ لأبيك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كَ المجدُ إلَى الأبد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0" y="10008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نضرعُ إل‍يكَ أللّهمَّ الآب معزِّيَنا ف‍ي ضعفِنا ومشجِّعَنا: نقِّنا مِن كُلِّ خَطيئة واقبلْ مِنّا هذا القربان فن‍هتفَ إل‍يكَ بنسمَةٍ وَاحدة وَنُصلِّي قائل‍ين: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َبانا الذي في السَّماوات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يَتَقَدَّس اسمُكَ، لِيَأتِ ملكوتُكَ لِتَكُن مشيئَتُكَ، كما في السَّماء كذلك على الأرض. أَعطِنا خبزنا كفافَ يومِنا واغفِرْ لنا ذنوبَنا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خطايانا كما نحنُ نغفِر لِمَنْ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	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	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 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	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لا تُدخِلنا في التجارب لكن نَجِّنا من الشرِّير لأنَّ لَكَ الـمُلكَ والقوَّةَ والمجد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لى أبد الآبدين. آمين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076720" y="1628640"/>
            <a:ext cx="32418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خطِئَ إلينا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5363640" y="2708280"/>
            <a:ext cx="2737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5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250" autoRev="1" fill="hold"/>
                                        <p:tgtEl>
                                          <p:spTgt spid="5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0" y="10008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لا تُدْخِلْنَا يا ربّ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‍ي امت‍حانِ التجارب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أننا لا قوةَ لنا عل‍يها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ل نَجِّنا من كلِّ شرّ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0" y="10008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أنّ لكَ ال‍ملكوتَ والقدرةَ وال‍مجد ولابنِك الوحيد ولروحِك الحيّ القدوس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آن وإل‍ى الأبد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آمين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0" y="10008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ألسّلامُ لجميعكم. 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ومع روحك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1403280" y="-168120"/>
            <a:ext cx="5940360" cy="1225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رجع صوت بعيد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يا ابن داود ارحمني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لحظ طرف سعيد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ابصر نعمة الابن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حنوا رؤوسكم أمام الله الرّؤوف وأمام مذب‍حه الغافر وأمام جسد مخلّصنا ودمه ال‍محيي ل‍من يتناولُ‍ه واقبلوا الب‍ركةَ من الرّبّ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بارِكْ يا ربُّ السّاجدينَ لك ال‍من‍حن‍ينَ أمامك الضّارعينَ إل‍يك وأهّل‍هُم ل‍مراحِمِك وغفرانِ خطاياهُم لأنّك كثيرُ ال‍مراحم وعل‍ى كلِّ شيءٍ قدير.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نرفع ال‍مجدَ والشّكر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ل‍يكَ وإل‍ى ابنِكَ الوحيد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روحِكَ القدّوس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آن وإل‍ى الأبد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آمين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نعمةُ الثالوثِ الأقدسِ الأزل‍يّ ال‍متساوي ف‍ي الجوهر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عكم يا إخوت‍ي إل‍ى الأبد.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ومع روحك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‍ينظُرْ كلُّ واحد مِنّا إل‍ى الله بت‍هيّبٍ وخشوع ول‍يسألـ‍ْهُ الرّحمةَ والحنان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الأقداس للقدّيسين</a:t>
            </a:r>
            <a:br>
              <a:rPr sz="9800"/>
            </a:br>
            <a:r>
              <a:rPr b="1" lang="ar-SA" sz="9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الكمال والنّقاوة</a:t>
            </a:r>
            <a:br>
              <a:rPr sz="9800"/>
            </a:br>
            <a:r>
              <a:rPr b="1" lang="ar-SA" sz="9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لقداسة.</a:t>
            </a:r>
            <a:endParaRPr b="0" lang="en-US" sz="9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آبٌ واحدٌ قدّوس إبنٌ واحدٌ قدّوس روحٌ واحدٌ قدّوس. تبارك اسم الربّ لأن‍ه واحدٌ ف‍ي السّماء وعل‍ى الأرض ل‍ه ال‍مجد إل‍ى الأبد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هّلنا، أيّها الربّ الإله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 تتقدَّسَ أجسادُنا بجسدِكَ القدّوس وتتنقّى نفوسُنا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دمِكَ الغفور،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187280" y="5013360"/>
            <a:ext cx="4248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059280" y="3141720"/>
            <a:ext cx="54734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ليكُن تناولُنا لِمغفرةِ خطايانا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للحياة الجديدة. يا ربّنا وإلهنا لك المجد إلى الأبد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900000" y="38160"/>
            <a:ext cx="6588360" cy="1058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شعبك الراجي يضرع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يا ابن داود ارحمني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صوتك العذب يسمع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ابصر نعمة الابن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320" y="0"/>
            <a:ext cx="8991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ahoma"/>
                <a:cs typeface="Akhbar MT"/>
              </a:rPr>
              <a:t>رَبِّ يَا مَنْ تَقَبَّلْ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ahoma"/>
                <a:cs typeface="Akhbar MT"/>
              </a:rPr>
              <a:t>قِدْماً خِدْمَةَ  الأَبْرَارْ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ahoma"/>
                <a:cs typeface="Akhbar MT"/>
              </a:rPr>
              <a:t>يَا حَنُونُ تَقَبَّلْ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ahoma"/>
                <a:cs typeface="Akhbar MT"/>
              </a:rPr>
              <a:t>وَاسْتَجِبْنَا كَالأَبْرَارْ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09:20:04Z</dcterms:created>
  <dc:creator>-</dc:creator>
  <dc:description/>
  <dc:language>en-US</dc:language>
  <cp:lastModifiedBy>ف</cp:lastModifiedBy>
  <dcterms:modified xsi:type="dcterms:W3CDTF">2006-09-15T19:53:37Z</dcterms:modified>
  <cp:revision>804</cp:revision>
  <dc:subject/>
  <dc:title>Slide 1</dc:title>
</cp:coreProperties>
</file>