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192-6529-485F-82C2-3D50F89D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D10-11E6-4AF3-9172-7C3EBAF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228-24C0-40A9-93BC-5C924923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DEE-68A7-45A8-BD31-62870012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785-383D-421E-85B4-E11E98B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889-D432-4518-8515-594AB64E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A95-9050-45A5-A101-2B4E3116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3AC-C15E-43F3-8393-10221FC4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F88-78AB-497E-BB6C-FF249C74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95F-0D0D-4355-BC44-9576F44B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C79-0BD8-41A1-B647-1E5C7A27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4C6-260A-4B79-8A02-5A1A8976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DBB4-6443-41FC-8064-4FA3A9EF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3500280"/>
            <a:ext cx="565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قر بان المقدس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03280" y="4190760"/>
            <a:ext cx="58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وتَ الأنفس القدسية 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ربونَ المجد الأبد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600" y="1844640"/>
            <a:ext cx="115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زادَ الذين يموتون بالر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48000" y="549360"/>
            <a:ext cx="5796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حمل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حامل خطايا العالم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04000" y="335772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4422600"/>
            <a:ext cx="324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5430960"/>
            <a:ext cx="237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رحم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9280" y="809640"/>
            <a:ext cx="6084720" cy="103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72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يا ربنا يسو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60280"/>
            <a:ext cx="608472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ريـاليسـون كريستـيـالـي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كـيـــريـــالــيــس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أَنصِت إلي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554688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إستجبن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03280" y="3182760"/>
            <a:ext cx="594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آب السماوي أ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ابنَ الله مخلِّص العال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روح القدوس ألله</a:t>
            </a:r>
            <a:br>
              <a:rPr sz="7200"/>
            </a:br>
            <a:br>
              <a:rPr sz="60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َ السماءِ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إلهاً مكنون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307520" y="3573360"/>
            <a:ext cx="1337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يها الثالوث القدوس الإله الواح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4000" y="332712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نطةَ المختاري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مراً مونِعَ العذارى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دائ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قدمةً طاهر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روفاً بلا عيب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568800" y="2421000"/>
            <a:ext cx="125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دَسِماً ونعيمَ الملكو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360" y="3254040"/>
            <a:ext cx="507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ائدة نقيّ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طعامَ الملائ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نّاً مخفيّ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رَ عجائبَ الله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جوهري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متجسّد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08000" y="3398760"/>
            <a:ext cx="521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لمةً حالاً في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دس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كأس البرك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إيمان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اً عظيم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مقدس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00" y="2822400"/>
            <a:ext cx="493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غفرةً حقيقي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َ الخطاي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آيةً عجي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ذكِّرَ آلام المسيح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عطية تام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95560" y="5695920"/>
            <a:ext cx="98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تذكارَ المحبةِ الإله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4000" y="3254040"/>
            <a:ext cx="5580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دواءً لعدم الموت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مفيضَ كثرة النعم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اً مرهوباً ومحيياً</a:t>
            </a:r>
            <a:br>
              <a:rPr sz="7200"/>
            </a:b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ذبيحةً بلا دم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 ومضيفاً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736920" y="3500280"/>
            <a:ext cx="1273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خبزاً صار جسداً بقدرة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3213000"/>
            <a:ext cx="5543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سرَّ التقوى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رباطَ المحبة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قرباناً مقرّباً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يا حلاوةً روحية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 rot="16200000">
            <a:off x="-1354680" y="4207680"/>
            <a:ext cx="4005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إرحــمـــنــ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685800" y="189000"/>
            <a:ext cx="1210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وليمةً حلوة تخدمها الملائك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9:38:32Z</dcterms:created>
  <dc:creator>Charbel Azar</dc:creator>
  <dc:description/>
  <dc:language>en-US</dc:language>
  <cp:lastModifiedBy>Charbel Azar</cp:lastModifiedBy>
  <dcterms:modified xsi:type="dcterms:W3CDTF">2002-07-29T20:51:10Z</dcterms:modified>
  <cp:revision>8</cp:revision>
  <dc:subject/>
  <dc:title>كيرياليسون، كريستياليسون، كيرياليسون  يا ربنا يسوع المسيح أنصت إلينا  إستجبنا </dc:title>
</cp:coreProperties>
</file>