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0E9-CD4A-4F06-A99F-5B955F10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630-6973-440F-AD93-EC8E478A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944-BDAF-42F4-B281-C4CE73A2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19F-3BE3-4273-9574-57471F60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BF9-0492-47A9-98E5-DB0252E0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E6A-D9A1-4166-8749-11ECA4C3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8A3-CC80-4987-B9B2-F04796F5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8A8-E5E8-410A-845F-F546676A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49B-3A46-4A46-BED2-D228AF41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E85-2BF5-48C7-954D-E9EA35AA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1D5-9285-4618-A708-E689D23E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815-FAFD-4360-89E4-40AC9BB6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6F71-8686-4186-A908-385150B9F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ّ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228600" y="0"/>
            <a:ext cx="5105520" cy="9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ربي قلبك حنّان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ت اللي عليِّ سهران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طيني بحبك صير كب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ن قلبي يضل صغ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كِبْرو بمحبة ملي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4572000" cy="9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قلت بإنجيل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لناس اللي تابعين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لي ما في عندو قلب صغيّر يعرف إنو ي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ّو من تلاميذ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14600" y="5067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457200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للحب اخترتو عمري للرب اندرتو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ما إكبر عمري يضل من نبعك يغرُف ما يمل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دك يبقى لآخِرت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5:35:46Z</dcterms:created>
  <dc:creator>SUZANNE.MD</dc:creator>
  <dc:description/>
  <dc:language>en-US</dc:language>
  <cp:lastModifiedBy>HANI SAFI</cp:lastModifiedBy>
  <dcterms:modified xsi:type="dcterms:W3CDTF">2003-05-03T04:09:11Z</dcterms:modified>
  <cp:revision>3</cp:revision>
  <dc:subject/>
  <dc:title>PowerPoint Presentation</dc:title>
</cp:coreProperties>
</file>