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828-D8C2-4801-853B-6A050EDF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55D-AA9E-4B45-9D02-76322764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5E7-D819-473C-AD1A-A09A0D1F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9C8-87B1-4989-8FB9-1987DFD0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0F98-FC3C-487E-AEA3-794C2EF0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4FF7-9664-4CFB-8910-8CEE3A8C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CD1-216C-4BE7-882B-1876F56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4C7-16BF-4F47-9783-1927193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DAB-42B5-41AA-911D-71264B73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0FAC-8CB1-4489-A6A0-C2E41888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99B-CBE0-460D-8F91-3213A8B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D03-4DB4-45D6-9AC6-6CD135D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F38-D6E9-4F26-98FD-8D7FFF7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9E92-1A81-40C9-AE42-6EAA7B3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2C7C-9932-4153-B696-312763EB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CF4F-32A1-414A-9E0B-C6CD73F3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E3E7-8BAD-42F8-BA8E-87DA0C37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786-1BA4-404F-8D30-E62FDB26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9F2-1055-4F85-AFDF-386A81B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FBB-4D09-40CC-B160-14D07FEE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A83-6554-495F-896F-47AD01DD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597-1D29-475E-AAC6-ABC015A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13C-C129-435B-9C01-7B740D0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726-554F-4C3E-B74D-11BDF35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9283-A14A-43A7-B763-4E7DA1276A0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490D-D071-47AA-9D80-298D48B966A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طلبة مار الياس</a:t>
            </a:r>
            <a:endParaRPr b="1" lang="en-US" sz="15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تَ نارٌ وإِلى اللهِ سافَرْتَ بنَ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حَبْسِ الغَيثِ قَدْ باتَتِ الأرضُ قِفار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َفَّ أُرْدُنُّكَ لَمْ يُبْقِ للظَّامِي قِطارْ.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دَلَّكَ الروحُ إلى أَيِّمٍ ذاتِ افتِقَار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َّلَتْ جَرَّتُها بكَ مَوتُ الجُوعِ م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على قارُورَةِ الزَّيتِ فَاضَتْ بَرَكَات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زِحْتَ عَنها غَمَّها عُدْتَ للطِّفْلِ الحَياة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طَّمَتْ إِيزابَلٌ أنبيَا الحَقِّ الهُداة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طَرَحَتْ بادِعَها رَفَعَتْ شأْنَ بَعَ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َدُ إيليّا عَلَتْ هَدَمَتْ بُرْجَ الضَّلال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َرَمُ الرَّبِّ على الكَرمَلِ انصَبَّ وَسَالَ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إِيليّا أضْمَرَتْ شَرَّ مَوتٍ إيزَابَال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نْ لَظَى إيزَابَلٍ كانَ حُورِيبُ المَتَا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فْخُ عَصْفٍ فيهِ لَمْ يَكُنِ الربُّ الإِله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ُخْطُ زِلْزَالٍ بهِ لَمْ يَكُ الربُّ الإله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َزْفُ نِيرانٍ بها لَمْ يَكُ الربُّ الإِله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نَسِيمٌ كالنَّدَى فيهِ لُطْفُ اللهِ ذ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َوتُ حَقٍّ مُرْجِفٌ غَاصِبَ الحَقِّ أَحاب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ئِمُ الظُلْمِ هَوَى بَينَ أنيَاب الكِلابْ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ffffff"/>
                </a:solidFill>
                <a:uFillTx/>
                <a:latin typeface="Times New Roman"/>
                <a:cs typeface="????Boutros Rokaa"/>
              </a:rPr>
              <a:t>رايةَ الحَقِّ لَنا كُنْ، إيليَّا، والمَنارْ</a:t>
            </a:r>
            <a:br>
              <a:rPr sz="8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فَّةَ الرُّوحِ على النارِ لاقَتْكَ السماءْ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شاءَ لِيشَاعُ اكْتَسَى رُوحَ غَيبٍ "بالرِّدَاءْ"</a:t>
            </a:r>
            <a:br>
              <a:rPr sz="7000"/>
            </a:br>
            <a:r>
              <a:rPr b="1" lang="ar-SA" sz="7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َسأَلُ الربَّ لنا رُوحَ حُبٍّ وعَطَاء</a:t>
            </a:r>
            <a:endParaRPr b="1" lang="en-US" sz="7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1:55:33Z</dcterms:created>
  <dc:creator>Charbel Azar</dc:creator>
  <dc:description/>
  <dc:language>en-US</dc:language>
  <cp:lastModifiedBy>-</cp:lastModifiedBy>
  <dcterms:modified xsi:type="dcterms:W3CDTF">2002-12-22T16:02:41Z</dcterms:modified>
  <cp:revision>9</cp:revision>
  <dc:subject/>
  <dc:title>لأن إلى الأبد رحمته هللوا للر بّ  اعترفوا للربّ فإنّهُ صالحٌ. اعترفوا لإله الالهة وربّ الأرباب لصانع المعجزات العظام وحده والسماوات.</dc:title>
</cp:coreProperties>
</file>