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B01A-B596-4A2B-8F8D-90A6B0A2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C393-B91B-44FF-9C58-AB2DB534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45CC-564C-45B3-8928-B8A3096F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4CC4-478F-4C9E-865A-B0DF5AD3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C0B2-4C1D-40BD-8CB9-5570CE90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F1CE-34AA-4746-9C7A-1B059563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1004-B843-4A7D-9B4C-304AEB0E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A4D8-B7BB-479C-B7FB-D5B79878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88E2-0B13-4EDD-92A9-9619CEAA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CA19-E86E-4D5C-84C4-29005DF7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E7C-884E-4A82-A092-0FA3B42D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02D2-DB95-477C-8C31-811B9ADD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C429-AD65-4810-8CDD-8B952234D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3500280"/>
            <a:ext cx="5651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Arial"/>
                <a:cs typeface="????Boutros Rokaa"/>
              </a:rPr>
              <a:t>طلبة القر بان المقدس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03280" y="4190760"/>
            <a:ext cx="586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قوتَ الأنفس القدسية </a:t>
            </a:r>
            <a:br>
              <a:rPr sz="7200"/>
            </a:b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عربونَ المجد الأبد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ابنَ الله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600" y="1844640"/>
            <a:ext cx="1154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زادَ الذين يموتون بالر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48000" y="549360"/>
            <a:ext cx="57960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حمل ا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حامل خطايا العالم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04000" y="3357720"/>
            <a:ext cx="324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أَنصِت إل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35280" y="4422600"/>
            <a:ext cx="324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إستجب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56000" y="5430960"/>
            <a:ext cx="237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إرحم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autoRev="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59280" y="809640"/>
            <a:ext cx="6084720" cy="103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ـيـريـاليسـون كريستـيـالـيس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ـيـــريـــالــيــس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8000" y="4292280"/>
            <a:ext cx="723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ربنا يسوع المسي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260280"/>
            <a:ext cx="6084720" cy="66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ـيـريـاليسـون كريستـيـالـيس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ـيـــريـــالــيــس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08720" y="5546880"/>
            <a:ext cx="324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أَنصِت إل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5546880"/>
            <a:ext cx="324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إستجب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03280" y="3182760"/>
            <a:ext cx="5940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يها الآب السماوي ألله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ابنَ الله مخلِّص العالم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يها الروح القدوس ألله</a:t>
            </a:r>
            <a:br>
              <a:rPr sz="7200"/>
            </a:br>
            <a:br>
              <a:rPr sz="60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خبزَ السماءِ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إلهاً مكنوناً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307520" y="3573360"/>
            <a:ext cx="1337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أيها الثالوث القدوس الإله الواح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64000" y="3327120"/>
            <a:ext cx="558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حنطةَ المختارين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خمراً مونِعَ العذارى</a:t>
            </a:r>
            <a:br>
              <a:rPr sz="7200"/>
            </a:b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ذبيحةً دائم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تقدمةً طاهر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خروفاً بلا عيب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568800" y="2421000"/>
            <a:ext cx="125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خبزاً دَسِماً ونعيمَ الملكو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24360" y="3254040"/>
            <a:ext cx="507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مائدة نقيّ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طعامَ الملائك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منّاً مخفيّاً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مذكّرَ عجائبَ الله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خبزاً جوهرياً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كلمةً متجسّداً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08000" y="3398760"/>
            <a:ext cx="52196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كلمةً حالاً في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قرباناً مقدساً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كأس البرك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سرَّ الإيمان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سرّاً عظيماً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ذبيحةً مقدسة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40000" y="2822400"/>
            <a:ext cx="4932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مغفرةً حقيقي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دواءَ الخطاي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آيةً عجيب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مذكِّرَ آلام المسيح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عطية تامة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95560" y="5695920"/>
            <a:ext cx="982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تذكارَ المحبةِ الإلهي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64000" y="3254040"/>
            <a:ext cx="558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دواءً لعدم الموت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مفيضَ كثرة النعم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سراً مرهوباً ومحيياً</a:t>
            </a:r>
            <a:br>
              <a:rPr sz="7200"/>
            </a:b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ذبيحةً بلا دم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وليمة ومضيفاً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736920" y="3500280"/>
            <a:ext cx="1273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خبزاً صار جسداً بقدرة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19640" y="3213000"/>
            <a:ext cx="5543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سرَّ التقوى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رباطَ المحب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قرباناً مقرّباً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حلاوةً روحية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685800" y="189000"/>
            <a:ext cx="1210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يا وليمةً حلوة تخدمها الملائك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19:38:32Z</dcterms:created>
  <dc:creator>Charbel Azar</dc:creator>
  <dc:description/>
  <dc:language>en-US</dc:language>
  <cp:lastModifiedBy>Charbel Azar</cp:lastModifiedBy>
  <dcterms:modified xsi:type="dcterms:W3CDTF">2002-07-29T20:51:10Z</dcterms:modified>
  <cp:revision>8</cp:revision>
  <dc:subject/>
  <dc:title>كيرياليسون، كريستياليسون، كيرياليسون  يا ربنا يسوع المسيح أنصت إلينا  إستجبنا </dc:title>
</cp:coreProperties>
</file>