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1BB-FECA-4C59-8D87-F964405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C8B-993B-4BAD-9CE8-EB408AE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28C-5D9F-4C79-BF32-82C8A1BF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0A7-47FD-4E08-BF65-4087F31D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882-7069-421C-9C0E-E99AF901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3CE-1FA5-4AC6-A133-7B010B43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48C-EEAD-420B-B5EF-3ABE6383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138-2727-48D0-A5D2-6D3E51E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43F-E1F9-4CC5-8721-D683F17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3B9-9673-45EB-A2D4-706375DE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8F4-2455-44D8-AF83-461E945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F62-3FAC-4376-B7E3-528E760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2A2-AD67-4B17-859A-9C45DDCF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3657600" cy="11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ربي يا نورَ رجائ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قتبِل من الدع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واجعل الراحل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دخلُ دارَ البق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أبا كلِّ المراح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رجاءَ الراقد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جعلِ الراحلَ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في عِدادِ الصالح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8:19Z</dcterms:created>
  <dc:creator>HANI SAFI</dc:creator>
  <dc:description/>
  <dc:language>en-US</dc:language>
  <cp:lastModifiedBy>HANI SAFI</cp:lastModifiedBy>
  <dcterms:modified xsi:type="dcterms:W3CDTF">2003-05-19T11:48:50Z</dcterms:modified>
  <cp:revision>1</cp:revision>
  <dc:subject/>
  <dc:title>Slide 1</dc:title>
</cp:coreProperties>
</file>