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CBBB3-8ECF-4D48-8A2C-36B38F344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31904-2090-4507-B1F2-4F532AC30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6F2E7-E880-403B-B69D-F858CF68F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048DE-CAE8-4C08-83B6-D3E7F5E56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4CCE9-1318-4EC8-A2B1-7BF557B0E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572DD-BEEE-40B4-8890-DAE54AB7A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A6F14-A99F-4830-9D69-5FAD082BB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DEB38-54C4-4517-B3EA-EBC0738F4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A117A-E499-46B6-A36E-6915C2610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E6FF5-3A16-4EE2-92B6-B6AD0EC8D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8C7BD-7180-438A-883B-4EE640965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6D33A-F232-4609-89D2-07523A6BF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E4747-D687-4F59-985A-225FE54870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26330605OqExqIRsdO_ph" descr=""/>
          <p:cNvPicPr/>
          <p:nvPr/>
        </p:nvPicPr>
        <p:blipFill>
          <a:blip r:embed="rId1"/>
          <a:stretch/>
        </p:blipFill>
        <p:spPr>
          <a:xfrm>
            <a:off x="0" y="-49320"/>
            <a:ext cx="9144000" cy="6907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5241960"/>
            <a:ext cx="9144000" cy="27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00"/>
                </a:solidFill>
                <a:latin typeface="Times New Roman"/>
                <a:cs typeface="Arabic Transparent"/>
              </a:rPr>
              <a:t>موراناتا .. تعا يسوع .. ملّي الدني.. بمجد السما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00"/>
                </a:solidFill>
                <a:latin typeface="Times New Roman"/>
                <a:cs typeface="Arabic Transparent"/>
              </a:rPr>
              <a:t>بيقول الروح.. جاي يسوع.. قرّب العيد.. </a:t>
            </a:r>
            <a:r>
              <a:rPr b="1" lang="ar-SA" sz="4000" spc="-1" strike="noStrike">
                <a:solidFill>
                  <a:srgbClr val="ffcc00"/>
                </a:solidFill>
                <a:latin typeface="Times New Roman"/>
                <a:cs typeface="Times New Roman"/>
              </a:rPr>
              <a:t>عرس السما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34894615RpkjcS_ph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86104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579132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جيت كان في نور ضوى البيت بالميلاد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صوت عمبيقول بحب كثير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جيت للأطفال للمجوس للرعيان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جيت كرمال المساكين</a:t>
            </a:r>
            <a:r>
              <a:rPr b="0" lang="ar-SA" sz="36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26330605OqExqIRsdO_ph" descr=""/>
          <p:cNvPicPr/>
          <p:nvPr/>
        </p:nvPicPr>
        <p:blipFill>
          <a:blip r:embed="rId1"/>
          <a:stretch/>
        </p:blipFill>
        <p:spPr>
          <a:xfrm>
            <a:off x="0" y="-49320"/>
            <a:ext cx="9144000" cy="69073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5241960"/>
            <a:ext cx="9144000" cy="27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00"/>
                </a:solidFill>
                <a:latin typeface="Times New Roman"/>
                <a:cs typeface="Arabic Transparent"/>
              </a:rPr>
              <a:t>موراناتا .. تعا يسوع .. ملّي الدني.. بمجد السما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00"/>
                </a:solidFill>
                <a:latin typeface="Times New Roman"/>
                <a:cs typeface="Arabic Transparent"/>
              </a:rPr>
              <a:t>بيقول الروح.. جاي يسوع.. قرّب العيد.. </a:t>
            </a:r>
            <a:r>
              <a:rPr b="1" lang="ar-SA" sz="4000" spc="-1" strike="noStrike">
                <a:solidFill>
                  <a:srgbClr val="ffcc00"/>
                </a:solidFill>
                <a:latin typeface="Times New Roman"/>
                <a:cs typeface="Times New Roman"/>
              </a:rPr>
              <a:t>عرس السما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9T06:21:01Z</dcterms:created>
  <dc:creator>SUZANNE.MD</dc:creator>
  <dc:description/>
  <dc:language>en-US</dc:language>
  <cp:lastModifiedBy>USER</cp:lastModifiedBy>
  <dcterms:modified xsi:type="dcterms:W3CDTF">2003-02-08T07:40:33Z</dcterms:modified>
  <cp:revision>4</cp:revision>
  <dc:subject/>
  <dc:title>PowerPoint Presentation</dc:title>
</cp:coreProperties>
</file>