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4638-25A4-46CA-B644-09FB0498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D9F-5057-4D10-B8BC-2CCE19F7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B39-863C-4824-8E3A-D20D204B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90B-E452-48B6-9C58-772548DF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07BB-474A-4F0B-9024-1F01C07D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B0D0-3DBA-42BD-84A5-9B0003DC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234C-F3E9-4FCA-8A8A-0DF2C14A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90A4-D596-49EA-8A07-B28E5A7D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14F-A11B-48D5-B3F8-5D2E554C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13E2-23CD-4828-8FBE-0D3184E4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78C2-C6F1-4365-B7B0-EADD76B5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06D8-2184-4A89-A516-062D3324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5C95-2C96-46C7-BA70-BA15FF7B3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6330605OqExqIRsdO_ph" descr="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241960"/>
            <a:ext cx="9144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موراناتا .. تعا يسوع .. ملّي الدني.. بمجد الس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بيقول الروح.. جاي يسوع.. قرّب العيد..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عرس السم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4894615RpkjcS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610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791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جيت كان في نور ضوى البيت بالميلاد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وت عمبيقول بحب كثير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جيت للأطفال للمجوس للرعيان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جيت كرمال المساكين</a:t>
            </a:r>
            <a:r>
              <a:rPr b="0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6330605OqExqIRsdO_ph" descr="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241960"/>
            <a:ext cx="9144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موراناتا .. تعا يسوع .. ملّي الدني.. بمجد الس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بيقول الروح.. جاي يسوع.. قرّب العيد..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عرس السم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6:21:01Z</dcterms:created>
  <dc:creator>SUZANNE.MD</dc:creator>
  <dc:description/>
  <dc:language>en-US</dc:language>
  <cp:lastModifiedBy>USER</cp:lastModifiedBy>
  <dcterms:modified xsi:type="dcterms:W3CDTF">2003-02-08T07:40:33Z</dcterms:modified>
  <cp:revision>4</cp:revision>
  <dc:subject/>
  <dc:title>PowerPoint Presentation</dc:title>
</cp:coreProperties>
</file>