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E142-8753-4A69-AC14-A35E82BF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A70-8491-4CD1-81DB-80BFB156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AFC5-FF7E-4392-ABB0-8483A353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5FA-5397-49E9-941D-162543AF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B8B3-94D6-41E1-B980-F9A20DFC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707-E0ED-499A-BE1D-6A30DB05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269-2D8E-4E80-9945-7822C4ED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C874-3454-4EC8-A29D-517988C3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5E0-5CDA-4717-A85B-824C0A36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36B-E9E9-4781-8249-4239BAA3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659-BA92-4DAB-B17B-F73B3BA4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DBB-C058-4541-9176-E5ECE6AC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6147-4A04-40D9-9AA6-FD9326632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984635MkzJLmQBtT_ph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91320" y="304920"/>
            <a:ext cx="3047760" cy="86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رن صوتٌ في الأعالي يا تُرى ماذا الخب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ولم الأملاك تشدو بترانيم الظف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كلهم في المجد غنى بأناشيد السر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قد بدا أمر عجيب، رحمة الله الغفور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4458854PUJPRwcavG_ph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5880" y="228600"/>
            <a:ext cx="3048120" cy="9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يها الرعاة هبوا وانظروا الرب المج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أنه قد صار طفلاً باتضاع كالعب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مجدوه هللويا مجدوه في العل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مجدوه هللويا إنه فادي المل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62720" y="457200"/>
            <a:ext cx="3276360" cy="89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80"/>
                </a:solidFill>
                <a:latin typeface="Times New Roman"/>
                <a:cs typeface="Arabic Transparent"/>
              </a:rPr>
              <a:t>فعلى الأرض سلام وسرور للبش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80"/>
                </a:solidFill>
                <a:latin typeface="Times New Roman"/>
                <a:cs typeface="Arabic Transparent"/>
              </a:rPr>
              <a:t>إذ أتى الفادي المنجي والمسيح المنتظ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80"/>
                </a:solidFill>
                <a:latin typeface="Times New Roman"/>
                <a:cs typeface="Arabic Transparent"/>
              </a:rPr>
              <a:t>فليرن الصوت دوماً مع قياثر الذه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00080"/>
                </a:solidFill>
                <a:latin typeface="Times New Roman"/>
                <a:cs typeface="Arabic Transparent"/>
              </a:rPr>
              <a:t>هللويا قد فدانا ولنا البرّ وَه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0:18:52Z</dcterms:created>
  <dc:creator>SUZANNE.MD</dc:creator>
  <dc:description/>
  <dc:language>en-US</dc:language>
  <cp:lastModifiedBy>USER</cp:lastModifiedBy>
  <dcterms:modified xsi:type="dcterms:W3CDTF">2002-12-19T11:12:11Z</dcterms:modified>
  <cp:revision>1</cp:revision>
  <dc:subject/>
  <dc:title>PowerPoint Presentation</dc:title>
</cp:coreProperties>
</file>