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649-BD77-4B82-9084-DAA238BF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9D9-5D5D-434B-AED2-544DA176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C9A-3111-4BE0-8F15-287594FF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A03-C8B2-4FF6-B148-4DC27BDF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797-84A5-47B6-9623-C5205240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31A-730A-494C-AEAD-242A5AE3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B63-DF5A-4CD4-A045-16EB2711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EF0-AC87-4475-A8FF-1FFD0534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0A3-00B0-4DD4-B13A-A57C875C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2C1-6709-496D-8952-EB2F4BCC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D51-E478-4FBC-92C8-660CB730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81C-D2BD-4387-9C23-068F4223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1703-79CC-4E71-B7B8-60ED61C19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9438947PSFJiw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80880"/>
            <a:ext cx="3657600" cy="9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اح الراعي ونعجاتو     بعز البرد وتلجات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دوا كل بواب الريح     تيدفوا الطفل المسي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والسما هديت بالعيد      نجما المتجلي من بع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تيبشر بعهد جديد         تيبشر بعهد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328775GuxgbrFGcs_ph" descr=""/>
          <p:cNvPicPr/>
          <p:nvPr/>
        </p:nvPicPr>
        <p:blipFill>
          <a:blip r:embed="rId2"/>
          <a:stretch/>
        </p:blipFill>
        <p:spPr>
          <a:xfrm>
            <a:off x="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3600" y="304920"/>
            <a:ext cx="3200400" cy="9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ح تستقبل هالليلة       لمغارة أطهر عي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أم وبي وطفل زغير      خلّوا المجد يصير كب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وتغيّر وج الزمان        راح العذاب اللي ك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ينطر عباب الإنسان      ينطر عا باب الإنسان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9:33:27Z</dcterms:created>
  <dc:creator>SUZANNE.MD</dc:creator>
  <dc:description/>
  <dc:language>en-US</dc:language>
  <cp:lastModifiedBy>USER</cp:lastModifiedBy>
  <dcterms:modified xsi:type="dcterms:W3CDTF">2002-12-19T11:14:55Z</dcterms:modified>
  <cp:revision>3</cp:revision>
  <dc:subject/>
  <dc:title>PowerPoint Presentation</dc:title>
</cp:coreProperties>
</file>