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D27-AACB-4B6E-9469-E1A87126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D86-4DED-47DB-A0A9-3FE415F2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BE8-8915-4891-8917-A3F5721B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6FC-77E9-45A7-A079-B55FABB6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86A-CE13-4BE5-A286-7D7C857C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D77-D77C-4B60-B3DD-7CB1E0C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6ED-E2BE-4086-BE6B-ACE39802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5BE-5282-48E2-913D-CB2C8EDD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054-4E6C-41CD-9154-94EE9FE3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E47-24BA-49D5-AF59-80E166D7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6DD-3934-4481-87F9-52CECDB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F2F-F025-4A98-85B2-7B684C4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517B-62F9-4C7E-8071-061959EE9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4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457200"/>
            <a:ext cx="243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أبشّركم بفرحٍ عظيم وُلِدَ لنا مُخَلِّصٌ وهوَ المسيح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455898PWTKEWSFrh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380880"/>
            <a:ext cx="160020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شعبُ الّسالكُ في الظُّلمة أبصَرَ نوراً عظي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84762EpprHVgXkZ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762120"/>
            <a:ext cx="38862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عُميُ يُبصر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موتى يقوم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أسرى يُطلق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والمساكين يُبَشرون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25:15Z</dcterms:created>
  <dc:creator>SUZANNE.MD</dc:creator>
  <dc:description/>
  <dc:language>en-US</dc:language>
  <cp:lastModifiedBy>USER</cp:lastModifiedBy>
  <dcterms:modified xsi:type="dcterms:W3CDTF">2002-12-19T11:11:06Z</dcterms:modified>
  <cp:revision>3</cp:revision>
  <dc:subject/>
  <dc:title>PowerPoint Presentation</dc:title>
</cp:coreProperties>
</file>