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1B9-8BCF-462C-93AB-53F3A0B9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1C0-FC5D-40DE-9555-F51BF16D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00B-9662-49CF-A6DC-A3634E06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60E-193B-4782-8D79-7438DB31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B5C-9E2B-46CF-B638-6B2615A0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4FB-EBD6-449D-9FBC-3BB687DA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C4B-D827-48F6-AC65-7D959602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C30-297B-49FB-A19F-B2197995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02C-DE4D-4409-8E03-5D1530E3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E02-89CE-45B2-A626-D1D415CD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2B2-D180-4588-B461-3EB2D702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37C-51BB-471B-8274-C0A30A8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08F5-4100-43D6-B1EB-9A83C5097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49358LYOhlaxbdf_ph" descr=""/>
          <p:cNvPicPr/>
          <p:nvPr/>
        </p:nvPicPr>
        <p:blipFill>
          <a:blip r:embed="rId1"/>
          <a:stretch/>
        </p:blipFill>
        <p:spPr>
          <a:xfrm>
            <a:off x="-190512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0"/>
            <a:ext cx="320040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بيتَ لحمَ لقد سما  قدرٌ لكِ حتى السّ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كِ الإله تَجَسَّما    متأنِّساً من مَري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09911fsnmICxink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10080" y="457200"/>
            <a:ext cx="3429000" cy="60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عنه النبيُّ تكلّمَ  حقاً كما قد أُلهِ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تمَّ فيهِ اليومَ ما   قد قالَه متَرَنِّ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373bYanumaqWZ_ph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380880"/>
            <a:ext cx="312408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ذا ابنُ مريمَ قد ظَهَرْ  ربُّ الملائكِ والبَ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َن رابَهُ شكٌّ كَفَرْ    لا بُدَّ أن يتندَّ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32" descr=""/>
          <p:cNvPicPr/>
          <p:nvPr/>
        </p:nvPicPr>
        <p:blipFill>
          <a:blip r:embed="rId1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04920"/>
            <a:ext cx="350532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وَ مَن به تحيا النفوسْ   أو لاسمِهِ تُحنى الرؤوس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إليهِ قد سَارَ المَجوسْ     والنجمُ كان المُعْلِما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3872129HtdMxB_ph" descr=""/>
          <p:cNvPicPr/>
          <p:nvPr/>
        </p:nvPicPr>
        <p:blipFill>
          <a:blip r:embed="rId2"/>
          <a:stretch/>
        </p:blipFill>
        <p:spPr>
          <a:xfrm>
            <a:off x="0" y="0"/>
            <a:ext cx="5532480" cy="746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7280" y="533520"/>
            <a:ext cx="2895840" cy="10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طفلُ نسألُك الرِّضى    فاغفرْ لنا ما قد مض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ُلطُفْ بنا يوم القضا      وَقِنا عذابَ جُهَّنَّم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04:38Z</dcterms:created>
  <dc:creator>SUZANNE.MD</dc:creator>
  <dc:description/>
  <dc:language>en-US</dc:language>
  <cp:lastModifiedBy>USER</cp:lastModifiedBy>
  <dcterms:modified xsi:type="dcterms:W3CDTF">2002-12-23T20:05:16Z</dcterms:modified>
  <cp:revision>1</cp:revision>
  <dc:subject/>
  <dc:title>PowerPoint Presentation</dc:title>
</cp:coreProperties>
</file>