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5D63-E0FC-4D9B-9D1B-DFBE08831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A172-33C4-4475-ABFF-B74CC10F2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72E2-5878-4289-8943-6AA16A8A6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80F9-6550-4F05-9038-669B77E81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F97D-187C-40A4-878C-5AF679CC0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ADA8-EC2F-41AC-A560-6D4FFEE9C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78AC-E03D-4B86-8612-377D779C8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27EF-6D7B-4F2B-96FA-DC58E234F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6ABF-A958-4474-9E5D-209B07F5C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B624-931E-4ED7-B3BD-564CF217C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DD33-6496-4FF8-AB84-53730A05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58C4-FFAA-41E9-B641-2E6E4737E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0A249-7C76-4D47-8C40-41030CC599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562720" y="304920"/>
            <a:ext cx="3581280" cy="9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معَ مَلاكِ الله جُندُ     لِرُعاةٍ قد ظَهَرْ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حَولَهُ الأملاكُ تَشدو   بخلاصٍ للبشَ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في العُلى لله مَجدُ     وعلى الأَرضِ السّلا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ولَهُ شُكرٌ وحَمدُ       وسُرورٌ للأنا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Image04" descr=""/>
          <p:cNvPicPr/>
          <p:nvPr/>
        </p:nvPicPr>
        <p:blipFill>
          <a:blip r:embed="rId1"/>
          <a:stretch/>
        </p:blipFill>
        <p:spPr>
          <a:xfrm>
            <a:off x="0" y="0"/>
            <a:ext cx="5638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4552750swRhDgjhNH_ph" descr=""/>
          <p:cNvPicPr/>
          <p:nvPr/>
        </p:nvPicPr>
        <p:blipFill>
          <a:blip r:embed="rId1"/>
          <a:stretch/>
        </p:blipFill>
        <p:spPr>
          <a:xfrm>
            <a:off x="0" y="-4680"/>
            <a:ext cx="5334120" cy="6862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486400" y="304920"/>
            <a:ext cx="3657600" cy="105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إسمعوا لحنَ الثّناءِ    من جُنودِ في عُلا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بِقَياثيرِ السماءِ        سَبَّحوا الربَّ الإل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ُلِدَ اليومَ المسيحُ     مضجَعا في المِذود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ُلكُه مُلكٌ صَحيحُ     دائمُ للأبد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ARPO013" descr=""/>
          <p:cNvPicPr/>
          <p:nvPr/>
        </p:nvPicPr>
        <p:blipFill>
          <a:blip r:embed="rId1"/>
          <a:stretch/>
        </p:blipFill>
        <p:spPr>
          <a:xfrm>
            <a:off x="0" y="0"/>
            <a:ext cx="539424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4120" y="228600"/>
            <a:ext cx="3809880" cy="83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تاركاً مجدَ عُلاهُ      وتَرانيمَ الصَّف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أشْرَقَت شمسُ سَناهُ  بِجَناحَيها الشِّف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فهَلُّمي يا برايا        وارفعي صوتَ المَديحْ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هُوَذا الماحي الخطايا ربُّنا الفادي المَسيح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3T09:24:53Z</dcterms:created>
  <dc:creator>SUZANNE.MD</dc:creator>
  <dc:description/>
  <dc:language>en-US</dc:language>
  <cp:lastModifiedBy>USER</cp:lastModifiedBy>
  <dcterms:modified xsi:type="dcterms:W3CDTF">2002-12-23T19:57:54Z</dcterms:modified>
  <cp:revision>3</cp:revision>
  <dc:subject/>
  <dc:title>PowerPoint Presentation</dc:title>
</cp:coreProperties>
</file>