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6A16-4F0E-43B4-8EF8-667F24F8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1EF-F2F8-4171-949C-0553E65E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4BC-7D7F-44ED-BFB9-FCE7A93E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1DF-21D4-4521-82CD-6200C532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7D0-A6F9-4005-B5BB-9963F0EA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F17-0C5B-49EA-BDBF-90216F26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72EC-3A2F-4603-BADF-020E29F6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46D-038A-4A99-9109-E37BCFBA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6AB9-F0BA-4ABA-B7E6-F278C25B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C9F7-967E-4B57-9217-740B7EC1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C182-B9B1-4AB5-A645-1DF0525E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A8B-908B-4AEA-A5F6-05E8EE3B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E101-60D2-4667-8CB8-3E28F35DA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4531821EAeikh_ph" descr=""/>
          <p:cNvPicPr/>
          <p:nvPr/>
        </p:nvPicPr>
        <p:blipFill>
          <a:blip r:embed="rId1"/>
          <a:stretch/>
        </p:blipFill>
        <p:spPr>
          <a:xfrm>
            <a:off x="350532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3200400" cy="74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ذا هو اليومُ السعيد   فلتَفرحِ الشعوب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يه أتى الفادي المجيدْ ليَغفرَ الذُن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5283304ZXGjFr_ph" descr=""/>
          <p:cNvPicPr/>
          <p:nvPr/>
        </p:nvPicPr>
        <p:blipFill>
          <a:blip r:embed="rId1"/>
          <a:stretch/>
        </p:blipFill>
        <p:spPr>
          <a:xfrm>
            <a:off x="0" y="0"/>
            <a:ext cx="5776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7280" y="380880"/>
            <a:ext cx="2895840" cy="63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هذا هو اليوم العظيم   وبهجةُ الأزم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نِلنا به الوَعدَ القديم    بِرحمةِ الرَّحم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5285845lPRFPG_ph" descr=""/>
          <p:cNvPicPr/>
          <p:nvPr/>
        </p:nvPicPr>
        <p:blipFill>
          <a:blip r:embed="rId1"/>
          <a:stretch/>
        </p:blipFill>
        <p:spPr>
          <a:xfrm>
            <a:off x="0" y="0"/>
            <a:ext cx="61149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24480" y="380880"/>
            <a:ext cx="2438640" cy="63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هذا هو اليومُ الذي     وافَت بهِ الأمل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وبَشَّرَت بالمُنقِذِ        في ذُروةِ الأفل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BRSO008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943600" y="380880"/>
            <a:ext cx="2666880" cy="63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هذا هو اليوم المُنير   بالكوكبِ المُشرِق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ه أتَتْ رُسْلُ القَدير  من آخرِ المَشرِق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7055414bIylNY_ph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248520" y="380880"/>
            <a:ext cx="251460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Arabic Transparent"/>
              </a:rPr>
              <a:t>هذا هو اليومُ السَّني  بمولِدِ الربّ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فَسَبِّحوا المَولى الغني تسبيحةَ الحُبِّ</a:t>
            </a:r>
            <a:r>
              <a:rPr b="0" lang="ar-SA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9:44:26Z</dcterms:created>
  <dc:creator>SUZANNE.MD</dc:creator>
  <dc:description/>
  <dc:language>en-US</dc:language>
  <cp:lastModifiedBy>USER</cp:lastModifiedBy>
  <dcterms:modified xsi:type="dcterms:W3CDTF">2002-12-23T20:02:35Z</dcterms:modified>
  <cp:revision>2</cp:revision>
  <dc:subject/>
  <dc:title>PowerPoint Presentation</dc:title>
</cp:coreProperties>
</file>