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C89-F78E-4A73-B860-A034853B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5F4-9DF2-4923-8A71-CFF64D6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68B-D02B-4615-89E9-7CCA3ECC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3E8-2D2F-4176-835F-2B34B559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9AC-C3A0-451F-8AEA-AAC79F39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F32-D42F-4EAC-9B66-7D75AA6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91E-B686-45FA-9187-243D25F0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C5F-E289-46F8-A93D-EA2AF202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928-167B-4E64-BF70-A0A2CB74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87B-1915-49F3-85FE-C66BB8F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0F8-838B-4289-A1CA-60E74B1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D12-9E7E-4D4F-92C0-080CEAF0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A553-104E-496C-BCDF-FCA78B61C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9438947PSFJiw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80880"/>
            <a:ext cx="365760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اح الراعي ونعجاتو     بعز البرد وتلجات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دوا كل بواب الريح     تيدفوا الطفل المس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السما هديت بالعيد      نجما المتجلي من ب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تيبشر بعهد جديد         تيبشر بعهد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328775GuxgbrFGcs_ph" descr=""/>
          <p:cNvPicPr/>
          <p:nvPr/>
        </p:nvPicPr>
        <p:blipFill>
          <a:blip r:embed="rId2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04920"/>
            <a:ext cx="3200400" cy="9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ح تستقبل هالليلة       لمغارة أطهر عي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م وبي وطفل زغير      خلّوا المجد يصير كب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تغيّر وج الزمان        راح العذاب اللي 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نطر عباب الإنسان      ينطر عا باب الإنسان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33:27Z</dcterms:created>
  <dc:creator>SUZANNE.MD</dc:creator>
  <dc:description/>
  <dc:language>en-US</dc:language>
  <cp:lastModifiedBy>USER</cp:lastModifiedBy>
  <dcterms:modified xsi:type="dcterms:W3CDTF">2002-12-19T11:14:55Z</dcterms:modified>
  <cp:revision>3</cp:revision>
  <dc:subject/>
  <dc:title>PowerPoint Presentation</dc:title>
</cp:coreProperties>
</file>