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58F-26F6-4B8C-9708-65EAB9A0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025-FE7C-40AB-BED4-E6CD50A6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280-7B47-4AFB-B580-F8799117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17F-FFEB-4CAE-96F9-6D855D2A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7C7-FF91-434D-9B0B-8CE2654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C52-2919-4678-8FA9-68435D77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1E2-B9CE-4950-9DE0-1AC6EC74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AEB-C5E3-4430-9C5B-53FB3F18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E90-4C20-4A06-9B3C-2324D6E7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943-6FF2-4446-9760-3F2CED4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7A9-36E6-4A95-8372-0D1C4CC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171-EBE2-40C6-998F-5111D2A7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623-6E2F-4743-9140-D36647E3E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75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91320" y="380880"/>
            <a:ext cx="304776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ولود طفلِ صْغير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بكوخ مَنّو كْبير  تْرَكْتِ الغِنَى والدّور    -تْخَليّت عَنْ القصورْ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تْحَلّيْت بِمِذْوَدْ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304920"/>
            <a:ext cx="3048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ْلَيْلة رَعْد وبَردْ         والثَلْج غَطّى الجِرْدْ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رَبِّ السَّما الموعود      -بِأرْضنا مَوْلود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وْضوع بِمِذْوَدْ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1:01:10Z</dcterms:created>
  <dc:creator>USER</dc:creator>
  <dc:description/>
  <dc:language>en-US</dc:language>
  <cp:lastModifiedBy>USER</cp:lastModifiedBy>
  <dcterms:modified xsi:type="dcterms:W3CDTF">2002-11-28T21:01:16Z</dcterms:modified>
  <cp:revision>1</cp:revision>
  <dc:subject/>
  <dc:title>PowerPoint Presentation</dc:title>
</cp:coreProperties>
</file>