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219-9996-4C58-B800-8C4F435D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C7D-109B-4164-B9BF-36ADBFA7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F57-E33B-4120-B589-319CC429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8F5-359D-48EE-88A4-8CD3D7B5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041-2727-4E0B-A497-F22B90C4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499-1D1E-44A1-BFD8-CA9DED0E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643-24FB-4CD2-B8E6-A9EC4675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CB8-52BC-4676-B8BB-D6ECE939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6DA-4CB2-4DE3-B935-8E93CB07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8EA-3705-455A-9FD7-5AA09D72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599-A1B6-40F1-BC30-9BC3CCA3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6A8-B644-48A9-8D0C-A30DEA08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D93D-6158-4EBF-A720-3559E6D80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62720" y="304920"/>
            <a:ext cx="3581280" cy="9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عَ مَلاكِ الله جُندُ     لِرُعاةٍ قد ظَهَر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حَولَهُ الأملاكُ تَشدو   بخلاصٍ للبشَ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 العُلى لله مَجدُ     وعلى الأَرضِ السّل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ولَهُ شُكرٌ وحَمدُ       وسُرورٌ ل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age04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552750swRhDgjhNH_ph" descr=""/>
          <p:cNvPicPr/>
          <p:nvPr/>
        </p:nvPicPr>
        <p:blipFill>
          <a:blip r:embed="rId1"/>
          <a:stretch/>
        </p:blipFill>
        <p:spPr>
          <a:xfrm>
            <a:off x="0" y="-4680"/>
            <a:ext cx="533412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86400" y="304920"/>
            <a:ext cx="3657600" cy="10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سمعوا لحنَ الثّناءِ    من جُنودِ في عُل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ِقَياثيرِ السماءِ        سَبَّحوا الربَّ الإ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ُلِدَ اليومَ المسيحُ     مضجَعا في المِذود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ُلكُه مُلكٌ صَحيحُ     دائمُ للأبد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RPO013" descr=""/>
          <p:cNvPicPr/>
          <p:nvPr/>
        </p:nvPicPr>
        <p:blipFill>
          <a:blip r:embed="rId1"/>
          <a:stretch/>
        </p:blipFill>
        <p:spPr>
          <a:xfrm>
            <a:off x="0" y="0"/>
            <a:ext cx="5394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4120" y="228600"/>
            <a:ext cx="3809880" cy="83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تاركاً مجدَ عُلاهُ      وتَرانيمَ الصَّف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شْرَقَت شمسُ سَناهُ  بِجَناحَيها الشِّف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هَلُّمي يا برايا        وارفعي صوتَ المَديح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هُوَذا الماحي الخطايا ربُّنا الفادي المَسيح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9:24:53Z</dcterms:created>
  <dc:creator>SUZANNE.MD</dc:creator>
  <dc:description/>
  <dc:language>en-US</dc:language>
  <cp:lastModifiedBy>USER</cp:lastModifiedBy>
  <dcterms:modified xsi:type="dcterms:W3CDTF">2002-12-23T19:57:54Z</dcterms:modified>
  <cp:revision>3</cp:revision>
  <dc:subject/>
  <dc:title>PowerPoint Presentation</dc:title>
</cp:coreProperties>
</file>