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3D1A-0C29-4B9F-835E-A256F3EFB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2534-FB06-46F2-819D-F85303FD4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3A84-A5A0-4F51-A00B-720AE43EF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C507-9D4D-4C9F-BF7E-3FB84B09F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CC20-E040-4A6D-8A2F-1EC5641F1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EC41-8921-40BB-BFEB-1D473911F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CE88-3834-4C2E-8B32-7EEE7C6B2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19AB-5EA0-4452-BDE6-06C5DB83A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7E03-7746-4AD5-855F-5394815D0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59C6-0DCF-4594-870C-B9D9EE940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84EF-D9E5-4A09-BFED-C9A50161A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083F-D89D-4DDC-BBB5-90975E17E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9665C-44C5-4234-AB36-1FCA714BA3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24452901UfUnyYzNnC_ph" descr=""/>
          <p:cNvPicPr/>
          <p:nvPr/>
        </p:nvPicPr>
        <p:blipFill>
          <a:blip r:embed="rId1"/>
          <a:stretch/>
        </p:blipFill>
        <p:spPr>
          <a:xfrm>
            <a:off x="0" y="0"/>
            <a:ext cx="76201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7620120" y="1295280"/>
            <a:ext cx="15238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00"/>
                </a:solidFill>
                <a:latin typeface="Times New Roman"/>
                <a:cs typeface="Times New Roman"/>
              </a:rPr>
              <a:t>مبارك مبارك مبارك الآتي باسم الرب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24454551qvfwqABpHO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46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657600" y="4572000"/>
            <a:ext cx="525780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صوتُ منادٍ في البر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عدّوا طريقَ الرب واجعلوا سبُله قويمة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roads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356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4648320"/>
            <a:ext cx="914400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كل وادٍ يُردَم وكل جبلٍ وتلٍّ يُخفض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والطرقُ المنعرِجةَ تُقَوَّم 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الوعرةُ تُسَهّل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42711164FoZXzA_ph" descr=""/>
          <p:cNvPicPr/>
          <p:nvPr/>
        </p:nvPicPr>
        <p:blipFill>
          <a:blip r:embed="rId1"/>
          <a:stretch/>
        </p:blipFill>
        <p:spPr>
          <a:xfrm>
            <a:off x="0" y="0"/>
            <a:ext cx="59436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172200" y="1295280"/>
            <a:ext cx="2666880" cy="39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توبو وآمنوا بالبشار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ألا أثمروا ثمراً جديرا  بالتوبة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1937181zlJvZVnxXi_ph" descr=""/>
          <p:cNvPicPr/>
          <p:nvPr/>
        </p:nvPicPr>
        <p:blipFill>
          <a:blip r:embed="rId1"/>
          <a:stretch/>
        </p:blipFill>
        <p:spPr>
          <a:xfrm>
            <a:off x="0" y="0"/>
            <a:ext cx="592452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019920" y="304920"/>
            <a:ext cx="2743200" cy="48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ccffff"/>
                </a:solidFill>
                <a:latin typeface="Times New Roman"/>
                <a:cs typeface="Times New Roman"/>
              </a:rPr>
              <a:t>وكلُّ بشرٍ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ccffff"/>
                </a:solidFill>
                <a:latin typeface="Times New Roman"/>
                <a:cs typeface="Times New Roman"/>
              </a:rPr>
              <a:t>يرى الخلاصَ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ccffff"/>
                </a:solidFill>
                <a:latin typeface="Times New Roman"/>
                <a:cs typeface="Times New Roman"/>
              </a:rPr>
              <a:t>الآتي م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ccffff"/>
                </a:solidFill>
                <a:latin typeface="Times New Roman"/>
                <a:ea typeface="Times New Roman"/>
              </a:rPr>
              <a:t> لَدُنِ الله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31654765BKdtyzpTbD_ph" descr=""/>
          <p:cNvPicPr/>
          <p:nvPr/>
        </p:nvPicPr>
        <p:blipFill>
          <a:blip r:embed="rId1"/>
          <a:stretch/>
        </p:blipFill>
        <p:spPr>
          <a:xfrm>
            <a:off x="-63360" y="0"/>
            <a:ext cx="616896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172200" y="380880"/>
            <a:ext cx="2971800" cy="73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ccffff"/>
                </a:solidFill>
                <a:latin typeface="Times New Roman"/>
                <a:cs typeface="Arabic Transparent"/>
              </a:rPr>
              <a:t>من كان لديه ثوبان فليقسمهم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ccffff"/>
                </a:solidFill>
                <a:latin typeface="Times New Roman"/>
                <a:cs typeface="Arabic Transparent"/>
              </a:rPr>
              <a:t>بينه وبين من لا ثوبَ ل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ccffff"/>
                </a:solidFill>
                <a:latin typeface="Times New Roman"/>
                <a:cs typeface="Times New Roman"/>
              </a:rPr>
              <a:t>ومن كان لديه طعام فليعمل كذلك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8T09:59:45Z</dcterms:created>
  <dc:creator>SUZANNE.MD</dc:creator>
  <dc:description/>
  <dc:language>en-US</dc:language>
  <cp:lastModifiedBy>SUZANNE.MD</cp:lastModifiedBy>
  <dcterms:modified xsi:type="dcterms:W3CDTF">2002-12-09T06:37:33Z</dcterms:modified>
  <cp:revision>3</cp:revision>
  <dc:subject/>
  <dc:title>PowerPoint Presentation</dc:title>
</cp:coreProperties>
</file>