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924-74C5-4338-A4F0-E3A74294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923-38EC-4987-B845-0C6C0D90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0FC-99B6-44EF-91C6-2CFAC988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482-DEA5-476D-9166-5D2937AF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6AE-01A5-40E2-929A-98D41E45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50F7-8847-4E19-A403-38B66F01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AFA-E8BF-4B94-A29E-8A106416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E78-95A9-4E54-B4A2-A2C63AF5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DB2-767C-476A-9E85-C14DFEC6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5E7-59FA-48C8-B607-217D5B49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68A-FE69-4567-887A-C0F341E9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1E3-DC79-4492-BB32-B2A2F775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0301-7FDC-475F-953A-E4ABFC139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722222cvjsssRhap_ph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33520"/>
            <a:ext cx="8534520" cy="81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مهيّا                                 م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غارة                                     شمس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                                     نورن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ملي                                    وملي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زيارة                                     حرا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79560" descr=""/>
          <p:cNvPicPr/>
          <p:nvPr/>
        </p:nvPicPr>
        <p:blipFill>
          <a:blip r:embed="rId1"/>
          <a:stretch/>
        </p:blipFill>
        <p:spPr>
          <a:xfrm>
            <a:off x="-304920" y="0"/>
            <a:ext cx="664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00800" y="1143000"/>
            <a:ext cx="251460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ضلك طل عليي   لا تكون عني ب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حة وجودك فيي  مثل ليالي الع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7098384zGTmZv_ph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1600200"/>
            <a:ext cx="3352680" cy="54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يامي حلّيها     وضوي هالعتم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فافي روّيها  من أصفى البسم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216836NubwvsYlWk_ph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86600" y="457200"/>
            <a:ext cx="1752480" cy="89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قياس المحبة   نحب بلا مقيا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ليني يا ربي    مثلك حب الناس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0:15:08Z</dcterms:created>
  <dc:creator>SUZANNE.MD</dc:creator>
  <dc:description/>
  <dc:language>en-US</dc:language>
  <cp:lastModifiedBy>SUZANNE.MD</cp:lastModifiedBy>
  <dcterms:modified xsi:type="dcterms:W3CDTF">2002-12-09T06:29:49Z</dcterms:modified>
  <cp:revision>2</cp:revision>
  <dc:subject/>
  <dc:title>PowerPoint Presentation</dc:title>
</cp:coreProperties>
</file>