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5D7-31A8-4FA7-A4B5-A185D22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E0C-A8EE-46EA-8DAB-0783B00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D73-EF13-4EAE-AAE1-E2D1C786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797-88B5-4FA3-A905-B97A2C4A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05E-A05C-4870-9C2F-781BF366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FDC-5050-4FAC-872A-C796040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B45-6365-4A20-AE0C-6816BFE6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E65-925D-4EE4-BD24-57E6B27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426-F512-4C79-BB36-3DC1618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485-835E-467D-A918-08C3534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94E-BF30-46AC-BFA3-8A10818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A50-6CAE-4CF0-9757-7D45B30F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6CD9-7844-4056-B562-902761B5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69617fAeoZnVnqp_ph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كل العالم    هللويا في بيت لحم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مذود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85800"/>
            <a:ext cx="2514600" cy="75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إفرحوا          هللويا وابتهج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تهللوا   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7:49:17Z</dcterms:created>
  <dc:creator>SUZANNE.MD</dc:creator>
  <dc:description/>
  <dc:language>en-US</dc:language>
  <cp:lastModifiedBy>USER</cp:lastModifiedBy>
  <dcterms:modified xsi:type="dcterms:W3CDTF">2002-12-31T13:46:49Z</dcterms:modified>
  <cp:revision>2</cp:revision>
  <dc:subject/>
  <dc:title>PowerPoint Presentation</dc:title>
</cp:coreProperties>
</file>