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697-8DA1-4445-B23F-6C401723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ED0-6626-4960-945C-72068CA5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BB1-0F57-4EE9-A0F2-196CC2B0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19A-7B0C-4B52-A27C-79AF3A815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551-F9A1-4AF2-A35F-5CEC2C56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9F6-CE09-4167-BB56-62991270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A78-701D-477F-B9E3-F05AA849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79D2-1C6C-408C-B80D-22C1AE4A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F0A-89CE-48D3-B647-3D91AEC2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0C3-0421-4BD2-807B-26B0AFE6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DF61-7F72-4782-8497-B84592C0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A2E-3DA5-440D-AEF9-0649D8A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D38F-4B0D-4C63-974B-74CB059F6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3268010NdkkKZEqsF_ph" descr=""/>
          <p:cNvPicPr/>
          <p:nvPr/>
        </p:nvPicPr>
        <p:blipFill>
          <a:blip r:embed="rId1"/>
          <a:stretch/>
        </p:blipFill>
        <p:spPr>
          <a:xfrm>
            <a:off x="-335268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67280" y="304920"/>
            <a:ext cx="3276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اعتمادِكَ يا ربّ في نهرِ الأردن، ظهرَ السجودُ للثالوث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8254350zDFGKi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81680" y="304920"/>
            <a:ext cx="205740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إنَّ صوتَ الآبِ كان يشهدُ لك، مُسَمِّياً إيَّاكَ ابناً محبوباً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56280134MxDDpx_ph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81680" y="457200"/>
            <a:ext cx="2362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لروحُ بهيئةِ حمامة يُؤيِّدُ حقيقةَ الكلمة</a:t>
            </a:r>
            <a:r>
              <a:rPr b="1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31655244OiypAPuOSV_ph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0"/>
            <a:ext cx="19051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يا من ظهرَ وأنارَ العالم، أيها المسيحُ الإلهُ المجدُ لك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9:42:12Z</dcterms:created>
  <dc:creator>SUZANNE.MD</dc:creator>
  <dc:description/>
  <dc:language>en-US</dc:language>
  <cp:lastModifiedBy>USER</cp:lastModifiedBy>
  <dcterms:modified xsi:type="dcterms:W3CDTF">2003-01-07T16:12:32Z</dcterms:modified>
  <cp:revision>3</cp:revision>
  <dc:subject/>
  <dc:title>PowerPoint Presentation</dc:title>
</cp:coreProperties>
</file>