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5D8-BDD5-4390-BC62-5801F4D0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FE4-93B8-4499-948D-6DB126DD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656-E8BF-430E-BB3B-81288384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C50-AA9D-42A1-908C-B8E4F597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EBB-DFA3-4D6C-BDA3-3A7F019B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5988-E50C-4633-9F47-B017DE9C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7C1-C3CB-4ED8-990A-F7705936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DDC-FDD6-4EE9-AAB4-7498E3B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271-B1E9-46E7-8132-5725F85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B81-280B-44CD-90E6-2ADB960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5C7-1158-48E5-A6DB-15E28EE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671-AFE0-46F7-9FB1-261D96F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CD5-C060-432D-8936-0FE51C1D5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30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304920"/>
            <a:ext cx="2971800" cy="9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عاةٌ خبِّرونا  هل جرى أمرٌ غر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خبرونا بشِّرونا  ما هذا السرُّ العج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457200"/>
            <a:ext cx="3429000" cy="78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حَ في أوجِ السماء  نيِّرٌ زاه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سمعنا في العلاءِ    والصدى كان يُعي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1320" y="380880"/>
            <a:ext cx="3124080" cy="9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يتَ لحمَ مَن أَتاكِ   مَن غدا فيكِ مُ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ن به زالَ شَقاكِ   مَن هو المولى العظيم</a:t>
            </a:r>
            <a:r>
              <a:rPr b="0" lang="ar-S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9438873JQfExr_ph" descr="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304920"/>
            <a:ext cx="3124080" cy="9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َعلِموا كلَّ العِبادِ   بَشّروا في العال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أتانا اليومَ فادي فابشِرو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3526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الِقُ الأكوان حلَّ  مذوداً للحي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َهوَ في العُليا تَجلّى  فوقَ عرشٍ من جُ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22:14Z</dcterms:created>
  <dc:creator>SUZANNE.MD</dc:creator>
  <dc:description/>
  <dc:language>en-US</dc:language>
  <cp:lastModifiedBy>USER</cp:lastModifiedBy>
  <dcterms:modified xsi:type="dcterms:W3CDTF">2002-12-30T22:36:21Z</dcterms:modified>
  <cp:revision>3</cp:revision>
  <dc:subject/>
  <dc:title>PowerPoint Presentation</dc:title>
</cp:coreProperties>
</file>