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E44-0047-41F5-9A9A-065121F0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C89-CA57-45E4-963B-2B50558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76D-47F0-4075-8CF0-229F23CF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CC2-E5B9-486C-AC92-2D58CACD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A31-87BD-4BDB-824E-B2592139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840-C12A-4669-BA3E-E0BAE647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FA1-D2CA-447B-A8BB-1CD8567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D89-8D85-4B8D-BFD2-B5324E3F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02D-C1A1-4FBF-93E7-EF928D0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811-5D27-4C38-BE1E-E7EA481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82C-22DA-4A9D-9ED0-E3CA9CE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5CE-A18C-4266-B22C-2B3C63E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A2A-0C67-4E27-A7C6-05296B03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16860_Thumbnail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35268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سقي عطشان كأس ماء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سي عريان ثوب حب  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فكف الدموع في العيون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نفرش القلوب بالرجاء           ن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303917YvwWhKWccB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80880"/>
            <a:ext cx="3505320" cy="9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أقبّل رفيقي دون غش 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تموت فيّ روح الانتقام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يرمّد في قلبي الجفا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تذوب نفسي في كيان الله أ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49:43Z</dcterms:created>
  <dc:creator>SUZANNE.MD</dc:creator>
  <dc:description/>
  <dc:language>en-US</dc:language>
  <cp:lastModifiedBy>USER</cp:lastModifiedBy>
  <dcterms:modified xsi:type="dcterms:W3CDTF">2003-02-08T06:56:21Z</dcterms:modified>
  <cp:revision>4</cp:revision>
  <dc:subject/>
  <dc:title>PowerPoint Presentation</dc:title>
</cp:coreProperties>
</file>