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127-ED26-4B73-A378-AA61F449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4E5-8FCF-4683-A305-8412C12C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069-979D-49F0-AB6B-763C6D21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D5C-57B7-4DC1-A8BA-4354CB8B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F48-24E1-4E1B-B6F4-9EDFE618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6EA-76C1-4ADE-8E5B-229A5575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8B8-E5B1-422D-A59B-11BF0D1B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8D6-62B4-4F1E-BE12-939B68A5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AEC-4F70-49F3-B9F1-146902E1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748-2C7B-47E9-B881-B26CBD34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55A-EEC3-4CF3-821E-CA4DA48E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0F5-49B6-4902-ABB8-8C73F4FF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BCFD-1337-454B-BDC2-323C5CD3E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3369617fAeoZnVnqp_ph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في كل العالم    هللويا في بيت لحم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في مذود        هللويا ولد المسيح (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979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685800"/>
            <a:ext cx="2514600" cy="75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إفرحوا          هللويا وابتهج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تهللوا           هللويا ولد المسيح (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2T07:49:17Z</dcterms:created>
  <dc:creator>SUZANNE.MD</dc:creator>
  <dc:description/>
  <dc:language>en-US</dc:language>
  <cp:lastModifiedBy>USER</cp:lastModifiedBy>
  <dcterms:modified xsi:type="dcterms:W3CDTF">2002-12-31T13:46:49Z</dcterms:modified>
  <cp:revision>2</cp:revision>
  <dc:subject/>
  <dc:title>PowerPoint Presentation</dc:title>
</cp:coreProperties>
</file>