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33A-4D29-4211-8E80-F48C31BD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3165-E231-49B0-B9AE-CBAEDB03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1A4-2645-423A-9166-CB234809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AE8C-48D4-4B35-9BE2-1DFA72B8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A91A-03B8-427B-B08A-0B0C037A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221-789C-4550-9386-6875B3DB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5FF-A6BB-492C-9F2B-2F7E4B3A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9F8-EFEA-4B61-BDBD-B4BA7DF7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C7F-FE9E-411B-8B69-2CA28B92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57E-209B-4740-B5CC-9308A8D4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816-23F9-40ED-A181-AF6CFE56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BD9-063C-47D1-9EA2-D7867C9A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3D8D-7A76-4CC3-AD0B-E5D8C99CA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62720" y="304920"/>
            <a:ext cx="3581280" cy="9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معَ مَلاكِ الله جُندُ     لِرُعاةٍ قد ظَهَر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حَولَهُ الأملاكُ تَشدو   بخلاصٍ للبشَ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في العُلى لله مَجدُ     وعلى الأَرضِ السّل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لَهُ شُكرٌ وحَمدُ       وسُرورٌ ل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Image04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4552750swRhDgjhNH_ph" descr=""/>
          <p:cNvPicPr/>
          <p:nvPr/>
        </p:nvPicPr>
        <p:blipFill>
          <a:blip r:embed="rId1"/>
          <a:stretch/>
        </p:blipFill>
        <p:spPr>
          <a:xfrm>
            <a:off x="0" y="-4680"/>
            <a:ext cx="5334120" cy="686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04920"/>
            <a:ext cx="3657600" cy="105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سمعوا لحنَ الثّناءِ    من جُنودِ في عُلا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ِقَياثيرِ السماءِ        سَبَّحوا الربَّ الإ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ُلِدَ اليومَ المسيحُ     مضجَعا في المِذو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ُلكُه مُلكٌ صَحيحُ     دائمُ للأب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ARPO013" descr=""/>
          <p:cNvPicPr/>
          <p:nvPr/>
        </p:nvPicPr>
        <p:blipFill>
          <a:blip r:embed="rId1"/>
          <a:stretch/>
        </p:blipFill>
        <p:spPr>
          <a:xfrm>
            <a:off x="0" y="0"/>
            <a:ext cx="5394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4120" y="228600"/>
            <a:ext cx="3809880" cy="83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تاركاً مجدَ عُلاهُ      وتَرانيمَ الصَّف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شْرَقَت شمسُ سَناهُ  بِجَناحَيها الشِّف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هَلُّمي يا برايا        وارفعي صوتَ المَديح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هُوَذا الماحي الخطايا ربُّنا الفادي المَسي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24:53Z</dcterms:created>
  <dc:creator>SUZANNE.MD</dc:creator>
  <dc:description/>
  <dc:language>en-US</dc:language>
  <cp:lastModifiedBy>USER</cp:lastModifiedBy>
  <dcterms:modified xsi:type="dcterms:W3CDTF">2002-12-23T19:57:54Z</dcterms:modified>
  <cp:revision>3</cp:revision>
  <dc:subject/>
  <dc:title>PowerPoint Presentation</dc:title>
</cp:coreProperties>
</file>