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D3A-FD18-4510-9503-519EF288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8CC-073B-40E9-A612-2666AC72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0C3-C7DA-4CF1-A9F7-C8987C8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A03-AF89-4C41-965C-23E1B857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52D-F35B-48DF-BB9F-89C0477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2E8-4BBE-4943-A27A-51C8B6A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E6F-2EC0-48FB-A0D8-4931D26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6BD0-DA8B-4FD8-9B9B-A93A7D3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726-9A0E-4992-9A38-86C1D7FA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2DB-3410-404D-8FF9-B03609E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6B7-E7A5-456E-9330-7B6C572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89D-720C-41B0-B46C-D416F589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4FCD-D626-4BE3-A7E0-E5C8FE77C1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5435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َلمجدُ ل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66920" y="14292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360" y="0"/>
            <a:ext cx="5003640" cy="127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ّي أبشركُ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فرحٍ عظ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ُلِدَ لنا مخلّص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و المسيح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الشعبُ السالِكُ في الظُلمَ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933720"/>
            <a:ext cx="5297400" cy="32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أبصَرَ نوراً عظيم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86728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عُمْيُ يُبصِرون والموتى يقومون والأسرى يُطلَقون والمساكينُ يُبشَّر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1:05:11Z</dcterms:created>
  <dc:creator>Charbel Azar</dc:creator>
  <dc:description/>
  <dc:language>en-US</dc:language>
  <cp:lastModifiedBy>ف</cp:lastModifiedBy>
  <dcterms:modified xsi:type="dcterms:W3CDTF">2006-07-11T10:22:57Z</dcterms:modified>
  <cp:revision>4</cp:revision>
  <dc:subject/>
  <dc:title>ألمجد لك</dc:title>
</cp:coreProperties>
</file>