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4EA5-CF85-4E92-8B4E-791409700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ECFD-B09D-44F0-B8B5-185D4A4B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FB68-A0B6-4B4E-B911-66F820738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587F-928C-4161-AA2B-3BF84E0B1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86AC-438C-456C-867A-2675D3F4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B1BF-A8A8-4B15-A519-F261FC28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333B-2926-425A-B324-DCB978DC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4F29-9A28-4A79-9A87-9697071E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2564-3EE3-4C9C-9CB8-463BABE4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A6E8-FBC5-47B5-B525-05384A24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DC15-C6D7-458A-A8A6-1121F957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3B4B-349B-44F2-879B-E6221286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181C-E17A-441D-A879-6DCB1E00F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4452901UfUnyYzNnC_ph" descr=""/>
          <p:cNvPicPr/>
          <p:nvPr/>
        </p:nvPicPr>
        <p:blipFill>
          <a:blip r:embed="rId1"/>
          <a:stretch/>
        </p:blipFill>
        <p:spPr>
          <a:xfrm>
            <a:off x="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20120" y="1295280"/>
            <a:ext cx="15238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مبارك مبارك مبارك الآتي باسم الرب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4454551qvfwqABpHO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6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57600" y="4572000"/>
            <a:ext cx="52578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صوتُ منادٍ في البر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عدّوا طريقَ الرب واجعلوا سبُله قويمة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oad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356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464832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كل وادٍ يُردَم وكل جبلٍ وتلٍّ يُخف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الطرقُ المنعرِجةَ تُقَوَّم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وعرةُ تُسَهّل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42711164FoZXzA_ph" descr=""/>
          <p:cNvPicPr/>
          <p:nvPr/>
        </p:nvPicPr>
        <p:blipFill>
          <a:blip r:embed="rId1"/>
          <a:stretch/>
        </p:blipFill>
        <p:spPr>
          <a:xfrm>
            <a:off x="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72200" y="1295280"/>
            <a:ext cx="266688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وبو وآمنوا بالبشار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لا أثمروا ثمراً جديرا  بالتوب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937181zlJvZVnxXi_ph" descr=""/>
          <p:cNvPicPr/>
          <p:nvPr/>
        </p:nvPicPr>
        <p:blipFill>
          <a:blip r:embed="rId1"/>
          <a:stretch/>
        </p:blipFill>
        <p:spPr>
          <a:xfrm>
            <a:off x="0" y="0"/>
            <a:ext cx="59245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19920" y="304920"/>
            <a:ext cx="2743200" cy="48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ffff"/>
                </a:solidFill>
                <a:latin typeface="Times New Roman"/>
                <a:cs typeface="Times New Roman"/>
              </a:rPr>
              <a:t>وكلُّ بشرٍ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ffff"/>
                </a:solidFill>
                <a:latin typeface="Times New Roman"/>
                <a:cs typeface="Times New Roman"/>
              </a:rPr>
              <a:t>يرى الخلاصَ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ffff"/>
                </a:solidFill>
                <a:latin typeface="Times New Roman"/>
                <a:cs typeface="Times New Roman"/>
              </a:rPr>
              <a:t>الآتي م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 لَدُنِ الل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31654765BKdtyzpTbD_ph" descr=""/>
          <p:cNvPicPr/>
          <p:nvPr/>
        </p:nvPicPr>
        <p:blipFill>
          <a:blip r:embed="rId1"/>
          <a:stretch/>
        </p:blipFill>
        <p:spPr>
          <a:xfrm>
            <a:off x="-63360" y="0"/>
            <a:ext cx="61689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172200" y="380880"/>
            <a:ext cx="2971800" cy="73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ffff"/>
                </a:solidFill>
                <a:latin typeface="Times New Roman"/>
                <a:cs typeface="Arabic Transparent"/>
              </a:rPr>
              <a:t>من كان لديه ثوبان فليقسمهم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ffff"/>
                </a:solidFill>
                <a:latin typeface="Times New Roman"/>
                <a:cs typeface="Arabic Transparent"/>
              </a:rPr>
              <a:t>بينه وبين من لا ثوبَ 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ffff"/>
                </a:solidFill>
                <a:latin typeface="Times New Roman"/>
                <a:cs typeface="Times New Roman"/>
              </a:rPr>
              <a:t>ومن كان لديه طعام فليعمل كذل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8T09:59:45Z</dcterms:created>
  <dc:creator>SUZANNE.MD</dc:creator>
  <dc:description/>
  <dc:language>en-US</dc:language>
  <cp:lastModifiedBy>SUZANNE.MD</cp:lastModifiedBy>
  <dcterms:modified xsi:type="dcterms:W3CDTF">2002-12-09T06:37:33Z</dcterms:modified>
  <cp:revision>3</cp:revision>
  <dc:subject/>
  <dc:title>PowerPoint Presentation</dc:title>
</cp:coreProperties>
</file>