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B86-736B-4948-A1F4-C2D46671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0B3-F927-4CD0-BC96-556D7AC9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9CD-475C-472F-A223-77A4D2AC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032-FF7B-4AAE-A65E-53EBD42F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C9E-1AB9-4391-AAAD-27A15289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165-9453-44D3-ABD8-F843F189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7291-AB17-4176-B0F6-B36E00B5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A66-4A1D-40FB-A633-783D3DB9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A7B-E554-46A9-8FD5-3A273C51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E24-AEB5-4C65-9BF5-B49AC8BF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79E-8DE8-486D-8FEF-B73B24D7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3E3-51C4-41F3-BE1A-B6CB83F5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C40E-588E-48BA-90CC-609981350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330605OqExqIRsdO_ph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24196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وراناتا .. تعا يسوع .. ملّي الدني.. بمجد الس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بيقول الروح.. جاي يسوع.. قرّب العيد..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عرس السم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4894615Rpkjc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791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يت كان في نور ضوى البيت بالميلا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 عمبيقول بحب كثير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جيت للأطفال للمجوس للرعيان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يت كرمال المساكين</a:t>
            </a:r>
            <a:r>
              <a:rPr b="0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330605OqExqIRsdO_ph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24196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وراناتا .. تعا يسوع .. ملّي الدني.. بمجد الس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بيقول الروح.. جاي يسوع.. قرّب العيد..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عرس السم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6:21:01Z</dcterms:created>
  <dc:creator>SUZANNE.MD</dc:creator>
  <dc:description/>
  <dc:language>en-US</dc:language>
  <cp:lastModifiedBy>USER</cp:lastModifiedBy>
  <dcterms:modified xsi:type="dcterms:W3CDTF">2003-02-08T07:40:33Z</dcterms:modified>
  <cp:revision>4</cp:revision>
  <dc:subject/>
  <dc:title>PowerPoint Presentation</dc:title>
</cp:coreProperties>
</file>