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E98-3B6B-40F9-82FA-DD93F7ED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72C-B997-4861-B49B-4D4EDA49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E8C-1A1D-4459-ADED-C4527EDF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5A6-4FB2-42B7-AD33-C0B44967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1CC-6AE4-44EE-81A3-6263459D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9B76-36FA-4890-AC04-51D2D941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7B7-5261-4824-8AC4-6F1F99BA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2BD-9D6E-4D67-8C4E-0385209F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A670-1613-442F-84C0-CF2DFC05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BB2-40D0-4D4F-90CD-96B5181B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148-9DE8-43AD-A130-7EF29685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851-F02E-49F1-BED8-F3D5EC08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9137-3B34-4572-9960-16CDFA062A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000" y="3284280"/>
            <a:ext cx="54356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Arial"/>
                <a:cs typeface="????Boutros Rokaa"/>
              </a:rPr>
              <a:t>أَلمجدُ لك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066920" y="14292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0360" y="0"/>
            <a:ext cx="5003640" cy="127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إنّي أبشركُ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فرحٍ عظي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ُلِدَ لنا مخلّص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هو المسيح</a:t>
            </a:r>
            <a:r>
              <a:rPr b="1" lang="en-US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162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3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الشعبُ السالِكُ في الظُلمَ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3933720"/>
            <a:ext cx="5297400" cy="326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أبصَرَ نوراً عظيما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586728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3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"/>
                <a:cs typeface="Akhbar MT"/>
              </a:rPr>
              <a:t>العُمْيُ يُبصِرون والموتى يقومون والأسرى يُطلَقون والمساكينُ يُبشَّرو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211280" y="189000"/>
            <a:ext cx="4716360" cy="67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لمجدُ لك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يها المسي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بنُ الله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م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جسّدتَ لأجلِنا</a:t>
            </a:r>
            <a:r>
              <a:rPr b="1" lang="ar-SA" sz="8000" spc="-1" strike="noStrike">
                <a:solidFill>
                  <a:srgbClr val="ffffff"/>
                </a:solidFill>
                <a:latin typeface="Arial"/>
                <a:ea typeface="Akhbar M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11:05:11Z</dcterms:created>
  <dc:creator>Charbel Azar</dc:creator>
  <dc:description/>
  <dc:language>en-US</dc:language>
  <cp:lastModifiedBy>ف</cp:lastModifiedBy>
  <dcterms:modified xsi:type="dcterms:W3CDTF">2006-07-11T10:22:57Z</dcterms:modified>
  <cp:revision>4</cp:revision>
  <dc:subject/>
  <dc:title>ألمجد لك</dc:title>
</cp:coreProperties>
</file>