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C896-6056-4782-B5DC-6BBA421E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0EB-EAD7-4569-BD5D-2DE35410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5220-8631-4EFD-8935-E7FA9645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2FA-03E2-4C12-838A-9CE736F6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3B1-9713-4B69-90A1-DCC9A3DD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CBF-6240-4959-AF1F-BACA38C2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733-A6FF-496D-9A9A-74B759B5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449-833A-45A4-AAE9-A68E2FD2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2B5-1570-4331-B639-6590567D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018-8C37-4A5F-9FD3-21D03881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A4F-DD92-434E-900F-9375147E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684-B247-4EC4-BC5F-C22D0BD7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0794-5905-4171-82B2-87DF201A3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5753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753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791320" y="380880"/>
            <a:ext cx="304776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ولود طفلِ صْغير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بكوخ مَنّو كْبير  تْرَكْتِ الغِنَى والدّور    -تْخَليّت عَنْ القصورْ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تْحَلّيْت بِمِذْوَدْ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5282313eoOaTx_ph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67280" y="304920"/>
            <a:ext cx="304812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بْلَيْلة رَعْد وبَردْ         والثَلْج غَطّى الجِرْدْ</a:t>
            </a:r>
            <a:br>
              <a:rPr sz="4000"/>
            </a:b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   رَبِّ السَّما الموعود      -بِأرْضنا مَوْلود</a:t>
            </a:r>
            <a:br>
              <a:rPr sz="4000"/>
            </a:br>
            <a:r>
              <a:rPr b="1" lang="ar-SA" sz="4000" spc="-1" strike="noStrike">
                <a:solidFill>
                  <a:srgbClr val="ccecff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ccecff"/>
                </a:solidFill>
                <a:latin typeface="Times New Roman"/>
                <a:cs typeface="Times New Roman"/>
              </a:rPr>
              <a:t>مَوْضوع بِمِذْوَدْ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acrdhrt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19920" y="304920"/>
            <a:ext cx="289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جايي مْنِ بْعيد  -تْتزورنا  بهالعيد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قلبي إِلَكْ مَفْتُوح   -انتَ حَبيبِ الروح</a:t>
            </a:r>
            <a:br>
              <a:rPr sz="4000"/>
            </a:br>
            <a:r>
              <a:rPr b="1" lang="ar-SA" sz="4000" spc="-1" strike="noStrike">
                <a:solidFill>
                  <a:srgbClr val="ffffcc"/>
                </a:solidFill>
                <a:latin typeface="Times New Roman"/>
                <a:ea typeface="Arabic Transparent"/>
              </a:rPr>
              <a:t>-</a:t>
            </a: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َلبي عْمِلو مِذوَد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21:01:10Z</dcterms:created>
  <dc:creator>USER</dc:creator>
  <dc:description/>
  <dc:language>en-US</dc:language>
  <cp:lastModifiedBy>USER</cp:lastModifiedBy>
  <dcterms:modified xsi:type="dcterms:W3CDTF">2002-11-28T21:01:16Z</dcterms:modified>
  <cp:revision>1</cp:revision>
  <dc:subject/>
  <dc:title>PowerPoint Presentation</dc:title>
</cp:coreProperties>
</file>