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DDF-74FA-44BD-B379-05154D8D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529-FFA5-43C7-B1CC-8C50B58A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A14-2566-4AD2-8347-605FB46D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624-4B55-48B1-92CC-E136C591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AE77-24BD-44DC-B2D4-EC58D1D2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9426-37F8-4F22-907D-19DE198F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DE0C-7B1D-40AA-87A1-1DE50826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2A5C-180B-4751-9877-00C3A0D6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D59-5D32-4295-B992-1B742068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31E9-FC2E-4994-A02F-3B01D674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1944-99F3-4C49-9CC2-8C67DAF3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92AA-797E-4179-890E-604C1EBE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B49B-44AF-48A6-872A-E9725DD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768-04AD-4C62-86D7-5BE7D14B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B8EF-95DB-4CCB-83B4-C6E29481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05A8-E974-4126-94E5-3001A584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A08D-5057-4FFF-A89E-AD8CF65A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2CE7-C000-4257-B378-48AF893C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B96-2BE8-49F3-A3BA-A64B20C9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BFF-DD45-421A-86AF-350DF061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A79-4142-4D60-A3D2-7971552C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D3F-15FF-473A-A63C-BB9B154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777D-4DCF-4614-9627-56AA56BC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033-7A30-4B6E-9868-838CEA03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8587-6C6B-473A-B19A-CCBEB804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C684-835F-4F52-A675-F87A53091714}" type="slidenum">
              <a:rPr b="0" lang="ar-LB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5387760"/>
            <a:ext cx="313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  <a:cs typeface="????Boutros Rokaa"/>
              </a:rPr>
              <a:t>أرسَلَ الل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سعةَ أشهرٍ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ملتْ مري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حامِلِ الأكوان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لم تَحُسَّ منهُ بثقلٍ لأنه إلهٌ وإنس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48000" y="171360"/>
            <a:ext cx="5796000" cy="66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زادَها طُهراً ومكثت بتولاً تُدهِشُ الأذهان قبلَ الميلاد وفيهِ وبعدَه وما دامَ الزم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920" y="1125360"/>
            <a:ext cx="6877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ن القبر شبهَ ضوء لاح لأنهُ اللطيف ذاتاً والبتول أشرف</a:t>
            </a:r>
            <a:br>
              <a:rPr sz="8000"/>
            </a:br>
            <a:r>
              <a:rPr b="1" lang="ar-SA" sz="8000" spc="-1" strike="noStrike">
                <a:solidFill>
                  <a:srgbClr val="000000"/>
                </a:solidFill>
                <a:latin typeface="Arial"/>
                <a:cs typeface="Akhbar MT"/>
              </a:rPr>
              <a:t>مصبا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054160" y="47520"/>
            <a:ext cx="9765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500" spc="-1" strike="noStrike">
                <a:solidFill>
                  <a:srgbClr val="000000"/>
                </a:solidFill>
                <a:latin typeface="Arial"/>
                <a:cs typeface="Akhbar MT"/>
              </a:rPr>
              <a:t>قد بَزَغَ منها كما خرج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لا بالأوجاع ولا حضور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وابل بل بالأفراح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قد وضعَته في نصفِ</a:t>
            </a:r>
            <a:br>
              <a:rPr sz="7200"/>
            </a:br>
            <a:r>
              <a:rPr b="1" lang="ar-SA" sz="7200" spc="-1" strike="noStrike">
                <a:solidFill>
                  <a:srgbClr val="000000"/>
                </a:solidFill>
                <a:latin typeface="Arial"/>
                <a:cs typeface="Akhbar MT"/>
              </a:rPr>
              <a:t>الليل والظلامُ انتزح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ال الحلول تصوَّر كاملاً وجسمُهُ ما ب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تحداً بالنفس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بدُهنٍ الفر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سيحاً انمس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الحلولِ والخروج وسُكناه بأُمِهِ عجيباً اتضح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الطبعُ ابتعد وبان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علُ الروح كم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فراح أوض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رسل الله ابنَهُ الوحيد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نوراً للأُمَم واحتَجَب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ي حشى مريمَ البتول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منها تجسَّ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مجّدك يا مَن ظَهَرَ بأُم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إنساناً يدوم باتحادِ طَبعَينِ ومشيئت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445000"/>
            <a:ext cx="91440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ي وَحدَةِ الأقن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559480"/>
            <a:ext cx="9144000" cy="1298520"/>
          </a:xfrm>
          <a:prstGeom prst="rect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59480"/>
            <a:ext cx="91440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كَ ولوالدِكَ وللروح القد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5594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كرٌ محتو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445000"/>
            <a:ext cx="914400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7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ثلاثةُ أقانيم إلهٌ واحد ليس بمقسوم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300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أشرقَ نجمُهُ في حدودِ فارس كما قالَ بَلعا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أنارَ المَجُوس فحملوا إليهِ هدايا الإكر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48000" y="0"/>
            <a:ext cx="579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عجيباً قويّاً دعاهُ أشَعيا وعنهُ ترنَّم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بأنه يحمِل على مَنكِبَيهِ سُلطانَه العا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720" y="0"/>
            <a:ext cx="48592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قد كانَ كلمة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بل رعدَ أصوات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شبلَ لَيثٍ أعظ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3080" y="393840"/>
            <a:ext cx="84391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أضحى ساكت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وحَمَلاً وديع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ي بطنِ مَريم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ffff"/>
                </a:solidFill>
                <a:latin typeface="Arial"/>
                <a:cs typeface="Akhbar MT"/>
              </a:rPr>
              <a:t>هلل هلل هللونه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َلَجَها غنيّاً مجيداً مهيباً قديراً ديّان واتّلَدَ منها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فقيراً حقير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مُتَّضِعاً مُها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رهَبُ قُربَهُ ملائكةُ السما وعندنا قد بان ود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حليماً سهلَ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لتقا لبني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الانسان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17:55:24Z</dcterms:created>
  <dc:creator>Charbel Azar</dc:creator>
  <dc:description/>
  <dc:language>en-US</dc:language>
  <cp:lastModifiedBy>Charbel Azar</cp:lastModifiedBy>
  <dcterms:modified xsi:type="dcterms:W3CDTF">2002-12-16T11:07:39Z</dcterms:modified>
  <cp:revision>7</cp:revision>
  <dc:subject/>
  <dc:title>Slide 1</dc:title>
</cp:coreProperties>
</file>