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DAD-593C-4B3A-9346-63246273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B72-1F15-4965-AF68-77E77F34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76B-C4BB-4E27-BD5A-9130EEA5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E10-EF3E-4B0D-905F-3BAD2898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BC6-C403-41BD-B73A-5E71FD1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8B4-13EE-4D62-82B7-DD76F14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AD7-89EE-4E94-946C-257D0C5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AA7-AA07-4C3A-94D3-7CC2659D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F16-471A-4157-80C5-26975EA3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459-0B21-4656-BDA8-59312C1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1EC-7CEE-452F-B1CF-94911FD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23A-D6F5-4E42-8543-A519F04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3ABF-AD5A-41E7-949F-EA588C53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4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457200"/>
            <a:ext cx="24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أبشّركم بفرحٍ عظيم وُلِدَ لنا مُخَلِّصٌ وهوَ المسيح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455898PWTKEWSFrh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380880"/>
            <a:ext cx="160020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شعبُ الّسالكُ في الظُّلمة أبصَرَ نوراً عظي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84762EpprHVgXkZ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762120"/>
            <a:ext cx="3886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عُميُ يُبصر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موتى يقوم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أسرى يُطلق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والمساكين يُبَشرون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5:15Z</dcterms:created>
  <dc:creator>SUZANNE.MD</dc:creator>
  <dc:description/>
  <dc:language>en-US</dc:language>
  <cp:lastModifiedBy>USER</cp:lastModifiedBy>
  <dcterms:modified xsi:type="dcterms:W3CDTF">2002-12-19T11:11:06Z</dcterms:modified>
  <cp:revision>3</cp:revision>
  <dc:subject/>
  <dc:title>PowerPoint Presentation</dc:title>
</cp:coreProperties>
</file>