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AD8-E43D-47C7-835E-095CA714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328-316B-4F49-B1F3-7A9A9A4C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CAC-DAC5-494B-BA43-943EFC4B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732-726B-420E-AB8F-851FD615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69BF-2E20-43A3-9C27-D159806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15E-A48B-464F-8488-442CCA2C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9A3-C12C-4485-9184-BEC29B9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412-68B4-4096-8211-E3B86D9D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2B61-3800-4D88-92CB-9FEA83C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098F-2718-4074-AEB2-D8D4BE9F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6351-CCB4-4A9A-B358-6C82D0A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9C4-49CB-4F50-9E63-AA21357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D1D-992E-469C-BF92-6665399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17AA-B171-496B-B9B3-7F93D11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6D9-32E0-45C5-A2C1-002B6EC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8C10-9835-4D8A-9D2A-E901D59F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772A-F0A8-4676-BA85-84113455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1AA-873E-485B-80CB-27F38963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A5B-6575-439F-8D48-F815ED4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D39-0288-42A7-BFC0-C0B10399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720-D58A-489E-9998-8CF679F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315-0936-4A6B-BFF0-EEAE96B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1FF-A5AD-472C-8C5D-E304941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DA6-43BF-42C1-A8B8-9E9F2AD3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8067-4FDD-4728-8AF2-08BB1ACA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0DE-D798-409E-81BF-9751DD5A9DC3}" type="slidenum">
              <a: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877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رسَلَ الل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سعةَ أشهرٍ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ملتْ مر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حامِلِ الأكو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م تَحُسَّ منهُ بثقلٍ لأنه إلهٌ وإنس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171360"/>
            <a:ext cx="5796000" cy="66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زادَها طُهراً ومكثت بتولاً تُدهِشُ الأذهان قبلَ الميلاد وفيهِ وبعدَه وما دامَ الزم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1125360"/>
            <a:ext cx="68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ن القبر شبهَ ضوء لاح لأنهُ اللطيف ذاتاً والبتول أشرف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صب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054160" y="47520"/>
            <a:ext cx="9765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Arial"/>
                <a:cs typeface="Akhbar MT"/>
              </a:rPr>
              <a:t>قد بَزَغَ منها كما خرج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ا بالأوجاع ولا حضو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وابل بل بالأفراح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د وضعَته في نصف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الليل والظلامُ انتزح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ال الحلول تصوَّر كاملاً وجسمُهُ ما ب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تحداً بالنف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دُهنٍ الف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سيحاً انمس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لحلولِ والخروج وسُكناه بأُمِهِ عجيباً اتض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لطبعُ ابتعد وبا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علُ الروح كم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فراح أوض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رسل الله ابنَهُ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نوراً للأُمَم واحتَجَب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شى مريمَ البتول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نها تجسّ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مجّدك يا مَن ظَهَرَ بأُم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إنساناً يدوم باتحادِ طَبعَينِ ومشيئت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45000"/>
            <a:ext cx="9144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ي وَحدَةِ الأقن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كَ ولوالدِكَ وللروح القد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5594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كرٌ محت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45000"/>
            <a:ext cx="9144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ثلاثةُ أقانيم إلهٌ واحد ليس بمقس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شرقَ نجمُهُ في حدودِ فارس كما قالَ بَلع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نارَ المَجُوس فحملوا إليهِ هدايا الإكر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جيباً قويّاً دعاهُ أشَعيا وعنهُ ترنَّ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أنه يحمِل على مَنكِبَيهِ سُلطانَه الع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قد كانَ كلمة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بل رعدَ أصوات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شبلَ لَيثٍ أعظ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3080" y="393840"/>
            <a:ext cx="8439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أضحى ساكت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حَمَلاً وديع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ي بطنِ مَريم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لَجَها غنيّاً مجيداً مهيباً قديراً ديّان واتّلَدَ منه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قيراً حق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ُتَّضِعاً مُه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هَبُ قُربَهُ ملائكةُ السما وعندنا قد بان ود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ليماً سهل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لتقا لبن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نس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55:24Z</dcterms:created>
  <dc:creator>Charbel Azar</dc:creator>
  <dc:description/>
  <dc:language>en-US</dc:language>
  <cp:lastModifiedBy>Charbel Azar</cp:lastModifiedBy>
  <dcterms:modified xsi:type="dcterms:W3CDTF">2002-12-16T11:07:39Z</dcterms:modified>
  <cp:revision>7</cp:revision>
  <dc:subject/>
  <dc:title>Slide 1</dc:title>
</cp:coreProperties>
</file>