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2CE-DF7E-4B7D-985E-25F9A1AA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28F-89D2-4AE2-930C-010B73D9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58C-3F10-4172-8689-07ABF2F7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D2F-AB08-48C6-A64C-0259A70D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E25-755C-4285-A457-74BF2D1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0CE-18C9-4E1E-B767-12530601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92E-C046-4008-9287-4CD375C1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0FF-857F-4E50-A230-9A8678D1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C44-98A2-4787-B874-8673090C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A98-E84A-4E0A-9549-D6B37CD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E3C-4BAE-43BA-A78E-45F35AC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04C-B78C-4CE7-A21C-51F67B68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99AE-E625-4266-9081-CF598F41D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4531821EAeikh_ph" descr=""/>
          <p:cNvPicPr/>
          <p:nvPr/>
        </p:nvPicPr>
        <p:blipFill>
          <a:blip r:embed="rId1"/>
          <a:stretch/>
        </p:blipFill>
        <p:spPr>
          <a:xfrm>
            <a:off x="35053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320040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ا هو اليومُ السعيد   فلتَفرحِ الشعو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ه أتى الفادي المجيدْ ليَغفرَ الذُن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5283304ZXGjFr_ph" descr=""/>
          <p:cNvPicPr/>
          <p:nvPr/>
        </p:nvPicPr>
        <p:blipFill>
          <a:blip r:embed="rId1"/>
          <a:stretch/>
        </p:blipFill>
        <p:spPr>
          <a:xfrm>
            <a:off x="0" y="0"/>
            <a:ext cx="577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380880"/>
            <a:ext cx="28958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هذا هو اليوم العظيم   وبهجةُ الأز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نِلنا به الوَعدَ القديم    بِرحمةِ الرَّحم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5845lPRFPG_ph" descr=""/>
          <p:cNvPicPr/>
          <p:nvPr/>
        </p:nvPicPr>
        <p:blipFill>
          <a:blip r:embed="rId1"/>
          <a:stretch/>
        </p:blipFill>
        <p:spPr>
          <a:xfrm>
            <a:off x="0" y="0"/>
            <a:ext cx="6114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80880"/>
            <a:ext cx="24386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ُ الذي     وافَت بهِ الأم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بَشَّرَت بالمُنقِذِ        في ذُروةِ الأفل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08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80880"/>
            <a:ext cx="266688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 المُنير   بالكوكبِ المُشرِق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ه أتَتْ رُسْلُ القَدير  من آخرِ المَشرِق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7055414bIylNY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248520" y="380880"/>
            <a:ext cx="25146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Arabic Transparent"/>
              </a:rPr>
              <a:t>هذا هو اليومُ السَّني  بمولِدِ الربّ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فَسَبِّحوا المَولى الغني تسبيحةَ الحُبِّ</a:t>
            </a:r>
            <a:r>
              <a:rPr b="0" lang="ar-SA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44:26Z</dcterms:created>
  <dc:creator>SUZANNE.MD</dc:creator>
  <dc:description/>
  <dc:language>en-US</dc:language>
  <cp:lastModifiedBy>USER</cp:lastModifiedBy>
  <dcterms:modified xsi:type="dcterms:W3CDTF">2002-12-23T20:02:35Z</dcterms:modified>
  <cp:revision>2</cp:revision>
  <dc:subject/>
  <dc:title>PowerPoint Presentation</dc:title>
</cp:coreProperties>
</file>