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D9C7-5904-4D92-AF6E-38C6DF2DD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89D5-03B0-4544-A750-A164F0760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DCB8-73B4-43E2-A571-82B373598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AD62-7BF2-43F5-A784-E33F76415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A4F5-DCB7-4EB3-8FB6-BC96D9D2E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CFCF-23B4-4593-995F-5F559EEE3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D45A-3751-491F-9E11-CE4227D54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BE14-3A38-49CC-97FE-649E672DC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73E3-C8EF-423E-8547-8CD75FA81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7493-F7AA-435F-9A51-0CB6AC3D6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45A9-2FAF-4304-B9D5-F7C868850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F987-A106-4D61-A079-9C39636E8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24C00-6A29-40A0-A058-17BCEA7DB1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23268010NdkkKZEqsF_ph" descr=""/>
          <p:cNvPicPr/>
          <p:nvPr/>
        </p:nvPicPr>
        <p:blipFill>
          <a:blip r:embed="rId1"/>
          <a:stretch/>
        </p:blipFill>
        <p:spPr>
          <a:xfrm>
            <a:off x="-3352680" y="0"/>
            <a:ext cx="90676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867280" y="304920"/>
            <a:ext cx="327672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باعتمادِكَ يا ربّ في نهرِ الأردن، ظهرَ السجودُ للثالوث</a:t>
            </a:r>
            <a:r>
              <a:rPr b="1" lang="ar-SA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38254350zDFGKi_ph" descr=""/>
          <p:cNvPicPr/>
          <p:nvPr/>
        </p:nvPicPr>
        <p:blipFill>
          <a:blip r:embed="rId1"/>
          <a:stretch/>
        </p:blipFill>
        <p:spPr>
          <a:xfrm>
            <a:off x="0" y="0"/>
            <a:ext cx="678168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781680" y="304920"/>
            <a:ext cx="2057400" cy="81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فإنَّ صوتَ الآبِ كان يشهدُ لك، مُسَمِّياً إيَّاكَ ابناً محبوباً.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56280134MxDDpx_ph" descr=""/>
          <p:cNvPicPr/>
          <p:nvPr/>
        </p:nvPicPr>
        <p:blipFill>
          <a:blip r:embed="rId1"/>
          <a:stretch/>
        </p:blipFill>
        <p:spPr>
          <a:xfrm>
            <a:off x="0" y="0"/>
            <a:ext cx="647712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781680" y="457200"/>
            <a:ext cx="23623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الروحُ بهيئةِ حمامة يُؤيِّدُ حقيقةَ الكلمة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0" lang="ar-SA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31655244OiypAPuOSV_ph" descr=""/>
          <p:cNvPicPr/>
          <p:nvPr/>
        </p:nvPicPr>
        <p:blipFill>
          <a:blip r:embed="rId1"/>
          <a:stretch/>
        </p:blipFill>
        <p:spPr>
          <a:xfrm>
            <a:off x="0" y="0"/>
            <a:ext cx="670572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858000" y="0"/>
            <a:ext cx="1905120" cy="81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فيا من ظهرَ وأنارَ العالم، أيها المسيحُ الإلهُ المجدُ لك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7T09:42:12Z</dcterms:created>
  <dc:creator>SUZANNE.MD</dc:creator>
  <dc:description/>
  <dc:language>en-US</dc:language>
  <cp:lastModifiedBy>USER</cp:lastModifiedBy>
  <dcterms:modified xsi:type="dcterms:W3CDTF">2003-01-07T16:12:32Z</dcterms:modified>
  <cp:revision>3</cp:revision>
  <dc:subject/>
  <dc:title>PowerPoint Presentation</dc:title>
</cp:coreProperties>
</file>