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C75B-31CD-4E1B-A003-4FFAF10D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CD6D-28FE-433F-A383-98DB8155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32D-DB08-49F9-B246-D0BF374BA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2CD-692A-4D18-B9AF-CCBE8EC0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C79-7E75-40AB-88CE-E932A13A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07F-8BEF-456D-8B00-37148B79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4983-8B93-4311-9A9A-6CFF98CA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32FD-A3AF-4C1E-85C8-BFD8BED0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328-695D-44A7-8982-722BC6E7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46B0-57A6-41CE-B1D1-936D6DE3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519-0B37-473A-8ACC-3A0F6755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7E7-7A1D-4866-9E9F-AA8FEF09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6828-978B-48CD-AB28-802A07B38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5285910uJXydd_ph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في هذا العيد  المجدُ قد تعالى والنورُ قد تَلالا</a:t>
            </a:r>
            <a:r>
              <a:rPr b="1" lang="en-US" sz="4000" spc="-1" strike="noStrike">
                <a:solidFill>
                  <a:srgbClr val="ffcc00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جاء المسيح</a:t>
            </a:r>
            <a:r>
              <a:rPr b="1" lang="en-US" sz="4000" spc="-1" strike="noStrike">
                <a:solidFill>
                  <a:srgbClr val="ffcc00"/>
                </a:solidFill>
                <a:latin typeface="Arabic Transparent"/>
              </a:rPr>
              <a:t>  </a:t>
            </a:r>
            <a:r>
              <a:rPr b="1" lang="ar-SA" sz="4000" spc="-1" strike="noStrike">
                <a:solidFill>
                  <a:srgbClr val="ffcc00"/>
                </a:solidFill>
                <a:latin typeface="Arabic Transparent"/>
              </a:rPr>
              <a:t>هذا المسيحُ المُنتَظَر  مَن حُبُّهُ عمَّ أفرادَ البَشَرْقد سَرّنا هذا الخَبَر   بُشرى لنا فالقلبُ أضحى مُستري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BRSO017" descr=""/>
          <p:cNvPicPr/>
          <p:nvPr/>
        </p:nvPicPr>
        <p:blipFill>
          <a:blip r:embed="rId1"/>
          <a:stretch/>
        </p:blipFill>
        <p:spPr>
          <a:xfrm>
            <a:off x="-54000" y="0"/>
            <a:ext cx="5540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0"/>
            <a:ext cx="3276720" cy="91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 هذا العيد ملائكُ السَّماءِ  في قُبَّةِ الفضاء قد أَنشدو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لله مجدٌ في العُلى  والسِّلمُ في الأَرضين قد عمَّ المَل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الحَقُّ أن نُهَلِّلا  مع زُمرةِ الأملاكِ فيما مجَّدوا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5282313eoOaTx_ph" descr=""/>
          <p:cNvPicPr/>
          <p:nvPr/>
        </p:nvPicPr>
        <p:blipFill>
          <a:blip r:embed="rId1"/>
          <a:stretch/>
        </p:blipFill>
        <p:spPr>
          <a:xfrm>
            <a:off x="0" y="0"/>
            <a:ext cx="43815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24280" y="457200"/>
            <a:ext cx="4419720" cy="74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ي هذا العيد قد تمَّتِ الوعودُ وجاءَنا الموعودُ فادي العبا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يُعطي الوَرى روحَ السلام  والحبَّ والّلطفَ الذي يُحيي ا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يَنفي من الأرضِ الظَّلام إذ نورُهُ يمتَدُّ في كلِّ البلا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5283597fvnSvW_ph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62720" y="0"/>
            <a:ext cx="3581280" cy="10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في هذا العيد تبتهجُ القلوبُ وتفرحُ الشعوبُ بالمُفْتَدي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يا أيها الطفلُ الحبيبْ  نفسي بِمَرأى وجهِكَ الزَّاهي تطي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ُن ساكنَ القلبَ الرَّحيبْ  كي أُولَدَ اليومَ بهذا المَولِدِ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هللويا جاء المسيح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10:23:03Z</dcterms:created>
  <dc:creator>SUZANNE.MD</dc:creator>
  <dc:description/>
  <dc:language>en-US</dc:language>
  <cp:lastModifiedBy>USER</cp:lastModifiedBy>
  <dcterms:modified xsi:type="dcterms:W3CDTF">2002-12-23T19:55:57Z</dcterms:modified>
  <cp:revision>2</cp:revision>
  <dc:subject/>
  <dc:title>PowerPoint Presentation</dc:title>
</cp:coreProperties>
</file>