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02E-A9C4-4614-A4AB-1C26D78A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7C8-8ED8-4BDA-ADD6-F9C81731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EE49-27FE-49E3-B749-E21F8E5B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7C2-1385-46CA-A976-404F3267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9F78-3E97-475A-8161-97396189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80C-CB77-42B8-A4A2-6704874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81F-F5CC-45FB-8FC3-5C847904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582F-628A-4498-A3FF-CBB79DA7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D0A-BA91-4889-987B-0E98FF1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D54-6F25-48FC-AF0E-A28AF0BD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E27-BB00-4F6C-9CC3-6A1F035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687-B836-4189-B9B7-92CCFEBE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B9E3-0CD3-48EE-81A2-DA3D01E66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5285910uJXydd_ph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0"/>
            <a:ext cx="8458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أشيدوا النشيدَ وأوفوا العهودَ </a:t>
            </a:r>
            <a:r>
              <a:rPr b="1" lang="en-US" sz="4000" spc="-1" strike="noStrike">
                <a:solidFill>
                  <a:srgbClr val="ffcc66"/>
                </a:solidFill>
                <a:latin typeface="Arabic Transparent"/>
              </a:rPr>
              <a:t> </a:t>
            </a:r>
            <a:r>
              <a:rPr b="1" lang="ar-SA" sz="4000" spc="-1" strike="noStrike">
                <a:solidFill>
                  <a:srgbClr val="ffcc66"/>
                </a:solidFill>
                <a:latin typeface="Arabic Transparent"/>
              </a:rPr>
              <a:t>وأدّوا السجودَ    لفادي الأن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49166422xbudrJ_ph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181480" y="990720"/>
            <a:ext cx="358164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إلـهُ قـديـرُ              مليكٌ نصير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ربُّ كبيرٌ                  جليلُ المق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477120" y="38088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49166082tqnbVx_ph" descr=""/>
          <p:cNvPicPr/>
          <p:nvPr/>
        </p:nvPicPr>
        <p:blipFill>
          <a:blip r:embed="rId1"/>
          <a:stretch/>
        </p:blipFill>
        <p:spPr>
          <a:xfrm>
            <a:off x="-441360" y="0"/>
            <a:ext cx="57722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86400" y="533520"/>
            <a:ext cx="3276720" cy="42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طفلٍ صغيرٍ                وضيعٍ فقير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مهدٍ حقيرٍ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دا للأن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172200" y="1219320"/>
            <a:ext cx="259092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رجاءُ الشعوبِ              عزاءُ القلوب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60033"/>
                </a:solidFill>
                <a:latin typeface="Times New Roman"/>
                <a:cs typeface="Arabic Transparent"/>
              </a:rPr>
              <a:t>بحُب عجيبٍ                 حبانا المَر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9165259ULsfis_ph" descr=""/>
          <p:cNvPicPr/>
          <p:nvPr/>
        </p:nvPicPr>
        <p:blipFill>
          <a:blip r:embed="rId1"/>
          <a:stretch/>
        </p:blipFill>
        <p:spPr>
          <a:xfrm>
            <a:off x="0" y="0"/>
            <a:ext cx="6353280" cy="685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48520" y="0"/>
            <a:ext cx="28954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ea typeface="Arabic Transparent"/>
              </a:rPr>
              <a:t>(لازمة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في بيتَ لحمَ  تَرَوْنَ المسيح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لموا نسجد له            هلموا نسجد 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هلموا نسجد معاً           لفـادي الأنـ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017" descr=""/>
          <p:cNvPicPr/>
          <p:nvPr/>
        </p:nvPicPr>
        <p:blipFill>
          <a:blip r:embed="rId1"/>
          <a:stretch/>
        </p:blipFill>
        <p:spPr>
          <a:xfrm>
            <a:off x="0" y="0"/>
            <a:ext cx="6572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705720" y="1828800"/>
            <a:ext cx="243828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أيا أمَّ فادي                 جميعَ العِباد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بيومِ المَعادِ                 هَبينا السلام</a:t>
            </a:r>
            <a:r>
              <a:rPr b="0" lang="ar-SA" sz="40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9:19Z</dcterms:created>
  <dc:creator>SUZANNE.MD</dc:creator>
  <dc:description/>
  <dc:language>en-US</dc:language>
  <cp:lastModifiedBy>USER</cp:lastModifiedBy>
  <dcterms:modified xsi:type="dcterms:W3CDTF">2002-12-23T19:46:58Z</dcterms:modified>
  <cp:revision>2</cp:revision>
  <dc:subject/>
  <dc:title>PowerPoint Presentation</dc:title>
</cp:coreProperties>
</file>