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BC6-9ED9-462E-89C5-DCB25387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01B-638A-4FDA-99BF-5790925A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70B-6D3B-48E7-8EA7-F983F7B1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8A4-762D-4B22-A1CC-ADA8BF4C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C4B-C221-4033-8306-29FB959A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364-74A7-4EED-9127-F360EE0F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9B3-F3B6-4B7A-BF07-178AD2AF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CDB-CB9A-472A-9BFD-35EE14AF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F16-DC9D-4DFE-B08E-6167D084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32C-AE0C-4D5C-AF64-F7D99A50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AF3-C594-4F17-BD09-F1521DEA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BA0-B719-42F5-9972-91F842E6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9759-CF03-476F-8B39-53B5AA3F7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5285910uJXydd_ph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0"/>
            <a:ext cx="8458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Arabic Transparent"/>
              </a:rPr>
              <a:t>أشيدوا النشيدَ وأوفوا العهودَ </a:t>
            </a:r>
            <a:r>
              <a:rPr b="1" lang="en-US" sz="4000" spc="-1" strike="noStrike">
                <a:solidFill>
                  <a:srgbClr val="ffcc66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ffcc66"/>
                </a:solidFill>
                <a:latin typeface="Arabic Transparent"/>
              </a:rPr>
              <a:t>وأدّوا السجودَ    لفادي ا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9166422xbudrJ_ph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81480" y="990720"/>
            <a:ext cx="358164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لـهُ قـديـرُ              مليكٌ نصير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وربُّ كبيرٌ                  جليلُ المق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77120" y="3808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49166082tqnbVx_ph" descr=""/>
          <p:cNvPicPr/>
          <p:nvPr/>
        </p:nvPicPr>
        <p:blipFill>
          <a:blip r:embed="rId1"/>
          <a:stretch/>
        </p:blipFill>
        <p:spPr>
          <a:xfrm>
            <a:off x="-441360" y="0"/>
            <a:ext cx="57722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86400" y="533520"/>
            <a:ext cx="327672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طفلٍ صغيرٍ                وضيعٍ فقير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مهدٍ حقيرٍ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دا للأن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1219320"/>
            <a:ext cx="2590920" cy="74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Times New Roman"/>
                <a:cs typeface="Arabic Transparent"/>
              </a:rPr>
              <a:t>رجاءُ الشعوبِ              عزاءُ القلوب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Times New Roman"/>
                <a:cs typeface="Arabic Transparent"/>
              </a:rPr>
              <a:t>بحُب عجيبٍ                 حبانا المَر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017" descr=""/>
          <p:cNvPicPr/>
          <p:nvPr/>
        </p:nvPicPr>
        <p:blipFill>
          <a:blip r:embed="rId1"/>
          <a:stretch/>
        </p:blipFill>
        <p:spPr>
          <a:xfrm>
            <a:off x="0" y="0"/>
            <a:ext cx="6572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705720" y="1828800"/>
            <a:ext cx="243828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أيا أمَّ فادي                 جميعَ العِباد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بيومِ المَعادِ                 هَبينا السلام</a:t>
            </a:r>
            <a:r>
              <a:rPr b="0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7:59:19Z</dcterms:created>
  <dc:creator>SUZANNE.MD</dc:creator>
  <dc:description/>
  <dc:language>en-US</dc:language>
  <cp:lastModifiedBy>USER</cp:lastModifiedBy>
  <dcterms:modified xsi:type="dcterms:W3CDTF">2002-12-23T19:46:58Z</dcterms:modified>
  <cp:revision>2</cp:revision>
  <dc:subject/>
  <dc:title>PowerPoint Presentation</dc:title>
</cp:coreProperties>
</file>