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670-3E83-42CA-9768-2F247112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3F1-0827-477B-B3E4-47714B6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E66-F0E7-49A6-8FA5-E802E10A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33C-2FA1-4348-BC36-34CFA20E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790-B5E4-4124-B070-D9F5D94C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24D-3529-4538-8978-54B82C04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65F-24C9-4C1B-9840-C54D164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2B8-1E52-46A4-8B56-FD1E276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9B6-2506-46F9-BB16-8DAA5AE4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F09-3C53-477C-B5A4-601D0C5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97C-8075-4376-BD26-12C5E2F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2FA-ED6E-42CC-ABF4-15100A9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206-3A09-4960-A319-19B935124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رعاةً خبرون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 رأى مولى الا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خالِقُ الكونِ السَّّني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غيرَ تبنٍ للم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اعتبر ذا يا غن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خَفْ بَلْ كُنْ شج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لْتَمِسْ منهُ السَّماح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خْتَرِ العذرا شف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ضْحِ من أهلِ الصَّلاح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يا رعاةً خب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ل جرى أمرٌ غريب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خبّرونا بش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يف ذا السرُّ العجي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أتاكِ ب‍يتَ لحمَ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غدا فيكِ مقيم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ذ خَلَعْتِ كُلَّ هَمٍ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هو ال‍مولى العظي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أَعلِ‍موا كلَّ العبادِ بشّروا في العال‍مين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قد أتانا اليومَ فادي فاهتِفوا يا مؤمن‍ي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008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ذوَداً بيتاً ح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للمُقامِ انتَخب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رامَ أن يُضحي ف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ُهمَلاً مُنتَحِب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5:15Z</dcterms:created>
  <dc:creator>Charbel Azar</dc:creator>
  <dc:description/>
  <dc:language>en-US</dc:language>
  <cp:lastModifiedBy>Charbel Azar</cp:lastModifiedBy>
  <dcterms:modified xsi:type="dcterms:W3CDTF">2002-12-16T11:29:05Z</dcterms:modified>
  <cp:revision>6</cp:revision>
  <dc:subject/>
  <dc:title>يا رعاة خبّرونا هل جرى أمرٌ غريب خبّرونا بشّرونا ما ذا السرُّ العجيب ال‍مجـد لله في العلى          Gloria In Exelcis Deo</dc:title>
</cp:coreProperties>
</file>