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187-7B84-4E97-A70D-261D3EAB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92D-AFA0-49F6-9EF6-9FABE5A8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E1E-B8F4-4E72-A6A8-43C4AE12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17C-80B5-4BE8-B8CE-D489F766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379-C2FA-4FF9-8437-58BE632C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5242-B655-4924-A7D6-BC2189F5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CE1-03EA-412A-87D1-67D073EF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CFA-300C-43BB-87FA-4E9AECE1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E73-07D9-452A-B161-7BBDF97A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B88-DFEC-4BD0-BD08-7C98863A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2D5-5CBD-410A-A0C2-AD40B74C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79A-815D-4F1B-93BB-0D1E47A6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D503-3E29-4346-B56A-882490DEA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452901UfUnyYzNnC_ph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0120" y="129528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مبارك مبارك مبارك الآتي باسم الر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4551qvfwqABpH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7600" y="4572000"/>
            <a:ext cx="5257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صوتُ منادٍ في البر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دّوا طريقَ الرب واجعلوا سبُله قويم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ad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5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64832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كل وادٍ يُردَم وكل جبلٍ وتلٍّ يُخف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طرقُ المنعرِجةَ تُقَوَّم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وعرةُ تُسَهّ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2711164FoZXzA_ph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1295280"/>
            <a:ext cx="266688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وبو وآمنوا بالبشا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لا أثمروا ثمراً جديرا  بالتوب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937181zlJvZVnxXi_ph" descr=""/>
          <p:cNvPicPr/>
          <p:nvPr/>
        </p:nvPicPr>
        <p:blipFill>
          <a:blip r:embed="rId1"/>
          <a:stretch/>
        </p:blipFill>
        <p:spPr>
          <a:xfrm>
            <a:off x="0" y="0"/>
            <a:ext cx="5924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304920"/>
            <a:ext cx="274320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وكلُّ بشرٍ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يرى الخلاص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الآتي م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لَدُنِ ال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654765BKdtyzpTbD_ph" descr=""/>
          <p:cNvPicPr/>
          <p:nvPr/>
        </p:nvPicPr>
        <p:blipFill>
          <a:blip r:embed="rId1"/>
          <a:stretch/>
        </p:blipFill>
        <p:spPr>
          <a:xfrm>
            <a:off x="-63360" y="0"/>
            <a:ext cx="61689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380880"/>
            <a:ext cx="2971800" cy="73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من كان لديه ثوبان فليقسمهم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بينه وبين من لا ثوبَ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ومن كان لديه طعام فليعمل كذ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09:59:45Z</dcterms:created>
  <dc:creator>SUZANNE.MD</dc:creator>
  <dc:description/>
  <dc:language>en-US</dc:language>
  <cp:lastModifiedBy>SUZANNE.MD</cp:lastModifiedBy>
  <dcterms:modified xsi:type="dcterms:W3CDTF">2002-12-09T06:37:33Z</dcterms:modified>
  <cp:revision>3</cp:revision>
  <dc:subject/>
  <dc:title>PowerPoint Presentation</dc:title>
</cp:coreProperties>
</file>