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3B1-E0DA-4F73-B77C-A6A6569C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999-105C-4CB6-BB8E-777541A8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B22-E8D1-4FA1-9018-2267C145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034-8688-4BB4-845B-92409440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75C-086A-4B6B-AA9D-BADCD6A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A95-7B6A-4B0C-81C0-2691F263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1CA-8182-4D3D-8490-378B7667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9EF-B2C1-4A3C-B25E-88C312AF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295-8868-4BC3-BE5A-557EA9FF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BF0-B291-4802-88A3-4581B3C5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9049-323C-4306-9AB4-CCD5DC90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B2C-5AAD-4B28-A80E-23FEF6F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C9FE-7EBD-4A1F-8A8C-B11DEC99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531821EAeikh_ph" descr=""/>
          <p:cNvPicPr/>
          <p:nvPr/>
        </p:nvPicPr>
        <p:blipFill>
          <a:blip r:embed="rId1"/>
          <a:stretch/>
        </p:blipFill>
        <p:spPr>
          <a:xfrm>
            <a:off x="350532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80880"/>
            <a:ext cx="3200400" cy="74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هذا هو اليومُ السعيد   فلتَفرحِ الشعو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يه أتى الفادي المجيدْ ليَغفرَ الذُن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5283304ZXGjFr_ph" descr=""/>
          <p:cNvPicPr/>
          <p:nvPr/>
        </p:nvPicPr>
        <p:blipFill>
          <a:blip r:embed="rId1"/>
          <a:stretch/>
        </p:blipFill>
        <p:spPr>
          <a:xfrm>
            <a:off x="0" y="0"/>
            <a:ext cx="57769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67280" y="380880"/>
            <a:ext cx="28958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هذا هو اليوم العظيم   وبهجةُ الأزما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نِلنا به الوَعدَ القديم    بِرحمةِ الرَّحم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5285845lPRFPG_ph" descr=""/>
          <p:cNvPicPr/>
          <p:nvPr/>
        </p:nvPicPr>
        <p:blipFill>
          <a:blip r:embed="rId1"/>
          <a:stretch/>
        </p:blipFill>
        <p:spPr>
          <a:xfrm>
            <a:off x="0" y="0"/>
            <a:ext cx="61149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80880"/>
            <a:ext cx="243864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ُ الذي     وافَت بهِ الأملا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وبَشَّرَت بالمُنقِذِ        في ذُروةِ الأفلا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BRSO008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80880"/>
            <a:ext cx="266688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ذا هو اليوم المُنير   بالكوكبِ المُشرِق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فيه أتَتْ رُسْلُ القَدير  من آخرِ المَشرِق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7055414bIylNY_ph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248520" y="380880"/>
            <a:ext cx="251460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Arabic Transparent"/>
              </a:rPr>
              <a:t>هذا هو اليومُ السَّني  بمولِدِ الربّ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Times New Roman"/>
                <a:cs typeface="Times New Roman"/>
              </a:rPr>
              <a:t>فَسَبِّحوا المَولى الغني تسبيحةَ الحُبِّ</a:t>
            </a:r>
            <a:r>
              <a:rPr b="0" lang="ar-SA" sz="4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9:44:26Z</dcterms:created>
  <dc:creator>SUZANNE.MD</dc:creator>
  <dc:description/>
  <dc:language>en-US</dc:language>
  <cp:lastModifiedBy>USER</cp:lastModifiedBy>
  <dcterms:modified xsi:type="dcterms:W3CDTF">2002-12-23T20:02:35Z</dcterms:modified>
  <cp:revision>2</cp:revision>
  <dc:subject/>
  <dc:title>PowerPoint Presentation</dc:title>
</cp:coreProperties>
</file>