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334-D740-4405-8B10-A18AD015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E59-A3BD-4680-B485-B1725C04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0F9-5911-4E2E-8E4C-855B168D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B2E-3EF4-472E-8C43-81C9A583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C29-CE67-4383-ADEB-EB28AAF8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4D8-052A-4EF3-8308-3D7A89A4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B47-DE73-4727-B9B2-60989D55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3D8-BE06-4DDE-BD06-283CE367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EEB-58E2-4355-A003-AFDCEE22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D91-87FE-4155-B7E9-82FA0977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0E2-64E8-46CD-98F1-14EFBD9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619-EB07-4012-A6F1-F4D6982A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04EA-7B0A-4F6B-91C5-6529CD1FC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84635MkzJLmQBtT_ph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91320" y="304920"/>
            <a:ext cx="3047760" cy="86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رن صوتٌ في الأعالي يا تُرى ماذا الخب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لم الأملاك تشدو بترانيم الظف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كلهم في المجد غنى بأناشيد السر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بدا أمر عجيب، رحمة الله الغفو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8854PUJPRwcavG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228600"/>
            <a:ext cx="3048120" cy="9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يها الرعاة هبوا وانظروا الرب المج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نه قد صار طفلاً باتضاع كالعب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جدوه هللويا مجدوه في الع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جدوه هللويا إنه فادي الم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457200"/>
            <a:ext cx="3276360" cy="89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فعلى الأرض سلام وسرور للبش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إذ أتى الفادي المنجي والمسيح المنتظ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فليرن الصوت دوماً مع قياثر الذه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هللويا قد فدانا ولنا البرّ وَه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18:52Z</dcterms:created>
  <dc:creator>SUZANNE.MD</dc:creator>
  <dc:description/>
  <dc:language>en-US</dc:language>
  <cp:lastModifiedBy>USER</cp:lastModifiedBy>
  <dcterms:modified xsi:type="dcterms:W3CDTF">2002-12-19T11:12:11Z</dcterms:modified>
  <cp:revision>1</cp:revision>
  <dc:subject/>
  <dc:title>PowerPoint Presentation</dc:title>
</cp:coreProperties>
</file>