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2375-B943-4C62-8608-611CFB6B7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2432-DD11-4D51-9326-11A9C724A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4474-D06F-462E-8A6B-3B28D9432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997C-CE8B-41E5-AC2A-0EDE0FDE7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E20E-18BE-4CA0-A0B3-095FE533B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42BE-C358-408E-9FA5-9F020BF43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2106-D593-48F6-8F67-4D30C5F1D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517B-0D6D-46E8-95F3-554784DA4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7D1A-FDEC-4794-ADC2-72FDC115E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F7A9-CDE5-4417-ACF3-0DFA4830A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4F9B-9544-43EC-AB60-4DF3D74BE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564F-038C-402B-AB54-9700CD4D5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07B88-6048-4B3F-BBD8-DF2CA019257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3141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500" spc="-1" strike="noStrike">
                <a:solidFill>
                  <a:srgbClr val="ffffff"/>
                </a:solidFill>
                <a:latin typeface="Arial"/>
                <a:cs typeface="????Boutros Rokaa"/>
              </a:rPr>
              <a:t>الوعد تحقق</a:t>
            </a:r>
            <a:endParaRPr b="0" lang="en-US" sz="1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541440" y="-27000"/>
            <a:ext cx="91440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140000"/>
              </a:lnSpc>
              <a:spcBef>
                <a:spcPts val="2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Arial"/>
                <a:cs typeface="Akhbar MT"/>
              </a:rPr>
              <a:t>الوعد تحقّق طفل زغير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Arial"/>
                <a:cs typeface="Akhbar MT"/>
              </a:rPr>
              <a:t>يجدّد قلب الختياره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Arial"/>
                <a:cs typeface="Akhbar MT"/>
              </a:rPr>
              <a:t>بقلبو في ندر كبير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Arial"/>
                <a:cs typeface="Akhbar MT"/>
              </a:rPr>
              <a:t>يحمل للأرض بشاره</a:t>
            </a:r>
            <a:br>
              <a:rPr sz="8200"/>
            </a:b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-1730520" y="1886040"/>
            <a:ext cx="13236840" cy="366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Arial"/>
                <a:cs typeface="Akhbar MT"/>
              </a:rPr>
              <a:t>المجد لإسمَك ربّ الكون</a:t>
            </a:r>
            <a:br>
              <a:rPr sz="9000"/>
            </a:br>
            <a:r>
              <a:rPr b="1" lang="ar-SA" sz="9000" spc="-1" strike="noStrike">
                <a:solidFill>
                  <a:srgbClr val="ffffff"/>
                </a:solidFill>
                <a:latin typeface="Arial"/>
                <a:cs typeface="Akhbar MT"/>
              </a:rPr>
              <a:t>وحدَك ساكن بمغاره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541440" y="-27000"/>
            <a:ext cx="91440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140000"/>
              </a:lnSpc>
              <a:spcBef>
                <a:spcPts val="2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Arial"/>
                <a:cs typeface="Akhbar MT"/>
              </a:rPr>
              <a:t>مين يفرّحلي قلب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Arial"/>
                <a:cs typeface="Akhbar MT"/>
              </a:rPr>
              <a:t>بهديّه سماويّه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Arial"/>
                <a:cs typeface="Akhbar MT"/>
              </a:rPr>
              <a:t>نعمة حبَّك يا ربّي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Arial"/>
                <a:cs typeface="Akhbar MT"/>
              </a:rPr>
              <a:t>عطيتني أحلى هديّه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1730520" y="1886040"/>
            <a:ext cx="13236840" cy="366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Arial"/>
                <a:cs typeface="Akhbar MT"/>
              </a:rPr>
              <a:t>المجد لإسمَك ربّ الكون</a:t>
            </a:r>
            <a:br>
              <a:rPr sz="9000"/>
            </a:br>
            <a:r>
              <a:rPr b="1" lang="ar-SA" sz="9000" spc="-1" strike="noStrike">
                <a:solidFill>
                  <a:srgbClr val="ffffff"/>
                </a:solidFill>
                <a:latin typeface="Arial"/>
                <a:cs typeface="Akhbar MT"/>
              </a:rPr>
              <a:t>وحدَك ساكن بمغاره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68360" y="-27000"/>
            <a:ext cx="91440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140000"/>
              </a:lnSpc>
              <a:spcBef>
                <a:spcPts val="2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ffffff"/>
                </a:solidFill>
                <a:latin typeface="Arial"/>
                <a:cs typeface="Akhbar MT"/>
              </a:rPr>
              <a:t>طفل زغيَّر بيناديك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Arial"/>
                <a:cs typeface="Akhbar MT"/>
              </a:rPr>
              <a:t>جايي من بعدي يسوع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Arial"/>
                <a:cs typeface="Akhbar MT"/>
              </a:rPr>
              <a:t>على طريقو يهديك</a:t>
            </a:r>
            <a:br>
              <a:rPr sz="8200"/>
            </a:br>
            <a:r>
              <a:rPr b="1" lang="ar-SA" sz="8200" spc="-1" strike="noStrike">
                <a:solidFill>
                  <a:srgbClr val="ffffff"/>
                </a:solidFill>
                <a:latin typeface="Arial"/>
                <a:cs typeface="Akhbar MT"/>
              </a:rPr>
              <a:t>ويمسح عن عينيك الدّموع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1803600" y="1886040"/>
            <a:ext cx="13236840" cy="366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ffffff"/>
                </a:solidFill>
                <a:latin typeface="Arial"/>
                <a:cs typeface="Akhbar MT"/>
              </a:rPr>
              <a:t>المجد لإسمَك ربّ الكون</a:t>
            </a:r>
            <a:br>
              <a:rPr sz="9000"/>
            </a:br>
            <a:r>
              <a:rPr b="1" lang="ar-SA" sz="9000" spc="-1" strike="noStrike">
                <a:solidFill>
                  <a:srgbClr val="ffffff"/>
                </a:solidFill>
                <a:latin typeface="Arial"/>
                <a:cs typeface="Akhbar MT"/>
              </a:rPr>
              <a:t>وحدَك ساكن بمغاره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30T09:08:25Z</dcterms:created>
  <dc:creator>Charbel Azar</dc:creator>
  <dc:description/>
  <dc:language>en-US</dc:language>
  <cp:lastModifiedBy>-</cp:lastModifiedBy>
  <dcterms:modified xsi:type="dcterms:W3CDTF">2003-01-15T09:00:24Z</dcterms:modified>
  <cp:revision>9</cp:revision>
  <dc:subject/>
  <dc:title>Slide 1</dc:title>
</cp:coreProperties>
</file>