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CF8B-3C84-4323-850F-DC31CD4CF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B3CC-2CA4-41E5-9E6C-8A30310F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3CFF-4367-4E91-A050-9E41DC04A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B0B6-25AA-4328-92BB-9D86D972E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F7B9-C484-4375-A9E6-67415EE9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B952-9FB8-4183-ACD9-97E09726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0098-BAA2-48C5-87D7-084EAB63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E864-4E1D-413F-89C4-4F5A4832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2FFF-A8B3-424A-9982-38104D57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208D-9F9A-48D5-A0F3-8D122B21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F72A-A27C-4919-9601-8D4EAFA1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83BE-0193-4104-959E-42405BFA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C8BD-6945-4FB9-B217-2479E3790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1722222cvjsssRhap_ph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533520"/>
            <a:ext cx="8534520" cy="81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لبي مهيّا                                 م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غارة                                     شمس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بي                                      نورني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عملي                                    وملي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زيارة                                     حرار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0079560" descr=""/>
          <p:cNvPicPr/>
          <p:nvPr/>
        </p:nvPicPr>
        <p:blipFill>
          <a:blip r:embed="rId1"/>
          <a:stretch/>
        </p:blipFill>
        <p:spPr>
          <a:xfrm>
            <a:off x="-304920" y="0"/>
            <a:ext cx="66484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400800" y="1143000"/>
            <a:ext cx="2514600" cy="57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ضلك طل عليي   لا تكون عني بعي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فرحة وجودك فيي  مثل ليالي العي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7098384zGTmZv_ph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62720" y="1600200"/>
            <a:ext cx="3352680" cy="54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يامي حلّيها     وضوي هالعتم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شفافي روّيها  من أصفى البسمات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216836NubwvsYlWk_ph" descr=""/>
          <p:cNvPicPr/>
          <p:nvPr/>
        </p:nvPicPr>
        <p:blipFill>
          <a:blip r:embed="rId1"/>
          <a:stretch/>
        </p:blipFill>
        <p:spPr>
          <a:xfrm>
            <a:off x="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086600" y="457200"/>
            <a:ext cx="1752480" cy="89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قياس المحبة   نحب بلا مقيا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خليني يا ربي    مثلك حب الناس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8T10:15:08Z</dcterms:created>
  <dc:creator>SUZANNE.MD</dc:creator>
  <dc:description/>
  <dc:language>en-US</dc:language>
  <cp:lastModifiedBy>SUZANNE.MD</cp:lastModifiedBy>
  <dcterms:modified xsi:type="dcterms:W3CDTF">2002-12-09T06:29:49Z</dcterms:modified>
  <cp:revision>2</cp:revision>
  <dc:subject/>
  <dc:title>PowerPoint Presentation</dc:title>
</cp:coreProperties>
</file>