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406-5DB7-4A17-8205-16FB442E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0DE-A7B8-46A9-B59E-0013F34D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305-6384-4A49-B426-DA673859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720-BFD0-4EA2-8E26-E7144B2E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F7BB-1F6A-4B1E-85E5-C574DB45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315-F93A-4A13-96FC-5849123D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2A7-8982-43AF-A435-C91AFEAA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9C63-15A0-4F7B-8507-D4C017F5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8B9-9C92-44CB-ADF4-82AB9D6F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1DA-F695-472F-9DEE-6771869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1F3-CCFF-4E30-8A48-03A29CEB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78C-74DD-415F-9D5A-C447462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5D8E-946B-4750-84F0-A10970A46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722222cvjsssRhap_ph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8534520" cy="81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لبي مهيّا                                 م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غارة                                     شمس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ربي                                      نورن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عملي                                    وملي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زيارة                                     حرار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0079560" descr=""/>
          <p:cNvPicPr/>
          <p:nvPr/>
        </p:nvPicPr>
        <p:blipFill>
          <a:blip r:embed="rId1"/>
          <a:stretch/>
        </p:blipFill>
        <p:spPr>
          <a:xfrm>
            <a:off x="-304920" y="0"/>
            <a:ext cx="664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400800" y="1143000"/>
            <a:ext cx="2514600" cy="57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ضلك طل عليي   لا تكون عني ب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فرحة وجودك فيي  مثل ليالي الع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7098384zGTmZv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1600200"/>
            <a:ext cx="3352680" cy="54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إيامي حلّيها     وضوي هالعتم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شفافي روّيها  من أصفى البس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216836NubwvsYlWk_ph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457200"/>
            <a:ext cx="1752480" cy="89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قياس المحبة   نحب بلا مقيا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خليني يا ربي    مثلك حب الناس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8T10:15:08Z</dcterms:created>
  <dc:creator>SUZANNE.MD</dc:creator>
  <dc:description/>
  <dc:language>en-US</dc:language>
  <cp:lastModifiedBy>SUZANNE.MD</cp:lastModifiedBy>
  <dcterms:modified xsi:type="dcterms:W3CDTF">2002-12-09T06:29:49Z</dcterms:modified>
  <cp:revision>2</cp:revision>
  <dc:subject/>
  <dc:title>PowerPoint Presentation</dc:title>
</cp:coreProperties>
</file>