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CF74-0FBE-4A69-860C-EC92A55DB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797D-43C1-4580-A4CC-52617356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1271-07E3-4B22-B3AD-A45BFD0B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F9D2-630A-45C9-83B7-0E5E1DD6C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C1AA-EFD2-4C27-9C95-DD0B8127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ED01-0DCF-46C8-A82F-7E4E114D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AE38-9183-425A-94F4-CDE8F675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9C1E-FF49-4365-82D7-6C8B8A15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B890-7965-4425-BFBD-4229B95C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1271-1A96-475A-8955-632A824C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039F-92A7-4043-A4DE-26181BD2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F7D2-0ED6-404E-96E4-6E151013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CD2B-703E-40E9-83B4-0A08F7E2079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08000" y="3284280"/>
            <a:ext cx="543564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Arial"/>
                <a:cs typeface="????Boutros Rokaa"/>
              </a:rPr>
              <a:t>أَلمجدُ لك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066920" y="142920"/>
            <a:ext cx="4716360" cy="674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لمجدُ لك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يها المسي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بنُ الله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م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جسّدتَ لأجلِنا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140360" y="0"/>
            <a:ext cx="5003640" cy="127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نّي أبشركُم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فرحٍ عظيم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ُلِدَ لنا مخلّص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هو المسيح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211280" y="189000"/>
            <a:ext cx="4716360" cy="674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لمجدُ لك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يها المسي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بنُ الله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م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جسّدتَ لأجلِنا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0" y="4005360"/>
            <a:ext cx="9144000" cy="162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3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الشعبُ السالِكُ في الظُلمَ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79640" y="3933720"/>
            <a:ext cx="5297400" cy="326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 أبصَرَ نوراً عظيما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211280" y="189000"/>
            <a:ext cx="4716360" cy="674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لمجدُ لك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يها المسي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بنُ الله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م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جسّدتَ لأجلِنا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5867280" cy="674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3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عُمْيُ يُبصِرون والموتى يقومون والأسرى يُطلَقون والمساكينُ يُبشَّرو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211280" y="189000"/>
            <a:ext cx="4716360" cy="674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لمجدُ لك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يها المسي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بنُ الله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م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جسّدتَ لأجلِنا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11:05:11Z</dcterms:created>
  <dc:creator>Charbel Azar</dc:creator>
  <dc:description/>
  <dc:language>en-US</dc:language>
  <cp:lastModifiedBy>ف</cp:lastModifiedBy>
  <dcterms:modified xsi:type="dcterms:W3CDTF">2006-07-11T10:22:57Z</dcterms:modified>
  <cp:revision>4</cp:revision>
  <dc:subject/>
  <dc:title>ألمجد لك</dc:title>
</cp:coreProperties>
</file>