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789F-3EB4-48A5-B111-2C4D7A6E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B224-4E6C-4FC0-84C0-E22D92DB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7F9-03FD-4A0C-8B51-DD7B27A6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684-AFAA-4305-A2D3-3989280F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CD5-C195-41DB-A59F-960E852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505-4D62-442F-AAA9-02C61781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05B-8198-49D6-8FB9-619AEBBA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7F8-B5FA-4CC1-8D75-CA086D2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4CC-696D-44BD-B6E8-0E12D05E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566-DD72-4F5E-9BDB-DA694886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126-B57B-4455-A485-7F017AE3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AC9-68A7-462F-AB9C-293C2062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6FB6-0364-47CF-9573-234E76251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24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05720" y="457200"/>
            <a:ext cx="2438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إني أبشّركم بفرحٍ عظيم وُلِدَ لنا مُخَلِّصٌ وهوَ المسيح</a:t>
            </a:r>
            <a:r>
              <a:rPr b="0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4455898PWTKEWSFrh_ph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086600" y="380880"/>
            <a:ext cx="1600200" cy="77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شعبُ الّسالكُ في الظُّلمة أبصَرَ نوراً عظيما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4984762EpprHVgXkZ_ph" descr="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57800" y="762120"/>
            <a:ext cx="38862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عُميُ يُبصر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موتى يقومو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والأسرى يُطلقو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والمساكين يُبَشرون</a:t>
            </a:r>
            <a:r>
              <a:rPr b="0" lang="ar-SA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49165259ULsfis_ph" descr=""/>
          <p:cNvPicPr/>
          <p:nvPr/>
        </p:nvPicPr>
        <p:blipFill>
          <a:blip r:embed="rId1"/>
          <a:stretch/>
        </p:blipFill>
        <p:spPr>
          <a:xfrm>
            <a:off x="-685800" y="0"/>
            <a:ext cx="7039080" cy="685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324480" y="304920"/>
            <a:ext cx="23623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Arabic Transparent"/>
              </a:rPr>
              <a:t>المجد لك أيها المسيحُ إبنُ الل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يا مَن تجسدت لأجلنا،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المجدُ لكَ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0:25:15Z</dcterms:created>
  <dc:creator>SUZANNE.MD</dc:creator>
  <dc:description/>
  <dc:language>en-US</dc:language>
  <cp:lastModifiedBy>USER</cp:lastModifiedBy>
  <dcterms:modified xsi:type="dcterms:W3CDTF">2002-12-19T11:11:06Z</dcterms:modified>
  <cp:revision>3</cp:revision>
  <dc:subject/>
  <dc:title>PowerPoint Presentation</dc:title>
</cp:coreProperties>
</file>