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CE87-662D-49B7-9A37-E05480D00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5E0F-5FD5-453D-A896-561E9FA7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604D-B647-495B-B302-4A326B9A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9680-675F-4A7C-95F8-C66FF63BB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467B-A31E-4975-8E70-E03FB3A9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29AF-A5FE-4AE9-830B-693C3840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5CAD-C675-4156-978F-28BEAAC4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CA19-2006-49A3-8BFE-1397322C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EBCD-A1D4-4218-B588-27644AAE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8B3A-1759-484A-8280-8CD35244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C91A-241D-4344-85B6-FD137A22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F24E-A962-48CF-BC0E-FECE2CCB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BBAA-9994-456B-AB91-D32E11C18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1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738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02920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ليلة الميلاد يمحى البغض    ليلة الميلاد تزهر الأر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ليلة الميلاد تدفن الحرب     ليلة الميلاد ينبت الحب</a:t>
            </a:r>
            <a:r>
              <a:rPr b="0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0016860_Thumbnail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3568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352680"/>
            <a:ext cx="8763120" cy="57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ندما نسقي عطشان كأس ماء     نكون في الميلا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ندما نكسي عريان ثوب حب       نكون في الميلا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ندما نكفكف الدموع في العيون    نكون في الميلا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ندما نفرش القلوب بالرجاء           نكون في الميلا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1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738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02920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ليلة الميلاد يمحى البغض    ليلة الميلاد تزهر الأر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ليلة الميلاد تدفن الحرب     ليلة الميلاد ينبت الحب</a:t>
            </a:r>
            <a:r>
              <a:rPr b="0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1303917YvwWhKWccB_ph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638680" y="380880"/>
            <a:ext cx="3505320" cy="96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ندما أقبّل رفيقي دون غش  أكون في الميلا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ندما تموت فيّ روح الانتقام أكون في الميلا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عندما يرمّد في قلبي الجفا أكون في الميلا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ندما تذوب نفسي في كيان الله أكون في الميلا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10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738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502920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ليلة الميلاد يمحى البغض    ليلة الميلاد تزهر الأر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ليلة الميلاد تدفن الحرب     ليلة الميلاد ينبت الحب</a:t>
            </a:r>
            <a:r>
              <a:rPr b="0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09:49:43Z</dcterms:created>
  <dc:creator>SUZANNE.MD</dc:creator>
  <dc:description/>
  <dc:language>en-US</dc:language>
  <cp:lastModifiedBy>USER</cp:lastModifiedBy>
  <dcterms:modified xsi:type="dcterms:W3CDTF">2003-02-08T06:56:21Z</dcterms:modified>
  <cp:revision>4</cp:revision>
  <dc:subject/>
  <dc:title>PowerPoint Presentation</dc:title>
</cp:coreProperties>
</file>