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9B1-5098-4FAF-80FA-D5FFCE99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CCD-484C-4DD2-84E9-7FB350F5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8C9-7645-4377-9A01-B68CC42C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1A6-CF3C-4649-8506-F1C5C19B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DB6-5B46-46CA-ABE8-3E175AF5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E80-3945-45E2-BD4E-C154EE4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DE5-C60F-4989-840E-56B7FC5B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EB6-6BC1-4DE4-8017-6926321F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A7C5-A37C-430D-A515-40EDE457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8E2-0240-46FE-A4AF-F0404008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654-B40B-49AA-B753-302CE1D7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E44-BCD1-4F96-9C3E-C0C4EF28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D2C-A528-4A25-AEA1-7868C9CEB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9438947PSFJiw_ph" descr="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3657600" cy="9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اح الراعي ونعجاتو     بعز البرد وتلجات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دوا كل بواب الريح     تيدفوا الطفل المسي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السما هديت بالعيد      نجما المتجلي من بع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تيبشر بعهد جديد         تيبشر بعهد جدي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328775GuxgbrFGcs_ph" descr=""/>
          <p:cNvPicPr/>
          <p:nvPr/>
        </p:nvPicPr>
        <p:blipFill>
          <a:blip r:embed="rId2"/>
          <a:stretch/>
        </p:blipFill>
        <p:spPr>
          <a:xfrm>
            <a:off x="0" y="0"/>
            <a:ext cx="5877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943600" y="304920"/>
            <a:ext cx="3200400" cy="9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رح تستقبل هالليلة       لمغارة أطهر عي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أم وبي وطفل زغير      خلّوا المجد يصير كب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وتغيّر وج الزمان        راح العذاب اللي كا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ينطر عباب الإنسان      ينطر عا باب الإنسان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4552750swRhDgjhNH_ph" descr=""/>
          <p:cNvPicPr/>
          <p:nvPr/>
        </p:nvPicPr>
        <p:blipFill>
          <a:blip r:embed="rId1"/>
          <a:stretch/>
        </p:blipFill>
        <p:spPr>
          <a:xfrm>
            <a:off x="-10666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457200"/>
            <a:ext cx="2895480" cy="9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abic Transparent"/>
              </a:rPr>
              <a:t>هالليلة مشعشع نورا كل الدنيي مسحورا بمولود جديد زغير بميلادو الكون تغير ضوت شموع الزوار حتى صار الليل نهار بلش عالأرض  المشوار   بلش عالأرض المش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09:33:27Z</dcterms:created>
  <dc:creator>SUZANNE.MD</dc:creator>
  <dc:description/>
  <dc:language>en-US</dc:language>
  <cp:lastModifiedBy>USER</cp:lastModifiedBy>
  <dcterms:modified xsi:type="dcterms:W3CDTF">2002-12-19T11:14:55Z</dcterms:modified>
  <cp:revision>3</cp:revision>
  <dc:subject/>
  <dc:title>PowerPoint Presentation</dc:title>
</cp:coreProperties>
</file>