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2D9-D237-46E9-9DA3-DC171C1C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FA5-2A2C-4746-AB8F-790B29B3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541F-A3AE-42ED-9256-5DBD9AD9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91F-ACBE-434B-B0F0-444F9ECB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B0B-01F9-469B-9301-1BEA67E3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5709-A883-45B1-BE37-A3F1BB4C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400-043C-41EE-ABE1-469C5134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C70-B22A-451B-BD2B-9CAEAA8B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3DE-708D-421C-AF8B-6E89F7EB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5B5-8AE9-49C4-8196-73BD5C45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5F5-2F0E-4F08-998E-98871EC6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84E-0B9E-4B13-9C45-33DBBFBD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3A9F-758D-4260-9CF1-95980636B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1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38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292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يلة الميلاد يمحى البغض    ليلة الميلاد تزهر الأ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لة الميلاد تدفن الحرب     ليلة الميلاد ينبت الحب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0016860_Thumbnail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356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352680"/>
            <a:ext cx="87631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نسقي عطشان كأس ماء     نكون في الميل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نكسي عريان ثوب حب       نكون في الميل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نكفكف الدموع في العيون    نكون في الميل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ما نفرش القلوب بالرجاء           نكون في الميلا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1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38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0292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يلة الميلاد يمحى البغض    ليلة الميلاد تزهر الأ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لة الميلاد تدفن الحرب     ليلة الميلاد ينبت الحب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1303917YvwWhKWccB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8680" y="380880"/>
            <a:ext cx="3505320" cy="9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أقبّل رفيقي دون غش  أكون في الميل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تموت فيّ روح الانتقام أكون في الميل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يرمّد في قلبي الجفا أكون في الميل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ما تذوب نفسي في كيان الله أكون في الميلا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1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38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0292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يلة الميلاد يمحى البغض    ليلة الميلاد تزهر الأ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لة الميلاد تدفن الحرب     ليلة الميلاد ينبت الحب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09:49:43Z</dcterms:created>
  <dc:creator>SUZANNE.MD</dc:creator>
  <dc:description/>
  <dc:language>en-US</dc:language>
  <cp:lastModifiedBy>USER</cp:lastModifiedBy>
  <dcterms:modified xsi:type="dcterms:W3CDTF">2003-02-08T06:56:21Z</dcterms:modified>
  <cp:revision>4</cp:revision>
  <dc:subject/>
  <dc:title>PowerPoint Presentation</dc:title>
</cp:coreProperties>
</file>