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FE6-7CF0-40F9-BD0A-06626489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D43-885D-4600-AFB9-24394F88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7D3-9C49-46D2-A896-6AF7DB39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634-BF18-4027-9152-5EA31AE9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1D8-58C3-4597-95BE-AEB79730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933-4141-4666-A441-0A683B62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980-FABD-4A4D-82FC-99F44A4B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FC1-5CC6-404A-8485-9AE12096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34B-DF72-4480-A4A2-780C8940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577-8257-47EC-974A-9190BC6A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9D9-8709-4686-95D9-877EEDCA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036-8B73-405A-9D5B-CCC82F27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98E6-BCFF-4265-9B8C-EDD0C6920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84635MkzJLmQBtT_ph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91320" y="304920"/>
            <a:ext cx="3047760" cy="86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رن صوتٌ في الأعالي يا تُرى ماذا الخب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لم الأملاك تشدو بترانيم الظف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كلهم في المجد غنى بأناشيد السر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بدا أمر عجيب، رحمة الله الغفو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8854PUJPRwcavG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228600"/>
            <a:ext cx="3048120" cy="9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يها الرعاة هبوا وانظروا الرب المج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نه قد صار طفلاً باتضاع كالعب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جدوه هللويا مجدوه في الع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جدوه هللويا إنه فادي الم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457200"/>
            <a:ext cx="3276360" cy="89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فعلى الأرض سلام وسرور للبش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إذ أتى الفادي المنجي والمسيح المنتظ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فليرن الصوت دوماً مع قياثر الذه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هللويا قد فدانا ولنا البرّ وَه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18:52Z</dcterms:created>
  <dc:creator>SUZANNE.MD</dc:creator>
  <dc:description/>
  <dc:language>en-US</dc:language>
  <cp:lastModifiedBy>USER</cp:lastModifiedBy>
  <dcterms:modified xsi:type="dcterms:W3CDTF">2002-12-19T11:12:11Z</dcterms:modified>
  <cp:revision>1</cp:revision>
  <dc:subject/>
  <dc:title>PowerPoint Presentation</dc:title>
</cp:coreProperties>
</file>