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21C-86E2-4FCA-86C8-38EFBAF5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D9F-4DAA-48AD-9E8B-9C5BCAD4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11C-6657-4A28-97DC-63AB01D5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B1B-845E-48BB-88F4-BFC74FE1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DEC-0E45-40DC-9923-377C6F80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43B-C26E-46A0-B597-494D2351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012-11BA-4A6A-AB1B-25704BD4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B96-E575-4B1C-8F81-6F512602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3DD-C917-43D1-B624-C07D8F4D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1D5-A67D-46AC-9656-248AFC67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B74-D8F8-4D60-9B1B-7C73EE2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387-47BC-40B9-919A-A92B8C36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7C27-5E4C-4CA3-93F1-F53E62D02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5910uJXydd_ph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في هذا العيد  المجدُ قد تعالى والنورُ قد تَلالا</a:t>
            </a:r>
            <a:r>
              <a:rPr b="1" lang="en-US" sz="4000" spc="-1" strike="noStrike">
                <a:solidFill>
                  <a:srgbClr val="ffcc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جاء المسيح</a:t>
            </a:r>
            <a:r>
              <a:rPr b="1" lang="en-US" sz="4000" spc="-1" strike="noStrike">
                <a:solidFill>
                  <a:srgbClr val="ffcc00"/>
                </a:solidFill>
                <a:latin typeface="Arabic Transparent"/>
              </a:rPr>
              <a:t> 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هذا المسيحُ المُنتَظَر  مَن حُبُّهُ عمَّ أفرادَ البَشَرْقد سَرّنا هذا الخَبَر   بُشرى لنا فالقلبُ أضحى مُستري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17" descr=""/>
          <p:cNvPicPr/>
          <p:nvPr/>
        </p:nvPicPr>
        <p:blipFill>
          <a:blip r:embed="rId1"/>
          <a:stretch/>
        </p:blipFill>
        <p:spPr>
          <a:xfrm>
            <a:off x="-54000" y="0"/>
            <a:ext cx="5540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0"/>
            <a:ext cx="3276720" cy="9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هذا العيد ملائكُ السَّماءِ  في قُبَّةِ الفضاء قد أَنشد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له مجدٌ في العُلى  والسِّلمُ في الأَرضين قد عمَّ المَ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حَقُّ أن نُهَلِّلا  مع زُمرةِ الأملاكِ فيما مجَّدو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282313eoOaTx_ph" descr=""/>
          <p:cNvPicPr/>
          <p:nvPr/>
        </p:nvPicPr>
        <p:blipFill>
          <a:blip r:embed="rId1"/>
          <a:stretch/>
        </p:blipFill>
        <p:spPr>
          <a:xfrm>
            <a:off x="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24280" y="457200"/>
            <a:ext cx="441972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ي هذا العيد قد تمَّتِ الوعودُ وجاءَنا الموعودُ فادي العب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ُعطي الوَرى روحَ السلام  والحبَّ والّلطفَ الذي يُحيي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يَنفي من الأرضِ الظَّلام إذ نورُهُ يمتَدُّ في كلِّ البلا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5283597fvnSvW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62720" y="0"/>
            <a:ext cx="3581280" cy="10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ي هذا العيد تبتهجُ القلوبُ وتفرحُ الشعوبُ بالمُفْتَ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أيها الطفلُ الحبيبْ  نفسي بِمَرأى وجهِكَ الزَّاهي تطي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ُن ساكنَ القلبَ الرَّحيبْ  كي أُولَدَ اليومَ بهذا المَولِد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هللويا جاء المسي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10:23:03Z</dcterms:created>
  <dc:creator>SUZANNE.MD</dc:creator>
  <dc:description/>
  <dc:language>en-US</dc:language>
  <cp:lastModifiedBy>USER</cp:lastModifiedBy>
  <dcterms:modified xsi:type="dcterms:W3CDTF">2002-12-23T19:55:57Z</dcterms:modified>
  <cp:revision>2</cp:revision>
  <dc:subject/>
  <dc:title>PowerPoint Presentation</dc:title>
</cp:coreProperties>
</file>