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8AC-173D-4BF1-9A12-AA7F716A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0C0-6E61-487A-AB94-F956BAB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BF7-E399-407C-860F-9DF2D5D6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C7D7-A624-4CB1-8FDE-3B07DE96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A02-AEC3-4A19-9068-E9527FD2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63A-69DC-4B23-8452-FF1355D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3E8A-100B-4044-B5B7-AAD7E75E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16E6-5338-4E0C-A34D-8DCB07C0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A26-D0D3-428B-BC59-96E08F31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290-CE63-4FA6-AC66-D35A144B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220-83D5-4105-9789-00742A0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048-B55F-4AAF-ADA3-5C5BDAFB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8BA5-EF2D-40E8-8153-8B048C664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4894615RpkjcS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791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جيت كان في نور ضوى البيت بالميلا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صوت عمبيقول بحب كثي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جيت للأطفال للمجوس للرعيا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جيت كرمال المساكين</a:t>
            </a:r>
            <a:r>
              <a:rPr b="0" lang="ar-SA" sz="3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330605OqExqIRsdO_ph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4196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وراناتا .. تعا يسوع .. ملّي الدني.. بمجد السم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يقول الروح.. جاي يسوع.. قرّب العيد..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عرس الس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6:21:01Z</dcterms:created>
  <dc:creator>SUZANNE.MD</dc:creator>
  <dc:description/>
  <dc:language>en-US</dc:language>
  <cp:lastModifiedBy>USER</cp:lastModifiedBy>
  <dcterms:modified xsi:type="dcterms:W3CDTF">2003-02-08T07:40:33Z</dcterms:modified>
  <cp:revision>4</cp:revision>
  <dc:subject/>
  <dc:title>PowerPoint Presentation</dc:title>
</cp:coreProperties>
</file>