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25D-63B2-436F-9446-66BD47B8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E2F-5327-4771-926C-59D67FFE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5AE-8FF5-4AEC-A06E-E09B3237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9DB-5118-4131-ADC5-5D840130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A9F-EBE7-466F-AF07-5E95334A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DBF-B249-42B6-9BDD-9A822987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9E9-8969-43C0-AF0F-8D3A521E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024-7A76-43F8-8EE0-8E7176DD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683-B0B7-450C-8E9B-9CA0E82F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702-64F9-4909-ACB4-CD2308C0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33C-671F-4AF9-962B-1EF62A1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E8F-0863-4EFC-87BB-F9C9C09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A506-E3E2-4D7D-AB42-C711F2F6A7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500" spc="-1" strike="noStrike">
                <a:solidFill>
                  <a:srgbClr val="ffffff"/>
                </a:solidFill>
                <a:latin typeface="Arial"/>
                <a:cs typeface="????Boutros Rokaa"/>
              </a:rPr>
              <a:t>الوعد تحقق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الوعد تحقّق طفل زغ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جدّد قلب الختيار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قلبو في ندر كب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حمل للأرض بشاره</a:t>
            </a:r>
            <a:br>
              <a:rPr sz="8200"/>
            </a:b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مين يفرّحلي قل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هديّه سماويّ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نعمة حبَّك يا ربّ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طيتني أحلى هديّه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طفل زغيَّر بينا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جايي من بعدي يسوع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لى طريقو يه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ويمسح عن عينيك الدّموع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80360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08:25Z</dcterms:created>
  <dc:creator>Charbel Azar</dc:creator>
  <dc:description/>
  <dc:language>en-US</dc:language>
  <cp:lastModifiedBy>-</cp:lastModifiedBy>
  <dcterms:modified xsi:type="dcterms:W3CDTF">2003-01-15T09:00:24Z</dcterms:modified>
  <cp:revision>9</cp:revision>
  <dc:subject/>
  <dc:title>Slide 1</dc:title>
</cp:coreProperties>
</file>