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D6CF-2215-4769-896A-F9BB9545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04F4-E5EE-4F39-9998-BDB6EFB2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70E8-85FA-4F1F-84C7-0872BFA96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6616-A28F-4451-B0FC-713D16B8A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113B-04EE-43A6-8161-CF7A8EDB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8854-099F-483A-93FD-CA6C94A6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54F0-78EB-4B60-B37B-6CE1472A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C1FC-0F5A-4EB6-8AD1-937D4990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9D78-D9E0-4FA9-83F4-591C571D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A490-0230-4E2F-B324-3C6AECA1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B128-FE1B-4663-AD4C-B99EDC14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396F-3CD4-47F3-B764-EF98CD1F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F58C-984A-4E3F-9B9B-E36694188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BRSO030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943600" y="304920"/>
            <a:ext cx="2971800" cy="9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يا رعاةٌ خبِّرونا  هل جرى أمرٌ غري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خبرونا بشِّرونا  ما هذا السرُّ العجي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المجد للهِ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في العلاء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NBRSO040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15000" y="457200"/>
            <a:ext cx="3429000" cy="78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لاحَ في أوجِ السماء  نيِّرٌ زاه جدي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وسمعنا في العلاءِ    والصدى كان يُعيد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المجد للهِ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في العلاء</a:t>
            </a:r>
            <a:r>
              <a:rPr b="0" lang="ar-SA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4458854PUJPRwcavG_ph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91320" y="380880"/>
            <a:ext cx="3124080" cy="9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بيتَ لحمَ مَن أَتاكِ   مَن غدا فيكِ مُقي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مَن به زالَ شَقاكِ   مَن هو المولى العظيم</a:t>
            </a:r>
            <a:r>
              <a:rPr b="0" lang="ar-SA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المجد للهِ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في العلاء</a:t>
            </a:r>
            <a:r>
              <a:rPr b="0" lang="ar-S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49438873JQfExr_ph" descr=""/>
          <p:cNvPicPr/>
          <p:nvPr/>
        </p:nvPicPr>
        <p:blipFill>
          <a:blip r:embed="rId1"/>
          <a:stretch/>
        </p:blipFill>
        <p:spPr>
          <a:xfrm>
            <a:off x="0" y="0"/>
            <a:ext cx="56419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791320" y="304920"/>
            <a:ext cx="3124080" cy="9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أَعلِموا كلَّ العِبادِ   بَشّروا في العالم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قد أتانا اليومَ فادي فابشِرو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يا مؤمن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المجد للهِ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في العلاء</a:t>
            </a:r>
            <a:r>
              <a:rPr b="0" lang="ar-SA" sz="5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10" descr=""/>
          <p:cNvPicPr/>
          <p:nvPr/>
        </p:nvPicPr>
        <p:blipFill>
          <a:blip r:embed="rId1"/>
          <a:stretch/>
        </p:blipFill>
        <p:spPr>
          <a:xfrm>
            <a:off x="0" y="0"/>
            <a:ext cx="51213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4120" y="380880"/>
            <a:ext cx="3352680" cy="70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خالِقُ الأكوان حلَّ  مذوداً للحيو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وَهوَ في العُليا تَجلّى  فوقَ عرشٍ من جُم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المجد للهِ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في العلاء</a:t>
            </a:r>
            <a:r>
              <a:rPr b="0" lang="ar-SA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0T09:22:14Z</dcterms:created>
  <dc:creator>SUZANNE.MD</dc:creator>
  <dc:description/>
  <dc:language>en-US</dc:language>
  <cp:lastModifiedBy>USER</cp:lastModifiedBy>
  <dcterms:modified xsi:type="dcterms:W3CDTF">2002-12-30T22:36:21Z</dcterms:modified>
  <cp:revision>3</cp:revision>
  <dc:subject/>
  <dc:title>PowerPoint Presentation</dc:title>
</cp:coreProperties>
</file>