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A9E-86BA-4B5B-AD20-16D79B21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951-FBF1-41AC-B566-E1D40827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985-399F-49D9-9D76-FDBB7307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CF2-C609-4633-9DA4-D8A293B4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91B-72C5-4AE5-B2FD-50957298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54A-A616-4C81-8127-DE2CD0D4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801-C4DF-47A4-BFA0-068FA81D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58B-6593-488C-B07F-2AED77BF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4BD-BDF6-4CDA-9DD9-3720E9DC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44A-2751-4A0D-B918-DEB1CD58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50D-98E8-4A71-9F3D-4F9AF921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A0E-6653-4D21-83E3-AE6FA0AB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56AA-BA39-4A51-9F80-4C232A22A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5285910uJXydd_ph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0"/>
            <a:ext cx="8458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Arabic Transparent"/>
              </a:rPr>
              <a:t>أشيدوا النشيدَ وأوفوا العهودَ </a:t>
            </a:r>
            <a:r>
              <a:rPr b="1" lang="en-US" sz="4000" spc="-1" strike="noStrike">
                <a:solidFill>
                  <a:srgbClr val="ffcc66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ffcc66"/>
                </a:solidFill>
                <a:latin typeface="Arabic Transparent"/>
              </a:rPr>
              <a:t>وأدّوا السجودَ    لفادي ا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9166422xbudrJ_ph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81480" y="990720"/>
            <a:ext cx="358164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لـهُ قـديـرُ              مليكٌ نصير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وربُّ كبيرٌ                  جليلُ المق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77120" y="3808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49166082tqnbVx_ph" descr=""/>
          <p:cNvPicPr/>
          <p:nvPr/>
        </p:nvPicPr>
        <p:blipFill>
          <a:blip r:embed="rId1"/>
          <a:stretch/>
        </p:blipFill>
        <p:spPr>
          <a:xfrm>
            <a:off x="-441360" y="0"/>
            <a:ext cx="57722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86400" y="533520"/>
            <a:ext cx="327672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طفلٍ صغيرٍ                وضيعٍ فقير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مهدٍ حقيرٍ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دا للأن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1219320"/>
            <a:ext cx="259092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Times New Roman"/>
                <a:cs typeface="Arabic Transparent"/>
              </a:rPr>
              <a:t>رجاءُ الشعوبِ              عزاءُ القلوب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Times New Roman"/>
                <a:cs typeface="Arabic Transparent"/>
              </a:rPr>
              <a:t>بحُب عجيبٍ                 حبانا المَر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017" descr=""/>
          <p:cNvPicPr/>
          <p:nvPr/>
        </p:nvPicPr>
        <p:blipFill>
          <a:blip r:embed="rId1"/>
          <a:stretch/>
        </p:blipFill>
        <p:spPr>
          <a:xfrm>
            <a:off x="0" y="0"/>
            <a:ext cx="6572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05720" y="1828800"/>
            <a:ext cx="243828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أيا أمَّ فادي                 جميعَ العِباد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بيومِ المَعادِ                 هَبينا السلام</a:t>
            </a: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7:59:19Z</dcterms:created>
  <dc:creator>SUZANNE.MD</dc:creator>
  <dc:description/>
  <dc:language>en-US</dc:language>
  <cp:lastModifiedBy>USER</cp:lastModifiedBy>
  <dcterms:modified xsi:type="dcterms:W3CDTF">2002-12-23T19:46:58Z</dcterms:modified>
  <cp:revision>2</cp:revision>
  <dc:subject/>
  <dc:title>PowerPoint Presentation</dc:title>
</cp:coreProperties>
</file>