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E2E-FDAA-4E61-A816-7201A3F5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06E-AC05-4735-ACA5-194027DB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10F-D224-4BDD-A199-40D9CA6D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467-4808-4193-9AA3-75D040AA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CAE-A42F-4B66-A445-537872E4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731-5802-486C-A810-48A9CCEA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1F4-60DA-4FA0-9BAA-437777C2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2B0-C36C-4A12-A60B-48063B79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A53-591F-4C33-9357-FA7DC919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853-CA64-497B-A697-2AB87931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85C-9B44-4DEC-8F80-239DF3D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FEC-7DB1-4AA6-B8DF-330B4949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34F4-FB04-4BE4-AA32-248AF1735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49358LYOhlaxbdf_ph" descr=""/>
          <p:cNvPicPr/>
          <p:nvPr/>
        </p:nvPicPr>
        <p:blipFill>
          <a:blip r:embed="rId1"/>
          <a:stretch/>
        </p:blipFill>
        <p:spPr>
          <a:xfrm>
            <a:off x="-190512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0"/>
            <a:ext cx="3200400" cy="9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بيتَ لحمَ لقد سما  قدرٌ لكِ حتى السّ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كِ الإله تَجَسَّما    متأنِّساً من مَري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09911fsnmICxink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10080" y="457200"/>
            <a:ext cx="3429000" cy="60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عنه النبيُّ تكلّمَ  حقاً كما قد أُلهِ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تمَّ فيهِ اليومَ ما   قد قالَه متَرَنِّم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(لازمة)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ُ لله في العُلى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373bYanumaqWZ_ph" descr=""/>
          <p:cNvPicPr/>
          <p:nvPr/>
        </p:nvPicPr>
        <p:blipFill>
          <a:blip r:embed="rId1"/>
          <a:stretch/>
        </p:blipFill>
        <p:spPr>
          <a:xfrm>
            <a:off x="0" y="0"/>
            <a:ext cx="532764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380880"/>
            <a:ext cx="312408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ذا ابنُ مريمَ قد ظَهَرْ  ربُّ الملائكِ والبَش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َن رابَهُ شكٌّ كَفَرْ    لا بُدَّ أن يتندَّ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(لازمة)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جدُ لله في العُلى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32" descr=""/>
          <p:cNvPicPr/>
          <p:nvPr/>
        </p:nvPicPr>
        <p:blipFill>
          <a:blip r:embed="rId1"/>
          <a:stretch/>
        </p:blipFill>
        <p:spPr>
          <a:xfrm>
            <a:off x="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304920"/>
            <a:ext cx="350532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وَ مَن به تحيا النفوسْ   أو لاسمِهِ تُحنى الرؤوس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إليهِ قد سَارَ المَجوسْ     والنجمُ كان المُعْلِما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3872129HtdMxB_ph" descr=""/>
          <p:cNvPicPr/>
          <p:nvPr/>
        </p:nvPicPr>
        <p:blipFill>
          <a:blip r:embed="rId2"/>
          <a:stretch/>
        </p:blipFill>
        <p:spPr>
          <a:xfrm>
            <a:off x="0" y="0"/>
            <a:ext cx="5532480" cy="746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67280" y="533520"/>
            <a:ext cx="2895840" cy="10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طفلُ نسألُك الرِّضى    فاغفرْ لنا ما قد مض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ُلطُفْ بنا يوم القضا      وَقِنا عذابَ جُهَّنَّم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04:38Z</dcterms:created>
  <dc:creator>SUZANNE.MD</dc:creator>
  <dc:description/>
  <dc:language>en-US</dc:language>
  <cp:lastModifiedBy>USER</cp:lastModifiedBy>
  <dcterms:modified xsi:type="dcterms:W3CDTF">2002-12-23T20:05:16Z</dcterms:modified>
  <cp:revision>1</cp:revision>
  <dc:subject/>
  <dc:title>PowerPoint Presentation</dc:title>
</cp:coreProperties>
</file>