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77B6-2D56-406E-B394-C5533117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6657-690C-4E85-899F-CEB296FA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9B03-218D-4545-9157-20462EA9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31B5-2DE4-4660-B6A6-0BEC9E40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47C8-730C-45FD-AF2A-111AC699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83FE-6C18-41FD-BAE1-FCA6E30F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2329-2486-40FE-8011-D1104892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4A4C-FAEE-47A3-927A-1AE527BF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439B-D900-47F0-9C79-C2DB29D7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F8CE-FAA5-4B8D-ADA6-9FF4BDFC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08DF-7370-482D-B287-7AF0D45B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F4FE-5CF5-49EB-9697-9A567697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22F1-B448-4F99-B581-290D6B8D5BF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141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500" spc="-1" strike="noStrike">
                <a:solidFill>
                  <a:srgbClr val="ffffff"/>
                </a:solidFill>
                <a:latin typeface="Arial"/>
                <a:cs typeface="????Boutros Rokaa"/>
              </a:rPr>
              <a:t>الوعد تحقق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41440" y="-27000"/>
            <a:ext cx="91440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40000"/>
              </a:lnSpc>
              <a:spcBef>
                <a:spcPts val="2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الوعد تحقّق طفل زغير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يجدّد قلب الختياره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بقلبو في ندر كبير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يحمل للأرض بشاره</a:t>
            </a:r>
            <a:br>
              <a:rPr sz="8200"/>
            </a:b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1730520" y="1886040"/>
            <a:ext cx="13236840" cy="366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المجد لإسمَك ربّ الكون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وحدَك ساكن بمغاره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541440" y="-27000"/>
            <a:ext cx="91440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40000"/>
              </a:lnSpc>
              <a:spcBef>
                <a:spcPts val="2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مين يفرّحلي قلب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بهديّه سماويّه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نعمة حبَّك يا ربّ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عطيتني أحلى هديّه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730520" y="1886040"/>
            <a:ext cx="13236840" cy="366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المجد لإسمَك ربّ الكون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وحدَك ساكن بمغاره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68360" y="-27000"/>
            <a:ext cx="91440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40000"/>
              </a:lnSpc>
              <a:spcBef>
                <a:spcPts val="2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طفل زغيَّر بيناديك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جايي من بعدي يسوع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على طريقو يهديك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ويمسح عن عينيك الدّموع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803600" y="1886040"/>
            <a:ext cx="13236840" cy="366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المجد لإسمَك ربّ الكون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وحدَك ساكن بمغاره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30T09:08:25Z</dcterms:created>
  <dc:creator>Charbel Azar</dc:creator>
  <dc:description/>
  <dc:language>en-US</dc:language>
  <cp:lastModifiedBy>-</cp:lastModifiedBy>
  <dcterms:modified xsi:type="dcterms:W3CDTF">2003-01-15T09:00:24Z</dcterms:modified>
  <cp:revision>9</cp:revision>
  <dc:subject/>
  <dc:title>Slide 1</dc:title>
</cp:coreProperties>
</file>