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88E-551B-40E3-A188-B419469C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767-752C-4F1B-9C89-8B4696E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FD0-C9E1-4E7A-B586-2C94D460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AF8-5408-45ED-96C1-1D2AC1EC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271-2EBD-45F4-B7BE-E2558B41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8A7-4981-464A-BF2E-7862CFB0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16E-51AD-4128-9194-AAAAD05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FB2-1E1D-4838-984F-8476C40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A2D-A4EC-4BEB-85B9-7A940592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21D-A886-4585-BF2F-1BD9D5C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01F-0AC3-43A3-BF9D-2388131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50F-A659-462E-B8E3-05C2D3B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AB2-65C9-4753-83BC-20FD69F1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25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920"/>
            <a:ext cx="38862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رضِ جاءْ نبعُ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بيتَ لحمَ قد جاءَ النِّد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نجمٌ منير قد قاد المج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فلٌ صغيرٌ له نحني الرؤ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BRSO021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380880"/>
            <a:ext cx="358128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للهِ مجد للكونِ 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سرورٌ خيرٌ حبْ ووِئ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Times New Roman"/>
              </a:rPr>
              <a:t>نورٌ مُشِع في وَسطِ الظل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7:01Z</dcterms:created>
  <dc:creator>SUZANNE.MD</dc:creator>
  <dc:description/>
  <dc:language>en-US</dc:language>
  <cp:lastModifiedBy>USER</cp:lastModifiedBy>
  <dcterms:modified xsi:type="dcterms:W3CDTF">2002-12-23T19:53:44Z</dcterms:modified>
  <cp:revision>2</cp:revision>
  <dc:subject/>
  <dc:title>PowerPoint Presentation</dc:title>
</cp:coreProperties>
</file>