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EC0-7494-43BF-8177-937C4573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9E5-5A8E-445D-898D-4EAD010F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966A-6021-4FEF-ADE6-B15974D9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E1D-35C3-47E7-AA31-F024B0D9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427-20F3-4A4C-84B6-F3823858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CD9-8389-4499-9828-FCE69C83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21A-101B-461E-80D4-851C8E40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563-33AF-4E5C-832C-FBE9A86A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24C-259C-4D19-B986-18F8B2DF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674-635D-4F46-A38A-2325A491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055-BE44-44FB-A680-1EAF3249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6FA-8389-4412-87C9-F7AD8B6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9FCF-03C8-4583-BFB6-5DE6B5735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5910uJXydd_ph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في هذا العيد  المجدُ قد تعالى والنورُ قد تَلالا</a:t>
            </a:r>
            <a:r>
              <a:rPr b="1" lang="en-US" sz="4000" spc="-1" strike="noStrike">
                <a:solidFill>
                  <a:srgbClr val="ffcc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جاء المسيح</a:t>
            </a:r>
            <a:r>
              <a:rPr b="1" lang="en-US" sz="4000" spc="-1" strike="noStrike">
                <a:solidFill>
                  <a:srgbClr val="ffcc00"/>
                </a:solidFill>
                <a:latin typeface="Arabic Transparent"/>
              </a:rPr>
              <a:t> 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هذا المسيحُ المُنتَظَر  مَن حُبُّهُ عمَّ أفرادَ البَشَرْقد سَرّنا هذا الخَبَر   بُشرى لنا فالقلبُ أضحى مُستري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17" descr=""/>
          <p:cNvPicPr/>
          <p:nvPr/>
        </p:nvPicPr>
        <p:blipFill>
          <a:blip r:embed="rId1"/>
          <a:stretch/>
        </p:blipFill>
        <p:spPr>
          <a:xfrm>
            <a:off x="-54000" y="0"/>
            <a:ext cx="5540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0"/>
            <a:ext cx="3276720" cy="9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هذا العيد ملائكُ السَّماءِ  في قُبَّةِ الفضاء قد أَنشد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له مجدٌ في العُلى  والسِّلمُ في الأَرضين قد عمَّ المَ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حَقُّ أن نُهَلِّلا  مع زُمرةِ الأملاكِ فيما مجَّدو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282313eoOaTx_ph" descr=""/>
          <p:cNvPicPr/>
          <p:nvPr/>
        </p:nvPicPr>
        <p:blipFill>
          <a:blip r:embed="rId1"/>
          <a:stretch/>
        </p:blipFill>
        <p:spPr>
          <a:xfrm>
            <a:off x="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24280" y="457200"/>
            <a:ext cx="441972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ي هذا العيد قد تمَّتِ الوعودُ وجاءَنا الموعودُ فادي العب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ُعطي الوَرى روحَ السلام  والحبَّ والّلطفَ الذي يُحيي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يَنفي من الأرضِ الظَّلام إذ نورُهُ يمتَدُّ في كلِّ البلا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5283597fvnSvW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62720" y="0"/>
            <a:ext cx="3581280" cy="10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ي هذا العيد تبتهجُ القلوبُ وتفرحُ الشعوبُ بالمُفْتَ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أيها الطفلُ الحبيبْ  نفسي بِمَرأى وجهِكَ الزَّاهي تطي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ُن ساكنَ القلبَ الرَّحيبْ  كي أُولَدَ اليومَ بهذا المَولِد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هللويا جاء المسي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10:23:03Z</dcterms:created>
  <dc:creator>SUZANNE.MD</dc:creator>
  <dc:description/>
  <dc:language>en-US</dc:language>
  <cp:lastModifiedBy>USER</cp:lastModifiedBy>
  <dcterms:modified xsi:type="dcterms:W3CDTF">2002-12-23T19:55:57Z</dcterms:modified>
  <cp:revision>2</cp:revision>
  <dc:subject/>
  <dc:title>PowerPoint Presentation</dc:title>
</cp:coreProperties>
</file>