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C0D-55C9-4913-9E0B-C590BD7E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60D-1E0E-4402-B7D8-307869C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F69-9FA1-46D6-8801-5CDD418D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ACD-5246-4871-B564-5E59278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60B-4026-4F83-AC9A-4FE9048A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522-A462-4A90-A820-14B9F36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0BC-C5A1-4DE4-B966-19F168F4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272-F624-4CA5-BB7A-FB67C995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A39-245A-44CF-BF32-BA505609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746-B8BF-4A0E-8F15-EDB08237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35A-2527-4448-921C-59178D8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83E-1660-497A-9912-3AEEA139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BBE7-7826-4E12-BE32-09849FEFD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30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304920"/>
            <a:ext cx="2971800" cy="9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عاةٌ خبِّرونا  هل جرى أمرٌ غر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خبرونا بشِّرونا  ما هذا السرُّ العج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457200"/>
            <a:ext cx="3429000" cy="78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حَ في أوجِ السماء  نيِّرٌ زاه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سمعنا في العلاءِ    والصدى كان يُعي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1320" y="380880"/>
            <a:ext cx="3124080" cy="9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يتَ لحمَ مَن أَتاكِ   مَن غدا فيكِ مُ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ن به زالَ شَقاكِ   مَن هو المولى العظيم</a:t>
            </a:r>
            <a:r>
              <a:rPr b="0" lang="ar-S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9438873JQfExr_ph" descr=""/>
          <p:cNvPicPr/>
          <p:nvPr/>
        </p:nvPicPr>
        <p:blipFill>
          <a:blip r:embed="rId1"/>
          <a:stretch/>
        </p:blipFill>
        <p:spPr>
          <a:xfrm>
            <a:off x="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304920"/>
            <a:ext cx="3124080" cy="9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َعلِموا كلَّ العِبادِ   بَشّروا في العال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أتانا اليومَ فادي فابشِرو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380880"/>
            <a:ext cx="335268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الِقُ الأكوان حلَّ  مذوداً للحي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َهوَ في العُليا تَجلّى  فوقَ عرشٍ من جُ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09:22:14Z</dcterms:created>
  <dc:creator>SUZANNE.MD</dc:creator>
  <dc:description/>
  <dc:language>en-US</dc:language>
  <cp:lastModifiedBy>USER</cp:lastModifiedBy>
  <dcterms:modified xsi:type="dcterms:W3CDTF">2002-12-30T22:36:21Z</dcterms:modified>
  <cp:revision>3</cp:revision>
  <dc:subject/>
  <dc:title>PowerPoint Presentation</dc:title>
</cp:coreProperties>
</file>