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65D-C684-4ECF-9BE2-819D3990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A90-3558-4D75-9A40-BE5FD046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21F-4124-4A3D-81D9-6C730297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CC9-D78F-4332-B2E4-C32C2EFA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378-63FA-4C8F-9355-ACA6AD6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FEB-EAE0-4639-91B4-CB779C97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DB0-AAC7-497F-A872-DCAEC18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735-F018-48CC-9869-8E0A3FB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A5C-4205-4D6A-8D7F-0BF448D7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EC8-3CD5-441D-8EC9-DAC65A7A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450-E43D-4875-B482-2870C10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B29-38F4-483A-8E37-BB775DF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4885-B11B-4396-A08F-9EEA19BC2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4894615Rpkjc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يت كان في نور ضوى البيت بالميلا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عمبيقول بحب كثي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جيت للأطفال للمجوس للرعيا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يت كرمال المساكين</a:t>
            </a:r>
            <a:r>
              <a:rPr b="0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6:21:01Z</dcterms:created>
  <dc:creator>SUZANNE.MD</dc:creator>
  <dc:description/>
  <dc:language>en-US</dc:language>
  <cp:lastModifiedBy>USER</cp:lastModifiedBy>
  <dcterms:modified xsi:type="dcterms:W3CDTF">2003-02-08T07:40:33Z</dcterms:modified>
  <cp:revision>4</cp:revision>
  <dc:subject/>
  <dc:title>PowerPoint Presentation</dc:title>
</cp:coreProperties>
</file>