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CE4-A9CD-4BE0-A6BD-F16C09C5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580-3291-44D1-9EBF-2D666973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CF8-EB57-4CE3-B4F2-6D91517B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141-0453-4397-A8D8-4EBCE463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4B5-CC2F-4375-A058-546FFF67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AD9-F42E-450C-B5B5-B3F1FA1E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DE4-7C7B-40F6-8CB5-3C3A31E3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0C9-B9FE-4C81-973F-027BAD05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94B-BCB9-4866-BCFD-92F840D1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A32-A409-4E0A-9ECA-66E6363B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079-255F-4A1B-A098-8EA51A40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188-EF94-41E8-BDAD-0037E682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A937-EA85-4B96-84B2-080CA101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>
                <a:solidFill>
                  <a:srgbClr val="ffffff"/>
                </a:solidFill>
                <a:latin typeface="Arial"/>
                <a:cs typeface="????Boutros Rokaa"/>
              </a:rPr>
              <a:t>يا رعاةً خبرونا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8000" y="-2700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ا رأى مولى الانام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خالِقُ الكونِ السَّّنيّ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غيرَ تبنٍ للمنامِ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فاعتبر ذا يا غني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8000" y="-2700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لا تَخَفْ بَلْ كُنْ شج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الْتَمِسْ منهُ السَّماحْ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واخْتَرِ العذرا شفيعاً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Arial"/>
                <a:cs typeface="Akhbar MT"/>
              </a:rPr>
              <a:t>تُضْحِ من أهلِ الصَّلاح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يا رعاةً خبّرونا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هل جرى أمرٌ غريب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خبّرونا بشّرونا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كيف ذا السرُّ العجي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أتاكِ ب‍يتَ لحمَ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غدا فيكِ مقيم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إذ خَلَعْتِ كُلَّ هَمٍ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مَن هو ال‍مولى العظي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8000" y="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أَعلِ‍موا كلَّ العبادِ بشّروا في العال‍مين</a:t>
            </a:r>
            <a:br>
              <a:rPr sz="9600"/>
            </a:br>
            <a:r>
              <a:rPr b="1" lang="ar-SA" sz="9600" spc="-1" strike="noStrike">
                <a:solidFill>
                  <a:srgbClr val="ffffff"/>
                </a:solidFill>
                <a:latin typeface="Arial"/>
                <a:cs typeface="Akhbar MT"/>
              </a:rPr>
              <a:t>قد أتانا اليومَ فادي فاهتِفوا يا مؤمن‍ي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8000" y="100080"/>
            <a:ext cx="72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ِذوَداً بيتاً حقير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للمُقامِ انتَخبا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رامَ أن يُضحي فقيراً</a:t>
            </a:r>
            <a:br>
              <a:rPr sz="8800"/>
            </a:br>
            <a:r>
              <a:rPr b="1" lang="ar-SA" sz="8800" spc="-1" strike="noStrike">
                <a:solidFill>
                  <a:srgbClr val="ffffff"/>
                </a:solidFill>
                <a:latin typeface="Arial"/>
                <a:cs typeface="Akhbar MT"/>
              </a:rPr>
              <a:t>مُهمَلاً مُنتَحِب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79036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Arial"/>
                <a:cs typeface="Akhbar MT"/>
              </a:rPr>
              <a:t>أل‍مجدُ للهِ في العُلى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سلامُ في الأرضِ لأبناءِ رِضاه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4:45:15Z</dcterms:created>
  <dc:creator>Charbel Azar</dc:creator>
  <dc:description/>
  <dc:language>en-US</dc:language>
  <cp:lastModifiedBy>Charbel Azar</cp:lastModifiedBy>
  <dcterms:modified xsi:type="dcterms:W3CDTF">2002-12-16T11:29:05Z</dcterms:modified>
  <cp:revision>6</cp:revision>
  <dc:subject/>
  <dc:title>يا رعاة خبّرونا هل جرى أمرٌ غريب خبّرونا بشّرونا ما ذا السرُّ العجيب ال‍مجـد لله في العلى          Gloria In Exelcis Deo</dc:title>
</cp:coreProperties>
</file>