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5DA-4B0A-4C42-B815-BADDA43A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8FE-8EF3-4E6B-96A6-0F88264E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935-8A06-4E7E-B2D1-446ADBA4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3A2-BCA2-46F3-8AED-1AB2432C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7617-07A6-46AB-BB11-2994661E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AF8-0DAE-4D16-AA6C-0107E1BE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546-463E-4A24-A9A3-2FE171DF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D09-11E6-483C-A063-315DED0F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687-765C-47EE-BD7F-B943DEED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2BA-AA43-4EC2-915D-CC05D90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09E-7F61-487C-967F-E533D38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ECF-08A5-4FF6-B532-C76BE00D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BD2B-28EC-4247-9091-258AF320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25" descr=""/>
          <p:cNvPicPr/>
          <p:nvPr/>
        </p:nvPicPr>
        <p:blipFill>
          <a:blip r:embed="rId1"/>
          <a:stretch/>
        </p:blipFill>
        <p:spPr>
          <a:xfrm>
            <a:off x="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57800" y="304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304920"/>
            <a:ext cx="3886200" cy="57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للأرضِ جاءْ نبعُ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من بيتَ لحمَ قد جاءَ النِّد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نجمٌ منير قد قاد المج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طفلٌ صغيرٌ له نحني الرؤ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304920"/>
            <a:ext cx="35816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ٌ تعالى وأشاعَ الر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ضياءُ السلامِ من المهدِ ج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ندُ السماءِ ظهروا في العلا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رُعاةٍ حيارى بُهِروا بالضِّي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NBRSO021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62720" y="380880"/>
            <a:ext cx="358128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للهِ مجد للكونِ س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Arabic Transparent"/>
              </a:rPr>
              <a:t>سرورٌ خيرٌ حبْ ووِئ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  <a:cs typeface="Times New Roman"/>
              </a:rPr>
              <a:t>نورٌ مُشِع في وَسطِ الظل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8:57:01Z</dcterms:created>
  <dc:creator>SUZANNE.MD</dc:creator>
  <dc:description/>
  <dc:language>en-US</dc:language>
  <cp:lastModifiedBy>USER</cp:lastModifiedBy>
  <dcterms:modified xsi:type="dcterms:W3CDTF">2002-12-23T19:53:44Z</dcterms:modified>
  <cp:revision>2</cp:revision>
  <dc:subject/>
  <dc:title>PowerPoint Presentation</dc:title>
</cp:coreProperties>
</file>