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660-0534-4A4D-AA8E-D764AB73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A4F-C995-472A-995B-9E50088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BF7-63F3-4EE9-AF6F-A032361C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BED-0E26-4936-B444-6EAA55AC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488-3BA9-4522-8961-84694826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B80-414E-43E6-815A-BDA0BF8B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BF9-E4E1-45A6-9A3D-DB306B72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1D2-4BEF-4844-AB38-0FC8C531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195-FD91-41BC-8D78-F9E457E5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7158-9FEE-4F4D-A917-64068EA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098-5C91-4956-895E-C739FBE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3CF-21EE-4990-B92D-C860D542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A0B-333A-4EA9-BDA0-72182FE8C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49358LYOhlaxbdf_ph" descr=""/>
          <p:cNvPicPr/>
          <p:nvPr/>
        </p:nvPicPr>
        <p:blipFill>
          <a:blip r:embed="rId1"/>
          <a:stretch/>
        </p:blipFill>
        <p:spPr>
          <a:xfrm>
            <a:off x="-190512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0"/>
            <a:ext cx="320040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بيتَ لحمَ لقد سما  قدرٌ لكِ حتى السّ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كِ الإله تَجَسَّما    متأنِّساً من مَري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09911fsnmICxink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10080" y="457200"/>
            <a:ext cx="3429000" cy="60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عنه النبيُّ تكلّمَ  حقاً كما قد أُلهِ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تمَّ فيهِ اليومَ ما   قد قالَه متَرَنِّم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513373bYanumaqWZ_ph" descr=""/>
          <p:cNvPicPr/>
          <p:nvPr/>
        </p:nvPicPr>
        <p:blipFill>
          <a:blip r:embed="rId1"/>
          <a:stretch/>
        </p:blipFill>
        <p:spPr>
          <a:xfrm>
            <a:off x="0" y="0"/>
            <a:ext cx="532764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15000" y="380880"/>
            <a:ext cx="3124080" cy="79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هذا ابنُ مريمَ قد ظَهَرْ  ربُّ الملائكِ والبَش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َن رابَهُ شكٌّ كَفَرْ    لا بُدَّ أن يتندَّ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(لازمة) 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جدُ لله في العُلى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32" descr=""/>
          <p:cNvPicPr/>
          <p:nvPr/>
        </p:nvPicPr>
        <p:blipFill>
          <a:blip r:embed="rId1"/>
          <a:stretch/>
        </p:blipFill>
        <p:spPr>
          <a:xfrm>
            <a:off x="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38680" y="304920"/>
            <a:ext cx="350532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وَ مَن به تحيا النفوسْ   أو لاسمِهِ تُحنى الرؤوس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إليهِ قد سَارَ المَجوسْ     والنجمُ كان المُعْلِما 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3872129HtdMxB_ph" descr=""/>
          <p:cNvPicPr/>
          <p:nvPr/>
        </p:nvPicPr>
        <p:blipFill>
          <a:blip r:embed="rId2"/>
          <a:stretch/>
        </p:blipFill>
        <p:spPr>
          <a:xfrm>
            <a:off x="0" y="0"/>
            <a:ext cx="5532480" cy="7467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867280" y="533520"/>
            <a:ext cx="2895840" cy="10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يا طفلُ نسألُك الرِّضى    فاغفرْ لنا ما قد مض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ُلطُفْ بنا يوم القضا      وَقِنا عذابَ جُهَّنَّم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(لازمة) المجدُ لله في العُ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04:38Z</dcterms:created>
  <dc:creator>SUZANNE.MD</dc:creator>
  <dc:description/>
  <dc:language>en-US</dc:language>
  <cp:lastModifiedBy>USER</cp:lastModifiedBy>
  <dcterms:modified xsi:type="dcterms:W3CDTF">2002-12-23T20:05:16Z</dcterms:modified>
  <cp:revision>1</cp:revision>
  <dc:subject/>
  <dc:title>PowerPoint Presentation</dc:title>
</cp:coreProperties>
</file>