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FE3-1F18-4564-9936-70594220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215-D47A-49D7-BA2E-9653D1B0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954D-5A4C-4A77-B99D-FAE15D17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C6A5-19C7-4648-8402-EA0F99A7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E36B-07A9-4349-AC9D-5D776534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D85-5E56-494A-B398-7B8C5364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5B44-DDEE-4C85-9682-A68D0A67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63E-CD30-4C43-A92D-3A56BF0E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D7F-CFDC-437A-B931-38831B56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675-1BF3-46E7-B13A-70F2AA36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7C7-8A36-47AC-8636-DE043DCF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C05-FE81-447C-A53B-A5608BDA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E2B4-9698-486C-8A02-C34871365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268010NdkkKZEqsF_ph" descr=""/>
          <p:cNvPicPr/>
          <p:nvPr/>
        </p:nvPicPr>
        <p:blipFill>
          <a:blip r:embed="rId1"/>
          <a:stretch/>
        </p:blipFill>
        <p:spPr>
          <a:xfrm>
            <a:off x="-335268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67280" y="304920"/>
            <a:ext cx="3276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عتمادِكَ يا ربّ في نهرِ الأردن، ظهرَ السجودُ للثالوث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8254350zDFGKi_ph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81680" y="304920"/>
            <a:ext cx="205740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إنَّ صوتَ الآبِ كان يشهدُ لك، مُسَمِّياً إيَّاكَ ابناً محبوباً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56280134MxDDpx_ph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81680" y="457200"/>
            <a:ext cx="2362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روحُ بهيئةِ حمامة يُؤيِّدُ حقيقةَ الكلمة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ar-S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31655244OiypAPuOSV_ph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0" y="0"/>
            <a:ext cx="190512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ا من ظهرَ وأنارَ العالم، أيها المسيحُ الإلهُ المجدُ لك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9:42:12Z</dcterms:created>
  <dc:creator>SUZANNE.MD</dc:creator>
  <dc:description/>
  <dc:language>en-US</dc:language>
  <cp:lastModifiedBy>USER</cp:lastModifiedBy>
  <dcterms:modified xsi:type="dcterms:W3CDTF">2003-01-07T16:12:32Z</dcterms:modified>
  <cp:revision>3</cp:revision>
  <dc:subject/>
  <dc:title>PowerPoint Presentation</dc:title>
</cp:coreProperties>
</file>