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529-4230-4615-88BB-4714796E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54E-1EBF-40F5-A502-49FE235F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031-4641-483F-9AB1-7A707E6A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F6A-605F-4609-8952-0B6E2762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5AC-7F35-4EC1-A33B-FB218325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B96-C07C-4B62-872F-B41B45B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49E-F6C7-4FFC-9F20-D51D40E2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1EE-0184-47F4-9616-68874152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04B-9E9F-4656-86F0-EE33D67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19B-D628-4ED4-80B7-CE23949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704-70D6-4D3C-91DC-01521FA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42F-EAD7-45F1-8A94-279B015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9F4B-82C6-42A6-B9B5-101B26001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5753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91320" y="380880"/>
            <a:ext cx="304776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ولود طفلِ صْغير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بكوخ مَنّو كْبير  تْرَكْتِ الغِنَى والدّور    -تْخَليّت عَنْ القصورْ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تْحَلّيْت بِمِذْوَدْ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304920"/>
            <a:ext cx="30481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ْلَيْلة رَعْد وبَردْ         والثَلْج غَطّى الجِرْدْ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رَبِّ السَّما الموعود      -بِأرْضنا مَوْلود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وْضوع بِمِذْوَدْ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1:01:10Z</dcterms:created>
  <dc:creator>USER</dc:creator>
  <dc:description/>
  <dc:language>en-US</dc:language>
  <cp:lastModifiedBy>USER</cp:lastModifiedBy>
  <dcterms:modified xsi:type="dcterms:W3CDTF">2002-11-28T21:01:16Z</dcterms:modified>
  <cp:revision>1</cp:revision>
  <dc:subject/>
  <dc:title>PowerPoint Presentation</dc:title>
</cp:coreProperties>
</file>