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54C-925C-485B-80C7-E915C10E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369-52BA-4245-BED9-FAB81943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287-80D6-405C-B518-790E8718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FD8-F077-4D3E-B868-6E6407C5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EB2-8D13-43A3-B4FC-B9EE53B3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5B8-542F-4272-8F7C-6822298E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FDF-D768-4F70-B52F-CC7C48B3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3FA-F202-44D9-B7BF-772E989B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2836-6EFB-4FE7-B945-CD669A24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957-6155-4504-BFCD-276236F5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E8B-D1E4-4888-AE17-FB6E5E77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8A5-1E8B-4DF7-81FE-05EB8640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27C7-DC49-4650-918D-D0C09E132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24480" y="685800"/>
            <a:ext cx="221004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ئنا نُبَشِّركم  بالفرح   فرح ولادة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د ول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ا اليوم مخلصٌ    وهو المسيح يسوع (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3369617fAeoZnVnqp_ph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في كل العالم    هللويا في بيت لحم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في مذود        هللويا ولد المسيح (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24480" y="685800"/>
            <a:ext cx="221004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ئنا نُبَشِّركم  بالفرح   فرح ولادة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د ول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ا اليوم مخلصٌ    وهو المسيح يسوع (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11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513843cCRujYBHua_ph" descr=""/>
          <p:cNvPicPr/>
          <p:nvPr/>
        </p:nvPicPr>
        <p:blipFill>
          <a:blip r:embed="rId1"/>
          <a:stretch/>
        </p:blipFill>
        <p:spPr>
          <a:xfrm>
            <a:off x="0" y="0"/>
            <a:ext cx="59799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72200" y="685800"/>
            <a:ext cx="2514600" cy="75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إفرحوا          هللويا وابتهجو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للويا تهللوا           هللويا ولد المسيح (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7008148cyXWYqGQCr_ph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685800"/>
            <a:ext cx="2210040" cy="82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جئنا نُبَشِّركم  بالفرح   فرح ولادة ال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قد ول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نا اليوم مخلصٌ    وهو المسيح يسوع (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2T07:49:17Z</dcterms:created>
  <dc:creator>SUZANNE.MD</dc:creator>
  <dc:description/>
  <dc:language>en-US</dc:language>
  <cp:lastModifiedBy>USER</cp:lastModifiedBy>
  <dcterms:modified xsi:type="dcterms:W3CDTF">2002-12-31T13:46:49Z</dcterms:modified>
  <cp:revision>2</cp:revision>
  <dc:subject/>
  <dc:title>PowerPoint Presentation</dc:title>
</cp:coreProperties>
</file>