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9D8-92FC-402E-9E80-00A65B9E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D11-46C5-476B-8D57-CAD11750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627-274A-491E-BB19-4A1BA2BD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A67-CFCF-457B-873C-EA1617E6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E309-9463-434D-9DCD-E1A6EABD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CE29-00B2-475E-9A46-1EC95006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AEE-C333-4053-8533-666ABCB6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5FB9-027E-4092-8B53-A55CDB69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3724-BA1B-40E6-BE22-F65DB40D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380C-6CB8-422D-85AD-FC84EFFA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F170-3B4F-4E76-9FB6-4281274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6C7-20F9-4510-87F6-CE42E4D3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BF68-37BD-4444-ADE5-26800E7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7F16-5DE8-4CF1-A89E-6B46DCE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E065-5381-480D-9A8B-5B11E99C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54BE-6194-4352-BC24-4D414D80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0CDB-BD25-4625-926C-F3DA36D7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31C-6A10-41C2-89EF-D8F34676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68B-1420-448D-8951-E65388D6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A42-7FC4-43AE-A21C-8A3A325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FF2-0B54-4547-8793-3BE9A23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3FC-604F-437F-BB79-2C9BA7F7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FC4-BAE8-4411-9C09-25D7C3A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226-C64E-4B7A-B750-4CDD1F3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B6E6-DCC7-4BAB-A61C-6CEE2130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C3EA-B285-4053-BA37-CD13D9AC251F}" type="slidenum">
              <a: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387760"/>
            <a:ext cx="313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رسَلَ الل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سعةَ أشهرٍ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ملتْ مر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حامِلِ الأكو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م تَحُسَّ منهُ بثقلٍ لأنه إلهٌ وإنس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8000" y="171360"/>
            <a:ext cx="5796000" cy="66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زادَها طُهراً ومكثت بتولاً تُدهِشُ الأذهان قبلَ الميلاد وفيهِ وبعدَه وما دامَ الزم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1125360"/>
            <a:ext cx="687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ن القبر شبهَ ضوء لاح لأنهُ اللطيف ذاتاً والبتول أشرف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صب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054160" y="47520"/>
            <a:ext cx="9765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Arial"/>
                <a:cs typeface="Akhbar MT"/>
              </a:rPr>
              <a:t>قد بَزَغَ منها كما خرج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ا بالأوجاع ولا حضو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وابل بل بالأفراح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د وضعَته في نصف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الليل والظلامُ انتزح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ال الحلول تصوَّر كاملاً وجسمُهُ ما ب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تحداً بالنف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دُهنٍ الف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سيحاً انمس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لحلولِ والخروج وسُكناه بأُمِهِ عجيباً اتض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لطبعُ ابتعد وبا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علُ الروح كم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فراح أوض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رسل الله ابنَهُ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نوراً للأُمَم واحتَجَب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شى مريمَ البتول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نها تجسَّ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مجّدك يا مَن ظَهَرَ بأُم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إنساناً يدوم باتحادِ طَبعَينِ ومشيئت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445000"/>
            <a:ext cx="91440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ي وَحدَةِ الأقن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كَ ولوالدِكَ وللروح القد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5594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كرٌ محتو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45000"/>
            <a:ext cx="91440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ثلاثةُ أقانيم إلهٌ واحد ليس بمقس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شرقَ نجمُهُ في حدودِ فارس كما قالَ بَلع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نارَ المَجُوس فحملوا إليهِ هدايا الإكر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79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جيباً قويّاً دعاهُ أشَعيا وعنهُ ترنَّ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أنه يحمِل على مَنكِبَيهِ سُلطانَه الع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72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قد كانَ كلمة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بل رعدَ أصوات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شبلَ لَيثٍ أعظ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3080" y="393840"/>
            <a:ext cx="8439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أضحى ساكت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حَمَلاً وديع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ي بطنِ مَريم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لَجَها غنيّاً مجيداً مهيباً قديراً ديّان واتّلَدَ منه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قيراً حق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ُتَّضِعاً مُه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هَبُ قُربَهُ ملائكةُ السما وعندنا قد بان ود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ليماً سهل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لتقا لبن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نس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7:55:24Z</dcterms:created>
  <dc:creator>Charbel Azar</dc:creator>
  <dc:description/>
  <dc:language>en-US</dc:language>
  <cp:lastModifiedBy>Charbel Azar</cp:lastModifiedBy>
  <dcterms:modified xsi:type="dcterms:W3CDTF">2002-12-16T11:07:39Z</dcterms:modified>
  <cp:revision>7</cp:revision>
  <dc:subject/>
  <dc:title>Slide 1</dc:title>
</cp:coreProperties>
</file>