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A45-8B3A-405B-BE4B-7B2FFFB1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724-1455-4451-A605-8672908D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4CF-02C0-45D7-BFEC-0CE6A35B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DC0-5B01-414A-9998-B38B16B8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EC4-CA7C-4D38-A2AF-0CB8CE4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4C5-601D-41F2-8472-A306D1B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FAE-3C15-471A-B5D6-B658C03B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99C-DB40-4A5C-A74D-218AB87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96F-74C8-4D1D-B519-9CEEC51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113-C4DF-483D-A11D-AB910EB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4C7-F445-4512-98D7-3246105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ABF-E439-4D1D-A854-8F1665C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3C8B-6801-47B4-A1B9-870F5845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رعاةً خبرون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 رأى مولى الا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خالِقُ الكونِ السَّّني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غيرَ تبنٍ للم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اعتبر ذا يا غن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خَفْ بَلْ كُنْ شج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لْتَمِسْ منهُ السَّماح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خْتَرِ العذرا شف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ضْحِ من أهلِ الصَّلاح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يا رعاةً خب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ل جرى أمرٌ غريب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خبّرونا بش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يف ذا السرُّ العجي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أتاكِ ب‍يتَ لحمَ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غدا فيكِ مقيم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ذ خَلَعْتِ كُلَّ هَمٍ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هو ال‍مولى العظي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أَعلِ‍موا كلَّ العبادِ بشّروا في العال‍مين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قد أتانا اليومَ فادي فاهتِفوا يا مؤمن‍ي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008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ذوَداً بيتاً ح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للمُقامِ انتَخب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رامَ أن يُضحي ف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ُهمَلاً مُنتَحِب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5:15Z</dcterms:created>
  <dc:creator>Charbel Azar</dc:creator>
  <dc:description/>
  <dc:language>en-US</dc:language>
  <cp:lastModifiedBy>Charbel Azar</cp:lastModifiedBy>
  <dcterms:modified xsi:type="dcterms:W3CDTF">2002-12-16T11:29:05Z</dcterms:modified>
  <cp:revision>6</cp:revision>
  <dc:subject/>
  <dc:title>يا رعاة خبّرونا هل جرى أمرٌ غريب خبّرونا بشّرونا ما ذا السرُّ العجيب ال‍مجـد لله في العلى          Gloria In Exelcis Deo</dc:title>
</cp:coreProperties>
</file>