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E3E-486E-427D-AA15-2942305E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045F-7D60-4C7C-B1E2-6A48FDD6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E30-2822-4093-BBE9-6999839A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35A-208A-4551-B54D-1723A62E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A85-AC43-420C-B827-486FCCC5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AC7-E265-43B3-9B6D-C24C1820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E42-694D-42B1-96E9-CE93DB37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EDF-35D7-4AED-B8FF-2CD64003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5F8-297B-4290-90DC-F9AABDAC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B39-4AE0-42F4-92E4-FD39420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166-B21A-4C9B-9D07-0C083A47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F34-65E9-4450-A893-0C561F56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320E-8079-443C-B7E1-E5AD79578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04920"/>
            <a:ext cx="35816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ٌ تعالى وأشاعَ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ضياءُ السلامِ من المهدِ 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ندُ السماءِ ظهروا في العل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رُعاةٍ حيارى بُهِروا بالضِّي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25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04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304920"/>
            <a:ext cx="388620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لأرضِ جاءْ نبعُ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ن بيتَ لحمَ قد جاءَ النِّد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نجمٌ منير قد قاد المجو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طفلٌ صغيرٌ له نحني الرؤ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81480" y="304920"/>
            <a:ext cx="35816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ٌ تعالى وأشاعَ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ضياءُ السلامِ من المهدِ 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ندُ السماءِ ظهروا في العل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رُعاةٍ حيارى بُهِروا بالضِّي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NBRSO021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380880"/>
            <a:ext cx="358128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Arabic Transparent"/>
              </a:rPr>
              <a:t>للهِ مجد للكونِ س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Arabic Transparent"/>
              </a:rPr>
              <a:t>سرورٌ خيرٌ حبْ ووِئ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Times New Roman"/>
              </a:rPr>
              <a:t>نورٌ مُشِع في وَسطِ الظل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57:01Z</dcterms:created>
  <dc:creator>SUZANNE.MD</dc:creator>
  <dc:description/>
  <dc:language>en-US</dc:language>
  <cp:lastModifiedBy>USER</cp:lastModifiedBy>
  <dcterms:modified xsi:type="dcterms:W3CDTF">2002-12-23T19:53:44Z</dcterms:modified>
  <cp:revision>2</cp:revision>
  <dc:subject/>
  <dc:title>PowerPoint Presentation</dc:title>
</cp:coreProperties>
</file>